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gif" ContentType="image/gif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type.wav" ContentType="audio/x-wav"/>
  <Override PartName="/ppt/media/image17.png" ContentType="image/png"/>
  <Override PartName="/ppt/media/image32.jpeg" ContentType="image/jpeg"/>
  <Override PartName="/ppt/media/image21.png" ContentType="image/png"/>
  <Override PartName="/ppt/media/image19.png" ContentType="image/png"/>
  <Override PartName="/ppt/media/image26.gif" ContentType="image/gif"/>
  <Override PartName="/ppt/media/image16.gif" ContentType="image/gif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28.png" ContentType="image/png"/>
  <Override PartName="/ppt/media/image30.jpeg" ContentType="image/jpeg"/>
  <Override PartName="/ppt/media/image33.jpeg" ContentType="image/jpeg"/>
  <Override PartName="/ppt/media/image41.jpeg" ContentType="image/jpeg"/>
  <Override PartName="/ppt/media/image45.jpeg" ContentType="image/jpeg"/>
  <Override PartName="/ppt/media/image48.jpeg" ContentType="image/jpeg"/>
  <Override PartName="/ppt/media/image44.jpeg" ContentType="image/jpeg"/>
  <Override PartName="/ppt/media/image34.png" ContentType="image/png"/>
  <Override PartName="/ppt/media/image9.png" ContentType="image/png"/>
  <Override PartName="/ppt/media/applause.wav" ContentType="audio/x-wav"/>
  <Override PartName="/ppt/media/image35.png" ContentType="image/png"/>
  <Override PartName="/ppt/media/image29.jpeg" ContentType="image/jpeg"/>
  <Override PartName="/ppt/media/image7.gif" ContentType="image/gif"/>
  <Override PartName="/ppt/media/image5.jpeg" ContentType="image/jpeg"/>
  <Override PartName="/ppt/media/image46.png" ContentType="image/png"/>
  <Override PartName="/ppt/media/image11.png" ContentType="image/png"/>
  <Override PartName="/ppt/media/image31.jpeg" ContentType="image/jpeg"/>
  <Override PartName="/ppt/media/image37.png" ContentType="image/png"/>
  <Override PartName="/ppt/media/image40.wmf" ContentType="image/x-wmf"/>
  <Override PartName="/ppt/media/image12.png" ContentType="image/png"/>
  <Override PartName="/ppt/media/image10.png" ContentType="image/png"/>
  <Override PartName="/ppt/media/image47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chimes.wav" ContentType="audio/x-wav"/>
  <Override PartName="/ppt/media/image43.gif" ContentType="image/gif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32D-D475-4BA5-BB98-7FD209C9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0A0-F26A-4100-8887-FA54CCE9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F5E-86AB-416A-A7D3-24C07FC9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70C-BC79-4D47-A135-4322F74A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2631-8CC3-42C0-A3C1-79E45E05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29F4-E7B7-4C9A-8A51-9D0C18F6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D562-1047-4594-A965-C480D205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8352-D09C-4066-ADA2-5AB55A39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AC9A-A25E-4916-ADA8-8248D9CF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64A5-9439-460B-8B31-A4E3539E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D412-3299-4433-BA54-6CD29A52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BB9-3E27-449E-896B-C31FA70F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DE3B-1940-4E80-A891-A28C8C26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26C8-6E18-4649-A33D-6AAF6849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6A07-7301-4BC2-B5F5-A1E61D60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AF0C-9F8D-4830-AEBC-9E142C8B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458C-0F50-48D6-A359-C24D7D81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A4C-8036-467E-A5A2-BEDC498A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735-C297-4C41-B9DB-43B99AFD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A29-1EE8-4A40-8600-337C8D66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DA2-2C42-4F84-A997-75306AEC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695-0CC1-45FB-A38F-9C1B3C02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695-9552-42C7-9E90-1E6E9788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2A8-ED22-4C7E-9EDD-A45F0935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8C3C-DC10-4D89-A4CA-10D9ADF08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A90D-4788-45B1-B371-C6A0162ADF0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E9CD-392B-471D-90D4-7379019F87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5.png"/><Relationship Id="rId21" Type="http://schemas.openxmlformats.org/officeDocument/2006/relationships/image" Target="../media/image25.png"/><Relationship Id="rId22" Type="http://schemas.openxmlformats.org/officeDocument/2006/relationships/image" Target="../media/image26.gif"/><Relationship Id="rId23" Type="http://schemas.openxmlformats.org/officeDocument/2006/relationships/image" Target="../media/image27.gif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audio" Target="../media/type.wav"/><Relationship Id="rId32" Type="http://schemas.openxmlformats.org/officeDocument/2006/relationships/audio" Target="../media/type.wav"/><Relationship Id="rId33" Type="http://schemas.openxmlformats.org/officeDocument/2006/relationships/audio" Target="../media/applause.wav"/><Relationship Id="rId34" Type="http://schemas.openxmlformats.org/officeDocument/2006/relationships/audio" Target="../media/applause.wav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418c343e7a6a1e1c71cf6c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826920" y="1628640"/>
            <a:ext cx="74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我为你骄傲课件</a:t>
            </a:r>
            <a:r>
              <a:rPr b="1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F:\素材大全\课件动画素材\车类\CAR_03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3"/>
          <p:cNvSpPr txBox="1"/>
          <p:nvPr/>
        </p:nvSpPr>
        <p:spPr>
          <a:xfrm>
            <a:off x="2819520" y="1523880"/>
            <a:ext cx="4267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ccffff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箱</a:t>
            </a:r>
            <a:endParaRPr b="1" lang="en-US" sz="9600" spc="1" strike="noStrike">
              <a:ln w="19080">
                <a:solidFill>
                  <a:srgbClr val="ccffff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2819520" y="1295280"/>
            <a:ext cx="4267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round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顿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3124080" y="1447920"/>
            <a:ext cx="426744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round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封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2895480" y="1295280"/>
            <a:ext cx="4267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round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歉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2895480" y="1295280"/>
            <a:ext cx="4267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round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攒</a:t>
            </a:r>
            <a:endParaRPr b="1" lang="en-US" sz="9600" spc="1" strike="noStrike">
              <a:ln w="19080">
                <a:solidFill>
                  <a:srgbClr val="99ccff"/>
                </a:solidFill>
                <a:round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1" name="WordArt 8"/>
          <p:cNvSpPr txBox="1"/>
          <p:nvPr/>
        </p:nvSpPr>
        <p:spPr>
          <a:xfrm>
            <a:off x="2971800" y="1219320"/>
            <a:ext cx="4267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cc00"/>
                  </a:solidFill>
                  <a:round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玻</a:t>
            </a:r>
            <a:endParaRPr b="1" lang="en-US" sz="9600" spc="1" strike="noStrike">
              <a:ln w="19080">
                <a:solidFill>
                  <a:srgbClr val="ffcc00"/>
                </a:solidFill>
                <a:round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2" name="WordArt 9"/>
          <p:cNvSpPr txBox="1"/>
          <p:nvPr/>
        </p:nvSpPr>
        <p:spPr>
          <a:xfrm>
            <a:off x="3124080" y="1371600"/>
            <a:ext cx="4267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cc00"/>
                  </a:solidFill>
                  <a:round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滑</a:t>
            </a:r>
            <a:endParaRPr b="1" lang="en-US" sz="9600" spc="1" strike="noStrike">
              <a:ln w="19080">
                <a:solidFill>
                  <a:srgbClr val="ffcc00"/>
                </a:solidFill>
                <a:round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3" name="WordArt 10"/>
          <p:cNvSpPr txBox="1"/>
          <p:nvPr/>
        </p:nvSpPr>
        <p:spPr>
          <a:xfrm>
            <a:off x="3200400" y="1371600"/>
            <a:ext cx="4267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cc00"/>
                  </a:solidFill>
                  <a:round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碎</a:t>
            </a:r>
            <a:endParaRPr b="1" lang="en-US" sz="9600" spc="1" strike="noStrike">
              <a:ln w="19080">
                <a:solidFill>
                  <a:srgbClr val="ffcc00"/>
                </a:solidFill>
                <a:round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2666880" y="1143000"/>
            <a:ext cx="4267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cc00"/>
                  </a:solidFill>
                  <a:round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璃</a:t>
            </a:r>
            <a:endParaRPr b="1" lang="en-US" sz="9600" spc="1" strike="noStrike">
              <a:ln w="19080">
                <a:solidFill>
                  <a:srgbClr val="ffcc00"/>
                </a:solidFill>
                <a:round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5" name="WordArt 13"/>
          <p:cNvSpPr txBox="1"/>
          <p:nvPr/>
        </p:nvSpPr>
        <p:spPr>
          <a:xfrm>
            <a:off x="0" y="0"/>
            <a:ext cx="3200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0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开火车喽！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1"/>
                <a:srcRect/>
                <a:stretch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6" name="Picture 14" descr="F:\素材大全\课件动画素材\人文\天使\RT_020.gif"/>
          <p:cNvPicPr/>
          <p:nvPr/>
        </p:nvPicPr>
        <p:blipFill>
          <a:blip r:embed="rId22"/>
          <a:stretch/>
        </p:blipFill>
        <p:spPr>
          <a:xfrm>
            <a:off x="7467480" y="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F:\素材大全\课件动画素材\人文\微笑\RW_022.gif"/>
          <p:cNvPicPr/>
          <p:nvPr/>
        </p:nvPicPr>
        <p:blipFill>
          <a:blip r:embed="rId23"/>
          <a:stretch/>
        </p:blipFill>
        <p:spPr>
          <a:xfrm>
            <a:off x="3352680" y="4664160"/>
            <a:ext cx="3764160" cy="2193840"/>
          </a:xfrm>
          <a:prstGeom prst="rect">
            <a:avLst/>
          </a:prstGeom>
          <a:ln w="0">
            <a:noFill/>
          </a:ln>
        </p:spPr>
      </p:pic>
      <p:sp>
        <p:nvSpPr>
          <p:cNvPr id="188" name="WordArt 17"/>
          <p:cNvSpPr txBox="1"/>
          <p:nvPr/>
        </p:nvSpPr>
        <p:spPr>
          <a:xfrm>
            <a:off x="2133720" y="1981080"/>
            <a:ext cx="611028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你真棒！</a:t>
            </a:r>
            <a:endParaRPr b="1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1167877805727"/>
          <p:cNvPicPr/>
          <p:nvPr/>
        </p:nvPicPr>
        <p:blipFill>
          <a:blip r:embed="rId1"/>
          <a:srcRect l="11394" t="9394" r="8074" b="21108"/>
          <a:stretch/>
        </p:blipFill>
        <p:spPr>
          <a:xfrm>
            <a:off x="-3168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1116000" y="1960200"/>
            <a:ext cx="6789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小男孩拾起一块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光滑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的石头扔向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玻璃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顿时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玻璃被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打碎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044720" y="4188240"/>
            <a:ext cx="72039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小男孩把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攒起来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的钱放在一个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信封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里，然后投进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信箱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，真诚地向老奶奶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道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1403280" y="549360"/>
            <a:ext cx="216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4" name="文本框 8199"/>
          <p:cNvSpPr/>
          <p:nvPr/>
        </p:nvSpPr>
        <p:spPr>
          <a:xfrm>
            <a:off x="2050920" y="602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1167877805727"/>
          <p:cNvPicPr/>
          <p:nvPr/>
        </p:nvPicPr>
        <p:blipFill>
          <a:blip r:embed="rId1"/>
          <a:srcRect l="14836" t="12302" r="8074" b="21108"/>
          <a:stretch/>
        </p:blipFill>
        <p:spPr>
          <a:xfrm>
            <a:off x="36360" y="0"/>
            <a:ext cx="9142560" cy="6813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395280" y="2333160"/>
            <a:ext cx="1094436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9933ff"/>
                </a:solidFill>
                <a:latin typeface="宋体"/>
              </a:rPr>
              <a:t>课文中</a:t>
            </a:r>
            <a:r>
              <a:rPr b="1" lang="zh-CN" sz="4400" spc="-1" strike="noStrike" u="sng">
                <a:solidFill>
                  <a:srgbClr val="9933ff"/>
                </a:solidFill>
                <a:uFillTx/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9933ff"/>
                </a:solidFill>
                <a:latin typeface="宋体"/>
              </a:rPr>
              <a:t>为</a:t>
            </a:r>
            <a:r>
              <a:rPr b="1" lang="zh-CN" sz="4400" spc="-1" strike="noStrike" u="sng">
                <a:solidFill>
                  <a:srgbClr val="9933ff"/>
                </a:solidFill>
                <a:uFillTx/>
                <a:latin typeface="宋体"/>
              </a:rPr>
              <a:t>       </a:t>
            </a:r>
            <a:r>
              <a:rPr b="1" lang="zh-CN" sz="4400" spc="-1" strike="noStrike">
                <a:solidFill>
                  <a:srgbClr val="9933ff"/>
                </a:solidFill>
                <a:latin typeface="宋体"/>
              </a:rPr>
              <a:t>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宋体"/>
              </a:rPr>
              <a:t>感到骄傲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1260360" y="692280"/>
            <a:ext cx="187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填</a:t>
            </a:r>
            <a:endParaRPr b="1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4" descr="DT70P95EPH_102_500_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521640" y="3518280"/>
            <a:ext cx="75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9640" y="69228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我会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079360" y="2205000"/>
            <a:ext cx="5349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我（做了什么错事），后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我（怎么做），老奶奶（怎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做，怎么说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916360" y="2997360"/>
            <a:ext cx="3887640" cy="360"/>
            <a:chOff x="2916360" y="2997360"/>
            <a:chExt cx="3887640" cy="360"/>
          </a:xfrm>
        </p:grpSpPr>
        <p:sp>
          <p:nvSpPr>
            <p:cNvPr id="204" name="Line 5"/>
            <p:cNvSpPr/>
            <p:nvPr/>
          </p:nvSpPr>
          <p:spPr>
            <a:xfrm>
              <a:off x="2916360" y="2997360"/>
              <a:ext cx="38876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2916360" y="2997360"/>
              <a:ext cx="388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692360" y="3716280"/>
            <a:ext cx="1942920" cy="360"/>
            <a:chOff x="1692360" y="3716280"/>
            <a:chExt cx="1942920" cy="360"/>
          </a:xfrm>
        </p:grpSpPr>
        <p:sp>
          <p:nvSpPr>
            <p:cNvPr id="207" name="Line 6"/>
            <p:cNvSpPr/>
            <p:nvPr/>
          </p:nvSpPr>
          <p:spPr>
            <a:xfrm>
              <a:off x="1692360" y="3716280"/>
              <a:ext cx="1942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1692360" y="3716280"/>
              <a:ext cx="194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236000" y="3716280"/>
            <a:ext cx="1152360" cy="360"/>
            <a:chOff x="7236000" y="3716280"/>
            <a:chExt cx="1152360" cy="360"/>
          </a:xfrm>
        </p:grpSpPr>
        <p:sp>
          <p:nvSpPr>
            <p:cNvPr id="210" name="Line 7"/>
            <p:cNvSpPr/>
            <p:nvPr/>
          </p:nvSpPr>
          <p:spPr>
            <a:xfrm>
              <a:off x="7236000" y="3716280"/>
              <a:ext cx="1152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7236000" y="3716280"/>
              <a:ext cx="115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11280" y="4437000"/>
            <a:ext cx="3024000" cy="360"/>
            <a:chOff x="611280" y="4437000"/>
            <a:chExt cx="3024000" cy="360"/>
          </a:xfrm>
        </p:grpSpPr>
        <p:sp>
          <p:nvSpPr>
            <p:cNvPr id="213" name="Line 8"/>
            <p:cNvSpPr/>
            <p:nvPr/>
          </p:nvSpPr>
          <p:spPr>
            <a:xfrm>
              <a:off x="611280" y="4437000"/>
              <a:ext cx="302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611280" y="4437000"/>
              <a:ext cx="30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DT70P95EPH_102_500_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1684080" y="1917000"/>
            <a:ext cx="5349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我（不小心打碎了老奶奶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玻璃，并飞快地逃走了），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来（我攒钱赔偿，并真诚地向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奶奶道歉）。老奶奶（把钱还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我，说：我为你骄傲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95280" y="189000"/>
            <a:ext cx="34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我会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556000" y="2708280"/>
            <a:ext cx="5976720" cy="360"/>
            <a:chOff x="2556000" y="2708280"/>
            <a:chExt cx="5976720" cy="360"/>
          </a:xfrm>
        </p:grpSpPr>
        <p:sp>
          <p:nvSpPr>
            <p:cNvPr id="219" name="Line 8"/>
            <p:cNvSpPr/>
            <p:nvPr/>
          </p:nvSpPr>
          <p:spPr>
            <a:xfrm>
              <a:off x="2556000" y="2708280"/>
              <a:ext cx="5976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2556000" y="2708280"/>
              <a:ext cx="59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79280" y="3429000"/>
            <a:ext cx="6769080" cy="360"/>
            <a:chOff x="179280" y="3429000"/>
            <a:chExt cx="6769080" cy="360"/>
          </a:xfrm>
        </p:grpSpPr>
        <p:sp>
          <p:nvSpPr>
            <p:cNvPr id="222" name="Line 9"/>
            <p:cNvSpPr/>
            <p:nvPr/>
          </p:nvSpPr>
          <p:spPr>
            <a:xfrm>
              <a:off x="179280" y="3429000"/>
              <a:ext cx="6769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179280" y="3429000"/>
              <a:ext cx="676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187280" y="4221000"/>
            <a:ext cx="7345440" cy="360"/>
            <a:chOff x="1187280" y="4221000"/>
            <a:chExt cx="7345440" cy="360"/>
          </a:xfrm>
        </p:grpSpPr>
        <p:sp>
          <p:nvSpPr>
            <p:cNvPr id="225" name="Line 10"/>
            <p:cNvSpPr/>
            <p:nvPr/>
          </p:nvSpPr>
          <p:spPr>
            <a:xfrm>
              <a:off x="1187280" y="4221000"/>
              <a:ext cx="73454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1187280" y="4221000"/>
              <a:ext cx="734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79280" y="4869000"/>
            <a:ext cx="2376720" cy="360"/>
            <a:chOff x="179280" y="4869000"/>
            <a:chExt cx="2376720" cy="360"/>
          </a:xfrm>
        </p:grpSpPr>
        <p:sp>
          <p:nvSpPr>
            <p:cNvPr id="228" name="Line 11"/>
            <p:cNvSpPr/>
            <p:nvPr/>
          </p:nvSpPr>
          <p:spPr>
            <a:xfrm>
              <a:off x="179280" y="4869000"/>
              <a:ext cx="2376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79280" y="4869000"/>
              <a:ext cx="23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156360" y="4941720"/>
            <a:ext cx="2303280" cy="360"/>
            <a:chOff x="6156360" y="4941720"/>
            <a:chExt cx="2303280" cy="360"/>
          </a:xfrm>
        </p:grpSpPr>
        <p:sp>
          <p:nvSpPr>
            <p:cNvPr id="231" name="Line 12"/>
            <p:cNvSpPr/>
            <p:nvPr/>
          </p:nvSpPr>
          <p:spPr>
            <a:xfrm>
              <a:off x="6156360" y="4941720"/>
              <a:ext cx="2303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6156360" y="4941720"/>
              <a:ext cx="23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79280" y="5661000"/>
            <a:ext cx="5545080" cy="360"/>
            <a:chOff x="179280" y="5661000"/>
            <a:chExt cx="5545080" cy="360"/>
          </a:xfrm>
        </p:grpSpPr>
        <p:sp>
          <p:nvSpPr>
            <p:cNvPr id="234" name="Line 13"/>
            <p:cNvSpPr/>
            <p:nvPr/>
          </p:nvSpPr>
          <p:spPr>
            <a:xfrm>
              <a:off x="179280" y="5661000"/>
              <a:ext cx="5545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79280" y="5661000"/>
              <a:ext cx="554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296956100429870060[1]"/>
          <p:cNvPicPr/>
          <p:nvPr/>
        </p:nvPicPr>
        <p:blipFill>
          <a:blip r:embed="rId1"/>
          <a:stretch/>
        </p:blipFill>
        <p:spPr>
          <a:xfrm>
            <a:off x="179280" y="189000"/>
            <a:ext cx="808200" cy="100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395280" y="1125360"/>
            <a:ext cx="9290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读一读课文中打比方的句子，把它们抄下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石头像子弹一样射出，又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流星一样从天而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＿＿＿＿像＿＿＿＿＿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像＿＿＿＿＿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们听到玻璃破碎的声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像兔子一样逃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＿＿＿＿＿＿就像＿＿＿＿＿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1403280" y="350028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上的白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4572000" y="3500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奔跑的骏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3059280" y="414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沉睡的狮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124000" y="59500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荷花的叶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5761080" y="595008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碧绿的大圆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900000" y="260280"/>
            <a:ext cx="846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默读课文</a:t>
            </a:r>
            <a:r>
              <a:rPr b="1" i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,</a:t>
            </a:r>
            <a:r>
              <a:rPr b="1" i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思考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1676520" y="2438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5647320" y="304812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403280" y="2492280"/>
            <a:ext cx="7129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我们看着石头像子弹一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射出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又像流星一样从天而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觉得很开心，很有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791440" y="396252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●    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96524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头像子弹一样射出，又像流星一样从天而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动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0" y="25146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们看着石头像子弹一样射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5228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们看着石头射出，又从天而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52280" y="15228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黑体"/>
              </a:rPr>
              <a:t>比一比，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8400" y="3200400"/>
            <a:ext cx="907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像流星一样从天而降，觉得很开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824760" y="3886200"/>
            <a:ext cx="86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有趣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457200" y="16002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觉得很开心，很有趣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4343400" y="2514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像子弹一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609480" y="320040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像流星一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38080" y="50292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1066680" y="47242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运用了（        ）的修饰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228600" y="5486400"/>
            <a:ext cx="922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把（       ）比作（        ）和（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3429000" y="4648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比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1066680" y="54864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石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4267080" y="54864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子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7010280" y="54864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流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20091220935735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2106000" y="166860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上的白云像（马儿在奔跑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又像（龙在腾飞 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2081160" y="328464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弯弯的月亮）像（爸爸爱吃的香蕉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像（妈妈手中的摇篮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>
            <a:off x="2222640" y="177336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1143000" y="2743200"/>
          <a:ext cx="2514600" cy="233676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</a:tblGrid>
              <a:tr h="1168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14"/>
          <p:cNvSpPr/>
          <p:nvPr/>
        </p:nvSpPr>
        <p:spPr>
          <a:xfrm>
            <a:off x="1295280" y="2590920"/>
            <a:ext cx="25146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500" spc="-1" strike="noStrike">
                <a:solidFill>
                  <a:srgbClr val="ff0000"/>
                </a:solidFill>
                <a:latin typeface="华文楷体"/>
                <a:ea typeface="华文楷体"/>
              </a:rPr>
              <a:t>骄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410080" y="2743200"/>
          <a:ext cx="2514600" cy="233676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</a:tblGrid>
              <a:tr h="1168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26"/>
          <p:cNvSpPr/>
          <p:nvPr/>
        </p:nvSpPr>
        <p:spPr>
          <a:xfrm>
            <a:off x="5638680" y="2590920"/>
            <a:ext cx="25146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500" spc="-1" strike="noStrike">
                <a:solidFill>
                  <a:srgbClr val="ff0000"/>
                </a:solidFill>
                <a:latin typeface="华文楷体"/>
                <a:ea typeface="华文楷体"/>
              </a:rPr>
              <a:t>傲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418c343e7a6a1e1c71cf6c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3"/>
          <p:cNvSpPr/>
          <p:nvPr/>
        </p:nvSpPr>
        <p:spPr>
          <a:xfrm>
            <a:off x="6156360" y="5373720"/>
            <a:ext cx="93672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557000" y="883800"/>
            <a:ext cx="60696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能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上的白云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又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天的落叶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又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上的星星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又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，又像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1001880" y="1197000"/>
            <a:ext cx="81421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看着石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弹一样射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又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流星一样从天而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觉得很开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有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6443640" y="6237360"/>
            <a:ext cx="503280" cy="360360"/>
          </a:xfrm>
          <a:prstGeom prst="smileyFace">
            <a:avLst>
              <a:gd name="adj" fmla="val 4653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逃跑"/>
          <p:cNvPicPr/>
          <p:nvPr/>
        </p:nvPicPr>
        <p:blipFill>
          <a:blip r:embed="rId1"/>
          <a:stretch/>
        </p:blipFill>
        <p:spPr>
          <a:xfrm>
            <a:off x="0" y="0"/>
            <a:ext cx="9306000" cy="70102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1143000" y="16750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就像兔子一样飞快地逃走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752480" y="6094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听到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玻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破碎的声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771560" y="130824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像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兔子一样飞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6"/>
          <p:cNvSpPr/>
          <p:nvPr/>
        </p:nvSpPr>
        <p:spPr>
          <a:xfrm>
            <a:off x="533520" y="609588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7"/>
          <p:cNvSpPr/>
          <p:nvPr/>
        </p:nvSpPr>
        <p:spPr>
          <a:xfrm>
            <a:off x="2133720" y="3809880"/>
            <a:ext cx="30456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3809880" y="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bō 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3809880" y="2666880"/>
            <a:ext cx="304920" cy="228600"/>
          </a:xfrm>
          <a:prstGeom prst="irregularSeal1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1219320" y="29718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运用了（        ）的修饰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457200" y="3733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把（           ）比作（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581280" y="2895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比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2133720" y="37339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小男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5638680" y="3657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200909251711121.mp3" descr=""/>
          <p:cNvPicPr/>
          <p:nvPr/>
        </p:nvPicPr>
        <p:blipFill>
          <a:blip r:embed="rId2"/>
          <a:stretch/>
        </p:blipFill>
        <p:spPr>
          <a:xfrm>
            <a:off x="7956720" y="6210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indefinite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23929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KT_Rabbit01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-25560"/>
            <a:ext cx="9196560" cy="69627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3"/>
          <p:cNvSpPr/>
          <p:nvPr/>
        </p:nvSpPr>
        <p:spPr>
          <a:xfrm>
            <a:off x="539640" y="1125360"/>
            <a:ext cx="82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听到玻璃破碎        的声音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像兔子一样飞快地逃走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780000" y="2925720"/>
            <a:ext cx="3384360" cy="360"/>
            <a:chOff x="3780000" y="2925720"/>
            <a:chExt cx="3384360" cy="360"/>
          </a:xfrm>
        </p:grpSpPr>
        <p:sp>
          <p:nvSpPr>
            <p:cNvPr id="294" name="Line 4"/>
            <p:cNvSpPr/>
            <p:nvPr/>
          </p:nvSpPr>
          <p:spPr>
            <a:xfrm>
              <a:off x="3780000" y="2925720"/>
              <a:ext cx="3384360" cy="0"/>
            </a:xfrm>
            <a:prstGeom prst="line">
              <a:avLst/>
            </a:prstGeom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3780000" y="2925720"/>
              <a:ext cx="33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5"/>
          <p:cNvGrpSpPr/>
          <p:nvPr/>
        </p:nvGrpSpPr>
        <p:grpSpPr>
          <a:xfrm>
            <a:off x="900000" y="2997360"/>
            <a:ext cx="7276680" cy="939600"/>
            <a:chOff x="900000" y="2997360"/>
            <a:chExt cx="7276680" cy="939600"/>
          </a:xfrm>
        </p:grpSpPr>
        <p:sp>
          <p:nvSpPr>
            <p:cNvPr id="297" name="Oval 6"/>
            <p:cNvSpPr/>
            <p:nvPr/>
          </p:nvSpPr>
          <p:spPr>
            <a:xfrm>
              <a:off x="900000" y="386100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7"/>
            <p:cNvSpPr/>
            <p:nvPr/>
          </p:nvSpPr>
          <p:spPr>
            <a:xfrm>
              <a:off x="8100720" y="299736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7525080" y="299736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014"/>
          <p:cNvPicPr/>
          <p:nvPr/>
        </p:nvPicPr>
        <p:blipFill>
          <a:blip r:embed="rId1"/>
          <a:stretch/>
        </p:blipFill>
        <p:spPr>
          <a:xfrm>
            <a:off x="36360" y="-79200"/>
            <a:ext cx="9144000" cy="23558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179280" y="2565360"/>
            <a:ext cx="871236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58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天晚上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一想到老奶奶家被打碎的玻璃就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害怕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担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知道是我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8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324000" y="48718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因为我担心老奶奶知道后，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Arial"/>
              </a:rPr>
              <a:t>        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       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，所以我害怕。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95280" y="836640"/>
            <a:ext cx="8064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那天晚上，我一想到老奶奶家被打碎的玻璃就害怕，担心她知道是我干的。这以后，我还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往常一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每天给她送报纸。她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往常一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微笑着跟我打招呼，我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觉得很不自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11280" y="443700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i="1" lang="zh-CN" sz="4000" spc="-1" strike="noStrike" u="sng">
                <a:solidFill>
                  <a:srgbClr val="002060"/>
                </a:solidFill>
                <a:uFillTx/>
                <a:latin typeface="Arial"/>
                <a:ea typeface="楷体_GB2312"/>
              </a:rPr>
              <a:t>我们真的都</a:t>
            </a:r>
            <a:r>
              <a:rPr b="1" i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和往常一样 </a:t>
            </a:r>
            <a:r>
              <a:rPr b="1" i="1" lang="zh-CN" sz="4000" spc="-1" strike="noStrike" u="sng">
                <a:solidFill>
                  <a:srgbClr val="002060"/>
                </a:solidFill>
                <a:uFillTx/>
                <a:latin typeface="Arial"/>
                <a:ea typeface="楷体_GB2312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2005112875472081"/>
          <p:cNvPicPr/>
          <p:nvPr/>
        </p:nvPicPr>
        <p:blipFill>
          <a:blip r:embed="rId1"/>
          <a:stretch/>
        </p:blipFill>
        <p:spPr>
          <a:xfrm>
            <a:off x="0" y="0"/>
            <a:ext cx="9509040" cy="68389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503280" y="620640"/>
            <a:ext cx="864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以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还是和往常一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天给她送报纸。她也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往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笑着跟我打招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却觉得很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4273920" y="177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自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11280" y="263700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看到老奶奶的微笑，我想起那天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24000" y="321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看到老奶奶的微笑，我又想起那天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0" y="3860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看到老奶奶的微笑，我还是想起那天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418c343e7a6a1e1c71cf6c4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2263680" y="523800"/>
            <a:ext cx="3985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我很不自在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一到老奶奶家，我的心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216080" y="2108160"/>
            <a:ext cx="6081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我很不自在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当老奶奶看着我时，我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861640" y="3751200"/>
            <a:ext cx="28886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我很不自在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每次我一把报纸给老奶奶，我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929880" y="5284800"/>
            <a:ext cx="6831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我很不自在，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7524720" y="5661000"/>
            <a:ext cx="93672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24000" y="5877000"/>
            <a:ext cx="9363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395280" y="836640"/>
            <a:ext cx="8064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那天晚上，我一想到老奶奶家被打碎的玻璃就害怕，担心她知道是我干的。这以后，我还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往常一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每天给她送报纸。她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和往常一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微笑着跟我打招呼，我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觉得很不自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763560" y="4653000"/>
            <a:ext cx="806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Arial"/>
                <a:ea typeface="楷体_GB2312"/>
              </a:rPr>
              <a:t>猜一猜：老奶奶知道自己家的玻璃是被我打碎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179280" y="18900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我决定把送报纸的钱攒起来，给她修理窗户。三个星期过去了，我已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攒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了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美元。这些钱足够用来修理窗户了。我把钱和一张便条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装进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信封，在便条上向老奶奶说明了事情的经过，并真诚地向她道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250920" y="40053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i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你知道便条上写着什么吗？如果你是那个小男孩，你会怎么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8199"/>
          <p:cNvSpPr/>
          <p:nvPr/>
        </p:nvSpPr>
        <p:spPr>
          <a:xfrm>
            <a:off x="1979640" y="587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4"/>
          <p:cNvSpPr/>
          <p:nvPr/>
        </p:nvSpPr>
        <p:spPr>
          <a:xfrm>
            <a:off x="1476360" y="1628640"/>
            <a:ext cx="33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骄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1332000" y="314172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5148360" y="177336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自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3995640" y="4149720"/>
            <a:ext cx="30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谦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u=3066130165,1750817835&amp;fm=3&amp;gp=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324000" y="692280"/>
            <a:ext cx="88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敬爱的奶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您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是那个打碎玻璃的小男孩，在那个风和日丽的下午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851280" y="2924280"/>
            <a:ext cx="4824360" cy="360"/>
            <a:chOff x="3851280" y="2924280"/>
            <a:chExt cx="4824360" cy="360"/>
          </a:xfrm>
        </p:grpSpPr>
        <p:sp>
          <p:nvSpPr>
            <p:cNvPr id="328" name="Line 4"/>
            <p:cNvSpPr/>
            <p:nvPr/>
          </p:nvSpPr>
          <p:spPr>
            <a:xfrm>
              <a:off x="3851280" y="2924280"/>
              <a:ext cx="482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851280" y="2924280"/>
              <a:ext cx="482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50920" y="3429000"/>
            <a:ext cx="8497800" cy="360"/>
            <a:chOff x="250920" y="3429000"/>
            <a:chExt cx="8497800" cy="360"/>
          </a:xfrm>
        </p:grpSpPr>
        <p:sp>
          <p:nvSpPr>
            <p:cNvPr id="331" name="Line 5"/>
            <p:cNvSpPr/>
            <p:nvPr/>
          </p:nvSpPr>
          <p:spPr>
            <a:xfrm>
              <a:off x="250920" y="3429000"/>
              <a:ext cx="8497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250920" y="3429000"/>
              <a:ext cx="849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24000" y="3933720"/>
            <a:ext cx="8496000" cy="360"/>
            <a:chOff x="324000" y="3933720"/>
            <a:chExt cx="8496000" cy="360"/>
          </a:xfrm>
        </p:grpSpPr>
        <p:sp>
          <p:nvSpPr>
            <p:cNvPr id="334" name="Line 6"/>
            <p:cNvSpPr/>
            <p:nvPr/>
          </p:nvSpPr>
          <p:spPr>
            <a:xfrm>
              <a:off x="324000" y="3933720"/>
              <a:ext cx="849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324000" y="393372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79280" y="4508640"/>
            <a:ext cx="8640720" cy="360"/>
            <a:chOff x="179280" y="4508640"/>
            <a:chExt cx="8640720" cy="360"/>
          </a:xfrm>
        </p:grpSpPr>
        <p:sp>
          <p:nvSpPr>
            <p:cNvPr id="337" name="Line 7"/>
            <p:cNvSpPr/>
            <p:nvPr/>
          </p:nvSpPr>
          <p:spPr>
            <a:xfrm>
              <a:off x="179280" y="4508640"/>
              <a:ext cx="864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79280" y="4508640"/>
              <a:ext cx="864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8"/>
          <p:cNvSpPr/>
          <p:nvPr/>
        </p:nvSpPr>
        <p:spPr>
          <a:xfrm>
            <a:off x="3025440" y="285264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7928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0" descr="u=2975993436,474412076&amp;fm=3&amp;gp=21"/>
          <p:cNvPicPr/>
          <p:nvPr/>
        </p:nvPicPr>
        <p:blipFill>
          <a:blip r:embed="rId2"/>
          <a:stretch/>
        </p:blipFill>
        <p:spPr>
          <a:xfrm>
            <a:off x="539640" y="5079960"/>
            <a:ext cx="1613160" cy="17780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1"/>
          <p:cNvSpPr/>
          <p:nvPr/>
        </p:nvSpPr>
        <p:spPr>
          <a:xfrm>
            <a:off x="1235520" y="5013360"/>
            <a:ext cx="76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碎玻璃的小男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2" descr="0009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324000" y="0"/>
            <a:ext cx="842472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敬爱的老奶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是给您送（     纸）的小男孩。那天，我和小伙伴躲在您家的后院里扔小石头。我（    起）一块（光    ）的小石头，把它扔了出去，不小心砸在您家后院的窗户上。我们听到（       ）（       ）的声音，心里很害怕，就飞快地逃走了。现在，我把三个星期卖报的钱攒起来，用来修理窗户，并真诚地向您道歉。请您原谅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报纸的小男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706920" y="476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755640" y="1916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3635280" y="1916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187280" y="321300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ō  lí          pò  s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3708360" y="9079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684360" y="2205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635280" y="22114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042920" y="3500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700360" y="3500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破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b85cfb03be188f55e8c337dc9fa67fea"/>
          <p:cNvPicPr/>
          <p:nvPr/>
        </p:nvPicPr>
        <p:blipFill>
          <a:blip r:embed="rId1"/>
          <a:srcRect l="0" t="6245" r="0" b="74414"/>
          <a:stretch/>
        </p:blipFill>
        <p:spPr>
          <a:xfrm>
            <a:off x="0" y="44280"/>
            <a:ext cx="9144000" cy="648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b85cfb03be188f55e8c337dc9fa67fea"/>
          <p:cNvPicPr/>
          <p:nvPr/>
        </p:nvPicPr>
        <p:blipFill>
          <a:blip r:embed="rId2"/>
          <a:srcRect l="0" t="91432" r="0" b="1093"/>
          <a:stretch/>
        </p:blipFill>
        <p:spPr>
          <a:xfrm>
            <a:off x="0" y="630864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250920" y="189000"/>
            <a:ext cx="85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等到天黑，我才悄悄地来到老奶奶家门前，把信封投到她家的信箱里。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心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顿时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感到一阵轻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250920" y="2924280"/>
            <a:ext cx="85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等到天黑，我才悄悄地来到老奶奶家门前，把信封投到她家的信箱里。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心里感到一阵轻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"/>
          <p:cNvSpPr/>
          <p:nvPr/>
        </p:nvSpPr>
        <p:spPr>
          <a:xfrm>
            <a:off x="533520" y="40766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什么我的心里顿时感到一阵轻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1125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一直到天黑，我才悄悄地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到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老奶奶家门前，把信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投到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她家的信箱里。我心里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顿时感到一阵轻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005-ktdw0011[1]"/>
          <p:cNvPicPr/>
          <p:nvPr/>
        </p:nvPicPr>
        <p:blipFill>
          <a:blip r:embed="rId1"/>
          <a:stretch/>
        </p:blipFill>
        <p:spPr>
          <a:xfrm>
            <a:off x="0" y="0"/>
            <a:ext cx="1090944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3396558543967964565[1]"/>
          <p:cNvPicPr/>
          <p:nvPr/>
        </p:nvPicPr>
        <p:blipFill>
          <a:blip r:embed="rId2"/>
          <a:stretch/>
        </p:blipFill>
        <p:spPr>
          <a:xfrm>
            <a:off x="395280" y="189000"/>
            <a:ext cx="952560" cy="936360"/>
          </a:xfrm>
          <a:prstGeom prst="rect">
            <a:avLst/>
          </a:prstGeom>
          <a:ln w="0">
            <a:noFill/>
          </a:ln>
        </p:spPr>
      </p:pic>
      <p:sp>
        <p:nvSpPr>
          <p:cNvPr id="364" name="WordArt 7"/>
          <p:cNvSpPr txBox="1"/>
          <p:nvPr/>
        </p:nvSpPr>
        <p:spPr>
          <a:xfrm rot="286800">
            <a:off x="1835280" y="260280"/>
            <a:ext cx="4114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1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细读感悟，完成下题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1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4920" y="177336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“我们”在老奶奶家后院扔石头时，我觉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当“我”像兔子一样逃走了之后，我感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当老奶奶仍像往常一样，每天微笑着和我打招呼时，我觉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当我把装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元和一张便条的信封投进老奶奶家的信箱时，我心里顿时感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2987640" y="2276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很开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539640" y="328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害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1332000" y="42559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自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539640" y="5695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阵轻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005-ktdw0011[1]"/>
          <p:cNvPicPr/>
          <p:nvPr/>
        </p:nvPicPr>
        <p:blipFill>
          <a:blip r:embed="rId1"/>
          <a:stretch/>
        </p:blipFill>
        <p:spPr>
          <a:xfrm>
            <a:off x="0" y="0"/>
            <a:ext cx="10476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787357dongwu2_371[1]"/>
          <p:cNvPicPr/>
          <p:nvPr/>
        </p:nvPicPr>
        <p:blipFill>
          <a:blip r:embed="rId2"/>
          <a:stretch/>
        </p:blipFill>
        <p:spPr>
          <a:xfrm>
            <a:off x="250920" y="260280"/>
            <a:ext cx="1008000" cy="938160"/>
          </a:xfrm>
          <a:prstGeom prst="rect">
            <a:avLst/>
          </a:prstGeom>
          <a:ln w="0">
            <a:noFill/>
          </a:ln>
        </p:spPr>
      </p:pic>
      <p:sp>
        <p:nvSpPr>
          <p:cNvPr id="372" name="WordArt 7"/>
          <p:cNvSpPr txBox="1"/>
          <p:nvPr/>
        </p:nvSpPr>
        <p:spPr>
          <a:xfrm rot="318000">
            <a:off x="1619280" y="189000"/>
            <a:ext cx="3657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2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猜一猜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2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108000" y="155736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37645"/>
                </a:moveTo>
                <a:lnTo>
                  <a:pt x="137646" y="137646"/>
                </a:lnTo>
                <a:lnTo>
                  <a:pt x="180181" y="0"/>
                </a:lnTo>
                <a:lnTo>
                  <a:pt x="222715" y="137646"/>
                </a:lnTo>
                <a:lnTo>
                  <a:pt x="360362" y="137645"/>
                </a:lnTo>
                <a:lnTo>
                  <a:pt x="249003" y="222715"/>
                </a:lnTo>
                <a:lnTo>
                  <a:pt x="291539" y="360361"/>
                </a:lnTo>
                <a:lnTo>
                  <a:pt x="180181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468360" y="1413000"/>
            <a:ext cx="5761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老奶奶知道玻璃被打碎了，她没去追问，她在想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老奶奶天天收到“我”送的报纸时，她又会想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老奶奶收到“我”积攒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元和一封道歉信时，她会想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奶奶为什么要写“我为你骄傲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0"/>
          <p:cNvSpPr/>
          <p:nvPr/>
        </p:nvSpPr>
        <p:spPr>
          <a:xfrm>
            <a:off x="34920" y="2781360"/>
            <a:ext cx="358920" cy="360360"/>
          </a:xfrm>
          <a:custGeom>
            <a:avLst/>
            <a:gdLst/>
            <a:ahLst/>
            <a:rect l="l" t="t" r="r" b="b"/>
            <a:pathLst>
              <a:path w="358775" h="360362">
                <a:moveTo>
                  <a:pt x="0" y="137645"/>
                </a:moveTo>
                <a:lnTo>
                  <a:pt x="137040" y="137646"/>
                </a:lnTo>
                <a:lnTo>
                  <a:pt x="179387" y="0"/>
                </a:lnTo>
                <a:lnTo>
                  <a:pt x="221734" y="137646"/>
                </a:lnTo>
                <a:lnTo>
                  <a:pt x="358774" y="137645"/>
                </a:lnTo>
                <a:lnTo>
                  <a:pt x="247906" y="222715"/>
                </a:lnTo>
                <a:lnTo>
                  <a:pt x="290254" y="360361"/>
                </a:lnTo>
                <a:lnTo>
                  <a:pt x="179387" y="275290"/>
                </a:lnTo>
                <a:lnTo>
                  <a:pt x="68520" y="360361"/>
                </a:lnTo>
                <a:lnTo>
                  <a:pt x="110868" y="22271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1"/>
          <p:cNvSpPr/>
          <p:nvPr/>
        </p:nvSpPr>
        <p:spPr>
          <a:xfrm>
            <a:off x="34920" y="3860640"/>
            <a:ext cx="360360" cy="358920"/>
          </a:xfrm>
          <a:custGeom>
            <a:avLst/>
            <a:gdLst/>
            <a:ahLst/>
            <a:rect l="l" t="t" r="r" b="b"/>
            <a:pathLst>
              <a:path w="360362" h="358775">
                <a:moveTo>
                  <a:pt x="0" y="137039"/>
                </a:moveTo>
                <a:lnTo>
                  <a:pt x="137646" y="137040"/>
                </a:lnTo>
                <a:lnTo>
                  <a:pt x="180181" y="0"/>
                </a:lnTo>
                <a:lnTo>
                  <a:pt x="222715" y="137040"/>
                </a:lnTo>
                <a:lnTo>
                  <a:pt x="360362" y="137039"/>
                </a:lnTo>
                <a:lnTo>
                  <a:pt x="249003" y="221734"/>
                </a:lnTo>
                <a:lnTo>
                  <a:pt x="291539" y="358774"/>
                </a:lnTo>
                <a:lnTo>
                  <a:pt x="180181" y="274077"/>
                </a:lnTo>
                <a:lnTo>
                  <a:pt x="68823" y="358774"/>
                </a:lnTo>
                <a:lnTo>
                  <a:pt x="111359" y="2217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2"/>
          <p:cNvSpPr/>
          <p:nvPr/>
        </p:nvSpPr>
        <p:spPr>
          <a:xfrm>
            <a:off x="34920" y="566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37645"/>
                </a:moveTo>
                <a:lnTo>
                  <a:pt x="137646" y="137646"/>
                </a:lnTo>
                <a:lnTo>
                  <a:pt x="180181" y="0"/>
                </a:lnTo>
                <a:lnTo>
                  <a:pt x="222715" y="137646"/>
                </a:lnTo>
                <a:lnTo>
                  <a:pt x="360362" y="137645"/>
                </a:lnTo>
                <a:lnTo>
                  <a:pt x="249003" y="222715"/>
                </a:lnTo>
                <a:lnTo>
                  <a:pt x="291539" y="360361"/>
                </a:lnTo>
                <a:lnTo>
                  <a:pt x="180181" y="275290"/>
                </a:lnTo>
                <a:lnTo>
                  <a:pt x="68823" y="360361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b85cfb03be188f55e8c337dc9fa67fea"/>
          <p:cNvPicPr/>
          <p:nvPr/>
        </p:nvPicPr>
        <p:blipFill>
          <a:blip r:embed="rId1"/>
          <a:srcRect l="0" t="6245" r="0" b="74414"/>
          <a:stretch/>
        </p:blipFill>
        <p:spPr>
          <a:xfrm>
            <a:off x="0" y="260280"/>
            <a:ext cx="9144000" cy="647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b85cfb03be188f55e8c337dc9fa67fea"/>
          <p:cNvPicPr/>
          <p:nvPr/>
        </p:nvPicPr>
        <p:blipFill>
          <a:blip r:embed="rId2"/>
          <a:srcRect l="0" t="91432" r="0" b="1093"/>
          <a:stretch/>
        </p:blipFill>
        <p:spPr>
          <a:xfrm>
            <a:off x="0" y="630864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71280" y="1413000"/>
            <a:ext cx="860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她也和往常一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微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着和我打招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微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着接过报纸，说：“我有点儿东西给你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468360" y="620640"/>
            <a:ext cx="8394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当我打碎玻璃，还是和往常一样送报纸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当我把信封投到邮箱里，第二天去给她送报纸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b85cfb03be188f55e8c337dc9fa67fea"/>
          <p:cNvPicPr/>
          <p:nvPr/>
        </p:nvPicPr>
        <p:blipFill>
          <a:blip r:embed="rId1"/>
          <a:srcRect l="0" t="6245" r="0" b="74414"/>
          <a:stretch/>
        </p:blipFill>
        <p:spPr>
          <a:xfrm>
            <a:off x="0" y="44280"/>
            <a:ext cx="9144000" cy="64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b85cfb03be188f55e8c337dc9fa67fea"/>
          <p:cNvPicPr/>
          <p:nvPr/>
        </p:nvPicPr>
        <p:blipFill>
          <a:blip r:embed="rId2"/>
          <a:srcRect l="0" t="91432" r="0" b="1093"/>
          <a:stretch/>
        </p:blipFill>
        <p:spPr>
          <a:xfrm>
            <a:off x="0" y="630864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71280" y="1413000"/>
            <a:ext cx="860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当我打碎玻璃，还是和往常一样送报纸时）她也和往常一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微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着和我打招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当我把信封投到邮箱里，第二天去给她送报纸时）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微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着接过报纸，说：“我有点儿东西给你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pic_6284"/>
          <p:cNvPicPr/>
          <p:nvPr/>
        </p:nvPicPr>
        <p:blipFill>
          <a:blip r:embed="rId1"/>
          <a:srcRect l="0" t="5343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47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，我去给老奶奶送报纸。她微笑着接过报纸，说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有点儿东西给你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是一袋饼干。我谢过她，然后一边吃着饼干，一边继续送报纸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当饼干快要吃完的时候，我发现袋子里有一个信封。打开信封一看，里面是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元和一张便条，上面写着：我为你骄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042920" y="1341360"/>
            <a:ext cx="69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读准字音，圈画生字，标自然段序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边读边思考，课文讲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826920" y="4019400"/>
            <a:ext cx="712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题目中“我”是谁？“你”是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4537080" cy="336060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3"/>
          <p:cNvSpPr/>
          <p:nvPr/>
        </p:nvSpPr>
        <p:spPr>
          <a:xfrm>
            <a:off x="4211640" y="836640"/>
            <a:ext cx="4248000" cy="2879640"/>
          </a:xfrm>
          <a:prstGeom prst="wedgeRoundRectCallout">
            <a:avLst>
              <a:gd name="adj1" fmla="val -50486"/>
              <a:gd name="adj2" fmla="val 62625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为你骄傲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u=3066130165,1750817835&amp;fm=3&amp;gp=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u=2975993436,474412076&amp;fm=3&amp;gp=21"/>
          <p:cNvPicPr/>
          <p:nvPr/>
        </p:nvPicPr>
        <p:blipFill>
          <a:blip r:embed="rId2"/>
          <a:stretch/>
        </p:blipFill>
        <p:spPr>
          <a:xfrm>
            <a:off x="755640" y="5079960"/>
            <a:ext cx="1612800" cy="17780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06"/>
          <p:cNvPicPr/>
          <p:nvPr/>
        </p:nvPicPr>
        <p:blipFill>
          <a:blip r:embed="rId3"/>
          <a:stretch/>
        </p:blipFill>
        <p:spPr>
          <a:xfrm>
            <a:off x="5867280" y="552456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0009"/>
          <p:cNvPicPr/>
          <p:nvPr/>
        </p:nvPicPr>
        <p:blipFill>
          <a:blip r:embed="rId4"/>
          <a:stretch/>
        </p:blipFill>
        <p:spPr>
          <a:xfrm>
            <a:off x="6227640" y="0"/>
            <a:ext cx="1714680" cy="1486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2411280" y="29973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3182040" y="151596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我为你骄傲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2129400" y="2781360"/>
            <a:ext cx="35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为你的＿＿骄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2931840" y="1916280"/>
            <a:ext cx="4204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学完课文，你有什么感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5016960" y="386064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要学会承担责任，学会宽容别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8893080" cy="5562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403" name="Text Box 3"/>
          <p:cNvSpPr/>
          <p:nvPr/>
        </p:nvSpPr>
        <p:spPr>
          <a:xfrm>
            <a:off x="1447920" y="495288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老奶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：宽容、善良、善于教育小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我”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勇于承认错误、知错就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685800" y="1623960"/>
            <a:ext cx="777240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Times New Roman"/>
              </a:rPr>
              <a:t>一言九鼎    真心诚意  光明磊落    光明正大  表里如一    诚实守信   助人为乐    尊老爱幼正直豁达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WordArt 2"/>
          <p:cNvSpPr txBox="1"/>
          <p:nvPr/>
        </p:nvSpPr>
        <p:spPr>
          <a:xfrm>
            <a:off x="380880" y="58680"/>
            <a:ext cx="37339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词语库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250920" y="1341360"/>
            <a:ext cx="88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谅解也是一种勉励、启迪、指引，它难催人弃恶从善，使歧路人走入正轨，发挥他们的潜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                              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穆尼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纳素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宽容产生的道德上的震动比责罚产生的要强烈得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                     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--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前苏联    苏霍姆林斯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尽量宽恕别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不要原谅自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                        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古罗马    贺拉斯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2"/>
          <p:cNvSpPr txBox="1"/>
          <p:nvPr/>
        </p:nvSpPr>
        <p:spPr>
          <a:xfrm>
            <a:off x="380880" y="58680"/>
            <a:ext cx="318312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日积月累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807D-963E-46EE-9655-16EE03CFE0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50920" y="20480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诚实是一个人得以保持的最高尚的东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英国   乔叟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宁可因为说真话而负罪，也不要说假话开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                                   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波斯     萨迪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走正直诚实的生活道路，必定会有一个问心无愧的归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--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前苏联   高尔基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2"/>
          <p:cNvSpPr txBox="1"/>
          <p:nvPr/>
        </p:nvSpPr>
        <p:spPr>
          <a:xfrm>
            <a:off x="380880" y="58680"/>
            <a:ext cx="318312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日积月累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20840" y="907920"/>
            <a:ext cx="658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滑  玻  璃  碎  攒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封  歉  箱  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1476360" y="4437000"/>
            <a:ext cx="2808360" cy="1944720"/>
            <a:chOff x="1476360" y="4437000"/>
            <a:chExt cx="2808360" cy="1944720"/>
          </a:xfrm>
        </p:grpSpPr>
        <p:grpSp>
          <p:nvGrpSpPr>
            <p:cNvPr id="101" name="Group 4"/>
            <p:cNvGrpSpPr/>
            <p:nvPr/>
          </p:nvGrpSpPr>
          <p:grpSpPr>
            <a:xfrm>
              <a:off x="1548000" y="4437000"/>
              <a:ext cx="1657080" cy="1944720"/>
              <a:chOff x="1548000" y="4437000"/>
              <a:chExt cx="1657080" cy="194472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1548000" y="4437000"/>
                <a:ext cx="360" cy="1944720"/>
                <a:chOff x="1548000" y="4437000"/>
                <a:chExt cx="360" cy="1944720"/>
              </a:xfrm>
            </p:grpSpPr>
            <p:sp>
              <p:nvSpPr>
                <p:cNvPr id="103" name="Line 5"/>
                <p:cNvSpPr/>
                <p:nvPr/>
              </p:nvSpPr>
              <p:spPr>
                <a:xfrm>
                  <a:off x="1548000" y="4437000"/>
                  <a:ext cx="0" cy="194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 txBox="1"/>
                <p:nvPr/>
              </p:nvSpPr>
              <p:spPr>
                <a:xfrm>
                  <a:off x="1548000" y="4437000"/>
                  <a:ext cx="360" cy="19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Rectangle 6"/>
              <p:cNvSpPr/>
              <p:nvPr/>
            </p:nvSpPr>
            <p:spPr>
              <a:xfrm>
                <a:off x="1548000" y="4437000"/>
                <a:ext cx="1657080" cy="97236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7"/>
            <p:cNvSpPr/>
            <p:nvPr/>
          </p:nvSpPr>
          <p:spPr>
            <a:xfrm>
              <a:off x="1476360" y="458136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读准字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8"/>
          <p:cNvGrpSpPr/>
          <p:nvPr/>
        </p:nvGrpSpPr>
        <p:grpSpPr>
          <a:xfrm>
            <a:off x="5724360" y="4365720"/>
            <a:ext cx="1657080" cy="1944720"/>
            <a:chOff x="5724360" y="4365720"/>
            <a:chExt cx="1657080" cy="1944720"/>
          </a:xfrm>
        </p:grpSpPr>
        <p:grpSp>
          <p:nvGrpSpPr>
            <p:cNvPr id="108" name="Group 9"/>
            <p:cNvGrpSpPr/>
            <p:nvPr/>
          </p:nvGrpSpPr>
          <p:grpSpPr>
            <a:xfrm>
              <a:off x="5724360" y="4365720"/>
              <a:ext cx="1657080" cy="1944720"/>
              <a:chOff x="5724360" y="4365720"/>
              <a:chExt cx="1657080" cy="194472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5724360" y="4365720"/>
                <a:ext cx="360" cy="1944720"/>
                <a:chOff x="5724360" y="4365720"/>
                <a:chExt cx="360" cy="1944720"/>
              </a:xfrm>
            </p:grpSpPr>
            <p:sp>
              <p:nvSpPr>
                <p:cNvPr id="110" name="Line 10"/>
                <p:cNvSpPr/>
                <p:nvPr/>
              </p:nvSpPr>
              <p:spPr>
                <a:xfrm>
                  <a:off x="5724360" y="4365720"/>
                  <a:ext cx="0" cy="194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 txBox="1"/>
                <p:nvPr/>
              </p:nvSpPr>
              <p:spPr>
                <a:xfrm>
                  <a:off x="5724360" y="4365720"/>
                  <a:ext cx="360" cy="19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Rectangle 11"/>
              <p:cNvSpPr/>
              <p:nvPr/>
            </p:nvSpPr>
            <p:spPr>
              <a:xfrm>
                <a:off x="5724360" y="4365720"/>
                <a:ext cx="1657080" cy="97236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12"/>
            <p:cNvSpPr/>
            <p:nvPr/>
          </p:nvSpPr>
          <p:spPr>
            <a:xfrm>
              <a:off x="5869080" y="4508640"/>
              <a:ext cx="14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记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u=3066130165,1750817835&amp;fm=3&amp;gp=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u=2975993436,474412076&amp;fm=3&amp;gp=21"/>
          <p:cNvPicPr/>
          <p:nvPr/>
        </p:nvPicPr>
        <p:blipFill>
          <a:blip r:embed="rId2"/>
          <a:stretch/>
        </p:blipFill>
        <p:spPr>
          <a:xfrm>
            <a:off x="755640" y="5079960"/>
            <a:ext cx="1612800" cy="1778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06"/>
          <p:cNvPicPr/>
          <p:nvPr/>
        </p:nvPicPr>
        <p:blipFill>
          <a:blip r:embed="rId3"/>
          <a:stretch/>
        </p:blipFill>
        <p:spPr>
          <a:xfrm>
            <a:off x="5867280" y="552456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0009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486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411280" y="29973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0"/>
          <p:cNvSpPr txBox="1"/>
          <p:nvPr/>
        </p:nvSpPr>
        <p:spPr>
          <a:xfrm rot="856800">
            <a:off x="394920" y="0"/>
            <a:ext cx="2232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008000"/>
                  </a:solidFill>
                  <a:round/>
                </a:ln>
                <a:solidFill>
                  <a:srgbClr val="00ff00"/>
                </a:solidFill>
                <a:latin typeface="华文行楷"/>
              </a:rPr>
              <a:t>猜一猜</a:t>
            </a:r>
            <a:endParaRPr b="1" lang="en-US" sz="1800" spc="1" strike="noStrike">
              <a:ln w="38160">
                <a:solidFill>
                  <a:srgbClr val="008000"/>
                </a:solidFill>
                <a:round/>
              </a:ln>
              <a:solidFill>
                <a:srgbClr val="00ff00"/>
              </a:solidFill>
              <a:latin typeface="华文行楷"/>
              <a:ea typeface="华文行楷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539640" y="177336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宋体"/>
              </a:rPr>
              <a:t>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6836760" y="1773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Times New Roman"/>
              </a:rPr>
              <a:t>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580400" y="105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3091680" y="981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2299680" y="1773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739320" y="1773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531680" y="981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5076720" y="170028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5900040" y="105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08a0"/>
                </a:solidFill>
                <a:latin typeface="Arial"/>
              </a:rPr>
              <a:t>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300040" y="249228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根骨头掉到了水里。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238120" y="321300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位王先生在拍皮球。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242080" y="3933720"/>
            <a:ext cx="28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另一位王先生离开了。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2449800" y="4724280"/>
            <a:ext cx="29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堆土堆起来才一寸高。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2313000" y="5516640"/>
            <a:ext cx="24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位先生在捡贝壳。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0.04548 0.01411 C 0.05451 0.01503 0.06649 0.01966 0.07569 0.02035 C 0.09375 0.02174 0.11163 0.02174 0.12968 0.02243 C 0.14062 0.02775 0.15191 0.03029 0.16302 0.03515 C 0.17083 0.03862 0.17552 0.04833 0.18211 0.05434 C 0.18854 0.06729 0.18836 0.07515 0.18836 0.09018 E">
                                      <p:cBhvr>
                                        <p:cTn id="49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0.04305 0.00046 C 0.05156 0.00115 0.05989 0.00139 0.0684 0.00254 C 0.07378 0.00324 0.07604 0.00878 0.08108 0.0111 C 0.09062 0.02312 0.07743 0.00786 0.08906 0.01734 C 0.09948 0.02613 0.08385 0.01803 0.09705 0.02381 C 0.09965 0.02867 0.10364 0.03283 0.10486 0.03861 C 0.10538 0.04139 0.10555 0.04439 0.1066 0.04693 C 0.10833 0.05156 0.11285 0.05965 0.11285 0.05965 C 0.11562 0.07075 0.11962 0.08046 0.12239 0.09133 C 0.13021 0.16532 0.12882 0.23491 0.12882 0.31121 E">
                                      <p:cBhvr>
                                        <p:cTn id="53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-0.07534 -0.09364 C -0.0743 -0.07422 -0.07378 -0.04694 -0.06909 -0.02821 C -0.06545 -0.000699999999999999 -0.06788 -0.01087 -0.06423 0.00347 C -0.06371 0.0141 -0.06354 0.02474 -0.06267 0.03537 C -0.06197 0.04393 -0.05954 0.06058 -0.05954 0.06058 C -0.05902 0.06936 -0.05972 0.09248 -0.05468 0.10289 C -0.05191 0.10867 -0.04531 0.11977 -0.04531 0.11977 C -0.04305 0.13063 -0.04045 0.13988 -0.03576 0.14936 C -0.03368 0.15815 -0.02881 0.16532 -0.02309 0.17063 C -0.02118 0.1778 -0.0184 0.18451 -0.01666 0.19167 C -0.01545 0.21063 -0.01493 0.22982 -0.01354 0.24878 C -0.01267 0.26035 -0.01128 0.27191 -0.00399 0.27838 C -0.00034 0.29318 -0.00121 0.30798 0.01355 0.30798 E">
                                      <p:cBhvr>
                                        <p:cTn id="57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0.02865 0.06682 C 0.04202 0.07885 0.02379 0.06405 0.0573 0.0733 C 0.06112 0.07422 0.06563 0.08301 0.06841 0.08602 C 0.07691 0.09573 0.08629 0.10659 0.09705 0.11122 C 0.10712 0.12509 0.12136 0.13688 0.13351 0.14729 C 0.1382 0.15145 0.14358 0.15862 0.14775 0.16209 C 0.15139 0.16509 0.15764 0.16694 0.16198 0.16833 C 0.16841 0.17688 0.16146 0.16925 0.17153 0.1748 C 0.17327 0.17573 0.17466 0.17804 0.17639 0.17896 C 0.18212 0.18174 0.18802 0.18266 0.19375 0.18521 C 0.20018 0.19376 0.21216 0.19654 0.22084 0.20232 C 0.22691 0.20648 0.23056 0.21457 0.23664 0.21919 C 0.23889 0.22104 0.24219 0.22151 0.24445 0.22336 C 0.25157 0.22844 0.25799 0.23399 0.26528 0.23815 C 0.26841 0.24 0.27483 0.24232 0.27483 0.24232 C 0.28125 0.25133 0.29705 0.25804 0.30643 0.26151 C 0.30799 0.26289 0.30955 0.26474 0.31129 0.26567 C 0.3132 0.26682 0.31563 0.26659 0.31754 0.26775 C 0.31893 0.26867 0.31945 0.27099 0.32084 0.27191 C 0.32275 0.27307 0.325 0.2733 0.32709 0.27399 C 0.33698 0.2807 0.34549 0.28417 0.35573 0.28879 C 0.35851 0.28995 0.36112 0.29133 0.36372 0.29318 C 0.36546 0.29434 0.36667 0.29642 0.36841 0.29735 C 0.37813 0.30313 0.38837 0.30474 0.39844 0.30798 C 0.40625 0.31422 0.41042 0.31607 0.4191 0.31839 C 0.43021 0.32856 0.44636 0.32787 0.45868 0.32902 C 0.48594 0.33596 0.51719 0.33411 0.54445 0.3355 C 0.55105 0.33827 0.55504 0.34197 0.56181 0.34382 C 0.56771 0.34752 0.58282 0.35654 0.58733 0.35862 C 0.59063 0.36 0.59688 0.36278 0.59688 0.36278 C 0.60087 0.36833 0.60365 0.3748 0.60799 0.37989 C 0.61007 0.3822 0.6125 0.38359 0.61441 0.38613 C 0.61702 0.39006 0.62084 0.39885 0.62084 0.39885 C 0.62188 0.40301 0.62483 0.40717 0.62396 0.41156 C 0.62344 0.41434 0.6224 0.41989 0.6224 0.41989 E">
                                      <p:cBhvr>
                                        <p:cTn id="61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0.0132 0.05642 C 0.0158 0.07052 0.01771 0.08347 0.02275 0.09642 C 0.02327 0.09989 0.02344 0.10359 0.02431 0.10706 C 0.025 0.10937 0.02674 0.11122 0.02743 0.11353 C 0.02969 0.12162 0.03056 0.13041 0.03229 0.13873 C 0.03281 0.15561 0.03299 0.17272 0.03386 0.1896 C 0.03455 0.20139 0.04288 0.23607 0.04809 0.24671 C 0.04983 0.25596 0.05226 0.26498 0.05452 0.27399 C 0.05556 0.27815 0.05764 0.28671 0.05764 0.28671 C 0.05677 0.35006 0.06389 0.40093 0.03854 0.45156 C 0.03611 0.46451 0.03038 0.47515 0.02431 0.48555 C 0.02188 0.48948 0.02118 0.49318 0.01788 0.49596 C 0.0165 0.49711 0.01476 0.49735 0.0132 0.49827 C 0.01146 0.49943 0.0099 0.50104 0.00834 0.50243 C 0.00504 0.50567 0.00243 0.51006 -0.00104 0.51307 C -0.00625 0.51769 -0.01267 0.51954 -0.01857 0.52139 C -0.02639 0.52925 -0.03489 0.5311 -0.04392 0.53619 C -0.05156 0.54058 -0.05781 0.54451 -0.06614 0.54682 C -0.07899 0.55769 -0.08854 0.55584 -0.10434 0.55746 C -0.13142 0.55584 -0.13715 0.557 -0.1566 0.54682 C -0.16771 0.54104 -0.16614 0.54752 -0.16614 0.53619 E">
                                      <p:cBhvr>
                                        <p:cTn id="65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1295280" y="533520"/>
            <a:ext cx="2895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隶书"/>
              </a:rPr>
              <a:t>我会读</a:t>
            </a:r>
            <a:endParaRPr b="0" lang="en-US" sz="1800" spc="1" strike="noStrike">
              <a:ln w="381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371600" y="27432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219320" y="26668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光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滑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玻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碎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攒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起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251000" y="46483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信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封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信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箱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道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顿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143000" y="2286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71600" y="4191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ɡ     x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ɡ     q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   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143000" y="21337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li         su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z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3124080" y="2781360"/>
            <a:ext cx="2133720" cy="1371600"/>
            <a:chOff x="3124080" y="2781360"/>
            <a:chExt cx="2133720" cy="1371600"/>
          </a:xfrm>
        </p:grpSpPr>
        <p:pic>
          <p:nvPicPr>
            <p:cNvPr id="145" name="Object 9" descr=""/>
            <p:cNvPicPr/>
            <p:nvPr/>
          </p:nvPicPr>
          <p:blipFill>
            <a:blip r:embed="rId1"/>
            <a:stretch/>
          </p:blipFill>
          <p:spPr>
            <a:xfrm>
              <a:off x="3124080" y="2781360"/>
              <a:ext cx="21337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4"/>
            <p:cNvSpPr/>
            <p:nvPr/>
          </p:nvSpPr>
          <p:spPr>
            <a:xfrm>
              <a:off x="3368520" y="3213000"/>
              <a:ext cx="144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光滑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5"/>
          <p:cNvGrpSpPr/>
          <p:nvPr/>
        </p:nvGrpSpPr>
        <p:grpSpPr>
          <a:xfrm>
            <a:off x="1425600" y="907920"/>
            <a:ext cx="1562040" cy="1905120"/>
            <a:chOff x="1425600" y="907920"/>
            <a:chExt cx="1562040" cy="1905120"/>
          </a:xfrm>
        </p:grpSpPr>
        <p:pic>
          <p:nvPicPr>
            <p:cNvPr id="148" name="Object 8" descr=""/>
            <p:cNvPicPr/>
            <p:nvPr/>
          </p:nvPicPr>
          <p:blipFill>
            <a:blip r:embed="rId2"/>
            <a:stretch/>
          </p:blipFill>
          <p:spPr>
            <a:xfrm>
              <a:off x="1425600" y="907920"/>
              <a:ext cx="15620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/>
            <p:cNvSpPr/>
            <p:nvPr/>
          </p:nvSpPr>
          <p:spPr>
            <a:xfrm>
              <a:off x="1747440" y="126828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玻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2843280" y="857160"/>
            <a:ext cx="1676160" cy="1924200"/>
            <a:chOff x="2843280" y="857160"/>
            <a:chExt cx="1676160" cy="1924200"/>
          </a:xfrm>
        </p:grpSpPr>
        <p:pic>
          <p:nvPicPr>
            <p:cNvPr id="151" name="Object 7" descr=""/>
            <p:cNvPicPr/>
            <p:nvPr/>
          </p:nvPicPr>
          <p:blipFill>
            <a:blip r:embed="rId3"/>
            <a:stretch/>
          </p:blipFill>
          <p:spPr>
            <a:xfrm>
              <a:off x="2843280" y="857160"/>
              <a:ext cx="1676160" cy="19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/>
            <p:cNvSpPr/>
            <p:nvPr/>
          </p:nvSpPr>
          <p:spPr>
            <a:xfrm>
              <a:off x="3164760" y="136188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破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4343400" y="836640"/>
            <a:ext cx="1676520" cy="2133720"/>
            <a:chOff x="4343400" y="836640"/>
            <a:chExt cx="1676520" cy="2133720"/>
          </a:xfrm>
        </p:grpSpPr>
        <p:pic>
          <p:nvPicPr>
            <p:cNvPr id="154" name="Object 6" descr=""/>
            <p:cNvPicPr/>
            <p:nvPr/>
          </p:nvPicPr>
          <p:blipFill>
            <a:blip r:embed="rId4"/>
            <a:stretch/>
          </p:blipFill>
          <p:spPr>
            <a:xfrm>
              <a:off x="4343400" y="836640"/>
              <a:ext cx="16765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/>
            <p:cNvSpPr/>
            <p:nvPr/>
          </p:nvSpPr>
          <p:spPr>
            <a:xfrm>
              <a:off x="4892040" y="11970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道歉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4"/>
          <p:cNvSpPr/>
          <p:nvPr/>
        </p:nvSpPr>
        <p:spPr>
          <a:xfrm>
            <a:off x="6443640" y="12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6019920" y="836640"/>
            <a:ext cx="1190520" cy="1971720"/>
            <a:chOff x="6019920" y="836640"/>
            <a:chExt cx="1190520" cy="1971720"/>
          </a:xfrm>
        </p:grpSpPr>
        <p:pic>
          <p:nvPicPr>
            <p:cNvPr id="158" name="Object 5" descr=""/>
            <p:cNvPicPr/>
            <p:nvPr/>
          </p:nvPicPr>
          <p:blipFill>
            <a:blip r:embed="rId5"/>
            <a:stretch/>
          </p:blipFill>
          <p:spPr>
            <a:xfrm>
              <a:off x="6019920" y="836640"/>
              <a:ext cx="119052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7"/>
            <p:cNvSpPr/>
            <p:nvPr/>
          </p:nvSpPr>
          <p:spPr>
            <a:xfrm>
              <a:off x="6210000" y="1052640"/>
              <a:ext cx="54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攒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238560" y="3933720"/>
            <a:ext cx="2247840" cy="1181160"/>
            <a:chOff x="3238560" y="3933720"/>
            <a:chExt cx="2247840" cy="1181160"/>
          </a:xfrm>
        </p:grpSpPr>
        <p:pic>
          <p:nvPicPr>
            <p:cNvPr id="161" name="Object 4" descr=""/>
            <p:cNvPicPr/>
            <p:nvPr/>
          </p:nvPicPr>
          <p:blipFill>
            <a:blip r:embed="rId6"/>
            <a:stretch/>
          </p:blipFill>
          <p:spPr>
            <a:xfrm>
              <a:off x="3238560" y="3933720"/>
              <a:ext cx="2247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20"/>
            <p:cNvSpPr/>
            <p:nvPr/>
          </p:nvSpPr>
          <p:spPr>
            <a:xfrm>
              <a:off x="3741120" y="42210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信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5211720" y="2781360"/>
            <a:ext cx="1952640" cy="2305080"/>
            <a:chOff x="5211720" y="2781360"/>
            <a:chExt cx="1952640" cy="2305080"/>
          </a:xfrm>
        </p:grpSpPr>
        <p:pic>
          <p:nvPicPr>
            <p:cNvPr id="164" name="Object 3" descr=""/>
            <p:cNvPicPr/>
            <p:nvPr/>
          </p:nvPicPr>
          <p:blipFill>
            <a:blip r:embed="rId7"/>
            <a:stretch/>
          </p:blipFill>
          <p:spPr>
            <a:xfrm>
              <a:off x="5211720" y="2781360"/>
              <a:ext cx="195264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23"/>
            <p:cNvSpPr/>
            <p:nvPr/>
          </p:nvSpPr>
          <p:spPr>
            <a:xfrm>
              <a:off x="5684400" y="32130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信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4"/>
          <p:cNvGrpSpPr/>
          <p:nvPr/>
        </p:nvGrpSpPr>
        <p:grpSpPr>
          <a:xfrm>
            <a:off x="1428840" y="2781360"/>
            <a:ext cx="1847880" cy="2343240"/>
            <a:chOff x="1428840" y="2781360"/>
            <a:chExt cx="1847880" cy="2343240"/>
          </a:xfrm>
        </p:grpSpPr>
        <p:pic>
          <p:nvPicPr>
            <p:cNvPr id="167" name="Object 2" descr=""/>
            <p:cNvPicPr/>
            <p:nvPr/>
          </p:nvPicPr>
          <p:blipFill>
            <a:blip r:embed="rId8"/>
            <a:stretch/>
          </p:blipFill>
          <p:spPr>
            <a:xfrm>
              <a:off x="1428840" y="2781360"/>
              <a:ext cx="1847880" cy="23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26"/>
            <p:cNvSpPr/>
            <p:nvPr/>
          </p:nvSpPr>
          <p:spPr>
            <a:xfrm>
              <a:off x="1888920" y="3068640"/>
              <a:ext cx="54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276720" y="3068640"/>
            <a:ext cx="143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继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788000" y="3068640"/>
            <a:ext cx="143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续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03640" y="3068640"/>
          <a:ext cx="1522440" cy="1584360"/>
        </p:xfrm>
        <a:graphic>
          <a:graphicData uri="http://schemas.openxmlformats.org/drawingml/2006/table">
            <a:tbl>
              <a:tblPr/>
              <a:tblGrid>
                <a:gridCol w="720720"/>
                <a:gridCol w="801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716360" y="3068640"/>
          <a:ext cx="1522440" cy="1584360"/>
        </p:xfrm>
        <a:graphic>
          <a:graphicData uri="http://schemas.openxmlformats.org/drawingml/2006/table">
            <a:tbl>
              <a:tblPr/>
              <a:tblGrid>
                <a:gridCol w="720720"/>
                <a:gridCol w="801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067280" y="907920"/>
          <a:ext cx="1522440" cy="1584360"/>
        </p:xfrm>
        <a:graphic>
          <a:graphicData uri="http://schemas.openxmlformats.org/drawingml/2006/table">
            <a:tbl>
              <a:tblPr/>
              <a:tblGrid>
                <a:gridCol w="738360"/>
                <a:gridCol w="78408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44"/>
          <p:cNvSpPr/>
          <p:nvPr/>
        </p:nvSpPr>
        <p:spPr>
          <a:xfrm>
            <a:off x="4211640" y="907920"/>
            <a:ext cx="145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9:35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30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