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type.wav" ContentType="audio/x-wav"/>
  <Override PartName="/ppt/media/image4.jpeg" ContentType="image/jpeg"/>
  <Override PartName="/ppt/media/image5.gif" ContentType="image/gif"/>
  <Override PartName="/ppt/media/image6.gif" ContentType="image/gif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015-1F88-4412-9604-FD77CF2C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E83-7CED-46E3-9B6E-75831A63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1E7B0-D5F4-443E-BFF5-A30EA3B2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F7496-3DF7-4818-AD61-026B313E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9CE8E-FE85-4D34-87A7-D8998CD2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4EAF8-9539-45B5-B5B9-D3681AA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1D12F-65F3-4F73-ADB8-4B2A4D97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5A85E-3096-431C-A41C-4D1FCC4F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361D5-698C-4C95-9FB4-3A785DDA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C6197-E237-4C9E-91BA-FBD17116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E2B96-C4EB-4918-B1C7-BBCBE8AF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EB62F-98A9-4729-A5A4-D650DEAE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D66-10B3-4EBA-9148-F253991F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01CAA-D082-43A6-ADEF-DA0DDA3F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AEF42-4627-4BCA-9F99-2741864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0FC86-067C-452C-816A-96BC8624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93096-5C9F-4E76-AE0B-E5508CC9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AE709-EEDC-462F-86B7-AC4B9849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AC590-2762-4F78-8180-ECD580AE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87C24-BED9-439B-B88F-1D96D01F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83882-E8C1-4799-8841-0C0153C1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155CA-28FE-4D85-B21F-4A883BE0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0CDEA-8A66-4D04-AEFA-E2C77171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296-17E1-40EB-A07E-8723A6C8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D7F54-C428-4E73-80B3-793C8BD9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E52E4-BEB3-4E4A-854C-4CBC1AF7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9D66A-0745-4A60-930A-EF2FC67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53381-7F61-4C68-9540-E72B031C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E1288-2279-4BB2-9EA6-38BD8122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D5415-A459-45C1-B6A6-881FE590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A96C3-5716-457F-B5D2-5A9314AE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87216-78E7-41A2-9075-D0851F08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2C317-D099-4BF7-9B2C-003260B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EBE8B-000B-4891-9913-B101A018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F7B5-7856-4CC4-B9F1-D19948BA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5FDFE-4D1A-4660-81EE-F6A20788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CC7C6-EDE7-43CA-B3E8-BF3006F2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CE43E-D4C1-4A28-B9B7-ADBA9CCA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0581C-26C2-4C7B-BBBA-D4E0D3C1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4DC86-AD78-4048-82AB-0044ABAF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17E93-198D-4577-883A-07215FBE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B19A7-F38C-4E02-9B4F-91F989F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3A117-3711-446A-BB44-C49CB8FA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F6AF7-85D4-4BB8-9A95-247F2889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D9742-0FE8-4DF0-993B-0817BB0C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7EC8-8A61-4EFB-823B-B6389675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47454-930B-4E2C-A7D2-57B01B0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AF12B-A808-4AA6-B641-5BE94CE9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19BA1-C07E-45BA-8232-215776D3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070F7-4B28-474A-8C47-7FCD40DF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C7B93-FABB-4674-9587-87A188C9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E22F1-641A-4F62-9327-F67F1D42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330E3-EC82-4B3E-B08F-E78CE4AB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3FD6E-EE89-46CA-B583-6E4B10A8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7E547-D778-4DAD-957E-17598DF2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39503-5B6A-44DD-A6B1-82949427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BD08-633C-4729-B8DA-CFF0C78D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EB582-93D6-4837-90D7-0F8BDF68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FE63D-D57D-4F08-AF0B-F1AE7D06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9F524-2145-4AD7-AF61-91A906D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C74F2-42A4-4833-8364-698C764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AB49E-2A39-445B-8DB7-32014698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565EE-3AB4-464C-B292-18A0CF68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798EC-237F-426E-A4B8-BD1F3016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CF51-098E-4769-BFE2-CFFC4195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401B-4042-432C-8C94-F64FDB9B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4087-1E75-4B5E-9DA8-235812EF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8D9D-9900-4238-B6C8-A89ED88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755-C766-40A7-94EE-89D9E956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B6E1-BEED-4CF1-9108-FC52D1E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DE0A-B29E-462B-A9B8-5DAA528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5054-BE74-43BA-9641-748E8FF9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BAC3-751A-4A0E-A951-0D2BF8B6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55ED-07C7-4E5A-9A99-C454088A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9341-F8DE-4A60-87E5-4C47AC61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06E6-4FF9-41F1-9B64-55144AF1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C29E-60AC-4D1A-A389-19482A5F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88E5-F828-4E8B-BC9D-2BA18489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DAF4-0EA4-434B-9259-D45E836E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527-6A71-4297-BE36-638B016A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18C3-8DD8-417A-878C-E119BE4B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2925-BBA0-4971-83C1-6C347D38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031C-38EC-4EB8-BCF9-F340992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645E-A3BB-4895-A0BC-FA76D725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87DE-8D05-4583-9D40-6EDD2024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ED419-E3F5-4E08-AC52-61C1D5A4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32DD-432E-4FD4-92AC-2A390213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8511-88E5-484D-BEBC-A510DA8F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6FD7-DE86-4FE2-9F91-71A40928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5928-0E61-4C6F-BA83-EB470664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1E3-7E11-4D94-B452-82FFC622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B2CD4-1825-475D-8009-FA80F810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1A392-3E48-4328-B793-6D563C8D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ADB33-9F79-4EAD-87FC-7464DC11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9F5E-5B26-4F37-9035-07D2C4B8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C7C0A-2FC7-4FE7-8942-0FA2D5C4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A219-AEAB-4C71-B7E8-59C163E9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5674-B9F5-4574-AF57-558C3BC6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338F-8EEC-4AFF-BDDA-9B611DAC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25F5-C12E-475B-8213-89285425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12557-B308-48CC-A006-83F3ECA8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5235-EA95-4758-8DC2-E3A6155B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0072D-98D4-45F4-A4AB-87CA8FA7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F98B7-1688-4664-9FE1-79175BE5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3011-9FD2-422A-8939-CB3C86A7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AB4F-1449-4CE7-B911-EC251D99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463A-C5B7-4E81-B5FC-9EBD9D62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95C3-18E0-40C8-BF27-B171390E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9EBC8-DB2F-469F-91BB-A8AB5DA6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DA15-78B6-4E40-8E89-F215482D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C9E6-89C7-48BA-A622-2F22E024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4EB38-08A7-49B6-B216-28199EFA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301-41F8-4463-9D86-D1DAAC97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D03D-0C71-42A0-82E6-06CA9F39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09F1-FE5C-4108-92DC-C6C12EED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D94BE-0541-4550-8BDE-BC00F462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0289F-6299-4B61-BD7A-F8AF83C6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1E956-41A7-4FA1-ABB7-DCF90AEA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BA51F-3A80-4135-8891-E9BD3A95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7163A-4F09-4915-9EA0-46D2B84F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671B3-8860-4168-9832-4883B02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47369-5BDF-4F73-A3A7-0760431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B5234-BB58-42CF-862B-BEF56E6F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EF9-C6C8-4867-92B3-7AA4DB4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81B04-2074-4158-9752-08384BB5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6D87B-A106-49C6-B985-8D2AD9ED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69BC-CEFD-40AC-AC97-2AD5B95D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94632-F294-49CC-B331-670D1018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8B9CA-1E53-4188-B39C-F609E589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0E719-078A-4C6C-8F42-549ED427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AE3A1-0AEB-46AA-A1F2-7E14C76C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E2F31-25A8-4A7F-8DDD-912510FE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D4DA9-5DE2-4562-AD87-B3A8BD7C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FC09D-A76B-4B3F-BB70-646B58CA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A65-26C1-4505-9E92-ED8C8E77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26F45-C149-4F95-A9C3-E42B0AF4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561D3-B86F-4D9B-89AF-1E661961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1E1F-DA9D-4477-9587-B320CF4D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DCF61-CC6C-4A66-9A6F-2AACA6DE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AB6BB-FF3D-4B27-81E4-96B2D601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89485-79D4-4F62-AF9D-450BC90E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84E9D-370E-43C5-B643-AC5CC956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FDC44-A655-4AE3-94AA-B0AD1814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306F0-5AFA-4ABD-97DF-A824F097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A9EA6-1512-45BD-8F2A-832A7B0B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C17-CD01-4781-80F0-166BC2DB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6D4A4-F91F-4A58-AB0C-2EDBA3C7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221E0-78E8-4810-851F-E291C4F2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7260B-59A9-4B8C-A1E0-57F13931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1C1E5-2D5D-46D0-8D24-420AABAA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B6A92-FA1E-48C5-95EB-B4EBFCAF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403DA-BDD5-41C6-B2A9-CA312FC0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9CFE4-D5BE-4D8F-9B1F-493D0826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1CD26-B1CD-45DA-9115-0C88479B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9570C-BC5B-45D6-8A20-5C965611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9A402-9895-4123-BFFD-7583E24A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479A-DEA3-4E85-B27E-424289424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3"/>
          <a:stretch/>
        </p:blipFill>
        <p:spPr>
          <a:xfrm>
            <a:off x="0" y="5940360"/>
            <a:ext cx="1908000" cy="91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185F-213E-432A-89F4-6C09A1402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7696-4F18-480F-9167-9122688E4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C14E-1722-4991-9716-BF85F42B5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07CE-B5C9-449D-9959-8F253E8C6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9D16-7095-4419-9B84-18C527EDDD7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0A3-7B3E-4BEF-AB08-F30691C5B5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243A-DFEB-464F-AD81-29B983FEF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0D2B-CB8C-43AB-B90C-6B4A6EA03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6A9A-1A8B-4ADF-AADA-CB4DD91F9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FB9F-B211-4664-AC22-B1C163D29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0B78-A6D7-474D-B254-BBEF9B43F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E09F-B536-4447-A560-31A2A1501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5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1CDC-82E2-47B0-824C-AF450BE41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2"/>
          <p:cNvSpPr txBox="1"/>
          <p:nvPr/>
        </p:nvSpPr>
        <p:spPr>
          <a:xfrm>
            <a:off x="1333440" y="1989000"/>
            <a:ext cx="6340680" cy="1025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30000"/>
              </a:lnSpc>
              <a:spcBef>
                <a:spcPts val="5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66cc">
                    <a:alpha val="86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亡羊补牢语文</a:t>
            </a:r>
            <a:r>
              <a:rPr b="1" lang="en-US" sz="4000" spc="-1" strike="noStrike">
                <a:ln w="0">
                  <a:noFill/>
                </a:ln>
                <a:solidFill>
                  <a:srgbClr val="0066cc">
                    <a:alpha val="86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66cc">
                    <a:alpha val="86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课件下载</a:t>
            </a:r>
            <a:endParaRPr b="1" lang="en-US" sz="4000" spc="-1" strike="noStrike">
              <a:ln w="0">
                <a:noFill/>
              </a:ln>
              <a:solidFill>
                <a:srgbClr val="0066cc">
                  <a:alpha val="86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</a:endParaRPr>
          </a:p>
        </p:txBody>
      </p:sp>
      <p:sp>
        <p:nvSpPr>
          <p:cNvPr id="535" name="文本框 6155"/>
          <p:cNvSpPr/>
          <p:nvPr/>
        </p:nvSpPr>
        <p:spPr>
          <a:xfrm>
            <a:off x="34920" y="6453360"/>
            <a:ext cx="50785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3366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1403280" y="12675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哪几个自然段是讲丢羊的？哪 几个自然段是讲补牢的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1403280" y="24915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羊人为什么丢了羊？丢了几次羊？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1332000" y="3067200"/>
            <a:ext cx="7993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次丢了羊之后，养羊人是怎么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的？怎么做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怎样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1403280" y="4435560"/>
            <a:ext cx="8317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丢了羊之后，养羊人又是怎么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的？怎么做的？结果怎样？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95280" y="5516640"/>
            <a:ext cx="504720" cy="360"/>
            <a:chOff x="395280" y="5516640"/>
            <a:chExt cx="504720" cy="360"/>
          </a:xfrm>
        </p:grpSpPr>
        <p:sp>
          <p:nvSpPr>
            <p:cNvPr id="612" name="Line 6"/>
            <p:cNvSpPr/>
            <p:nvPr/>
          </p:nvSpPr>
          <p:spPr>
            <a:xfrm>
              <a:off x="395280" y="5516640"/>
              <a:ext cx="504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395280" y="551664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627280" y="3068640"/>
            <a:ext cx="1008000" cy="360"/>
            <a:chOff x="2627280" y="3068640"/>
            <a:chExt cx="1008000" cy="360"/>
          </a:xfrm>
        </p:grpSpPr>
        <p:sp>
          <p:nvSpPr>
            <p:cNvPr id="615" name="Line 7"/>
            <p:cNvSpPr/>
            <p:nvPr/>
          </p:nvSpPr>
          <p:spPr>
            <a:xfrm>
              <a:off x="2627280" y="3068640"/>
              <a:ext cx="1008000" cy="0"/>
            </a:xfrm>
            <a:prstGeom prst="line">
              <a:avLst/>
            </a:prstGeom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2627280" y="306864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403280" y="3789360"/>
            <a:ext cx="1008000" cy="360"/>
            <a:chOff x="1403280" y="3789360"/>
            <a:chExt cx="1008000" cy="360"/>
          </a:xfrm>
        </p:grpSpPr>
        <p:sp>
          <p:nvSpPr>
            <p:cNvPr id="618" name="Line 8"/>
            <p:cNvSpPr/>
            <p:nvPr/>
          </p:nvSpPr>
          <p:spPr>
            <a:xfrm>
              <a:off x="1403280" y="3789360"/>
              <a:ext cx="1008000" cy="0"/>
            </a:xfrm>
            <a:prstGeom prst="line">
              <a:avLst/>
            </a:prstGeom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1403280" y="378936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619280" y="5084640"/>
            <a:ext cx="720720" cy="360"/>
            <a:chOff x="1619280" y="5084640"/>
            <a:chExt cx="720720" cy="360"/>
          </a:xfrm>
        </p:grpSpPr>
        <p:sp>
          <p:nvSpPr>
            <p:cNvPr id="621" name="Line 9"/>
            <p:cNvSpPr/>
            <p:nvPr/>
          </p:nvSpPr>
          <p:spPr>
            <a:xfrm>
              <a:off x="1619280" y="5084640"/>
              <a:ext cx="7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1619280" y="508464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403280" y="5157720"/>
            <a:ext cx="1152720" cy="360"/>
            <a:chOff x="1403280" y="5157720"/>
            <a:chExt cx="1152720" cy="360"/>
          </a:xfrm>
        </p:grpSpPr>
        <p:sp>
          <p:nvSpPr>
            <p:cNvPr id="624" name="Line 10"/>
            <p:cNvSpPr/>
            <p:nvPr/>
          </p:nvSpPr>
          <p:spPr>
            <a:xfrm>
              <a:off x="1403280" y="5157720"/>
              <a:ext cx="1152720" cy="0"/>
            </a:xfrm>
            <a:prstGeom prst="line">
              <a:avLst/>
            </a:prstGeom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1403280" y="515772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26" name="Group 11"/>
          <p:cNvGrpSpPr/>
          <p:nvPr/>
        </p:nvGrpSpPr>
        <p:grpSpPr>
          <a:xfrm>
            <a:off x="-595440" y="-531720"/>
            <a:ext cx="3166200" cy="2566440"/>
            <a:chOff x="-595440" y="-531720"/>
            <a:chExt cx="3166200" cy="2566440"/>
          </a:xfrm>
        </p:grpSpPr>
        <p:sp>
          <p:nvSpPr>
            <p:cNvPr id="627" name="Cloud"/>
            <p:cNvSpPr/>
            <p:nvPr/>
          </p:nvSpPr>
          <p:spPr>
            <a:xfrm flipV="1" rot="19990200">
              <a:off x="-397080" y="0"/>
              <a:ext cx="2663640" cy="151452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8" name="Text Box 13"/>
            <p:cNvSpPr/>
            <p:nvPr/>
          </p:nvSpPr>
          <p:spPr>
            <a:xfrm rot="19664400">
              <a:off x="-108720" y="115920"/>
              <a:ext cx="266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6600ff"/>
                  </a:solidFill>
                  <a:latin typeface="隶书"/>
                  <a:ea typeface="隶书"/>
                </a:rPr>
                <a:t>精 读</a:t>
              </a:r>
              <a:endParaRPr b="1" lang="en-US" sz="4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4"/>
          <p:cNvSpPr/>
          <p:nvPr/>
        </p:nvSpPr>
        <p:spPr>
          <a:xfrm>
            <a:off x="1042920" y="1773360"/>
            <a:ext cx="6913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684360" y="2394000"/>
            <a:ext cx="7781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他说：“羊已经丢了，还修羊圈干什么呢？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4"/>
          <p:cNvSpPr/>
          <p:nvPr/>
        </p:nvSpPr>
        <p:spPr>
          <a:xfrm>
            <a:off x="468360" y="549360"/>
            <a:ext cx="78976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5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街坊劝他说：“赶快把羊圈修一修，堵上那 个窟窿吧。”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5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他说：“羊已经丢了，还修羊圈干什么呢？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5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403280" y="12675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哪几个自然段是讲丢羊的？哪 几个自然段是讲补牢的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403280" y="24915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羊人为什么丢了羊？丢了几次羊？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1332000" y="3067200"/>
            <a:ext cx="7993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次丢了羊之后，养羊人是怎么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的？怎么做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怎样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403280" y="4435560"/>
            <a:ext cx="8317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丢了羊之后，养羊人又是怎么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的？怎么做的？结果怎样？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95280" y="5516640"/>
            <a:ext cx="504720" cy="360"/>
            <a:chOff x="395280" y="5516640"/>
            <a:chExt cx="504720" cy="360"/>
          </a:xfrm>
        </p:grpSpPr>
        <p:sp>
          <p:nvSpPr>
            <p:cNvPr id="637" name="Line 6"/>
            <p:cNvSpPr/>
            <p:nvPr/>
          </p:nvSpPr>
          <p:spPr>
            <a:xfrm>
              <a:off x="395280" y="5516640"/>
              <a:ext cx="504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395280" y="551664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627280" y="3068640"/>
            <a:ext cx="1008000" cy="360"/>
            <a:chOff x="2627280" y="3068640"/>
            <a:chExt cx="1008000" cy="360"/>
          </a:xfrm>
        </p:grpSpPr>
        <p:sp>
          <p:nvSpPr>
            <p:cNvPr id="640" name="Line 7"/>
            <p:cNvSpPr/>
            <p:nvPr/>
          </p:nvSpPr>
          <p:spPr>
            <a:xfrm>
              <a:off x="2627280" y="3068640"/>
              <a:ext cx="1008000" cy="0"/>
            </a:xfrm>
            <a:prstGeom prst="line">
              <a:avLst/>
            </a:prstGeom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2627280" y="306864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1403280" y="3789360"/>
            <a:ext cx="1008000" cy="360"/>
            <a:chOff x="1403280" y="3789360"/>
            <a:chExt cx="1008000" cy="360"/>
          </a:xfrm>
        </p:grpSpPr>
        <p:sp>
          <p:nvSpPr>
            <p:cNvPr id="643" name="Line 8"/>
            <p:cNvSpPr/>
            <p:nvPr/>
          </p:nvSpPr>
          <p:spPr>
            <a:xfrm>
              <a:off x="1403280" y="3789360"/>
              <a:ext cx="1008000" cy="0"/>
            </a:xfrm>
            <a:prstGeom prst="line">
              <a:avLst/>
            </a:prstGeom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1403280" y="378936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1619280" y="5084640"/>
            <a:ext cx="720720" cy="360"/>
            <a:chOff x="1619280" y="5084640"/>
            <a:chExt cx="720720" cy="360"/>
          </a:xfrm>
        </p:grpSpPr>
        <p:sp>
          <p:nvSpPr>
            <p:cNvPr id="646" name="Line 9"/>
            <p:cNvSpPr/>
            <p:nvPr/>
          </p:nvSpPr>
          <p:spPr>
            <a:xfrm>
              <a:off x="1619280" y="5084640"/>
              <a:ext cx="7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1619280" y="508464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403280" y="5157720"/>
            <a:ext cx="1152720" cy="360"/>
            <a:chOff x="1403280" y="5157720"/>
            <a:chExt cx="1152720" cy="360"/>
          </a:xfrm>
        </p:grpSpPr>
        <p:sp>
          <p:nvSpPr>
            <p:cNvPr id="649" name="Line 10"/>
            <p:cNvSpPr/>
            <p:nvPr/>
          </p:nvSpPr>
          <p:spPr>
            <a:xfrm>
              <a:off x="1403280" y="5157720"/>
              <a:ext cx="1152720" cy="0"/>
            </a:xfrm>
            <a:prstGeom prst="line">
              <a:avLst/>
            </a:prstGeom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1403280" y="515772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51" name="Group 11"/>
          <p:cNvGrpSpPr/>
          <p:nvPr/>
        </p:nvGrpSpPr>
        <p:grpSpPr>
          <a:xfrm>
            <a:off x="-595440" y="-531720"/>
            <a:ext cx="3166200" cy="2566440"/>
            <a:chOff x="-595440" y="-531720"/>
            <a:chExt cx="3166200" cy="2566440"/>
          </a:xfrm>
        </p:grpSpPr>
        <p:sp>
          <p:nvSpPr>
            <p:cNvPr id="652" name="Cloud"/>
            <p:cNvSpPr/>
            <p:nvPr/>
          </p:nvSpPr>
          <p:spPr>
            <a:xfrm flipV="1" rot="19990200">
              <a:off x="-397080" y="0"/>
              <a:ext cx="2663640" cy="151452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3" name="Text Box 13"/>
            <p:cNvSpPr/>
            <p:nvPr/>
          </p:nvSpPr>
          <p:spPr>
            <a:xfrm rot="19664400">
              <a:off x="-108720" y="115920"/>
              <a:ext cx="266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6600ff"/>
                  </a:solidFill>
                  <a:latin typeface="隶书"/>
                  <a:ea typeface="隶书"/>
                </a:rPr>
                <a:t>精 读</a:t>
              </a:r>
              <a:endParaRPr b="1" lang="en-US" sz="4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1692360" y="2349360"/>
            <a:ext cx="55436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611280" y="836640"/>
            <a:ext cx="7632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他很后悔，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不该不接受街坊的劝告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，心想，现在修还不晚。他赶快堵上那个窟窿，把羊圈修得结结实实的。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从此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，他的羊再也没丢过。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12421725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84720" y="333360"/>
            <a:ext cx="2411640" cy="19890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3"/>
          <p:cNvSpPr/>
          <p:nvPr/>
        </p:nvSpPr>
        <p:spPr>
          <a:xfrm>
            <a:off x="324000" y="836640"/>
            <a:ext cx="845964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对养羊人说：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AutoShape 4"/>
          <p:cNvSpPr/>
          <p:nvPr/>
        </p:nvSpPr>
        <p:spPr>
          <a:xfrm>
            <a:off x="7308720" y="6086520"/>
            <a:ext cx="1008360" cy="661680"/>
          </a:xfrm>
          <a:prstGeom prst="leftArrow">
            <a:avLst>
              <a:gd name="adj1" fmla="val 50000"/>
              <a:gd name="adj2" fmla="val 38084"/>
            </a:avLst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99"/>
                </a:solidFill>
                <a:latin typeface="Times New Roman"/>
              </a:rPr>
              <a:t>再看一遍</a:t>
            </a:r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文本框 8200"/>
          <p:cNvSpPr/>
          <p:nvPr/>
        </p:nvSpPr>
        <p:spPr>
          <a:xfrm>
            <a:off x="611280" y="5373720"/>
            <a:ext cx="44193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3"/>
          <p:cNvSpPr/>
          <p:nvPr/>
        </p:nvSpPr>
        <p:spPr>
          <a:xfrm>
            <a:off x="142920" y="115920"/>
            <a:ext cx="9001080" cy="1068840"/>
          </a:xfrm>
          <a:prstGeom prst="rect">
            <a:avLst/>
          </a:prstGeom>
          <a:solidFill>
            <a:srgbClr val="ccecff"/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仿宋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亡羊补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则故事告诉我们：像养羊人这样做了错事，并不要紧，只要能及时改正，就不算晚。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62" name="Picture 4" descr="dh099"/>
          <p:cNvPicPr/>
          <p:nvPr/>
        </p:nvPicPr>
        <p:blipFill>
          <a:blip r:embed="rId2"/>
          <a:stretch/>
        </p:blipFill>
        <p:spPr>
          <a:xfrm>
            <a:off x="7956720" y="6165720"/>
            <a:ext cx="93636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5"/>
          <p:cNvSpPr/>
          <p:nvPr/>
        </p:nvSpPr>
        <p:spPr>
          <a:xfrm>
            <a:off x="539640" y="1125360"/>
            <a:ext cx="770436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</a:rPr>
              <a:t>在日常生活中，还有类似“亡羊补牢”的事吗？可以是自己身上发生的，也可以是发生在别人身上的。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A4C9-6B61-412E-B458-EE2FA87BBB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826920" y="2565360"/>
            <a:ext cx="64090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1258920" y="692280"/>
            <a:ext cx="64800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亡羊补牢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犹未迟也。 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亡羊补牢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未为迟也。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亡羊补牢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为时不晚。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——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003366"/>
                </a:solidFill>
                <a:latin typeface="Times New Roman"/>
              </a:rPr>
              <a:t>战国策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》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4716360" y="5734080"/>
            <a:ext cx="360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250920" y="476280"/>
            <a:ext cx="3924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什么是寓言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?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250920" y="2421000"/>
            <a:ext cx="849780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寓言是一种文学形式，通常以一个生动的故事告诉人们一个深刻的道理。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9" name="Picture 5" descr="图片2"/>
          <p:cNvPicPr/>
          <p:nvPr/>
        </p:nvPicPr>
        <p:blipFill>
          <a:blip r:embed="rId1"/>
          <a:stretch/>
        </p:blipFill>
        <p:spPr>
          <a:xfrm rot="1293600">
            <a:off x="6408720" y="453960"/>
            <a:ext cx="17017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7772400" cy="48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自相矛盾   刻舟求剑     画龙点睛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画蛇添足   掩耳盗铃     塞翁失马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揠苗助长   守株待兔     滥竽充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              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WordArt 2"/>
          <p:cNvSpPr txBox="1"/>
          <p:nvPr/>
        </p:nvSpPr>
        <p:spPr>
          <a:xfrm>
            <a:off x="1908000" y="2205000"/>
            <a:ext cx="6121440" cy="1454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30000"/>
              </a:lnSpc>
              <a:spcBef>
                <a:spcPts val="5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0066cc">
                    <a:alpha val="86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亡羊补牢</a:t>
            </a:r>
            <a:endParaRPr b="1" lang="en-US" sz="9600" spc="-1" strike="noStrike">
              <a:ln w="0">
                <a:noFill/>
              </a:ln>
              <a:solidFill>
                <a:srgbClr val="0066cc">
                  <a:alpha val="86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42" name="Text Box 3"/>
          <p:cNvSpPr/>
          <p:nvPr/>
        </p:nvSpPr>
        <p:spPr>
          <a:xfrm flipH="1">
            <a:off x="339120" y="836640"/>
            <a:ext cx="183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846c9"/>
                </a:solidFill>
                <a:latin typeface="Times New Roman"/>
                <a:ea typeface="宋体"/>
              </a:rPr>
              <a:t>人教版语文三年级下册第三单元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 flipH="1" flipV="1">
            <a:off x="1709640" y="4731120"/>
            <a:ext cx="184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3"/>
          <p:cNvGrpSpPr/>
          <p:nvPr/>
        </p:nvGrpSpPr>
        <p:grpSpPr>
          <a:xfrm>
            <a:off x="-241920" y="-439560"/>
            <a:ext cx="3405600" cy="2813760"/>
            <a:chOff x="-241920" y="-439560"/>
            <a:chExt cx="3405600" cy="2813760"/>
          </a:xfrm>
        </p:grpSpPr>
        <p:sp>
          <p:nvSpPr>
            <p:cNvPr id="545" name="Cloud"/>
            <p:cNvSpPr/>
            <p:nvPr/>
          </p:nvSpPr>
          <p:spPr>
            <a:xfrm flipV="1" rot="9592800">
              <a:off x="360" y="3600"/>
              <a:ext cx="2921040" cy="192672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99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Text Box 5"/>
            <p:cNvSpPr/>
            <p:nvPr/>
          </p:nvSpPr>
          <p:spPr>
            <a:xfrm rot="20608200">
              <a:off x="217080" y="477000"/>
              <a:ext cx="279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3366"/>
                  </a:solidFill>
                  <a:latin typeface="Times New Roman"/>
                  <a:ea typeface="楷体_GB2312"/>
                </a:rPr>
                <a:t>学习方法</a:t>
              </a:r>
              <a:endParaRPr b="1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7" name="Text Box 6"/>
          <p:cNvSpPr/>
          <p:nvPr/>
        </p:nvSpPr>
        <p:spPr>
          <a:xfrm>
            <a:off x="684360" y="21621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读懂故事。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684360" y="30970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体会寓意。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684360" y="410688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联系实际谈谈感想。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144360" y="-324000"/>
            <a:ext cx="3766320" cy="2999880"/>
            <a:chOff x="144360" y="-324000"/>
            <a:chExt cx="3766320" cy="2999880"/>
          </a:xfrm>
        </p:grpSpPr>
        <p:sp>
          <p:nvSpPr>
            <p:cNvPr id="551" name="Cloud"/>
            <p:cNvSpPr/>
            <p:nvPr/>
          </p:nvSpPr>
          <p:spPr>
            <a:xfrm flipV="1" rot="19990200">
              <a:off x="394920" y="259200"/>
              <a:ext cx="3024360" cy="183204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Text Box 4"/>
            <p:cNvSpPr/>
            <p:nvPr/>
          </p:nvSpPr>
          <p:spPr>
            <a:xfrm rot="19900800">
              <a:off x="827280" y="404280"/>
              <a:ext cx="304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3399ff"/>
                  </a:solidFill>
                  <a:latin typeface="隶书"/>
                  <a:ea typeface="隶书"/>
                </a:rPr>
                <a:t>通 读</a:t>
              </a:r>
              <a:endParaRPr b="1" lang="en-US" sz="5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0" y="2349360"/>
            <a:ext cx="8820000" cy="37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借助拼音把课文读通顺，勾画生字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标出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然段序号。   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——”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出自己读不懂的地方。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边读边想，课文主要讲了一件什么事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d60093"/>
                </a:solidFill>
                <a:uFillTx/>
                <a:latin typeface="Times New Roman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3964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寓言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劝告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叼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走     后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2771640" y="765000"/>
            <a:ext cx="31561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ū long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窟  窿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5580000" y="692280"/>
            <a:ext cx="302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jiē  fang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街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坊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042920" y="465300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圈</a:t>
            </a:r>
            <a:endParaRPr b="1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3132000" y="4005360"/>
            <a:ext cx="3959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quān    juàn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圆圈     羊圈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1403280" y="12675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哪几个自然段是讲丢羊的？哪 几个自然段是讲补牢的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403280" y="24915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养羊人为什么丢了羊？丢了几次羊？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332000" y="3067200"/>
            <a:ext cx="7993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次丢了羊之后，养羊人是怎么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的？怎么做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怎样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1403280" y="4435560"/>
            <a:ext cx="8317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丢了羊之后，养羊人又是怎么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的？怎么做的？结果怎样？ 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95280" y="5516640"/>
            <a:ext cx="504720" cy="360"/>
            <a:chOff x="395280" y="5516640"/>
            <a:chExt cx="504720" cy="360"/>
          </a:xfrm>
        </p:grpSpPr>
        <p:sp>
          <p:nvSpPr>
            <p:cNvPr id="565" name="Line 6"/>
            <p:cNvSpPr/>
            <p:nvPr/>
          </p:nvSpPr>
          <p:spPr>
            <a:xfrm>
              <a:off x="395280" y="5516640"/>
              <a:ext cx="504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395280" y="551664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627280" y="3068640"/>
            <a:ext cx="1008000" cy="360"/>
            <a:chOff x="2627280" y="3068640"/>
            <a:chExt cx="1008000" cy="360"/>
          </a:xfrm>
        </p:grpSpPr>
        <p:sp>
          <p:nvSpPr>
            <p:cNvPr id="568" name="Line 7"/>
            <p:cNvSpPr/>
            <p:nvPr/>
          </p:nvSpPr>
          <p:spPr>
            <a:xfrm>
              <a:off x="2627280" y="3068640"/>
              <a:ext cx="1008000" cy="0"/>
            </a:xfrm>
            <a:prstGeom prst="line">
              <a:avLst/>
            </a:prstGeom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2627280" y="306864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403280" y="3789360"/>
            <a:ext cx="1008000" cy="360"/>
            <a:chOff x="1403280" y="3789360"/>
            <a:chExt cx="1008000" cy="360"/>
          </a:xfrm>
        </p:grpSpPr>
        <p:sp>
          <p:nvSpPr>
            <p:cNvPr id="571" name="Line 8"/>
            <p:cNvSpPr/>
            <p:nvPr/>
          </p:nvSpPr>
          <p:spPr>
            <a:xfrm>
              <a:off x="1403280" y="3789360"/>
              <a:ext cx="1008000" cy="0"/>
            </a:xfrm>
            <a:prstGeom prst="line">
              <a:avLst/>
            </a:prstGeom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1403280" y="378936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619280" y="5084640"/>
            <a:ext cx="720720" cy="360"/>
            <a:chOff x="1619280" y="5084640"/>
            <a:chExt cx="720720" cy="360"/>
          </a:xfrm>
        </p:grpSpPr>
        <p:sp>
          <p:nvSpPr>
            <p:cNvPr id="574" name="Line 9"/>
            <p:cNvSpPr/>
            <p:nvPr/>
          </p:nvSpPr>
          <p:spPr>
            <a:xfrm>
              <a:off x="1619280" y="5084640"/>
              <a:ext cx="720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1619280" y="5084640"/>
              <a:ext cx="72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403280" y="5157720"/>
            <a:ext cx="1152720" cy="360"/>
            <a:chOff x="1403280" y="5157720"/>
            <a:chExt cx="1152720" cy="360"/>
          </a:xfrm>
        </p:grpSpPr>
        <p:sp>
          <p:nvSpPr>
            <p:cNvPr id="577" name="Line 10"/>
            <p:cNvSpPr/>
            <p:nvPr/>
          </p:nvSpPr>
          <p:spPr>
            <a:xfrm>
              <a:off x="1403280" y="5157720"/>
              <a:ext cx="1152720" cy="0"/>
            </a:xfrm>
            <a:prstGeom prst="line">
              <a:avLst/>
            </a:prstGeom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1403280" y="515772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9" name="Group 11"/>
          <p:cNvGrpSpPr/>
          <p:nvPr/>
        </p:nvGrpSpPr>
        <p:grpSpPr>
          <a:xfrm>
            <a:off x="-595440" y="-531720"/>
            <a:ext cx="3166200" cy="2566440"/>
            <a:chOff x="-595440" y="-531720"/>
            <a:chExt cx="3166200" cy="2566440"/>
          </a:xfrm>
        </p:grpSpPr>
        <p:sp>
          <p:nvSpPr>
            <p:cNvPr id="580" name="Cloud"/>
            <p:cNvSpPr/>
            <p:nvPr/>
          </p:nvSpPr>
          <p:spPr>
            <a:xfrm flipV="1" rot="19990200">
              <a:off x="-397080" y="0"/>
              <a:ext cx="2663640" cy="1514520"/>
            </a:xfrm>
            <a:custGeom>
              <a:avLst/>
              <a:gdLst/>
              <a:ahLst/>
              <a:rect l="l" t="t" r="r" b="b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 rot="19664400">
              <a:off x="-108720" y="115920"/>
              <a:ext cx="266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6600ff"/>
                  </a:solidFill>
                  <a:latin typeface="隶书"/>
                  <a:ea typeface="隶书"/>
                </a:rPr>
                <a:t>精 读</a:t>
              </a:r>
              <a:endParaRPr b="1" lang="en-US" sz="4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82" name="文本框 8200"/>
          <p:cNvSpPr/>
          <p:nvPr/>
        </p:nvSpPr>
        <p:spPr>
          <a:xfrm>
            <a:off x="826920" y="6021360"/>
            <a:ext cx="44197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图片1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1116000" y="134136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755640" y="404640"/>
            <a:ext cx="7345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羊圈破了个窟窿，夜里狼从窟窿里钻进去，把羊叼走了，    养羊人丢了羊。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5580000" y="10515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所以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1403280" y="47520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因为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700360" y="981000"/>
            <a:ext cx="5040360" cy="360"/>
            <a:chOff x="2700360" y="981000"/>
            <a:chExt cx="5040360" cy="360"/>
          </a:xfrm>
        </p:grpSpPr>
        <p:sp>
          <p:nvSpPr>
            <p:cNvPr id="589" name="Line 7"/>
            <p:cNvSpPr/>
            <p:nvPr/>
          </p:nvSpPr>
          <p:spPr>
            <a:xfrm>
              <a:off x="2700360" y="981000"/>
              <a:ext cx="504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2700360" y="981000"/>
              <a:ext cx="50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900000" y="1628640"/>
            <a:ext cx="4535640" cy="360"/>
            <a:chOff x="900000" y="1628640"/>
            <a:chExt cx="4535640" cy="360"/>
          </a:xfrm>
        </p:grpSpPr>
        <p:sp>
          <p:nvSpPr>
            <p:cNvPr id="592" name="Line 8"/>
            <p:cNvSpPr/>
            <p:nvPr/>
          </p:nvSpPr>
          <p:spPr>
            <a:xfrm>
              <a:off x="900000" y="1628640"/>
              <a:ext cx="4535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900000" y="1628640"/>
              <a:ext cx="453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659640" y="1557360"/>
            <a:ext cx="360" cy="360"/>
            <a:chOff x="6659640" y="1557360"/>
            <a:chExt cx="360" cy="360"/>
          </a:xfrm>
        </p:grpSpPr>
        <p:sp>
          <p:nvSpPr>
            <p:cNvPr id="595" name="Line 9"/>
            <p:cNvSpPr/>
            <p:nvPr/>
          </p:nvSpPr>
          <p:spPr>
            <a:xfrm>
              <a:off x="6659640" y="155736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6659640" y="1557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27280" y="1052640"/>
            <a:ext cx="4969080" cy="360"/>
            <a:chOff x="2627280" y="1052640"/>
            <a:chExt cx="4969080" cy="360"/>
          </a:xfrm>
        </p:grpSpPr>
        <p:sp>
          <p:nvSpPr>
            <p:cNvPr id="598" name="Line 10"/>
            <p:cNvSpPr/>
            <p:nvPr/>
          </p:nvSpPr>
          <p:spPr>
            <a:xfrm>
              <a:off x="2627280" y="1052640"/>
              <a:ext cx="4969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2627280" y="1052640"/>
              <a:ext cx="496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732720" y="1628640"/>
            <a:ext cx="1079280" cy="360"/>
            <a:chOff x="6732720" y="1628640"/>
            <a:chExt cx="1079280" cy="360"/>
          </a:xfrm>
        </p:grpSpPr>
        <p:sp>
          <p:nvSpPr>
            <p:cNvPr id="601" name="Line 11"/>
            <p:cNvSpPr/>
            <p:nvPr/>
          </p:nvSpPr>
          <p:spPr>
            <a:xfrm>
              <a:off x="6732720" y="162864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>
              <a:off x="6732720" y="162864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900000" y="2204640"/>
            <a:ext cx="1224000" cy="360"/>
            <a:chOff x="900000" y="2204640"/>
            <a:chExt cx="1224000" cy="360"/>
          </a:xfrm>
        </p:grpSpPr>
        <p:sp>
          <p:nvSpPr>
            <p:cNvPr id="604" name="Line 12"/>
            <p:cNvSpPr/>
            <p:nvPr/>
          </p:nvSpPr>
          <p:spPr>
            <a:xfrm>
              <a:off x="900000" y="2205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 rot="10800000">
              <a:off x="900000" y="220464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30000"/>
                </a:lnSpc>
                <a:spcBef>
                  <a:spcPts val="5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606" name="Picture 13" descr="dh099"/>
          <p:cNvPicPr/>
          <p:nvPr/>
        </p:nvPicPr>
        <p:blipFill>
          <a:blip r:embed="rId2"/>
          <a:stretch/>
        </p:blipFill>
        <p:spPr>
          <a:xfrm>
            <a:off x="8207280" y="5661000"/>
            <a:ext cx="936720" cy="3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13:36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58Z</dcterms:modified>
  <cp:revision>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