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533-0DE8-4DB3-BF33-3DB642D5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02A-7096-46BA-8A56-C35C30EE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7A01E-68ED-46A4-9BEE-4BC5B032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F5355-9DA9-4F51-84B8-539A19F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47955-D6F6-4DAD-BD73-DB85BFD9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A1B40-1C9F-4F3D-AD03-3310F6B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37C9C-BEE0-42F9-90FC-91C15BF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7395A-71BB-48BE-9B7C-4F27601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D742B-8487-4C7F-80F9-1DF1E115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63CB6-2A57-41F2-AB18-84080DB6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9B8CC-B8DF-4BD0-A9CE-6154D11B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72CBD-46A2-4038-B53E-F149FD0F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878-DAB7-4FE5-B6DB-4B185858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E960D-CADB-411F-ACB5-DB49A97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2C84F-9377-4107-9ED6-8F93AF1A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4E0C3-1CD7-417A-9560-A9B743E7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92E61-12A8-4EDC-80A7-FB08B171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A5477-1010-4524-963E-27BBFC6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58CCD-B44B-4C7C-A894-C48FC3CD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ECE77-1A8E-4DE0-A527-F8DE495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3B01-01E1-4405-807A-C56EEC0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0A9E6-4C86-4C13-8B94-3D1A1F5B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B4775-29B4-4E32-B9AA-3118781B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05D-90DD-4E2F-881C-FBB7BA72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DC471-E13C-47B3-839C-406A318D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BA943-33BF-41C2-91A9-9926BCF5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EC5CB-521B-41E1-A060-D8A812FC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FC975-92DE-467E-9D28-2DEA1B2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73CF9-255E-4533-B842-2BFC82EC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F63FA-86C5-4BD0-AC0D-09470F5F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28E77-0847-43E9-BBA0-AC037858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EC34-DD5F-4813-939A-D7ABCD1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A2523-4CF6-4849-81F6-5CC2AC2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4F691-5D9D-4082-843B-F1ECEDE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6E0-48E6-492E-8984-6AA81C3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13B4A-C8DD-41A0-9FB6-439BE547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CE0ED-A1CE-438F-92D5-1D128208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8152-D505-46C2-A310-05F23AEB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EAFC-9B4A-4822-94E1-61CA7439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409C0-D497-41FD-8ADD-D29E3E6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D023-6676-43E1-8078-C80D0153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31AEF-F6C0-47FA-8577-BF70FBC8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795AE-191C-4C35-9A7D-040016D1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B90A-5656-4650-8FC6-E79FF845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89071-DBBF-4690-A877-100C82C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64C6-BCB0-4EAB-B3A9-49C0B722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824D4-D234-4CAC-8351-5B79865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216EA-B134-469A-8CB3-0BE51AD3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D2816-DA25-4310-867E-78223A6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5E5DA-0FEB-4269-9E5E-988E67A2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ACFD4-97B5-4FAA-A0A4-0ADDDDBE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2FCDC-6641-4203-BA56-10333BFE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DE40C-4533-4011-A419-E2B26FC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51EA6-3028-4AA3-80F0-3E9EEA2C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2A16C-5CFC-428E-A04D-4BE8CB63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1E5E3-37E1-47BA-A9D2-1CEBB5D8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AAE9-B01D-4ACC-ACFC-D8BC067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1D8FB-2045-4E87-AE32-C252FF8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88D82-DA99-4880-B0FE-F8EA745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18CC6-245C-4E60-A774-847F205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F7884-4F53-4004-8CD8-A7DC94E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24D9F-D847-4642-87D6-BB04CEB4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354C9-E656-4F97-AA1D-3EF89759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73E96-BBF1-4437-97B6-A0F32985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2A974-E555-4021-A535-71453F6F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C0EB5-3AB1-4C93-BFDB-7EB240B2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75E27-49F6-401B-B6FA-8F4A857B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10B0-D615-416E-8196-467D7C96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CB6E6-F6B6-45C3-9A8E-CD6B370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B2071-E659-421D-BDD5-E38FAE30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3844A-6FDC-40D8-9B92-299883F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23C9F-51FA-41DB-B97E-A7E581A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BF331-E4A8-42FF-8FE7-3199904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FD989-4F64-4403-A03F-33D8D25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79AD0-A1A5-4B4C-912D-60C0B1D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236E4-C437-4087-93B3-BCAB288A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5B714-E37A-4CA3-969A-D9D8A7BC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623B-65B7-4A57-8150-7283B375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19E6-540F-4AD1-93DD-955FCE13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2E18-A8AF-467A-9C71-5937293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BD8-6600-4120-A46C-BF16B0D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5F93-5BC5-48F8-B79B-E00712F8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0C98-1EF3-428D-B593-20EBCC7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AD9E-E59D-4EFB-9EA1-D373DEE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5B15-FBC4-4382-9AF3-6E1FEDFC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2A6-63BA-46BD-84C5-E813D51B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64EC-FDC7-47AA-8363-AE336330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B29D-66AB-4A86-9510-41B51635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5D76-3094-4BAA-9169-AF1A66A6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5F24-9C6A-441C-B23E-C07F768C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70E5-2568-44EE-92B1-466C3A73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CC7-835F-4E62-A2FB-379A5FB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72B7-85AB-4FF3-AD0C-73E58AF2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90F2-2197-4E28-9189-C30D28C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F8535-9AED-4131-9232-44DFD41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7143-4429-4A30-8E17-A261E79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E948-B86D-4741-A02C-81BAB264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3C02-EADB-4825-9B44-A1A0503E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30F7-5B10-4DAA-AB12-494DF9F4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DA7F-FED4-4C4C-9243-B40BA2ED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4FCA-3B17-401C-B13E-5C591D05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2862-06F2-448B-8E81-0BC1E67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777-894E-44D8-AB74-1473974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CFE7-920E-4CBA-B77C-6804DF8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A941-D820-4B84-A240-75DA6067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D0AA-E869-4061-8796-C865F51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435E-9E78-457C-8347-9C81FB4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A826-7141-46CE-91BD-46738CC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70AA-C337-428E-9CA4-8D6D76D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E78B-038B-4D87-9F27-F78157BA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1ACC-FAC6-463D-AF7F-6905BD7B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E85F-6F28-4581-993C-913447A8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B086-D593-4DA7-9C64-EAA7AC5E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2EC-6C5D-4AF4-AE46-266C30C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B93EF-68AF-4695-AFAE-FAA4049B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9909-C8CA-4ED5-AB8E-40D0658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C4518-3D0D-4DB7-BDDE-6FDE70D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7753-8287-4B5D-8770-D8BEC090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E7FC8-0B4D-4241-90F1-EBA77AB9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7440-E2F9-4BCE-BCFD-4F6255A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E5CC-3C59-4740-AA90-694E278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3B09-049C-4B17-9856-A6D8729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03CC-003C-422F-9C6D-5E5771C3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3326-18C6-47B4-8B86-990E02EA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1CA-682C-46A0-856C-28F9D647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1B9A-3E9E-4E8A-895F-8F6B753F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1789-AFE8-4EB5-A4AC-A0D5C076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444B-EAF5-427F-8FEC-73C85E1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4839-B92D-4411-B5B7-C5CEF269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B8EB-6974-4C60-806D-D368F3E5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417F-4F41-4118-8E50-E5BA8C7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7AFA-4767-41D9-8EDE-D68C6FA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386E-0B8C-40BA-AB93-81661969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F1D6-9A6F-4E5B-9C6F-34E5BEE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50708-87AF-4535-9B5A-A636B4E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8B4-EF3B-4870-9F06-358C65B1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E940-9A6C-40EF-9860-F7CD5B72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918EA-3772-411D-B511-2C8592DA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5AAA5-505F-4016-A21C-75BBD63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35B9-5187-472D-9B9D-300D69D7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07E2E-DA77-4B53-B8C9-9BE1149B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C39C-532F-4540-9D76-7FC4282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374E-82F0-4FC8-83DE-92729F34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B2A16-A341-4939-9FB2-D478AB40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A0260-61F9-433E-8A1C-DBCA288B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A4B00-0829-46E1-B993-5C34142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349-13F9-4AAC-BB26-822C9CC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A34E-6507-4B84-BAB2-B078D27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DD578-E3FE-4D50-9CD1-9EA8534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5725-86E4-451E-85A9-19BB51D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A7A1C-2DE7-419F-AD3F-48F05D5F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B0196-8E67-4644-8FC5-D7FF6852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9CEC5-9F90-452A-AD07-B8B98173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5CB8-594C-44B8-9EB0-1329061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D5B79-5A0B-4079-B822-1D8BA6C4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39478-FC69-4A93-BAB9-2DA5EAED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550A-27F9-4BAC-A702-BDE65C3B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001-BBAC-4DF9-9B37-F70549A1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610C5-B0DB-46E5-990A-BD3DA37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5AC6-BFF7-44B3-8180-A18CD77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49656-A17D-41DF-9FF3-6EF2F40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05E64-4334-4460-8173-7DECD3FD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AFB0-B111-4EE3-92DF-461F107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4D166-14A9-4B6D-836B-BAF0AB56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5BC03-62F0-45DD-8559-54BD204B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A7720-55C7-4130-8D58-9A663DF0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F61CE-D2A0-4C21-80D0-CFD562FA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1F70F-DBB8-4973-8FB0-91E7C1D2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4ACE-A949-4F37-9016-5EA47CF9C3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D02-B2BA-40D1-AB11-B27A682D27A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C32A-CCAB-43E6-B4F8-3AC37796EE00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DB9-96FE-400C-AF8C-A397038858AC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98BB-761B-48B3-9588-BF3569ADE66B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D59A-3ACC-43BA-895A-F0611383E8BC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EC9-B0FB-42ED-AEFE-2C3538FE30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18A-9643-4BB4-B0B9-77527B35A37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A4D2-43DE-4D40-9EAE-12033B951B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8B3D-279C-4E86-97F3-FC86E847FB31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7A95-E257-47D5-AE78-D615FA992199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3CE-4371-4B57-8C59-FED26FBC3824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466D-EDF7-414F-ABD8-10942E11278E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C607-AA8E-4736-9D4D-F42465857BE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B7DE-8163-4FD5-AA58-B209A9BA7E4A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466560" y="1052640"/>
            <a:ext cx="87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为中华之崛起而读书课件幻灯片下载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他始终忘不了大伯接他时说的话，经常想：“租界地是什么样的？为什么中国人不能去那儿，而外国人却可以住那里？这不是中国人的土地吗。。。。。。”一连串的问题使周恩来迷惑不解，好奇心驱使着他，一定要亲自去看个究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6" name="Picture 4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885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年，上海的黄浦公园在租界内建成后，便在公园门口竖立了刻有园规的牌子： “华人与狗不得入内”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4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理想是石，敲出星星之火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理想是火，点燃熄灭的灯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理想是灯，照亮夜行的路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理想是路，引你走向黎明。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4" descr="按钮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5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12" name="Object 8" descr=""/>
          <p:cNvPicPr/>
          <p:nvPr/>
        </p:nvPicPr>
        <p:blipFill>
          <a:blip r:embed="rId2"/>
          <a:stretch/>
        </p:blipFill>
        <p:spPr>
          <a:xfrm>
            <a:off x="1598760" y="1724040"/>
            <a:ext cx="6022800" cy="46782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周恩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Rectangle 14"/>
          <p:cNvSpPr/>
          <p:nvPr/>
        </p:nvSpPr>
        <p:spPr>
          <a:xfrm>
            <a:off x="1752480" y="1297080"/>
            <a:ext cx="5639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82B3-3CAC-4255-A1A9-25731B2DEE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21" name="图片 9" descr=""/>
          <p:cNvPicPr/>
          <p:nvPr/>
        </p:nvPicPr>
        <p:blipFill>
          <a:blip r:embed="rId16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24" name="Picture 10" descr="png-0644"/>
          <p:cNvPicPr/>
          <p:nvPr/>
        </p:nvPicPr>
        <p:blipFill>
          <a:blip r:embed="rId17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1" descr="png-0652"/>
          <p:cNvPicPr/>
          <p:nvPr/>
        </p:nvPicPr>
        <p:blipFill>
          <a:blip r:embed="rId18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5"/>
          <p:cNvSpPr/>
          <p:nvPr/>
        </p:nvSpPr>
        <p:spPr>
          <a:xfrm>
            <a:off x="1547640" y="54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77" name="Picture 5" descr="周恩来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周"/>
          <p:cNvPicPr/>
          <p:nvPr/>
        </p:nvPicPr>
        <p:blipFill>
          <a:blip r:embed="rId2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6"/>
          <p:cNvSpPr/>
          <p:nvPr/>
        </p:nvSpPr>
        <p:spPr>
          <a:xfrm>
            <a:off x="4695840" y="568440"/>
            <a:ext cx="4124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恩来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98--197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伟大的无产阶级革命家、政治家、军事家和外交家，中国共产党和中华人民共和国主要领导人之一，中国人民解放军的创建人之一。中华人民共和国总理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49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7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。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中华之崛起而读书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5003640" y="1844640"/>
            <a:ext cx="2808360" cy="838080"/>
          </a:xfrm>
          <a:prstGeom prst="cloudCallout">
            <a:avLst>
              <a:gd name="adj1" fmla="val 23768"/>
              <a:gd name="adj2" fmla="val -4393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资料补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5219640" y="4941720"/>
            <a:ext cx="2737080" cy="838440"/>
          </a:xfrm>
          <a:prstGeom prst="cloudCallout">
            <a:avLst>
              <a:gd name="adj1" fmla="val 11078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拓展延伸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4" name="Picture 7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85" name="AutoShape 8"/>
          <p:cNvSpPr/>
          <p:nvPr/>
        </p:nvSpPr>
        <p:spPr>
          <a:xfrm>
            <a:off x="5219640" y="3429000"/>
            <a:ext cx="2737080" cy="838080"/>
          </a:xfrm>
          <a:prstGeom prst="cloudCallout">
            <a:avLst>
              <a:gd name="adj1" fmla="val 16935"/>
              <a:gd name="adj2" fmla="val -467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读思感悟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6" name="Picture 10" descr="周"/>
          <p:cNvPicPr/>
          <p:nvPr/>
        </p:nvPicPr>
        <p:blipFill>
          <a:blip r:embed="rId2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读思感悟：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19040" y="271296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年周恩来立下了什么志向？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什么原因使他立下这样的志向？ 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9" name="Picture 9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读思感悟：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419040" y="271296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不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含义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从哪感受到了中华不振？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2" name="Picture 4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062-30"/>
          <p:cNvPicPr/>
          <p:nvPr/>
        </p:nvPicPr>
        <p:blipFill>
          <a:blip r:embed="rId2"/>
          <a:stretch/>
        </p:blipFill>
        <p:spPr>
          <a:xfrm>
            <a:off x="1258920" y="5877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062-30"/>
          <p:cNvPicPr/>
          <p:nvPr/>
        </p:nvPicPr>
        <p:blipFill>
          <a:blip r:embed="rId3"/>
          <a:stretch/>
        </p:blipFill>
        <p:spPr>
          <a:xfrm>
            <a:off x="1692360" y="5877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062-30"/>
          <p:cNvPicPr/>
          <p:nvPr/>
        </p:nvPicPr>
        <p:blipFill>
          <a:blip r:embed="rId4"/>
          <a:stretch/>
        </p:blipFill>
        <p:spPr>
          <a:xfrm>
            <a:off x="2125800" y="58770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062-30"/>
          <p:cNvPicPr/>
          <p:nvPr/>
        </p:nvPicPr>
        <p:blipFill>
          <a:blip r:embed="rId5"/>
          <a:stretch/>
        </p:blipFill>
        <p:spPr>
          <a:xfrm>
            <a:off x="2557440" y="587700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他们急忙奔了过去，只见人群中有个衣衫褴褛的妇女正在哭诉着什么，一个大个子洋人则得意洋洋地站在一旁。一问才知道，这个妇女的亲人被洋人的汽车轧死了，她原指望中国的巡警能给她撑腰，惩处这个洋人。谁知中国巡警不但不惩处肇事的洋人，反而把她训斥了一通。围观的中国人都紧握着拳头。但是，在外国的租界里，谁又敢怎么样呢？只能劝劝那个不幸的妇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Picture 1028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风和日丽的星期天，周恩来背着大伯，约了一个要好的同学闯进了租界。嘿！这一带果真和别处大不相同：一条条街道灯红酒绿，热闹非凡，街道两旁行走的大多是黄头发、白皮肤、大鼻子的外国人和耀武扬威的巡警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Picture 4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9"/>
          <p:cNvSpPr/>
          <p:nvPr/>
        </p:nvSpPr>
        <p:spPr>
          <a:xfrm>
            <a:off x="6854760" y="1989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闯进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2" name="文本框 8200"/>
          <p:cNvSpPr/>
          <p:nvPr/>
        </p:nvSpPr>
        <p:spPr>
          <a:xfrm>
            <a:off x="1332000" y="1052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前来接他的伯父指着一片繁华、热闹的地方，对他说：“没事可不要到那个地方去玩！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？”周恩来不解地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那是外国租借地，惹出麻烦来可就糟了，没处说理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那又是为什么呢？”周恩来打破沙锅问到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？中华不振啊！”伯父叹了口气，没有再说下去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" name="Picture 4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4:1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9Z</dcterms:modified>
  <cp:revision>10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