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E75-CDCC-4017-B011-586F24C9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A02-18BF-4CBC-828C-197DC2E8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94A-1161-4484-88A8-7EFA9E9D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973-DC0A-4B22-A92C-A7A5A4F0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5B70-A1DA-4AD4-AD6E-3BACB625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45AB-749E-4143-862A-F5105CDB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DF66-DB88-4E6F-9DAA-E8AA6B76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180A-5648-49CA-AFA6-9B4FD502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4D7-4E21-45E6-9850-B13A4CCC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6DFE-AF06-4BA2-A29B-CA789605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9138-5FF2-4317-9770-6F4FF6A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6D1-296F-4EDF-9ADC-29D0DDDA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EB73-660B-4605-AFB9-3E03CF1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546A-E329-4242-BA52-E1AE8BE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5AA3-22A2-48CA-8D0E-110E5C6A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74C7-8069-4508-B9B4-5792A7F5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26AD-C8B7-4899-8439-AF6C5D97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097-EF96-45CC-B38B-58E232B9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578-7FBC-4E92-ADD7-71676281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1D2-B46B-49C0-BB64-D2817F57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C2A-AC9E-4831-98B6-DFA40BD8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48E-A950-4892-BFEC-1BE01AD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877-6A66-4541-8214-88555BD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F31-BA22-4CFC-AD8B-A239189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6F95-A034-4826-848D-0C7B29272F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256-6F10-40A6-8C32-07A54315927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9DCF-05AC-472F-B1FA-17734F640F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291,2,&#35835;&#19968;&#35835;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"/>
          <p:cNvSpPr/>
          <p:nvPr/>
        </p:nvSpPr>
        <p:spPr>
          <a:xfrm>
            <a:off x="1403280" y="2276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60" y="1519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为中华之崛起而读书课件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模板下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AutoShape 1037"/>
          <p:cNvSpPr/>
          <p:nvPr/>
        </p:nvSpPr>
        <p:spPr>
          <a:xfrm>
            <a:off x="6227640" y="1628640"/>
            <a:ext cx="2210040" cy="838440"/>
          </a:xfrm>
          <a:prstGeom prst="cloudCallout">
            <a:avLst>
              <a:gd name="adj1" fmla="val 19828"/>
              <a:gd name="adj2" fmla="val -4393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16"/>
              </a:rPr>
              <a:t>读一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038"/>
          <p:cNvSpPr/>
          <p:nvPr/>
        </p:nvSpPr>
        <p:spPr>
          <a:xfrm>
            <a:off x="4572000" y="2514600"/>
            <a:ext cx="2209680" cy="838080"/>
          </a:xfrm>
          <a:prstGeom prst="cloudCallout">
            <a:avLst>
              <a:gd name="adj1" fmla="val 19611"/>
              <a:gd name="adj2" fmla="val -4166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学一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1039"/>
          <p:cNvSpPr/>
          <p:nvPr/>
        </p:nvSpPr>
        <p:spPr>
          <a:xfrm>
            <a:off x="6629400" y="3213000"/>
            <a:ext cx="2514600" cy="838440"/>
          </a:xfrm>
          <a:prstGeom prst="cloudCallout">
            <a:avLst>
              <a:gd name="adj1" fmla="val 21023"/>
              <a:gd name="adj2" fmla="val -5075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展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4495680" y="5562720"/>
            <a:ext cx="2668680" cy="83808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讨论交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057"/>
          <p:cNvSpPr/>
          <p:nvPr/>
        </p:nvSpPr>
        <p:spPr>
          <a:xfrm>
            <a:off x="6400800" y="4724280"/>
            <a:ext cx="2563920" cy="838440"/>
          </a:xfrm>
          <a:prstGeom prst="cloudCallout">
            <a:avLst>
              <a:gd name="adj1" fmla="val 25129"/>
              <a:gd name="adj2" fmla="val -4678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读思感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058"/>
          <p:cNvSpPr/>
          <p:nvPr/>
        </p:nvSpPr>
        <p:spPr>
          <a:xfrm>
            <a:off x="4495680" y="4038480"/>
            <a:ext cx="2668680" cy="83844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法国求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1061" descr="周"/>
          <p:cNvPicPr/>
          <p:nvPr/>
        </p:nvPicPr>
        <p:blipFill>
          <a:blip r:embed="rId17"/>
          <a:stretch/>
        </p:blipFill>
        <p:spPr>
          <a:xfrm>
            <a:off x="0" y="1295280"/>
            <a:ext cx="4286160" cy="5440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平民烟馆比比皆是，简陋的烟榻上总是横满了吸食鸦片的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眼泪.wma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30033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人民流离失所"/>
          <p:cNvPicPr/>
          <p:nvPr/>
        </p:nvPicPr>
        <p:blipFill>
          <a:blip r:embed="rId1"/>
          <a:stretch/>
        </p:blipFill>
        <p:spPr>
          <a:xfrm>
            <a:off x="179280" y="46080"/>
            <a:ext cx="8964720" cy="6811920"/>
          </a:xfrm>
          <a:prstGeom prst="rect">
            <a:avLst/>
          </a:prstGeom>
          <a:ln w="0">
            <a:noFill/>
          </a:ln>
        </p:spPr>
      </p:pic>
      <p:pic>
        <p:nvPicPr>
          <p:cNvPr id="128" name="眼泪.wma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3003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93A2-9D5F-447D-9743-50C2296D23C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学了这一课你有什么感想？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5280" y="1196640"/>
            <a:ext cx="75582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165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Times New Roman"/>
                <a:ea typeface="隶书"/>
              </a:rPr>
              <a:t>读思感悟</a:t>
            </a:r>
            <a:r>
              <a:rPr b="0" lang="en-US" sz="6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213372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崛 起  帝 国  模 范  巡 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吵 嚷  惩 处  铿 锵  有 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028" descr="按钮"/>
          <p:cNvPicPr/>
          <p:nvPr/>
        </p:nvPicPr>
        <p:blipFill>
          <a:blip r:embed="rId1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857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学一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6765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09680" y="47242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491160" y="22860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352680" y="54864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752480" y="3505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958000" y="10666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36232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643800" y="3581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095880" y="48006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429000" y="3808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76920" y="5486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9" descr="按钮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4738680" y="3049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在法国求学的周恩来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295280" y="1525680"/>
            <a:ext cx="662940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7" descr="按钮"/>
          <p:cNvPicPr/>
          <p:nvPr/>
        </p:nvPicPr>
        <p:blipFill>
          <a:blip r:embed="rId1"/>
          <a:stretch/>
        </p:blipFill>
        <p:spPr>
          <a:xfrm>
            <a:off x="8229600" y="5867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12" name="周恩来在法国.asf" descr=""/>
          <p:cNvPicPr/>
          <p:nvPr/>
        </p:nvPicPr>
        <p:blipFill>
          <a:blip r:embed="rId2"/>
          <a:stretch/>
        </p:blipFill>
        <p:spPr>
          <a:xfrm>
            <a:off x="1403280" y="1616040"/>
            <a:ext cx="6408720" cy="5241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685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读思感悟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19040" y="27129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*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使周恩来立下</a:t>
            </a:r>
            <a:r>
              <a:rPr b="0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华之崛起而读书</a:t>
            </a:r>
            <a:r>
              <a:rPr b="0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个志向的原因是什么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9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北京街头刑场"/>
          <p:cNvPicPr/>
          <p:nvPr/>
        </p:nvPicPr>
        <p:blipFill>
          <a:blip r:embed="rId1"/>
          <a:stretch/>
        </p:blipFill>
        <p:spPr>
          <a:xfrm>
            <a:off x="144360" y="144360"/>
            <a:ext cx="8999640" cy="8153640"/>
          </a:xfrm>
          <a:prstGeom prst="rect">
            <a:avLst/>
          </a:prstGeom>
          <a:ln w="0">
            <a:noFill/>
          </a:ln>
        </p:spPr>
      </p:pic>
      <p:pic>
        <p:nvPicPr>
          <p:cNvPr id="117" name="眼泪.wma" descr=""/>
          <p:cNvPicPr/>
          <p:nvPr/>
        </p:nvPicPr>
        <p:blipFill>
          <a:blip r:embed="rId2"/>
          <a:stretch/>
        </p:blipFill>
        <p:spPr>
          <a:xfrm>
            <a:off x="1476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3003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日本海军陆战队抢先开进中国，他们后来成了联军主力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pic>
        <p:nvPicPr>
          <p:cNvPr id="119" name="眼泪.wma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3003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图片４"/>
          <p:cNvPicPr/>
          <p:nvPr/>
        </p:nvPicPr>
        <p:blipFill>
          <a:blip r:embed="rId1"/>
          <a:stretch/>
        </p:blipFill>
        <p:spPr>
          <a:xfrm>
            <a:off x="0" y="0"/>
            <a:ext cx="9144000" cy="8037360"/>
          </a:xfrm>
          <a:prstGeom prst="rect">
            <a:avLst/>
          </a:prstGeom>
          <a:ln w="0">
            <a:noFill/>
          </a:ln>
        </p:spPr>
      </p:pic>
      <p:pic>
        <p:nvPicPr>
          <p:cNvPr id="121" name="眼泪.wma" descr=""/>
          <p:cNvPicPr/>
          <p:nvPr/>
        </p:nvPicPr>
        <p:blipFill>
          <a:blip r:embed="rId2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3003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052" descr="一位高官即将就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眼泪.wma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3003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48Z</dcterms:modified>
  <cp:revision>1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