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6C0-4049-4E04-8FCE-A6A3F732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769-B522-4E3B-81DF-7BA61998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9F1-1EC0-4132-90F1-534A9606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72D-E031-467A-A0B0-0DB7206E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76A3-48C3-4399-83AC-A89C5902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C598-8E85-42D0-911B-9E200851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633A-423F-469F-85BD-3A5A52C4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7015-5750-49C2-8CCB-7E1F6B18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C469-9C9A-4918-B404-4338E133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645D-691B-4182-B50F-D7C26445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BB8A-9DC2-4516-A9B7-DA0E049F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09D-A98E-4DC4-B5CE-D9977ED5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59A5-CE20-4A64-80A0-8CE0A64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069D-EDB7-44E4-A8EE-613F71F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1BCA-0475-4B72-BA07-57B02CCB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A9C0-6962-4D67-8A3D-4FAE040F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F3F6-A553-46E7-937E-F3604205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13B-92A8-4481-B79A-D2C3527A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02B-C260-4FA1-863B-47A5191B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81F-B7CC-4AAC-9FF4-E051376E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91B-6B1A-4ACC-869C-3B8861F9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172-C8FE-40AC-8B05-35A8044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466-E73D-47B6-A864-46E9233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2DE-075B-43DB-BBAF-03A9D384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FACA-680B-42EE-8B67-05DC1AE03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7AD4-DE93-43F7-B229-46F1A05BB8E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E543-946B-48E6-99B9-032A4DEC1C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j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724360" y="260280"/>
            <a:ext cx="2075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壁虎借尾巴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PT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件免费下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壁虎１"/>
          <p:cNvPicPr/>
          <p:nvPr/>
        </p:nvPicPr>
        <p:blipFill>
          <a:blip r:embed="rId2"/>
          <a:stretch/>
        </p:blipFill>
        <p:spPr>
          <a:xfrm>
            <a:off x="1116000" y="404640"/>
            <a:ext cx="4308480" cy="57610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ic_253127"/>
          <p:cNvPicPr/>
          <p:nvPr/>
        </p:nvPicPr>
        <p:blipFill>
          <a:blip r:embed="rId1"/>
          <a:stretch/>
        </p:blipFill>
        <p:spPr>
          <a:xfrm>
            <a:off x="179280" y="0"/>
            <a:ext cx="4392720" cy="336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yz"/>
          <p:cNvPicPr/>
          <p:nvPr/>
        </p:nvPicPr>
        <p:blipFill>
          <a:blip r:embed="rId2"/>
          <a:stretch/>
        </p:blipFill>
        <p:spPr>
          <a:xfrm>
            <a:off x="4572000" y="32767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826920" y="260280"/>
            <a:ext cx="216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学要求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95280" y="2349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、读一读第４、５自然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小壁虎和老牛、燕子的对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、同桌小伙伴合作读一读小壁虎和老牛、燕子的对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2120760" y="551664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pic_253127"/>
          <p:cNvPicPr/>
          <p:nvPr/>
        </p:nvPicPr>
        <p:blipFill>
          <a:blip r:embed="rId1"/>
          <a:stretch/>
        </p:blipFill>
        <p:spPr>
          <a:xfrm>
            <a:off x="179280" y="0"/>
            <a:ext cx="4240440" cy="324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yz"/>
          <p:cNvPicPr/>
          <p:nvPr/>
        </p:nvPicPr>
        <p:blipFill>
          <a:blip r:embed="rId2"/>
          <a:stretch/>
        </p:blipFill>
        <p:spPr>
          <a:xfrm flipH="1">
            <a:off x="4952520" y="3530520"/>
            <a:ext cx="3962520" cy="3089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4572000" y="307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壁虎爬呀爬，爬到大树上。他看见老牛甩着尾巴，在树下吃草。小壁虎说：“牛伯伯，您把尾巴借给我行吗？”老牛说：“不行啊，我要用尾巴赶蝇子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2280" y="36576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壁虎爬呀爬，爬到房檐下。他看见燕子摆着尾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空中飞来飞去。小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：“燕子阿姨，您把尾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借给我行吗？”燕子说：“不行啊，我要用尾巴掌握方向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pic_253127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5"/>
          <p:cNvSpPr/>
          <p:nvPr/>
        </p:nvSpPr>
        <p:spPr>
          <a:xfrm>
            <a:off x="2627280" y="620640"/>
            <a:ext cx="4176720" cy="2232000"/>
          </a:xfrm>
          <a:prstGeom prst="cloudCallout">
            <a:avLst>
              <a:gd name="adj1" fmla="val -44717"/>
              <a:gd name="adj2" fmla="val 61023"/>
            </a:avLst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牛伯伯，您把尾巴借给我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0" y="4365720"/>
            <a:ext cx="3635280" cy="2232000"/>
          </a:xfrm>
          <a:prstGeom prst="cloudCallout">
            <a:avLst>
              <a:gd name="adj1" fmla="val 76027"/>
              <a:gd name="adj2" fmla="val -1607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行啊，我要用尾巴赶蝇子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666880" y="12952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y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5"/>
          <p:cNvSpPr/>
          <p:nvPr/>
        </p:nvSpPr>
        <p:spPr>
          <a:xfrm flipV="1">
            <a:off x="4932360" y="2780280"/>
            <a:ext cx="3168720" cy="1584360"/>
          </a:xfrm>
          <a:prstGeom prst="wedgeRoundRectCallout">
            <a:avLst>
              <a:gd name="adj1" fmla="val -44291"/>
              <a:gd name="adj2" fmla="val 7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468360" y="549360"/>
            <a:ext cx="3527280" cy="1366920"/>
          </a:xfrm>
          <a:prstGeom prst="wedgeRoundRectCallout">
            <a:avLst>
              <a:gd name="adj1" fmla="val 35328"/>
              <a:gd name="adj2" fmla="val 7322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68360" y="836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行啊，我要用尾巴掌握方向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076720" y="2997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燕子阿姨，您把尾巴借给我行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BAS00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5"/>
          <p:cNvSpPr txBox="1"/>
          <p:nvPr/>
        </p:nvSpPr>
        <p:spPr>
          <a:xfrm>
            <a:off x="539640" y="907920"/>
            <a:ext cx="83059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-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动物的尾巴不同，用处也不同。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nkongq1"/>
          <p:cNvPicPr/>
          <p:nvPr/>
        </p:nvPicPr>
        <p:blipFill>
          <a:blip r:embed="rId2"/>
          <a:stretch/>
        </p:blipFill>
        <p:spPr>
          <a:xfrm>
            <a:off x="2514600" y="1828800"/>
            <a:ext cx="56386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laohu3"/>
          <p:cNvPicPr/>
          <p:nvPr/>
        </p:nvPicPr>
        <p:blipFill>
          <a:blip r:embed="rId2"/>
          <a:stretch/>
        </p:blipFill>
        <p:spPr>
          <a:xfrm>
            <a:off x="2590920" y="1752480"/>
            <a:ext cx="5410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BRL00039"/>
          <p:cNvPicPr/>
          <p:nvPr/>
        </p:nvPicPr>
        <p:blipFill>
          <a:blip r:embed="rId2"/>
          <a:stretch/>
        </p:blipFill>
        <p:spPr>
          <a:xfrm>
            <a:off x="2971800" y="182880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48"/>
          <p:cNvPicPr/>
          <p:nvPr/>
        </p:nvPicPr>
        <p:blipFill>
          <a:blip r:embed="rId2"/>
          <a:stretch/>
        </p:blipFill>
        <p:spPr>
          <a:xfrm>
            <a:off x="2514600" y="2133720"/>
            <a:ext cx="5791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853200" y="1557360"/>
            <a:ext cx="71773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ǎo  bì   hǔ            jiè  wěi 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壁 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 尾 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ì  tiáo shé             xīn wěi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条 蛇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 尾 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ō shuǐ    zhǎng wò     táo zǒu        nán g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拨 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 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 走    难 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én  zi        jiě jie        shuǎi zhe      yíng 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蚊 子   姐 姐    甩 着    蝇 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6156360" y="333360"/>
            <a:ext cx="2160720" cy="936720"/>
          </a:xfrm>
          <a:prstGeom prst="cloudCallout">
            <a:avLst>
              <a:gd name="adj1" fmla="val -43754"/>
              <a:gd name="adj2" fmla="val 100675"/>
            </a:avLst>
          </a:pr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6516720" y="549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会读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axian3"/>
          <p:cNvPicPr/>
          <p:nvPr/>
        </p:nvPicPr>
        <p:blipFill>
          <a:blip r:embed="rId2"/>
          <a:stretch/>
        </p:blipFill>
        <p:spPr>
          <a:xfrm>
            <a:off x="2666880" y="1752480"/>
            <a:ext cx="5715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Picture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762120" y="76212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填一填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838080" y="1828800"/>
            <a:ext cx="7543800" cy="4495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143000" y="2133720"/>
            <a:ext cx="4648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小壁虎爬呀爬，爬到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172200" y="2895480"/>
            <a:ext cx="1600200" cy="360"/>
            <a:chOff x="6172200" y="2895480"/>
            <a:chExt cx="1600200" cy="360"/>
          </a:xfrm>
        </p:grpSpPr>
        <p:sp>
          <p:nvSpPr>
            <p:cNvPr id="165" name="Line 9"/>
            <p:cNvSpPr/>
            <p:nvPr/>
          </p:nvSpPr>
          <p:spPr>
            <a:xfrm>
              <a:off x="6172200" y="2895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172200" y="28954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WordArt 10"/>
          <p:cNvSpPr txBox="1"/>
          <p:nvPr/>
        </p:nvSpPr>
        <p:spPr>
          <a:xfrm>
            <a:off x="8001000" y="26668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8" name="WordArt 11"/>
          <p:cNvSpPr txBox="1"/>
          <p:nvPr/>
        </p:nvSpPr>
        <p:spPr>
          <a:xfrm>
            <a:off x="1219320" y="32004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他看见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819520" y="3733920"/>
            <a:ext cx="1143000" cy="360"/>
            <a:chOff x="2819520" y="3733920"/>
            <a:chExt cx="1143000" cy="360"/>
          </a:xfrm>
        </p:grpSpPr>
        <p:sp>
          <p:nvSpPr>
            <p:cNvPr id="170" name="Line 12"/>
            <p:cNvSpPr/>
            <p:nvPr/>
          </p:nvSpPr>
          <p:spPr>
            <a:xfrm>
              <a:off x="28195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819520" y="373392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WordArt 13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在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876920" y="3809880"/>
            <a:ext cx="2057400" cy="360"/>
            <a:chOff x="4876920" y="3809880"/>
            <a:chExt cx="2057400" cy="360"/>
          </a:xfrm>
        </p:grpSpPr>
        <p:sp>
          <p:nvSpPr>
            <p:cNvPr id="174" name="Line 14"/>
            <p:cNvSpPr/>
            <p:nvPr/>
          </p:nvSpPr>
          <p:spPr>
            <a:xfrm>
              <a:off x="4876920" y="38098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4876920" y="38098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15"/>
          <p:cNvSpPr txBox="1"/>
          <p:nvPr/>
        </p:nvSpPr>
        <p:spPr>
          <a:xfrm>
            <a:off x="7924680" y="3657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7" name="WordArt 16"/>
          <p:cNvSpPr txBox="1"/>
          <p:nvPr/>
        </p:nvSpPr>
        <p:spPr>
          <a:xfrm>
            <a:off x="1295280" y="4267080"/>
            <a:ext cx="6934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小壁虎说：“         ？”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0" y="4800600"/>
            <a:ext cx="2819520" cy="360"/>
            <a:chOff x="4572000" y="4800600"/>
            <a:chExt cx="2819520" cy="360"/>
          </a:xfrm>
        </p:grpSpPr>
        <p:sp>
          <p:nvSpPr>
            <p:cNvPr id="179" name="Line 17"/>
            <p:cNvSpPr/>
            <p:nvPr/>
          </p:nvSpPr>
          <p:spPr>
            <a:xfrm>
              <a:off x="4572000" y="48006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572000" y="480060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143000" y="5943600"/>
            <a:ext cx="1295280" cy="360"/>
            <a:chOff x="1143000" y="5943600"/>
            <a:chExt cx="1295280" cy="360"/>
          </a:xfrm>
        </p:grpSpPr>
        <p:sp>
          <p:nvSpPr>
            <p:cNvPr id="182" name="Line 18"/>
            <p:cNvSpPr/>
            <p:nvPr/>
          </p:nvSpPr>
          <p:spPr>
            <a:xfrm>
              <a:off x="1143000" y="5943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143000" y="594360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WordArt 19"/>
          <p:cNvSpPr txBox="1"/>
          <p:nvPr/>
        </p:nvSpPr>
        <p:spPr>
          <a:xfrm>
            <a:off x="2590920" y="5181480"/>
            <a:ext cx="5257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说：“                。”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3809880"/>
            <a:ext cx="838080" cy="360"/>
            <a:chOff x="6934320" y="3809880"/>
            <a:chExt cx="838080" cy="360"/>
          </a:xfrm>
        </p:grpSpPr>
        <p:sp>
          <p:nvSpPr>
            <p:cNvPr id="186" name="Line 20"/>
            <p:cNvSpPr/>
            <p:nvPr/>
          </p:nvSpPr>
          <p:spPr>
            <a:xfrm>
              <a:off x="693432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6934320" y="380988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86200" y="5867280"/>
            <a:ext cx="3505320" cy="360"/>
            <a:chOff x="3886200" y="5867280"/>
            <a:chExt cx="3505320" cy="360"/>
          </a:xfrm>
        </p:grpSpPr>
        <p:sp>
          <p:nvSpPr>
            <p:cNvPr id="189" name="Line 21"/>
            <p:cNvSpPr/>
            <p:nvPr/>
          </p:nvSpPr>
          <p:spPr>
            <a:xfrm>
              <a:off x="3886200" y="586728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886200" y="5867280"/>
              <a:ext cx="3505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Picture 22" descr="袋鼠"/>
          <p:cNvPicPr/>
          <p:nvPr/>
        </p:nvPicPr>
        <p:blipFill>
          <a:blip r:embed="rId2"/>
          <a:stretch/>
        </p:blipFill>
        <p:spPr>
          <a:xfrm>
            <a:off x="3492360" y="189000"/>
            <a:ext cx="1656000" cy="1700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3" descr="松鼠"/>
          <p:cNvPicPr/>
          <p:nvPr/>
        </p:nvPicPr>
        <p:blipFill>
          <a:blip r:embed="rId3"/>
          <a:stretch/>
        </p:blipFill>
        <p:spPr>
          <a:xfrm>
            <a:off x="5292720" y="18900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4" descr="啄木鸟"/>
          <p:cNvPicPr/>
          <p:nvPr/>
        </p:nvPicPr>
        <p:blipFill>
          <a:blip r:embed="rId4"/>
          <a:stretch/>
        </p:blipFill>
        <p:spPr>
          <a:xfrm>
            <a:off x="7308720" y="18900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"/>
          <p:cNvSpPr/>
          <p:nvPr/>
        </p:nvSpPr>
        <p:spPr>
          <a:xfrm>
            <a:off x="2048760" y="638172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1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2124000" y="1341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壁虎借不到尾巴，心里很难过。他爬呀爬，爬回家里找妈妈。小壁虎把借尾巴的事告诉了妈妈。妈妈笑着说：“傻孩子，你转过身子看看。”小壁虎转身一看，高兴地叫起来：“我长出了一条新尾巴啦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8AC3-7C2E-433F-8B93-11CBD8B6BF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2124000" y="1844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壁虎在墙角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124000" y="2637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鱼在河里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087640" y="3429000"/>
            <a:ext cx="70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老黄牛在树下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158920" y="422100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燕子在空中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7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765440" y="1125360"/>
            <a:ext cx="620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bì    hǔ   jiè  wén  shé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</a:rPr>
              <a:t>壁   虎   借   蚊    蛇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692360" y="3887640"/>
            <a:ext cx="640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táo   nán     jiě    xī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</a:rPr>
              <a:t>逃     难      姐     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0" descr="bj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990720" y="106668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346480" y="497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flipV="1">
            <a:off x="1219320" y="3657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7543800" y="457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1512720" y="4135320"/>
            <a:ext cx="59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Times New Roman"/>
              </a:rPr>
              <a:t>逃   难   姐   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900000" y="249228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Times New Roman"/>
              </a:rPr>
              <a:t>壁   虎    借   蛇   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3348000" y="2066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5508720" y="20667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6804000" y="2060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1"/>
          <p:cNvSpPr/>
          <p:nvPr/>
        </p:nvSpPr>
        <p:spPr>
          <a:xfrm>
            <a:off x="2268360" y="37958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1"/>
          <p:cNvSpPr/>
          <p:nvPr/>
        </p:nvSpPr>
        <p:spPr>
          <a:xfrm flipH="1">
            <a:off x="538920" y="404640"/>
            <a:ext cx="2305080" cy="936720"/>
          </a:xfrm>
          <a:prstGeom prst="cloudCallout">
            <a:avLst>
              <a:gd name="adj1" fmla="val -55856"/>
              <a:gd name="adj2" fmla="val 100675"/>
            </a:avLst>
          </a:pr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42"/>
          <p:cNvSpPr txBox="1"/>
          <p:nvPr/>
        </p:nvSpPr>
        <p:spPr>
          <a:xfrm>
            <a:off x="971640" y="620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会读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ic_253126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570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226920" y="1557360"/>
            <a:ext cx="20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壁虎爬呀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爬到小河边。他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鱼摇着尾巴，在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游来游去。小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：“小鱼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姐，您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尾巴借给我行吗？”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说：“不行啊，我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尾巴拨水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pic_253126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2050920" y="260280"/>
            <a:ext cx="3384720" cy="2087640"/>
          </a:xfrm>
          <a:prstGeom prst="wedgeEllipseCallout">
            <a:avLst>
              <a:gd name="adj1" fmla="val -30393"/>
              <a:gd name="adj2" fmla="val 6231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鱼姐姐，您把尾巴借给我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187280" y="4076640"/>
            <a:ext cx="3600720" cy="1800360"/>
          </a:xfrm>
          <a:prstGeom prst="wedgeEllipseCallout">
            <a:avLst>
              <a:gd name="adj1" fmla="val 31657"/>
              <a:gd name="adj2" fmla="val -6217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行啊，我要用尾巴拨水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95280" y="3141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所以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4120" y="15238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187280" y="1052640"/>
            <a:ext cx="25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说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pic_253126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5"/>
          <p:cNvSpPr/>
          <p:nvPr/>
        </p:nvSpPr>
        <p:spPr>
          <a:xfrm>
            <a:off x="2050920" y="260280"/>
            <a:ext cx="3384720" cy="2087640"/>
          </a:xfrm>
          <a:prstGeom prst="wedgeEllipseCallout">
            <a:avLst>
              <a:gd name="adj1" fmla="val -30393"/>
              <a:gd name="adj2" fmla="val 6231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鱼姐姐，您把尾巴借给我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187280" y="4076640"/>
            <a:ext cx="3600720" cy="1800360"/>
          </a:xfrm>
          <a:prstGeom prst="wedgeEllipseCallout">
            <a:avLst>
              <a:gd name="adj1" fmla="val 31657"/>
              <a:gd name="adj2" fmla="val -6217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行啊，我要用尾巴拨水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ic_253126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57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226920" y="1557360"/>
            <a:ext cx="20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壁虎爬呀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爬到小河边。他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鱼摇着尾巴，在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游来游去。小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：“小鱼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姐，您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尾巴借给我行吗？”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说：“不行啊，我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尾巴拨水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14:41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00Z</dcterms:modified>
  <cp:revision>1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