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9D4-8AAC-4A1A-9FC3-6980CE23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E214-4444-4084-83F1-F919B357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D37C-B3BC-41C2-81E1-C9B37C5C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996-5874-43E7-B547-3C728F41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E2A9-3BEC-4C9D-9A14-DA19EA63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0DB7-E9D4-4A6B-81C5-4684FC13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F9D0-76C0-4253-8AD7-3D98BC6C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A3E3-2429-4F79-95EA-BA114483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8F5F-87F7-4C75-B751-435118D2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A436-774D-4195-A9E0-C7C4C027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167D-2561-4890-994F-A7494485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C55-1C31-4C61-84FD-9C4367E5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D2F9-0F60-43D9-A5DC-651EE5F0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ADFF-9FB8-4980-B84F-9E019428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8888-ECF7-49E8-99F4-EDFEA169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28CA-D40E-49E7-BCA5-44D01069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DA45-D011-4F8D-A6D0-C053D7CA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39F-5C1B-4249-9C89-9F337A14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2F1B-D21B-4DCB-A25A-B10CD624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C28F-F85C-4EC8-9D22-89927D32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FB4-7C80-427C-A169-1C6DA84B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4E5-2568-4873-9B3E-96A76CF1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DEB-A547-4667-AF1F-96B7AC76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AEC5-92DD-472B-A7E6-44A9992B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35F0-867F-4124-A8FB-8C4B60D84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C825-6AF1-418D-B510-FAEFAEA7B48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035B-1CEF-44D9-B44E-0A36F20464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otoyes.net/bbs/viewthread.php?tid=2918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ina.yangchun.gov.cn/photo/index1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xys.com/gb/ss8.htm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j3.netsh.com/bbs/94063/103/31271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88so.com/Ecard/Pic/55/55_79.html" TargetMode="Externa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zhengzhou.news.sohu.com/news/20050101/n223749392.s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ews.sina.com.cn/c/2005-05-07/12506573486.s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zjol.com.cn/gb/node2/node138665/node139992/node143067/userobject15ai1877656.html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du.tom.com/1267/2004213-5338.html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xici.net/House/Service/b365041/d32424719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hinamm.tom.com/1306/1362/200462-81886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ilitary.china.com/zh_cn/history2/06/11027560/20050720/12499864_2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hinawestnews.net/gb/westnews/xwzx/xbxw/sxgc/userobject1ai335865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tech.ca/zzjoy/swtp/yeluotuo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dgjy.com.cn/kjpeixun/frontpage/keshang/&#22823;&#28207;&#23454;&#39564;&#23567;&#23398;%20&#36213;&#22999;&#22999;/&#32593;&#39029;/index.htm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gjy.com.cn/kjpeixun/frontpage/keshang/&#22823;&#28207;&#23454;&#39564;&#23567;&#23398;%20&#36213;&#22999;&#22999;/&#32593;&#39029;/index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hwh.net/html/b2-2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2004513181012289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4720" y="1125360"/>
            <a:ext cx="81345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想别人没想到的语文</a:t>
            </a:r>
            <a:r>
              <a:rPr b="0" lang="en-US" sz="4000" spc="-1" strike="noStrike">
                <a:solidFill>
                  <a:srgbClr val="ffff00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_1066790623_kd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784836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sscg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0"/>
            <a:ext cx="7238880" cy="715320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8200"/>
          <p:cNvSpPr/>
          <p:nvPr/>
        </p:nvSpPr>
        <p:spPr>
          <a:xfrm>
            <a:off x="770040" y="1704960"/>
            <a:ext cx="441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又一个画家，画了一个和尚，奔走于深山丛林道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faz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700280"/>
            <a:ext cx="29908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只有一个画家，画了一座山，山腰中有一个老和尚挑着一付水桶，到山间的激流中去担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2485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989000"/>
            <a:ext cx="4535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谁画得最好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mgczt"/>
          <p:cNvPicPr/>
          <p:nvPr/>
        </p:nvPicPr>
        <p:blipFill>
          <a:blip r:embed="rId1"/>
          <a:stretch/>
        </p:blipFill>
        <p:spPr>
          <a:xfrm>
            <a:off x="1979640" y="1484280"/>
            <a:ext cx="51847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了揭榜那天，第三幅画却被列为佳品，大家围着欣赏，并且同声称赞不绝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画面中露出寺庙一角，便不是深山所藏了，藏应该是看不见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和尚在奔走，也可以解释是云游或在赶路，不能说明山中有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此画列为上品，因为深得题意，“藏”字，通过到山间去挑水的老和尚，清楚的点出；深山有古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试一试，在一张白纸上怎样画出最多的人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31" descr="Img2237493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484280"/>
            <a:ext cx="727416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一比，哪幅画的人最多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U47P1T1D6573486F21DT200505071250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773360"/>
            <a:ext cx="66978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一比，那幅画的人最多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00099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1700280"/>
            <a:ext cx="6769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一比，那幅画的人最多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040213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1916280"/>
            <a:ext cx="6191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9"/>
          <p:cNvSpPr/>
          <p:nvPr/>
        </p:nvSpPr>
        <p:spPr>
          <a:xfrm>
            <a:off x="3851280" y="3357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画比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学们，如果要让你们在一张纸上画尽可能多的骆驼，你会怎样画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20059281425317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98680" y="2708280"/>
            <a:ext cx="57610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D185-A13B-4191-B2BA-2538518232E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要肯动脑筋，大胆创新，就会有很多新发现，就会有意想不到的收获。所以，在今后的学习、生活中，我们也要多动脑筋，做一个有创新精神的孩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040602wujunr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2276640"/>
            <a:ext cx="3888000" cy="2916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初读课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自由读课文，读准字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画出生字词，同桌合作，识记字形，理解词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课文讲了一件什么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不理解的地方作上记号，与同桌讨论解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hào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集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uò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uo)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连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án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起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ú)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uò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隐若现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ià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2499864_20050720174540912977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349360"/>
            <a:ext cx="439272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分组讨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三个徒弟的画分别是什么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你觉得谁画得最棒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从三个徒弟的画中，你体会到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000446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3500280"/>
            <a:ext cx="453528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齐读课题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徒弟：用细笔画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徒弟：画许多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徒弟：只画山、一头骆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画师满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zg5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1700280"/>
            <a:ext cx="2857680" cy="3962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image00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3933720"/>
            <a:ext cx="4032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什么这幅画最好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image0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2349360"/>
            <a:ext cx="66960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试一试：怎样画深山藏古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几百年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个皇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非常喜欢作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还设立了一个御画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集中了国内顶级画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一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想试一试画家们高下优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就出了一个题目叫“深山藏古寺”，要他们分头作画，来表达这个意思。画家们饺尽脑汁，争锋斗雄，寻求最理想的角度，以表示这个主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学们，如果你是画家，你会怎样画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隐隐约约的落出一个寺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画家，画了重重叠叠的山峦，高矗入云的参天大树，林荫深处，隐隐约约的落出一个寺角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lxt68465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19760" y="333360"/>
            <a:ext cx="42242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8:14:3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27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Version">
    <vt:r8>9</vt:r8>
  </property>
</Properties>
</file>