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55E7-3690-41F6-9B95-CAF235F7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500-205E-47A2-A376-0E65370A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EA5-14FB-4CCD-8943-D77033FA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1662-1683-46DB-B129-7F0337A2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7EBB-FC02-4FBE-B452-345BB711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DC17-D014-493B-B6B4-5A2B8D92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10FB-95E1-48F4-9E8F-B0B08656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9FC3-C2DD-4DA7-98A9-DEA049E9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9C1E-CCC6-4ACA-9A35-CB1B545E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2AAB-CE2D-4373-98A4-8405A65D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5F3A-5586-4D7B-A402-B006E767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A76-E6F7-4095-B698-BF53393D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CA50-5188-42B8-B186-482D5D14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7C37-2965-4C94-9934-83DB639D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08E5-8271-402B-8E06-D081BDBC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C045-E66B-4045-880B-6390284D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79AC-6DD9-493D-BB49-268B60D4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639-DB50-42E9-8BA2-82B3A23B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1537-8E9C-4027-8D17-F5DCF2A4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EFBB-AD6C-4F8A-8973-10E938B1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59F-A840-4614-8C47-40FF111C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40C8-518F-4B89-8282-20C07EB4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259D-FF02-4074-9425-23907B74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E47-A40B-4BD3-8214-21BA30B2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53B6-C76F-4B42-84B1-AF5325B78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966A-616E-491B-BF14-B4F7A4C7D22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4DB7-E285-4E71-85C2-2BC03599B0D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2358720" y="476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乡村四月语文课件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隶书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图片4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6642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1042920" y="1052640"/>
            <a:ext cx="27370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楷体_GB2312"/>
              </a:rPr>
              <a:t>作者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323960" y="2119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范成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419640" y="4133160"/>
            <a:ext cx="48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9966ff"/>
                </a:solidFill>
                <a:latin typeface="隶书"/>
                <a:ea typeface="隶书"/>
              </a:rPr>
              <a:t>范成大（</a:t>
            </a:r>
            <a:r>
              <a:rPr b="0" lang="en-US" sz="2800" spc="-1" strike="noStrike">
                <a:solidFill>
                  <a:srgbClr val="9966ff"/>
                </a:solidFill>
                <a:latin typeface="隶书"/>
                <a:ea typeface="隶书"/>
              </a:rPr>
              <a:t>1126-1193</a:t>
            </a:r>
            <a:r>
              <a:rPr b="0" lang="zh-CN" sz="2800" spc="-1" strike="noStrike">
                <a:solidFill>
                  <a:srgbClr val="9966ff"/>
                </a:solidFill>
                <a:latin typeface="隶书"/>
                <a:ea typeface="隶书"/>
              </a:rPr>
              <a:t>），南宋诗人。字致能，号石湖居士，吴郡（今江苏苏州市）人。虽写过不少爱国诗篇，但最著名的还是田园诗，比较全面地反映了当时的农村生活和风土人情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822560" y="2420640"/>
            <a:ext cx="4321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华文中宋"/>
                <a:ea typeface="华文中宋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8"/>
          <p:cNvSpPr/>
          <p:nvPr/>
        </p:nvSpPr>
        <p:spPr>
          <a:xfrm>
            <a:off x="900000" y="476280"/>
            <a:ext cx="27370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pic_254664"/>
          <p:cNvPicPr/>
          <p:nvPr/>
        </p:nvPicPr>
        <p:blipFill>
          <a:blip r:embed="rId3"/>
          <a:stretch/>
        </p:blipFill>
        <p:spPr>
          <a:xfrm>
            <a:off x="3924360" y="1844640"/>
            <a:ext cx="4392720" cy="4176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484600" y="8031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隶书"/>
              </a:rPr>
              <a:t>诗歌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95280" y="90792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pic_254664"/>
          <p:cNvPicPr/>
          <p:nvPr/>
        </p:nvPicPr>
        <p:blipFill>
          <a:blip r:embed="rId2"/>
          <a:stretch/>
        </p:blipFill>
        <p:spPr>
          <a:xfrm>
            <a:off x="179280" y="1628640"/>
            <a:ext cx="3313080" cy="48974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0"/>
          <p:cNvSpPr/>
          <p:nvPr/>
        </p:nvSpPr>
        <p:spPr>
          <a:xfrm>
            <a:off x="4593600" y="198900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801600" y="198900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724360" y="371052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白天出去锄草夜里缉麻，农家儿女都能各自持家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651640" y="2565360"/>
          <a:ext cx="3024000" cy="3240000"/>
        </p:xfrm>
        <a:graphic>
          <a:graphicData uri="http://schemas.openxmlformats.org/drawingml/2006/table">
            <a:tbl>
              <a:tblPr/>
              <a:tblGrid>
                <a:gridCol w="3024000"/>
              </a:tblGrid>
              <a:tr h="3240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95280" y="90792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025600" y="198900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4160160" y="198900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5940360" y="399960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小孙子还不会耕田纺织，也靠近桑树阴处学习种瓜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867280" y="2708280"/>
          <a:ext cx="2808360" cy="345600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3456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20" descr="57"/>
          <p:cNvPicPr/>
          <p:nvPr/>
        </p:nvPicPr>
        <p:blipFill>
          <a:blip r:embed="rId2"/>
          <a:stretch/>
        </p:blipFill>
        <p:spPr>
          <a:xfrm>
            <a:off x="179280" y="1628640"/>
            <a:ext cx="3600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pic_254664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7596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1042920" y="1268280"/>
            <a:ext cx="5113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朗读诗歌，背诵诗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8200"/>
          <p:cNvSpPr/>
          <p:nvPr/>
        </p:nvSpPr>
        <p:spPr>
          <a:xfrm>
            <a:off x="1692360" y="765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30200" y="43905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《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四时田园杂兴</a:t>
            </a:r>
            <a:r>
              <a:rPr b="0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》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共</a:t>
            </a:r>
            <a:r>
              <a:rPr b="0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60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首，宛如农村生活的长幅画卷。本篇是其中的一首，写的是夏日村庄的生活场景：男耕女织，日夜操劳，虽然辛苦，却也其乐陶陶。最精彩的是后两句。模仿是儿童的天性，农村孩子的游戏，也多是模仿大人的劳动。一个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学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字，透出儿童的天真活泼，极富生活情趣。诗中没有出现老人的形象，但称农夫农妇为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儿女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，称小孩为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童孙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，分明是老农的口吻，是一位老祖父眼中的农家乐事图。这里有写实的成分，更蕴含着诗人对田园生活的理想。语言通俗浅显，文笔清新轻巧，使人由景见情，给人以极美的艺术享受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68360" y="765000"/>
            <a:ext cx="3672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楷体_GB2312"/>
              </a:rPr>
              <a:t>课文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69520" y="1255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杂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2322000" y="12682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各种兴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169880" y="1197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耘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6531840" y="1197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除去田里的杂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569520" y="177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绩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2525040" y="1773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把麻搓成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4169880" y="177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未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5589000" y="1773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不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848520" y="2276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1915560" y="2276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从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4448880" y="2276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5589000" y="2276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靠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5764680" y="2205000"/>
            <a:ext cx="72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6600"/>
                </a:solidFill>
                <a:latin typeface="Arial"/>
                <a:ea typeface="隶书"/>
              </a:rPr>
              <a:t>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6600"/>
                </a:solidFill>
                <a:latin typeface="Arial"/>
                <a:ea typeface="隶书"/>
              </a:rPr>
              <a:t>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6600"/>
                </a:solidFill>
                <a:latin typeface="Arial"/>
                <a:ea typeface="隶书"/>
              </a:rPr>
              <a:t>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223160" y="3141720"/>
            <a:ext cx="42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539640" y="549360"/>
            <a:ext cx="27370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3844800" y="120636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张志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3519360" y="343404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（约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730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约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810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）唐代诗人。字子同，初名龟龄，今浙江金华人。 博学多才，歌、词、诗、画俱佳。 曾在朝廷做过官，后隐居。他的作品大多描写自己的闲居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2" descr="200667161342995"/>
          <p:cNvPicPr/>
          <p:nvPr/>
        </p:nvPicPr>
        <p:blipFill>
          <a:blip r:embed="rId3"/>
          <a:stretch/>
        </p:blipFill>
        <p:spPr>
          <a:xfrm>
            <a:off x="179280" y="1268280"/>
            <a:ext cx="3168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611280" y="105264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u=3705577601,3236879972&amp;gp=2"/>
          <p:cNvPicPr/>
          <p:nvPr/>
        </p:nvPicPr>
        <p:blipFill>
          <a:blip r:embed="rId2"/>
          <a:stretch/>
        </p:blipFill>
        <p:spPr>
          <a:xfrm>
            <a:off x="324000" y="1773360"/>
            <a:ext cx="3456000" cy="47671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1"/>
          <p:cNvSpPr/>
          <p:nvPr/>
        </p:nvSpPr>
        <p:spPr>
          <a:xfrm>
            <a:off x="4736520" y="198900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3851280" y="1989000"/>
            <a:ext cx="53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5651640" y="249228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　　头顶青箬笠，身披绿蓑衣，斜风细雨迎面吹来，钓鱼的人不想回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580000" y="2565360"/>
          <a:ext cx="3240000" cy="363060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3630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30"/>
          <p:cNvPicPr/>
          <p:nvPr/>
        </p:nvPicPr>
        <p:blipFill>
          <a:blip r:embed="rId2"/>
          <a:stretch/>
        </p:blipFill>
        <p:spPr>
          <a:xfrm>
            <a:off x="179280" y="1268280"/>
            <a:ext cx="3168720" cy="54007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8"/>
          <p:cNvSpPr/>
          <p:nvPr/>
        </p:nvSpPr>
        <p:spPr>
          <a:xfrm>
            <a:off x="1258920" y="54936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3708360" y="1413000"/>
            <a:ext cx="46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　　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思考：诗歌中“斜风细雨不须归”的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3924360" y="2997360"/>
            <a:ext cx="46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诗人完全融于大自然，沉醉于无限的诗情画意中，悠然自得，自由自在，因此“斜风细雨不须归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6"/>
          <p:cNvSpPr/>
          <p:nvPr/>
        </p:nvSpPr>
        <p:spPr>
          <a:xfrm>
            <a:off x="641520" y="4096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200603092008502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430200" y="1413000"/>
            <a:ext cx="82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同学们，在四月的春天，你们到过乡村吗？在你们心目中的乡村，是怎样的一种情景？下面我们来看看宋朝诗人翁卷是怎样来写乡村的四月的？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611280" y="105264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30"/>
          <p:cNvPicPr/>
          <p:nvPr/>
        </p:nvPicPr>
        <p:blipFill>
          <a:blip r:embed="rId2"/>
          <a:stretch/>
        </p:blipFill>
        <p:spPr>
          <a:xfrm>
            <a:off x="250920" y="1773360"/>
            <a:ext cx="3600360" cy="47307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8"/>
          <p:cNvSpPr/>
          <p:nvPr/>
        </p:nvSpPr>
        <p:spPr>
          <a:xfrm>
            <a:off x="4880880" y="198900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4017240" y="198900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5867280" y="270828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西塞山前白鹭展翅飞翔，桃花红，流水碧绿，鳜鱼正肥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651640" y="2781360"/>
          <a:ext cx="3166920" cy="3384360"/>
        </p:xfrm>
        <a:graphic>
          <a:graphicData uri="http://schemas.openxmlformats.org/drawingml/2006/table">
            <a:tbl>
              <a:tblPr/>
              <a:tblGrid>
                <a:gridCol w="3166920"/>
              </a:tblGrid>
              <a:tr h="3384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30"/>
          <p:cNvPicPr/>
          <p:nvPr/>
        </p:nvPicPr>
        <p:blipFill>
          <a:blip r:embed="rId1"/>
          <a:stretch/>
        </p:blipFill>
        <p:spPr>
          <a:xfrm>
            <a:off x="179280" y="765000"/>
            <a:ext cx="8713800" cy="57596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395280" y="907920"/>
            <a:ext cx="4105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朗读古词，并背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渔歌子 唱.mp3" descr=""/>
          <p:cNvPicPr/>
          <p:nvPr/>
        </p:nvPicPr>
        <p:blipFill>
          <a:blip r:embed="rId3"/>
          <a:stretch/>
        </p:blipFill>
        <p:spPr>
          <a:xfrm>
            <a:off x="6516720" y="14130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4" dur="123947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116000" y="105264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课文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866520" y="1811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西塞山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4262040" y="1844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在今浙江省湖州市西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145520" y="2349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鳜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958920" y="24210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一种淡水鱼，味道鲜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1145520" y="2924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箬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4299120" y="2997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用竹篾、箬叶编制的斗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900000" y="3500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蓑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4392000" y="3573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用草或棕制成的防雨用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539640" y="4508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词中描写的是作者过着隐居闲散的生活，所看到的无比美妙的春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94C1-CED0-4988-825A-6A03F02800B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20060309200850232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7596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3286800" y="2133720"/>
            <a:ext cx="227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66"/>
                </a:solidFill>
                <a:latin typeface="Arial"/>
              </a:rPr>
              <a:t>谢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755640" y="54936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楷体_GB2312"/>
              </a:rPr>
              <a:t>作者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773160" y="1341360"/>
            <a:ext cx="9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翁 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211640" y="4191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916360" y="353232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公元一二</a:t>
            </a:r>
            <a:r>
              <a:rPr b="0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O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三年前后在世，字续古，一字灵舒，永嘉人，为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永嘉四灵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之三。生卒年均不详，约宋宁宗嘉泰中前后在世。尝登淳祐十年（公元一一八三年）乡荐。终于布衣。工诗，与徐照等称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永嘉四灵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。卷著有苇碧轩集，已佚；又有西岩集一卷，</a:t>
            </a:r>
            <a:r>
              <a:rPr b="0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四库总目</a:t>
            </a:r>
            <a:r>
              <a:rPr b="0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今尚传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468360" y="40464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083920" y="112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课文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20060309200850232"/>
          <p:cNvPicPr/>
          <p:nvPr/>
        </p:nvPicPr>
        <p:blipFill>
          <a:blip r:embed="rId3"/>
          <a:stretch/>
        </p:blipFill>
        <p:spPr>
          <a:xfrm>
            <a:off x="3635280" y="2133720"/>
            <a:ext cx="47530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71640" y="69228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20060309200850232"/>
          <p:cNvPicPr/>
          <p:nvPr/>
        </p:nvPicPr>
        <p:blipFill>
          <a:blip r:embed="rId2"/>
          <a:stretch/>
        </p:blipFill>
        <p:spPr>
          <a:xfrm>
            <a:off x="179280" y="1413000"/>
            <a:ext cx="2737080" cy="5111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4859280" y="37141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四月的春天，万物复苏，山陵和原野上一片绿色，稻田里的水开始上涨，并映着天空的光辉；杜鹃鸟声声地叫着，天空中飘落着如烟的细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4211640" y="1916280"/>
            <a:ext cx="64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369600" y="191628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932360" y="1916280"/>
          <a:ext cx="3745080" cy="4321080"/>
        </p:xfrm>
        <a:graphic>
          <a:graphicData uri="http://schemas.openxmlformats.org/drawingml/2006/table">
            <a:tbl>
              <a:tblPr/>
              <a:tblGrid>
                <a:gridCol w="3745080"/>
              </a:tblGrid>
              <a:tr h="4321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20060309200850232"/>
          <p:cNvPicPr/>
          <p:nvPr/>
        </p:nvPicPr>
        <p:blipFill>
          <a:blip r:embed="rId1"/>
          <a:stretch/>
        </p:blipFill>
        <p:spPr>
          <a:xfrm>
            <a:off x="179280" y="1628640"/>
            <a:ext cx="2664000" cy="4896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4088880" y="177336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080880" y="177336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042920" y="907920"/>
            <a:ext cx="27370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4859280" y="3231720"/>
            <a:ext cx="387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在乡村的四月，闲人很少，他们都很忙，他们才刚刚把蚕送上山，又忙着插秧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788000" y="2133720"/>
          <a:ext cx="3889440" cy="3168360"/>
        </p:xfrm>
        <a:graphic>
          <a:graphicData uri="http://schemas.openxmlformats.org/drawingml/2006/table">
            <a:tbl>
              <a:tblPr/>
              <a:tblGrid>
                <a:gridCol w="3889440"/>
              </a:tblGrid>
              <a:tr h="3168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0060309200850232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682560" y="170172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611280" y="2205000"/>
            <a:ext cx="56163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楷体_GB2312"/>
              </a:rPr>
              <a:t>感情朗读诗歌，背诵诗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8200"/>
          <p:cNvSpPr/>
          <p:nvPr/>
        </p:nvSpPr>
        <p:spPr>
          <a:xfrm>
            <a:off x="971640" y="3068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11280" y="32464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68360" y="83664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课文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50920" y="350028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这首诗以白描手法写江南农村初夏时节的景象，前两句着重写景绿原、白川、子规、烟雨、寥寥几笔就把水乡初夏时特有的景色勾勒了出来。后两句写人，画面上主要突出在水田插秧的农民形象，从而衬托出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"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乡村四月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"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劳动的紧张、繁忙。前呼后应，交织成一幅色彩鲜明的图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856800" y="1374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山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692360" y="141300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山陵和原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682880" y="1413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白满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5940360" y="141300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指稻田里的水色映着天空的光辉。川，平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1280" y="21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子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2478960" y="2205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杜鹃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971640" y="27813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692360" y="278136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结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6135480" y="1125360"/>
            <a:ext cx="546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  <a:ea typeface="隶书"/>
              </a:rPr>
              <a:t>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  <a:ea typeface="隶书"/>
              </a:rPr>
              <a:t>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  <a:ea typeface="隶书"/>
              </a:rPr>
              <a:t>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  <a:ea typeface="隶书"/>
              </a:rPr>
              <a:t>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  <a:ea typeface="隶书"/>
              </a:rPr>
              <a:t>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  <a:ea typeface="隶书"/>
              </a:rPr>
              <a:t>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367520" y="3068640"/>
            <a:ext cx="42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56Z</dcterms:modified>
  <cp:revision>6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