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847-F769-4912-90A4-15783D87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4AD-CB82-4098-A7B4-FF7A7AB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F6B98-B983-412D-99DD-B53EE3B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21A1E-BE91-411C-A564-58EC2FD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3FCC0-EF37-44FD-9F97-49A5FC1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C00B1-23A4-414B-9A39-40C2B52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F0C6-20DD-4A76-B851-20135DB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155C-33B8-434F-91BF-9AB4CCC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4C5C2-38A7-4ED2-AD59-3DB9B63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D85FB-8C61-466B-8216-D7FB3F71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31B9-CB0A-4C0D-B5BC-22315619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DBD79-79B8-4E63-99D4-72F79F0D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22A-6583-4C94-ADE7-53C66510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31BEF-C588-4846-B5C1-89C6FA1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72FD-C535-4780-AB75-CA11C3A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7705-C847-435D-9293-ACA7561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404B1-60DC-496C-AFFD-2C4903E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8F3CD-0BE8-494E-8D89-AD1E2960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3E91-757E-49EE-A465-06A04DA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6E40-E608-4ADE-B3EA-2002A8E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76F3-A3F0-4FD8-91CD-C407925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5956F-C54F-48CB-8CB6-23A3562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3189B-BBB1-4944-935F-EB7C71F3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4C7-F307-42CE-A598-6AC77C50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F221F-A071-4244-8B4D-8A00A3ED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EAE7A-9472-4EA0-A29A-16D6CEE0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2398-D96F-4F45-8E0D-43AABFE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B85BB-4EA3-438B-8554-162511A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E335D-61C3-44C0-873E-945CD46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D79F-9F99-4BED-BC2D-53918FA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E7D1-6666-4DB0-8541-67BDF778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0C64-6EB5-4270-9847-89A69E7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DB5D-2C97-4EC3-8DF7-6C8676B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10937-A13C-4B65-829D-FE12EAE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C232-7038-4B26-920A-0DB61EDF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42BF2-0766-4F1C-9A6F-362D3503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35C7B-F278-44D8-9DBD-935B3070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3683A-C28E-489E-B283-BDF140F2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6790C-B2B5-44BB-A356-4CC60980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D824-06CF-4453-BEC6-EECA893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38DBC-A38D-4646-AF12-EE2A2FB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8B550-FE79-4780-B087-C90CA5C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75B86-9F65-4308-9B31-E5B2A8AB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BFB0C-EE6B-4802-9FD5-3A7B3295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3B82F-74B0-42DF-9F4E-F03809E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288B-B4FD-4973-9174-F48BCDF9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618FB-9128-4B85-AC8B-1D4BAF5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8AD18-3905-40E4-9214-C376940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D4DD-A63A-4309-A802-4207501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FA861-072A-4E76-B644-CD1DBB10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D5366-9678-408E-AED6-377FEBA6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16623-B62C-46AF-A335-25351618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337A8-4C9C-452B-BDAB-0248BB7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82EBC-6100-4596-A454-FB2F0D1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5BADE-237A-4164-AEA3-D9A4A998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23E22-495A-4D6D-824F-956CA66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25B7-B35B-4D8F-BEB4-77CE000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2D353-7D84-40C0-A7B6-DE6B270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3E10C-B546-4725-98CD-C21A241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7FFEC-F142-4E37-993F-D778482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837F3-5CC2-4A70-9A81-C30D3BD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16B73-ECA6-48F9-8E3C-DF13163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A8350-9DE8-4EC7-9E7D-900E7073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CA67C-3386-4D6C-BC67-FE9CF2F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45D49-DB4D-4AB2-9399-2EDA52FB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F8343-F07E-48C3-A497-0A6E8C12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6814E-4953-48CA-B7D9-0FF8FCF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7B6C-B848-48EF-84D1-8D00F71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59A08-A0D5-4F70-99AD-DC87286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84CCD-FA68-44A9-8246-9379B295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E2B45-F689-4D99-9C2D-E123A2D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0C340-430D-4A19-B203-50272345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D17FF-FE09-403A-B0D1-3731C4B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484AC-6632-4F9C-A61F-F4071CA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A32AB-48CA-4AB4-A9D8-5F3EAD9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B00BA-FF20-4FF8-9AD3-5EFA0181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9177A-DA44-4269-9FD1-3A03397A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421F3-EE8C-4B04-95CC-A3EF7089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5997-7058-42E2-8F87-E151AF6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AAA66-1246-48EE-9A0C-6B56224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D6D81-44A4-47BE-AB07-AF756C84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7C7F7-82F3-450E-AB60-90DE390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6E1F6-F4A1-4FF7-8E0A-6FDACA7B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CF053-07B7-4E36-8EDF-7676149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6EC3A-3625-4AEC-8EE3-A24E380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C4D82-9F3B-4AC1-B7D8-EDAA7F6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F2AB8-F95D-4CB0-812B-458CC6C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578F2-A129-4105-A50D-610DB11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B6A08-8BD2-4E3D-A2F1-4C65EEA2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CEE6-8312-49BA-B6E5-6135AFD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80253-3570-4274-AE4A-B15FCAD1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54E42-B589-4F00-95E8-4B512AC7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79240-0CA5-4614-9690-1E8DCC22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ECFBC-E3E6-4365-A5E3-D927E46C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0B15F-41A5-4418-99A9-694401C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FA3FF-1201-43DB-8438-938EAEE6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CF633-7553-4065-926B-322CC5A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04E97-55B6-445A-A400-B3F3C46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A324F-E551-48EE-94DA-DEF48CC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969E2-45AF-4216-A216-6D80183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31F-C65D-46B4-BBC7-BEFC25E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A5642-B163-4519-9ECC-E85B3A5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E4688-0CEC-4161-9607-294E4741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5E52D-D153-43B8-99A9-F333C36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89C42-7096-4C07-B375-C74CD991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9F059-232A-4878-982F-6993A70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D2790-4C07-43A7-937B-18FBDDE6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62444-6609-4E1E-A4EF-039FEB26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F5B57-FF99-405E-8C9E-A92A46A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9FE47-9C5B-4781-BA6A-4648135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40540-1B28-4C6E-B479-9938E5B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104-6D7F-4DAC-99AD-DFBC8C03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AD8-2BE2-47B5-BB7C-8316F9C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6AE4C-44AC-4037-BD0C-A165688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C00AA-EB3F-43BF-AC9F-18DB5AA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04C18-F9CB-49E3-8292-0248860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7C7A3-C4F8-4D24-BF71-BE8CC0F0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6C887-2B00-45A8-9D54-9E87DD7D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4D5E-BF44-4921-8CCA-A418418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765-A851-4B43-BB7C-613E5F3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CB6-EB8E-42BC-8B77-9B9D37FB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6DB-BCFA-4E87-8F13-44BA7791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DBF6-18D5-4345-A43C-2A6682CB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E404-7C0B-4926-A213-C7119FE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59BC-3446-4D77-B2C3-2518887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D293-C57B-434E-A568-99A2D52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ACCE-FD7F-4A7E-9D41-92CB8421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7B6-E9B4-4845-A43F-200F924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A733-53D5-4039-92A7-CAA218E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456D-BD93-440F-A1C9-E6C057A1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A7E4-0D2B-49C8-AC81-8B1F214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7AEA-2AB7-4AC0-830C-BBEF04E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EA8F-1DE1-42A3-8C9E-FDB8332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3DB6-8F20-496F-B517-A56A6823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BBA8-98B2-415A-B85A-A8478DD7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3D4B-9B7F-4E17-AD90-AEA9A015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0F8C-143B-4FC2-87AA-3F33E4A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9097-C997-41C3-A2DE-77EA668B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525-1E94-42A5-9B77-4CC8E89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B0C0-A813-4A25-9B55-F58728E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016B-D641-4024-A079-2E425E0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4723-C28C-4CB5-A876-4878BD8A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B6C6-5DB4-4EAF-915D-C17D6F3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B3F7-457A-412F-B42C-ABC99BE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8097-75DE-4F76-881F-2FF6CF9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5D56-C675-4CE8-A8A3-2B21EF25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1881-40DB-462F-9D42-0B92490C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5B98-9B35-4FF2-A47C-536D376C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23D26-5A12-43B9-B145-2B9DBA93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221-7458-431C-A1CF-3D48B5B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F1BD-AB51-4C44-8C34-72774E9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D85A-86DE-4A7F-B90E-901FB2E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6E2C-CF2C-4FBD-8FAA-E8D2E41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5EF5-5DC7-44EC-8588-15E06A1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BD5B-0637-4723-BDF5-F17C919B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0E46-1E5E-4DFB-9846-B49D177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A5B6-FA89-4A21-8A05-6BEC037D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79D1-FE74-4259-8F75-0BBEB17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41D4-C17C-4CE3-BB1F-FFE91C65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4A76-9EEA-4B1B-A89D-6CAB0BE1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ADE-A87F-449D-B94D-80573998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57A7-4BF1-4A04-A3A5-71D31CE3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25EE-3FCA-44E6-9FB0-6A2EA7F0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CA4C-C549-482F-BF5E-6D38086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B2F5-9D87-4890-A110-2136955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33CB0-DEF2-4089-BE5B-DCE02FB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B77C-D002-4B43-9C5F-4B7E308A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2535-687B-43A1-9B8C-0D4DAC36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50E35-8A15-4718-BC7E-52C10C7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6B96-869F-4776-AAB0-FBE5444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72A0-04DF-457A-9DCA-49FB3EB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8F5-7F88-4153-A9A0-B91CCA6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7C23-DF90-47CA-BEF4-28A4735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A1273-1017-4561-87F6-547F9C63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E925-4A94-444E-BDCB-6104C8B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F76D-D5D8-414C-9B3F-FC7C9CBB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6774-DBF1-476B-B0E5-0F1084F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7A01C-6B3F-4F61-8EBD-460FE0B4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1489-E8D2-4C66-8496-9923F5B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FDFC-42F9-4C80-B009-BC6E2836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597F-E7D5-44C4-A4E3-D5C1B33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7AAF-7056-467D-8C13-999C002D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2C7-1969-45A4-BA37-F972EBC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FC56-F047-4FF0-8AF4-E60866E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2D50-3A2E-4EC7-902F-8D2F4AD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A530B-AC85-44FA-ABE8-598DF3D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36E9-2F42-4B0D-AB32-127C053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0F0D9-6752-4BBC-B23D-72D6CD3F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23F8-C1CB-4655-9B21-0065CB12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D1D2-B0B6-4A56-AC72-4A6A17A2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9BE4-45D3-49E1-B95C-B3647584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CFCA-5E57-4208-A088-0AB2CEAF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B0A9-B8C7-43A9-A9D2-EF2B1C1F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6BC-1EBA-40BD-A76C-212CD293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D071-ED2E-4C29-AB30-BF10B9AA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32BC-5B6D-4F9D-9371-2D6A4D5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DFB6-A122-4C1C-BE5C-57908C5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697A5-B50E-48FE-BB92-CAF5C89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4A197-1688-46B4-9E9A-0977DDB4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0743-C5CE-4770-9866-E12AEF70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DA35E-F520-4CA5-99D6-502951A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7A0B1-DAFD-4F1E-9614-6ABCB7EF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62167-2118-46A0-9A04-20FE2ED5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D17A2-4F7F-4E41-B001-2B100618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92A1-7323-40F9-A9CE-E1B3F722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2120" y="1709640"/>
              <a:ext cx="7696080" cy="360"/>
              <a:chOff x="762120" y="1709640"/>
              <a:chExt cx="7696080" cy="360"/>
            </a:xfrm>
          </p:grpSpPr>
          <p:sp>
            <p:nvSpPr>
              <p:cNvPr id="8" name="Line 9"/>
              <p:cNvSpPr/>
              <p:nvPr/>
            </p:nvSpPr>
            <p:spPr>
              <a:xfrm>
                <a:off x="762120" y="1709640"/>
                <a:ext cx="7696080" cy="0"/>
              </a:xfrm>
              <a:prstGeom prst="line">
                <a:avLst/>
              </a:prstGeom>
              <a:ln w="38160">
                <a:solidFill>
                  <a:srgbClr val="33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762120" y="17096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6DE6-29E8-48E1-9D51-1B9BBB0FBCE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9DE-1DF0-47FB-983A-DF6CE0F11E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7DD-7D58-49D5-8EB9-2298412E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683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8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718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693-46D2-4577-9F7C-880C929893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6954-736B-4DE4-85A0-3F0C48A9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CD0-5241-4BBD-A506-3C00D3FB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47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78EC-C14C-4B25-A103-91C0FA21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9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0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02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0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8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9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6960-7617-4332-81D1-5B87995E22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95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5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5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95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96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6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6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964" name="Group 12"/>
                  <p:cNvGrpSpPr/>
                  <p:nvPr/>
                </p:nvGrpSpPr>
                <p:grpSpPr>
                  <a:xfrm>
                    <a:off x="5761800" y="2322360"/>
                    <a:ext cx="2559240" cy="2743200"/>
                    <a:chOff x="5761800" y="2322360"/>
                    <a:chExt cx="2559240" cy="2743200"/>
                  </a:xfrm>
                </p:grpSpPr>
                <p:sp>
                  <p:nvSpPr>
                    <p:cNvPr id="965" name="Freeform 13"/>
                    <p:cNvSpPr/>
                    <p:nvPr/>
                  </p:nvSpPr>
                  <p:spPr>
                    <a:xfrm rot="2711400">
                      <a:off x="5584320" y="3020040"/>
                      <a:ext cx="212760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66" name="Freeform 14"/>
                    <p:cNvSpPr/>
                    <p:nvPr/>
                  </p:nvSpPr>
                  <p:spPr>
                    <a:xfrm rot="2711400">
                      <a:off x="7133040" y="4144680"/>
                      <a:ext cx="11415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6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6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6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7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7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7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8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8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5" name="Group 33"/>
                  <p:cNvGrpSpPr/>
                  <p:nvPr/>
                </p:nvGrpSpPr>
                <p:grpSpPr>
                  <a:xfrm>
                    <a:off x="2646000" y="2474640"/>
                    <a:ext cx="2558520" cy="2741040"/>
                    <a:chOff x="2646000" y="2474640"/>
                    <a:chExt cx="2558520" cy="2741040"/>
                  </a:xfrm>
                </p:grpSpPr>
                <p:sp>
                  <p:nvSpPr>
                    <p:cNvPr id="986" name="Freeform 34"/>
                    <p:cNvSpPr/>
                    <p:nvPr/>
                  </p:nvSpPr>
                  <p:spPr>
                    <a:xfrm flipH="1" rot="18888600">
                      <a:off x="3254760" y="3172320"/>
                      <a:ext cx="21276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7" name="Freeform 35"/>
                    <p:cNvSpPr/>
                    <p:nvPr/>
                  </p:nvSpPr>
                  <p:spPr>
                    <a:xfrm flipH="1" rot="18888600">
                      <a:off x="2690640" y="4296600"/>
                      <a:ext cx="114156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8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9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9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9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0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0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0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1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1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5" name="Group 63"/>
                  <p:cNvGrpSpPr/>
                  <p:nvPr/>
                </p:nvGrpSpPr>
                <p:grpSpPr>
                  <a:xfrm>
                    <a:off x="4026960" y="335520"/>
                    <a:ext cx="1460880" cy="1885680"/>
                    <a:chOff x="4026960" y="335520"/>
                    <a:chExt cx="1460880" cy="1885680"/>
                  </a:xfrm>
                </p:grpSpPr>
                <p:sp>
                  <p:nvSpPr>
                    <p:cNvPr id="1016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8" name="Group 66"/>
                  <p:cNvGrpSpPr/>
                  <p:nvPr/>
                </p:nvGrpSpPr>
                <p:grpSpPr>
                  <a:xfrm>
                    <a:off x="4448520" y="245160"/>
                    <a:ext cx="1122120" cy="1946520"/>
                    <a:chOff x="4448520" y="245160"/>
                    <a:chExt cx="1122120" cy="1946520"/>
                  </a:xfrm>
                </p:grpSpPr>
                <p:sp>
                  <p:nvSpPr>
                    <p:cNvPr id="1019" name="Freeform 67"/>
                    <p:cNvSpPr/>
                    <p:nvPr/>
                  </p:nvSpPr>
                  <p:spPr>
                    <a:xfrm flipH="1" rot="4126800">
                      <a:off x="4554360" y="1400400"/>
                      <a:ext cx="13096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0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38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2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2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27" name="Freeform 75"/>
                  <p:cNvSpPr/>
                  <p:nvPr/>
                </p:nvSpPr>
                <p:spPr>
                  <a:xfrm flipH="1" rot="4578600">
                    <a:off x="4763880" y="146376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8" name="Freeform 76"/>
                  <p:cNvSpPr/>
                  <p:nvPr/>
                </p:nvSpPr>
                <p:spPr>
                  <a:xfrm flipH="1" rot="4578600">
                    <a:off x="4792320" y="53640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029" name="Group 77"/>
                  <p:cNvGrpSpPr/>
                  <p:nvPr/>
                </p:nvGrpSpPr>
                <p:grpSpPr>
                  <a:xfrm>
                    <a:off x="5356440" y="270000"/>
                    <a:ext cx="1195200" cy="1901160"/>
                    <a:chOff x="5356440" y="270000"/>
                    <a:chExt cx="1195200" cy="1901160"/>
                  </a:xfrm>
                </p:grpSpPr>
                <p:sp>
                  <p:nvSpPr>
                    <p:cNvPr id="1030" name="Freeform 78"/>
                    <p:cNvSpPr/>
                    <p:nvPr/>
                  </p:nvSpPr>
                  <p:spPr>
                    <a:xfrm rot="17742000">
                      <a:off x="5088240" y="1418760"/>
                      <a:ext cx="130788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1" name="Freeform 79"/>
                    <p:cNvSpPr/>
                    <p:nvPr/>
                  </p:nvSpPr>
                  <p:spPr>
                    <a:xfrm rot="17742000">
                      <a:off x="5887440" y="484920"/>
                      <a:ext cx="70200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2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1033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5458320" y="292680"/>
                    <a:ext cx="427320" cy="1796040"/>
                    <a:chOff x="5458320" y="292680"/>
                    <a:chExt cx="427320" cy="1796040"/>
                  </a:xfrm>
                </p:grpSpPr>
                <p:sp>
                  <p:nvSpPr>
                    <p:cNvPr id="1036" name="Freeform 84"/>
                    <p:cNvSpPr/>
                    <p:nvPr/>
                  </p:nvSpPr>
                  <p:spPr>
                    <a:xfrm rot="16696200">
                      <a:off x="5008320" y="1446480"/>
                      <a:ext cx="11743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7" name="Freeform 85"/>
                    <p:cNvSpPr/>
                    <p:nvPr/>
                  </p:nvSpPr>
                  <p:spPr>
                    <a:xfrm rot="16696200">
                      <a:off x="5442120" y="532800"/>
                      <a:ext cx="63036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8" name="Group 86"/>
                  <p:cNvGrpSpPr/>
                  <p:nvPr/>
                </p:nvGrpSpPr>
                <p:grpSpPr>
                  <a:xfrm>
                    <a:off x="3062520" y="2530800"/>
                    <a:ext cx="2196360" cy="3002040"/>
                    <a:chOff x="3062520" y="2530800"/>
                    <a:chExt cx="2196360" cy="3002040"/>
                  </a:xfrm>
                </p:grpSpPr>
                <p:sp>
                  <p:nvSpPr>
                    <p:cNvPr id="1039" name="Freeform 87"/>
                    <p:cNvSpPr/>
                    <p:nvPr/>
                  </p:nvSpPr>
                  <p:spPr>
                    <a:xfrm flipH="1" rot="18336000">
                      <a:off x="3419280" y="3315240"/>
                      <a:ext cx="21272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0" name="Freeform 88"/>
                    <p:cNvSpPr/>
                    <p:nvPr/>
                  </p:nvSpPr>
                  <p:spPr>
                    <a:xfrm flipH="1" rot="18336000">
                      <a:off x="3068640" y="4592160"/>
                      <a:ext cx="114120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1" name="Group 89"/>
                  <p:cNvGrpSpPr/>
                  <p:nvPr/>
                </p:nvGrpSpPr>
                <p:grpSpPr>
                  <a:xfrm>
                    <a:off x="3791160" y="2650320"/>
                    <a:ext cx="1481400" cy="3000240"/>
                    <a:chOff x="3791160" y="2650320"/>
                    <a:chExt cx="1481400" cy="3000240"/>
                  </a:xfrm>
                </p:grpSpPr>
                <p:sp>
                  <p:nvSpPr>
                    <p:cNvPr id="1042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48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3" name="Freeform 91"/>
                    <p:cNvSpPr/>
                    <p:nvPr/>
                  </p:nvSpPr>
                  <p:spPr>
                    <a:xfrm flipH="1" rot="17543400">
                      <a:off x="3744360" y="4744800"/>
                      <a:ext cx="105408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4" name="Group 92"/>
                  <p:cNvGrpSpPr/>
                  <p:nvPr/>
                </p:nvGrpSpPr>
                <p:grpSpPr>
                  <a:xfrm>
                    <a:off x="4509000" y="2703240"/>
                    <a:ext cx="874440" cy="2927160"/>
                    <a:chOff x="4509000" y="2703240"/>
                    <a:chExt cx="874440" cy="2927160"/>
                  </a:xfrm>
                </p:grpSpPr>
                <p:sp>
                  <p:nvSpPr>
                    <p:cNvPr id="1045" name="Freeform 93"/>
                    <p:cNvSpPr/>
                    <p:nvPr/>
                  </p:nvSpPr>
                  <p:spPr>
                    <a:xfrm flipH="1" rot="16870800">
                      <a:off x="4086720" y="348912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6" name="Freeform 94"/>
                    <p:cNvSpPr/>
                    <p:nvPr/>
                  </p:nvSpPr>
                  <p:spPr>
                    <a:xfrm flipH="1" rot="16870800">
                      <a:off x="4367520" y="480852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7" name="Group 95"/>
                  <p:cNvGrpSpPr/>
                  <p:nvPr/>
                </p:nvGrpSpPr>
                <p:grpSpPr>
                  <a:xfrm>
                    <a:off x="5677920" y="2482920"/>
                    <a:ext cx="2280240" cy="2953800"/>
                    <a:chOff x="5677920" y="2482920"/>
                    <a:chExt cx="2280240" cy="2953800"/>
                  </a:xfrm>
                </p:grpSpPr>
                <p:sp>
                  <p:nvSpPr>
                    <p:cNvPr id="1048" name="Freeform 96"/>
                    <p:cNvSpPr/>
                    <p:nvPr/>
                  </p:nvSpPr>
                  <p:spPr>
                    <a:xfrm rot="3144000">
                      <a:off x="5415840" y="325044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9" name="Freeform 97"/>
                    <p:cNvSpPr/>
                    <p:nvPr/>
                  </p:nvSpPr>
                  <p:spPr>
                    <a:xfrm rot="3144000">
                      <a:off x="6799680" y="44974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0" name="Group 98"/>
                  <p:cNvGrpSpPr/>
                  <p:nvPr/>
                </p:nvGrpSpPr>
                <p:grpSpPr>
                  <a:xfrm>
                    <a:off x="5648040" y="2593440"/>
                    <a:ext cx="1758240" cy="3032280"/>
                    <a:chOff x="5648040" y="2593440"/>
                    <a:chExt cx="1758240" cy="3032280"/>
                  </a:xfrm>
                </p:grpSpPr>
                <p:sp>
                  <p:nvSpPr>
                    <p:cNvPr id="1051" name="Freeform 99"/>
                    <p:cNvSpPr/>
                    <p:nvPr/>
                  </p:nvSpPr>
                  <p:spPr>
                    <a:xfrm rot="3745200">
                      <a:off x="5265000" y="3395880"/>
                      <a:ext cx="203436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2" name="Freeform 100"/>
                    <p:cNvSpPr/>
                    <p:nvPr/>
                  </p:nvSpPr>
                  <p:spPr>
                    <a:xfrm rot="3745200">
                      <a:off x="635184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3" name="Group 101"/>
                  <p:cNvGrpSpPr/>
                  <p:nvPr/>
                </p:nvGrpSpPr>
                <p:grpSpPr>
                  <a:xfrm>
                    <a:off x="5576400" y="2710800"/>
                    <a:ext cx="1224720" cy="2986560"/>
                    <a:chOff x="5576400" y="2710800"/>
                    <a:chExt cx="1224720" cy="2986560"/>
                  </a:xfrm>
                </p:grpSpPr>
                <p:sp>
                  <p:nvSpPr>
                    <p:cNvPr id="105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5" name="Freeform 103"/>
                    <p:cNvSpPr/>
                    <p:nvPr/>
                  </p:nvSpPr>
                  <p:spPr>
                    <a:xfrm rot="4286400">
                      <a:off x="5877360" y="488124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6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1057" name="Freeform 105"/>
                    <p:cNvSpPr/>
                    <p:nvPr/>
                  </p:nvSpPr>
                  <p:spPr>
                    <a:xfrm rot="4898400">
                      <a:off x="4896360" y="3608280"/>
                      <a:ext cx="18122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8" name="Freeform 106"/>
                    <p:cNvSpPr/>
                    <p:nvPr/>
                  </p:nvSpPr>
                  <p:spPr>
                    <a:xfrm rot="4898400">
                      <a:off x="5427000" y="4865760"/>
                      <a:ext cx="973080" cy="4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06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6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6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7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7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7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100-31C4-4BDA-AA56-763F1D50DE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7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216-678C-45BE-A2E5-F7F55B57A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3BF-A779-4736-B344-2584322A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C468-542C-4BAA-94E1-8EA78375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20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7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9DB-4DE5-413A-92B7-FCCB9FA0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B19-EB2D-43B3-98F4-F499E1D8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1CB6-3B9E-48CC-8E92-E75D3465AA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30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3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2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333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7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8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0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34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8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8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8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8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39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9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39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96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9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0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0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0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1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1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38"/>
                <p:cNvGrpSpPr/>
                <p:nvPr/>
              </p:nvGrpSpPr>
              <p:grpSpPr>
                <a:xfrm>
                  <a:off x="6537960" y="906120"/>
                  <a:ext cx="1064880" cy="1140840"/>
                  <a:chOff x="6537960" y="906120"/>
                  <a:chExt cx="1064880" cy="1140840"/>
                </a:xfrm>
              </p:grpSpPr>
              <p:sp>
                <p:nvSpPr>
                  <p:cNvPr id="417" name="Freeform 39"/>
                  <p:cNvSpPr/>
                  <p:nvPr/>
                </p:nvSpPr>
                <p:spPr>
                  <a:xfrm flipH="1" rot="18888600">
                    <a:off x="6790680" y="1196280"/>
                    <a:ext cx="8856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40"/>
                  <p:cNvSpPr/>
                  <p:nvPr/>
                </p:nvSpPr>
                <p:spPr>
                  <a:xfrm flipH="1" rot="18888600">
                    <a:off x="6556680" y="166428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2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2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3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3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3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4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4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4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50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5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5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8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60" name="Group 82"/>
                <p:cNvGrpSpPr/>
                <p:nvPr/>
              </p:nvGrpSpPr>
              <p:grpSpPr>
                <a:xfrm>
                  <a:off x="7665480" y="-11520"/>
                  <a:ext cx="497880" cy="791280"/>
                  <a:chOff x="7665480" y="-11520"/>
                  <a:chExt cx="497880" cy="791280"/>
                </a:xfrm>
              </p:grpSpPr>
              <p:sp>
                <p:nvSpPr>
                  <p:cNvPr id="461" name="Freeform 83"/>
                  <p:cNvSpPr/>
                  <p:nvPr/>
                </p:nvSpPr>
                <p:spPr>
                  <a:xfrm rot="17742000">
                    <a:off x="7553880" y="466560"/>
                    <a:ext cx="5443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2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6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6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67" name="Freeform 89"/>
                  <p:cNvSpPr/>
                  <p:nvPr/>
                </p:nvSpPr>
                <p:spPr>
                  <a:xfrm rot="16696200">
                    <a:off x="7521480" y="478080"/>
                    <a:ext cx="4881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8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9" name="Group 91"/>
                <p:cNvGrpSpPr/>
                <p:nvPr/>
              </p:nvGrpSpPr>
              <p:grpSpPr>
                <a:xfrm>
                  <a:off x="6710760" y="930240"/>
                  <a:ext cx="912600" cy="1248480"/>
                  <a:chOff x="6710760" y="930240"/>
                  <a:chExt cx="912600" cy="1248480"/>
                </a:xfrm>
              </p:grpSpPr>
              <p:sp>
                <p:nvSpPr>
                  <p:cNvPr id="470" name="Freeform 92"/>
                  <p:cNvSpPr/>
                  <p:nvPr/>
                </p:nvSpPr>
                <p:spPr>
                  <a:xfrm flipH="1" rot="18336000">
                    <a:off x="6858360" y="1256400"/>
                    <a:ext cx="8848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1" name="Freeform 93"/>
                  <p:cNvSpPr/>
                  <p:nvPr/>
                </p:nvSpPr>
                <p:spPr>
                  <a:xfrm flipH="1" rot="18336000">
                    <a:off x="6712920" y="178740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2" name="Group 94"/>
                <p:cNvGrpSpPr/>
                <p:nvPr/>
              </p:nvGrpSpPr>
              <p:grpSpPr>
                <a:xfrm>
                  <a:off x="7014960" y="979200"/>
                  <a:ext cx="615960" cy="1248120"/>
                  <a:chOff x="7014960" y="979200"/>
                  <a:chExt cx="615960" cy="1248120"/>
                </a:xfrm>
              </p:grpSpPr>
              <p:sp>
                <p:nvSpPr>
                  <p:cNvPr id="473" name="Freeform 95"/>
                  <p:cNvSpPr/>
                  <p:nvPr/>
                </p:nvSpPr>
                <p:spPr>
                  <a:xfrm flipH="1" rot="17543400">
                    <a:off x="6992280" y="1307520"/>
                    <a:ext cx="8175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4" name="Freeform 96"/>
                  <p:cNvSpPr/>
                  <p:nvPr/>
                </p:nvSpPr>
                <p:spPr>
                  <a:xfrm flipH="1" rot="17543400">
                    <a:off x="6995160" y="1850760"/>
                    <a:ext cx="438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7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100"/>
                <p:cNvGrpSpPr/>
                <p:nvPr/>
              </p:nvGrpSpPr>
              <p:grpSpPr>
                <a:xfrm>
                  <a:off x="7799400" y="909000"/>
                  <a:ext cx="949680" cy="1229400"/>
                  <a:chOff x="7799400" y="909000"/>
                  <a:chExt cx="949680" cy="1229400"/>
                </a:xfrm>
              </p:grpSpPr>
              <p:sp>
                <p:nvSpPr>
                  <p:cNvPr id="479" name="Freeform 101"/>
                  <p:cNvSpPr/>
                  <p:nvPr/>
                </p:nvSpPr>
                <p:spPr>
                  <a:xfrm rot="3144000">
                    <a:off x="768996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102"/>
                  <p:cNvSpPr/>
                  <p:nvPr/>
                </p:nvSpPr>
                <p:spPr>
                  <a:xfrm rot="3144000">
                    <a:off x="826668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8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48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108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7" name="Group 109"/>
                <p:cNvGrpSpPr/>
                <p:nvPr/>
              </p:nvGrpSpPr>
              <p:grpSpPr>
                <a:xfrm>
                  <a:off x="7733520" y="1058760"/>
                  <a:ext cx="289800" cy="1155960"/>
                  <a:chOff x="7733520" y="1058760"/>
                  <a:chExt cx="289800" cy="1155960"/>
                </a:xfrm>
              </p:grpSpPr>
              <p:sp>
                <p:nvSpPr>
                  <p:cNvPr id="488" name="Freeform 110"/>
                  <p:cNvSpPr/>
                  <p:nvPr/>
                </p:nvSpPr>
                <p:spPr>
                  <a:xfrm rot="4898400">
                    <a:off x="7473240" y="1378080"/>
                    <a:ext cx="7542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9" name="Freeform 111"/>
                  <p:cNvSpPr/>
                  <p:nvPr/>
                </p:nvSpPr>
                <p:spPr>
                  <a:xfrm rot="4898400">
                    <a:off x="7693560" y="1901160"/>
                    <a:ext cx="4050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9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9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D31-48B7-4464-B315-668C9008A9A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341D-5642-4BE0-94DC-A0E498948A8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WordArt 7"/>
          <p:cNvSpPr txBox="1"/>
          <p:nvPr/>
        </p:nvSpPr>
        <p:spPr>
          <a:xfrm rot="267000">
            <a:off x="1463400" y="1360440"/>
            <a:ext cx="61434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幸福是什么语文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6"/>
          <p:cNvSpPr/>
          <p:nvPr/>
        </p:nvSpPr>
        <p:spPr>
          <a:xfrm>
            <a:off x="3276720" y="1557360"/>
            <a:ext cx="55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Text Box 8"/>
          <p:cNvSpPr/>
          <p:nvPr/>
        </p:nvSpPr>
        <p:spPr>
          <a:xfrm>
            <a:off x="395280" y="17733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三个青年最后明白的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“</a:t>
            </a:r>
            <a:r>
              <a:rPr b="1" lang="zh-CN" sz="1800" spc="-1" strike="noStrike">
                <a:solidFill>
                  <a:srgbClr val="ff00ff"/>
                </a:solidFill>
                <a:latin typeface="Verdana"/>
                <a:ea typeface="宋体"/>
              </a:rPr>
              <a:t>幸福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什么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Text Box 9"/>
          <p:cNvSpPr/>
          <p:nvPr/>
        </p:nvSpPr>
        <p:spPr>
          <a:xfrm>
            <a:off x="468360" y="3068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请在课文中找出来，并划下来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10"/>
          <p:cNvSpPr/>
          <p:nvPr/>
        </p:nvSpPr>
        <p:spPr>
          <a:xfrm>
            <a:off x="395280" y="4365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他们是如何弄明白的，都做过些什么呢，结果怎样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2781360"/>
            <a:ext cx="7777080" cy="367200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6"/>
          <p:cNvSpPr/>
          <p:nvPr/>
        </p:nvSpPr>
        <p:spPr>
          <a:xfrm>
            <a:off x="1042920" y="26028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幸福要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靠劳动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要靠很好地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尽自己的义务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做出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对人们有益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的事情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4"/>
          <p:cNvSpPr/>
          <p:nvPr/>
        </p:nvSpPr>
        <p:spPr>
          <a:xfrm>
            <a:off x="755640" y="90792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Verdana"/>
                <a:ea typeface="宋体"/>
              </a:rPr>
              <a:t>结合生活实际谈谈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55640" y="234936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  <a:ea typeface="宋体"/>
              </a:rPr>
              <a:t>你遇到过哪些让你感到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宋体"/>
              </a:rPr>
              <a:t>幸福</a:t>
            </a:r>
            <a:r>
              <a:rPr b="0" lang="zh-CN" sz="6000" spc="-1" strike="noStrike">
                <a:solidFill>
                  <a:srgbClr val="ff00ff"/>
                </a:solidFill>
                <a:latin typeface="Verdana"/>
                <a:ea typeface="宋体"/>
              </a:rPr>
              <a:t>的事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8"/>
          <p:cNvSpPr/>
          <p:nvPr/>
        </p:nvSpPr>
        <p:spPr>
          <a:xfrm>
            <a:off x="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Verdana"/>
                <a:ea typeface="宋体"/>
              </a:rPr>
              <a:t>下去找有关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  <a:ea typeface="宋体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宋体"/>
              </a:rPr>
              <a:t>幸福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  <a:ea typeface="宋体"/>
              </a:rPr>
              <a:t>”</a:t>
            </a:r>
            <a:r>
              <a:rPr b="1" lang="zh-CN" sz="7200" spc="-1" strike="noStrike">
                <a:solidFill>
                  <a:srgbClr val="0000cc"/>
                </a:solidFill>
                <a:latin typeface="Verdana"/>
                <a:ea typeface="宋体"/>
              </a:rPr>
              <a:t>的名人名言或语句，把它们收集起来，与同学交流。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611280" y="3068640"/>
            <a:ext cx="3384360" cy="360"/>
            <a:chOff x="611280" y="3068640"/>
            <a:chExt cx="3384360" cy="360"/>
          </a:xfrm>
        </p:grpSpPr>
        <p:sp>
          <p:nvSpPr>
            <p:cNvPr id="1193" name="Line 9"/>
            <p:cNvSpPr/>
            <p:nvPr/>
          </p:nvSpPr>
          <p:spPr>
            <a:xfrm>
              <a:off x="611280" y="3068640"/>
              <a:ext cx="3384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611280" y="306864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19640" y="3141720"/>
            <a:ext cx="1800360" cy="360"/>
            <a:chOff x="5219640" y="3141720"/>
            <a:chExt cx="1800360" cy="360"/>
          </a:xfrm>
        </p:grpSpPr>
        <p:sp>
          <p:nvSpPr>
            <p:cNvPr id="1196" name="Line 10"/>
            <p:cNvSpPr/>
            <p:nvPr/>
          </p:nvSpPr>
          <p:spPr>
            <a:xfrm>
              <a:off x="5219640" y="3141720"/>
              <a:ext cx="180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5219640" y="3141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100-3643-4FD7-ADFA-9484E21BE7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4"/>
          <p:cNvSpPr/>
          <p:nvPr/>
        </p:nvSpPr>
        <p:spPr>
          <a:xfrm>
            <a:off x="324000" y="981000"/>
            <a:ext cx="85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祝大家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一生幸福！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8"/>
          <p:cNvSpPr/>
          <p:nvPr/>
        </p:nvSpPr>
        <p:spPr>
          <a:xfrm>
            <a:off x="684360" y="692280"/>
            <a:ext cx="381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  <a:ea typeface="宋体"/>
              </a:rPr>
              <a:t>想想说说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Text Box 10"/>
          <p:cNvSpPr/>
          <p:nvPr/>
        </p:nvSpPr>
        <p:spPr>
          <a:xfrm>
            <a:off x="684360" y="2781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你认为什么是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细黑"/>
              </a:rPr>
              <a:t>幸福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468360" y="1413000"/>
            <a:ext cx="71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  <a:ea typeface="宋体"/>
              </a:rPr>
              <a:t>快速阅读课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宋体"/>
              </a:rPr>
              <a:t>思考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Verdana"/>
                <a:ea typeface="宋体"/>
              </a:rPr>
              <a:t>本文讲了一个什么故事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468360" y="4653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Verdana"/>
                <a:ea typeface="宋体"/>
              </a:rPr>
              <a:t>小组合作交流，并派代表反馈，其他同学可以补充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AutoShape 8"/>
          <p:cNvSpPr/>
          <p:nvPr/>
        </p:nvSpPr>
        <p:spPr>
          <a:xfrm rot="16200000">
            <a:off x="374076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1680 h 8137800"/>
              <a:gd name="textAreaBottom" fmla="*/ 792612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7"/>
                </a:lnTo>
                <a:cubicBezTo>
                  <a:pt x="10800" y="9906"/>
                  <a:pt x="5400" y="10805"/>
                  <a:pt x="0" y="10805"/>
                </a:cubicBezTo>
                <a:cubicBezTo>
                  <a:pt x="5400" y="10805"/>
                  <a:pt x="10800" y="11704"/>
                  <a:pt x="10800" y="12603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5" name="Group 14"/>
          <p:cNvGrpSpPr/>
          <p:nvPr/>
        </p:nvGrpSpPr>
        <p:grpSpPr>
          <a:xfrm>
            <a:off x="250920" y="1341360"/>
            <a:ext cx="8066160" cy="2226960"/>
            <a:chOff x="250920" y="1341360"/>
            <a:chExt cx="8066160" cy="2226960"/>
          </a:xfrm>
        </p:grpSpPr>
        <p:pic>
          <p:nvPicPr>
            <p:cNvPr id="1136" name="Picture 4" descr="图片 006"/>
            <p:cNvPicPr/>
            <p:nvPr/>
          </p:nvPicPr>
          <p:blipFill>
            <a:blip r:embed="rId1">
              <a:lum contrast="60000"/>
            </a:blip>
            <a:stretch/>
          </p:blipFill>
          <p:spPr>
            <a:xfrm>
              <a:off x="250920" y="1341360"/>
              <a:ext cx="180000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5" descr="图片 008"/>
            <p:cNvPicPr/>
            <p:nvPr/>
          </p:nvPicPr>
          <p:blipFill>
            <a:blip r:embed="rId2">
              <a:lum contrast="66000"/>
            </a:blip>
            <a:stretch/>
          </p:blipFill>
          <p:spPr>
            <a:xfrm>
              <a:off x="3059280" y="1341360"/>
              <a:ext cx="194436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6" descr="图片 009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6300720" y="1414440"/>
              <a:ext cx="20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11"/>
            <p:cNvSpPr/>
            <p:nvPr/>
          </p:nvSpPr>
          <p:spPr>
            <a:xfrm>
              <a:off x="1258920" y="2925720"/>
              <a:ext cx="56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三        个        牧           童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0" name="Text Box 12"/>
          <p:cNvSpPr/>
          <p:nvPr/>
        </p:nvSpPr>
        <p:spPr>
          <a:xfrm>
            <a:off x="4643280" y="4437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 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2268360" y="4437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11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1143" name="AutoShape 12"/>
          <p:cNvSpPr/>
          <p:nvPr/>
        </p:nvSpPr>
        <p:spPr>
          <a:xfrm>
            <a:off x="5292720" y="981000"/>
            <a:ext cx="3672000" cy="609840"/>
          </a:xfrm>
          <a:prstGeom prst="wedgeEllipseCallout">
            <a:avLst>
              <a:gd name="adj1" fmla="val -61930"/>
              <a:gd name="adj2" fmla="val 1705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我祝你们幸福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AutoShape 13"/>
          <p:cNvSpPr/>
          <p:nvPr/>
        </p:nvSpPr>
        <p:spPr>
          <a:xfrm>
            <a:off x="684360" y="1484280"/>
            <a:ext cx="3240000" cy="576360"/>
          </a:xfrm>
          <a:prstGeom prst="wedgeEllipseCallout">
            <a:avLst>
              <a:gd name="adj1" fmla="val -14625"/>
              <a:gd name="adj2" fmla="val 3312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幸福”是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AutoShape 18"/>
          <p:cNvSpPr/>
          <p:nvPr/>
        </p:nvSpPr>
        <p:spPr>
          <a:xfrm>
            <a:off x="5003640" y="2133720"/>
            <a:ext cx="3924360" cy="647640"/>
          </a:xfrm>
          <a:prstGeom prst="wedgeEllipseCallout">
            <a:avLst>
              <a:gd name="adj1" fmla="val -47814"/>
              <a:gd name="adj2" fmla="val 803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自己去弄明白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5" descr="图片 006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435640" y="2852640"/>
            <a:ext cx="1295280" cy="15033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" descr="图片 00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2771640" y="2852640"/>
            <a:ext cx="1295640" cy="15130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" descr="图片 009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4140360" y="2852640"/>
            <a:ext cx="12967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1835280" y="4365720"/>
            <a:ext cx="3240000" cy="360"/>
            <a:chOff x="1835280" y="4365720"/>
            <a:chExt cx="3240000" cy="360"/>
          </a:xfrm>
        </p:grpSpPr>
        <p:sp>
          <p:nvSpPr>
            <p:cNvPr id="1150" name="Line 11"/>
            <p:cNvSpPr/>
            <p:nvPr/>
          </p:nvSpPr>
          <p:spPr>
            <a:xfrm flipH="1">
              <a:off x="1835280" y="4365720"/>
              <a:ext cx="3240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>
              <a:off x="1835280" y="4365720"/>
              <a:ext cx="32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4859280" y="4365720"/>
            <a:ext cx="2879640" cy="360"/>
            <a:chOff x="4859280" y="4365720"/>
            <a:chExt cx="2879640" cy="360"/>
          </a:xfrm>
        </p:grpSpPr>
        <p:sp>
          <p:nvSpPr>
            <p:cNvPr id="1153" name="Line 12"/>
            <p:cNvSpPr/>
            <p:nvPr/>
          </p:nvSpPr>
          <p:spPr>
            <a:xfrm>
              <a:off x="4859280" y="4365720"/>
              <a:ext cx="2879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"/>
            <p:cNvSpPr txBox="1"/>
            <p:nvPr/>
          </p:nvSpPr>
          <p:spPr>
            <a:xfrm>
              <a:off x="4859280" y="436572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5" name="Text Box 13"/>
          <p:cNvSpPr/>
          <p:nvPr/>
        </p:nvSpPr>
        <p:spPr>
          <a:xfrm>
            <a:off x="104292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7956720" y="3938760"/>
            <a:ext cx="6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AutoShape 15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3635280" y="4941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留在村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5000" fill="hold"/>
                                        <p:tgtEl>
                                          <p:spTgt spid="1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" dur="5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WordArt 6"/>
          <p:cNvSpPr txBox="1"/>
          <p:nvPr/>
        </p:nvSpPr>
        <p:spPr>
          <a:xfrm>
            <a:off x="611280" y="907920"/>
            <a:ext cx="7056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4" descr="0"/>
          <p:cNvPicPr/>
          <p:nvPr/>
        </p:nvPicPr>
        <p:blipFill>
          <a:blip r:embed="rId1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1161" name="Text Box 15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宋体"/>
              </a:rPr>
              <a:t>再次相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20"/>
          <p:cNvGrpSpPr/>
          <p:nvPr/>
        </p:nvGrpSpPr>
        <p:grpSpPr>
          <a:xfrm>
            <a:off x="250920" y="333360"/>
            <a:ext cx="2663640" cy="2879640"/>
            <a:chOff x="250920" y="333360"/>
            <a:chExt cx="2663640" cy="2879640"/>
          </a:xfrm>
        </p:grpSpPr>
        <p:pic>
          <p:nvPicPr>
            <p:cNvPr id="1163" name="Picture 5" descr="图片 008"/>
            <p:cNvPicPr/>
            <p:nvPr/>
          </p:nvPicPr>
          <p:blipFill>
            <a:blip r:embed="rId1">
              <a:lum contrast="66000"/>
            </a:blip>
            <a:stretch/>
          </p:blipFill>
          <p:spPr>
            <a:xfrm>
              <a:off x="250920" y="333360"/>
              <a:ext cx="2663640" cy="208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4" name=""/>
            <p:cNvGrpSpPr/>
            <p:nvPr/>
          </p:nvGrpSpPr>
          <p:grpSpPr>
            <a:xfrm>
              <a:off x="1329840" y="2349360"/>
              <a:ext cx="2160" cy="863640"/>
              <a:chOff x="1329840" y="2349360"/>
              <a:chExt cx="2160" cy="863640"/>
            </a:xfrm>
          </p:grpSpPr>
          <p:sp>
            <p:nvSpPr>
              <p:cNvPr id="1165" name="Line 7"/>
              <p:cNvSpPr/>
              <p:nvPr/>
            </p:nvSpPr>
            <p:spPr>
              <a:xfrm flipH="1">
                <a:off x="1329840" y="2349360"/>
                <a:ext cx="1800" cy="863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>
                <a:off x="1330200" y="2349360"/>
                <a:ext cx="180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67" name="Group 21"/>
          <p:cNvGrpSpPr/>
          <p:nvPr/>
        </p:nvGrpSpPr>
        <p:grpSpPr>
          <a:xfrm>
            <a:off x="3348000" y="333360"/>
            <a:ext cx="2592360" cy="2751120"/>
            <a:chOff x="3348000" y="333360"/>
            <a:chExt cx="2592360" cy="2751120"/>
          </a:xfrm>
        </p:grpSpPr>
        <p:pic>
          <p:nvPicPr>
            <p:cNvPr id="1168" name="Picture 6" descr="图片 009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3348000" y="333360"/>
              <a:ext cx="2592360" cy="211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"/>
            <p:cNvGrpSpPr/>
            <p:nvPr/>
          </p:nvGrpSpPr>
          <p:grpSpPr>
            <a:xfrm>
              <a:off x="4716360" y="2421000"/>
              <a:ext cx="360" cy="663480"/>
              <a:chOff x="4716360" y="2421000"/>
              <a:chExt cx="360" cy="663480"/>
            </a:xfrm>
          </p:grpSpPr>
          <p:sp>
            <p:nvSpPr>
              <p:cNvPr id="1170" name="Line 8"/>
              <p:cNvSpPr/>
              <p:nvPr/>
            </p:nvSpPr>
            <p:spPr>
              <a:xfrm>
                <a:off x="4716360" y="2421000"/>
                <a:ext cx="0" cy="66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4716360" y="2421000"/>
                <a:ext cx="36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2" name="Group 22"/>
          <p:cNvGrpSpPr/>
          <p:nvPr/>
        </p:nvGrpSpPr>
        <p:grpSpPr>
          <a:xfrm>
            <a:off x="6227640" y="333360"/>
            <a:ext cx="2665440" cy="2933640"/>
            <a:chOff x="6227640" y="333360"/>
            <a:chExt cx="2665440" cy="2933640"/>
          </a:xfrm>
        </p:grpSpPr>
        <p:pic>
          <p:nvPicPr>
            <p:cNvPr id="1173" name="Picture 4" descr="图片 006"/>
            <p:cNvPicPr/>
            <p:nvPr/>
          </p:nvPicPr>
          <p:blipFill>
            <a:blip r:embed="rId3">
              <a:lum contrast="60000"/>
            </a:blip>
            <a:stretch/>
          </p:blipFill>
          <p:spPr>
            <a:xfrm>
              <a:off x="6227640" y="333360"/>
              <a:ext cx="266544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"/>
            <p:cNvGrpSpPr/>
            <p:nvPr/>
          </p:nvGrpSpPr>
          <p:grpSpPr>
            <a:xfrm>
              <a:off x="7885080" y="2421000"/>
              <a:ext cx="1800" cy="846000"/>
              <a:chOff x="7885080" y="2421000"/>
              <a:chExt cx="1800" cy="846000"/>
            </a:xfrm>
          </p:grpSpPr>
          <p:sp>
            <p:nvSpPr>
              <p:cNvPr id="1175" name="Line 9"/>
              <p:cNvSpPr/>
              <p:nvPr/>
            </p:nvSpPr>
            <p:spPr>
              <a:xfrm>
                <a:off x="7885080" y="2421000"/>
                <a:ext cx="1800" cy="84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7885080" y="2421000"/>
                <a:ext cx="1800" cy="84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77" name="Text Box 11"/>
          <p:cNvSpPr/>
          <p:nvPr/>
        </p:nvSpPr>
        <p:spPr>
          <a:xfrm>
            <a:off x="179280" y="31417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做医生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帮助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别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Text Box 12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做过许多事（对别人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有用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Text Box 13"/>
          <p:cNvSpPr/>
          <p:nvPr/>
        </p:nvSpPr>
        <p:spPr>
          <a:xfrm>
            <a:off x="6551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耕地种麦子（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养活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许多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AutoShape 14"/>
          <p:cNvSpPr/>
          <p:nvPr/>
        </p:nvSpPr>
        <p:spPr>
          <a:xfrm rot="16200000">
            <a:off x="4361040" y="795240"/>
            <a:ext cx="419040" cy="9144000"/>
          </a:xfrm>
          <a:custGeom>
            <a:avLst/>
            <a:gdLst>
              <a:gd name="textAreaLeft" fmla="*/ 267840 w 419040"/>
              <a:gd name="textAreaRight" fmla="*/ 419400 w 419040"/>
              <a:gd name="textAreaTop" fmla="*/ 237960 h 9144000"/>
              <a:gd name="textAreaBottom" fmla="*/ 890604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Text Box 15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感到幸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文本框 8200"/>
          <p:cNvSpPr/>
          <p:nvPr/>
        </p:nvSpPr>
        <p:spPr>
          <a:xfrm>
            <a:off x="1332000" y="263700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omic Sans MS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6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2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