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3F0-E29B-4322-B0F9-FF912269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D33-BE04-49D2-AD2B-024E9EAB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91AF-5799-4E32-B83C-A6684701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F1A-839A-495D-A4A3-6C7BA542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0121-329F-400C-BD41-CE278F34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FE47-30EC-491C-AEFA-34814128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3F15-4E81-4484-AA18-8269B762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FBF4-DDC0-4A57-83C9-DA2D5FB0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02A9-9F44-4C02-BF14-35A98556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E2B5-3283-48F1-9260-576F6B57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3D9E-2FA3-4A4F-B834-1E548F1E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997-3ADA-4B25-8507-659826A6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9ADB-5312-4FCD-81F0-06FABDEB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EB72-16DE-48EB-8C02-C364FFBF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4064-6085-4FE3-9E7C-106CE2A6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5D15-FDED-4780-AB43-909E8D66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4AF1-12DE-4933-B201-0FAD227E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A6ADA-B9B7-4566-99EB-ED321D55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DF5CC-D782-4513-80E6-1BA03091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CA64A-0977-4132-8ABB-D0A4B85C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B3134-6BC0-4F94-BABC-DE0565C7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A4D86-A60E-44BE-A980-951A35F8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95B-39A1-4308-855C-793063E1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6652C-4FE3-4BD6-A968-7DF6CACB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1D0E2-AEF3-4146-85E2-0CE52F56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F6F39-4D3F-4FB4-BD4C-1F04A178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F46CB-4658-440A-89E1-9D45863B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15FD4-5D1B-4392-A458-375DD9E8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12F0E-4CA4-4119-B04A-51566C78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699FE-6C45-46E1-BEAA-D2EFA03C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7FE-3003-4EBA-9D10-79673AA7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A8F-72CD-46F8-BDAD-25A24E82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09C-D790-44F4-99A1-E6C35DE2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837-7A81-4A1C-9686-A8115762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162-57D2-4274-8578-25327358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42E-F72D-4A76-A7D9-2B9B6E82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DF8C-B565-4C5B-A1C7-3E8250CC5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1C42-0335-4FA1-97E7-682AA395969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7119-EDAA-4423-A50A-3E2C0825D3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9A13-D343-452D-AC30-C1E9726556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490400" y="33336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学会看病语文</a:t>
            </a:r>
            <a:r>
              <a:rPr b="0" lang="en-US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模板课件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3780000" y="537372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ffcc00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图片 1" descr=""/>
          <p:cNvPicPr/>
          <p:nvPr/>
        </p:nvPicPr>
        <p:blipFill>
          <a:blip r:embed="rId16"/>
          <a:stretch/>
        </p:blipFill>
        <p:spPr>
          <a:xfrm>
            <a:off x="1876320" y="2238480"/>
            <a:ext cx="5104080" cy="360504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ahoma"/>
              </a:rPr>
              <a:t>生字：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打蔫   噢  怔住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喋喋不休   艰涩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坠入   忐忑不安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拖沓   倚靠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思考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794040" y="1989000"/>
            <a:ext cx="10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、妈妈为什么这样做？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867120" y="3068640"/>
            <a:ext cx="10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、妈妈的心里好受吗？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111840" y="4365720"/>
            <a:ext cx="270432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、作者这样写目的是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了什么？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725840" y="907920"/>
            <a:ext cx="566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妈妈这样做的目的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锻炼儿子独自面对生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活的能力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810920" y="5877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文本框 8197"/>
          <p:cNvSpPr/>
          <p:nvPr/>
        </p:nvSpPr>
        <p:spPr>
          <a:xfrm>
            <a:off x="1042920" y="2133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1898280" y="260280"/>
            <a:ext cx="5118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表现妈妈心理变化的词语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怔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咬着牙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心立刻软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后悔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忐忑不安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勇气又渐渐回到心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439480" y="6251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573200" y="1268280"/>
            <a:ext cx="520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这样写体现了母亲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浓浓的爱子深情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8079120" y="5964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3D32-45F9-40E4-A03F-2790DE40BC0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2035800" y="189000"/>
            <a:ext cx="4630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四字词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喋喋不休    雪上加霜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按图索骥    忐忑不安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毫无疑义    聊胜于无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7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51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