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CD1-B0F1-491F-807C-F42F28AE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289-7E8D-4854-8101-070DCBC3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797-1BF0-4834-A4C1-6D9A9083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209-112E-407E-90B5-1F9983D5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F829-90B2-4B0F-9CFA-99143B92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157D-81B2-46AA-93AA-B91DDBE3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58F8-EB30-4B41-A26B-F8CD1090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7C58-B656-41E0-BDE8-E57C4F5B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64F5-6722-4CC5-A631-1B67B929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4A55-EE88-4273-9C1E-D2F302B2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8182-F638-4673-A800-11664E51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DFF-5935-4DD0-8B75-15C670A7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097F-64E2-4647-97F0-0EA2E2F0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F16D-CDCF-45E6-98CF-6F1AC79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13D2-38DC-4E36-9F66-12CCD87A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6BBE-7A1C-48CA-A2B1-D434EF83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C48A-E924-4739-B8CA-F4315C16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421-DE72-44DC-BE8A-33D702AF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864-7A8F-4156-803E-A683409E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4DC-A58B-4CBA-85C2-1456FE04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BD2D-4CB5-4A14-BE49-AE2E8C45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6E4-C8B9-4305-A7A0-3D5AABB3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7B27-0E0C-4903-AA98-2BC0A53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9DD-4A1C-4FB6-BCD5-85BA6EE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D1CF-4355-4128-95CE-676AAD1F8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AF6E-4444-4E9F-9332-7E2DF0394D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88A5-10D0-42A2-A85D-6DDF3BD9F9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257,7,&#24187;&#28783;&#29255; 7" TargetMode="External"/><Relationship Id="rId5" Type="http://schemas.openxmlformats.org/officeDocument/2006/relationships/hyperlink" Target="263,10,&#24187;&#28783;&#29255; 10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282,13,&#24187;&#28783;&#29255; 13" TargetMode="External"/><Relationship Id="rId5" Type="http://schemas.openxmlformats.org/officeDocument/2006/relationships/hyperlink" Target="257,7,&#24187;&#28783;&#29255; 7" TargetMode="External"/><Relationship Id="rId6" Type="http://schemas.openxmlformats.org/officeDocument/2006/relationships/hyperlink" Target="263,10,&#24187;&#28783;&#29255; 10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69,14,&#12288;&#12288;&#29992;&#36523;&#23376;&#36461;&#20320;&#30340;&#33151;&#65292;&#25226;&#33046;&#23376;&#20280;&#20986;&#26469;&#35201;&#27714;&#32473;&#25235;&#30162;&#12290;" TargetMode="External"/><Relationship Id="rId2" Type="http://schemas.openxmlformats.org/officeDocument/2006/relationships/hyperlink" Target="270,15,&#12288;&#12288;&#22312;&#20320;&#20889;&#20316;&#30340;&#26102;&#20505;&#65292;&#36339;&#19978;&#26700;&#26469;&#65292;&#22312;&#31295;&#32440;&#19978;&#36393;&#21360;&#20960;&#26421;&#23567;&#26757;&#33457;&#12290;" TargetMode="External"/><Relationship Id="rId3" Type="http://schemas.openxmlformats.org/officeDocument/2006/relationships/hyperlink" Target="271,32,&#12288;&#12288;&#23427;&#36824;&#20250;&#20016;&#23500;&#22810;&#33108;&#22320;&#21483;&#21796;&#65292;&#38271;&#30701;&#19981;&#21516;&#65292;&#31895;&#32454;&#21508;&#24322;&#65292;&#21464;&#21270;&#22810;&#31471;&#12290;" TargetMode="External"/><Relationship Id="rId4" Type="http://schemas.openxmlformats.org/officeDocument/2006/relationships/hyperlink" Target="305,34,&#12288;&#12288;&#22312;&#19981;&#21483;&#30340;&#26102;&#20505;&#65292;&#23427;&#36824;&#20250;&#21653;&#22108;&#21653;&#22108;&#22320;&#32473;&#33258;&#24049;&#35299;&#38391;&#12290;" TargetMode="External"/><Relationship Id="rId5" Type="http://schemas.openxmlformats.org/officeDocument/2006/relationships/hyperlink" Target="302,4,&#24187;&#28783;&#29255; 4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302,4,&#24187;&#28783;&#29255; 4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311,15,&#23613;&#32844;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311,15,&#23613;&#32844;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311,15,&#23613;&#32844;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268,20,&#29483;&#30340;&#28201;&#26580;&#21487;&#20146;&#34920;&#29616;&#22312;&#20160;&#20040;&#22320;&#26041;&#65311;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268,20,&#29483;&#30340;&#28201;&#26580;&#21487;&#20146;&#34920;&#29616;&#22312;&#20160;&#20040;&#22320;&#26041;&#65311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268,20,&#29483;&#30340;&#28201;&#26580;&#21487;&#20146;&#34920;&#29616;&#22312;&#20160;&#20040;&#22320;&#26041;&#65311;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268,20,&#29483;&#30340;&#28201;&#26580;&#21487;&#20146;&#34920;&#29616;&#22312;&#20160;&#20040;&#22320;&#26041;&#65311;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300,16,&#23613;&#32844;" TargetMode="External"/><Relationship Id="rId2" Type="http://schemas.openxmlformats.org/officeDocument/2006/relationships/hyperlink" Target="267,9,&#12288;&#12288;&#23427;&#35201;&#26159;&#39640;&#20852;&#65292;&#33021;&#27604;&#35841;&#37117;&#28201;&#26580;&#21487;&#20146;&#12290;&#23427;&#33509;&#26159;&#19981;&#39640;&#20852;&#65292;&#19968;&#22768;&#20063;&#19981;&#20986;&#12290;" TargetMode="External"/><Relationship Id="rId3" Type="http://schemas.openxmlformats.org/officeDocument/2006/relationships/hyperlink" Target="301,10,&#24187;&#28783;&#29255; 10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F:\ppt\705\新课标人教版第七册语文猫优质课件下载3\32.jpg"/>
          <p:cNvPicPr/>
          <p:nvPr/>
        </p:nvPicPr>
        <p:blipFill>
          <a:blip r:embed="rId16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2590920" y="1371600"/>
            <a:ext cx="37335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文本框 2" descr=""/>
          <p:cNvPicPr/>
          <p:nvPr/>
        </p:nvPicPr>
        <p:blipFill>
          <a:blip r:embed="rId17"/>
          <a:stretch/>
        </p:blipFill>
        <p:spPr>
          <a:xfrm>
            <a:off x="1619280" y="733320"/>
            <a:ext cx="655956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858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段落大意：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要是高兴，能比谁都温柔可亲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猫的性格实在有些古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858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段落大意：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猫的性格实在有些古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343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这节课的学习，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我知道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BD05219_"/>
          <p:cNvPicPr/>
          <p:nvPr/>
        </p:nvPicPr>
        <p:blipFill>
          <a:blip r:embed="rId1"/>
          <a:stretch/>
        </p:blipFill>
        <p:spPr>
          <a:xfrm>
            <a:off x="1143000" y="2666880"/>
            <a:ext cx="26668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未命名2"/>
          <p:cNvPicPr/>
          <p:nvPr/>
        </p:nvPicPr>
        <p:blipFill>
          <a:blip r:embed="rId1"/>
          <a:stretch/>
        </p:blipFill>
        <p:spPr>
          <a:xfrm>
            <a:off x="3276720" y="685800"/>
            <a:ext cx="2743200" cy="17715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04" name="Picture 3" descr="未命名3"/>
          <p:cNvPicPr/>
          <p:nvPr/>
        </p:nvPicPr>
        <p:blipFill>
          <a:blip r:embed="rId2"/>
          <a:stretch/>
        </p:blipFill>
        <p:spPr>
          <a:xfrm>
            <a:off x="1447920" y="3505320"/>
            <a:ext cx="2895480" cy="1668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5" name="Picture 4" descr="未命名4"/>
          <p:cNvPicPr/>
          <p:nvPr/>
        </p:nvPicPr>
        <p:blipFill>
          <a:blip r:embed="rId3"/>
          <a:stretch/>
        </p:blipFill>
        <p:spPr>
          <a:xfrm>
            <a:off x="5334120" y="3429000"/>
            <a:ext cx="2662200" cy="1779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06" name="Rectangle 6"/>
          <p:cNvSpPr/>
          <p:nvPr/>
        </p:nvSpPr>
        <p:spPr>
          <a:xfrm>
            <a:off x="4378680" y="250992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4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2549880" y="518148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5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未命名2"/>
          <p:cNvPicPr/>
          <p:nvPr/>
        </p:nvPicPr>
        <p:blipFill>
          <a:blip r:embed="rId1"/>
          <a:stretch/>
        </p:blipFill>
        <p:spPr>
          <a:xfrm>
            <a:off x="3276720" y="685800"/>
            <a:ext cx="2743200" cy="17715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09" name="Picture 3" descr="未命名3"/>
          <p:cNvPicPr/>
          <p:nvPr/>
        </p:nvPicPr>
        <p:blipFill>
          <a:blip r:embed="rId2"/>
          <a:stretch/>
        </p:blipFill>
        <p:spPr>
          <a:xfrm>
            <a:off x="1447920" y="3505320"/>
            <a:ext cx="2895480" cy="1668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10" name="Picture 4" descr="未命名4"/>
          <p:cNvPicPr/>
          <p:nvPr/>
        </p:nvPicPr>
        <p:blipFill>
          <a:blip r:embed="rId3"/>
          <a:stretch/>
        </p:blipFill>
        <p:spPr>
          <a:xfrm>
            <a:off x="5334120" y="3429000"/>
            <a:ext cx="2662200" cy="1779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19920" y="525780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4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378680" y="250992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5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549880" y="518148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6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90676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猫的性格实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它老实吧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它贪玩吧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么尽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90676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猫的性格实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它老实吧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可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它贪玩吧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可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么尽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391520" y="60199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0574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要是高兴，能比谁都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温柔可亲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它若是不高兴，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一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不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猫的温柔可亲表现在什么地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219320" y="4572000"/>
            <a:ext cx="6629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问题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问题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问题３　　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问题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038480" y="57913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它什么都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总想藏起来．可是它又是那么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勇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不要说见着小虫和老鼠，就是遇上蛇也敢斗一斗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1523880" y="1828800"/>
            <a:ext cx="64771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猫的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性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在有些古怪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它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什么都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总想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藏起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可是它又是那么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勇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不要说见着小虫和老鼠，就是遇上蛇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也敢斗一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848720" y="58672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3733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它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老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吧，它的确有时候很乖。它会找个暖和的地方，成天睡大觉，无忧无虑，什么事也不过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未命名2"/>
          <p:cNvPicPr/>
          <p:nvPr/>
        </p:nvPicPr>
        <p:blipFill>
          <a:blip r:embed="rId1"/>
          <a:stretch/>
        </p:blipFill>
        <p:spPr>
          <a:xfrm>
            <a:off x="2666880" y="914400"/>
            <a:ext cx="3657600" cy="239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2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3733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它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老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吧，它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时候很乖。它会找个暖和的地方，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成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睡大觉，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无忧无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什么事也不过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未命名2"/>
          <p:cNvPicPr/>
          <p:nvPr/>
        </p:nvPicPr>
        <p:blipFill>
          <a:blip r:embed="rId1"/>
          <a:stretch/>
        </p:blipFill>
        <p:spPr>
          <a:xfrm>
            <a:off x="2666880" y="914400"/>
            <a:ext cx="3657600" cy="239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29" name="Rectangle 5"/>
          <p:cNvSpPr/>
          <p:nvPr/>
        </p:nvSpPr>
        <p:spPr>
          <a:xfrm>
            <a:off x="7467480" y="5867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09480" y="36572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决定要出去玩玩，就会出走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天一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任凭谁怎么呼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它也不肯回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未命名3"/>
          <p:cNvPicPr/>
          <p:nvPr/>
        </p:nvPicPr>
        <p:blipFill>
          <a:blip r:embed="rId1"/>
          <a:stretch/>
        </p:blipFill>
        <p:spPr>
          <a:xfrm>
            <a:off x="2209680" y="533520"/>
            <a:ext cx="52578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36572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决定要出去玩玩，就会出走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天一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任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谁怎么呼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它也不肯回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未命名3"/>
          <p:cNvPicPr/>
          <p:nvPr/>
        </p:nvPicPr>
        <p:blipFill>
          <a:blip r:embed="rId1"/>
          <a:stretch/>
        </p:blipFill>
        <p:spPr>
          <a:xfrm>
            <a:off x="1835280" y="620640"/>
            <a:ext cx="5257800" cy="3029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467480" y="5867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3885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听到老鼠的一点响动，又是多么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尽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它闭息凝视，一连就是几个钟头，非把老鼠等出来不可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未命名4"/>
          <p:cNvPicPr/>
          <p:nvPr/>
        </p:nvPicPr>
        <p:blipFill>
          <a:blip r:embed="rId1"/>
          <a:stretch/>
        </p:blipFill>
        <p:spPr>
          <a:xfrm>
            <a:off x="2362320" y="380880"/>
            <a:ext cx="49482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3885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听到老鼠的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点响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又是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多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尽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它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闭息凝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一连就是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几个钟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老鼠等出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未命名4"/>
          <p:cNvPicPr/>
          <p:nvPr/>
        </p:nvPicPr>
        <p:blipFill>
          <a:blip r:embed="rId1"/>
          <a:stretch/>
        </p:blipFill>
        <p:spPr>
          <a:xfrm>
            <a:off x="2362320" y="380880"/>
            <a:ext cx="4948200" cy="3308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7467480" y="5867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身子</a:t>
            </a: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蹭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的腿，把脖子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伸出来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求给抓痒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238880" y="58672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你写作的时候，跳上桌来，在稿纸上踩印几朵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梅花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14400" y="3657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在你写作的时候，跳上桌来，在稿纸上踩几个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脏脚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你写作的时候，跳上桌来，在稿纸上踩印几朵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梅花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238880" y="58672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523880" y="1828800"/>
            <a:ext cx="64771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猫的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性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在有些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怪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还会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丰富多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叫唤，</a:t>
            </a: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长短不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粗细各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变化多端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914400" y="3657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它还会怪声怪气地号叫，让人听了心烦。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还会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丰富多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叫唤，</a:t>
            </a: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长短不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粗细各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变化多端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238880" y="58672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CA98-2411-499C-8D0C-84C75CEE51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在不叫的时候，它还会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咕噜咕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给自己解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7238880" y="58672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523880" y="1828800"/>
            <a:ext cx="64771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猫的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性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在有些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古怪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62120" y="4952880"/>
            <a:ext cx="7772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/>
              </a:rPr>
              <a:t>第一自然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/>
              </a:rPr>
              <a:t>第二自然段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/>
              </a:rPr>
              <a:t>第三自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958200" y="3352680"/>
            <a:ext cx="14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0866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概括段落大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首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了解全文主要讲什么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然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段阅读，抓住段落中跟全文主要意思关系密切的内容，用简明的语句表达出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78483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的段落里有概括全段内容的句子，可采用“摘录法”来概括，就是把那个概括性的句子摘录下来作为段落大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78483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的段落里有概括全段内容的句子，可采用“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摘录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来概括，就是把那个概括性的句子摘录下来作为段落大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78483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的段落里有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概括全段内容的句子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可采用“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摘录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来概括，就是把那个概括性的句子摘录下来作为段落大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858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段落大意：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要是高兴，能比谁都温柔可亲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猫的性格实在有些古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23:36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50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