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1B8-8212-41F5-93B4-D3D31813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771-C869-4FF7-AF9E-156C37A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51A-12F2-4E0D-9E32-E49037D1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9D0-205E-4FCF-BC91-C51D33D2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6AA1-278C-4D3B-877B-B91F0DEF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0213-CF23-4B13-8C44-6C393C6C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E832-5927-40CF-8B76-408FD946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E2FC-4723-43E9-BCA1-73377C9A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5FA5-6B03-4655-8F2B-44B53CFF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E21C-5233-4031-A7C5-E311E0B1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D4E4-48CD-4AE6-B5E1-377A2DD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A92-25D9-4994-BD9A-9A73886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041-4B6D-4D66-88E5-BF67386C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BF8-AFB1-4881-A85C-292B678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C90A-EF52-46B3-89C4-9FC2467F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35FA-7EBA-448B-A76D-A1D8F0A7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F443-D872-4AD9-96E2-0044728D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4DD0-D412-49CA-8E82-D6EE2186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3033-E9B9-455E-9C06-61D2525A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57052-F6AF-4B4A-908F-980C6DA6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7C35A-A41C-42E1-97C8-94CF3C81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E326-1EEA-4EDF-A093-F8E96A96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FB6-B80C-4CFB-8868-10A15596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0E8D-C522-474C-8EEE-417578D3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65B2-A128-421D-ACE7-BEEDCBB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9216-9298-4F3D-8B6E-62C97ED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6FDB-086F-4198-AA1A-B46BEF09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0F55-3B26-40A7-ABC6-11A8F564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02CF-CB1E-4E22-9EB2-2118DFF7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5F1C-F305-4245-9EBA-B48EA3CC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2617-B965-43A2-846A-658A9964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4BD7-10E3-4C46-B1FA-DC8DEE29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0FCD-3970-454D-A43F-276CE91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E55-76E8-4922-A12C-DDD6B86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CCA9-ACFC-4449-9D86-DBC7261E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84C0C-7719-42D0-B08E-D445F72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A3E4D-9ECE-4D8D-BDD7-9BA6CBE3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ABCE-648A-4289-8E20-01B5093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97F3-E874-4546-B819-8CDF4578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AC45-1E5D-4E1A-8B49-0EEA40F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2600-826D-48A7-9FC5-2787E83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7F2F-7D58-4619-8830-7BFED234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4B0F-F701-4E02-A9CA-3D04E097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179-736D-46A4-AF7E-56C4DB6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E77-8F1C-4D74-A9D2-6B7F97E5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37E-662D-446A-9582-9DDCFFF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D40-91DB-4B73-B4D0-310975EF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089-AAF2-4134-A16F-13AD0F68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FC3-FF85-4678-8880-B4BEBD31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7D36-E34F-444B-A514-AA55C1F6FE2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C58-186F-4670-96BE-071B09BC300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ED98-1C18-4AB1-9A08-A4DE6781FF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ANABNR2"/>
          <p:cNvPicPr/>
          <p:nvPr/>
        </p:nvPicPr>
        <p:blipFill>
          <a:blip r:embed="rId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081-8341-4CD0-81BB-FFA033984E5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P32043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971640" y="404640"/>
            <a:ext cx="602928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西门豹语文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208160"/>
            <a:ext cx="86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田地荒芜      人烟稀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河伯      巫婆       官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提心吊胆      面如土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扑腾   磕头求饶    淌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娶媳妇   闹旱灾  开凿渠道   灌溉庄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我会猜"/>
          <p:cNvPicPr/>
          <p:nvPr/>
        </p:nvPicPr>
        <p:blipFill>
          <a:blip r:embed="rId2"/>
          <a:stretch/>
        </p:blipFill>
        <p:spPr>
          <a:xfrm>
            <a:off x="0" y="0"/>
            <a:ext cx="1692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84360" y="2147760"/>
            <a:ext cx="82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　　战国时候，魏王派西门豹去管理邺这个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楷体"/>
              </a:rPr>
              <a:t>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管理前？管理后？怎么管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4"/>
          <p:cNvPicPr/>
          <p:nvPr/>
        </p:nvPicPr>
        <p:blipFill>
          <a:blip r:embed="rId3"/>
          <a:stretch/>
        </p:blipFill>
        <p:spPr>
          <a:xfrm>
            <a:off x="0" y="176040"/>
            <a:ext cx="2411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042920" y="2565360"/>
            <a:ext cx="5977080" cy="360"/>
            <a:chOff x="1042920" y="2565360"/>
            <a:chExt cx="5977080" cy="360"/>
          </a:xfrm>
        </p:grpSpPr>
        <p:sp>
          <p:nvSpPr>
            <p:cNvPr id="186" name="Line 3"/>
            <p:cNvSpPr/>
            <p:nvPr/>
          </p:nvSpPr>
          <p:spPr>
            <a:xfrm>
              <a:off x="1042920" y="2565360"/>
              <a:ext cx="5977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042920" y="2565360"/>
              <a:ext cx="59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4"/>
          <p:cNvSpPr/>
          <p:nvPr/>
        </p:nvSpPr>
        <p:spPr>
          <a:xfrm>
            <a:off x="971640" y="1125360"/>
            <a:ext cx="6840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　　西门豹到了那里，看到田地荒芜，人烟稀少，就找了位老大爷，问他是怎么回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西门豹"/>
          <p:cNvPicPr/>
          <p:nvPr/>
        </p:nvPicPr>
        <p:blipFill>
          <a:blip r:embed="rId3"/>
          <a:stretch/>
        </p:blipFill>
        <p:spPr>
          <a:xfrm>
            <a:off x="395280" y="189000"/>
            <a:ext cx="4100400" cy="630864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8200"/>
          <p:cNvSpPr/>
          <p:nvPr/>
        </p:nvSpPr>
        <p:spPr>
          <a:xfrm>
            <a:off x="4500720" y="15573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西门豹先叫卫士把巫婆投进河里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等了一会儿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他又叫卫士把官绅头子投进河里；接着，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面对漳河站了很久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又要叫卫士把官绅们扔进河里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过了一会儿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他才让官绅们回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1044720" y="620640"/>
            <a:ext cx="8064360" cy="5416920"/>
            <a:chOff x="1044720" y="620640"/>
            <a:chExt cx="8064360" cy="5416920"/>
          </a:xfrm>
        </p:grpSpPr>
        <p:sp>
          <p:nvSpPr>
            <p:cNvPr id="198" name="Text Box 4"/>
            <p:cNvSpPr/>
            <p:nvPr/>
          </p:nvSpPr>
          <p:spPr>
            <a:xfrm>
              <a:off x="1684440" y="620640"/>
              <a:ext cx="231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默读课文，填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1044720" y="1789200"/>
              <a:ext cx="806436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2176560" y="21542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044720" y="1573200"/>
              <a:ext cx="7559640" cy="360"/>
              <a:chOff x="1044720" y="1573200"/>
              <a:chExt cx="7559640" cy="360"/>
            </a:xfrm>
          </p:grpSpPr>
          <p:sp>
            <p:nvSpPr>
              <p:cNvPr id="202" name="Line 7"/>
              <p:cNvSpPr/>
              <p:nvPr/>
            </p:nvSpPr>
            <p:spPr>
              <a:xfrm>
                <a:off x="1044720" y="157320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1044720" y="157320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044720" y="1573200"/>
              <a:ext cx="360" cy="4464000"/>
              <a:chOff x="1044720" y="1573200"/>
              <a:chExt cx="360" cy="4464000"/>
            </a:xfrm>
          </p:grpSpPr>
          <p:sp>
            <p:nvSpPr>
              <p:cNvPr id="205" name="Line 8"/>
              <p:cNvSpPr/>
              <p:nvPr/>
            </p:nvSpPr>
            <p:spPr>
              <a:xfrm>
                <a:off x="104472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104472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044720" y="6037200"/>
              <a:ext cx="7559640" cy="360"/>
              <a:chOff x="1044720" y="6037200"/>
              <a:chExt cx="7559640" cy="360"/>
            </a:xfrm>
          </p:grpSpPr>
          <p:sp>
            <p:nvSpPr>
              <p:cNvPr id="208" name="Line 9"/>
              <p:cNvSpPr/>
              <p:nvPr/>
            </p:nvSpPr>
            <p:spPr>
              <a:xfrm>
                <a:off x="1044720" y="603720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1044720" y="603720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8604360" y="1573200"/>
              <a:ext cx="360" cy="4464000"/>
              <a:chOff x="8604360" y="1573200"/>
              <a:chExt cx="360" cy="4464000"/>
            </a:xfrm>
          </p:grpSpPr>
          <p:sp>
            <p:nvSpPr>
              <p:cNvPr id="211" name="Line 10"/>
              <p:cNvSpPr/>
              <p:nvPr/>
            </p:nvSpPr>
            <p:spPr>
              <a:xfrm>
                <a:off x="860436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860436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044720" y="2436840"/>
              <a:ext cx="7559640" cy="360"/>
              <a:chOff x="1044720" y="2436840"/>
              <a:chExt cx="7559640" cy="360"/>
            </a:xfrm>
          </p:grpSpPr>
          <p:sp>
            <p:nvSpPr>
              <p:cNvPr id="214" name="Line 11"/>
              <p:cNvSpPr/>
              <p:nvPr/>
            </p:nvSpPr>
            <p:spPr>
              <a:xfrm>
                <a:off x="1044720" y="243684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1044720" y="243684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044720" y="3301920"/>
              <a:ext cx="7559640" cy="360"/>
              <a:chOff x="1044720" y="3301920"/>
              <a:chExt cx="7559640" cy="360"/>
            </a:xfrm>
          </p:grpSpPr>
          <p:sp>
            <p:nvSpPr>
              <p:cNvPr id="217" name="Line 12"/>
              <p:cNvSpPr/>
              <p:nvPr/>
            </p:nvSpPr>
            <p:spPr>
              <a:xfrm>
                <a:off x="1044720" y="330192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1044720" y="330192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044720" y="4165560"/>
              <a:ext cx="7559640" cy="360"/>
              <a:chOff x="1044720" y="4165560"/>
              <a:chExt cx="7559640" cy="360"/>
            </a:xfrm>
          </p:grpSpPr>
          <p:sp>
            <p:nvSpPr>
              <p:cNvPr id="220" name="Line 13"/>
              <p:cNvSpPr/>
              <p:nvPr/>
            </p:nvSpPr>
            <p:spPr>
              <a:xfrm>
                <a:off x="1044720" y="416556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1044720" y="416556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044720" y="5102280"/>
              <a:ext cx="7559640" cy="360"/>
              <a:chOff x="1044720" y="5102280"/>
              <a:chExt cx="7559640" cy="360"/>
            </a:xfrm>
          </p:grpSpPr>
          <p:sp>
            <p:nvSpPr>
              <p:cNvPr id="223" name="Line 14"/>
              <p:cNvSpPr/>
              <p:nvPr/>
            </p:nvSpPr>
            <p:spPr>
              <a:xfrm>
                <a:off x="1044720" y="5102280"/>
                <a:ext cx="75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1044720" y="510228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365640" y="1573200"/>
              <a:ext cx="360" cy="4464000"/>
              <a:chOff x="3365640" y="1573200"/>
              <a:chExt cx="360" cy="4464000"/>
            </a:xfrm>
          </p:grpSpPr>
          <p:sp>
            <p:nvSpPr>
              <p:cNvPr id="226" name="Line 15"/>
              <p:cNvSpPr/>
              <p:nvPr/>
            </p:nvSpPr>
            <p:spPr>
              <a:xfrm>
                <a:off x="336564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336564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232240" y="1573200"/>
              <a:ext cx="360" cy="4464000"/>
              <a:chOff x="5232240" y="1573200"/>
              <a:chExt cx="360" cy="4464000"/>
            </a:xfrm>
          </p:grpSpPr>
          <p:sp>
            <p:nvSpPr>
              <p:cNvPr id="229" name="Line 16"/>
              <p:cNvSpPr/>
              <p:nvPr/>
            </p:nvSpPr>
            <p:spPr>
              <a:xfrm>
                <a:off x="5232240" y="1573200"/>
                <a:ext cx="0" cy="44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5232240" y="1573200"/>
                <a:ext cx="360" cy="44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17"/>
            <p:cNvSpPr/>
            <p:nvPr/>
          </p:nvSpPr>
          <p:spPr>
            <a:xfrm>
              <a:off x="1842480" y="171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问什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1483560" y="2581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这是怎么回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1483560" y="337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这话是谁说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1483560" y="44528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新娘哪儿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1545120" y="531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漳河发过大水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3785760" y="1717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为什么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6025320" y="1717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了解到的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785760" y="2581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真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6086880" y="2581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河伯娶媳妇闹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3785760" y="3444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主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6350760" y="35179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巫婆、官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8"/>
            <p:cNvSpPr/>
            <p:nvPr/>
          </p:nvSpPr>
          <p:spPr>
            <a:xfrm>
              <a:off x="3847320" y="4452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受害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9"/>
            <p:cNvSpPr/>
            <p:nvPr/>
          </p:nvSpPr>
          <p:spPr>
            <a:xfrm>
              <a:off x="5962680" y="4452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没钱的人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0"/>
            <p:cNvSpPr/>
            <p:nvPr/>
          </p:nvSpPr>
          <p:spPr>
            <a:xfrm>
              <a:off x="3785760" y="538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效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1"/>
            <p:cNvSpPr/>
            <p:nvPr/>
          </p:nvSpPr>
          <p:spPr>
            <a:xfrm>
              <a:off x="6148800" y="53895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没发大水倒闹旱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6CD-75DC-4C92-9200-6B77FB9A63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2"/>
          <p:cNvSpPr txBox="1"/>
          <p:nvPr/>
        </p:nvSpPr>
        <p:spPr>
          <a:xfrm>
            <a:off x="468360" y="404640"/>
            <a:ext cx="30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拓展延伸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2" name="Picture 3" descr="图片1"/>
          <p:cNvPicPr/>
          <p:nvPr/>
        </p:nvPicPr>
        <p:blipFill>
          <a:blip r:embed="rId2"/>
          <a:stretch/>
        </p:blipFill>
        <p:spPr>
          <a:xfrm>
            <a:off x="3708360" y="333360"/>
            <a:ext cx="1584360" cy="9856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1332000" y="2708280"/>
            <a:ext cx="67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学了这篇课文，你有什么想法？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34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33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