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D4E-6CE9-4E20-9C5A-2192FCFA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9B2-0858-4F77-968B-78AE140E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6594-76C9-4FDD-BD41-52687136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E10-239B-4425-AA95-066E9A92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BF2E-3C48-49C4-82F6-D9CCC2DE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122C-FD27-40C0-86EE-14C5658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3C2F-1D75-4B6A-891E-ACC01F0E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C218-EFC5-4291-A378-8225A255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8C9E-74E2-4489-9F92-DCC4CD41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5644-9B12-4040-926D-95874FF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ADD1-C5A1-4277-B1F7-44B3F9CA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BFF-F410-4C8D-A971-B23ABD5B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7B1B-76D1-4C07-81DE-7FECE2ED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0198-F21B-4452-A58F-201F10A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FA7B-D213-4159-979A-1ABA6EAE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9361-A042-439F-B8D5-3F4F62E6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C5A-C2F2-4DBB-AE09-A7242D6F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2FE-A31B-485C-BFBA-5110858E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A8A-1A92-4251-A37B-B839C348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AC3-9A85-4A00-A13A-B838FA1F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920-E888-4577-A12E-AB03A089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E8C-4E56-434B-AFE7-E3F5E8FB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0E8-D7F3-4DEA-BBF0-331F579A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1E7-4007-49D6-A78C-CCB5C173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122A-D936-4D88-8171-FA5D2CB27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A151-D79F-4DAB-8283-AF8C70EEE80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82CC-3D56-44B1-9EF2-AFB6C66B23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B_2008-10-10-15-02-3912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9"/>
          <p:cNvSpPr txBox="1"/>
          <p:nvPr/>
        </p:nvSpPr>
        <p:spPr>
          <a:xfrm>
            <a:off x="898560" y="836640"/>
            <a:ext cx="698508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ff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.</a:t>
            </a: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ff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小木偶的故事语文</a:t>
            </a:r>
            <a:r>
              <a:rPr b="1" lang="en-US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ff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PPT</a:t>
            </a: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ff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课件下载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99cc00"/>
                  </a:gs>
                  <a:gs pos="50000">
                    <a:srgbClr val="ffff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730600" y="4776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611280" y="119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笑是很重要的，是非常美好的，谁要是不会笑，就无法体验生活的快乐。但生活是复杂的，除了一些高兴的事之外，还有一些伤心的事，不同的事情会引起我们不同的情感态度，要用我们的真情、用不同的方式去体验生活，面对生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8200"/>
          <p:cNvSpPr/>
          <p:nvPr/>
        </p:nvSpPr>
        <p:spPr>
          <a:xfrm>
            <a:off x="1692360" y="692280"/>
            <a:ext cx="445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684360" y="76500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续编故事</a:t>
            </a:r>
            <a:endParaRPr b="0" lang="en-US" sz="1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3" name="WordArt 3" descr=""/>
          <p:cNvPicPr/>
          <p:nvPr/>
        </p:nvPicPr>
        <p:blipFill>
          <a:blip r:embed="rId1"/>
          <a:stretch/>
        </p:blipFill>
        <p:spPr>
          <a:xfrm>
            <a:off x="1104840" y="2840040"/>
            <a:ext cx="684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838080" y="762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木偶的故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者：吕丽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41360" y="17733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该书包括三个童话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79280" y="2708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笑是远远不够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0" y="3657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喜欢做我自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04920" y="4648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不是一段普通的木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611280" y="148428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喜欢哪部分，小组分角色朗读，然后再分角色表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611280" y="177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嘿！小木偶！你的红背包真漂亮，让我背一下好吗？就背一下。我想看看这种红和我的毛色是不是相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704000" y="5805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好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pic_1149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40328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吵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983480" y="1268280"/>
            <a:ext cx="146016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报告警官，他抢我的包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788000" y="148428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那是我的，我的，我的！小木偶尖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50920" y="83664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穿警服的熊看看小红狐，小红狐满脸的愤怒；再看看小木偶，小木偶一副笑嘻嘻的表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57200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放开！放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200511140435467725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0" y="2924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兔子温柔地问：“你怎么啦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508720" y="184464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脑袋疼。小木偶抬起头，笑嘻嘻地回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0" y="1125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嘻嘻。装得一点儿都不像！你瞧，应该像我这样。”小兔子龇牙咧嘴地做了个痛苦的表情，蹦蹦跳跳地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755640" y="220500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婆婆走过来：“小木头人，你病了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211640" y="5516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脑袋很疼。”小木偶还是一副笑嘻嘻的表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900000" y="213372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真不像话，连小木头人都学着撒谎！“老婆婆嘟嘟囔囔地走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610a46d8db248029b9c31ae6bb59e7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250920" y="198900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小木偶委屈极了！可是有什么办法呢？老木匠只给了他一种表情，那就是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0" y="69228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小木偶的心情怎么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兔子、老婆婆都不相信它，它的心情是怎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4000" y="321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伤心、难过，但又哭不出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26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27"/>
          <p:cNvSpPr/>
          <p:nvPr/>
        </p:nvSpPr>
        <p:spPr>
          <a:xfrm>
            <a:off x="662040" y="18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读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8"/>
          <p:cNvSpPr/>
          <p:nvPr/>
        </p:nvSpPr>
        <p:spPr>
          <a:xfrm>
            <a:off x="539640" y="981000"/>
            <a:ext cx="777744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板着脸   笑嘻嘻  亲热  愤怒   委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柔   龇牙咧嘴  痛苦  嘟嘟囔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放声大哭  伤心  生气  着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愤怒     伤心    痛苦    难过   高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惭愧     害羞    害怕    骄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0022_j9aBduaJ9Asr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826920" y="544500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头疼，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9640" y="51577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那是因为你很伤心，却不会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032360" y="12682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是，而且越来越疼了。”小木偶可怜巴巴地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24360" y="1341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哇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木偶放声大哭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50920" y="5084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木偶，我把人类所有的表情都送给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492360" y="112536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现在，小木偶会哭，会笑，会生气，会着急，也会向别人表示同情和关心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现在，小木偶会哭，会笑，会生气，会着急，也会向别人表示同情和关心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95280" y="182232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是我的，我的，我的！”小木偶（        ）地尖叫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疼。”小木偶抬起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）           地回答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很疼。”小木偶是一副（          ）  的表情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是，而且越来越疼了。”小木偶    （        ）地说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268360" y="8366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木偶真实的表情或心情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WordArt 4"/>
          <p:cNvSpPr txBox="1"/>
          <p:nvPr/>
        </p:nvSpPr>
        <p:spPr>
          <a:xfrm>
            <a:off x="250920" y="0"/>
            <a:ext cx="194472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95280" y="62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是很重要的。谁要是不会笑，谁就没办法过快乐的日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79280" y="2997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 Black"/>
                <a:ea typeface="黑体"/>
              </a:rPr>
              <a:t>老木匠说得没错，笑是很重要的。不过，要是只会笑，那可是远远不够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8200"/>
          <p:cNvSpPr/>
          <p:nvPr/>
        </p:nvSpPr>
        <p:spPr>
          <a:xfrm>
            <a:off x="900000" y="213372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35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老木匠说得没错，笑是很重要的。</a:t>
            </a:r>
            <a:r>
              <a:rPr b="1" lang="zh-CN" sz="5400" spc="-1" strike="noStrike">
                <a:solidFill>
                  <a:srgbClr val="ff0066"/>
                </a:solidFill>
                <a:latin typeface="黑体"/>
                <a:ea typeface="黑体"/>
              </a:rPr>
              <a:t>不过，要是只会笑，那可是远远不够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611280" y="1197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生活中，笑是很重要的，是非常美好的，谁要是不会笑，就无法体验生活的快乐。但生活是复杂的，除了一些高兴的事之外，还有一些伤心的事，不同的事情会引起我们不同的情感态度，要用我们的真情、用不同的方式去体验生活，面对生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684360" y="76500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续编故事</a:t>
            </a:r>
            <a:endParaRPr b="0" lang="en-US" sz="1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1" name="WordArt 3" descr=""/>
          <p:cNvPicPr/>
          <p:nvPr/>
        </p:nvPicPr>
        <p:blipFill>
          <a:blip r:embed="rId1"/>
          <a:stretch/>
        </p:blipFill>
        <p:spPr>
          <a:xfrm>
            <a:off x="1104840" y="2840040"/>
            <a:ext cx="684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838080" y="762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木偶的故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者：吕丽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41360" y="177336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该书包括三个童话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79280" y="2708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笑是远远不够的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0" y="3657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喜欢做我自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04920" y="46483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不是一段普通的木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2"/>
          <p:cNvSpPr txBox="1"/>
          <p:nvPr/>
        </p:nvSpPr>
        <p:spPr>
          <a:xfrm>
            <a:off x="684360" y="76500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续编故事</a:t>
            </a:r>
            <a:endParaRPr b="0" lang="en-US" sz="1800" spc="1" strike="noStrike">
              <a:ln w="1260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8" name="WordArt 3" descr=""/>
          <p:cNvPicPr/>
          <p:nvPr/>
        </p:nvPicPr>
        <p:blipFill>
          <a:blip r:embed="rId1"/>
          <a:stretch/>
        </p:blipFill>
        <p:spPr>
          <a:xfrm>
            <a:off x="1104840" y="2840040"/>
            <a:ext cx="6840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gifmb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685800" y="533520"/>
            <a:ext cx="6934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Times New Roman"/>
              </a:rPr>
              <a:t>人类所有的表情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57200" y="1523880"/>
            <a:ext cx="8686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哭、笑、生气、着急、同情、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愤怒、伤心、痛苦、难过、高兴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惭愧、害羞、害怕、骄傲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84360" y="14842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7636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157760" y="1327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学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5892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拽  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3492360" y="234936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毛 茸 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156360" y="2205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 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32000" y="378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 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564000" y="3716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魔  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724360" y="3645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龇牙咧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90000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zhua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83528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780000" y="1916280"/>
            <a:ext cx="19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3924360" y="177336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637236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f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7093080" y="184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403280" y="33577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763640" y="3284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3203640" y="328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99564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435640" y="3213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z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5651640" y="306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6588000" y="3213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l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6877080" y="31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6805-6322-4A37-9D60-5F5AD2EB1B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179280" y="47628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笑是很重要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谁要是不会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谁就没办法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过快乐的日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00"/>
                </a:solidFill>
                <a:latin typeface="Arial"/>
                <a:ea typeface="黑体"/>
              </a:rPr>
              <a:t>学习任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252720" y="126828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、默读课文，思考：在小木偶身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发生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、小木偶遇到一系列挫折时，心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会想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    </a:t>
            </a:r>
            <a:r>
              <a:rPr b="0" lang="en-US" sz="4000" spc="-1" strike="noStrike">
                <a:solidFill>
                  <a:srgbClr val="9966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996600"/>
                </a:solidFill>
                <a:latin typeface="黑体"/>
                <a:ea typeface="黑体"/>
              </a:rPr>
              <a:t>、文章的最后一段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6084720" y="2205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8567640" y="4365720"/>
            <a:ext cx="576360" cy="3585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4707" h="21600">
                <a:moveTo>
                  <a:pt x="0" y="0"/>
                </a:moveTo>
                <a:lnTo>
                  <a:pt x="34707" y="0"/>
                </a:lnTo>
                <a:lnTo>
                  <a:pt x="34707" y="21600"/>
                </a:lnTo>
                <a:lnTo>
                  <a:pt x="0" y="21600"/>
                </a:lnTo>
                <a:close/>
              </a:path>
              <a:path fill="lightenLess" w="34707" h="21600">
                <a:moveTo>
                  <a:pt x="0" y="0"/>
                </a:moveTo>
                <a:lnTo>
                  <a:pt x="34707" y="0"/>
                </a:lnTo>
                <a:lnTo>
                  <a:pt x="33307" y="1400"/>
                </a:lnTo>
                <a:lnTo>
                  <a:pt x="1400" y="1400"/>
                </a:lnTo>
                <a:close/>
              </a:path>
              <a:path fill="darken" w="34707" h="21600">
                <a:moveTo>
                  <a:pt x="34707" y="0"/>
                </a:moveTo>
                <a:lnTo>
                  <a:pt x="34707" y="21600"/>
                </a:lnTo>
                <a:lnTo>
                  <a:pt x="33307" y="20200"/>
                </a:lnTo>
                <a:lnTo>
                  <a:pt x="33307" y="1400"/>
                </a:lnTo>
                <a:close/>
              </a:path>
              <a:path fill="darkenLess" w="34707" h="21600">
                <a:moveTo>
                  <a:pt x="34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07" y="20200"/>
                </a:lnTo>
                <a:close/>
              </a:path>
              <a:path fill="lighten" w="34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07" h="21600">
                <a:moveTo>
                  <a:pt x="10347" y="3794"/>
                </a:moveTo>
                <a:lnTo>
                  <a:pt x="24360" y="10800"/>
                </a:lnTo>
                <a:lnTo>
                  <a:pt x="10347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572000" y="3645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451640" y="5516640"/>
            <a:ext cx="1692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9054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00"/>
                </a:solidFill>
                <a:latin typeface="Arial"/>
                <a:ea typeface="黑体"/>
              </a:rPr>
              <a:t>根据课文情节填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课文先写了老木匠做了一个（      ），并在它的脸上添上了（      ）的表情。接着写了小木偶在生活中遇到了一系列（    ），最后在（     ）的帮助下，拥有了所有的（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826920" y="1916280"/>
            <a:ext cx="29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木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2565360"/>
            <a:ext cx="304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笑嘻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588000" y="3500280"/>
            <a:ext cx="18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3933720"/>
            <a:ext cx="15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遭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5292720" y="3933720"/>
            <a:ext cx="290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小女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5940360" y="465300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表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647640" cy="433440"/>
          </a:xfrm>
          <a:custGeom>
            <a:avLst/>
            <a:gdLst>
              <a:gd name="textAreaLeft" fmla="*/ 28080 w 647640"/>
              <a:gd name="textAreaRight" fmla="*/ 619560 w 647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10800"/>
                </a:moveTo>
                <a:lnTo>
                  <a:pt x="23139" y="3794"/>
                </a:lnTo>
                <a:lnTo>
                  <a:pt x="23139" y="1780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79280" y="98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组合作学习：小木偶身上具体发生了哪些事？用小标题归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2708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小木偶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红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468360" y="3429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木偶与小兔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68360" y="4292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木偶与老婆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39640" y="515772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小木偶与女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868680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996600"/>
                </a:solidFill>
                <a:latin typeface="黑体"/>
                <a:ea typeface="黑体"/>
              </a:rPr>
              <a:t>现在，小木偶会哭，会笑，会生气，会着急，也会向别人表示同情和关心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95280" y="182232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是我的，我的，我的！”小木偶（        ）地尖叫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疼。”小木偶抬起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）           地回答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脑袋很疼。”小木偶是一副（          ）  的表情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是，而且越来越疼了。”小木偶    （        ）地说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68360" y="8366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木偶真实的表情或心情的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50920" y="0"/>
            <a:ext cx="1944720" cy="16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填一填</a:t>
            </a:r>
            <a:endParaRPr b="0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95280" y="620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是很重要的。谁要是不会笑，谁就没办法过快乐的日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79280" y="29973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 Black"/>
                <a:ea typeface="黑体"/>
              </a:rPr>
              <a:t>老木匠说得没错，笑是很重要的。不过，要是只会笑，那可是远远不够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7:45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4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