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2631-D7D2-49C2-9C91-18CE6175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2CD2-05E0-4D7E-9522-5E1AFFB9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AF95D1-DC97-4D54-8E04-CEA9DE73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C59B88-AB66-4A81-AE2E-A5C64952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DD0010-AABE-456F-821F-E16ED6B1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3B41B8-6C92-41BE-AD14-860E8555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401305-4D68-4458-88DC-F51C66ED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927725-C847-4B72-815A-F1C364B2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CE799D-FBE1-488E-B31E-0B3BF0B5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BE8FD-6233-488B-BCBF-43F6D4F2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96525-FE8B-402B-A157-B3E2F76F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4D01CC-B674-41F7-BCA8-00EA44A4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0D41-6465-4096-840D-B34FA20E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117127-D648-4D6C-9F16-21D62324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595975-FA5A-4A95-9540-54593394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29F821-FEAA-475D-9C4D-0B02C047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A09985-9622-437E-8BE4-5D69A838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90644C-2EF3-4DB2-8C40-11D62F68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CD99C7-7A72-4840-8C6A-7405F177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34B3A9-03E0-4845-8E25-6B88F236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A214F0-8CB9-4824-9EB3-A682FFA9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B767AC-F109-4245-9B9C-B47C20BB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BAF6EB-A0A7-4F4C-A501-AE3B705C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526F-ACFC-425D-A027-2ADCF618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CFF2B5-1323-409F-8F7E-C5575BD1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BEA565-BCF8-47E8-B14F-E8613769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7B5BD8-9802-4EA3-86E1-2C01BBD5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52113F-D1D5-4CD8-8F3A-A9A3100C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7C1C08-686F-483E-8D94-0276CE0B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77917B-738B-435D-9D64-62C0CBB9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CB1F71-94DE-46E8-9761-BD669FE4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301011-B93C-49BA-B751-F08B6940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9A9B16-AFB4-45D4-AF51-3ECD1B38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583FDF-ACEF-46BE-8027-B4BCBDF3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1566-3B84-4B81-8D6C-0E0A5A13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44AC6A-BD6B-442C-A39A-E91E7132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4BE370-AAFB-4E88-BCE0-220A8F0C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81A1C8-7A68-491B-BDAD-A0678DB8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E03DF3-1856-4087-8122-663F624D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608F1A-A9C7-444F-9337-E0E7B8B2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2F9D1E-7F9F-4C07-A4FC-DA21E4C8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6400E0-7128-42E5-AAB9-334A7A19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FA81E6-D2D9-442F-B710-40F94421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FC986D-5BE4-4FCE-8541-E3D24907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E05F45-C3B2-4A2C-8391-8F13535F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D884-50CC-474E-99EA-249FAAE5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3543E4-6A19-4FA5-BE2F-244A1DBC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646E31-696A-4A59-A786-D6D40470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F6761B-115C-424D-B813-4163A576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DB0555-2491-4ADB-B41A-21417C4D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83C91D-DB5B-4637-93A6-A50C6147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D8065D-D335-4AD8-957A-BC94F8FF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4C3AD2-B563-4A4A-9B57-7CB235A4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28B6B4-F29C-46DB-A523-003228D1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A35105-CEE5-41B8-A3CA-C45B3CF3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7EBD89-CA1A-4D37-916D-0C353C20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EFA1-43D9-4D55-BB0C-A7672D00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CD0906-A200-4EEF-BD48-F78BFE43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51E923-998E-4730-8414-159361C9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B51BF9-303F-40B9-85FF-17345BB3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A47B90-1881-49EC-83CE-ACA6D7C6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DB1C4C-7D0D-4B4E-8BCB-4D99B456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BCE3F8-94FE-46FC-A407-480919CA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56847E-ADD5-428C-A714-EBC3E250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8C4F-AEA2-4706-9469-44310332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79C4-FE4A-463A-AF2A-FEBF2886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2681-F4D4-4A00-94C6-33D5C53F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D9AA-8A32-42C9-BE9C-7811F0B3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A595-7A83-4478-92A8-96F0427B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7C3F-5D0E-4258-9C41-F2E30EA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95E0-6C94-4E2E-A830-C13B227E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680A-5C78-469C-B918-CD2B317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C3CA-8B41-4BD0-8265-ADD20D91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E859-80FE-4B4A-BA8C-136A588D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C3E1-93EB-4047-AD69-69DF7C6D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AD8AA-6925-471C-AA27-202BA2D0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49F12-D0EE-4612-881A-B939FBDA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3239A-86DF-4E68-97E2-87358E80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9CB9-53FE-4E52-9615-1D97CC9D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9778-0B08-485F-8DB0-9BEEC4E5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BFAC-08EE-434D-AE85-4E689132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5B803-52C3-42E6-851C-7267C59D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F6C37-36AA-4246-9BAA-17EDD2EB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5073-FB84-4407-AE96-BDB1E0E7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373D-89BA-4E43-AD7A-DBF006F7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F26A2-163C-43D1-B2D0-8A20EB30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2394-CEC6-48C4-9FC0-844A92EE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5093FD-C305-4F30-BF0A-C867BF7E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345D7-B858-4CF0-9C01-9DDFCE97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EA857-E9B8-4DA1-A9B3-26E0FF0D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2F20-B76C-4089-A935-05EF0988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8E6B80-3159-48EC-90D6-132E2A83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7F1E4-7201-487E-A120-B2506C72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85437-659A-47D5-8C31-ED81F89A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65C7F2-DC2B-43EC-B5E0-C3B0CB41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7F828-B6AE-4E13-AE64-6E78AE69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0930C4-99B7-4691-8C27-12A56C07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382AD-07BC-4E34-95CE-5644B957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0A5F9-CC8A-46B3-8EFE-C5D80465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83C9EA-8C33-49BF-BF93-70521BE3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1AB8B-1C25-477D-8908-72CCC2D6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EBACD-8E86-4FF1-A368-35A043A0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0E13E-6DAD-42DA-8A95-E1784503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816DD-8AFD-487F-BADE-FDF2EED4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92167-464C-4F33-AC07-F504EB51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3FC7F-2EB6-4F1E-8267-71370320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62CAA-0806-4018-BAE0-0D4F92DE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7AF4D-9710-4513-86CF-B60A1AE3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54C68-9D88-421F-991F-553DE89B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7BBAC-AEA1-4501-BE3F-304F4EFF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ADC7C-180F-4AFB-9A1A-5779F70A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1B2F2-0C6C-4F66-9333-BA363D10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2784-C99E-44D5-835F-FB477107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5D7D9E-8763-4966-BE4A-09000F86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40EB5-4291-45DC-9F83-021ACAF6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D5115-33BF-4183-9C7B-2EF9F669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A5206-2F5D-475B-9889-B7FF470F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581B1-B987-4FF2-AAFA-4BD6ADA0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6DE98-02F2-4430-AA95-9B462B72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570EE-859B-4056-AFAF-ADF89872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EF622-6A9E-409D-AD71-E6C05846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ADA8A-18DF-4D0E-B17D-D09F8E73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F87A2-14F2-41E9-AA19-DB704AEC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2607-AB24-461E-82AF-9C64336B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30F3B-669C-4F46-9DB2-C40A434E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0855F-253E-4EBC-84F6-1E63474B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9384F-DD10-4D4B-99A2-85B0EBCB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507CE-DE45-4954-9EBB-CAA6843F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D5F30-4B5A-4E99-9000-F1F93FE4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5A85F1-AF8A-4BE7-8F68-9F3DDBFE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198EB-45D5-4BFC-A4A4-B1944F59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41B743-E076-48C2-9F75-A59BCB2B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7CD27-2479-4AFF-AE62-E78E260F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8B16CB-0506-436D-B815-CF3B84F3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BA47-F68C-410B-82B1-3ED5B740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F268E-5177-4B30-91D1-38462A78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40220-4C1A-4CF6-B604-4162FF5A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0111F-2063-44C3-AB5D-3E03D65A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374F4-F7FA-4D76-9FD8-04CD2EE1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66128F-B156-42C1-8F0D-3CDE55FB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42B598-D9AD-40B0-AC0A-1BD2DE42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46C5B6-0054-4E7D-90EC-45335CFE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F4CDE6-4240-4E98-90E8-E797C6F0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CE9D7-D7DD-443E-8F25-DEF9368E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C8EE2D-47FE-48D8-A1A2-C23E20C5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6BA2-C0C8-4C6C-B0DA-04A9D825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4F86CC-6232-4864-86DC-AC66F516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3A7C39-56F6-4D70-8E08-FCEDAEE2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2B8D32-37E7-4097-838F-FC5380DC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0B04FC-9473-4DB6-B47F-8D6F3E70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015AB-0CCA-4660-A5FE-03D76A10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06DD77-A94C-4BFF-AE75-FCEABAA7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A67A5C-CE3F-4459-9AD8-C18E7E25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1F50FD-D5AB-46E9-9FD4-AF8FF158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3502F6-731D-4392-B506-73188F13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E60C64-2E02-454D-84C4-E193884B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521B-5055-47D9-AAA7-F54CA8AF6EFF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BA05-8767-4CE5-930A-88BEDEB3E711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425F-BE05-45DF-84CC-DB0AC1AF782B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770C-31F1-4EEC-AF7B-0309E820EF86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DA77-61A0-46C3-A762-20BD6DA13EE8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4074-F654-44E7-81C1-FD58B2932E2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FC57-FF2C-4ABE-A0EE-C71D1AF9D6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089C-6074-4F66-B2C4-1CDE2B83DA9A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4E8A-ED20-43DD-9A97-B9ABED21A1DB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5030-8D76-42D5-8221-36E6986E3EED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CD38-37A1-407D-95AD-DD1D019430C4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C380-C48F-4620-9776-140D81373E78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8058-DCA6-4513-ACD3-6BE2E7CBB4BE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8352-4E01-4080-A07D-ED7FBCA66351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矩形 4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2043720" y="981000"/>
            <a:ext cx="56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</a:rPr>
              <a:t>小苗与大树的对话课件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9" name="Picture 5" descr="pic_228526季2"/>
          <p:cNvPicPr/>
          <p:nvPr/>
        </p:nvPicPr>
        <p:blipFill>
          <a:blip r:embed="rId1"/>
          <a:stretch/>
        </p:blipFill>
        <p:spPr>
          <a:xfrm>
            <a:off x="1403280" y="1987560"/>
            <a:ext cx="6553440" cy="4105440"/>
          </a:xfrm>
          <a:prstGeom prst="rect">
            <a:avLst/>
          </a:prstGeom>
          <a:ln w="0">
            <a:noFill/>
          </a:ln>
        </p:spPr>
      </p:pic>
      <p:sp>
        <p:nvSpPr>
          <p:cNvPr id="58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AutoShape 4"/>
          <p:cNvSpPr/>
          <p:nvPr/>
        </p:nvSpPr>
        <p:spPr>
          <a:xfrm>
            <a:off x="0" y="0"/>
            <a:ext cx="1655640" cy="1008000"/>
          </a:xfrm>
          <a:prstGeom prst="flowChartMultidocumen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读一读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468360" y="1111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兴趣　三国演义　水浒传　绿林好汉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偷偷藏　三侠五义　彭公案　能文能武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才生　中西贯通　能文能理　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嗯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语    起码   古今贯通　　文理贯通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励    建议   古文观止　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２１世纪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5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950760" y="451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250920" y="1700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</a:rPr>
              <a:t>　　认真读读课文，看看苗苗同季老交流了哪些问题 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826920" y="3500280"/>
            <a:ext cx="77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１、 阅读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２、 偏科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３、 学习外语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４、 积累古诗文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4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766880" y="170028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季羡林先生对于读书，提出了哪些见解？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0" y="2852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１、把文章写好，要多看书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２、要中西贯通、古今贯通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理贯通，不要偏科，要学好外语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３、进行古诗文积累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5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谈一谈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0" y="177336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在苗苗对季老先生的采访中，他们用了很长时间在讨论看闲书。那么，到底闲书指什么，能结合课文谈谈你们的理解吗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文本框 8194"/>
          <p:cNvSpPr/>
          <p:nvPr/>
        </p:nvSpPr>
        <p:spPr>
          <a:xfrm>
            <a:off x="1044720" y="4365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ebf25a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4"/>
          <p:cNvSpPr/>
          <p:nvPr/>
        </p:nvSpPr>
        <p:spPr>
          <a:xfrm>
            <a:off x="468360" y="191628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、课文中的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苗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指的是谁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395280" y="400536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、读了课文，你认为文中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苗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什么更深的含义吗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C6F6-5B47-4C09-B67E-58F959C449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AutoShape 5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积累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3555360" y="1557360"/>
            <a:ext cx="173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阅读，是一把钥匙，为我打开知识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宝库的大门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阅读，是一位向导，帮我找到智慧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的源泉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阅读，是一架望远镜，让我看得很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远很远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1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16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