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gif" ContentType="image/gif"/>
  <Override PartName="/ppt/media/image3.jpeg" ContentType="image/jpeg"/>
  <Override PartName="/ppt/media/image15.png" ContentType="image/png"/>
  <Override PartName="/ppt/media/image7.gif" ContentType="image/gif"/>
  <Override PartName="/ppt/media/image6.gif" ContentType="image/gif"/>
  <Override PartName="/ppt/media/image5.gif" ContentType="image/gif"/>
  <Override PartName="/ppt/media/image4.jpeg" ContentType="image/jpeg"/>
  <Override PartName="/ppt/media/image2.jpeg" ContentType="image/jpeg"/>
  <Override PartName="/ppt/media/glass.wav" ContentType="audio/x-wav"/>
  <Override PartName="/ppt/media/image1.jpeg" ContentType="image/jpeg"/>
  <Override PartName="/ppt/media/image20.jpeg" ContentType="image/jpeg"/>
  <Override PartName="/ppt/media/ZR916.WAV" ContentType="audio/x-wav"/>
  <Override PartName="/ppt/media/image19.png" ContentType="image/png"/>
  <Override PartName="/ppt/media/image18.png" ContentType="image/png"/>
  <Override PartName="/ppt/media/ZR279.WAV" ContentType="audio/x-wav"/>
  <Override PartName="/ppt/media/image14.gif" ContentType="image/gif"/>
  <Override PartName="/ppt/media/image17.png" ContentType="image/png"/>
  <Override PartName="/ppt/media/image13.png" ContentType="image/png"/>
  <Override PartName="/ppt/media/cashreg.wav" ContentType="audio/x-wav"/>
  <Override PartName="/ppt/media/image21.jpeg" ContentType="image/jpeg"/>
  <Override PartName="/ppt/media/SndDefault.WAV" ContentType="audio/x-wav"/>
  <Override PartName="/ppt/media/MTA_023.WAV" ContentType="audio/x-wav"/>
  <Override PartName="/ppt/media/image16.png" ContentType="image/png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1F4-0E20-463C-AE77-BBC83BDC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8E5-B8D1-42F9-AE98-7343220E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743-3D95-403B-B404-DF25E21B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546-7474-40EB-9EEA-21674D86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A6E7-D851-4940-A17F-025BBDDC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B682-D5ED-498F-BAB2-B7B2B9D1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1443-6BD4-4D90-8C8F-7B56BB34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E8BB-AF09-4CE4-8F3E-9DF26A05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C99-267A-454E-9E71-D6BCF924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7866-2449-4D6A-83AC-75D5AD37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8059-BC51-41BB-9997-5C873CB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5B0-7A93-4F22-A397-0C65407C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BB93-ABBB-4BEF-9A9B-DEF578E5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6D58-0351-4F74-8985-B6439DC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BB9F-7DED-4A7B-B0B0-6D4C9050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67AB-E8EB-4706-B646-56932F78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C79F-EB60-4F23-B9E6-354EC3BA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DA1-FB41-4AE8-BFD3-1F5EAEE1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0A8-E938-4968-BC5F-F3D57701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A44-AD42-44D0-8735-BA9E9DE3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CB5-D0A5-465B-BEC2-17FEB751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5CD-96E9-4A45-96D1-6CB4F0AD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BD4-4E72-4716-BBBD-926F8E57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ED3-F475-4587-BBC9-F7478DC4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52DF-3AD7-407E-8E6F-F2FAA053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9477-A9F8-4318-9AB4-9380F37A1E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408-D785-4AD3-9DFF-667088FAC7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MTA_023.WAV"/><Relationship Id="rId4" Type="http://schemas.openxmlformats.org/officeDocument/2006/relationships/audio" Target="../media/cashreg.wav"/><Relationship Id="rId5" Type="http://schemas.openxmlformats.org/officeDocument/2006/relationships/audio" Target="../media/SndDefault.WAV"/><Relationship Id="rId6" Type="http://schemas.openxmlformats.org/officeDocument/2006/relationships/audio" Target="../media/ZR279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SndDefault.WAV"/><Relationship Id="rId2" Type="http://schemas.openxmlformats.org/officeDocument/2006/relationships/audio" Target="../media/ZR279.WAV"/><Relationship Id="rId3" Type="http://schemas.openxmlformats.org/officeDocument/2006/relationships/audio" Target="../media/ZR916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小摄影师"/>
          <p:cNvPicPr/>
          <p:nvPr/>
        </p:nvPicPr>
        <p:blipFill>
          <a:blip r:embed="rId1"/>
          <a:stretch/>
        </p:blipFill>
        <p:spPr>
          <a:xfrm>
            <a:off x="-396720" y="-458640"/>
            <a:ext cx="10287000" cy="7848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755640" y="5181480"/>
            <a:ext cx="777240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2"/>
          <p:cNvSpPr txBox="1"/>
          <p:nvPr/>
        </p:nvSpPr>
        <p:spPr>
          <a:xfrm>
            <a:off x="1403280" y="5516640"/>
            <a:ext cx="63230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小摄影师语文课件</a:t>
            </a:r>
            <a:r>
              <a:rPr b="0" lang="en-US" sz="40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免费下载</a:t>
            </a:r>
            <a:endParaRPr b="0" lang="en-US" sz="40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466560" y="6885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26"/>
          <p:cNvSpPr/>
          <p:nvPr/>
        </p:nvSpPr>
        <p:spPr>
          <a:xfrm>
            <a:off x="914400" y="22096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高尔基为什么不接受记者摄影却要接受小男孩的摄影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27" descr="草"/>
          <p:cNvPicPr/>
          <p:nvPr/>
        </p:nvPicPr>
        <p:blipFill>
          <a:blip r:embed="rId1"/>
          <a:stretch/>
        </p:blipFill>
        <p:spPr>
          <a:xfrm>
            <a:off x="6324480" y="4800600"/>
            <a:ext cx="2457720" cy="1787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28"/>
          <p:cNvSpPr/>
          <p:nvPr/>
        </p:nvSpPr>
        <p:spPr>
          <a:xfrm>
            <a:off x="380880" y="4572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谁来告诉老师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00000" y="1052640"/>
            <a:ext cx="74883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读了这篇课文，你对高尔基有那些了解？你有哪些体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00000" y="2925720"/>
            <a:ext cx="770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这种对少年儿童的关心、爱护，从课文的哪些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可以看出来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33400" y="4149720"/>
            <a:ext cx="75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高尔基热爱少年儿童，关怀少年儿童，把对未来的希望寄托在下一代身上，相信小男孩一定回再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"/>
                            </p:stCondLst>
                            <p:childTnLst>
                              <p:par>
                                <p:cTn id="144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f90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04920" y="2133720"/>
            <a:ext cx="8610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小声读课文，找找哪些句子能看出高尔基喜爱小男孩，用“ 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—— ”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勾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把自己勾的句子多读几遍，一边读一边想：这个句子是怎样写出高尔基对男孩的喜爱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600200" y="5335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第一关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我会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80880" y="457200"/>
            <a:ext cx="838440" cy="990720"/>
          </a:xfrm>
          <a:custGeom>
            <a:avLst/>
            <a:gdLst/>
            <a:ahLst/>
            <a:rect l="l" t="t" r="r" b="b"/>
            <a:pathLst>
              <a:path w="838200" h="990600">
                <a:moveTo>
                  <a:pt x="0" y="378374"/>
                </a:moveTo>
                <a:lnTo>
                  <a:pt x="320165" y="378377"/>
                </a:lnTo>
                <a:lnTo>
                  <a:pt x="419100" y="0"/>
                </a:lnTo>
                <a:lnTo>
                  <a:pt x="518034" y="378377"/>
                </a:lnTo>
                <a:lnTo>
                  <a:pt x="838199" y="378374"/>
                </a:lnTo>
                <a:lnTo>
                  <a:pt x="579179" y="612221"/>
                </a:lnTo>
                <a:lnTo>
                  <a:pt x="678117" y="990597"/>
                </a:lnTo>
                <a:lnTo>
                  <a:pt x="419100" y="756745"/>
                </a:lnTo>
                <a:lnTo>
                  <a:pt x="160082" y="990597"/>
                </a:lnTo>
                <a:lnTo>
                  <a:pt x="259020" y="612221"/>
                </a:lnTo>
                <a:close/>
              </a:path>
            </a:pathLst>
          </a:custGeom>
          <a:gradFill rotWithShape="0">
            <a:gsLst>
              <a:gs pos="0">
                <a:srgbClr val="fe2b08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hua01"/>
          <p:cNvPicPr/>
          <p:nvPr/>
        </p:nvPicPr>
        <p:blipFill>
          <a:blip r:embed="rId1"/>
          <a:stretch/>
        </p:blipFill>
        <p:spPr>
          <a:xfrm>
            <a:off x="71629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ua01"/>
          <p:cNvPicPr/>
          <p:nvPr/>
        </p:nvPicPr>
        <p:blipFill>
          <a:blip r:embed="rId2"/>
          <a:stretch/>
        </p:blipFill>
        <p:spPr>
          <a:xfrm>
            <a:off x="5867280" y="5943600"/>
            <a:ext cx="10749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858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14400" y="2514600"/>
            <a:ext cx="792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我勾的句子在第几自然的哪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我会把勾的句子读正确，读通顺，读流利，还能做到声音洪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905120" y="7621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第二关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685800" y="685800"/>
            <a:ext cx="838080" cy="990720"/>
          </a:xfrm>
          <a:custGeom>
            <a:avLst/>
            <a:gdLst/>
            <a:ahLst/>
            <a:rect l="l" t="t" r="r" b="b"/>
            <a:pathLst>
              <a:path w="838200" h="990600">
                <a:moveTo>
                  <a:pt x="0" y="378374"/>
                </a:moveTo>
                <a:lnTo>
                  <a:pt x="320165" y="378377"/>
                </a:lnTo>
                <a:lnTo>
                  <a:pt x="419100" y="0"/>
                </a:lnTo>
                <a:lnTo>
                  <a:pt x="518034" y="378377"/>
                </a:lnTo>
                <a:lnTo>
                  <a:pt x="838199" y="378374"/>
                </a:lnTo>
                <a:lnTo>
                  <a:pt x="579179" y="612221"/>
                </a:lnTo>
                <a:lnTo>
                  <a:pt x="678117" y="990597"/>
                </a:lnTo>
                <a:lnTo>
                  <a:pt x="419100" y="756745"/>
                </a:lnTo>
                <a:lnTo>
                  <a:pt x="160082" y="990597"/>
                </a:lnTo>
                <a:lnTo>
                  <a:pt x="259020" y="612221"/>
                </a:lnTo>
                <a:close/>
              </a:path>
            </a:pathLst>
          </a:custGeom>
          <a:gradFill rotWithShape="0">
            <a:gsLst>
              <a:gs pos="0">
                <a:srgbClr val="fe2b08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hua01"/>
          <p:cNvPicPr/>
          <p:nvPr/>
        </p:nvPicPr>
        <p:blipFill>
          <a:blip r:embed="rId1"/>
          <a:stretch/>
        </p:blipFill>
        <p:spPr>
          <a:xfrm>
            <a:off x="5867280" y="56386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ua01"/>
          <p:cNvPicPr/>
          <p:nvPr/>
        </p:nvPicPr>
        <p:blipFill>
          <a:blip r:embed="rId2"/>
          <a:stretch/>
        </p:blipFill>
        <p:spPr>
          <a:xfrm>
            <a:off x="6781680" y="5943600"/>
            <a:ext cx="10749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828800" y="533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第三关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说体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1676520"/>
            <a:ext cx="784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我从哪个词语，哪句话体会到了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我是这样体会到的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我还想到了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609480" y="457200"/>
            <a:ext cx="838440" cy="990720"/>
          </a:xfrm>
          <a:custGeom>
            <a:avLst/>
            <a:gdLst/>
            <a:ahLst/>
            <a:rect l="l" t="t" r="r" b="b"/>
            <a:pathLst>
              <a:path w="838200" h="990600">
                <a:moveTo>
                  <a:pt x="0" y="378374"/>
                </a:moveTo>
                <a:lnTo>
                  <a:pt x="320165" y="378377"/>
                </a:lnTo>
                <a:lnTo>
                  <a:pt x="419100" y="0"/>
                </a:lnTo>
                <a:lnTo>
                  <a:pt x="518034" y="378377"/>
                </a:lnTo>
                <a:lnTo>
                  <a:pt x="838199" y="378374"/>
                </a:lnTo>
                <a:lnTo>
                  <a:pt x="579179" y="612221"/>
                </a:lnTo>
                <a:lnTo>
                  <a:pt x="678117" y="990597"/>
                </a:lnTo>
                <a:lnTo>
                  <a:pt x="419100" y="756745"/>
                </a:lnTo>
                <a:lnTo>
                  <a:pt x="160082" y="990597"/>
                </a:lnTo>
                <a:lnTo>
                  <a:pt x="259020" y="612221"/>
                </a:lnTo>
                <a:close/>
              </a:path>
            </a:pathLst>
          </a:custGeom>
          <a:gradFill rotWithShape="0">
            <a:gsLst>
              <a:gs pos="0">
                <a:srgbClr val="fe2b08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hua01"/>
          <p:cNvPicPr/>
          <p:nvPr/>
        </p:nvPicPr>
        <p:blipFill>
          <a:blip r:embed="rId1"/>
          <a:stretch/>
        </p:blipFill>
        <p:spPr>
          <a:xfrm>
            <a:off x="6553080" y="57150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ua01"/>
          <p:cNvPicPr/>
          <p:nvPr/>
        </p:nvPicPr>
        <p:blipFill>
          <a:blip r:embed="rId2"/>
          <a:stretch/>
        </p:blipFill>
        <p:spPr>
          <a:xfrm>
            <a:off x="5638680" y="5334120"/>
            <a:ext cx="10749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小摄影师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27000"/>
            <a:ext cx="9144000" cy="5759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900000" y="5067360"/>
            <a:ext cx="6193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这件事发生在什么时间，什么地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小男孩为什么要给高尔基照相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067280" y="1916280"/>
            <a:ext cx="1511280" cy="360"/>
            <a:chOff x="4067280" y="1916280"/>
            <a:chExt cx="1511280" cy="360"/>
          </a:xfrm>
        </p:grpSpPr>
        <p:sp>
          <p:nvSpPr>
            <p:cNvPr id="167" name="Line 4"/>
            <p:cNvSpPr/>
            <p:nvPr/>
          </p:nvSpPr>
          <p:spPr>
            <a:xfrm>
              <a:off x="4067280" y="1916280"/>
              <a:ext cx="1511280" cy="0"/>
            </a:xfrm>
            <a:prstGeom prst="line">
              <a:avLst/>
            </a:prstGeom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067280" y="1916280"/>
              <a:ext cx="151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 Box 5"/>
          <p:cNvSpPr/>
          <p:nvPr/>
        </p:nvSpPr>
        <p:spPr>
          <a:xfrm>
            <a:off x="7020000" y="17859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  ▲  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511440" y="22050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4000" y="4581360"/>
            <a:ext cx="4321080" cy="360"/>
            <a:chOff x="3564000" y="4581360"/>
            <a:chExt cx="4321080" cy="360"/>
          </a:xfrm>
        </p:grpSpPr>
        <p:sp>
          <p:nvSpPr>
            <p:cNvPr id="172" name="Line 7"/>
            <p:cNvSpPr/>
            <p:nvPr/>
          </p:nvSpPr>
          <p:spPr>
            <a:xfrm>
              <a:off x="3564000" y="4581360"/>
              <a:ext cx="4321080" cy="0"/>
            </a:xfrm>
            <a:prstGeom prst="line">
              <a:avLst/>
            </a:prstGeom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564000" y="458136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Rectangle 8"/>
          <p:cNvSpPr/>
          <p:nvPr/>
        </p:nvSpPr>
        <p:spPr>
          <a:xfrm>
            <a:off x="1072440" y="515448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"/>
                            </p:stCondLst>
                            <p:childTnLst>
                              <p:par>
                                <p:cTn id="1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"/>
                            </p:stCondLst>
                            <p:childTnLst>
                              <p:par>
                                <p:cTn id="1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026" descr="小摄影师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2700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027"/>
          <p:cNvSpPr/>
          <p:nvPr/>
        </p:nvSpPr>
        <p:spPr>
          <a:xfrm>
            <a:off x="395280" y="5589720"/>
            <a:ext cx="8282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当高尔基询问小男孩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是你扔的纸团吗？小男孩是怎么做的？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得到允许，小男孩来到高尔基的面前后，他又是怎么做的？小男孩为什么仔细打量高尔基？</a:t>
            </a:r>
            <a:r>
              <a:rPr b="1" lang="zh-CN" sz="1800" spc="-1" strike="noStrike">
                <a:solidFill>
                  <a:srgbClr val="3333cc"/>
                </a:solidFill>
                <a:latin typeface="Tahoma"/>
              </a:rPr>
              <a:t>小男孩是怎么吩咐高尔基的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28"/>
          <p:cNvSpPr/>
          <p:nvPr/>
        </p:nvSpPr>
        <p:spPr>
          <a:xfrm>
            <a:off x="4140360" y="1989000"/>
            <a:ext cx="1368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 ▲ ▲ 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29"/>
          <p:cNvSpPr/>
          <p:nvPr/>
        </p:nvSpPr>
        <p:spPr>
          <a:xfrm>
            <a:off x="5576760" y="197964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30"/>
          <p:cNvSpPr/>
          <p:nvPr/>
        </p:nvSpPr>
        <p:spPr>
          <a:xfrm>
            <a:off x="611280" y="4608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31"/>
          <p:cNvSpPr/>
          <p:nvPr/>
        </p:nvSpPr>
        <p:spPr>
          <a:xfrm>
            <a:off x="5022720" y="41497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ahoma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32"/>
          <p:cNvSpPr/>
          <p:nvPr/>
        </p:nvSpPr>
        <p:spPr>
          <a:xfrm>
            <a:off x="713880" y="494172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"/>
                            </p:stCondLst>
                            <p:childTnLst>
                              <p:par>
                                <p:cTn id="2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"/>
                            </p:stCondLst>
                            <p:childTnLst>
                              <p:par>
                                <p:cTn id="2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小摄影师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24300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0" y="494172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小男孩是怎么吩咐的？高尔基是怎么做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高尔基这样听小男孩的指挥，你有什么想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小男孩是怎样给高尔基照相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小男孩为什么哭了？这时高尔基是怎样做的？赶紧、大声说明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443640" y="3429000"/>
            <a:ext cx="1224000" cy="360"/>
            <a:chOff x="6443640" y="3429000"/>
            <a:chExt cx="1224000" cy="360"/>
          </a:xfrm>
        </p:grpSpPr>
        <p:sp>
          <p:nvSpPr>
            <p:cNvPr id="185" name="Line 1028"/>
            <p:cNvSpPr/>
            <p:nvPr/>
          </p:nvSpPr>
          <p:spPr>
            <a:xfrm>
              <a:off x="6443640" y="3429000"/>
              <a:ext cx="1224000" cy="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443640" y="342900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67280" y="3716280"/>
            <a:ext cx="1368360" cy="360"/>
            <a:chOff x="4067280" y="3716280"/>
            <a:chExt cx="1368360" cy="360"/>
          </a:xfrm>
        </p:grpSpPr>
        <p:sp>
          <p:nvSpPr>
            <p:cNvPr id="188" name="Line 1029"/>
            <p:cNvSpPr/>
            <p:nvPr/>
          </p:nvSpPr>
          <p:spPr>
            <a:xfrm>
              <a:off x="4067280" y="3716280"/>
              <a:ext cx="1368360" cy="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067280" y="371628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Text Box 1030"/>
          <p:cNvSpPr/>
          <p:nvPr/>
        </p:nvSpPr>
        <p:spPr>
          <a:xfrm>
            <a:off x="1768320" y="400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  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31"/>
          <p:cNvSpPr/>
          <p:nvPr/>
        </p:nvSpPr>
        <p:spPr>
          <a:xfrm>
            <a:off x="3708360" y="4378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  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32"/>
          <p:cNvSpPr/>
          <p:nvPr/>
        </p:nvSpPr>
        <p:spPr>
          <a:xfrm>
            <a:off x="395280" y="56610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"/>
                            </p:stCondLst>
                            <p:childTnLst>
                              <p:par>
                                <p:cTn id="2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"/>
                            </p:stCondLst>
                            <p:childTnLst>
                              <p:par>
                                <p:cTn id="2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小摄影师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324000" y="4724280"/>
            <a:ext cx="838836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1800" spc="-1" strike="noStrike">
                <a:solidFill>
                  <a:srgbClr val="b2b2b2"/>
                </a:solidFill>
                <a:latin typeface="Tahoma"/>
              </a:rPr>
              <a:t>为什么 高尔基答应给他胶卷，结果他还是跳上电车走了？</a:t>
            </a: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Tahoma"/>
              </a:rPr>
              <a:t>高尔基为什么不见记者，却希望来的是个小男孩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Tahoma"/>
              </a:rPr>
              <a:t>         </a:t>
            </a:r>
            <a:r>
              <a:rPr b="1" lang="zh-CN" sz="2000" spc="-1" strike="noStrike">
                <a:solidFill>
                  <a:srgbClr val="b2b2b2"/>
                </a:solidFill>
                <a:latin typeface="Tahoma"/>
              </a:rPr>
              <a:t>小男孩伤心地跑回家去还会再来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49320" y="3544920"/>
            <a:ext cx="3529080" cy="360"/>
            <a:chOff x="949320" y="3544920"/>
            <a:chExt cx="3529080" cy="360"/>
          </a:xfrm>
        </p:grpSpPr>
        <p:sp>
          <p:nvSpPr>
            <p:cNvPr id="196" name="Line 4"/>
            <p:cNvSpPr/>
            <p:nvPr/>
          </p:nvSpPr>
          <p:spPr>
            <a:xfrm>
              <a:off x="949320" y="3544920"/>
              <a:ext cx="3529080" cy="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949320" y="3544920"/>
              <a:ext cx="352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79360" y="3956040"/>
            <a:ext cx="4248360" cy="360"/>
            <a:chOff x="279360" y="3956040"/>
            <a:chExt cx="4248360" cy="360"/>
          </a:xfrm>
        </p:grpSpPr>
        <p:sp>
          <p:nvSpPr>
            <p:cNvPr id="199" name="Line 5"/>
            <p:cNvSpPr/>
            <p:nvPr/>
          </p:nvSpPr>
          <p:spPr>
            <a:xfrm>
              <a:off x="279360" y="3956040"/>
              <a:ext cx="4248360" cy="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79360" y="3956040"/>
              <a:ext cx="42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79360" y="4343400"/>
            <a:ext cx="1008000" cy="360"/>
            <a:chOff x="279360" y="4343400"/>
            <a:chExt cx="1008000" cy="360"/>
          </a:xfrm>
        </p:grpSpPr>
        <p:sp>
          <p:nvSpPr>
            <p:cNvPr id="202" name="Line 6"/>
            <p:cNvSpPr/>
            <p:nvPr/>
          </p:nvSpPr>
          <p:spPr>
            <a:xfrm>
              <a:off x="279360" y="4343400"/>
              <a:ext cx="1008000" cy="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279360" y="434340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7"/>
          <p:cNvSpPr/>
          <p:nvPr/>
        </p:nvSpPr>
        <p:spPr>
          <a:xfrm>
            <a:off x="571680" y="486900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"/>
                            </p:stCondLst>
                            <p:childTnLst>
                              <p:par>
                                <p:cTn id="2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"/>
                            </p:stCondLst>
                            <p:childTnLst>
                              <p:par>
                                <p:cTn id="2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11280" y="1773360"/>
            <a:ext cx="806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你扔的纸条吗？”高尔基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的。”小男孩站起来鞠了个躬，“请让我进去吧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吧，我让他们放你进来。”高尔基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5238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角色读一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天使"/>
          <p:cNvPicPr/>
          <p:nvPr/>
        </p:nvPicPr>
        <p:blipFill>
          <a:blip r:embed="rId1"/>
          <a:stretch/>
        </p:blipFill>
        <p:spPr>
          <a:xfrm>
            <a:off x="4267080" y="304920"/>
            <a:ext cx="1096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1908000" y="256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高尔基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7960" y="1066320"/>
            <a:ext cx="4267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高尔基（１８６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１９３６）原姓彼什科夫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高尔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这位词在俄文里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苦 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痛苦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意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这位俄罗斯文学巨人最著名的作品有自传三部曲：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童年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在人间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我的大学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列宁说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毫无疑问，高尔基是一位宏伟的艺术天才，他带给了并且还将带给全世界无产者以很 多的贡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高尔基"/>
          <p:cNvPicPr/>
          <p:nvPr/>
        </p:nvPicPr>
        <p:blipFill>
          <a:blip r:embed="rId1"/>
          <a:stretch/>
        </p:blipFill>
        <p:spPr>
          <a:xfrm>
            <a:off x="228600" y="1066680"/>
            <a:ext cx="427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09480" y="1295280"/>
            <a:ext cx="77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高尔基拿了张报纸，按小男孩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吩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坐下。小男孩摆弄了很久很久，说：：“一切准备停当。”高尔基侧过脸，对着他微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905120" y="4038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从“吩咐”这个词语中体会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828800" y="548640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高尔基对孩子真诚的关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" descr="进入梦想世界"/>
          <p:cNvPicPr/>
          <p:nvPr/>
        </p:nvPicPr>
        <p:blipFill>
          <a:blip r:embed="rId1"/>
          <a:stretch/>
        </p:blipFill>
        <p:spPr>
          <a:xfrm>
            <a:off x="533520" y="3886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095480" y="1981080"/>
            <a:ext cx="684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从课文的其他地方还可以看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高尔基喜爱小男孩，让我们找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来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6" descr="仙女"/>
          <p:cNvPicPr/>
          <p:nvPr/>
        </p:nvPicPr>
        <p:blipFill>
          <a:blip r:embed="rId1"/>
          <a:stretch/>
        </p:blipFill>
        <p:spPr>
          <a:xfrm>
            <a:off x="609480" y="380880"/>
            <a:ext cx="13716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5936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304920" y="1143000"/>
            <a:ext cx="8610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尔基走到窗口，大声喊到：“孩子，回来！我给你胶卷，我这有很多胶卷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52280" y="2971800"/>
            <a:ext cx="8991720" cy="22885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上，秘书告诉高尔基：“外面来了一位摄影师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个小男孩吗？”高尔基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是。是一家杂志社的记者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转告他，我很忙。不过，来的如果是个小男孩，就一定让他进来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151080" y="512640"/>
            <a:ext cx="31845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转告他，我很忙。不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的如果是个小男孩，就一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他进来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540880" y="3443400"/>
            <a:ext cx="3940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）和同桌一起读读这句话，注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读好带点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87480" y="1041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316280" y="2071800"/>
            <a:ext cx="106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595520" y="5208480"/>
            <a:ext cx="54226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）从带点词里你看出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文本框 8197"/>
          <p:cNvSpPr/>
          <p:nvPr/>
        </p:nvSpPr>
        <p:spPr>
          <a:xfrm>
            <a:off x="1476360" y="3286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619280" y="2349360"/>
            <a:ext cx="5977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cc"/>
                </a:solidFill>
                <a:latin typeface="Times New Roman"/>
              </a:rPr>
              <a:t>说一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假如你见到高尔基叔叔，你会对他说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3" descr="hua01"/>
          <p:cNvPicPr/>
          <p:nvPr/>
        </p:nvPicPr>
        <p:blipFill>
          <a:blip r:embed="rId1"/>
          <a:stretch/>
        </p:blipFill>
        <p:spPr>
          <a:xfrm>
            <a:off x="4788000" y="11970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ua01"/>
          <p:cNvPicPr/>
          <p:nvPr/>
        </p:nvPicPr>
        <p:blipFill>
          <a:blip r:embed="rId2"/>
          <a:stretch/>
        </p:blipFill>
        <p:spPr>
          <a:xfrm>
            <a:off x="2556000" y="12682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hua01"/>
          <p:cNvPicPr/>
          <p:nvPr/>
        </p:nvPicPr>
        <p:blipFill>
          <a:blip r:embed="rId3"/>
          <a:stretch/>
        </p:blipFill>
        <p:spPr>
          <a:xfrm>
            <a:off x="6877080" y="12682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ua01"/>
          <p:cNvPicPr/>
          <p:nvPr/>
        </p:nvPicPr>
        <p:blipFill>
          <a:blip r:embed="rId4"/>
          <a:stretch/>
        </p:blipFill>
        <p:spPr>
          <a:xfrm>
            <a:off x="539640" y="1268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hua01"/>
          <p:cNvPicPr/>
          <p:nvPr/>
        </p:nvPicPr>
        <p:blipFill>
          <a:blip r:embed="rId5"/>
          <a:stretch/>
        </p:blipFill>
        <p:spPr>
          <a:xfrm flipH="1">
            <a:off x="7740360" y="2924280"/>
            <a:ext cx="1049400" cy="379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hua01"/>
          <p:cNvPicPr/>
          <p:nvPr/>
        </p:nvPicPr>
        <p:blipFill>
          <a:blip r:embed="rId6"/>
          <a:stretch/>
        </p:blipFill>
        <p:spPr>
          <a:xfrm>
            <a:off x="0" y="321300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hua01"/>
          <p:cNvPicPr/>
          <p:nvPr/>
        </p:nvPicPr>
        <p:blipFill>
          <a:blip r:embed="rId7"/>
          <a:stretch/>
        </p:blipFill>
        <p:spPr>
          <a:xfrm>
            <a:off x="7740720" y="37162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ua01"/>
          <p:cNvPicPr/>
          <p:nvPr/>
        </p:nvPicPr>
        <p:blipFill>
          <a:blip r:embed="rId8"/>
          <a:stretch/>
        </p:blipFill>
        <p:spPr>
          <a:xfrm>
            <a:off x="7812000" y="616572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hua01"/>
          <p:cNvPicPr/>
          <p:nvPr/>
        </p:nvPicPr>
        <p:blipFill>
          <a:blip r:embed="rId9"/>
          <a:stretch/>
        </p:blipFill>
        <p:spPr>
          <a:xfrm>
            <a:off x="6372360" y="616572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hua01"/>
          <p:cNvPicPr/>
          <p:nvPr/>
        </p:nvPicPr>
        <p:blipFill>
          <a:blip r:embed="rId10"/>
          <a:stretch/>
        </p:blipFill>
        <p:spPr>
          <a:xfrm>
            <a:off x="4427640" y="623736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hua01"/>
          <p:cNvPicPr/>
          <p:nvPr/>
        </p:nvPicPr>
        <p:blipFill>
          <a:blip r:embed="rId11"/>
          <a:stretch/>
        </p:blipFill>
        <p:spPr>
          <a:xfrm>
            <a:off x="2411280" y="616572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hua01"/>
          <p:cNvPicPr/>
          <p:nvPr/>
        </p:nvPicPr>
        <p:blipFill>
          <a:blip r:embed="rId12"/>
          <a:stretch/>
        </p:blipFill>
        <p:spPr>
          <a:xfrm>
            <a:off x="539640" y="60930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hua01"/>
          <p:cNvPicPr/>
          <p:nvPr/>
        </p:nvPicPr>
        <p:blipFill>
          <a:blip r:embed="rId13"/>
          <a:stretch/>
        </p:blipFill>
        <p:spPr>
          <a:xfrm>
            <a:off x="0" y="4292640"/>
            <a:ext cx="10746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457200"/>
            <a:ext cx="82296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评一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你觉得这是一个怎样的小男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09480" y="2590920"/>
            <a:ext cx="792504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放飞想像编故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小男孩第二次是怎样来的？他会说些什么？他是怎样摄影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…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hua01"/>
          <p:cNvPicPr/>
          <p:nvPr/>
        </p:nvPicPr>
        <p:blipFill>
          <a:blip r:embed="rId1"/>
          <a:stretch/>
        </p:blipFill>
        <p:spPr>
          <a:xfrm>
            <a:off x="7086600" y="6469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hua01"/>
          <p:cNvPicPr/>
          <p:nvPr/>
        </p:nvPicPr>
        <p:blipFill>
          <a:blip r:embed="rId2"/>
          <a:stretch/>
        </p:blipFill>
        <p:spPr>
          <a:xfrm>
            <a:off x="5943600" y="6172200"/>
            <a:ext cx="10746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148760" y="113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小练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361040" y="2057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想接着往下写这个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6" descr="笑脸"/>
          <p:cNvPicPr/>
          <p:nvPr/>
        </p:nvPicPr>
        <p:blipFill>
          <a:blip r:embed="rId1"/>
          <a:stretch/>
        </p:blipFill>
        <p:spPr>
          <a:xfrm>
            <a:off x="2666880" y="9144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1143000" y="3200400"/>
            <a:ext cx="6477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男孩拿来了胶卷，匆匆赶往高尔基的办公室，再次见面时他们会说些什么？做些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让我们展开想象，和小伙伴交流一下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2090880" y="836640"/>
            <a:ext cx="496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6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、小摄影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1332000" y="2276640"/>
            <a:ext cx="6480000" cy="417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095640" y="3357720"/>
            <a:ext cx="2951280" cy="28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852720" y="2633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949560" y="372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小摄影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635280" y="4508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有礼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979640" y="3429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关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6229440" y="34257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爱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"/>
                            </p:stCondLst>
                            <p:childTnLst>
                              <p:par>
                                <p:cTn id="32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1"/>
                            </p:stCondLst>
                            <p:childTnLst>
                              <p:par>
                                <p:cTn id="353" dur="indefinite" nodeType="after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1836720" y="333360"/>
            <a:ext cx="5183280" cy="1002960"/>
            <a:chOff x="1836720" y="333360"/>
            <a:chExt cx="5183280" cy="1002960"/>
          </a:xfrm>
        </p:grpSpPr>
        <p:sp>
          <p:nvSpPr>
            <p:cNvPr id="254" name="Text Box 3"/>
            <p:cNvSpPr/>
            <p:nvPr/>
          </p:nvSpPr>
          <p:spPr>
            <a:xfrm>
              <a:off x="1836720" y="693720"/>
              <a:ext cx="17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</a:rPr>
                <a:t>小男孩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492360" y="1052640"/>
              <a:ext cx="1152720" cy="360"/>
              <a:chOff x="3492360" y="1052640"/>
              <a:chExt cx="1152720" cy="360"/>
            </a:xfrm>
          </p:grpSpPr>
          <p:sp>
            <p:nvSpPr>
              <p:cNvPr id="256" name="Line 4"/>
              <p:cNvSpPr/>
              <p:nvPr/>
            </p:nvSpPr>
            <p:spPr>
              <a:xfrm>
                <a:off x="3492360" y="1052640"/>
                <a:ext cx="1152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3492360" y="1052640"/>
                <a:ext cx="115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Text Box 5"/>
            <p:cNvSpPr/>
            <p:nvPr/>
          </p:nvSpPr>
          <p:spPr>
            <a:xfrm>
              <a:off x="3492360" y="3333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</a:rPr>
                <a:t>拍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6"/>
            <p:cNvSpPr/>
            <p:nvPr/>
          </p:nvSpPr>
          <p:spPr>
            <a:xfrm>
              <a:off x="4787640" y="693720"/>
              <a:ext cx="22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</a:rPr>
                <a:t>高尔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7"/>
          <p:cNvSpPr/>
          <p:nvPr/>
        </p:nvSpPr>
        <p:spPr>
          <a:xfrm>
            <a:off x="68436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仔细打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30072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坐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611280" y="2708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摆弄很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6156360" y="2708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微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684360" y="3716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坐、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227640" y="37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赶紧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84360" y="4724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跳、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6046920" y="4653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一定让他进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15"/>
          <p:cNvGrpSpPr/>
          <p:nvPr/>
        </p:nvGrpSpPr>
        <p:grpSpPr>
          <a:xfrm>
            <a:off x="2971440" y="1844280"/>
            <a:ext cx="2592360" cy="1800360"/>
            <a:chOff x="2971440" y="1844280"/>
            <a:chExt cx="2592360" cy="1800360"/>
          </a:xfrm>
        </p:grpSpPr>
        <p:sp>
          <p:nvSpPr>
            <p:cNvPr id="269" name="AutoShape 16"/>
            <p:cNvSpPr/>
            <p:nvPr/>
          </p:nvSpPr>
          <p:spPr>
            <a:xfrm rot="10800000">
              <a:off x="2971440" y="1844280"/>
              <a:ext cx="2592360" cy="1800360"/>
            </a:xfrm>
            <a:custGeom>
              <a:avLst/>
              <a:gdLst>
                <a:gd name="textAreaLeft" fmla="*/ 323640 w 2592360"/>
                <a:gd name="textAreaRight" fmla="*/ 2268720 w 2592360"/>
                <a:gd name="textAreaTop" fmla="*/ 450000 h 1800360"/>
                <a:gd name="textAreaBottom" fmla="*/ 13503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2" y="5400"/>
                  </a:ln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16202" y="16200"/>
                  </a:lnTo>
                  <a:lnTo>
                    <a:pt x="0" y="16200"/>
                  </a:lnTo>
                  <a:lnTo>
                    <a:pt x="2699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17"/>
            <p:cNvSpPr/>
            <p:nvPr/>
          </p:nvSpPr>
          <p:spPr>
            <a:xfrm>
              <a:off x="3187800" y="23493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关心爱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8"/>
          <p:cNvGrpSpPr/>
          <p:nvPr/>
        </p:nvGrpSpPr>
        <p:grpSpPr>
          <a:xfrm>
            <a:off x="2971800" y="3789360"/>
            <a:ext cx="2592360" cy="1800360"/>
            <a:chOff x="2971800" y="3789360"/>
            <a:chExt cx="2592360" cy="1800360"/>
          </a:xfrm>
        </p:grpSpPr>
        <p:sp>
          <p:nvSpPr>
            <p:cNvPr id="272" name="AutoShape 19"/>
            <p:cNvSpPr/>
            <p:nvPr/>
          </p:nvSpPr>
          <p:spPr>
            <a:xfrm>
              <a:off x="2971800" y="3789360"/>
              <a:ext cx="2592360" cy="1800360"/>
            </a:xfrm>
            <a:custGeom>
              <a:avLst/>
              <a:gdLst>
                <a:gd name="textAreaLeft" fmla="*/ 323640 w 2592360"/>
                <a:gd name="textAreaRight" fmla="*/ 2268720 w 2592360"/>
                <a:gd name="textAreaTop" fmla="*/ 450000 h 1800360"/>
                <a:gd name="textAreaBottom" fmla="*/ 13503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2" y="5400"/>
                  </a:ln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16202" y="16200"/>
                  </a:lnTo>
                  <a:lnTo>
                    <a:pt x="0" y="16200"/>
                  </a:lnTo>
                  <a:lnTo>
                    <a:pt x="2699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0"/>
            <p:cNvSpPr/>
            <p:nvPr/>
          </p:nvSpPr>
          <p:spPr>
            <a:xfrm>
              <a:off x="3332160" y="436572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热爱崇敬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A_02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nd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R27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23716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295280" y="236232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小摄影师       男孩      扔纸团     摆弄       坐  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明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关心  爱护    高尔基   放他进     微笑       站  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暗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7620120" y="25909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7924680" y="2743200"/>
            <a:ext cx="9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衬托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835000" y="12952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17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小摄影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7" descr="上一张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04920" y="6113520"/>
            <a:ext cx="1143000" cy="668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结束放映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1066680" cy="619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下一张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38480" y="6095880"/>
            <a:ext cx="1143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342080" y="1293840"/>
            <a:ext cx="6764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摄影   高尔基   阳光明媚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鞠躬   胶卷   秘书  杂志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81600" y="4037040"/>
            <a:ext cx="6764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   按时   摆弄   准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坐   一辆   吩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895040" y="692280"/>
            <a:ext cx="48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shè              jī              mè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39640" y="2182680"/>
            <a:ext cx="13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jū gōng   jiāo       mì             sh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kuang%20(36)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WordArt 3"/>
          <p:cNvSpPr txBox="1"/>
          <p:nvPr/>
        </p:nvSpPr>
        <p:spPr>
          <a:xfrm>
            <a:off x="0" y="0"/>
            <a:ext cx="232884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会读</a:t>
            </a:r>
            <a:r>
              <a:rPr b="1" lang="en-US" sz="4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:</a:t>
            </a:r>
            <a:endParaRPr b="1" lang="en-US" sz="4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684360" y="1268280"/>
            <a:ext cx="7632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ahoma"/>
              </a:rPr>
              <a:t>基       突       按     摆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ahoma"/>
              </a:rPr>
              <a:t>弄       准       备     侧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ahoma"/>
              </a:rPr>
              <a:t>胶       卷       辆     秘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ahoma"/>
              </a:rPr>
              <a:t>杂       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900000" y="836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Jī                            tū                           àn                       bǎ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55640" y="2133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òng                        zhǔn                        bèi                    c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684360" y="3357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Jiāo                           juǎn                        liàng                   m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55640" y="45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Zá                             sh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242360" y="431640"/>
            <a:ext cx="654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气真好啊，读这些次词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心情非常轻松愉快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969840" y="1981080"/>
            <a:ext cx="703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阳光明媚    风和日丽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高云淡    晴空万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碧空如洗    秋高气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8305920" y="6095880"/>
            <a:ext cx="533160" cy="45720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-36360" y="189000"/>
            <a:ext cx="91454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读一读，体会句子标点符号的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）小男孩摆弄了很久，说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：“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一切准备停当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来吧，我让他们放你进来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。”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高尔基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你怎么啦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？”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高尔基不知出了什么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是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，”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小男孩站起来，鞠了个躬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，“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请让我进去吧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403280" y="191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说的话放在后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039760" y="60181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说的话分两部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1920600" y="43624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说的话放在前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nd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R27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R91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D89D-B2D1-4877-83E1-6FCCEBBE41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2626920" y="2050920"/>
            <a:ext cx="47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四个蝌蚪真奇妙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前揽后抱是引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语言引在内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种形式要记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逗号句号和问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放准位置别溜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3" descr="u=344393408,530191609&amp;fm=0&amp;gp=-12"/>
          <p:cNvPicPr/>
          <p:nvPr/>
        </p:nvPicPr>
        <p:blipFill>
          <a:blip r:embed="rId1"/>
          <a:stretch/>
        </p:blipFill>
        <p:spPr>
          <a:xfrm>
            <a:off x="539640" y="333360"/>
            <a:ext cx="1511280" cy="11779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2916360" y="765000"/>
            <a:ext cx="3887640" cy="764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引号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052280" y="1197000"/>
            <a:ext cx="7556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   立刻   人行道   照相机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量   摆弄   准备   胶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秘书   杂志社   记者   转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当   咧开嘴   侧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57280" y="33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确读词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26"/>
          <p:cNvSpPr/>
          <p:nvPr/>
        </p:nvSpPr>
        <p:spPr>
          <a:xfrm>
            <a:off x="755640" y="1413000"/>
            <a:ext cx="7848720" cy="4392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我发现这几个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19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摄影      突然     立刻     打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照相      摆弄     准备   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书      记者     转告     基本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按住      侧面     车辆     鞠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行道      杂志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阳光明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65200" y="5554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贴（        ）  吩（        ）    社（        ）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沾（        ）  纷（        ）    杜（        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测（        ）  秘（        ）    胶（ 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侧（        ）  密（        ）    郊（ 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者（        ）  杂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著（        ）  染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663920" y="1089000"/>
            <a:ext cx="729360" cy="1176120"/>
            <a:chOff x="1663920" y="1089000"/>
            <a:chExt cx="729360" cy="1176120"/>
          </a:xfrm>
        </p:grpSpPr>
        <p:sp>
          <p:nvSpPr>
            <p:cNvPr id="102" name="Text Box 4"/>
            <p:cNvSpPr/>
            <p:nvPr/>
          </p:nvSpPr>
          <p:spPr>
            <a:xfrm>
              <a:off x="1663920" y="1089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贴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1663920" y="16225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沾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6"/>
          <p:cNvGrpSpPr/>
          <p:nvPr/>
        </p:nvGrpSpPr>
        <p:grpSpPr>
          <a:xfrm>
            <a:off x="4178520" y="1089000"/>
            <a:ext cx="729360" cy="1176120"/>
            <a:chOff x="4178520" y="1089000"/>
            <a:chExt cx="729360" cy="1176120"/>
          </a:xfrm>
        </p:grpSpPr>
        <p:sp>
          <p:nvSpPr>
            <p:cNvPr id="105" name="Text Box 7"/>
            <p:cNvSpPr/>
            <p:nvPr/>
          </p:nvSpPr>
          <p:spPr>
            <a:xfrm>
              <a:off x="4178520" y="1089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吩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4178520" y="16225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纷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9"/>
          <p:cNvGrpSpPr/>
          <p:nvPr/>
        </p:nvGrpSpPr>
        <p:grpSpPr>
          <a:xfrm>
            <a:off x="1663920" y="2765520"/>
            <a:ext cx="729360" cy="1175760"/>
            <a:chOff x="1663920" y="2765520"/>
            <a:chExt cx="729360" cy="1175760"/>
          </a:xfrm>
        </p:grpSpPr>
        <p:sp>
          <p:nvSpPr>
            <p:cNvPr id="108" name="Text Box 10"/>
            <p:cNvSpPr/>
            <p:nvPr/>
          </p:nvSpPr>
          <p:spPr>
            <a:xfrm>
              <a:off x="1663920" y="27655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测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1663920" y="32986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侧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6661080" y="1089000"/>
            <a:ext cx="1251000" cy="1176120"/>
            <a:chOff x="6661080" y="1089000"/>
            <a:chExt cx="1251000" cy="1176120"/>
          </a:xfrm>
        </p:grpSpPr>
        <p:sp>
          <p:nvSpPr>
            <p:cNvPr id="111" name="Text Box 13"/>
            <p:cNvSpPr/>
            <p:nvPr/>
          </p:nvSpPr>
          <p:spPr>
            <a:xfrm>
              <a:off x="6661080" y="1622520"/>
              <a:ext cx="125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杜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6845760" y="1089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6661080" y="2765520"/>
            <a:ext cx="1143000" cy="1175760"/>
            <a:chOff x="6661080" y="2765520"/>
            <a:chExt cx="1143000" cy="1175760"/>
          </a:xfrm>
        </p:grpSpPr>
        <p:sp>
          <p:nvSpPr>
            <p:cNvPr id="114" name="Text Box 16"/>
            <p:cNvSpPr/>
            <p:nvPr/>
          </p:nvSpPr>
          <p:spPr>
            <a:xfrm>
              <a:off x="6661080" y="27655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胶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6661080" y="3298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郊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3994200" y="2765520"/>
            <a:ext cx="1219320" cy="1175760"/>
            <a:chOff x="3994200" y="2765520"/>
            <a:chExt cx="1219320" cy="1175760"/>
          </a:xfrm>
        </p:grpSpPr>
        <p:sp>
          <p:nvSpPr>
            <p:cNvPr id="117" name="Text Box 19"/>
            <p:cNvSpPr/>
            <p:nvPr/>
          </p:nvSpPr>
          <p:spPr>
            <a:xfrm>
              <a:off x="4070520" y="3298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秘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20"/>
            <p:cNvSpPr/>
            <p:nvPr/>
          </p:nvSpPr>
          <p:spPr>
            <a:xfrm>
              <a:off x="3994200" y="27655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秘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479600" y="4365720"/>
            <a:ext cx="1143000" cy="1175760"/>
            <a:chOff x="1479600" y="4365720"/>
            <a:chExt cx="1143000" cy="1175760"/>
          </a:xfrm>
        </p:grpSpPr>
        <p:sp>
          <p:nvSpPr>
            <p:cNvPr id="120" name="Text Box 22"/>
            <p:cNvSpPr/>
            <p:nvPr/>
          </p:nvSpPr>
          <p:spPr>
            <a:xfrm>
              <a:off x="1479600" y="43657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作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3"/>
            <p:cNvSpPr/>
            <p:nvPr/>
          </p:nvSpPr>
          <p:spPr>
            <a:xfrm>
              <a:off x="1479600" y="48988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著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3994200" y="4365720"/>
            <a:ext cx="1143000" cy="1175760"/>
            <a:chOff x="3994200" y="4365720"/>
            <a:chExt cx="1143000" cy="1175760"/>
          </a:xfrm>
        </p:grpSpPr>
        <p:sp>
          <p:nvSpPr>
            <p:cNvPr id="123" name="Text Box 25"/>
            <p:cNvSpPr/>
            <p:nvPr/>
          </p:nvSpPr>
          <p:spPr>
            <a:xfrm>
              <a:off x="3994200" y="43657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杂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6"/>
            <p:cNvSpPr/>
            <p:nvPr/>
          </p:nvSpPr>
          <p:spPr>
            <a:xfrm>
              <a:off x="3994200" y="48988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感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17480" y="0"/>
            <a:ext cx="4981320" cy="65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）早晨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）纸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）电车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 ）照相机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 ）杂志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 ）摄影师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909520" y="163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004920" y="1306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928600" y="2286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985840" y="33638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004920" y="4419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44440" y="5497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24000" y="1905120"/>
            <a:ext cx="79819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纸团  墙  鞠躬  打量  吩咐  摆弄  胶卷  秘书  杂志社  转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26920" y="609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小妹妹"/>
          <p:cNvPicPr/>
          <p:nvPr/>
        </p:nvPicPr>
        <p:blipFill>
          <a:blip r:embed="rId1"/>
          <a:stretch/>
        </p:blipFill>
        <p:spPr>
          <a:xfrm>
            <a:off x="0" y="457200"/>
            <a:ext cx="800280" cy="952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62120" y="4419720"/>
            <a:ext cx="7391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我能用上面的词语来说说课文的主要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905120" y="762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知道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“突然</a:t>
            </a:r>
            <a:r>
              <a:rPr b="0" lang="zh-CN" sz="3200" spc="-1" strike="noStrike">
                <a:solidFill>
                  <a:srgbClr val="ff9933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进入梦想世界"/>
          <p:cNvPicPr/>
          <p:nvPr/>
        </p:nvPicPr>
        <p:blipFill>
          <a:blip r:embed="rId1"/>
          <a:stretch/>
        </p:blipFill>
        <p:spPr>
          <a:xfrm>
            <a:off x="304920" y="3049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838080" y="19810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71600" y="17524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个阳光明媚的早晨，高尔基正在读书，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突然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一个小纸团从窗外飞到了桌子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219320" y="358128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高尔基侧过脸，对他微笑。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突然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小男孩往地上一坐，哭了起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905120" y="5486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华文中宋"/>
              </a:rPr>
              <a:t>我想围绕“突然”提几个问题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华文中宋"/>
              </a:rPr>
              <a:t>…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华文中宋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2:16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12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