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chimes.wav" ContentType="audio/x-wav"/>
  <Override PartName="/ppt/media/wind.wav" ContentType="audio/x-wav"/>
  <Override PartName="/ppt/media/image9.jpeg" ContentType="image/jpeg"/>
  <Override PartName="/ppt/media/breeze.wav" ContentType="audio/x-wav"/>
  <Override PartName="/ppt/media/image7.jpeg" ContentType="image/jpeg"/>
  <Override PartName="/ppt/media/voltage.wav" ContentType="audio/x-wav"/>
  <Override PartName="/ppt/media/image6.png" ContentType="image/png"/>
  <Override PartName="/ppt/media/image15.jpeg" ContentType="image/jpeg"/>
  <Override PartName="/ppt/media/type.wav" ContentType="audio/x-wav"/>
  <Override PartName="/ppt/media/image14.jpeg" ContentType="image/jpeg"/>
  <Override PartName="/ppt/media/image12.png" ContentType="image/png"/>
  <Override PartName="/ppt/media/suction.wav" ContentType="audio/x-wav"/>
  <Override PartName="/ppt/media/image11.gif" ContentType="image/gif"/>
  <Override PartName="/ppt/media/image1.jpeg" ContentType="image/jpeg"/>
  <Override PartName="/ppt/media/push.wav" ContentType="audio/x-wav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coin.wav" ContentType="audio/x-wav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2233-EF7A-4D73-B5C0-DEA108616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2413-DB74-4799-88CA-3D2D012D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950E-9E9B-4B7B-93C1-82267CFA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A3A2-7D9E-479D-B136-772C149C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2B3A-A18B-4BA6-B5B8-9C3F2AF6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EECF-7774-4427-A4D5-E6CA2782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D523-BF55-4586-91D2-1BEB04E0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40CB-EAEE-4CAB-A892-7F0EA1F7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9C5B-4018-4C44-9953-9252A563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AA0F-43D8-418B-9224-0AAFFBC0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5138-FDA4-4018-89C4-8EB26BEE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888B-AA7D-4392-9947-2470CD9C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BC8D-87CE-43F4-AD81-E7B9833D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2D62-8A87-4E49-982A-30897297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30E3-1ED5-4E27-8C30-CD2BDF9E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4D10-F04D-416A-A1AB-ED026BA21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92A2-CB79-412D-B553-4210B761F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1435E-ED21-468A-A160-6FE90CB4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FA326-8915-4EE2-9D3A-43103F5A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28112-F265-4D68-AE35-42601F96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13C7C-BAA6-4409-93DE-10A152E9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001B5-22DC-4F8B-ABC3-6C244302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3FD8-21C5-46B8-BA62-13F0D4CF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767FB-27FC-43AC-AEAD-2B808933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72FF8-45D9-462F-9B87-5D203084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E7B94-6361-4A72-87D8-2B99879A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52102-FEDE-4FCC-B8E1-6DDC9F6B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E5569-C6A1-433E-9DBD-BB6A7609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1E6E9-59C7-444D-98DB-FEDA802B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F7D65-A1CF-4038-B765-B1213A803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F3EB-AABB-4B98-AF98-A48CD864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6FF9-C1E3-409E-9354-59EAF18A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D1CE-2159-4D68-A0B1-192728E7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B730-C15C-4F52-8922-933323B6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DABC-0FCD-48B0-8D91-62C52E82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5554-5CAC-41BD-83B3-5F46FA34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BAE8-2279-4C40-BEDF-001286C1D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B2B2-1EA0-4266-82F2-B94003148C6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4878-BD7A-40C5-BE5E-F89761E5A13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3AE5-FC2D-4BC4-A247-2EEE3A431745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audio" Target="../media/voltage.wav"/><Relationship Id="rId5" Type="http://schemas.openxmlformats.org/officeDocument/2006/relationships/audio" Target="../media/voltage.wav"/><Relationship Id="rId6" Type="http://schemas.openxmlformats.org/officeDocument/2006/relationships/audio" Target="../media/voltage.wav"/><Relationship Id="rId7" Type="http://schemas.openxmlformats.org/officeDocument/2006/relationships/audio" Target="../media/voltage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push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oin.wav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audio" Target="../media/coin.wav"/><Relationship Id="rId6" Type="http://schemas.openxmlformats.org/officeDocument/2006/relationships/audio" Target="../media/coin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W020070725600862612190"/>
          <p:cNvPicPr/>
          <p:nvPr/>
        </p:nvPicPr>
        <p:blipFill>
          <a:blip r:embed="rId1"/>
          <a:stretch/>
        </p:blipFill>
        <p:spPr>
          <a:xfrm>
            <a:off x="-76320" y="0"/>
            <a:ext cx="495324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5028840" y="714240"/>
            <a:ext cx="381636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夜书所见 </a:t>
            </a:r>
            <a:br>
              <a:rPr sz="40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叶绍翁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5" name="WordArt 4" descr=""/>
          <p:cNvPicPr/>
          <p:nvPr/>
        </p:nvPicPr>
        <p:blipFill>
          <a:blip r:embed="rId2"/>
          <a:stretch/>
        </p:blipFill>
        <p:spPr>
          <a:xfrm>
            <a:off x="5100480" y="2052720"/>
            <a:ext cx="4086360" cy="3616200"/>
          </a:xfrm>
          <a:prstGeom prst="rect">
            <a:avLst/>
          </a:prstGeom>
          <a:ln w="0">
            <a:noFill/>
          </a:ln>
        </p:spPr>
      </p:pic>
      <p:pic>
        <p:nvPicPr>
          <p:cNvPr id="126" name="夜书所见.mp3" descr=""/>
          <p:cNvPicPr/>
          <p:nvPr/>
        </p:nvPicPr>
        <p:blipFill>
          <a:blip r:embed="rId3"/>
          <a:stretch/>
        </p:blipFill>
        <p:spPr>
          <a:xfrm>
            <a:off x="48006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33cc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8" name="文本框 2" descr=""/>
          <p:cNvPicPr/>
          <p:nvPr/>
        </p:nvPicPr>
        <p:blipFill>
          <a:blip r:embed="rId4"/>
          <a:stretch/>
        </p:blipFill>
        <p:spPr>
          <a:xfrm>
            <a:off x="1219320" y="76320"/>
            <a:ext cx="706284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4725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51920" y="1980720"/>
            <a:ext cx="854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萧萧秋风吹动梧桐树叶，送来阵阵寒意。这个时候，客游在外的诗人不禁思念起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324480" y="4038480"/>
            <a:ext cx="2590920" cy="360"/>
            <a:chOff x="6324480" y="4038480"/>
            <a:chExt cx="2590920" cy="360"/>
          </a:xfrm>
        </p:grpSpPr>
        <p:sp>
          <p:nvSpPr>
            <p:cNvPr id="154" name="Line 5"/>
            <p:cNvSpPr/>
            <p:nvPr/>
          </p:nvSpPr>
          <p:spPr>
            <a:xfrm>
              <a:off x="6324480" y="4038480"/>
              <a:ext cx="2590920" cy="0"/>
            </a:xfrm>
            <a:prstGeom prst="line">
              <a:avLst/>
            </a:prstGeom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6324480" y="4038480"/>
              <a:ext cx="2590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62120" y="4800600"/>
            <a:ext cx="1447560" cy="360"/>
            <a:chOff x="762120" y="4800600"/>
            <a:chExt cx="1447560" cy="360"/>
          </a:xfrm>
        </p:grpSpPr>
        <p:sp>
          <p:nvSpPr>
            <p:cNvPr id="157" name="Line 6"/>
            <p:cNvSpPr/>
            <p:nvPr/>
          </p:nvSpPr>
          <p:spPr>
            <a:xfrm>
              <a:off x="762120" y="4800600"/>
              <a:ext cx="1447560" cy="0"/>
            </a:xfrm>
            <a:prstGeom prst="line">
              <a:avLst/>
            </a:prstGeom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762120" y="4800600"/>
              <a:ext cx="1447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59" name="Text Box 8"/>
          <p:cNvSpPr/>
          <p:nvPr/>
        </p:nvSpPr>
        <p:spPr>
          <a:xfrm>
            <a:off x="860400" y="12114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自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066680" y="335268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                            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自己的故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乡。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685800" y="1676520"/>
            <a:ext cx="863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知有儿童挑促织，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609480" y="335268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夜深篱落一灯明。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1103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762120" y="762120"/>
            <a:ext cx="863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知有儿童挑促织，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85800" y="36576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夜深篱落一灯明。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57200" y="23623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知：料想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3276720" y="236232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挑：捉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Text Box 7">
            <a:hlinkClick r:id="" action="ppaction://hlinkshowjump?jump=nextslide"/>
          </p:cNvPr>
          <p:cNvSpPr/>
          <p:nvPr/>
        </p:nvSpPr>
        <p:spPr>
          <a:xfrm>
            <a:off x="5486400" y="236232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促织：蟋蟀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1981080" y="533412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篱落：篱笆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7740720" y="5805360"/>
            <a:ext cx="792000" cy="79236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0" y="91404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他料想有孩子正在草地上捉蟋蟀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。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原因是他看到了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                       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此时可能又想起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                  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心里会产生一种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04920" y="3657600"/>
            <a:ext cx="3657600" cy="360"/>
            <a:chOff x="304920" y="3657600"/>
            <a:chExt cx="3657600" cy="360"/>
          </a:xfrm>
        </p:grpSpPr>
        <p:sp>
          <p:nvSpPr>
            <p:cNvPr id="173" name="Line 4"/>
            <p:cNvSpPr/>
            <p:nvPr/>
          </p:nvSpPr>
          <p:spPr>
            <a:xfrm>
              <a:off x="304920" y="3657600"/>
              <a:ext cx="3657600" cy="0"/>
            </a:xfrm>
            <a:prstGeom prst="line">
              <a:avLst/>
            </a:prstGeom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304920" y="3657600"/>
              <a:ext cx="365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7467480" y="4724280"/>
            <a:ext cx="914400" cy="360"/>
            <a:chOff x="7467480" y="4724280"/>
            <a:chExt cx="914400" cy="360"/>
          </a:xfrm>
        </p:grpSpPr>
        <p:sp>
          <p:nvSpPr>
            <p:cNvPr id="176" name="Line 5"/>
            <p:cNvSpPr/>
            <p:nvPr/>
          </p:nvSpPr>
          <p:spPr>
            <a:xfrm>
              <a:off x="7467480" y="4724280"/>
              <a:ext cx="914400" cy="0"/>
            </a:xfrm>
            <a:prstGeom prst="line">
              <a:avLst/>
            </a:prstGeom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7467480" y="472428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78" name="Text Box 6"/>
          <p:cNvSpPr/>
          <p:nvPr/>
        </p:nvSpPr>
        <p:spPr>
          <a:xfrm>
            <a:off x="380880" y="2133720"/>
            <a:ext cx="8458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                                           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篱     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笆下边有灯火   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80880" y="5486400"/>
            <a:ext cx="2133720" cy="360"/>
            <a:chOff x="380880" y="5486400"/>
            <a:chExt cx="2133720" cy="360"/>
          </a:xfrm>
        </p:grpSpPr>
        <p:sp>
          <p:nvSpPr>
            <p:cNvPr id="180" name="Line 7"/>
            <p:cNvSpPr/>
            <p:nvPr/>
          </p:nvSpPr>
          <p:spPr>
            <a:xfrm>
              <a:off x="380880" y="5486400"/>
              <a:ext cx="2133720" cy="0"/>
            </a:xfrm>
            <a:prstGeom prst="line">
              <a:avLst/>
            </a:prstGeom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380880" y="5486400"/>
              <a:ext cx="2133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924680" y="2895480"/>
            <a:ext cx="533520" cy="360"/>
            <a:chOff x="7924680" y="2895480"/>
            <a:chExt cx="533520" cy="360"/>
          </a:xfrm>
        </p:grpSpPr>
        <p:sp>
          <p:nvSpPr>
            <p:cNvPr id="183" name="Line 8"/>
            <p:cNvSpPr/>
            <p:nvPr/>
          </p:nvSpPr>
          <p:spPr>
            <a:xfrm>
              <a:off x="7924680" y="2895480"/>
              <a:ext cx="533520" cy="0"/>
            </a:xfrm>
            <a:prstGeom prst="line">
              <a:avLst/>
            </a:prstGeom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7924680" y="2895480"/>
              <a:ext cx="533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57200" y="4724280"/>
            <a:ext cx="2895480" cy="360"/>
            <a:chOff x="457200" y="4724280"/>
            <a:chExt cx="2895480" cy="360"/>
          </a:xfrm>
        </p:grpSpPr>
        <p:sp>
          <p:nvSpPr>
            <p:cNvPr id="186" name="Line 9"/>
            <p:cNvSpPr/>
            <p:nvPr/>
          </p:nvSpPr>
          <p:spPr>
            <a:xfrm>
              <a:off x="457200" y="4724280"/>
              <a:ext cx="2895480" cy="0"/>
            </a:xfrm>
            <a:prstGeom prst="line">
              <a:avLst/>
            </a:prstGeom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457200" y="4724280"/>
              <a:ext cx="2895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88" name="Text Box 10"/>
          <p:cNvSpPr/>
          <p:nvPr/>
        </p:nvSpPr>
        <p:spPr>
          <a:xfrm>
            <a:off x="461880" y="4038480"/>
            <a:ext cx="22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童年的生活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675720" y="3962520"/>
            <a:ext cx="730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                                            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亲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切之感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文本框 8197"/>
          <p:cNvSpPr/>
          <p:nvPr/>
        </p:nvSpPr>
        <p:spPr>
          <a:xfrm>
            <a:off x="1066680" y="25146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1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W020070725600862612190"/>
          <p:cNvPicPr/>
          <p:nvPr/>
        </p:nvPicPr>
        <p:blipFill>
          <a:blip r:embed="rId1"/>
          <a:stretch/>
        </p:blipFill>
        <p:spPr>
          <a:xfrm>
            <a:off x="457200" y="380880"/>
            <a:ext cx="3581280" cy="5867640"/>
          </a:xfrm>
          <a:prstGeom prst="rect">
            <a:avLst/>
          </a:prstGeom>
          <a:ln w="0">
            <a:noFill/>
          </a:ln>
        </p:spPr>
      </p:pic>
      <p:pic>
        <p:nvPicPr>
          <p:cNvPr id="192" name="WordArt 5" descr=""/>
          <p:cNvPicPr/>
          <p:nvPr/>
        </p:nvPicPr>
        <p:blipFill>
          <a:blip r:embed="rId2"/>
          <a:stretch/>
        </p:blipFill>
        <p:spPr>
          <a:xfrm>
            <a:off x="4414680" y="2281320"/>
            <a:ext cx="4086360" cy="36162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6"/>
          <p:cNvSpPr/>
          <p:nvPr/>
        </p:nvSpPr>
        <p:spPr>
          <a:xfrm>
            <a:off x="5181480" y="3808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夜书所见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5638680" y="1371600"/>
            <a:ext cx="16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叶绍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3"/>
          <p:cNvSpPr txBox="1"/>
          <p:nvPr/>
        </p:nvSpPr>
        <p:spPr>
          <a:xfrm>
            <a:off x="3200400" y="685800"/>
            <a:ext cx="34290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译文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533520" y="3048120"/>
            <a:ext cx="83055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萧萧秋风吹动梧桐树叶，送来阵阵寒意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客游在外的诗人不禁思念起自己的家乡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他忽然看到远处篱笆下的灯火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猜想那是孩子们在捉蟋蟀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97" name="Picture 5" descr="2"/>
          <p:cNvPicPr/>
          <p:nvPr/>
        </p:nvPicPr>
        <p:blipFill>
          <a:blip r:embed="rId1"/>
          <a:stretch/>
        </p:blipFill>
        <p:spPr>
          <a:xfrm>
            <a:off x="0" y="152280"/>
            <a:ext cx="28954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夜书所见"/>
          <p:cNvPicPr/>
          <p:nvPr/>
        </p:nvPicPr>
        <p:blipFill>
          <a:blip r:embed="rId1"/>
          <a:stretch/>
        </p:blipFill>
        <p:spPr>
          <a:xfrm>
            <a:off x="1143000" y="685800"/>
            <a:ext cx="3048120" cy="54100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5013000" y="990720"/>
            <a:ext cx="25642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Times New Roman"/>
              </a:rPr>
              <a:t>知有儿童</a:t>
            </a:r>
            <a:r>
              <a:rPr b="0" lang="zh-CN" sz="4800" spc="-1" strike="noStrike">
                <a:solidFill>
                  <a:srgbClr val="ff6600"/>
                </a:solidFill>
                <a:latin typeface="Times New Roman"/>
              </a:rPr>
              <a:t>挑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促织</a:t>
            </a:r>
            <a:r>
              <a:rPr b="0" lang="zh-CN" sz="4800" spc="-1" strike="noStrike">
                <a:solidFill>
                  <a:srgbClr val="0033cc"/>
                </a:solidFill>
                <a:latin typeface="Times New Roman"/>
              </a:rPr>
              <a:t>，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Times New Roman"/>
              </a:rPr>
              <a:t>夜深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篱落</a:t>
            </a:r>
            <a:r>
              <a:rPr b="0" lang="zh-CN" sz="4800" spc="-1" strike="noStrike">
                <a:solidFill>
                  <a:srgbClr val="0033cc"/>
                </a:solidFill>
                <a:latin typeface="Times New Roman"/>
              </a:rPr>
              <a:t>一灯明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1"/>
          <p:cNvPicPr/>
          <p:nvPr/>
        </p:nvPicPr>
        <p:blipFill>
          <a:blip r:embed="rId1"/>
          <a:stretch/>
        </p:blipFill>
        <p:spPr>
          <a:xfrm>
            <a:off x="0" y="-252360"/>
            <a:ext cx="9144000" cy="71103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3"/>
          <p:cNvSpPr/>
          <p:nvPr/>
        </p:nvSpPr>
        <p:spPr>
          <a:xfrm>
            <a:off x="1143000" y="0"/>
            <a:ext cx="58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夜书所见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3200400" y="1066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叶 绍 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03" name="Group 5"/>
          <p:cNvGrpSpPr/>
          <p:nvPr/>
        </p:nvGrpSpPr>
        <p:grpSpPr>
          <a:xfrm>
            <a:off x="1371600" y="1676520"/>
            <a:ext cx="6095880" cy="4724280"/>
            <a:chOff x="1371600" y="1676520"/>
            <a:chExt cx="6095880" cy="4724280"/>
          </a:xfrm>
        </p:grpSpPr>
        <p:sp>
          <p:nvSpPr>
            <p:cNvPr id="204" name="AutoShape 6"/>
            <p:cNvSpPr/>
            <p:nvPr/>
          </p:nvSpPr>
          <p:spPr>
            <a:xfrm>
              <a:off x="1371600" y="1676520"/>
              <a:ext cx="6095880" cy="4724280"/>
            </a:xfrm>
            <a:prstGeom prst="flowChartAlternateProcess">
              <a:avLst/>
            </a:prstGeom>
            <a:solidFill>
              <a:srgbClr val="33cc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5" name="Text Box 7"/>
            <p:cNvSpPr/>
            <p:nvPr/>
          </p:nvSpPr>
          <p:spPr>
            <a:xfrm>
              <a:off x="1981080" y="1981440"/>
              <a:ext cx="5181120" cy="41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萧萧梧叶送寒声，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江上秋风动客情。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知有儿童挑促织，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夜深篱落一灯明。</a:t>
              </a:r>
              <a:endParaRPr b="0" lang="en-US" sz="4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207" name="Picture 3" descr="gugaung1"/>
          <p:cNvPicPr/>
          <p:nvPr/>
        </p:nvPicPr>
        <p:blipFill>
          <a:blip r:embed="rId1"/>
          <a:stretch/>
        </p:blipFill>
        <p:spPr>
          <a:xfrm>
            <a:off x="0" y="-95400"/>
            <a:ext cx="9144000" cy="6953400"/>
          </a:xfrm>
          <a:prstGeom prst="rect">
            <a:avLst/>
          </a:prstGeom>
          <a:ln w="0">
            <a:noFill/>
          </a:ln>
        </p:spPr>
      </p:pic>
      <p:pic>
        <p:nvPicPr>
          <p:cNvPr id="208" name="轻音乐、轻音乐 - 经典 - 钢琴名曲 古典 神秘花园.mp3" descr=""/>
          <p:cNvPicPr/>
          <p:nvPr/>
        </p:nvPicPr>
        <p:blipFill>
          <a:blip r:embed="rId2"/>
          <a:stretch/>
        </p:blipFill>
        <p:spPr>
          <a:xfrm>
            <a:off x="10800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5"/>
          <p:cNvSpPr/>
          <p:nvPr/>
        </p:nvSpPr>
        <p:spPr>
          <a:xfrm>
            <a:off x="828720" y="0"/>
            <a:ext cx="2374920" cy="71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有一年秋天，叶绍翁离开家乡，一个人远在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外地。一天晚上，风吹着梧桐树哗啦啦地响，好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像在说：“秋天到了。”连树叶都怕冷起来。看着一江秋水，满天的黑暗，听着秋风吹动树叶的声音，想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到自己漂泊在外，诗人怎么都睡不着，心里觉得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更加寒冷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" dur="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夜书所见"/>
          <p:cNvPicPr/>
          <p:nvPr/>
        </p:nvPicPr>
        <p:blipFill>
          <a:blip r:embed="rId1"/>
          <a:stretch/>
        </p:blipFill>
        <p:spPr>
          <a:xfrm>
            <a:off x="0" y="-8892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3"/>
          <p:cNvSpPr/>
          <p:nvPr/>
        </p:nvSpPr>
        <p:spPr>
          <a:xfrm>
            <a:off x="8301240" y="0"/>
            <a:ext cx="7902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忽然透过窗户，他看到不远处的篱笆间有盏灯火，仔细一看，原来是几个孩子用细枝从缝穴中小心翼翼地捉蟋蟀，尽管已经很晚了，却玩得十分投入。诗人不禁想起自己小时候跟小伙伴们一起捉蟋蟀、捉蝴蝶、逮小鱼的快乐情景，那时也是这样的无忧无虑啊！可时光过得飞快，自己早已告别了那美好的童年，此时此刻一个人远离家乡，漂泊在外。于是，诗人起身坐到书桌前，在寒冷的秋夜里提笔写下自己所看到的景象，表达自己思念家乡的心情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6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0" name="Picture 2" descr="3118461266978135513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609480" y="1295280"/>
            <a:ext cx="8534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萧萧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(xiāo xiāo)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梧叶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宋体"/>
              </a:rPr>
              <a:t>(wú  yè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篱落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宋体"/>
              </a:rPr>
              <a:t>(lí luò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宋体"/>
              </a:rPr>
              <a:t>) 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知道（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宋体"/>
              </a:rPr>
              <a:t>zhī dào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）　　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寒声（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宋体"/>
              </a:rPr>
              <a:t>hán shēnɡ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客情（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kè qíng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）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挑促织（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tiǎo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宋体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cù zhī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灯明（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dēng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宋体"/>
              </a:rPr>
              <a:t>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míng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夜书所见  电子课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Arial"/>
              </a:rPr>
              <a:t>你觉得这首诗表达了一种怎样的感情？</a:t>
            </a:r>
            <a:endParaRPr b="0" lang="en-US" sz="6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108000" y="3860640"/>
            <a:ext cx="90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诗人客游在外，看到秋风落叶，篱落灯明，不禁勾起思念家乡的思想感情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1447560" y="838080"/>
            <a:ext cx="6525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这首诗先写客游在外，因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                             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，由看到远处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篱笆下的灯火，料想是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，不禁回忆起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               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，于是那种              又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被                      所代替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7620120" y="1523880"/>
            <a:ext cx="838080" cy="360"/>
            <a:chOff x="7620120" y="1523880"/>
            <a:chExt cx="838080" cy="360"/>
          </a:xfrm>
        </p:grpSpPr>
        <p:sp>
          <p:nvSpPr>
            <p:cNvPr id="217" name="Line 5"/>
            <p:cNvSpPr/>
            <p:nvPr/>
          </p:nvSpPr>
          <p:spPr>
            <a:xfrm>
              <a:off x="7620120" y="1523880"/>
              <a:ext cx="838080" cy="0"/>
            </a:xfrm>
            <a:prstGeom prst="line">
              <a:avLst/>
            </a:prstGeom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7620120" y="1523880"/>
              <a:ext cx="83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62120" y="2286000"/>
            <a:ext cx="4419360" cy="360"/>
            <a:chOff x="762120" y="2286000"/>
            <a:chExt cx="4419360" cy="360"/>
          </a:xfrm>
        </p:grpSpPr>
        <p:sp>
          <p:nvSpPr>
            <p:cNvPr id="220" name="Line 6"/>
            <p:cNvSpPr/>
            <p:nvPr/>
          </p:nvSpPr>
          <p:spPr>
            <a:xfrm>
              <a:off x="762120" y="2286000"/>
              <a:ext cx="4419360" cy="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762120" y="2286000"/>
              <a:ext cx="4419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553080" y="2819520"/>
            <a:ext cx="1981440" cy="360"/>
            <a:chOff x="6553080" y="2819520"/>
            <a:chExt cx="1981440" cy="360"/>
          </a:xfrm>
        </p:grpSpPr>
        <p:sp>
          <p:nvSpPr>
            <p:cNvPr id="223" name="Line 10"/>
            <p:cNvSpPr/>
            <p:nvPr/>
          </p:nvSpPr>
          <p:spPr>
            <a:xfrm>
              <a:off x="6553080" y="2819520"/>
              <a:ext cx="1981440" cy="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>
              <a:off x="6553080" y="2819520"/>
              <a:ext cx="1981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5800" y="3581280"/>
            <a:ext cx="1447920" cy="360"/>
            <a:chOff x="685800" y="3581280"/>
            <a:chExt cx="1447920" cy="360"/>
          </a:xfrm>
        </p:grpSpPr>
        <p:sp>
          <p:nvSpPr>
            <p:cNvPr id="226" name="Line 13"/>
            <p:cNvSpPr/>
            <p:nvPr/>
          </p:nvSpPr>
          <p:spPr>
            <a:xfrm>
              <a:off x="685800" y="3581280"/>
              <a:ext cx="1447920" cy="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685800" y="3581280"/>
              <a:ext cx="144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410080" y="3505320"/>
            <a:ext cx="3200400" cy="75960"/>
            <a:chOff x="5410080" y="3505320"/>
            <a:chExt cx="3200400" cy="75960"/>
          </a:xfrm>
        </p:grpSpPr>
        <p:sp>
          <p:nvSpPr>
            <p:cNvPr id="229" name="Line 14"/>
            <p:cNvSpPr/>
            <p:nvPr/>
          </p:nvSpPr>
          <p:spPr>
            <a:xfrm>
              <a:off x="5410080" y="3505320"/>
              <a:ext cx="3200400" cy="7596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>
              <a:off x="5410080" y="3505320"/>
              <a:ext cx="3200400" cy="75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09480" y="4267080"/>
            <a:ext cx="2743200" cy="360"/>
            <a:chOff x="609480" y="4267080"/>
            <a:chExt cx="2743200" cy="360"/>
          </a:xfrm>
        </p:grpSpPr>
        <p:sp>
          <p:nvSpPr>
            <p:cNvPr id="232" name="Line 15"/>
            <p:cNvSpPr/>
            <p:nvPr/>
          </p:nvSpPr>
          <p:spPr>
            <a:xfrm>
              <a:off x="609480" y="4267080"/>
              <a:ext cx="2743200" cy="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>
              <a:off x="609480" y="4267080"/>
              <a:ext cx="2743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867280" y="4191120"/>
            <a:ext cx="2210040" cy="75960"/>
            <a:chOff x="5867280" y="4191120"/>
            <a:chExt cx="2210040" cy="75960"/>
          </a:xfrm>
        </p:grpSpPr>
        <p:sp>
          <p:nvSpPr>
            <p:cNvPr id="235" name="Line 16"/>
            <p:cNvSpPr/>
            <p:nvPr/>
          </p:nvSpPr>
          <p:spPr>
            <a:xfrm>
              <a:off x="5867280" y="4191120"/>
              <a:ext cx="2210040" cy="7596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5867280" y="4191120"/>
              <a:ext cx="2210040" cy="75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295280" y="4876920"/>
            <a:ext cx="3429000" cy="360"/>
            <a:chOff x="1295280" y="4876920"/>
            <a:chExt cx="3429000" cy="360"/>
          </a:xfrm>
        </p:grpSpPr>
        <p:sp>
          <p:nvSpPr>
            <p:cNvPr id="238" name="Line 17"/>
            <p:cNvSpPr/>
            <p:nvPr/>
          </p:nvSpPr>
          <p:spPr>
            <a:xfrm>
              <a:off x="1295280" y="4876920"/>
              <a:ext cx="3429000" cy="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1295280" y="4876920"/>
              <a:ext cx="3429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40" name="Text Box 18"/>
          <p:cNvSpPr/>
          <p:nvPr/>
        </p:nvSpPr>
        <p:spPr>
          <a:xfrm>
            <a:off x="929160" y="838080"/>
            <a:ext cx="735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                                          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秋分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落叶，感到郁闷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Text Box 19"/>
          <p:cNvSpPr/>
          <p:nvPr/>
        </p:nvSpPr>
        <p:spPr>
          <a:xfrm>
            <a:off x="1161000" y="2133720"/>
            <a:ext cx="682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                                    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小孩捉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蟋蟀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1229760" y="2819520"/>
            <a:ext cx="681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                             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自己的故乡和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童年的生活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Text Box 21"/>
          <p:cNvSpPr/>
          <p:nvPr/>
        </p:nvSpPr>
        <p:spPr>
          <a:xfrm>
            <a:off x="6239880" y="3429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郁闷之情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2693520" y="41911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一种亲切之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5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9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696600"/>
            <a:ext cx="260964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代表作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-360" y="1341360"/>
            <a:ext cx="8317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宋体"/>
              </a:rPr>
              <a:t>　</a:t>
            </a:r>
            <a:r>
              <a:rPr b="0" lang="zh-CN" sz="4400" spc="-1" strike="noStrike">
                <a:solidFill>
                  <a:srgbClr val="0f0601"/>
                </a:solidFill>
                <a:latin typeface="宋体"/>
              </a:rPr>
              <a:t>游园不值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f0601"/>
                </a:solidFill>
                <a:latin typeface="宋体"/>
              </a:rPr>
              <a:t>　</a:t>
            </a:r>
            <a:r>
              <a:rPr b="0" lang="zh-CN" sz="3200" spc="-1" strike="noStrike">
                <a:solidFill>
                  <a:srgbClr val="0f0601"/>
                </a:solidFill>
                <a:latin typeface="宋体"/>
              </a:rPr>
              <a:t>叶绍翁</a:t>
            </a:r>
            <a:r>
              <a:rPr b="0" lang="zh-CN" sz="4400" spc="-1" strike="noStrike">
                <a:solidFill>
                  <a:srgbClr val="0033cc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宋体"/>
              </a:rPr>
              <a:t>   </a:t>
            </a:r>
            <a:r>
              <a:rPr b="0" lang="zh-CN" sz="4400" spc="-1" strike="noStrike">
                <a:solidFill>
                  <a:srgbClr val="0033cc"/>
                </a:solidFill>
                <a:latin typeface="宋体"/>
              </a:rPr>
              <a:t>应怜屐齿印苍台，              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宋体"/>
              </a:rPr>
              <a:t>   </a:t>
            </a:r>
            <a:r>
              <a:rPr b="0" lang="zh-CN" sz="4400" spc="-1" strike="noStrike">
                <a:solidFill>
                  <a:srgbClr val="0033cc"/>
                </a:solidFill>
                <a:latin typeface="宋体"/>
              </a:rPr>
              <a:t>小扣柴扉久不开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宋体"/>
              </a:rPr>
              <a:t>   </a:t>
            </a:r>
            <a:r>
              <a:rPr b="0" lang="zh-CN" sz="4400" spc="-1" strike="noStrike">
                <a:solidFill>
                  <a:srgbClr val="0033cc"/>
                </a:solidFill>
                <a:latin typeface="宋体"/>
              </a:rPr>
              <a:t>春色满园关不住，   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宋体"/>
              </a:rPr>
              <a:t>  </a:t>
            </a:r>
            <a:r>
              <a:rPr b="0" lang="zh-CN" sz="4400" spc="-1" strike="noStrike">
                <a:solidFill>
                  <a:srgbClr val="0033cc"/>
                </a:solidFill>
                <a:latin typeface="宋体"/>
              </a:rPr>
              <a:t>一枝红杏出墙来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572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注释</a:t>
            </a:r>
            <a:r>
              <a:rPr b="1" lang="en-US" sz="4400" spc="-1" strike="noStrike">
                <a:solidFill>
                  <a:srgbClr val="007572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3360" y="1295280"/>
            <a:ext cx="854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游园不值 ： 我在游园时没有遇到主人。　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应：大概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值：遇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怜：怜惜，爱惜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屐齿：古代木鞋下的木杠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6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苍苔：生长在阴暗潮湿地方的苔藓植物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7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小扣：轻轻地敲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8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柴扉：用树枝编成的简陋的柴门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572"/>
                </a:solidFill>
                <a:latin typeface="Arial"/>
              </a:rPr>
              <a:t>译文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2285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大概是院子的主人爱惜青苔，怕我的木屐在上面留下脚印吧，轻轻地敲柴门，好久也没人来开门。可是满园子的春色毕竟是关不住的，开得正旺的红杏有一枝枝条已经伸到墙外来了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640A-BAF9-4E31-95AC-2226EE482132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572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解读</a:t>
            </a:r>
            <a:r>
              <a:rPr b="1" lang="en-US" sz="4400" spc="-1" strike="noStrike">
                <a:solidFill>
                  <a:srgbClr val="007572"/>
                </a:solidFill>
                <a:latin typeface="Arial"/>
              </a:rPr>
              <a:t>】</a:t>
            </a: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诗人想去朋友的花园中观赏春色，但是敲了半天门，也没有人来开。主人大概不在家。也许是担心游人踏坏了地面的青苔，故意不开门。但是一扇柴门，虽然关住了游人，却关不住满园春色，一只红色的杏花，早已探出墙来。表达了作者对春天的喜爱之情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22000" y="26665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0" spc="-1" strike="noStrike">
                <a:solidFill>
                  <a:srgbClr val="000000"/>
                </a:solidFill>
                <a:latin typeface="Arial"/>
                <a:ea typeface="楷体_GB2312"/>
              </a:rPr>
              <a:t>促</a:t>
            </a:r>
            <a:endParaRPr b="0" lang="en-US" sz="350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066680" y="9903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lvl="3" marL="1328040" indent="-189720">
              <a:lnSpc>
                <a:spcPct val="90000"/>
              </a:lnSpc>
              <a:spcBef>
                <a:spcPts val="8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0" spc="-1" strike="noStrike">
                <a:solidFill>
                  <a:srgbClr val="000000"/>
                </a:solidFill>
                <a:latin typeface="Arial"/>
                <a:ea typeface="楷体_GB2312"/>
              </a:rPr>
              <a:t>深</a:t>
            </a:r>
            <a:endParaRPr b="0" lang="en-US" sz="35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914400" y="137160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cc"/>
                </a:solidFill>
                <a:latin typeface="Arial"/>
              </a:rPr>
              <a:t>萧萧梧叶送寒声，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cc"/>
                </a:solidFill>
                <a:latin typeface="Arial"/>
              </a:rPr>
              <a:t>江上秋风动客情。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文本框 8197"/>
          <p:cNvSpPr/>
          <p:nvPr/>
        </p:nvSpPr>
        <p:spPr>
          <a:xfrm>
            <a:off x="755640" y="28544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2057400" y="6094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600200" y="14479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8" name="Picture 4" descr="生命1"/>
          <p:cNvPicPr/>
          <p:nvPr/>
        </p:nvPicPr>
        <p:blipFill>
          <a:blip r:embed="rId1"/>
          <a:stretch/>
        </p:blipFill>
        <p:spPr>
          <a:xfrm>
            <a:off x="0" y="0"/>
            <a:ext cx="9144000" cy="67834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450720" y="1447920"/>
            <a:ext cx="84423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江上秋风动客情。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468360" y="609480"/>
            <a:ext cx="86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萧萧梧叶送寒声，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11280" y="19890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萧萧：风声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2050920" y="292428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送寒声：送来阵阵寒意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457200" y="4800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动客情：使客人产生了思念家乡之情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395600" y="19954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梧叶：梧桐树的叶子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572"/>
                </a:solidFill>
                <a:latin typeface="Arial"/>
              </a:rPr>
              <a:t>诗中写了哪些景物？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cc"/>
                </a:solidFill>
                <a:latin typeface="Arial"/>
              </a:rPr>
              <a:t>梧叶     秋风     儿童     灯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cc"/>
                </a:solidFill>
                <a:latin typeface="Arial"/>
              </a:rPr>
              <a:t>促织     篱落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920" y="2057400"/>
            <a:ext cx="85406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无言独上西楼，月如钩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寂寞梧桐深院锁清秋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                                  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李煜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相见欢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04920" y="4114800"/>
            <a:ext cx="85406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一声桐叶一声秋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一点芭蕉一点愁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                      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徐再思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水仙子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夜雨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梧桐叶抒发了诗人什么感情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228600" y="2514600"/>
            <a:ext cx="85406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Arial"/>
              </a:rPr>
              <a:t>据传晋人张翰官居洛阳，见秋风起而思念故乡，于是辞官回乡，了却心愿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江上秋风动客情”抒发了</a:t>
            </a:r>
            <a:br>
              <a:rPr sz="4800"/>
            </a:br>
            <a:r>
              <a:rPr b="0" lang="zh-CN" sz="4800" spc="-1" strike="noStrike">
                <a:solidFill>
                  <a:srgbClr val="ff3300"/>
                </a:solidFill>
                <a:latin typeface="Arial"/>
              </a:rPr>
              <a:t>诗人什么感情？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8T02:32:5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0:04Z</dcterms:modified>
  <cp:revision>7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  <property fmtid="{D5CDD505-2E9C-101B-9397-08002B2CF9AE}" pid="3" name="Version">
    <vt:r8>1</vt:r8>
  </property>
</Properties>
</file>