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image12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6.jpeg" ContentType="image/jpeg"/>
  <Override PartName="/ppt/media/image32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applause.wav" ContentType="audio/x-wav"/>
  <Override PartName="/ppt/media/whoosh.wav" ContentType="audio/x-wav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wind.wav" ContentType="audio/x-wav"/>
  <Override PartName="/ppt/media/image16.jpeg" ContentType="image/jpeg"/>
  <Override PartName="/ppt/media/laser.wav" ContentType="audio/x-wav"/>
  <Override PartName="/ppt/media/image33.jpeg" ContentType="image/jpeg"/>
  <Override PartName="/ppt/media/drumroll.wav" ContentType="audio/x-wav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16B-FFBD-4889-8904-695DEB93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8FA-ED9D-4E52-9E4B-1480B87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2EBF9-92BA-4094-9468-5189560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99118-7A9C-4265-81F4-775DFE53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E2DB2-7138-4BA0-BE06-03F6C41E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BEF2F-D253-4864-90EF-046E7A9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78BC4-64C8-4A3A-990A-C290FF6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28FAD-968C-4B04-B9C4-B088A146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A7C14-EC80-4C77-8F5E-71E01552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78E56-3708-4342-9C9C-29402DAF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A59CF4-917C-44DA-B7B3-9A0FABAA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5704B-B0C3-4105-98EB-CBA05C3C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CB6-E8A8-4983-8F16-96044C1D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7757C-C166-444B-B185-7784F14B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D363A-50FC-48FB-B6C8-95F10BC0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1FD7A-A69A-4650-A097-46340522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8A097-0AC9-4983-AA7F-138297A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16D9B-7AEC-4D36-9B4A-DD40C943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80C04-D9B8-4628-AEF5-DF47787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36BB3-75F3-467E-8463-AA68B55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BFD39-55D2-4EDD-BA15-C3C126B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4E1ED-8B2E-446B-B690-2E61F7E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4CBC8-4904-4F68-8506-78CF654F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C14-3BDC-47C4-82BE-F78E13CD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7FE85-C665-40F4-8E8F-3E537024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839BB3-B8B4-4E37-A8C0-7471885F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4DD01D-72A1-43A2-976D-EE215AC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8F9927-7E03-4C57-B61E-79B509C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DF2657-DCEC-4315-A892-DFC6ABD2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02CA55-F684-419A-B4D3-BDD721D4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316A95-ACC3-4C60-B3FF-DBBC1E1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937B2C-A05C-4868-92B7-CB455D2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1FF033-82C6-4C36-B27D-A84DF4F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2DFF09-25F3-480F-BB71-8F71AA4C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1E52-EE08-4881-9428-888A60B27E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2DA40F-4749-4EF5-BBDE-9E2200E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0BDF0F-6294-4A89-AE86-86849378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699E6-388F-4AC8-9145-A6C6F475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75356-4FBF-4FCC-96EF-91E29684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65CABC-1F8C-45F3-8265-DB349A6A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8757A-570D-4A4C-A6C1-B13E36B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17EF6-6103-4446-9C73-7A285EB1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0D515-F7D3-41B8-AFA5-81A9B393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0D339-9059-4C87-A204-45ED212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82EE4-9A13-46AD-8594-3846A4C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642D8-4926-4E1E-962E-51A7A38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B3C47-46B0-4306-AB87-ED9821E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F8AC3-EA93-404C-812E-E9F9881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F4C65-73F7-4019-961F-8F32B38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40ED5-B4A4-4F63-AF96-B9449F63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51985-8F27-42E5-97B2-F9930573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E2C80B-4202-4FEA-94C7-221D9AC6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4EFAB2-71C6-4890-8FD6-8ECEE198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8EF001-5152-418D-9653-4BA3D77C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E00380-55E1-4E97-B288-AA3DC576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0171EC2-20FF-4AFA-A862-51D90DF7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4174-3634-4FEF-98E8-60A1032A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025463-ACC3-4763-9C5B-36B5F64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220005-6C44-4C72-8EBC-E824DE9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3DB993-2E82-4BD5-93C2-38D33D53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DE3AFC-EE5C-4825-A2E7-A029030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41767A-D3B0-416C-8C78-2F318C2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91B15A-5E9F-4893-B314-AAD02F89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9217A7-686A-48CE-BE93-CD8C7569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9CD126-696D-43DA-A0BC-B021169E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EBD1AE-0611-4068-9FF2-E44349B9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1259DE-FE00-4505-98ED-6646B575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7113-1684-4115-AB53-7EF00184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8D7DBE-6B19-4E27-884D-DE399CCB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B4E9A1-120A-4FAA-987E-096442C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9A32B2-29A9-4E3E-ABBA-E7C1F74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156D6D-DFE6-44EF-B206-10A5915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1E35D1-2AFA-43A6-879A-F6479F3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272938-1C67-41F8-8164-06ABB82A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271303-74B7-423F-899E-F6AF5D1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2C2BB0-8F0D-44DA-AE1E-6DE18165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A5C2D7-4606-4CD4-85D3-60593937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B9565A-C832-40B7-B5D1-7C006EB1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168DE-A7FB-43DC-B719-D7104E3A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AD3834-D41E-461E-92FE-FFC5035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5DB1AE-952B-42BD-A3BF-7A369639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B5E2E8-34AD-4481-9A4F-3C87E593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EFC7BE-C0E2-4B51-8736-51DD447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589A65-AE21-4ED5-A304-78E142F6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7035B8-0442-41E6-A1F0-A1E29DB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329CF7-2B29-42B4-A5BF-7638119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CDDB38-81B5-4E83-BB0B-CE42CA23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02F4A7-E879-4EE2-82C2-D28683B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89A724-775D-46C6-8026-AD3E9D9B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EA57-CEFC-4B33-AE56-186F9B56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6230C2-BD5D-4166-BC8C-A7D45BA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5FC8CE-E3E1-44AA-9DC3-7CDB41AC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40A52D-6843-40C4-AF00-5A86DD5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488ADB-77DC-4E3E-A215-4A6C80D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E41F1A-A567-4C83-B260-D71F2DD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4D7B10A-8B33-4E03-89C0-602AD5B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088B98-E2AC-47EC-9305-6A8165C4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872EB0-ACA7-465B-9E6A-111F251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3EB32B-A668-4C96-BD48-C8C29E7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3ABB1D-666E-4B69-829C-F50BC7C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A893-79E5-4419-BEE2-C57570F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83D5F1-2973-4F1D-83C4-1BF47A2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4161A3-221E-41AC-ADDA-DC27D356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96829A-1271-4511-B0AD-5F22F78D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9ED251-8AF9-416B-97B7-F60FF38A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C5D71F-70FD-4249-9EFA-ED04BCC9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9170D0-1915-4DED-BF04-A02F5CA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1A1079-F78A-436C-A445-842A398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D01800-0C6A-474A-9134-4B243E48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6DD235-B187-4937-8671-79E7C24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56C936-FD30-4227-A2B6-FD7AF50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9C3-7346-46AF-B7A2-781AB08A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EC805-15D7-407A-88C5-4B0F083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9C0F4AB-3490-45A6-87F3-57F48F1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6F81D6C-5C36-48BB-9E70-67FE5813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A1A9FA-7C7A-4133-95C1-1EA88829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4CD6B0-66A2-40A7-A352-5010EF54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AC9860-6D48-4C23-8C7B-997E7447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46702-34E0-469A-BE8D-7A262B8A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B35E2-9591-45DB-B163-6D26642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6232-DFAA-4627-9AC0-D4CEB11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9F34-01D2-45B9-B66E-4C19C9CBE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7A651-482B-4EAB-B4DA-0D41D837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02779-D04E-4720-A636-FBDAB0E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37FDF-C1E7-4C31-A2C5-21B38E87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46367-CEDA-45A0-AF64-E87859D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811B1-DC50-4F47-BBDD-D8608AE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713-8433-466D-BD4D-D359E3F3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075D7-5610-4A5A-9A33-16F0587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F77C2-464A-4B9A-9EF4-2B50B6E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36D8A-886D-40E5-8442-E696CC27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0BEA3-7656-4F87-90B8-3E9D92A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56326-16A8-4288-A692-DBCAEF7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3AC88-B4B9-416B-AD08-EE304990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6EAE0-229D-4018-9EDB-4C23C73E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B6B90-0B37-48E3-A1F3-5A386B2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87986-3445-46F0-B964-5B3D530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99884-0269-4268-ACA8-DA6A7A72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E25-4F58-421C-9492-ABB2043E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089C9-A714-4749-A524-C2E3F3F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EC977-CD95-44C8-BACE-8EE680A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6435C-A965-4BB6-A093-E9576B3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67F58-47DE-434D-9E4F-9927B6D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1D206-CEB3-49E5-9F5A-9C3FBD8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31E89-AB94-4437-A718-D3D6D8F2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C305D-783D-42C2-ABC4-6B49AA98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76E03-ACC3-49A9-97D5-E65DF576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C7FE8-D6C3-408B-B327-585E322A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F57BE-9D42-4CFD-9890-4DC5FDBF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390-01DA-41B3-A00D-D5AA1DE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C8603-A265-42C5-95A5-D4938F40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DA1B9-B781-4283-804A-AE77BF3A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53278-B5C2-483F-9E38-B16093D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7CEF3-68A7-4FD6-AC3F-94B1234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8D9FD-3037-4086-8D77-03253805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422F4-4318-42B4-9490-75F951D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23A48-0252-4006-A6C2-2411BA06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2F7A2-6189-490E-A74F-AD7B079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6D5E4-FBE7-4ACB-BCD3-7675122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5B17F-B74D-4D6A-AAD1-47BB8EC0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599-6B4C-4638-98A6-1B55B10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06B7A-ACC7-4A45-AE8B-A812B672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5E52BB-E2B3-4AD3-BD92-ACC22A0DF2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82B53-63DE-4E43-A270-206FD56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EEDE7D-C01C-43D4-9D58-E309DEE1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E66F0-97AF-487D-B3D2-C0E55002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A1849C-0A73-40D2-94EC-787DEA33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B6998-E151-41A7-BFBB-B44E94B2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4E625-A36C-4805-B770-E0182A5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B6D22-5A05-4EA0-A8A4-ABA7C2F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F0451-3253-4D05-BFCB-2A30B67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8E56-BE3A-4734-A72F-5438ABB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D03B0-2D45-4CDC-A4A7-307A7522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B3CA7-1267-4F5F-A55C-A31CADEA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3D60D-6264-449F-A79C-F07470A44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9A6F8D-711B-4DE7-B471-FB98864B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79B1F-BDD8-45DE-9B79-5246BA49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1291C2-8A7F-4C7C-B403-6386829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88BCDC-304C-49B6-A723-EE9B5860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BCEBF-5C9D-4032-A80F-F638550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49B26-928A-4D17-BF37-9E2992D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F489F-913E-44D3-BF2A-CF79B7D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18F-90F9-43C2-A09E-F2D6AF2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23E6A-A9BC-47AD-B31E-B794F5E9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B6844-0AAC-4632-820B-13ACEF0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F0B981-C0A2-40C4-B460-E264FFB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6EC986-03BD-47B0-9AA5-4C40B650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482AC-0825-47EB-BC87-23A706B4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D0017A-E4C4-475B-AFA1-96715333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16CD31-11DD-467F-B2E2-B593929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18708-9C2F-4E40-B3F6-E3EF795E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7B1CD4-7557-4934-81A4-5D29C94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CD04B2-A3E2-4388-A0D8-335FEB3E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FE6-42F3-4C8A-89FB-5D0300EC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5BBDF7-86CB-44B4-98F7-AF836461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E9384-C66A-4FFF-A320-32BC9F7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786732-B5C9-42A3-8F84-045C399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19CBA-A3D6-4B2C-83EA-8086580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F6C4E7-5148-4D99-9BDD-EE370128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0B94CF-582F-40F9-BDCF-2549623E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A475E3-E449-431E-9E16-BD27C616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EF1B2-9A5C-4A79-8DCC-39A9B55F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A18B2-F7F3-40E3-9C84-832C7C1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1CA5E-0B8F-4E3C-A0A4-7CF0386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8AE-7F54-405F-9FCF-E0B31309C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1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1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73B9-5860-4054-9C6A-518817D5E3AA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6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6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6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FC28-5FFA-464C-A4A2-406A8C521D41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0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1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E334-3AFC-44B9-BA00-C2BC88FE0237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5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5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6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0EBC-448E-498E-84DA-F2F74392E8ED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0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0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60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3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3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ABA-6F4A-41FF-AAB5-C4F157730A18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5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5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65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4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4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04F-C70F-423E-B62B-4B923DF48E3B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700" name="AutoShape 3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0" y="3060720"/>
              <a:ext cx="8305920" cy="360"/>
              <a:chOff x="0" y="3060720"/>
              <a:chExt cx="8305920" cy="360"/>
            </a:xfrm>
          </p:grpSpPr>
          <p:sp>
            <p:nvSpPr>
              <p:cNvPr id="704" name="Line 6"/>
              <p:cNvSpPr/>
              <p:nvPr/>
            </p:nvSpPr>
            <p:spPr>
              <a:xfrm>
                <a:off x="0" y="3060720"/>
                <a:ext cx="83059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0" y="3060720"/>
                <a:ext cx="830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2EA-BEC1-4019-85F4-45199181CCF4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749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4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6D35-1E3E-4A55-BE65-648860ED66E1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4E58-63BF-47F1-A0F2-497EC4044D59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89" name="AutoShape 3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499" y="0"/>
                  </a:lnTo>
                  <a:cubicBezTo>
                    <a:pt x="776" y="0"/>
                    <a:pt x="1000" y="223"/>
                    <a:pt x="1000" y="500"/>
                  </a:cubicBezTo>
                  <a:cubicBezTo>
                    <a:pt x="1000" y="776"/>
                    <a:pt x="776" y="999"/>
                    <a:pt x="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0" y="1218960"/>
              <a:ext cx="8077320" cy="360"/>
              <a:chOff x="0" y="1218960"/>
              <a:chExt cx="8077320" cy="360"/>
            </a:xfrm>
          </p:grpSpPr>
          <p:sp>
            <p:nvSpPr>
              <p:cNvPr id="92" name="Line 5"/>
              <p:cNvSpPr/>
              <p:nvPr/>
            </p:nvSpPr>
            <p:spPr>
              <a:xfrm>
                <a:off x="0" y="1218960"/>
                <a:ext cx="8077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0" y="1218960"/>
                <a:ext cx="807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3E8-862F-4E51-9988-3E0E085B85BF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614-1C5E-49B9-8037-451DA2A12775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142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07CA-FF4E-44C7-85DC-EDCECB66D7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016-934D-402E-9A76-04D42D0DE9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48EF-BC91-4EB7-B1F8-CB4235CD4B3D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6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6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27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66BA-4B09-4A48-8CF3-5D5FB6C45BF2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32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6A76-3999-4EA5-958B-61E991AC54B9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3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5E6D-4A9D-495E-B13C-D7B8B2E06A4D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drumroll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hyperlink" Target="http://www.eeppt.com/moban/" TargetMode="External"/><Relationship Id="rId1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3"/>
          <p:cNvSpPr/>
          <p:nvPr/>
        </p:nvSpPr>
        <p:spPr>
          <a:xfrm>
            <a:off x="1187280" y="1916280"/>
            <a:ext cx="678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学课件数一数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900000" y="476280"/>
            <a:ext cx="2786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单元   数一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3786120" y="4714920"/>
          <a:ext cx="5000760" cy="50004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755640" y="1125360"/>
            <a:ext cx="3137040" cy="1841400"/>
            <a:chOff x="755640" y="1125360"/>
            <a:chExt cx="3137040" cy="1841400"/>
          </a:xfrm>
        </p:grpSpPr>
        <p:pic>
          <p:nvPicPr>
            <p:cNvPr id="855" name="Picture 3" descr="书（5本）"/>
            <p:cNvPicPr/>
            <p:nvPr/>
          </p:nvPicPr>
          <p:blipFill>
            <a:blip r:embed="rId1"/>
            <a:stretch/>
          </p:blipFill>
          <p:spPr>
            <a:xfrm>
              <a:off x="755640" y="1476360"/>
              <a:ext cx="313200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AutoShape 4"/>
            <p:cNvSpPr/>
            <p:nvPr/>
          </p:nvSpPr>
          <p:spPr>
            <a:xfrm>
              <a:off x="847800" y="1125360"/>
              <a:ext cx="30448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5"/>
          <p:cNvGrpSpPr/>
          <p:nvPr/>
        </p:nvGrpSpPr>
        <p:grpSpPr>
          <a:xfrm>
            <a:off x="1619280" y="3286080"/>
            <a:ext cx="2016000" cy="647640"/>
            <a:chOff x="1619280" y="3286080"/>
            <a:chExt cx="2016000" cy="647640"/>
          </a:xfrm>
        </p:grpSpPr>
        <p:sp>
          <p:nvSpPr>
            <p:cNvPr id="858" name="WordArt 6"/>
            <p:cNvSpPr txBox="1"/>
            <p:nvPr/>
          </p:nvSpPr>
          <p:spPr>
            <a:xfrm>
              <a:off x="2700720" y="3471480"/>
              <a:ext cx="934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本 书 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59" name="WordArt 7"/>
            <p:cNvSpPr txBox="1"/>
            <p:nvPr/>
          </p:nvSpPr>
          <p:spPr>
            <a:xfrm>
              <a:off x="1619280" y="3286080"/>
              <a:ext cx="7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60" name="Group 8"/>
          <p:cNvGrpSpPr/>
          <p:nvPr/>
        </p:nvGrpSpPr>
        <p:grpSpPr>
          <a:xfrm>
            <a:off x="4861080" y="1197000"/>
            <a:ext cx="3043080" cy="1728720"/>
            <a:chOff x="4861080" y="1197000"/>
            <a:chExt cx="3043080" cy="1728720"/>
          </a:xfrm>
        </p:grpSpPr>
        <p:pic>
          <p:nvPicPr>
            <p:cNvPr id="861" name="Picture 9" descr="4"/>
            <p:cNvPicPr/>
            <p:nvPr/>
          </p:nvPicPr>
          <p:blipFill>
            <a:blip r:embed="rId2"/>
            <a:stretch/>
          </p:blipFill>
          <p:spPr>
            <a:xfrm>
              <a:off x="5312880" y="1228680"/>
              <a:ext cx="2086560" cy="15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AutoShape 10"/>
            <p:cNvSpPr/>
            <p:nvPr/>
          </p:nvSpPr>
          <p:spPr>
            <a:xfrm>
              <a:off x="4861080" y="1197000"/>
              <a:ext cx="30430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11"/>
          <p:cNvGrpSpPr/>
          <p:nvPr/>
        </p:nvGrpSpPr>
        <p:grpSpPr>
          <a:xfrm>
            <a:off x="5796000" y="3213000"/>
            <a:ext cx="1944720" cy="647640"/>
            <a:chOff x="5796000" y="3213000"/>
            <a:chExt cx="1944720" cy="647640"/>
          </a:xfrm>
        </p:grpSpPr>
        <p:sp>
          <p:nvSpPr>
            <p:cNvPr id="864" name="WordArt 12"/>
            <p:cNvSpPr txBox="1"/>
            <p:nvPr/>
          </p:nvSpPr>
          <p:spPr>
            <a:xfrm>
              <a:off x="6805440" y="3357000"/>
              <a:ext cx="935280" cy="36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块面包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65" name="WordArt 13"/>
            <p:cNvSpPr txBox="1"/>
            <p:nvPr/>
          </p:nvSpPr>
          <p:spPr>
            <a:xfrm>
              <a:off x="5796000" y="3213000"/>
              <a:ext cx="7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66" name="Group 14"/>
          <p:cNvGrpSpPr/>
          <p:nvPr/>
        </p:nvGrpSpPr>
        <p:grpSpPr>
          <a:xfrm>
            <a:off x="971640" y="4365720"/>
            <a:ext cx="3044880" cy="1753560"/>
            <a:chOff x="971640" y="4365720"/>
            <a:chExt cx="3044880" cy="1753560"/>
          </a:xfrm>
        </p:grpSpPr>
        <p:pic>
          <p:nvPicPr>
            <p:cNvPr id="867" name="Picture 15" descr="2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1403280" y="4438440"/>
              <a:ext cx="2376000" cy="16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AutoShape 16"/>
            <p:cNvSpPr/>
            <p:nvPr/>
          </p:nvSpPr>
          <p:spPr>
            <a:xfrm>
              <a:off x="971640" y="4365720"/>
              <a:ext cx="3044880" cy="1728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7"/>
          <p:cNvGrpSpPr/>
          <p:nvPr/>
        </p:nvGrpSpPr>
        <p:grpSpPr>
          <a:xfrm>
            <a:off x="4211640" y="5013360"/>
            <a:ext cx="1944720" cy="647640"/>
            <a:chOff x="4211640" y="5013360"/>
            <a:chExt cx="1944720" cy="647640"/>
          </a:xfrm>
        </p:grpSpPr>
        <p:sp>
          <p:nvSpPr>
            <p:cNvPr id="870" name="WordArt 18"/>
            <p:cNvSpPr txBox="1"/>
            <p:nvPr/>
          </p:nvSpPr>
          <p:spPr>
            <a:xfrm>
              <a:off x="5221080" y="5158080"/>
              <a:ext cx="93528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把椅子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71" name="WordArt 19"/>
            <p:cNvSpPr txBox="1"/>
            <p:nvPr/>
          </p:nvSpPr>
          <p:spPr>
            <a:xfrm>
              <a:off x="4211640" y="5013360"/>
              <a:ext cx="791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872" name="WordArt 20"/>
          <p:cNvSpPr txBox="1"/>
          <p:nvPr/>
        </p:nvSpPr>
        <p:spPr>
          <a:xfrm>
            <a:off x="3635280" y="270000"/>
            <a:ext cx="169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3b812f"/>
                </a:solidFill>
                <a:round/>
              </a:ln>
              <a:solidFill>
                <a:srgbClr val="3b812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3" name="文本框 8196"/>
          <p:cNvSpPr/>
          <p:nvPr/>
        </p:nvSpPr>
        <p:spPr>
          <a:xfrm>
            <a:off x="1116000" y="3932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879480" y="1022400"/>
            <a:ext cx="3044880" cy="1728720"/>
            <a:chOff x="879480" y="1022400"/>
            <a:chExt cx="3044880" cy="1728720"/>
          </a:xfrm>
        </p:grpSpPr>
        <p:pic>
          <p:nvPicPr>
            <p:cNvPr id="875" name="Picture 3" descr="1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618920" y="1270080"/>
              <a:ext cx="1584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AutoShape 4"/>
            <p:cNvSpPr/>
            <p:nvPr/>
          </p:nvSpPr>
          <p:spPr>
            <a:xfrm>
              <a:off x="879480" y="1022400"/>
              <a:ext cx="30448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5"/>
          <p:cNvGrpSpPr/>
          <p:nvPr/>
        </p:nvGrpSpPr>
        <p:grpSpPr>
          <a:xfrm>
            <a:off x="1403280" y="2997360"/>
            <a:ext cx="2016000" cy="647640"/>
            <a:chOff x="1403280" y="2997360"/>
            <a:chExt cx="2016000" cy="647640"/>
          </a:xfrm>
        </p:grpSpPr>
        <p:sp>
          <p:nvSpPr>
            <p:cNvPr id="878" name="WordArt 6"/>
            <p:cNvSpPr txBox="1"/>
            <p:nvPr/>
          </p:nvSpPr>
          <p:spPr>
            <a:xfrm>
              <a:off x="2484000" y="3182760"/>
              <a:ext cx="935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支铅笔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79" name="WordArt 7"/>
            <p:cNvSpPr txBox="1"/>
            <p:nvPr/>
          </p:nvSpPr>
          <p:spPr>
            <a:xfrm>
              <a:off x="1403280" y="2997360"/>
              <a:ext cx="79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80" name="Group 8"/>
          <p:cNvGrpSpPr/>
          <p:nvPr/>
        </p:nvGrpSpPr>
        <p:grpSpPr>
          <a:xfrm>
            <a:off x="4768920" y="1001880"/>
            <a:ext cx="3043080" cy="1728720"/>
            <a:chOff x="4768920" y="1001880"/>
            <a:chExt cx="3043080" cy="1728720"/>
          </a:xfrm>
        </p:grpSpPr>
        <p:sp>
          <p:nvSpPr>
            <p:cNvPr id="881" name="AutoShape 9"/>
            <p:cNvSpPr/>
            <p:nvPr/>
          </p:nvSpPr>
          <p:spPr>
            <a:xfrm>
              <a:off x="4768920" y="1001880"/>
              <a:ext cx="3043080" cy="1728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10"/>
            <p:cNvSpPr/>
            <p:nvPr/>
          </p:nvSpPr>
          <p:spPr>
            <a:xfrm>
              <a:off x="5220720" y="1239840"/>
              <a:ext cx="576000" cy="574560"/>
            </a:xfrm>
            <a:custGeom>
              <a:avLst/>
              <a:gdLst>
                <a:gd name="textAreaLeft" fmla="*/ 237240 w 576000"/>
                <a:gd name="textAreaRight" fmla="*/ 338760 w 57600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>
              <a:off x="6085800" y="1238040"/>
              <a:ext cx="575640" cy="574560"/>
            </a:xfrm>
            <a:custGeom>
              <a:avLst/>
              <a:gdLst>
                <a:gd name="textAreaLeft" fmla="*/ 237240 w 575640"/>
                <a:gd name="textAreaRight" fmla="*/ 338400 w 57564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>
              <a:off x="6948720" y="1238040"/>
              <a:ext cx="575640" cy="574560"/>
            </a:xfrm>
            <a:custGeom>
              <a:avLst/>
              <a:gdLst>
                <a:gd name="textAreaLeft" fmla="*/ 237240 w 575640"/>
                <a:gd name="textAreaRight" fmla="*/ 338400 w 57564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>
              <a:off x="5652000" y="1887840"/>
              <a:ext cx="576000" cy="574560"/>
            </a:xfrm>
            <a:custGeom>
              <a:avLst/>
              <a:gdLst>
                <a:gd name="textAreaLeft" fmla="*/ 237240 w 576000"/>
                <a:gd name="textAreaRight" fmla="*/ 338760 w 57600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4"/>
            <p:cNvSpPr/>
            <p:nvPr/>
          </p:nvSpPr>
          <p:spPr>
            <a:xfrm>
              <a:off x="6517440" y="1885680"/>
              <a:ext cx="575280" cy="574560"/>
            </a:xfrm>
            <a:custGeom>
              <a:avLst/>
              <a:gdLst>
                <a:gd name="textAreaLeft" fmla="*/ 236880 w 575280"/>
                <a:gd name="textAreaRight" fmla="*/ 338400 w 575280"/>
                <a:gd name="textAreaTop" fmla="*/ 236880 h 574560"/>
                <a:gd name="textAreaBottom" fmla="*/ 3376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15"/>
          <p:cNvGrpSpPr/>
          <p:nvPr/>
        </p:nvGrpSpPr>
        <p:grpSpPr>
          <a:xfrm>
            <a:off x="5365800" y="2967120"/>
            <a:ext cx="2014200" cy="647640"/>
            <a:chOff x="5365800" y="2967120"/>
            <a:chExt cx="2014200" cy="647640"/>
          </a:xfrm>
        </p:grpSpPr>
        <p:sp>
          <p:nvSpPr>
            <p:cNvPr id="888" name="WordArt 16"/>
            <p:cNvSpPr txBox="1"/>
            <p:nvPr/>
          </p:nvSpPr>
          <p:spPr>
            <a:xfrm>
              <a:off x="6445440" y="3152520"/>
              <a:ext cx="9345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颗星星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89" name="WordArt 17"/>
            <p:cNvSpPr txBox="1"/>
            <p:nvPr/>
          </p:nvSpPr>
          <p:spPr>
            <a:xfrm>
              <a:off x="5365800" y="2967120"/>
              <a:ext cx="791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890" name="Group 18"/>
          <p:cNvGrpSpPr/>
          <p:nvPr/>
        </p:nvGrpSpPr>
        <p:grpSpPr>
          <a:xfrm>
            <a:off x="879480" y="4406760"/>
            <a:ext cx="3044880" cy="1729080"/>
            <a:chOff x="879480" y="4406760"/>
            <a:chExt cx="3044880" cy="1729080"/>
          </a:xfrm>
        </p:grpSpPr>
        <p:pic>
          <p:nvPicPr>
            <p:cNvPr id="891" name="Picture 19" descr="3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1403280" y="4548960"/>
              <a:ext cx="2232000" cy="14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AutoShape 20"/>
            <p:cNvSpPr/>
            <p:nvPr/>
          </p:nvSpPr>
          <p:spPr>
            <a:xfrm>
              <a:off x="879480" y="4406760"/>
              <a:ext cx="3044880" cy="172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69d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1"/>
          <p:cNvGrpSpPr/>
          <p:nvPr/>
        </p:nvGrpSpPr>
        <p:grpSpPr>
          <a:xfrm>
            <a:off x="4211640" y="5013360"/>
            <a:ext cx="2016000" cy="647640"/>
            <a:chOff x="4211640" y="5013360"/>
            <a:chExt cx="2016000" cy="647640"/>
          </a:xfrm>
        </p:grpSpPr>
        <p:sp>
          <p:nvSpPr>
            <p:cNvPr id="894" name="WordArt 22"/>
            <p:cNvSpPr txBox="1"/>
            <p:nvPr/>
          </p:nvSpPr>
          <p:spPr>
            <a:xfrm>
              <a:off x="5292720" y="5199120"/>
              <a:ext cx="93492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幼圆"/>
                </a:rPr>
                <a:t>只小鸟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幼圆"/>
                <a:ea typeface="幼圆"/>
              </a:endParaRPr>
            </a:p>
          </p:txBody>
        </p:sp>
        <p:sp>
          <p:nvSpPr>
            <p:cNvPr id="895" name="WordArt 23"/>
            <p:cNvSpPr txBox="1"/>
            <p:nvPr/>
          </p:nvSpPr>
          <p:spPr>
            <a:xfrm>
              <a:off x="4211640" y="5013360"/>
              <a:ext cx="79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896" name="WordArt 24"/>
          <p:cNvSpPr txBox="1"/>
          <p:nvPr/>
        </p:nvSpPr>
        <p:spPr>
          <a:xfrm>
            <a:off x="3635280" y="237960"/>
            <a:ext cx="1693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3b812f"/>
                </a:solidFill>
                <a:round/>
              </a:ln>
              <a:solidFill>
                <a:srgbClr val="3b812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1260360" y="1454040"/>
            <a:ext cx="2735280" cy="1933560"/>
            <a:chOff x="1260360" y="1454040"/>
            <a:chExt cx="2735280" cy="1933560"/>
          </a:xfrm>
        </p:grpSpPr>
        <p:sp>
          <p:nvSpPr>
            <p:cNvPr id="898" name="AutoShape 3"/>
            <p:cNvSpPr/>
            <p:nvPr/>
          </p:nvSpPr>
          <p:spPr>
            <a:xfrm>
              <a:off x="1260360" y="145404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WordArt 4"/>
            <p:cNvSpPr txBox="1"/>
            <p:nvPr/>
          </p:nvSpPr>
          <p:spPr>
            <a:xfrm>
              <a:off x="2535120" y="3001680"/>
              <a:ext cx="64944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头牛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pic>
          <p:nvPicPr>
            <p:cNvPr id="900" name="Picture 5" descr="8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93800" y="1596960"/>
              <a:ext cx="1654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WordArt 6"/>
            <p:cNvSpPr txBox="1"/>
            <p:nvPr/>
          </p:nvSpPr>
          <p:spPr>
            <a:xfrm>
              <a:off x="1958760" y="283824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1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902" name="Group 7"/>
          <p:cNvGrpSpPr/>
          <p:nvPr/>
        </p:nvGrpSpPr>
        <p:grpSpPr>
          <a:xfrm>
            <a:off x="5148360" y="1413000"/>
            <a:ext cx="2735280" cy="1933560"/>
            <a:chOff x="5148360" y="1413000"/>
            <a:chExt cx="2735280" cy="1933560"/>
          </a:xfrm>
        </p:grpSpPr>
        <p:sp>
          <p:nvSpPr>
            <p:cNvPr id="903" name="AutoShape 8"/>
            <p:cNvSpPr/>
            <p:nvPr/>
          </p:nvSpPr>
          <p:spPr>
            <a:xfrm>
              <a:off x="5148360" y="14130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Picture 9" descr="7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5559480" y="1525680"/>
              <a:ext cx="18734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WordArt 10"/>
            <p:cNvSpPr txBox="1"/>
            <p:nvPr/>
          </p:nvSpPr>
          <p:spPr>
            <a:xfrm>
              <a:off x="6596280" y="2940120"/>
              <a:ext cx="64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匹马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06" name="WordArt 11"/>
            <p:cNvSpPr txBox="1"/>
            <p:nvPr/>
          </p:nvSpPr>
          <p:spPr>
            <a:xfrm>
              <a:off x="5970600" y="277668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2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07" name="WordArt 12"/>
          <p:cNvSpPr txBox="1"/>
          <p:nvPr/>
        </p:nvSpPr>
        <p:spPr>
          <a:xfrm>
            <a:off x="3132000" y="620640"/>
            <a:ext cx="251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b812f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学习儿歌</a:t>
            </a:r>
            <a:endParaRPr b="1" lang="en-US" sz="1800" spc="1" strike="noStrike">
              <a:ln w="9360">
                <a:solidFill>
                  <a:srgbClr val="3b812f"/>
                </a:solidFill>
                <a:round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908" name="Group 13"/>
          <p:cNvGrpSpPr/>
          <p:nvPr/>
        </p:nvGrpSpPr>
        <p:grpSpPr>
          <a:xfrm>
            <a:off x="1260360" y="3871800"/>
            <a:ext cx="2735280" cy="1933560"/>
            <a:chOff x="1260360" y="3871800"/>
            <a:chExt cx="2735280" cy="1933560"/>
          </a:xfrm>
        </p:grpSpPr>
        <p:pic>
          <p:nvPicPr>
            <p:cNvPr id="909" name="Picture 14" descr="鱼1"/>
            <p:cNvPicPr/>
            <p:nvPr/>
          </p:nvPicPr>
          <p:blipFill>
            <a:blip r:embed="rId5"/>
            <a:stretch/>
          </p:blipFill>
          <p:spPr>
            <a:xfrm>
              <a:off x="1474560" y="4232160"/>
              <a:ext cx="24498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WordArt 15"/>
            <p:cNvSpPr txBox="1"/>
            <p:nvPr/>
          </p:nvSpPr>
          <p:spPr>
            <a:xfrm>
              <a:off x="2535120" y="5300640"/>
              <a:ext cx="936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条金鱼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11" name="WordArt 16"/>
            <p:cNvSpPr txBox="1"/>
            <p:nvPr/>
          </p:nvSpPr>
          <p:spPr>
            <a:xfrm>
              <a:off x="1979640" y="5132160"/>
              <a:ext cx="339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3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912" name="AutoShape 17"/>
            <p:cNvSpPr/>
            <p:nvPr/>
          </p:nvSpPr>
          <p:spPr>
            <a:xfrm>
              <a:off x="1260360" y="3871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8"/>
          <p:cNvGrpSpPr/>
          <p:nvPr/>
        </p:nvGrpSpPr>
        <p:grpSpPr>
          <a:xfrm>
            <a:off x="5076720" y="3871800"/>
            <a:ext cx="2735280" cy="1933560"/>
            <a:chOff x="5076720" y="3871800"/>
            <a:chExt cx="2735280" cy="1933560"/>
          </a:xfrm>
        </p:grpSpPr>
        <p:pic>
          <p:nvPicPr>
            <p:cNvPr id="914" name="Picture 19" descr="002"/>
            <p:cNvPicPr/>
            <p:nvPr/>
          </p:nvPicPr>
          <p:blipFill>
            <a:blip r:embed="rId6"/>
            <a:stretch/>
          </p:blipFill>
          <p:spPr>
            <a:xfrm>
              <a:off x="5148000" y="4076640"/>
              <a:ext cx="25909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WordArt 20"/>
            <p:cNvSpPr txBox="1"/>
            <p:nvPr/>
          </p:nvSpPr>
          <p:spPr>
            <a:xfrm>
              <a:off x="6443640" y="530064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只鸭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16" name="WordArt 21"/>
            <p:cNvSpPr txBox="1"/>
            <p:nvPr/>
          </p:nvSpPr>
          <p:spPr>
            <a:xfrm>
              <a:off x="5889600" y="5157720"/>
              <a:ext cx="339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4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917" name="AutoShape 22"/>
            <p:cNvSpPr/>
            <p:nvPr/>
          </p:nvSpPr>
          <p:spPr>
            <a:xfrm>
              <a:off x="5076720" y="3871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WordArt 2"/>
          <p:cNvSpPr txBox="1"/>
          <p:nvPr/>
        </p:nvSpPr>
        <p:spPr>
          <a:xfrm>
            <a:off x="2411280" y="515880"/>
            <a:ext cx="3456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我们一起击鼓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919" name="Picture 3" descr="击鼓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16000" y="1413000"/>
            <a:ext cx="3967200" cy="4248000"/>
          </a:xfrm>
          <a:prstGeom prst="rect">
            <a:avLst/>
          </a:prstGeom>
          <a:ln w="0">
            <a:noFill/>
          </a:ln>
        </p:spPr>
      </p:pic>
      <p:sp>
        <p:nvSpPr>
          <p:cNvPr id="920" name="WordArt 4"/>
          <p:cNvSpPr txBox="1"/>
          <p:nvPr/>
        </p:nvSpPr>
        <p:spPr>
          <a:xfrm>
            <a:off x="5867280" y="2852640"/>
            <a:ext cx="130824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6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med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Group 2"/>
          <p:cNvGrpSpPr/>
          <p:nvPr/>
        </p:nvGrpSpPr>
        <p:grpSpPr>
          <a:xfrm>
            <a:off x="5076720" y="1566720"/>
            <a:ext cx="2735280" cy="1933560"/>
            <a:chOff x="5076720" y="1566720"/>
            <a:chExt cx="2735280" cy="1933560"/>
          </a:xfrm>
        </p:grpSpPr>
        <p:pic>
          <p:nvPicPr>
            <p:cNvPr id="922" name="Picture 3" descr="006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5580000" y="1782720"/>
              <a:ext cx="18730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AutoShape 4"/>
            <p:cNvSpPr/>
            <p:nvPr/>
          </p:nvSpPr>
          <p:spPr>
            <a:xfrm>
              <a:off x="5076720" y="156672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WordArt 5"/>
            <p:cNvSpPr txBox="1"/>
            <p:nvPr/>
          </p:nvSpPr>
          <p:spPr>
            <a:xfrm>
              <a:off x="6597720" y="310356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把叉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25" name="WordArt 6"/>
            <p:cNvSpPr txBox="1"/>
            <p:nvPr/>
          </p:nvSpPr>
          <p:spPr>
            <a:xfrm>
              <a:off x="5867280" y="2935080"/>
              <a:ext cx="44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10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926" name="Group 7"/>
          <p:cNvGrpSpPr/>
          <p:nvPr/>
        </p:nvGrpSpPr>
        <p:grpSpPr>
          <a:xfrm>
            <a:off x="1187280" y="1566720"/>
            <a:ext cx="2735280" cy="1933560"/>
            <a:chOff x="1187280" y="1566720"/>
            <a:chExt cx="2735280" cy="1933560"/>
          </a:xfrm>
        </p:grpSpPr>
        <p:pic>
          <p:nvPicPr>
            <p:cNvPr id="927" name="Picture 8" descr="11"/>
            <p:cNvPicPr/>
            <p:nvPr/>
          </p:nvPicPr>
          <p:blipFill>
            <a:blip r:embed="rId2">
              <a:lum contrast="18000"/>
            </a:blip>
            <a:stretch/>
          </p:blipFill>
          <p:spPr>
            <a:xfrm>
              <a:off x="1547640" y="1711080"/>
              <a:ext cx="208764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9"/>
            <p:cNvSpPr/>
            <p:nvPr/>
          </p:nvSpPr>
          <p:spPr>
            <a:xfrm>
              <a:off x="1187280" y="156672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WordArt 10"/>
            <p:cNvSpPr txBox="1"/>
            <p:nvPr/>
          </p:nvSpPr>
          <p:spPr>
            <a:xfrm>
              <a:off x="2728800" y="3079440"/>
              <a:ext cx="76356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双筷子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30" name="WordArt 11"/>
            <p:cNvSpPr txBox="1"/>
            <p:nvPr/>
          </p:nvSpPr>
          <p:spPr>
            <a:xfrm>
              <a:off x="2103120" y="293508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9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p:transition spd="med">
    <p:checker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5076720" y="836640"/>
            <a:ext cx="2735280" cy="1933560"/>
            <a:chOff x="5076720" y="836640"/>
            <a:chExt cx="2735280" cy="1933560"/>
          </a:xfrm>
        </p:grpSpPr>
        <p:pic>
          <p:nvPicPr>
            <p:cNvPr id="932" name="Picture 3" descr="004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375160" y="969840"/>
              <a:ext cx="2151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AutoShape 4"/>
            <p:cNvSpPr/>
            <p:nvPr/>
          </p:nvSpPr>
          <p:spPr>
            <a:xfrm>
              <a:off x="5076720" y="83664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WordArt 5"/>
            <p:cNvSpPr txBox="1"/>
            <p:nvPr/>
          </p:nvSpPr>
          <p:spPr>
            <a:xfrm>
              <a:off x="6597720" y="237348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朵花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35" name="WordArt 6"/>
            <p:cNvSpPr txBox="1"/>
            <p:nvPr/>
          </p:nvSpPr>
          <p:spPr>
            <a:xfrm>
              <a:off x="5972040" y="220500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6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936" name="Group 7"/>
          <p:cNvGrpSpPr/>
          <p:nvPr/>
        </p:nvGrpSpPr>
        <p:grpSpPr>
          <a:xfrm>
            <a:off x="5076720" y="3645000"/>
            <a:ext cx="2735280" cy="1933560"/>
            <a:chOff x="5076720" y="3645000"/>
            <a:chExt cx="2735280" cy="1933560"/>
          </a:xfrm>
        </p:grpSpPr>
        <p:sp>
          <p:nvSpPr>
            <p:cNvPr id="937" name="AutoShape 8"/>
            <p:cNvSpPr/>
            <p:nvPr/>
          </p:nvSpPr>
          <p:spPr>
            <a:xfrm>
              <a:off x="5076720" y="36450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Picture 9" descr="AM021_T[1]"/>
            <p:cNvPicPr/>
            <p:nvPr/>
          </p:nvPicPr>
          <p:blipFill>
            <a:blip r:embed="rId2"/>
            <a:stretch/>
          </p:blipFill>
          <p:spPr>
            <a:xfrm>
              <a:off x="5221080" y="392436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10" descr="AM023_T[1]"/>
            <p:cNvPicPr/>
            <p:nvPr/>
          </p:nvPicPr>
          <p:blipFill>
            <a:blip r:embed="rId3"/>
            <a:stretch/>
          </p:blipFill>
          <p:spPr>
            <a:xfrm>
              <a:off x="5817960" y="3924360"/>
              <a:ext cx="5749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11" descr="AM041_T[1]"/>
            <p:cNvPicPr/>
            <p:nvPr/>
          </p:nvPicPr>
          <p:blipFill>
            <a:blip r:embed="rId4"/>
            <a:stretch/>
          </p:blipFill>
          <p:spPr>
            <a:xfrm>
              <a:off x="6518160" y="3924360"/>
              <a:ext cx="57960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12" descr="AM046_T[1]"/>
            <p:cNvPicPr/>
            <p:nvPr/>
          </p:nvPicPr>
          <p:blipFill>
            <a:blip r:embed="rId5"/>
            <a:stretch/>
          </p:blipFill>
          <p:spPr>
            <a:xfrm>
              <a:off x="7129440" y="393408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3" descr="AM036_T[1]"/>
            <p:cNvPicPr/>
            <p:nvPr/>
          </p:nvPicPr>
          <p:blipFill>
            <a:blip r:embed="rId6"/>
            <a:stretch/>
          </p:blipFill>
          <p:spPr>
            <a:xfrm>
              <a:off x="5221080" y="437508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Picture 14" descr="AM035_T[1]"/>
            <p:cNvPicPr/>
            <p:nvPr/>
          </p:nvPicPr>
          <p:blipFill>
            <a:blip r:embed="rId7"/>
            <a:stretch/>
          </p:blipFill>
          <p:spPr>
            <a:xfrm>
              <a:off x="5816520" y="4375080"/>
              <a:ext cx="5763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15" descr="AM027_T[1]"/>
            <p:cNvPicPr/>
            <p:nvPr/>
          </p:nvPicPr>
          <p:blipFill>
            <a:blip r:embed="rId8"/>
            <a:stretch/>
          </p:blipFill>
          <p:spPr>
            <a:xfrm>
              <a:off x="6511680" y="438480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Picture 16" descr="AM063_T[1]"/>
            <p:cNvPicPr/>
            <p:nvPr/>
          </p:nvPicPr>
          <p:blipFill>
            <a:blip r:embed="rId9"/>
            <a:stretch/>
          </p:blipFill>
          <p:spPr>
            <a:xfrm>
              <a:off x="7127640" y="4388040"/>
              <a:ext cx="5763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WordArt 17"/>
            <p:cNvSpPr txBox="1"/>
            <p:nvPr/>
          </p:nvSpPr>
          <p:spPr>
            <a:xfrm>
              <a:off x="6597720" y="518184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幅画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47" name="WordArt 18"/>
            <p:cNvSpPr txBox="1"/>
            <p:nvPr/>
          </p:nvSpPr>
          <p:spPr>
            <a:xfrm>
              <a:off x="5972040" y="501336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8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948" name="Group 19"/>
          <p:cNvGrpSpPr/>
          <p:nvPr/>
        </p:nvGrpSpPr>
        <p:grpSpPr>
          <a:xfrm>
            <a:off x="1189080" y="3656160"/>
            <a:ext cx="2735280" cy="1933560"/>
            <a:chOff x="1189080" y="3656160"/>
            <a:chExt cx="2735280" cy="1933560"/>
          </a:xfrm>
        </p:grpSpPr>
        <p:pic>
          <p:nvPicPr>
            <p:cNvPr id="949" name="Picture 20" descr="03"/>
            <p:cNvPicPr/>
            <p:nvPr/>
          </p:nvPicPr>
          <p:blipFill>
            <a:blip r:embed="rId10"/>
            <a:stretch/>
          </p:blipFill>
          <p:spPr>
            <a:xfrm>
              <a:off x="1455840" y="3851280"/>
              <a:ext cx="2303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AutoShape 21"/>
            <p:cNvSpPr/>
            <p:nvPr/>
          </p:nvSpPr>
          <p:spPr>
            <a:xfrm>
              <a:off x="1189080" y="365616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WordArt 22"/>
            <p:cNvSpPr txBox="1"/>
            <p:nvPr/>
          </p:nvSpPr>
          <p:spPr>
            <a:xfrm>
              <a:off x="2698920" y="5158080"/>
              <a:ext cx="7938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支彩笔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52" name="WordArt 23"/>
            <p:cNvSpPr txBox="1"/>
            <p:nvPr/>
          </p:nvSpPr>
          <p:spPr>
            <a:xfrm>
              <a:off x="2073240" y="501336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7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953" name="Group 24"/>
          <p:cNvGrpSpPr/>
          <p:nvPr/>
        </p:nvGrpSpPr>
        <p:grpSpPr>
          <a:xfrm>
            <a:off x="1189080" y="847800"/>
            <a:ext cx="2735280" cy="1933560"/>
            <a:chOff x="1189080" y="847800"/>
            <a:chExt cx="2735280" cy="1933560"/>
          </a:xfrm>
        </p:grpSpPr>
        <p:pic>
          <p:nvPicPr>
            <p:cNvPr id="954" name="Picture 25" descr="003"/>
            <p:cNvPicPr/>
            <p:nvPr/>
          </p:nvPicPr>
          <p:blipFill>
            <a:blip r:embed="rId11"/>
            <a:stretch/>
          </p:blipFill>
          <p:spPr>
            <a:xfrm>
              <a:off x="1332000" y="1114560"/>
              <a:ext cx="24480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AutoShape 26"/>
            <p:cNvSpPr/>
            <p:nvPr/>
          </p:nvSpPr>
          <p:spPr>
            <a:xfrm>
              <a:off x="1189080" y="847800"/>
              <a:ext cx="2735280" cy="1933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b81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WordArt 27"/>
            <p:cNvSpPr txBox="1"/>
            <p:nvPr/>
          </p:nvSpPr>
          <p:spPr>
            <a:xfrm>
              <a:off x="2698920" y="2373480"/>
              <a:ext cx="64908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3b812f"/>
                    </a:solidFill>
                    <a:round/>
                  </a:ln>
                  <a:solidFill>
                    <a:srgbClr val="3b812f"/>
                  </a:solidFill>
                  <a:latin typeface="幼圆"/>
                </a:rPr>
                <a:t>棵树</a:t>
              </a:r>
              <a:endParaRPr b="1" lang="en-US" sz="1800" spc="1" strike="noStrike">
                <a:ln w="9360">
                  <a:solidFill>
                    <a:srgbClr val="3b812f"/>
                  </a:solidFill>
                  <a:round/>
                </a:ln>
                <a:solidFill>
                  <a:srgbClr val="3b812f"/>
                </a:solidFill>
                <a:latin typeface="幼圆"/>
                <a:ea typeface="幼圆"/>
              </a:endParaRPr>
            </a:p>
          </p:txBody>
        </p:sp>
        <p:sp>
          <p:nvSpPr>
            <p:cNvPr id="957" name="WordArt 28"/>
            <p:cNvSpPr txBox="1"/>
            <p:nvPr/>
          </p:nvSpPr>
          <p:spPr>
            <a:xfrm>
              <a:off x="2073240" y="2205000"/>
              <a:ext cx="3398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5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958" name="文本框 8196"/>
          <p:cNvSpPr/>
          <p:nvPr/>
        </p:nvSpPr>
        <p:spPr>
          <a:xfrm>
            <a:off x="1476360" y="3141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2585880" y="2324160"/>
            <a:ext cx="421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1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头年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2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匹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3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条金鱼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只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棵树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朵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只彩笔， 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幅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双筷子，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</a:rPr>
              <a:t>把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WordArt 3"/>
          <p:cNvSpPr txBox="1"/>
          <p:nvPr/>
        </p:nvSpPr>
        <p:spPr>
          <a:xfrm>
            <a:off x="3019320" y="1562040"/>
            <a:ext cx="2517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儿歌</a:t>
            </a:r>
            <a:endParaRPr b="1" lang="en-US" sz="1800" spc="1" strike="noStrike">
              <a:ln w="9360">
                <a:solidFill>
                  <a:srgbClr val="333399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486D-0D4C-4E45-90AE-61AD3527BF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WordArt 2"/>
          <p:cNvSpPr txBox="1"/>
          <p:nvPr/>
        </p:nvSpPr>
        <p:spPr>
          <a:xfrm>
            <a:off x="2771640" y="1976400"/>
            <a:ext cx="3384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彩云"/>
              </a:rPr>
              <a:t>小朋友们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彩云"/>
              <a:ea typeface="华文彩云"/>
            </a:endParaRPr>
          </a:p>
        </p:txBody>
      </p:sp>
      <p:grpSp>
        <p:nvGrpSpPr>
          <p:cNvPr id="966" name="Group 3"/>
          <p:cNvGrpSpPr/>
          <p:nvPr/>
        </p:nvGrpSpPr>
        <p:grpSpPr>
          <a:xfrm>
            <a:off x="3245400" y="3832920"/>
            <a:ext cx="2896560" cy="1126800"/>
            <a:chOff x="3245400" y="3832920"/>
            <a:chExt cx="2896560" cy="1126800"/>
          </a:xfrm>
        </p:grpSpPr>
        <p:sp>
          <p:nvSpPr>
            <p:cNvPr id="967" name="WordArt 4"/>
            <p:cNvSpPr txBox="1"/>
            <p:nvPr/>
          </p:nvSpPr>
          <p:spPr>
            <a:xfrm rot="1432800">
              <a:off x="5027040" y="4005000"/>
              <a:ext cx="1008000" cy="7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6600"/>
                    </a:solidFill>
                    <a:round/>
                  </a:ln>
                  <a:solidFill>
                    <a:srgbClr val="cc6600"/>
                  </a:solidFill>
                  <a:effectLst>
                    <a:outerShdw dist="17819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幼圆"/>
                </a:rPr>
                <a:t>见</a:t>
              </a:r>
              <a:endParaRPr b="0" lang="en-US" sz="18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968" name="WordArt 5"/>
            <p:cNvSpPr txBox="1"/>
            <p:nvPr/>
          </p:nvSpPr>
          <p:spPr>
            <a:xfrm rot="20930400">
              <a:off x="3325320" y="3929040"/>
              <a:ext cx="1079640" cy="93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6600"/>
                    </a:solidFill>
                    <a:round/>
                  </a:ln>
                  <a:solidFill>
                    <a:srgbClr val="cc6600"/>
                  </a:solidFill>
                  <a:effectLst>
                    <a:outerShdw dist="17819" dir="2700000" blurRad="0" rotWithShape="0">
                      <a:srgbClr val="c0c0c0">
                        <a:alpha val="76000"/>
                      </a:srgbClr>
                    </a:outerShdw>
                  </a:effectLst>
                  <a:latin typeface="幼圆"/>
                </a:rPr>
                <a:t>再</a:t>
              </a:r>
              <a:endParaRPr b="0" lang="en-US" sz="1800" spc="1" strike="noStrike">
                <a:ln w="9360">
                  <a:solidFill>
                    <a:srgbClr val="cc6600"/>
                  </a:solidFill>
                  <a:round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</p:grpSp>
      <p:sp>
        <p:nvSpPr>
          <p:cNvPr id="969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小手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71640" y="3213000"/>
            <a:ext cx="3652920" cy="2471760"/>
          </a:xfrm>
          <a:prstGeom prst="rect">
            <a:avLst/>
          </a:prstGeom>
          <a:ln w="0">
            <a:noFill/>
          </a:ln>
        </p:spPr>
      </p:pic>
      <p:sp>
        <p:nvSpPr>
          <p:cNvPr id="799" name="WordArt 3"/>
          <p:cNvSpPr txBox="1"/>
          <p:nvPr/>
        </p:nvSpPr>
        <p:spPr>
          <a:xfrm>
            <a:off x="1476360" y="1204920"/>
            <a:ext cx="5943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6666"/>
                </a:solidFill>
                <a:latin typeface="华文细黑"/>
              </a:rPr>
              <a:t>同学们，请举起双手来数数！</a:t>
            </a:r>
            <a:endParaRPr b="0" lang="en-US" sz="1800" spc="-1" strike="noStrike">
              <a:ln w="0">
                <a:noFill/>
              </a:ln>
              <a:solidFill>
                <a:srgbClr val="006666"/>
              </a:solidFill>
              <a:latin typeface="华文细黑"/>
              <a:ea typeface="华文细黑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IMG_20120828_083342"/>
          <p:cNvPicPr/>
          <p:nvPr/>
        </p:nvPicPr>
        <p:blipFill>
          <a:blip r:embed="rId15"/>
          <a:stretch/>
        </p:blipFill>
        <p:spPr>
          <a:xfrm>
            <a:off x="4680" y="0"/>
            <a:ext cx="914256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" descr="9711_20045251312580243"/>
          <p:cNvPicPr/>
          <p:nvPr/>
        </p:nvPicPr>
        <p:blipFill>
          <a:blip r:embed="rId1"/>
          <a:stretch/>
        </p:blipFill>
        <p:spPr>
          <a:xfrm>
            <a:off x="1260360" y="2492280"/>
            <a:ext cx="4680000" cy="3381480"/>
          </a:xfrm>
          <a:prstGeom prst="rect">
            <a:avLst/>
          </a:prstGeom>
          <a:ln w="0">
            <a:noFill/>
          </a:ln>
        </p:spPr>
      </p:pic>
      <p:sp>
        <p:nvSpPr>
          <p:cNvPr id="804" name="WordArt 3"/>
          <p:cNvSpPr txBox="1"/>
          <p:nvPr/>
        </p:nvSpPr>
        <p:spPr>
          <a:xfrm>
            <a:off x="7093080" y="3068640"/>
            <a:ext cx="64764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5" name="WordArt 4"/>
          <p:cNvSpPr txBox="1"/>
          <p:nvPr/>
        </p:nvSpPr>
        <p:spPr>
          <a:xfrm>
            <a:off x="3741840" y="1052640"/>
            <a:ext cx="169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99"/>
                  </a:solidFill>
                  <a:round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数一数</a:t>
            </a:r>
            <a:endParaRPr b="0" lang="en-US" sz="1800" spc="1" strike="noStrike">
              <a:ln w="9360">
                <a:solidFill>
                  <a:srgbClr val="99cc99"/>
                </a:solidFill>
                <a:round/>
              </a:ln>
              <a:solidFill>
                <a:srgbClr val="99cc99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IMG_20120828_083342"/>
          <p:cNvPicPr/>
          <p:nvPr/>
        </p:nvPicPr>
        <p:blipFill>
          <a:blip r:embed="rId1"/>
          <a:stretch/>
        </p:blipFill>
        <p:spPr>
          <a:xfrm>
            <a:off x="60480" y="28440"/>
            <a:ext cx="9074160" cy="680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2"/>
          <p:cNvSpPr txBox="1"/>
          <p:nvPr/>
        </p:nvSpPr>
        <p:spPr>
          <a:xfrm>
            <a:off x="3276720" y="549360"/>
            <a:ext cx="20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09" name="Group 3"/>
          <p:cNvGrpSpPr/>
          <p:nvPr/>
        </p:nvGrpSpPr>
        <p:grpSpPr>
          <a:xfrm>
            <a:off x="1258920" y="1628640"/>
            <a:ext cx="2521080" cy="1368360"/>
            <a:chOff x="1258920" y="1628640"/>
            <a:chExt cx="2521080" cy="1368360"/>
          </a:xfrm>
        </p:grpSpPr>
        <p:sp>
          <p:nvSpPr>
            <p:cNvPr id="810" name="AutoShape 4"/>
            <p:cNvSpPr/>
            <p:nvPr/>
          </p:nvSpPr>
          <p:spPr>
            <a:xfrm>
              <a:off x="1258920" y="162864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Picture 5" descr="001"/>
            <p:cNvPicPr/>
            <p:nvPr/>
          </p:nvPicPr>
          <p:blipFill>
            <a:blip r:embed="rId1"/>
            <a:stretch/>
          </p:blipFill>
          <p:spPr>
            <a:xfrm>
              <a:off x="2028960" y="1795320"/>
              <a:ext cx="93492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WordArt 6"/>
          <p:cNvSpPr txBox="1"/>
          <p:nvPr/>
        </p:nvSpPr>
        <p:spPr>
          <a:xfrm>
            <a:off x="2355840" y="3146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13" name="Group 7"/>
          <p:cNvGrpSpPr/>
          <p:nvPr/>
        </p:nvGrpSpPr>
        <p:grpSpPr>
          <a:xfrm>
            <a:off x="4932360" y="1628640"/>
            <a:ext cx="2521080" cy="1368360"/>
            <a:chOff x="4932360" y="1628640"/>
            <a:chExt cx="2521080" cy="1368360"/>
          </a:xfrm>
        </p:grpSpPr>
        <p:sp>
          <p:nvSpPr>
            <p:cNvPr id="814" name="AutoShape 8"/>
            <p:cNvSpPr/>
            <p:nvPr/>
          </p:nvSpPr>
          <p:spPr>
            <a:xfrm>
              <a:off x="4932360" y="162864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5" name="Picture 9" descr="002"/>
            <p:cNvPicPr/>
            <p:nvPr/>
          </p:nvPicPr>
          <p:blipFill>
            <a:blip r:embed="rId2"/>
            <a:stretch/>
          </p:blipFill>
          <p:spPr>
            <a:xfrm>
              <a:off x="5292720" y="1795320"/>
              <a:ext cx="17272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6" name="WordArt 10"/>
          <p:cNvSpPr txBox="1"/>
          <p:nvPr/>
        </p:nvSpPr>
        <p:spPr>
          <a:xfrm>
            <a:off x="6027840" y="3102120"/>
            <a:ext cx="199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2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17" name="Group 11"/>
          <p:cNvGrpSpPr/>
          <p:nvPr/>
        </p:nvGrpSpPr>
        <p:grpSpPr>
          <a:xfrm>
            <a:off x="1258920" y="4005360"/>
            <a:ext cx="2521080" cy="1368360"/>
            <a:chOff x="1258920" y="4005360"/>
            <a:chExt cx="2521080" cy="1368360"/>
          </a:xfrm>
        </p:grpSpPr>
        <p:sp>
          <p:nvSpPr>
            <p:cNvPr id="818" name="AutoShape 12"/>
            <p:cNvSpPr/>
            <p:nvPr/>
          </p:nvSpPr>
          <p:spPr>
            <a:xfrm>
              <a:off x="1258920" y="400536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9" name="Picture 13" descr="003"/>
            <p:cNvPicPr/>
            <p:nvPr/>
          </p:nvPicPr>
          <p:blipFill>
            <a:blip r:embed="rId3"/>
            <a:stretch/>
          </p:blipFill>
          <p:spPr>
            <a:xfrm>
              <a:off x="1343160" y="4224600"/>
              <a:ext cx="230328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0" name="WordArt 14"/>
          <p:cNvSpPr txBox="1"/>
          <p:nvPr/>
        </p:nvSpPr>
        <p:spPr>
          <a:xfrm>
            <a:off x="2411280" y="55054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3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21" name="Group 15"/>
          <p:cNvGrpSpPr/>
          <p:nvPr/>
        </p:nvGrpSpPr>
        <p:grpSpPr>
          <a:xfrm>
            <a:off x="4932360" y="4005360"/>
            <a:ext cx="2521080" cy="1368360"/>
            <a:chOff x="4932360" y="4005360"/>
            <a:chExt cx="2521080" cy="1368360"/>
          </a:xfrm>
        </p:grpSpPr>
        <p:sp>
          <p:nvSpPr>
            <p:cNvPr id="822" name="AutoShape 16"/>
            <p:cNvSpPr/>
            <p:nvPr/>
          </p:nvSpPr>
          <p:spPr>
            <a:xfrm>
              <a:off x="4932360" y="4005360"/>
              <a:ext cx="2521080" cy="13683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3" name="Picture 17" descr="004"/>
            <p:cNvPicPr/>
            <p:nvPr/>
          </p:nvPicPr>
          <p:blipFill>
            <a:blip r:embed="rId4"/>
            <a:stretch/>
          </p:blipFill>
          <p:spPr>
            <a:xfrm>
              <a:off x="5197320" y="4172040"/>
              <a:ext cx="1922760" cy="100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WordArt 18"/>
          <p:cNvSpPr txBox="1"/>
          <p:nvPr/>
        </p:nvSpPr>
        <p:spPr>
          <a:xfrm>
            <a:off x="6083280" y="5460840"/>
            <a:ext cx="2001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4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25" name="文本框 8196"/>
          <p:cNvSpPr/>
          <p:nvPr/>
        </p:nvSpPr>
        <p:spPr>
          <a:xfrm>
            <a:off x="1763640" y="3645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66"/>
                </a:solidFill>
                <a:uFillTx/>
                <a:latin typeface="Arial"/>
                <a:ea typeface="宋体"/>
                <a:hlinkClick r:id="rId5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3276720" y="51588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27" name="WordArt 3"/>
          <p:cNvSpPr txBox="1"/>
          <p:nvPr/>
        </p:nvSpPr>
        <p:spPr>
          <a:xfrm>
            <a:off x="2355840" y="3146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28" name="WordArt 4"/>
          <p:cNvSpPr txBox="1"/>
          <p:nvPr/>
        </p:nvSpPr>
        <p:spPr>
          <a:xfrm>
            <a:off x="6027840" y="3102120"/>
            <a:ext cx="199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6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829" name="AutoShape 5"/>
          <p:cNvSpPr/>
          <p:nvPr/>
        </p:nvSpPr>
        <p:spPr>
          <a:xfrm>
            <a:off x="4932360" y="1486080"/>
            <a:ext cx="2808360" cy="1511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469d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WordArt 6"/>
          <p:cNvSpPr txBox="1"/>
          <p:nvPr/>
        </p:nvSpPr>
        <p:spPr>
          <a:xfrm>
            <a:off x="2411280" y="55054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7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31" name="Group 7"/>
          <p:cNvGrpSpPr/>
          <p:nvPr/>
        </p:nvGrpSpPr>
        <p:grpSpPr>
          <a:xfrm>
            <a:off x="971640" y="3860640"/>
            <a:ext cx="2809440" cy="1512720"/>
            <a:chOff x="971640" y="3860640"/>
            <a:chExt cx="2809440" cy="1512720"/>
          </a:xfrm>
        </p:grpSpPr>
        <p:sp>
          <p:nvSpPr>
            <p:cNvPr id="832" name="AutoShape 8"/>
            <p:cNvSpPr/>
            <p:nvPr/>
          </p:nvSpPr>
          <p:spPr>
            <a:xfrm>
              <a:off x="971640" y="3860640"/>
              <a:ext cx="2809440" cy="15127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3" name="Picture 9" descr="007"/>
            <p:cNvPicPr/>
            <p:nvPr/>
          </p:nvPicPr>
          <p:blipFill>
            <a:blip r:embed="rId1"/>
            <a:stretch/>
          </p:blipFill>
          <p:spPr>
            <a:xfrm>
              <a:off x="1053000" y="4020120"/>
              <a:ext cx="26481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4" name="WordArt 10"/>
          <p:cNvSpPr txBox="1"/>
          <p:nvPr/>
        </p:nvSpPr>
        <p:spPr>
          <a:xfrm>
            <a:off x="6083280" y="55180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8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35" name="Group 11"/>
          <p:cNvGrpSpPr/>
          <p:nvPr/>
        </p:nvGrpSpPr>
        <p:grpSpPr>
          <a:xfrm>
            <a:off x="4932360" y="3860640"/>
            <a:ext cx="2808000" cy="1585800"/>
            <a:chOff x="4932360" y="3860640"/>
            <a:chExt cx="2808000" cy="1585800"/>
          </a:xfrm>
        </p:grpSpPr>
        <p:sp>
          <p:nvSpPr>
            <p:cNvPr id="836" name="AutoShape 12"/>
            <p:cNvSpPr/>
            <p:nvPr/>
          </p:nvSpPr>
          <p:spPr>
            <a:xfrm>
              <a:off x="4932360" y="3860640"/>
              <a:ext cx="2808000" cy="15858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7" name="Picture 13" descr="008"/>
            <p:cNvPicPr/>
            <p:nvPr/>
          </p:nvPicPr>
          <p:blipFill>
            <a:blip r:embed="rId2"/>
            <a:stretch/>
          </p:blipFill>
          <p:spPr>
            <a:xfrm>
              <a:off x="5092920" y="4112640"/>
              <a:ext cx="2486160" cy="99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8" name="Group 14"/>
          <p:cNvGrpSpPr/>
          <p:nvPr/>
        </p:nvGrpSpPr>
        <p:grpSpPr>
          <a:xfrm>
            <a:off x="900000" y="1486080"/>
            <a:ext cx="2880000" cy="1511280"/>
            <a:chOff x="900000" y="1486080"/>
            <a:chExt cx="2880000" cy="1511280"/>
          </a:xfrm>
        </p:grpSpPr>
        <p:sp>
          <p:nvSpPr>
            <p:cNvPr id="839" name="AutoShape 15"/>
            <p:cNvSpPr/>
            <p:nvPr/>
          </p:nvSpPr>
          <p:spPr>
            <a:xfrm>
              <a:off x="900000" y="1486080"/>
              <a:ext cx="2880000" cy="15112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0" name="Picture 16" descr="120828_083342"/>
            <p:cNvPicPr/>
            <p:nvPr/>
          </p:nvPicPr>
          <p:blipFill>
            <a:blip r:embed="rId3"/>
            <a:stretch/>
          </p:blipFill>
          <p:spPr>
            <a:xfrm>
              <a:off x="972360" y="1630440"/>
              <a:ext cx="2711160" cy="12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1" name="Picture 17" descr="IMG_20120828_083342"/>
          <p:cNvPicPr/>
          <p:nvPr/>
        </p:nvPicPr>
        <p:blipFill>
          <a:blip r:embed="rId4"/>
          <a:stretch/>
        </p:blipFill>
        <p:spPr>
          <a:xfrm>
            <a:off x="5005440" y="1630440"/>
            <a:ext cx="268128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>
            <a:off x="3276720" y="51588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认识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～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3" name="WordArt 3"/>
          <p:cNvSpPr txBox="1"/>
          <p:nvPr/>
        </p:nvSpPr>
        <p:spPr>
          <a:xfrm>
            <a:off x="2355840" y="418140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9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755640" y="1628640"/>
            <a:ext cx="3312720" cy="2231640"/>
            <a:chOff x="755640" y="1628640"/>
            <a:chExt cx="3312720" cy="2231640"/>
          </a:xfrm>
        </p:grpSpPr>
        <p:sp>
          <p:nvSpPr>
            <p:cNvPr id="845" name="AutoShape 5"/>
            <p:cNvSpPr/>
            <p:nvPr/>
          </p:nvSpPr>
          <p:spPr>
            <a:xfrm>
              <a:off x="755640" y="1628640"/>
              <a:ext cx="3312720" cy="22316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6" name="Picture 6" descr="009"/>
            <p:cNvPicPr/>
            <p:nvPr/>
          </p:nvPicPr>
          <p:blipFill>
            <a:blip r:embed="rId1"/>
            <a:stretch/>
          </p:blipFill>
          <p:spPr>
            <a:xfrm>
              <a:off x="822240" y="1703520"/>
              <a:ext cx="3216600" cy="199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7" name="WordArt 7"/>
          <p:cNvSpPr txBox="1"/>
          <p:nvPr/>
        </p:nvSpPr>
        <p:spPr>
          <a:xfrm>
            <a:off x="6027840" y="4137120"/>
            <a:ext cx="3445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10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4932360" y="1557360"/>
            <a:ext cx="3024000" cy="2331720"/>
            <a:chOff x="4932360" y="1557360"/>
            <a:chExt cx="3024000" cy="2331720"/>
          </a:xfrm>
        </p:grpSpPr>
        <p:sp>
          <p:nvSpPr>
            <p:cNvPr id="849" name="AutoShape 9"/>
            <p:cNvSpPr/>
            <p:nvPr/>
          </p:nvSpPr>
          <p:spPr>
            <a:xfrm>
              <a:off x="4932360" y="1557360"/>
              <a:ext cx="3024000" cy="23317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469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0" name="Picture 10" descr="010"/>
            <p:cNvPicPr/>
            <p:nvPr/>
          </p:nvPicPr>
          <p:blipFill>
            <a:blip r:embed="rId2"/>
            <a:stretch/>
          </p:blipFill>
          <p:spPr>
            <a:xfrm>
              <a:off x="5105520" y="1757160"/>
              <a:ext cx="2763360" cy="1928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WordArt 2"/>
          <p:cNvSpPr txBox="1"/>
          <p:nvPr/>
        </p:nvSpPr>
        <p:spPr>
          <a:xfrm>
            <a:off x="2411280" y="515880"/>
            <a:ext cx="3456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我们一起来拍手</a:t>
            </a:r>
            <a:endParaRPr b="0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52" name="WordArt 3"/>
          <p:cNvSpPr txBox="1"/>
          <p:nvPr/>
        </p:nvSpPr>
        <p:spPr>
          <a:xfrm>
            <a:off x="5867280" y="2781360"/>
            <a:ext cx="1308240" cy="17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5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853" name="Picture 4" descr="小女孩"/>
          <p:cNvPicPr/>
          <p:nvPr/>
        </p:nvPicPr>
        <p:blipFill>
          <a:blip r:embed="rId1"/>
          <a:stretch/>
        </p:blipFill>
        <p:spPr>
          <a:xfrm>
            <a:off x="1844640" y="1916280"/>
            <a:ext cx="284328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00:20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1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8</vt:r8>
  </property>
</Properties>
</file>