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0BE-A2F9-4ED8-A204-B052ECB2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928-C575-4DA7-A972-6E56C675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8D3-E4F0-45AD-BACA-C58FD0D5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3B4-42B7-4B41-86D2-976EFA27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2A10-EC1E-4517-A5F3-1F11CCE9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46A6-B3B2-433C-B3F1-F3A41BDD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5690-0997-4337-A734-C53A0ECF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3D9F-4DC0-4462-9C99-A750227C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0589-3091-470E-B373-EAF62EB0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B9F6-864B-417E-888B-2D28CD27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84C5-99E8-4CBE-815C-2154B700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B65-8DE7-4449-9249-69D2BDC4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D210-6310-4922-ADE2-FED6711C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0F33-B4BF-48BD-8C8B-D02FA4F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50B1-655F-4A4B-A906-1AC03C4D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7338-EC57-48C9-8EBF-74D59CF9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3073-3670-47EF-9150-9B84278B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550-2956-46E1-B7B7-E70C26CA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781-F62E-4632-A639-E5655EEB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CE1-986A-475D-A254-CAD33987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077-B91E-4CD8-864B-ECDF1E9D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3C5-0541-4F04-8A36-A7A29566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3E0-3989-407F-8D9C-9EBBD4C0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166-51B3-4330-9F05-077C60E3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1F0F-B3CF-410C-A30D-8B45590E15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4909-315C-4CEA-9808-636DE6F72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D52A-B25A-4951-B5B7-B7201214B4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FC3A-62F9-4DE5-BFE4-1E37C41CAB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0"/>
          <p:cNvSpPr txBox="1"/>
          <p:nvPr/>
        </p:nvSpPr>
        <p:spPr>
          <a:xfrm>
            <a:off x="1619280" y="1197000"/>
            <a:ext cx="59673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乡下人家语文课件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PPT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模板下载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WordArt 14"/>
          <p:cNvSpPr txBox="1"/>
          <p:nvPr/>
        </p:nvSpPr>
        <p:spPr>
          <a:xfrm>
            <a:off x="539640" y="620640"/>
            <a:ext cx="1368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u=68309736,542178696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46" name="d  浪漫曲_催眠音乐_海顿.mp3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田园风光8s"/>
          <p:cNvPicPr/>
          <p:nvPr/>
        </p:nvPicPr>
        <p:blipFill>
          <a:blip r:embed="rId3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0" y="21337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</a:rPr>
              <a:t>绘成了一幅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自然、和谐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</a:rPr>
              <a:t>的田园风景画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613584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>
            <a:hlinkClick r:id="" action="ppaction://hlinkshowjump?jump=nextslide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9298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200573115181891290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1023480" y="5824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744560" y="224460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468080" y="90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画画这幅画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999080" y="1700280"/>
            <a:ext cx="347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你都要画上什么呀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873600" y="3068640"/>
            <a:ext cx="87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幼圆"/>
              </a:rPr>
              <a:t>红霞、微风、归巢的鸟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复件 (9) 美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951120" y="5602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92760" y="973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827360" y="1197000"/>
            <a:ext cx="463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那歌声真好听，赛过催眠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让那些辛苦一天的人们，甜甜蜜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地进入梦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a_s_01_1279_01_00"/>
          <p:cNvPicPr/>
          <p:nvPr/>
        </p:nvPicPr>
        <p:blipFill>
          <a:blip r:embed="rId1"/>
          <a:stretch/>
        </p:blipFill>
        <p:spPr>
          <a:xfrm>
            <a:off x="324000" y="620640"/>
            <a:ext cx="8280360" cy="5904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3300"/>
              </a:solidFill>
              <a:latin typeface="Arial"/>
              <a:ea typeface="幼圆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413000"/>
            <a:ext cx="813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屋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瓜架　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夏天傍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门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鲜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乡下人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屋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春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独特迷人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院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鸡儿　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秋天夜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河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小鸭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85656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>
            <a:hlinkClick r:id="" action="ppaction://hlinkshowjump?jump=nextslide"/>
          </p:cNvPr>
          <p:cNvSpPr/>
          <p:nvPr/>
        </p:nvSpPr>
        <p:spPr>
          <a:xfrm>
            <a:off x="7596360" y="5734080"/>
            <a:ext cx="792000" cy="682560"/>
          </a:xfrm>
          <a:custGeom>
            <a:avLst/>
            <a:gdLst>
              <a:gd name="textAreaLeft" fmla="*/ 43920 w 792000"/>
              <a:gd name="textAreaRight" fmla="*/ 748080 w 79200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5061" h="21600">
                <a:moveTo>
                  <a:pt x="0" y="0"/>
                </a:moveTo>
                <a:lnTo>
                  <a:pt x="25061" y="0"/>
                </a:lnTo>
                <a:lnTo>
                  <a:pt x="25061" y="21600"/>
                </a:lnTo>
                <a:lnTo>
                  <a:pt x="0" y="21600"/>
                </a:lnTo>
                <a:close/>
              </a:path>
              <a:path fill="lightenLess" w="25061" h="21600">
                <a:moveTo>
                  <a:pt x="0" y="0"/>
                </a:moveTo>
                <a:lnTo>
                  <a:pt x="25061" y="0"/>
                </a:lnTo>
                <a:lnTo>
                  <a:pt x="23661" y="1400"/>
                </a:lnTo>
                <a:lnTo>
                  <a:pt x="1400" y="1400"/>
                </a:lnTo>
                <a:close/>
              </a:path>
              <a:path fill="darken" w="25061" h="21600">
                <a:moveTo>
                  <a:pt x="25061" y="0"/>
                </a:moveTo>
                <a:lnTo>
                  <a:pt x="25061" y="21600"/>
                </a:lnTo>
                <a:lnTo>
                  <a:pt x="23661" y="20200"/>
                </a:lnTo>
                <a:lnTo>
                  <a:pt x="23661" y="1400"/>
                </a:lnTo>
                <a:close/>
              </a:path>
              <a:path fill="darkenLess" w="25061" h="21600">
                <a:moveTo>
                  <a:pt x="25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1" y="20200"/>
                </a:lnTo>
                <a:close/>
              </a:path>
              <a:path fill="lighten" w="25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1" h="21600">
                <a:moveTo>
                  <a:pt x="5524" y="3794"/>
                </a:moveTo>
                <a:lnTo>
                  <a:pt x="19537" y="10800"/>
                </a:lnTo>
                <a:lnTo>
                  <a:pt x="55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8200"/>
          <p:cNvSpPr/>
          <p:nvPr/>
        </p:nvSpPr>
        <p:spPr>
          <a:xfrm>
            <a:off x="3708360" y="1486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/>
          <p:cNvSpPr/>
          <p:nvPr/>
        </p:nvSpPr>
        <p:spPr>
          <a:xfrm>
            <a:off x="123984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95280" y="333360"/>
            <a:ext cx="6280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长藤绿叶瓜架，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春雨竹笋鲜花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雄鸡悠闲自在，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小桥流水戏鸭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夕阳鸟儿如画，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纺织娘高唱甜，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　　最美乡下人家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721692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>
            <a:hlinkClick r:id="" action="ppaction://hlinkshowjump?jump=nextslide"/>
          </p:cNvPr>
          <p:cNvSpPr/>
          <p:nvPr/>
        </p:nvSpPr>
        <p:spPr>
          <a:xfrm>
            <a:off x="7740720" y="6093000"/>
            <a:ext cx="792000" cy="537840"/>
          </a:xfrm>
          <a:custGeom>
            <a:avLst/>
            <a:gdLst>
              <a:gd name="textAreaLeft" fmla="*/ 34560 w 792000"/>
              <a:gd name="textAreaRight" fmla="*/ 757440 w 792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31800" h="21600">
                <a:moveTo>
                  <a:pt x="0" y="0"/>
                </a:moveTo>
                <a:lnTo>
                  <a:pt x="31800" y="0"/>
                </a:lnTo>
                <a:lnTo>
                  <a:pt x="31800" y="21600"/>
                </a:lnTo>
                <a:lnTo>
                  <a:pt x="0" y="21600"/>
                </a:lnTo>
                <a:close/>
              </a:path>
              <a:path fill="lightenLess" w="31800" h="21600">
                <a:moveTo>
                  <a:pt x="0" y="0"/>
                </a:moveTo>
                <a:lnTo>
                  <a:pt x="31800" y="0"/>
                </a:lnTo>
                <a:lnTo>
                  <a:pt x="30400" y="1400"/>
                </a:lnTo>
                <a:lnTo>
                  <a:pt x="1400" y="1400"/>
                </a:lnTo>
                <a:close/>
              </a:path>
              <a:path fill="darken" w="31800" h="21600">
                <a:moveTo>
                  <a:pt x="31800" y="0"/>
                </a:moveTo>
                <a:lnTo>
                  <a:pt x="31800" y="21600"/>
                </a:lnTo>
                <a:lnTo>
                  <a:pt x="30400" y="20200"/>
                </a:lnTo>
                <a:lnTo>
                  <a:pt x="30400" y="1400"/>
                </a:lnTo>
                <a:close/>
              </a:path>
              <a:path fill="darkenLess" w="31800" h="21600">
                <a:moveTo>
                  <a:pt x="31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00" y="20200"/>
                </a:lnTo>
                <a:close/>
              </a:path>
              <a:path fill="lighten" w="31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00" h="21600">
                <a:moveTo>
                  <a:pt x="8894" y="3794"/>
                </a:moveTo>
                <a:lnTo>
                  <a:pt x="22907" y="10800"/>
                </a:lnTo>
                <a:lnTo>
                  <a:pt x="88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250920" y="6237360"/>
            <a:ext cx="13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u=3695149594,856842266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8"/>
          <p:cNvSpPr/>
          <p:nvPr/>
        </p:nvSpPr>
        <p:spPr>
          <a:xfrm>
            <a:off x="1332000" y="189000"/>
            <a:ext cx="727236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天晴了的时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戴望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天晴了的时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到小径中走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雨润过的泥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定是凉爽又温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炫耀着新绿的小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下子洗净了尘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再胆怯的小白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慢慢地抬起它们的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试寒，试试暖，      然后一瓣瓣地绽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抖去水珠的凤蝶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木叶间自在悠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它五彩的智慧书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曝着阳光一开一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小径中去走走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天晴了的时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山间移动的暗绿－－云的脚迹－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也在闲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滚滚红尘.mp3" descr=""/>
          <p:cNvPicPr/>
          <p:nvPr/>
        </p:nvPicPr>
        <p:blipFill>
          <a:blip r:embed="rId2"/>
          <a:stretch/>
        </p:blipFill>
        <p:spPr>
          <a:xfrm>
            <a:off x="7812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7"/>
          <p:cNvSpPr/>
          <p:nvPr/>
        </p:nvSpPr>
        <p:spPr>
          <a:xfrm>
            <a:off x="0" y="57261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95509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c3957e3b4bb18e6cdf07e6e5cf9bd74f"/>
          <p:cNvPicPr/>
          <p:nvPr/>
        </p:nvPicPr>
        <p:blipFill>
          <a:blip r:embed="rId1"/>
          <a:stretch/>
        </p:blipFill>
        <p:spPr>
          <a:xfrm>
            <a:off x="0" y="2800440"/>
            <a:ext cx="5651640" cy="4057560"/>
          </a:xfrm>
          <a:prstGeom prst="rect">
            <a:avLst/>
          </a:prstGeom>
          <a:ln w="0">
            <a:noFill/>
          </a:ln>
        </p:spPr>
      </p:pic>
      <p:sp>
        <p:nvSpPr>
          <p:cNvPr id="185" name="WordArt 12"/>
          <p:cNvSpPr txBox="1"/>
          <p:nvPr/>
        </p:nvSpPr>
        <p:spPr>
          <a:xfrm>
            <a:off x="2050920" y="3789360"/>
            <a:ext cx="1800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冬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6" name="Picture 13" descr="u=134109864,29461523&amp;gp=2"/>
          <p:cNvPicPr/>
          <p:nvPr/>
        </p:nvPicPr>
        <p:blipFill>
          <a:blip r:embed="rId4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u=2224444144,4287791282&amp;gp=0"/>
          <p:cNvPicPr/>
          <p:nvPr/>
        </p:nvPicPr>
        <p:blipFill>
          <a:blip r:embed="rId5"/>
          <a:stretch/>
        </p:blipFill>
        <p:spPr>
          <a:xfrm>
            <a:off x="3851280" y="0"/>
            <a:ext cx="1800360" cy="270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u=443132702,101717798&amp;gp=1"/>
          <p:cNvPicPr/>
          <p:nvPr/>
        </p:nvPicPr>
        <p:blipFill>
          <a:blip r:embed="rId6"/>
          <a:stretch/>
        </p:blipFill>
        <p:spPr>
          <a:xfrm>
            <a:off x="5724360" y="4581360"/>
            <a:ext cx="3419640" cy="227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u=2582024235,4173004771&amp;gp=0"/>
          <p:cNvPicPr/>
          <p:nvPr/>
        </p:nvPicPr>
        <p:blipFill>
          <a:blip r:embed="rId7"/>
          <a:stretch/>
        </p:blipFill>
        <p:spPr>
          <a:xfrm>
            <a:off x="5724360" y="2781360"/>
            <a:ext cx="3419640" cy="1727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u=562490517,2728391236&amp;gp=2"/>
          <p:cNvPicPr/>
          <p:nvPr/>
        </p:nvPicPr>
        <p:blipFill>
          <a:blip r:embed="rId8"/>
          <a:stretch/>
        </p:blipFill>
        <p:spPr>
          <a:xfrm>
            <a:off x="0" y="0"/>
            <a:ext cx="3780000" cy="2708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8"/>
          <p:cNvSpPr/>
          <p:nvPr/>
        </p:nvSpPr>
        <p:spPr>
          <a:xfrm>
            <a:off x="1428120" y="49086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想象一下，在冬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乡下别的地方，可能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幅怎样的图画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8367840" y="624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0">
            <a:hlinkClick r:id="" action="ppaction://hlinkshowjump?jump=nextslide"/>
          </p:cNvPr>
          <p:cNvSpPr/>
          <p:nvPr/>
        </p:nvSpPr>
        <p:spPr>
          <a:xfrm>
            <a:off x="8352000" y="6319800"/>
            <a:ext cx="792000" cy="538200"/>
          </a:xfrm>
          <a:custGeom>
            <a:avLst/>
            <a:gdLst>
              <a:gd name="textAreaLeft" fmla="*/ 34560 w 792000"/>
              <a:gd name="textAreaRight" fmla="*/ 757440 w 792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79" h="21600">
                <a:moveTo>
                  <a:pt x="0" y="0"/>
                </a:moveTo>
                <a:lnTo>
                  <a:pt x="31779" y="0"/>
                </a:lnTo>
                <a:lnTo>
                  <a:pt x="31779" y="21600"/>
                </a:lnTo>
                <a:lnTo>
                  <a:pt x="0" y="21600"/>
                </a:lnTo>
                <a:close/>
              </a:path>
              <a:path fill="lightenLess" w="31779" h="21600">
                <a:moveTo>
                  <a:pt x="0" y="0"/>
                </a:moveTo>
                <a:lnTo>
                  <a:pt x="31779" y="0"/>
                </a:lnTo>
                <a:lnTo>
                  <a:pt x="30379" y="1400"/>
                </a:lnTo>
                <a:lnTo>
                  <a:pt x="1400" y="1400"/>
                </a:lnTo>
                <a:close/>
              </a:path>
              <a:path fill="darken" w="31779" h="21600">
                <a:moveTo>
                  <a:pt x="31779" y="0"/>
                </a:moveTo>
                <a:lnTo>
                  <a:pt x="31779" y="21600"/>
                </a:lnTo>
                <a:lnTo>
                  <a:pt x="30379" y="20200"/>
                </a:lnTo>
                <a:lnTo>
                  <a:pt x="30379" y="1400"/>
                </a:lnTo>
                <a:close/>
              </a:path>
              <a:path fill="darkenLess" w="31779" h="21600">
                <a:moveTo>
                  <a:pt x="3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79" y="20200"/>
                </a:lnTo>
                <a:close/>
              </a:path>
              <a:path fill="lighten" w="3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79" h="21600">
                <a:moveTo>
                  <a:pt x="8883" y="3794"/>
                </a:moveTo>
                <a:lnTo>
                  <a:pt x="22896" y="10800"/>
                </a:lnTo>
                <a:lnTo>
                  <a:pt x="88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2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8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1467-7121-499B-B0C2-96BBF186F3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复件 (9) 美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951120" y="5602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92760" y="973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24000" y="6746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幼圆"/>
              </a:rPr>
              <a:t>准备开展一次“走进田园”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幼圆"/>
              </a:rPr>
              <a:t>综合性学习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幼圆"/>
              </a:rPr>
              <a:t>活动吧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24000" y="24526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积累好词、佳句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把你认为写得好的词、句摘抄在积累本上，并读一读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24000" y="4613400"/>
            <a:ext cx="860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画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。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把你喜欢的一处风景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段落多读读，并展开想象把它画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b2003120300008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165320" y="692280"/>
            <a:ext cx="62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乡下人家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不论什么时候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不论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季节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宋体"/>
              </a:rPr>
              <a:t>,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都有一道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新宋体"/>
              </a:rPr>
              <a:t>独特、迷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的风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28600" y="5562720"/>
            <a:ext cx="16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253160" y="224172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屋前搭瓜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945680" y="227664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门前种鲜花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273680" y="342900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屋后春笋冒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874040" y="350028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院里鸡觅食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273680" y="465300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河中鸭嬉戏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5018760" y="472428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门前吃晚饭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145320" y="5805360"/>
            <a:ext cx="18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夜静催眠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u=433417562,601032426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250920" y="0"/>
            <a:ext cx="86468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乡下人家，虽然住着小小的房屋，但总爱在屋前搭一瓜架，或种南瓜，或种丝瓜，让那些瓜藤攀上棚架，爬上屋檐。当花儿落了的时候，藤上便结出了青的、红的瓜，它们一个个挂在房前，衬着那长长的藤，绿绿的叶。青、红的瓜，碧绿的藤和叶，构成了一道别有风趣的装饰，比那高楼门前蹲着一对石狮子或是竖着两根大旗杆，可爱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496200" y="581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>
            <a:hlinkClick r:id="" action="ppaction://hlinkshowjump?jump=nextslide"/>
          </p:cNvPr>
          <p:cNvSpPr/>
          <p:nvPr/>
        </p:nvSpPr>
        <p:spPr>
          <a:xfrm>
            <a:off x="7956720" y="6093000"/>
            <a:ext cx="792000" cy="395280"/>
          </a:xfrm>
          <a:custGeom>
            <a:avLst/>
            <a:gdLst>
              <a:gd name="textAreaLeft" fmla="*/ 25560 w 792000"/>
              <a:gd name="textAreaRight" fmla="*/ 766440 w 79200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43259" h="21600">
                <a:moveTo>
                  <a:pt x="0" y="0"/>
                </a:moveTo>
                <a:lnTo>
                  <a:pt x="43259" y="0"/>
                </a:lnTo>
                <a:lnTo>
                  <a:pt x="43259" y="21600"/>
                </a:lnTo>
                <a:lnTo>
                  <a:pt x="0" y="21600"/>
                </a:lnTo>
                <a:close/>
              </a:path>
              <a:path fill="lightenLess" w="43259" h="21600">
                <a:moveTo>
                  <a:pt x="0" y="0"/>
                </a:moveTo>
                <a:lnTo>
                  <a:pt x="43259" y="0"/>
                </a:lnTo>
                <a:lnTo>
                  <a:pt x="41859" y="1400"/>
                </a:lnTo>
                <a:lnTo>
                  <a:pt x="1400" y="1400"/>
                </a:lnTo>
                <a:close/>
              </a:path>
              <a:path fill="darken" w="43259" h="21600">
                <a:moveTo>
                  <a:pt x="43259" y="0"/>
                </a:moveTo>
                <a:lnTo>
                  <a:pt x="43259" y="21600"/>
                </a:lnTo>
                <a:lnTo>
                  <a:pt x="41859" y="20200"/>
                </a:lnTo>
                <a:lnTo>
                  <a:pt x="41859" y="1400"/>
                </a:lnTo>
                <a:close/>
              </a:path>
              <a:path fill="darkenLess" w="43259" h="21600">
                <a:moveTo>
                  <a:pt x="43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9" y="20200"/>
                </a:lnTo>
                <a:close/>
              </a:path>
              <a:path fill="lighten" w="43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9" h="21600">
                <a:moveTo>
                  <a:pt x="14623" y="3794"/>
                </a:moveTo>
                <a:lnTo>
                  <a:pt x="28636" y="10800"/>
                </a:lnTo>
                <a:lnTo>
                  <a:pt x="146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复件 (9) 美景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0" y="0"/>
            <a:ext cx="932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青、红的瓜，碧绿的藤和叶，构成了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一道别有风趣的装饰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，比那高楼门前蹲着一对石狮子或是竖着两根大旗杆，可爱多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255680" y="5754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975680" y="3645000"/>
            <a:ext cx="52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在这里“别有风趣的装饰”指的是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975680" y="4791240"/>
            <a:ext cx="52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为什么说这些都是“别有风趣的装饰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复件 (9) 美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746280" y="6093000"/>
            <a:ext cx="11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085480" y="620640"/>
            <a:ext cx="520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只母鸡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率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群小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竹林中觅食；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耸着尾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鸡，在场地上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大踏步地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走来走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723320" y="3500280"/>
            <a:ext cx="555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这雄鸡耸着尾巴，大踏步地走来走去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在干什么呢？心里会怎么想？你学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50920" y="4797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运用拟人的手法，体现了宁静、和谐的农家生活画面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复件 (9) 美景"/>
          <p:cNvPicPr/>
          <p:nvPr/>
        </p:nvPicPr>
        <p:blipFill>
          <a:blip r:embed="rId1"/>
          <a:stretch/>
        </p:blipFill>
        <p:spPr>
          <a:xfrm>
            <a:off x="0" y="0"/>
            <a:ext cx="9144000" cy="3267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田园风光8g"/>
          <p:cNvPicPr/>
          <p:nvPr/>
        </p:nvPicPr>
        <p:blipFill>
          <a:blip r:embed="rId2"/>
          <a:stretch/>
        </p:blipFill>
        <p:spPr>
          <a:xfrm>
            <a:off x="0" y="2276640"/>
            <a:ext cx="3492360" cy="4581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06640" y="6156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0020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289880" y="18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河中的鸭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2656080" y="8366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你从哪些词中读出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" descr="20050129091050542745"/>
          <p:cNvPicPr/>
          <p:nvPr/>
        </p:nvPicPr>
        <p:blipFill>
          <a:blip r:embed="rId3"/>
          <a:stretch/>
        </p:blipFill>
        <p:spPr>
          <a:xfrm>
            <a:off x="3419640" y="2276640"/>
            <a:ext cx="5724360" cy="458136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8200"/>
          <p:cNvSpPr/>
          <p:nvPr/>
        </p:nvSpPr>
        <p:spPr>
          <a:xfrm>
            <a:off x="3059280" y="177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u=3952854327,364288178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u=922943099,3904428460&amp;gp=1"/>
          <p:cNvPicPr/>
          <p:nvPr/>
        </p:nvPicPr>
        <p:blipFill>
          <a:blip r:embed="rId2"/>
          <a:stretch/>
        </p:blipFill>
        <p:spPr>
          <a:xfrm>
            <a:off x="0" y="0"/>
            <a:ext cx="3276720" cy="414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复件 (9) 美景"/>
          <p:cNvPicPr/>
          <p:nvPr/>
        </p:nvPicPr>
        <p:blipFill>
          <a:blip r:embed="rId3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95280" y="443700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几场春雨过后，到那里走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常常会看见许多鲜嫩的笋，成群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从土里探出头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9120" y="5969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u=1147853952,3111645847&amp;gp=2"/>
          <p:cNvPicPr/>
          <p:nvPr/>
        </p:nvPicPr>
        <p:blipFill>
          <a:blip r:embed="rId4"/>
          <a:stretch/>
        </p:blipFill>
        <p:spPr>
          <a:xfrm>
            <a:off x="6300720" y="0"/>
            <a:ext cx="28432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u=3952854327,364288178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123640" y="24922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你从中读懂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250920" y="3333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几场春雨过后，到那里走走，常常会看见许多鲜嫩的笋，成群地从土里探出头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95280" y="3213000"/>
            <a:ext cx="885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幼圆"/>
              </a:rPr>
              <a:t>探出来”与“长出来”有什么不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530000" y="4253040"/>
            <a:ext cx="52981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现在你们就是这些小春笋，告诉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你那么快想从地里钻出来想看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155600" y="5811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u=1041729734,3745917432&amp;gp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0" y="155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新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天边的红霞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新宋体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向晚的微风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新宋体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头上飞过的归巢的鸟儿，都是他们的好友，它们和乡下人家一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新宋体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绘成了一幅自然、 和谐的田园风景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>
            <a:hlinkClick r:id="" action="ppaction://hlinkshowjump?jump=nextslide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3:0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55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