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099-D3A1-41E9-9102-AD8232B6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3FC-8287-4C4E-85CD-73A63290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7F6-F52A-4198-9B45-57626FE2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C33-10BA-4319-83A7-56C0244F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23B4-B999-422D-9F11-E2585B11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8B37-0F9E-4A09-A490-C7704EA6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4598-CF7B-4AF5-84A4-8C2044E8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5990-DC25-4636-BDCF-3F458FDE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9C96-6067-4FA9-984F-20077EDD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D75E-8295-4AA5-93AF-FC951CE0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C9C0-9921-4888-8A1E-79EEFDC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83E-1B77-4A66-A4B6-CC12360B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1BBE-F82B-453E-8E2B-6FA233BE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1DA0-4593-42AF-8010-F9B0CF61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0B67-F763-402A-89AE-48AA99CA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913F-F96E-4387-A8E2-93B0B564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C8D1-009B-4898-A93A-44DB08F6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CA29-6D6A-481C-BD1E-066FF75C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0264-4DFA-47EB-B470-DCF1B654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AB54-DA1E-453E-BB7B-ADB4712F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A833-1919-407A-ABA2-3A30D122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0FB44-E9FD-4F85-BE67-0B4CE618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9F0-D037-4952-BEDE-C9132C4B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4F7F-3F8D-4ABF-ADD7-AED5FFBA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72602-279E-4832-8BB5-2A7A9B3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CCBD0-1713-4844-93C3-91244CCE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36770-F7AD-4C20-8AAE-256300FF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2178-929A-4F01-AC14-345B35FF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F994-129D-4556-980D-EA5AA6C1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F791-7AC8-4821-9779-160806B9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43181-E163-4A6C-A9ED-35E4B2B7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62773-4D55-4172-9337-20ECA103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0667-9137-4B8B-A36E-E4F72A56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712-9C06-487E-B8B8-5DF29731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2423-73EA-43BE-A705-5D85C058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A8227-F487-4751-A4F9-EB7C8D81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1F8C-6E52-419C-AD06-A2F52659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806D-3006-48F1-BC4C-F34894D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C6393-0037-4E00-897E-B0FAE73B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A2DF6-F058-44EF-986C-39873184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3F58-417D-46C6-BAE4-3077CCBE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16D4-EA9E-40EE-AF29-6BE20512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A313-C03E-4531-9C47-3F7FE194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769EE-50A8-4D32-9BFA-DA90B4D6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7E2-93BE-4FB2-98F3-5D9C24FA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FC656-685F-43C6-ADCF-E5EA0067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0D009-0A92-417C-8E32-12E0A228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D26A-007E-4722-8655-DD9992E4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71C5-1130-4AD1-A36D-B6ED3F5E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5DD1-61F4-4369-A063-9124C8A7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0C36-4163-4921-B1D7-6D8B084B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1E421-771D-4916-B31D-C99D6021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53714-20B8-43CE-A1DF-654BC6D1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7D11-10D8-4398-B5D3-A163E7BC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9FC37-E33A-48A9-9F9E-FF7844DD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AD5-1464-43AB-A510-EFAFFD47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E3F1A-030F-4154-AD0C-7BFE10DE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35E-8382-4E89-A481-D40DFD91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950-31C3-46B1-A0E7-B4C7F450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93A-31E7-48D9-9776-6EAF9519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E9FF-4FE2-4998-898C-C475D1A16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C5F1-7D67-4792-B4D2-DC7CEABED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1026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9B2C-A216-4180-A433-E12C92515D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032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033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34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035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036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037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38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39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40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1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42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43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044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1045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1046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047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048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1049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1052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1053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1054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1055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1056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1057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1058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1059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1060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1061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1062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63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064"/>
          <p:cNvGrpSpPr/>
          <p:nvPr/>
        </p:nvGrpSpPr>
        <p:grpSpPr>
          <a:xfrm>
            <a:off x="7171560" y="-84600"/>
            <a:ext cx="2427480" cy="2247120"/>
            <a:chOff x="7171560" y="-84600"/>
            <a:chExt cx="2427480" cy="2247120"/>
          </a:xfrm>
        </p:grpSpPr>
        <p:grpSp>
          <p:nvGrpSpPr>
            <p:cNvPr id="121" name="Group 1065"/>
            <p:cNvGrpSpPr/>
            <p:nvPr/>
          </p:nvGrpSpPr>
          <p:grpSpPr>
            <a:xfrm>
              <a:off x="7171560" y="-84600"/>
              <a:ext cx="2427480" cy="2247120"/>
              <a:chOff x="7171560" y="-84600"/>
              <a:chExt cx="2427480" cy="2247120"/>
            </a:xfrm>
          </p:grpSpPr>
          <p:sp>
            <p:nvSpPr>
              <p:cNvPr id="122" name="Freeform 1066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1067"/>
              <p:cNvGrpSpPr/>
              <p:nvPr/>
            </p:nvGrpSpPr>
            <p:grpSpPr>
              <a:xfrm>
                <a:off x="7171560" y="-84600"/>
                <a:ext cx="2427480" cy="2247120"/>
                <a:chOff x="7171560" y="-84600"/>
                <a:chExt cx="2427480" cy="2247120"/>
              </a:xfrm>
            </p:grpSpPr>
            <p:sp>
              <p:nvSpPr>
                <p:cNvPr id="124" name="Freeform 1068"/>
                <p:cNvSpPr/>
                <p:nvPr/>
              </p:nvSpPr>
              <p:spPr>
                <a:xfrm rot="18427200">
                  <a:off x="78804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1069"/>
                <p:cNvSpPr/>
                <p:nvPr/>
              </p:nvSpPr>
              <p:spPr>
                <a:xfrm rot="18427200">
                  <a:off x="801144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1070"/>
                <p:cNvSpPr/>
                <p:nvPr/>
              </p:nvSpPr>
              <p:spPr>
                <a:xfrm rot="18427200">
                  <a:off x="77097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1071"/>
                <p:cNvSpPr/>
                <p:nvPr/>
              </p:nvSpPr>
              <p:spPr>
                <a:xfrm rot="18427200">
                  <a:off x="7783200" y="-2736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1072"/>
                <p:cNvSpPr/>
                <p:nvPr/>
              </p:nvSpPr>
              <p:spPr>
                <a:xfrm rot="18427200">
                  <a:off x="840636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1073"/>
                <p:cNvSpPr/>
                <p:nvPr/>
              </p:nvSpPr>
              <p:spPr>
                <a:xfrm rot="18427200">
                  <a:off x="83361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1074"/>
                <p:cNvSpPr/>
                <p:nvPr/>
              </p:nvSpPr>
              <p:spPr>
                <a:xfrm rot="18427200">
                  <a:off x="7910640" y="33300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075"/>
                <p:cNvSpPr/>
                <p:nvPr/>
              </p:nvSpPr>
              <p:spPr>
                <a:xfrm rot="18427200">
                  <a:off x="785268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133" name="Line 1076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148C-AA4C-4F2C-A668-DF8CE49A405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4924-A254-4695-8C37-2BF68C7345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4" name="Freeform 19"/>
            <p:cNvSpPr/>
            <p:nvPr/>
          </p:nvSpPr>
          <p:spPr>
            <a:xfrm rot="7320000">
              <a:off x="7789680" y="46573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 rot="7320000">
              <a:off x="776484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8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5"/>
              <p:cNvSpPr/>
              <p:nvPr/>
            </p:nvSpPr>
            <p:spPr>
              <a:xfrm rot="7320000">
                <a:off x="8039160" y="476100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6"/>
              <p:cNvSpPr/>
              <p:nvPr/>
            </p:nvSpPr>
            <p:spPr>
              <a:xfrm rot="7320000">
                <a:off x="8514000" y="45615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EA8C-1698-40B7-AF3C-A3703531FD6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www.ivsky.com/Photo/391/54047.html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luetu.com/pic/95431.htm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284720" y="126828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我们来认识俄国作家叶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诺索夫描写的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白公鹅插图1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278" name="WordArt 4"/>
          <p:cNvSpPr txBox="1"/>
          <p:nvPr/>
        </p:nvSpPr>
        <p:spPr>
          <a:xfrm>
            <a:off x="971640" y="1052640"/>
            <a:ext cx="63259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小学语文白公鹅</a:t>
            </a: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PPT</a:t>
            </a: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课件下载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7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1143000" y="1584360"/>
            <a:ext cx="8001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Arial"/>
              </a:rPr>
              <a:t>腔调  掂量  涟漪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Arial"/>
              </a:rPr>
              <a:t>无忧无虑  属于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Arial"/>
              </a:rPr>
              <a:t>主宰  慢条斯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838080" y="7621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iā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3581280" y="8380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ā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6172200" y="83808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án y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4419720" y="26668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5715000" y="26668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2057400" y="44956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ǎ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219320" y="1402560"/>
            <a:ext cx="7162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慢条丝理：形容动作缓慢，不慌不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掂量：斟酌。在课文中指白公鹅走路不紧不慢，好像每一步都要想好才落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步：迈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官司：诉讼。这里指作者与鹅争水面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0" y="304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黑体"/>
                <a:ea typeface="黑体"/>
              </a:rPr>
              <a:t>词语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858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径直：直接进行某件事，不在事前费周折。文中指白公鹅直接去吃鱼饵，毫无顾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勾当：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òu dà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常指坏事情。文中指白公鹅吃鱼饵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宰：掌握、支配人或事物的力量。在文中指白公鹅认为自己掌握着整条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685800" y="7621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这只白公鹅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762120" y="22096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白公鹅拥有海军上将的派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685800" y="3276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课文从哪几个方面来写白公鹅的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371600" y="4114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走路的姿态和平时的活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8200"/>
          <p:cNvSpPr/>
          <p:nvPr/>
        </p:nvSpPr>
        <p:spPr>
          <a:xfrm>
            <a:off x="1828800" y="106668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、走路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姿态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是怎样的？划出相关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它走起路来慢条斯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落步之前，他总要先把脚掌往上抬抬，再合上掌蹼，就像收起张开的扇面一样；然后摆一会儿这个姿势，再不慌不忙地把脚掌放到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就是狗在后面追赶，也决不举步奔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914400" y="609480"/>
            <a:ext cx="739152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13</a:t>
            </a:r>
            <a:r>
              <a:rPr b="0" lang="zh-CN" sz="2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、白鹅）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鹅的步态，更是傲慢了。大体上与鸭相似，但鸭的步调急速，有局促不安之相；鹅的步调从容，大模大样的，颇像京剧里的净角出场。它常傲然地站着，看见有人走来也毫不相让；有时非但不让，竟伸过颈子来咬你一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（</a:t>
            </a:r>
            <a:r>
              <a:rPr b="0" lang="en-US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4</a:t>
            </a:r>
            <a:r>
              <a:rPr b="0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白公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它走起路来慢条斯理，仔细掂量着每一步。落步之前，它总要先把脚掌往上抬抬，再合上掌蹼，就像收起张开的扇面一样；然后摆一会儿这个姿势，再不慌不忙地把脚掌放到地上。通过车辙凌乱而又泥泞的路时，它也那么有办法，身上的任何一根细翎都不沾上一点污泥。就是狗在身后追赶，这只鹅也决不举步奔跑。它总是高傲地、一动不动地挺着长长的脖子，好象头上顶着一罐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作者怎样写白公鹅的走路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每一步动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过路的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被狗追赶时的缓慢行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7238880" y="2286000"/>
            <a:ext cx="533520" cy="2057400"/>
          </a:xfrm>
          <a:custGeom>
            <a:avLst/>
            <a:gdLst>
              <a:gd name="textAreaLeft" fmla="*/ 0 w 533520"/>
              <a:gd name="textAreaRight" fmla="*/ 192600 w 533520"/>
              <a:gd name="textAreaTop" fmla="*/ 53280 h 2057400"/>
              <a:gd name="textAreaBottom" fmla="*/ 20041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7696080" y="28954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哪几方面写出白公鹅平时的活动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划出相关的句子或点出关键词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戏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抢占地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公然吞食鱼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5410080" y="2514600"/>
            <a:ext cx="533520" cy="2057400"/>
          </a:xfrm>
          <a:custGeom>
            <a:avLst/>
            <a:gdLst>
              <a:gd name="textAreaLeft" fmla="*/ 0 w 533520"/>
              <a:gd name="textAreaRight" fmla="*/ 192600 w 533520"/>
              <a:gd name="textAreaTop" fmla="*/ 53280 h 2057400"/>
              <a:gd name="textAreaBottom" fmla="*/ 20041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6172200" y="2743200"/>
            <a:ext cx="259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无忧无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由自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4284720" y="1413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朗读感悟自己喜欢的段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白公鹅插图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83664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当白鹅在浅水滩里挺直身子、扇起两只长长的有力的翅膀时，水面上便泛起层层涟漪，岸边的芦苇也会沙沙作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395280" y="3068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你体会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漂亮白鹅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0" y="90792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这只鹅在整片河湾里最引人注目。它过得无忧无虑，自由自在。青草茂密的河岸属于它，水边最洁净的沙滩也属于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5867280" y="544500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你又想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8"/>
          <p:cNvSpPr/>
          <p:nvPr/>
        </p:nvSpPr>
        <p:spPr>
          <a:xfrm>
            <a:off x="933480" y="64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4500720" y="177336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丰子恺笔下的那只白鹅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白鹅3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250920" y="2708280"/>
            <a:ext cx="201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高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白鹅戏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3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黑体"/>
              </a:rPr>
              <a:t>可最糟糕的是，白鹅把我下了鱼饵的一片水面，也划为自己的地盘。我们为这片水面打了好长时间的官司，它根本没把我放在眼里。有时它率领一伙公鹅横成一排，直奔鱼竿，而且还要赖在那里；有时它们在河对岸洗澡，大声叫唤，拍打翅膀，相互嬉戏。要不，它就与邻近的鹅群来上一场厮打，弄得满河里漂浮着撕咬下来的乱羽。如果赶上这么一场用以耀武扬威的乱子，你就甭想有鱼咬钩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140360" y="580536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黑体"/>
              </a:rPr>
              <a:t>说说你读后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白鹅大概认为这个世界上的所有东西都属于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它要是知道了连它自己也属于村里的少年斯焦普卡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─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愿意的话，就可以把它抓起来，交给母亲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用它和鲜白菜一起熬汤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─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可就要大吃一惊了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2590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这是作者调侃的话。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对近似“霸道”的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作者虽然无可奈何，却不憎恨它，之所以这样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是出于一种喜爱。因为喜爱，才留心鹅的一举一动，做种种的遐想，用人的心理去推测鹅的心理，更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</a:rPr>
              <a:t>了鹅的行为的放肆，增加了幽默的效果，使人觉得很好笑，很有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在这句话中，出现了两个破折号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折号主要有三种作用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注释说明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声音延长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话题转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句话中的两个破折号都有突然转移话题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刚开始叙述的主体是“它”，后来突然改变了角度说“他”，接着又说“它”，因此用破折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这究竟是只什么样的白鹅？请大家再次默读课文，概括一下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）的白公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）的白公鹅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            ）的白公鹅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666880" y="2666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耀武扬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2514600" y="3809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威风凛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514600" y="4952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派头十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4500720" y="1484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图片4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0" y="10519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读课文，比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66840" y="1916280"/>
          <a:ext cx="8410320" cy="4533840"/>
        </p:xfrm>
        <a:graphic>
          <a:graphicData uri="http://schemas.openxmlformats.org/drawingml/2006/table">
            <a:tbl>
              <a:tblPr/>
              <a:tblGrid>
                <a:gridCol w="1396800"/>
                <a:gridCol w="3506760"/>
                <a:gridCol w="3506760"/>
              </a:tblGrid>
              <a:tr h="755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白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白公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①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姿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②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叫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③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步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④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吃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⑤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  <a:ea typeface="黑体"/>
                        </a:rPr>
                        <a:t>玩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99999"/>
                      </a:solidFill>
                    </a:lnL>
                    <a:lnR w="4320">
                      <a:solidFill>
                        <a:srgbClr val="999999"/>
                      </a:solidFill>
                    </a:lnR>
                    <a:lnT w="4320">
                      <a:solidFill>
                        <a:srgbClr val="999999"/>
                      </a:solidFill>
                    </a:lnT>
                    <a:lnB w="4320">
                      <a:solidFill>
                        <a:srgbClr val="99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Text Box 35"/>
          <p:cNvSpPr/>
          <p:nvPr/>
        </p:nvSpPr>
        <p:spPr>
          <a:xfrm>
            <a:off x="5651640" y="27813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海军上将的派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2411280" y="2781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鹅老爷的脾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1752480" y="3500280"/>
            <a:ext cx="32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厉声叫嚣 引吭大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1752480" y="4221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傲慢  从容  大模大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1763640" y="486900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三眼一板    一丝不苟需要侍候    架子十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0"/>
          <p:cNvSpPr/>
          <p:nvPr/>
        </p:nvSpPr>
        <p:spPr>
          <a:xfrm>
            <a:off x="5292720" y="429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慢条斯理   不慌不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6012000" y="350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大声叫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2"/>
          <p:cNvSpPr/>
          <p:nvPr/>
        </p:nvSpPr>
        <p:spPr>
          <a:xfrm>
            <a:off x="5364000" y="5589720"/>
            <a:ext cx="36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戏水      抢占地盘   主宰一切  引人注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3"/>
          <p:cNvSpPr/>
          <p:nvPr/>
        </p:nvSpPr>
        <p:spPr>
          <a:xfrm>
            <a:off x="2916360" y="551664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4"/>
          <p:cNvSpPr/>
          <p:nvPr/>
        </p:nvSpPr>
        <p:spPr>
          <a:xfrm>
            <a:off x="6516720" y="472428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5"/>
          <p:cNvSpPr/>
          <p:nvPr/>
        </p:nvSpPr>
        <p:spPr>
          <a:xfrm>
            <a:off x="4067280" y="10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篇课文重点各写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6"/>
          <p:cNvSpPr/>
          <p:nvPr/>
        </p:nvSpPr>
        <p:spPr>
          <a:xfrm>
            <a:off x="395280" y="50706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吃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7"/>
          <p:cNvSpPr/>
          <p:nvPr/>
        </p:nvSpPr>
        <p:spPr>
          <a:xfrm>
            <a:off x="395280" y="580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黑体"/>
              </a:rPr>
              <a:t>⑤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玩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fl011"/>
          <p:cNvPicPr/>
          <p:nvPr/>
        </p:nvPicPr>
        <p:blipFill>
          <a:blip r:embed="rId1"/>
          <a:stretch/>
        </p:blipFill>
        <p:spPr>
          <a:xfrm>
            <a:off x="0" y="-316080"/>
            <a:ext cx="9906120" cy="75614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457200" y="2438280"/>
            <a:ext cx="967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cc"/>
                </a:solidFill>
                <a:latin typeface="Comic Sans MS"/>
                <a:ea typeface="宋体"/>
              </a:rPr>
              <a:t>你有什么收获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xs03gif458"/>
          <p:cNvPicPr/>
          <p:nvPr/>
        </p:nvPicPr>
        <p:blipFill>
          <a:blip r:embed="rId1"/>
          <a:stretch/>
        </p:blipFill>
        <p:spPr>
          <a:xfrm>
            <a:off x="762120" y="990720"/>
            <a:ext cx="1095120" cy="10951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7"/>
          <p:cNvSpPr/>
          <p:nvPr/>
        </p:nvSpPr>
        <p:spPr>
          <a:xfrm>
            <a:off x="838080" y="2208960"/>
            <a:ext cx="761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、找出自己最喜欢的词、句。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774160" y="11462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品读词句，体会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1219320" y="39625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、两位作者对白鹅有什么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1600200" y="4800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达了作者对鹅的喜爱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Arial"/>
              </a:rPr>
              <a:t>积累</a:t>
            </a: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慢条斯理   不慌不忙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Arial"/>
              </a:rPr>
              <a:t>车辙凌乱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ffcc"/>
                </a:solidFill>
                <a:latin typeface="Arial"/>
              </a:rPr>
              <a:t>一动不动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cc"/>
                </a:solidFill>
                <a:latin typeface="Arial"/>
              </a:rPr>
              <a:t>引人注目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cccc"/>
                </a:solidFill>
                <a:latin typeface="Arial"/>
              </a:rPr>
              <a:t>无忧无虑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自由自在   耀武扬威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Arial"/>
              </a:rPr>
              <a:t>偷偷摸摸   从从容容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cc"/>
                </a:solidFill>
                <a:latin typeface="Arial"/>
              </a:rPr>
              <a:t>不紧不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给下列多音字组词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dāng (      ) 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奔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ēn (      )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àng (      )                  bèn (      )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调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ào (      )  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扇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ān (     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áo (      )                  shàn (     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有什么不同之处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r_P1050503"/>
          <p:cNvPicPr/>
          <p:nvPr/>
        </p:nvPicPr>
        <p:blipFill>
          <a:blip r:embed="rId1"/>
          <a:stretch/>
        </p:blipFill>
        <p:spPr>
          <a:xfrm>
            <a:off x="0" y="1447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e2_012"/>
          <p:cNvPicPr/>
          <p:nvPr/>
        </p:nvPicPr>
        <p:blipFill>
          <a:blip r:embed="rId2"/>
          <a:stretch/>
        </p:blipFill>
        <p:spPr>
          <a:xfrm>
            <a:off x="4648320" y="3859200"/>
            <a:ext cx="4495680" cy="2998800"/>
          </a:xfrm>
          <a:prstGeom prst="rect">
            <a:avLst/>
          </a:prstGeom>
          <a:ln w="0">
            <a:noFill/>
          </a:ln>
        </p:spPr>
      </p:pic>
      <p:sp>
        <p:nvSpPr>
          <p:cNvPr id="287" name="WordArt 5"/>
          <p:cNvSpPr txBox="1"/>
          <p:nvPr/>
        </p:nvSpPr>
        <p:spPr>
          <a:xfrm>
            <a:off x="4876920" y="1600200"/>
            <a:ext cx="3124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公鹅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88" name="WordArt 6"/>
          <p:cNvSpPr txBox="1"/>
          <p:nvPr/>
        </p:nvSpPr>
        <p:spPr>
          <a:xfrm>
            <a:off x="1066680" y="5181480"/>
            <a:ext cx="3333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3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母鹅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--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根据意思写词语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560" y="990720"/>
            <a:ext cx="9753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形容动作缓慢，不慌不忙。                  （              ）     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直接进行某件事，不在事前费周折。          （           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掌握、支配人或事物的力量。   （         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4952880" y="1828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慢条斯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4114800" y="3276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径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3048120" y="4876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主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括号里填上合适的词语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在括号里填上合适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）的姿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）的脖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）的翅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）的白公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照样子，写词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不慌不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1104127333"/>
          <p:cNvPicPr/>
          <p:nvPr/>
        </p:nvPicPr>
        <p:blipFill>
          <a:blip r:embed="rId1"/>
          <a:stretch/>
        </p:blipFill>
        <p:spPr>
          <a:xfrm>
            <a:off x="5638680" y="3429000"/>
            <a:ext cx="3505320" cy="34290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49528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耀武扬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8380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7621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板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181480" y="2057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长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义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12952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荣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荣获 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慢条斯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慌不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率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带领 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由自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无拘无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义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凌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整齐   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无忧无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忧心忡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20051228133654306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2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2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2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C56A-6A3F-4FC8-8B55-1D5B13276B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457200" y="274680"/>
          <a:ext cx="8229600" cy="63849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2743200"/>
                <a:gridCol w="182520"/>
                <a:gridCol w="2560680"/>
              </a:tblGrid>
              <a:tr h="9763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白鹅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白公鹅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680">
                <a:tc gridSpan="2"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相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行文结构    先总后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6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         </a:t>
                      </a:r>
                      <a:r>
                        <a:rPr b="0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拟人的手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3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82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不     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Rectangle 31"/>
          <p:cNvSpPr/>
          <p:nvPr/>
        </p:nvSpPr>
        <p:spPr>
          <a:xfrm>
            <a:off x="3276720" y="2286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描写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2"/>
          <p:cNvSpPr/>
          <p:nvPr/>
        </p:nvSpPr>
        <p:spPr>
          <a:xfrm>
            <a:off x="4028400" y="3200400"/>
            <a:ext cx="414468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黑体"/>
              </a:rPr>
              <a:t>用反语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黑体"/>
              </a:rPr>
              <a:t>（架子十足，鹅老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黑体"/>
              </a:rPr>
              <a:t>                           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黑体"/>
              </a:rPr>
              <a:t>（偷偷摸摸，从从容容，主宰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3"/>
          <p:cNvSpPr/>
          <p:nvPr/>
        </p:nvSpPr>
        <p:spPr>
          <a:xfrm>
            <a:off x="2083680" y="443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4"/>
          <p:cNvSpPr/>
          <p:nvPr/>
        </p:nvSpPr>
        <p:spPr>
          <a:xfrm>
            <a:off x="2083680" y="5734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语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5"/>
          <p:cNvSpPr/>
          <p:nvPr/>
        </p:nvSpPr>
        <p:spPr>
          <a:xfrm>
            <a:off x="3996720" y="4572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宋体"/>
              </a:rPr>
              <a:t>鹅老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6"/>
          <p:cNvSpPr/>
          <p:nvPr/>
        </p:nvSpPr>
        <p:spPr>
          <a:xfrm>
            <a:off x="6762240" y="428472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宋体"/>
              </a:rPr>
              <a:t>理当荣膺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宋体"/>
              </a:rPr>
              <a:t>军上将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鹅"/>
          <p:cNvPicPr/>
          <p:nvPr/>
        </p:nvPicPr>
        <p:blipFill>
          <a:blip r:embed="rId1"/>
          <a:stretch/>
        </p:blipFill>
        <p:spPr>
          <a:xfrm>
            <a:off x="2057400" y="1371600"/>
            <a:ext cx="5041800" cy="3784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鹅2"/>
          <p:cNvPicPr/>
          <p:nvPr/>
        </p:nvPicPr>
        <p:blipFill>
          <a:blip r:embed="rId2"/>
          <a:stretch/>
        </p:blipFill>
        <p:spPr>
          <a:xfrm>
            <a:off x="1066680" y="609480"/>
            <a:ext cx="5042160" cy="3759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鹅图片00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762120"/>
            <a:ext cx="6629400" cy="5084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查看《鹅_1》全图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609480"/>
            <a:ext cx="6767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4284720" y="162864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你认为这只鹅会有哪些特点呢？请你推测一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鹅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由读课文，读准字音，看看两只鹅有什么异同，作者的写法又与丰子恺的写法有哪些异同？读书时有了新发现，可以在书上写一写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762120" y="1295280"/>
            <a:ext cx="76327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nɡ            diān            li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             yī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腔           掂         涟         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ǜ               shú           zǎ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虑　     属　    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133720" y="46483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621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ín            yīng         tài         qi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禽 类      荣膺      步 态        腔  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ǔ             diā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掌 蹼            掂 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é          líng            líng      tǐng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   辙            凌   乱      细 翎      挺  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án yī                  l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涟 漪          无忧无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hǔ             ěr        shu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属于      鱼 饵          率   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ǒng        dàng        zǎ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竹  筒     勾 当      主  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ài      sī        b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依 赖      厮 打      甭 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o           xián     p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熬汤      军 衔        攀 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ìng      wū ní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　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ào           t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泥  泞        污 泥     高傲        沙  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āo gāo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 ú wě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糟    糕         芦 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7T09:36:1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08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