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hammer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EC2-5D38-4ADA-A89E-23B41F2E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A9F-0B15-4A75-90F5-1E95299B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02F7C-672D-4555-A145-5C42E182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047C3-CA2D-48DA-8C46-D2D63283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56BA2-86AE-4E1A-B2D2-D133A1FF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3CCD6-9F7C-44E9-92DE-151B42E4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83C23-123F-4738-B4F8-AC6879CB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1679C-4ABB-4B5A-A821-62EED69D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B58B6-FA4A-48BD-BBD7-0A5CA9B1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FE8F2-E86E-4835-BD1B-F8A7DC59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B14E1-9138-4ED9-B248-60B48C8D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24A-FA34-4706-8DCF-51F5F0A6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1BE-A1F2-4C17-A9B7-2D3E52AA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373C-889D-4C0D-BDAE-6604714E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A505-91FE-41BB-A60D-06C75008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DC03-0792-432B-B124-6F789FF6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4A75-EC1A-469C-8E12-6A01D185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D8BC-B2A4-4B13-83A3-DCF6A3F9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9A70-38E4-4840-9348-0A3C2AA2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128B-E186-4DE9-BADE-90C4B8EE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743-FFE4-4102-A437-05B1074F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264F-3712-4D2E-9F48-D385AFFA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6779-5936-4D70-8A85-841BFCC6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9CF0-5C09-423D-9924-FBA0AC16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E458-A045-4A72-866F-FF912A3E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3B1B-E52A-4E94-9D5F-6E102A33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0D95-FA81-4775-B2DF-B58E51E6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0D93-DBF0-445E-A88C-0CC4FD3B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2C2D-A42F-4181-A528-4763E142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5599-6892-4CF3-A728-69CEEA3C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141C-579A-49D2-80AA-399CBE00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2E5-C1E2-4BD2-A212-B3D9FDE3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4A88-6F2E-402C-A3DA-F449EE0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4E4FB-7AFE-47C7-9C8B-8068AF63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D771-48FB-4A6A-BADA-BD2E63FD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E3B4-C052-43A7-93E1-E727DAD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3D2F-2FBE-436C-AF87-F29DA3A5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43B3-61E2-4F23-9E28-18DAE416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8AC5-4530-415C-B20B-92226363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08D87-8A68-475E-8973-2F88D873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4811-F493-43DF-8992-62590D61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28C52-F9F4-4824-B3CB-C62D40D9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C72-B683-4145-B4F3-3AC37C3D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1CF0-714D-480A-B51A-F78329B3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C90AD-96A5-4A9B-8B7A-0E1F9D7F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A01BA-F76A-4DE2-942F-AEEB59F2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D6D6-B33E-49E8-B0A5-4887A84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6784-7AB3-4FEF-B32E-57699CDB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D4AA-4497-40E7-9552-3B559968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F4FD0-07CA-4900-AE47-25C86F78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D2B8-0B39-435A-9E25-FDA9FFED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14D5-ADC5-42CC-A521-878794B6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36A1-F7DC-473A-8958-EFC1179E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D60-5F6D-4133-8028-6623B480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07E60-FEC0-4574-9173-FEAB4DD2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AB84A-F743-4834-B559-2F846FEC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5C547-B92A-45DA-8379-EC93C85F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B18D-06E7-43C7-8C7C-A811F2AD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8A431-777A-4BE4-97F7-E87A5C55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FFDB-C3C0-411B-9338-DD9FAE2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943BD-C930-4582-8F5E-D42B09CC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4EEB5-563D-4869-8C7D-910F73E8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5056A-C49B-44F6-965F-739FA674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D78E3-91AD-4BB7-BC96-7202DC8C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F66-321A-40BA-A225-7C168061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84AE4-1BE1-45B4-8EA0-BE397D39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9E8DA-9706-4311-B285-DE8CA13B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C9201-B3C9-489C-991F-575CAE6A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80281-4656-4476-B6E1-DFD957EC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13EB-7A5E-4D29-B82E-EC4A0576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A80CF-2617-4430-A1A6-8E0A1CBC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DE99E-C16B-4B34-9AA6-0D7E6438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7BCC0-2E33-4BF8-A8DF-F3721D99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33724-7418-4240-8AE0-0F410EA2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16F51-C046-404E-A042-5CFD994D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23B-4B0F-4A73-9D0A-B858F20F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0DF2F-089A-4841-B36A-58FC983A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0688F-9128-4509-A438-A8D6A5F6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E7FD5-A2F4-4060-986A-AEDD1D29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34AB0-CCFC-4DE6-8F7A-BEE3C0EB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8D3C7-1F17-4ECC-B7BE-083FFE80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4A7A0-12C4-40EC-8722-F4D8D3CF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0049F-3E69-42DE-8332-5FAA827B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7564C-9ED5-4512-8D65-7ECAF21A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478D2-00F5-4D0B-84A1-3A62BACF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3976D-CF4A-4FFE-848D-899D0C3C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B60-820A-4233-9011-158AAD3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F3EFF-2659-464B-91AC-A6AEF595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F70CF-43BA-44CB-AAD9-A28BD8B6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6702B-5FC5-483E-8A89-DBC70DC2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CBFF7-E504-4733-B989-6A4BC500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B24BB-0F1E-48C5-A068-5FD59B72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921B51-3032-4243-B222-E40C018A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D229AA-49DE-44A5-A2F3-8E8CC504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123A25-6B24-4AA0-8C5C-B59AAD93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B6B4A4-A755-4AC2-8CFE-1A437171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C12023-B312-493B-8A7C-2B30D39A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DB4-32DA-4E73-A333-A243838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12BCC4-933F-4A37-94D0-D48B84B4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080590-F109-44C5-AD52-FBD8F900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E3925-C724-4444-90AD-EA7FC78B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6558E7-0A81-4EA4-A767-341D07D3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EFFD2D-C29F-4AC1-B98E-ECD464B8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C4DE9E-F9A5-423B-9AE5-1CEF5C2F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6FC056-B333-4370-B577-350623EF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1E3CA-C3AC-4866-8824-4ED558B7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DC467-2271-4EA7-A84C-B3F63492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EC04B-9F6D-4821-A2B5-DE58AF0E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E285-DFD4-45AB-8703-8801FBE7E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380880" y="1494000"/>
                <a:ext cx="8305920" cy="360"/>
                <a:chOff x="380880" y="1494000"/>
                <a:chExt cx="8305920" cy="360"/>
              </a:xfrm>
            </p:grpSpPr>
            <p:sp>
              <p:nvSpPr>
                <p:cNvPr id="46" name="Line 6"/>
                <p:cNvSpPr/>
                <p:nvPr/>
              </p:nvSpPr>
              <p:spPr>
                <a:xfrm>
                  <a:off x="380880" y="1494000"/>
                  <a:ext cx="8305920" cy="0"/>
                </a:xfrm>
                <a:prstGeom prst="line">
                  <a:avLst/>
                </a:prstGeom>
                <a:ln w="1908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 txBox="1"/>
                <p:nvPr/>
              </p:nvSpPr>
              <p:spPr>
                <a:xfrm>
                  <a:off x="380880" y="1494000"/>
                  <a:ext cx="8305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72C6-4749-4344-B413-CC8E9BA948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876920"/>
            <a:ext cx="609480" cy="360"/>
            <a:chOff x="0" y="4876920"/>
            <a:chExt cx="609480" cy="360"/>
          </a:xfrm>
        </p:grpSpPr>
        <p:sp>
          <p:nvSpPr>
            <p:cNvPr id="54" name="Line 12"/>
            <p:cNvSpPr/>
            <p:nvPr/>
          </p:nvSpPr>
          <p:spPr>
            <a:xfrm>
              <a:off x="0" y="4876920"/>
              <a:ext cx="609480" cy="0"/>
            </a:xfrm>
            <a:prstGeom prst="line">
              <a:avLst/>
            </a:prstGeom>
            <a:ln w="44280">
              <a:solidFill>
                <a:srgbClr val="33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0" y="48769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4495-1D0E-4A77-A27A-9D1CC7A7E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DD3A-CB3A-49A8-BD2B-C0B76562E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F77A-0233-46F0-A76C-0DBD57B82DF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A2AF-77D0-4F61-B873-C64C645CEB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2C5E-518F-450A-96DD-BB80A2D33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0" y="4876920"/>
                <a:ext cx="990720" cy="360"/>
                <a:chOff x="0" y="4876920"/>
                <a:chExt cx="990720" cy="360"/>
              </a:xfrm>
            </p:grpSpPr>
            <p:sp>
              <p:nvSpPr>
                <p:cNvPr id="262" name="Line 7"/>
                <p:cNvSpPr/>
                <p:nvPr/>
              </p:nvSpPr>
              <p:spPr>
                <a:xfrm>
                  <a:off x="0" y="4876920"/>
                  <a:ext cx="990720" cy="0"/>
                </a:xfrm>
                <a:prstGeom prst="line">
                  <a:avLst/>
                </a:prstGeom>
                <a:ln w="5076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 txBox="1"/>
                <p:nvPr/>
              </p:nvSpPr>
              <p:spPr>
                <a:xfrm>
                  <a:off x="0" y="4876920"/>
                  <a:ext cx="9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6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35040" y="685800"/>
                <a:ext cx="8077320" cy="360"/>
                <a:chOff x="635040" y="685800"/>
                <a:chExt cx="8077320" cy="360"/>
              </a:xfrm>
            </p:grpSpPr>
            <p:sp>
              <p:nvSpPr>
                <p:cNvPr id="267" name="Line 10"/>
                <p:cNvSpPr/>
                <p:nvPr/>
              </p:nvSpPr>
              <p:spPr>
                <a:xfrm>
                  <a:off x="635040" y="685800"/>
                  <a:ext cx="8077320" cy="0"/>
                </a:xfrm>
                <a:prstGeom prst="line">
                  <a:avLst/>
                </a:prstGeom>
                <a:ln w="4428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635040" y="685800"/>
                  <a:ext cx="8077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E4D1-704E-4C21-92EC-98E39F3530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0FF2-F630-4C72-9839-715CD9424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BD53-61CE-4F66-8C41-45E3B56FF95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yingxiong1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MIDI0033.MI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"/>
          <p:cNvSpPr/>
          <p:nvPr/>
        </p:nvSpPr>
        <p:spPr>
          <a:xfrm>
            <a:off x="863640" y="1876320"/>
            <a:ext cx="70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1616"/>
                </a:solidFill>
                <a:latin typeface="Arial"/>
                <a:ea typeface="宋体"/>
              </a:rPr>
              <a:t>小英雄雨来语文课件</a:t>
            </a:r>
            <a:r>
              <a:rPr b="0" lang="en-US" sz="4000" spc="-1" strike="noStrike">
                <a:solidFill>
                  <a:srgbClr val="161616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161616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874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14F7-B794-4C14-9153-26F6DE58B3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想一想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你想做一个怎样的孩子？今后，遇到坏人坏事，你准备怎么办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"/>
          <p:cNvSpPr/>
          <p:nvPr/>
        </p:nvSpPr>
        <p:spPr>
          <a:xfrm>
            <a:off x="826920" y="141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yingxion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7"/>
          <p:cNvSpPr/>
          <p:nvPr/>
        </p:nvSpPr>
        <p:spPr>
          <a:xfrm>
            <a:off x="2411280" y="5805360"/>
            <a:ext cx="5997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0e08"/>
                </a:solidFill>
                <a:latin typeface="Times New Roman"/>
              </a:rPr>
              <a:t>一、</a:t>
            </a: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雨来的游泳本领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yingxiong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0" y="1773360"/>
            <a:ext cx="8769240" cy="703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二、雨来上夜校受到爱国主义教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yingxiong17"/>
          <p:cNvPicPr/>
          <p:nvPr/>
        </p:nvPicPr>
        <p:blipFill>
          <a:blip r:embed="rId1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yingxiong18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yingxiong19"/>
          <p:cNvPicPr/>
          <p:nvPr/>
        </p:nvPicPr>
        <p:blipFill>
          <a:blip r:embed="rId3"/>
          <a:stretch/>
        </p:blipFill>
        <p:spPr>
          <a:xfrm>
            <a:off x="0" y="321300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yingxiong20"/>
          <p:cNvPicPr/>
          <p:nvPr/>
        </p:nvPicPr>
        <p:blipFill>
          <a:blip r:embed="rId4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8"/>
          <p:cNvSpPr/>
          <p:nvPr/>
        </p:nvSpPr>
        <p:spPr>
          <a:xfrm>
            <a:off x="1671480" y="3146400"/>
            <a:ext cx="62136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0e08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三、雨来掩护交通员李大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yingxiongyulai1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yingxiongyulai2"/>
          <p:cNvPicPr/>
          <p:nvPr/>
        </p:nvPicPr>
        <p:blipFill>
          <a:blip r:embed="rId2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yingxiio28"/>
          <p:cNvPicPr/>
          <p:nvPr/>
        </p:nvPicPr>
        <p:blipFill>
          <a:blip r:embed="rId3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yingxiio29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9"/>
          <p:cNvSpPr/>
          <p:nvPr/>
        </p:nvSpPr>
        <p:spPr>
          <a:xfrm>
            <a:off x="1619280" y="2997360"/>
            <a:ext cx="58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1887480" y="2997360"/>
            <a:ext cx="57801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四、雨来和鬼子进行不屈的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yingxiongyulai3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yingxiongyulai4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6"/>
          <p:cNvSpPr/>
          <p:nvPr/>
        </p:nvSpPr>
        <p:spPr>
          <a:xfrm>
            <a:off x="1384200" y="1916280"/>
            <a:ext cx="68598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五、芦花村的人误以为雨来死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yingxiongyulai7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yingxiongyulai8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yingxiong9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yingxiongyulai11"/>
          <p:cNvPicPr/>
          <p:nvPr/>
        </p:nvPicPr>
        <p:blipFill>
          <a:blip r:embed="rId4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3132000" y="5734080"/>
            <a:ext cx="6716880" cy="581400"/>
          </a:xfrm>
          <a:prstGeom prst="rect">
            <a:avLst/>
          </a:prstGeom>
          <a:solidFill>
            <a:srgbClr val="cceb0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六、雨来没有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ff"/>
                </a:solidFill>
                <a:latin typeface="Times New Roman"/>
              </a:rPr>
              <a:t>读课题思考：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24000" y="2971440"/>
            <a:ext cx="85406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本课的主要人物是雨来，为什么称他是小英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机智勇敢、不畏强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e430"/>
                </a:solidFill>
                <a:latin typeface="Arial"/>
              </a:rPr>
              <a:t>小标题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游泳本领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上夜校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掩护李大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与鬼子作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河沿上的枪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雨来没有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3:2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18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