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BDB-2996-4D71-AADF-DB25FCCE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A03-A7C5-45E6-86A5-9450923F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7B9-C324-41F1-973B-EA5F7AE4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326-AFC6-4F84-AE47-2032CBDD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0642-F1FD-45A5-9EBF-6AD5377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9E7-1024-4E65-A8D3-6B138CE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6592-4566-4FE0-BEDF-10C84DF8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25BF-8829-4D24-948A-E9C400C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1AD4-6402-4222-955B-B526066C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1C62-95DB-4CC9-BF0D-69A640B9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97E1-D605-4D9E-BD8B-ED6D6D4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D12-F9F7-40DA-A43E-368E6AB9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D272-2620-416B-8F66-8ED4E490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8A51-AE69-458A-8D10-301219B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DDD0-7634-47B6-B618-D656B12F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1168-FC21-44A7-98CA-7D52F3E0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2CDD-C71E-4527-88DD-11C08EE7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B47-BB73-46EA-9A3A-BB14EC8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5ED-2755-4AD9-A582-8ABE7FA3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AEE-AEA1-4956-9380-8E07BBE7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8FE-BA87-4D46-A067-93C64F6A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765-1F27-4F43-92F8-BCB95BDD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5A8-F990-4264-912C-70B0858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D0B-125C-445D-B698-F07460D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D71C-0538-4B46-AFE9-A565946AD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73D7-31F4-4F5B-B2B7-CEA5B3CD99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A78F-6568-446E-95F3-8A4563A413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411280" y="23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3" name="Picture 4" descr="fj1"/>
          <p:cNvPicPr/>
          <p:nvPr/>
        </p:nvPicPr>
        <p:blipFill>
          <a:blip r:embed="rId1"/>
          <a:srcRect l="473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4284720" y="530064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934000" y="83664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次成功的实验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008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0008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他对这三个学生说：“这个瓶子是一口井，不过现在井里没有水。你们手里拿着的铅锤代表你们自己。井口很窄，一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只能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上来一个人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00000" y="3500280"/>
            <a:ext cx="1109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                      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说完，他又问：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记住了吗？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三个学生齐声回答：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记住了。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”</a:t>
            </a: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教育家拿起茶杯向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井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里灌水，他一边灌，一边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喊</a:t>
            </a: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：“危险！快上来！一</a:t>
            </a: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……</a:t>
            </a:r>
            <a:r>
              <a:rPr b="0" lang="zh-CN" sz="4800" spc="-1" strike="noStrike">
                <a:solidFill>
                  <a:srgbClr val="800080"/>
                </a:solidFill>
                <a:latin typeface="Times New Roman"/>
              </a:rPr>
              <a:t>二</a:t>
            </a:r>
            <a:r>
              <a:rPr b="0" lang="en-US" sz="4800" spc="-1" strike="noStrike">
                <a:solidFill>
                  <a:srgbClr val="800080"/>
                </a:solidFill>
                <a:latin typeface="Times New Roman"/>
              </a:rPr>
              <a:t>……”</a:t>
            </a:r>
            <a:br>
              <a:rPr sz="4800"/>
            </a:b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47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稚艺简体"/>
              </a:rPr>
              <a:t>教育家设置了危险的情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一个女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低声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对两个同伴说：“快！你第一，你第二，我最后！”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26920" y="3141720"/>
            <a:ext cx="762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  “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三”字刚出口，三个学生就顺利地把小铅锤一个一个提了出来。</a:t>
            </a: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文本框 8200"/>
          <p:cNvSpPr/>
          <p:nvPr/>
        </p:nvSpPr>
        <p:spPr>
          <a:xfrm>
            <a:off x="2050920" y="170172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80008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800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教育家的实验以前为什么会失败？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20400" y="26100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失败：每次孩子们都争着往外拉铅锤，结果铅锤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都堵在瓶口，一个也拉不出来。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325240" y="3802680"/>
            <a:ext cx="52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成功： 一个女孩低声对两个同伴说：“快！你第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一，你第二，我最后！”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教育家问这个女孩：“你刚才跟他们俩说了什么？”</a:t>
            </a:r>
            <a:br>
              <a:rPr sz="4000"/>
            </a:b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br>
              <a:rPr sz="4000"/>
            </a:b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　 “你为什么要这样做呢？”教育家问。</a:t>
            </a:r>
            <a:br>
              <a:rPr sz="4000"/>
            </a:b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574080" y="2133720"/>
            <a:ext cx="20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女孩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如实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地告诉了他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373400" y="3933720"/>
            <a:ext cx="63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女孩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不假思索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地说：“有了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危险，应该让别人先出去。”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50920" y="5373720"/>
            <a:ext cx="58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：依靠，凭借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736360" y="6021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会用“不假思索”说句子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157440" y="5423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近：毫不犹豫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女孩不假思索地说：“有了危险，应该让别人先出去。”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一个女孩低声对两个同伴说：“快！你第一，你第二，我最后！”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</a:t>
            </a: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68360" y="4005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方正稚艺简体"/>
                <a:ea typeface="方正稚艺简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方正稚艺简体"/>
                <a:ea typeface="方正稚艺简体"/>
              </a:rPr>
              <a:t>女孩身上有值得你学习的闪光点吗？和你的小伙伴讨论讨论。</a:t>
            </a:r>
            <a:r>
              <a:rPr b="0" lang="zh-CN" sz="3600" spc="-1" strike="noStrike">
                <a:solidFill>
                  <a:srgbClr val="ff3300"/>
                </a:solidFill>
                <a:latin typeface="方正稚艺简体"/>
                <a:ea typeface="方正稚艺简体"/>
              </a:rPr>
              <a:t>　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　</a:t>
            </a: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79640" y="5091120"/>
            <a:ext cx="54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先人后己    临危不乱        沉着冷静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5800" y="2133720"/>
            <a:ext cx="784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这位教育家激动地抱起女孩，好久才放下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2" name="Picture 5" descr="小学语文(记叙文）03"/>
          <p:cNvPicPr/>
          <p:nvPr/>
        </p:nvPicPr>
        <p:blipFill>
          <a:blip r:embed="rId1"/>
          <a:stretch/>
        </p:blipFill>
        <p:spPr>
          <a:xfrm>
            <a:off x="663480" y="103968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3203640" y="2276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激动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084720" y="22766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好久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55640" y="2708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他对校长说：“这个实验我做过许多次，每次孩子们都争着往外拉铅锤，结果铅锤都堵在瓶口，一个也拉不出来。今天，我的实验终于获得了成功。”（此时，教育家的心情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2087640"/>
            <a:ext cx="7010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分组讨论：为什么实验能取得成功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日常生活中有没有类似此实验的例子？               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</a:rPr>
              <a:t>V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分角色朗读课文，看谁读得最好。提示：　　特别注意读好人物对话的不同语气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7" name="Picture 20" descr="小学语文(记叙文）04"/>
          <p:cNvPicPr/>
          <p:nvPr/>
        </p:nvPicPr>
        <p:blipFill>
          <a:blip r:embed="rId1"/>
          <a:stretch/>
        </p:blipFill>
        <p:spPr>
          <a:xfrm>
            <a:off x="663480" y="993600"/>
            <a:ext cx="207972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3124080" y="2133720"/>
            <a:ext cx="4648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　请你写几句话来赞美一下课文中的这位小女孩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9" name="Picture 6" descr="小学语文(记叙文）06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r05"/>
          <p:cNvPicPr/>
          <p:nvPr/>
        </p:nvPicPr>
        <p:blipFill>
          <a:blip r:embed="rId2"/>
          <a:stretch/>
        </p:blipFill>
        <p:spPr>
          <a:xfrm>
            <a:off x="1600200" y="2670120"/>
            <a:ext cx="2050920" cy="34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字谜：两个人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绳 茶 获 瓶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顺 堵 激 育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按结构分类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0" y="1700280"/>
            <a:ext cx="9650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用自己喜欢的方式读课文。同桌一起学习生字、新词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0" y="3500280"/>
            <a:ext cx="640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说说这次实验的过程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0" y="2565360"/>
            <a:ext cx="6000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说一说课文讲了一件什么事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18900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宋体"/>
              </a:rPr>
              <a:t>一、比一比</a:t>
            </a:r>
            <a:r>
              <a:rPr b="1" lang="en-US" sz="4800" spc="-1" strike="noStrike">
                <a:solidFill>
                  <a:srgbClr val="800080"/>
                </a:solidFill>
                <a:latin typeface="Times New Roman"/>
                <a:ea typeface="宋体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  <a:ea typeface="宋体"/>
              </a:rPr>
              <a:t>再组词。</a:t>
            </a:r>
            <a:br>
              <a:rPr sz="2400"/>
            </a:b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锤（    ）   验（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垂（    ）   捡（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利（    ） 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丽（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763640" y="1700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铁锤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763640" y="2852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垂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796000" y="17002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796000" y="285264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捡起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5280" y="3933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顺利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908000" y="4941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美丽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533520" y="457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Times New Roman"/>
                <a:ea typeface="宋体"/>
              </a:rPr>
              <a:t>二、多音字组词。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1676520"/>
            <a:ext cx="8507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系（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j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ì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） （    ）（ 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x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ì</a:t>
            </a:r>
            <a:r>
              <a:rPr b="1" lang="en-US" sz="3600" spc="-1" strike="noStrike">
                <a:solidFill>
                  <a:srgbClr val="800080"/>
                </a:solidFill>
                <a:latin typeface="楷体_GB2312"/>
              </a:rPr>
              <a:t>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） （    ）（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假（</a:t>
            </a: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jiǎ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）（    ）（    ）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  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（</a:t>
            </a:r>
            <a:r>
              <a:rPr b="1" lang="en-US" sz="4000" spc="-1" strike="noStrike">
                <a:solidFill>
                  <a:srgbClr val="800080"/>
                </a:solidFill>
                <a:latin typeface="楷体_GB2312"/>
              </a:rPr>
              <a:t>ji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à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</a:rPr>
              <a:t>）（    ）（    ）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733920" y="16765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系着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72200" y="16765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系鞋带  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733920" y="2743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关系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2200" y="2743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联系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657600" y="3886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借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6172200" y="38862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真假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581280" y="4952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假日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095880" y="4952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休假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9FE-6A50-4F83-B772-8E4D5FD8992D}" type="slidenum">
              <a:rPr b="0" lang="zh-CN" sz="1400" spc="-1" strike="noStrike">
                <a:solidFill>
                  <a:srgbClr val="80008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457200" y="1371600"/>
            <a:ext cx="868680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宋体"/>
              </a:rPr>
              <a:t>近义词：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顺利 </a:t>
            </a:r>
            <a:r>
              <a:rPr b="1" lang="en-US" sz="4400" spc="-1" strike="noStrike">
                <a:solidFill>
                  <a:srgbClr val="800080"/>
                </a:solidFill>
                <a:latin typeface="楷体_GB2312"/>
              </a:rPr>
              <a:t>-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（    ） 思索 </a:t>
            </a:r>
            <a:r>
              <a:rPr b="1" lang="en-US" sz="4400" spc="-1" strike="noStrike">
                <a:solidFill>
                  <a:srgbClr val="800080"/>
                </a:solidFill>
                <a:latin typeface="楷体_GB2312"/>
              </a:rPr>
              <a:t>-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（    ）    </a:t>
            </a:r>
            <a:endParaRPr b="0" lang="en-US" sz="4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获得 </a:t>
            </a:r>
            <a:r>
              <a:rPr b="1" lang="en-US" sz="4400" spc="-1" strike="noStrike">
                <a:solidFill>
                  <a:srgbClr val="800080"/>
                </a:solidFill>
                <a:latin typeface="楷体_GB2312"/>
              </a:rPr>
              <a:t>-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（    ）</a:t>
            </a:r>
            <a:br>
              <a:rPr sz="3600"/>
            </a:b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宋体"/>
              </a:rPr>
              <a:t>　　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宋体"/>
              </a:rPr>
              <a:t>反义词：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危险 </a:t>
            </a:r>
            <a:r>
              <a:rPr b="1" lang="en-US" sz="4400" spc="-1" strike="noStrike">
                <a:solidFill>
                  <a:srgbClr val="800080"/>
                </a:solidFill>
                <a:latin typeface="楷体_GB2312"/>
              </a:rPr>
              <a:t>-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（    ） 顺利 </a:t>
            </a:r>
            <a:r>
              <a:rPr b="1" lang="en-US" sz="4400" spc="-1" strike="noStrike">
                <a:solidFill>
                  <a:srgbClr val="800080"/>
                </a:solidFill>
                <a:latin typeface="楷体_GB2312"/>
              </a:rPr>
              <a:t>-</a:t>
            </a:r>
            <a:r>
              <a:rPr b="1" lang="zh-CN" sz="4400" spc="-1" strike="noStrike">
                <a:solidFill>
                  <a:srgbClr val="800080"/>
                </a:solidFill>
                <a:latin typeface="楷体_GB2312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</a:rPr>
              <a:t>    ）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45720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写出近义词、反义词。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610480" y="5943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2209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顺畅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858000" y="2209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思考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590920" y="32004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得到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9092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安全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858000" y="5562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困难</a:t>
            </a:r>
            <a:endParaRPr b="0" lang="en-US" sz="4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6"/>
          <p:cNvSpPr/>
          <p:nvPr/>
        </p:nvSpPr>
        <p:spPr>
          <a:xfrm>
            <a:off x="539640" y="2133720"/>
            <a:ext cx="8172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教育家  绳子  代表     茶杯   危险   顺利   如实  不假思索  激动   </a:t>
            </a:r>
            <a:r>
              <a:rPr b="1" lang="zh-CN" sz="3600" spc="-1" strike="noStrike" u="sng">
                <a:solidFill>
                  <a:srgbClr val="800080"/>
                </a:solidFill>
                <a:uFillTx/>
                <a:latin typeface="楷体_GB2312"/>
              </a:rPr>
              <a:t>获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得  系着   瓶子   他俩     铅</a:t>
            </a:r>
            <a:r>
              <a:rPr b="1" lang="zh-CN" sz="3600" spc="-1" strike="noStrike" u="sng">
                <a:solidFill>
                  <a:srgbClr val="800080"/>
                </a:solidFill>
                <a:uFillTx/>
                <a:latin typeface="楷体_GB2312"/>
              </a:rPr>
              <a:t>锤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   </a:t>
            </a:r>
            <a:r>
              <a:rPr b="1" lang="zh-CN" sz="3600" spc="-1" strike="noStrike" u="sng">
                <a:solidFill>
                  <a:srgbClr val="800080"/>
                </a:solidFill>
                <a:uFillTx/>
                <a:latin typeface="楷体_GB2312"/>
              </a:rPr>
              <a:t>堵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在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Text Box 35"/>
          <p:cNvSpPr/>
          <p:nvPr/>
        </p:nvSpPr>
        <p:spPr>
          <a:xfrm>
            <a:off x="5040360" y="836640"/>
            <a:ext cx="41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危  险</a:t>
            </a:r>
            <a:endParaRPr b="0" lang="en-US" sz="8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2133720"/>
            <a:ext cx="817272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教育家  绳子  代表     茶杯   危险   顺利   如实  不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假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思索  激动   获得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系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</a:rPr>
              <a:t>着   瓶子   他俩     铅锤   堵在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80880" y="3808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Times New Roman"/>
                <a:ea typeface="宋体"/>
              </a:rPr>
              <a:t>读读多音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1052640"/>
            <a:ext cx="86104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95280" y="2286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系着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4572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假思索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523880" y="1676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黑体"/>
                <a:ea typeface="黑体"/>
              </a:rPr>
              <a:t>j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ì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057400" y="39625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jiǎ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733920" y="2286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关系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486400" y="457200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放假</a:t>
            </a:r>
            <a:endParaRPr b="0" lang="en-US" sz="6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724280" y="1676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黑体"/>
                <a:ea typeface="黑体"/>
              </a:rPr>
              <a:t>x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  <a:ea typeface="黑体"/>
              </a:rPr>
              <a:t>ì</a:t>
            </a:r>
            <a:endParaRPr b="0" lang="en-US" sz="4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400800" y="4038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黑体"/>
                <a:ea typeface="黑体"/>
              </a:rPr>
              <a:t>ji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  <a:ea typeface="黑体"/>
              </a:rPr>
              <a:t>à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580000" y="981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0080"/>
                </a:solidFill>
                <a:latin typeface="Times New Roman"/>
              </a:rPr>
              <a:t>索  系</a:t>
            </a:r>
            <a:endParaRPr b="0" lang="en-US" sz="9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9907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005360"/>
            <a:ext cx="640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说说这次实验的过程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042920" y="1773360"/>
            <a:ext cx="60008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800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　说一说课文讲了一件什么事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同桌分角色朗读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分角色朗读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齐读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80008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80008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0" lang="zh-CN" sz="6000" spc="-1" strike="noStrike">
                <a:solidFill>
                  <a:srgbClr val="800080"/>
                </a:solidFill>
                <a:latin typeface="Times New Roman"/>
              </a:rPr>
              <a:t>这是一次成功的实验，那教育家为这次实验的顺利进行做了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哪些准备</a:t>
            </a:r>
            <a:r>
              <a:rPr b="0" lang="zh-CN" sz="6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方正稚艺简体"/>
              </a:rPr>
              <a:t>实验要求是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　  这位教育家从手提包里拿出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个瓶子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，又取出三个系着绳子的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铅锤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。他把瓶子放在地上，把三个小铅锤分给三个学生，让他们拿着绳子头，</a:t>
            </a:r>
            <a:r>
              <a:rPr b="1" lang="zh-CN" sz="4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先后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把铅锤放到瓶子里。 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59280" y="5013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？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050920" y="5734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瓶口很窄，和小铅锤的大小差不多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7:3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5Z</dcterms:modified>
  <cp:revision>1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