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0C-C73B-4BD5-81DF-3E48F306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499-C756-462C-9027-29AB09B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9EC-E016-437F-90FD-C531FD5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DA9-29A8-4261-8DE5-64CF99C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BD5D-7D5F-467F-9BF0-ECD48194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636F-BF5C-44E7-800D-BEE8ACD1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B3F9-27D2-41AF-892A-340F3BD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3E4C-2F43-4337-8742-2866E453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1E54-F01F-49D3-B65E-CD2D8D7D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E191-D4E9-42FB-9C81-A2DC1BA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E7B-8790-46BF-A2DA-00B9C48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C1A-37ED-461E-8BE3-191C508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F523-5C94-43CA-9D2A-D9808599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E38-BDAA-4C61-BE17-4391F87B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CE3-114B-4988-84DB-5293606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58B-B6FF-4E37-AA8C-915AD3EF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322-70AD-4DF2-BEAB-F056EACD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EF9D1-CB92-4837-9845-E26C7D37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FA2B2-9D36-4EBF-836C-D2E293D1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FFF97-0144-40B3-A863-1305657D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252A-3E43-426C-902D-D49BDA71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C8426-05DD-4BE4-8B3A-A87696E2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735-FB4B-4E90-A8CD-4556C28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2DFDE-7EE9-4AB5-8E21-B1FF907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8B287-F3A0-40BA-A5EA-31AA791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7A769-85D9-440F-8857-8F33F72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5B74E-61B7-4EBC-B10C-F221A27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36497-5EFD-46A8-B986-5917A9F2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E332C-DD42-47F3-85E4-91C2D482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128B3-BE53-4ED5-9950-059CBBCE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908-77F3-41D2-81AA-0EAB0B3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E7B-586E-4745-854D-53D1AD6B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5AB-FB2F-4567-A0B0-8F4108E8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A16-ACB2-4E12-8FD5-08AC1E8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39C-48B3-49A1-B9F2-DE50D83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A9A-0A5D-4793-8DEC-608E378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A49E-91B2-470A-A5C8-6317F1F0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C7F-FADE-4ACE-B14A-77467F87F2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02DC-C32D-4C4A-AAA7-25F42B8D48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CC6-7DB1-40E4-A306-4537C8965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1158321.htm" TargetMode="External"/><Relationship Id="rId2" Type="http://schemas.openxmlformats.org/officeDocument/2006/relationships/hyperlink" Target="http://baike.baidu.com/view/17298.htm" TargetMode="External"/><Relationship Id="rId3" Type="http://schemas.openxmlformats.org/officeDocument/2006/relationships/hyperlink" Target="http://baike.baidu.com/view/20422.htm" TargetMode="External"/><Relationship Id="rId4" Type="http://schemas.openxmlformats.org/officeDocument/2006/relationships/hyperlink" Target="http://baike.baidu.com/view/28216.htm" TargetMode="External"/><Relationship Id="rId5" Type="http://schemas.openxmlformats.org/officeDocument/2006/relationships/hyperlink" Target="http://baike.baidu.com/view/307682.htm" TargetMode="External"/><Relationship Id="rId6" Type="http://schemas.openxmlformats.org/officeDocument/2006/relationships/hyperlink" Target="http://baike.baidu.com/view/1218927.htm" TargetMode="External"/><Relationship Id="rId7" Type="http://schemas.openxmlformats.org/officeDocument/2006/relationships/hyperlink" Target="http://baike.baidu.com/view/127691.htm" TargetMode="External"/><Relationship Id="rId8" Type="http://schemas.openxmlformats.org/officeDocument/2006/relationships/hyperlink" Target="http://baike.baidu.com/view/634141.htm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《清明上河图》原作局部欣赏1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《清明上河图》原作局部欣赏2"/>
          <p:cNvPicPr/>
          <p:nvPr/>
        </p:nvPicPr>
        <p:blipFill>
          <a:blip r:embed="rId2"/>
          <a:stretch/>
        </p:blipFill>
        <p:spPr>
          <a:xfrm>
            <a:off x="0" y="2347920"/>
            <a:ext cx="9144000" cy="208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《清明上河图》原作局部欣赏3"/>
          <p:cNvPicPr/>
          <p:nvPr/>
        </p:nvPicPr>
        <p:blipFill>
          <a:blip r:embed="rId3"/>
          <a:stretch/>
        </p:blipFill>
        <p:spPr>
          <a:xfrm>
            <a:off x="0" y="4940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98360" y="2767320"/>
            <a:ext cx="8747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幅名扬中外的画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件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dur="indefinite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画名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作者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年代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大小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959120" y="1916280"/>
            <a:ext cx="26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清明上河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392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550240" y="2637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张择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176560" y="2492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张择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2124000" y="292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北宋时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203920" y="364500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长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52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，高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24.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文本框 8200"/>
          <p:cNvSpPr/>
          <p:nvPr/>
        </p:nvSpPr>
        <p:spPr>
          <a:xfrm>
            <a:off x="2195640" y="105264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3"/>
          <p:cNvPicPr/>
          <p:nvPr/>
        </p:nvPicPr>
        <p:blipFill>
          <a:blip r:embed="rId1"/>
          <a:stretch/>
        </p:blipFill>
        <p:spPr>
          <a:xfrm>
            <a:off x="-7381800" y="907920"/>
            <a:ext cx="1994544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图片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684360" y="119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光是画上的人物，就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百多个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从乡下来的农民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撑船的船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做各种买卖的生意人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留着长胡子的道士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走江湖的医生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摆小摊的摊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官吏和读书人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三百六十行，哪一行的人都画在上面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8172360" y="5805360"/>
            <a:ext cx="216000" cy="21600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u2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/>
          <p:cNvSpPr/>
          <p:nvPr/>
        </p:nvSpPr>
        <p:spPr>
          <a:xfrm>
            <a:off x="8101080" y="5877000"/>
            <a:ext cx="503280" cy="288720"/>
          </a:xfrm>
          <a:custGeom>
            <a:avLst/>
            <a:gdLst>
              <a:gd name="textAreaLeft" fmla="*/ 207360 w 503280"/>
              <a:gd name="textAreaRight" fmla="*/ 295920 w 5032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042920" y="24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981000"/>
            <a:ext cx="698508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画面的街市可热闹了。街上有挂着各种招牌的店铺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ō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坊、酒楼、茶馆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·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····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Arial"/>
              </a:rPr>
              <a:t>走在街上的，是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Arial"/>
              </a:rPr>
              <a:t>来来往往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形态各异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的人：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骑着马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挑着担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赶着毛驴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推着独轮  车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悠闲地在街上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ū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达。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面上的这些人，有的不到一寸，有的甚至只有黄豆那么大。别看画上的人 小，每个人在干什么，都能看得清清楚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028000" y="6165720"/>
            <a:ext cx="216000" cy="14292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908000" y="12682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763640" y="1484280"/>
            <a:ext cx="3672000" cy="360"/>
            <a:chOff x="1763640" y="1484280"/>
            <a:chExt cx="3672000" cy="360"/>
          </a:xfrm>
        </p:grpSpPr>
        <p:sp>
          <p:nvSpPr>
            <p:cNvPr id="183" name="Line 8"/>
            <p:cNvSpPr/>
            <p:nvPr/>
          </p:nvSpPr>
          <p:spPr>
            <a:xfrm>
              <a:off x="1763640" y="1484280"/>
              <a:ext cx="3672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763640" y="1484280"/>
              <a:ext cx="36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Freeform 15"/>
          <p:cNvSpPr/>
          <p:nvPr/>
        </p:nvSpPr>
        <p:spPr>
          <a:xfrm>
            <a:off x="1116000" y="-819000"/>
            <a:ext cx="7728120" cy="5856120"/>
          </a:xfrm>
          <a:custGeom>
            <a:avLst/>
            <a:gdLst/>
            <a:ahLst/>
            <a:rect l="l" t="t" r="r" b="b"/>
            <a:pathLst>
              <a:path w="4868" h="3689">
                <a:moveTo>
                  <a:pt x="0" y="3311"/>
                </a:moveTo>
                <a:cubicBezTo>
                  <a:pt x="1739" y="3285"/>
                  <a:pt x="3478" y="3259"/>
                  <a:pt x="4173" y="3266"/>
                </a:cubicBezTo>
                <a:cubicBezTo>
                  <a:pt x="4868" y="3273"/>
                  <a:pt x="4649" y="3689"/>
                  <a:pt x="4173" y="3356"/>
                </a:cubicBezTo>
                <a:cubicBezTo>
                  <a:pt x="3697" y="3023"/>
                  <a:pt x="1784" y="1610"/>
                  <a:pt x="1315" y="1270"/>
                </a:cubicBezTo>
                <a:cubicBezTo>
                  <a:pt x="846" y="930"/>
                  <a:pt x="1429" y="1496"/>
                  <a:pt x="1361" y="1315"/>
                </a:cubicBezTo>
                <a:cubicBezTo>
                  <a:pt x="1293" y="1134"/>
                  <a:pt x="990" y="362"/>
                  <a:pt x="907" y="181"/>
                </a:cubicBezTo>
                <a:cubicBezTo>
                  <a:pt x="824" y="0"/>
                  <a:pt x="786" y="46"/>
                  <a:pt x="862" y="227"/>
                </a:cubicBezTo>
                <a:cubicBezTo>
                  <a:pt x="938" y="408"/>
                  <a:pt x="1149" y="839"/>
                  <a:pt x="1361" y="12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reeform 17"/>
          <p:cNvSpPr/>
          <p:nvPr/>
        </p:nvSpPr>
        <p:spPr>
          <a:xfrm>
            <a:off x="1116000" y="4437000"/>
            <a:ext cx="6551640" cy="1800"/>
          </a:xfrm>
          <a:custGeom>
            <a:avLst/>
            <a:gdLst/>
            <a:ahLst/>
            <a:rect l="l" t="t" r="r" b="b"/>
            <a:pathLst>
              <a:path w="4127" h="1">
                <a:moveTo>
                  <a:pt x="0" y="0"/>
                </a:moveTo>
                <a:cubicBezTo>
                  <a:pt x="1719" y="0"/>
                  <a:pt x="3439" y="0"/>
                  <a:pt x="41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258920" y="3246480"/>
            <a:ext cx="35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6805440" y="3443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1908000" y="544500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1998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42920" y="24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42920" y="16905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画面上的这些人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有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到一寸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，有的甚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有黄豆那么大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。别看画上的人小，每个人在干什么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都能看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清楚楚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8028000" y="6165720"/>
            <a:ext cx="216000" cy="14292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9608ef8ba0364b1fc8fc7a2a"/>
          <p:cNvPicPr/>
          <p:nvPr/>
        </p:nvPicPr>
        <p:blipFill>
          <a:blip r:embed="rId1"/>
          <a:srcRect l="221" t="0" r="0" b="0"/>
          <a:stretch/>
        </p:blipFill>
        <p:spPr>
          <a:xfrm>
            <a:off x="-4573440" y="0"/>
            <a:ext cx="152445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385920"/>
            <a:ext cx="74880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最有意思的是桥北头的情景：一个人骑着马，正往桥下走。 因为人太多，眼看就要碰上对面来的一乘轿子。就在这个紧急时刻，那个骑马人一下子拽住了马笼头，这才没碰上那乘轿子。不过，这么一来，倒把马右边的两头小毛驴吓得又踢又跳。  站在桥栏杆边欣赏风景的人，被小毛驴惊扰了，连忙回过头来赶小毛驴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看，张择端画的画，是多么传神啊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！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84360" y="1341360"/>
            <a:ext cx="144720" cy="505080"/>
            <a:chOff x="2484360" y="1341360"/>
            <a:chExt cx="144720" cy="505080"/>
          </a:xfrm>
        </p:grpSpPr>
        <p:sp>
          <p:nvSpPr>
            <p:cNvPr id="201" name="Line 5"/>
            <p:cNvSpPr/>
            <p:nvPr/>
          </p:nvSpPr>
          <p:spPr>
            <a:xfrm flipH="1">
              <a:off x="2484360" y="134136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484360" y="134136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66920" y="692280"/>
            <a:ext cx="144720" cy="504720"/>
            <a:chOff x="4066920" y="692280"/>
            <a:chExt cx="144720" cy="504720"/>
          </a:xfrm>
        </p:grpSpPr>
        <p:sp>
          <p:nvSpPr>
            <p:cNvPr id="204" name="Line 6"/>
            <p:cNvSpPr/>
            <p:nvPr/>
          </p:nvSpPr>
          <p:spPr>
            <a:xfrm flipH="1">
              <a:off x="406692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406728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35280" y="692280"/>
            <a:ext cx="144720" cy="504720"/>
            <a:chOff x="5435280" y="692280"/>
            <a:chExt cx="144720" cy="504720"/>
          </a:xfrm>
        </p:grpSpPr>
        <p:sp>
          <p:nvSpPr>
            <p:cNvPr id="207" name="Line 7"/>
            <p:cNvSpPr/>
            <p:nvPr/>
          </p:nvSpPr>
          <p:spPr>
            <a:xfrm flipH="1">
              <a:off x="543528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543564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596000" y="692280"/>
            <a:ext cx="144720" cy="504720"/>
            <a:chOff x="7596000" y="692280"/>
            <a:chExt cx="144720" cy="504720"/>
          </a:xfrm>
        </p:grpSpPr>
        <p:sp>
          <p:nvSpPr>
            <p:cNvPr id="210" name="Line 8"/>
            <p:cNvSpPr/>
            <p:nvPr/>
          </p:nvSpPr>
          <p:spPr>
            <a:xfrm flipH="1">
              <a:off x="759600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59636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858920" y="1341360"/>
            <a:ext cx="144720" cy="505080"/>
            <a:chOff x="4858920" y="1341360"/>
            <a:chExt cx="144720" cy="505080"/>
          </a:xfrm>
        </p:grpSpPr>
        <p:sp>
          <p:nvSpPr>
            <p:cNvPr id="213" name="Line 9"/>
            <p:cNvSpPr/>
            <p:nvPr/>
          </p:nvSpPr>
          <p:spPr>
            <a:xfrm flipH="1">
              <a:off x="4858920" y="134136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859280" y="134136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948360" y="1341360"/>
            <a:ext cx="144720" cy="505080"/>
            <a:chOff x="6948360" y="1341360"/>
            <a:chExt cx="144720" cy="505080"/>
          </a:xfrm>
        </p:grpSpPr>
        <p:sp>
          <p:nvSpPr>
            <p:cNvPr id="216" name="Line 10"/>
            <p:cNvSpPr/>
            <p:nvPr/>
          </p:nvSpPr>
          <p:spPr>
            <a:xfrm flipH="1">
              <a:off x="6948360" y="134136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6948360" y="134136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42560" y="1989000"/>
            <a:ext cx="144720" cy="505080"/>
            <a:chOff x="1042560" y="1989000"/>
            <a:chExt cx="144720" cy="505080"/>
          </a:xfrm>
        </p:grpSpPr>
        <p:sp>
          <p:nvSpPr>
            <p:cNvPr id="219" name="Line 11"/>
            <p:cNvSpPr/>
            <p:nvPr/>
          </p:nvSpPr>
          <p:spPr>
            <a:xfrm flipH="1">
              <a:off x="1042560" y="198900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1042920" y="198900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484360" y="1989000"/>
            <a:ext cx="144720" cy="505080"/>
            <a:chOff x="2484360" y="1989000"/>
            <a:chExt cx="144720" cy="505080"/>
          </a:xfrm>
        </p:grpSpPr>
        <p:sp>
          <p:nvSpPr>
            <p:cNvPr id="222" name="Line 12"/>
            <p:cNvSpPr/>
            <p:nvPr/>
          </p:nvSpPr>
          <p:spPr>
            <a:xfrm flipH="1">
              <a:off x="2484360" y="198900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484360" y="198900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651280" y="1989000"/>
            <a:ext cx="144720" cy="505080"/>
            <a:chOff x="5651280" y="1989000"/>
            <a:chExt cx="144720" cy="505080"/>
          </a:xfrm>
        </p:grpSpPr>
        <p:sp>
          <p:nvSpPr>
            <p:cNvPr id="225" name="Line 13"/>
            <p:cNvSpPr/>
            <p:nvPr/>
          </p:nvSpPr>
          <p:spPr>
            <a:xfrm flipH="1">
              <a:off x="5651280" y="198900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51640" y="198900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280" y="2565360"/>
            <a:ext cx="144720" cy="504720"/>
            <a:chOff x="2195280" y="2565360"/>
            <a:chExt cx="144720" cy="504720"/>
          </a:xfrm>
        </p:grpSpPr>
        <p:sp>
          <p:nvSpPr>
            <p:cNvPr id="228" name="Line 14"/>
            <p:cNvSpPr/>
            <p:nvPr/>
          </p:nvSpPr>
          <p:spPr>
            <a:xfrm flipH="1">
              <a:off x="2195280" y="256536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195640" y="256536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03280" y="2637000"/>
            <a:ext cx="144720" cy="504720"/>
            <a:chOff x="3203280" y="2637000"/>
            <a:chExt cx="144720" cy="504720"/>
          </a:xfrm>
        </p:grpSpPr>
        <p:sp>
          <p:nvSpPr>
            <p:cNvPr id="231" name="Line 15"/>
            <p:cNvSpPr/>
            <p:nvPr/>
          </p:nvSpPr>
          <p:spPr>
            <a:xfrm flipH="1">
              <a:off x="3203280" y="263700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203640" y="263700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11280" y="2637000"/>
            <a:ext cx="144720" cy="504720"/>
            <a:chOff x="4211280" y="2637000"/>
            <a:chExt cx="144720" cy="504720"/>
          </a:xfrm>
        </p:grpSpPr>
        <p:sp>
          <p:nvSpPr>
            <p:cNvPr id="234" name="Line 16"/>
            <p:cNvSpPr/>
            <p:nvPr/>
          </p:nvSpPr>
          <p:spPr>
            <a:xfrm flipH="1">
              <a:off x="4211280" y="263700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4211640" y="263700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51640" y="2565360"/>
            <a:ext cx="144720" cy="504720"/>
            <a:chOff x="7451640" y="2565360"/>
            <a:chExt cx="144720" cy="504720"/>
          </a:xfrm>
        </p:grpSpPr>
        <p:sp>
          <p:nvSpPr>
            <p:cNvPr id="237" name="Line 17"/>
            <p:cNvSpPr/>
            <p:nvPr/>
          </p:nvSpPr>
          <p:spPr>
            <a:xfrm flipH="1">
              <a:off x="7451640" y="256536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451640" y="256536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724360" y="3213000"/>
            <a:ext cx="144720" cy="505080"/>
            <a:chOff x="5724360" y="3213000"/>
            <a:chExt cx="144720" cy="505080"/>
          </a:xfrm>
        </p:grpSpPr>
        <p:sp>
          <p:nvSpPr>
            <p:cNvPr id="240" name="Line 18"/>
            <p:cNvSpPr/>
            <p:nvPr/>
          </p:nvSpPr>
          <p:spPr>
            <a:xfrm flipH="1">
              <a:off x="5724360" y="321300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724360" y="321300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92720" y="3284640"/>
            <a:ext cx="144720" cy="504720"/>
            <a:chOff x="7092720" y="3284640"/>
            <a:chExt cx="144720" cy="504720"/>
          </a:xfrm>
        </p:grpSpPr>
        <p:sp>
          <p:nvSpPr>
            <p:cNvPr id="243" name="Line 19"/>
            <p:cNvSpPr/>
            <p:nvPr/>
          </p:nvSpPr>
          <p:spPr>
            <a:xfrm flipH="1">
              <a:off x="7092720" y="3284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093080" y="3284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763280" y="3860640"/>
            <a:ext cx="144720" cy="505080"/>
            <a:chOff x="1763280" y="3860640"/>
            <a:chExt cx="144720" cy="505080"/>
          </a:xfrm>
        </p:grpSpPr>
        <p:sp>
          <p:nvSpPr>
            <p:cNvPr id="246" name="Line 20"/>
            <p:cNvSpPr/>
            <p:nvPr/>
          </p:nvSpPr>
          <p:spPr>
            <a:xfrm flipH="1">
              <a:off x="1763280" y="386064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763640" y="386064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84360" y="3860640"/>
            <a:ext cx="144720" cy="505080"/>
            <a:chOff x="2484360" y="3860640"/>
            <a:chExt cx="144720" cy="505080"/>
          </a:xfrm>
        </p:grpSpPr>
        <p:sp>
          <p:nvSpPr>
            <p:cNvPr id="249" name="Line 21"/>
            <p:cNvSpPr/>
            <p:nvPr/>
          </p:nvSpPr>
          <p:spPr>
            <a:xfrm flipH="1">
              <a:off x="2484360" y="386064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484360" y="386064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364000" y="3860640"/>
            <a:ext cx="144720" cy="505080"/>
            <a:chOff x="5364000" y="3860640"/>
            <a:chExt cx="144720" cy="505080"/>
          </a:xfrm>
        </p:grpSpPr>
        <p:sp>
          <p:nvSpPr>
            <p:cNvPr id="252" name="Line 22"/>
            <p:cNvSpPr/>
            <p:nvPr/>
          </p:nvSpPr>
          <p:spPr>
            <a:xfrm flipH="1">
              <a:off x="5364000" y="386064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364000" y="386064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803640" y="3860640"/>
            <a:ext cx="144720" cy="505080"/>
            <a:chOff x="6803640" y="3860640"/>
            <a:chExt cx="144720" cy="505080"/>
          </a:xfrm>
        </p:grpSpPr>
        <p:sp>
          <p:nvSpPr>
            <p:cNvPr id="255" name="Line 23"/>
            <p:cNvSpPr/>
            <p:nvPr/>
          </p:nvSpPr>
          <p:spPr>
            <a:xfrm flipH="1">
              <a:off x="6803640" y="386064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804000" y="386064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476000" y="4508640"/>
            <a:ext cx="144720" cy="504720"/>
            <a:chOff x="1476000" y="4508640"/>
            <a:chExt cx="144720" cy="504720"/>
          </a:xfrm>
        </p:grpSpPr>
        <p:sp>
          <p:nvSpPr>
            <p:cNvPr id="258" name="Line 24"/>
            <p:cNvSpPr/>
            <p:nvPr/>
          </p:nvSpPr>
          <p:spPr>
            <a:xfrm flipH="1">
              <a:off x="147600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47636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63640" y="4508640"/>
            <a:ext cx="144720" cy="504720"/>
            <a:chOff x="3563640" y="4508640"/>
            <a:chExt cx="144720" cy="504720"/>
          </a:xfrm>
        </p:grpSpPr>
        <p:sp>
          <p:nvSpPr>
            <p:cNvPr id="261" name="Line 25"/>
            <p:cNvSpPr/>
            <p:nvPr/>
          </p:nvSpPr>
          <p:spPr>
            <a:xfrm flipH="1">
              <a:off x="356364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56400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724360" y="4508640"/>
            <a:ext cx="144720" cy="504720"/>
            <a:chOff x="5724360" y="4508640"/>
            <a:chExt cx="144720" cy="504720"/>
          </a:xfrm>
        </p:grpSpPr>
        <p:sp>
          <p:nvSpPr>
            <p:cNvPr id="264" name="Line 26"/>
            <p:cNvSpPr/>
            <p:nvPr/>
          </p:nvSpPr>
          <p:spPr>
            <a:xfrm flipH="1">
              <a:off x="5724360" y="450864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724360" y="450864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092720" y="4508640"/>
            <a:ext cx="144720" cy="504720"/>
            <a:chOff x="7092720" y="4508640"/>
            <a:chExt cx="144720" cy="504720"/>
          </a:xfrm>
        </p:grpSpPr>
        <p:sp>
          <p:nvSpPr>
            <p:cNvPr id="267" name="Line 27"/>
            <p:cNvSpPr/>
            <p:nvPr/>
          </p:nvSpPr>
          <p:spPr>
            <a:xfrm flipH="1">
              <a:off x="709272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09308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84360" y="5157720"/>
            <a:ext cx="144720" cy="504720"/>
            <a:chOff x="4284360" y="5157720"/>
            <a:chExt cx="144720" cy="504720"/>
          </a:xfrm>
        </p:grpSpPr>
        <p:sp>
          <p:nvSpPr>
            <p:cNvPr id="270" name="Line 28"/>
            <p:cNvSpPr/>
            <p:nvPr/>
          </p:nvSpPr>
          <p:spPr>
            <a:xfrm flipH="1">
              <a:off x="4284360" y="515772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284720" y="515772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084720" y="5157720"/>
            <a:ext cx="144720" cy="504720"/>
            <a:chOff x="6084720" y="5157720"/>
            <a:chExt cx="144720" cy="504720"/>
          </a:xfrm>
        </p:grpSpPr>
        <p:sp>
          <p:nvSpPr>
            <p:cNvPr id="273" name="Line 29"/>
            <p:cNvSpPr/>
            <p:nvPr/>
          </p:nvSpPr>
          <p:spPr>
            <a:xfrm flipH="1">
              <a:off x="6084720" y="515772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084720" y="515772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KE)4E4`EN[(XYU5_UJY`OSF"/>
          <p:cNvPicPr/>
          <p:nvPr/>
        </p:nvPicPr>
        <p:blipFill>
          <a:blip r:embed="rId1"/>
          <a:stretch/>
        </p:blipFill>
        <p:spPr>
          <a:xfrm>
            <a:off x="0" y="0"/>
            <a:ext cx="9144000" cy="75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10009440" cy="16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张择端的画是多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传神</a:t>
            </a: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啊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844280"/>
            <a:ext cx="88930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宋体"/>
              </a:rPr>
              <a:t>       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我们看到了八百年以前的古都风貌，看到了当时普通老百姓的生活情景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916280"/>
            <a:ext cx="74898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汴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梁    保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存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撑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船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摊 贩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吏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毛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驴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悠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闲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拽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态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各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71640" y="1484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中国馆清明上河图特写 00_00_00-00_01_49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09134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Picture 5" descr="啊"/>
          <p:cNvPicPr/>
          <p:nvPr/>
        </p:nvPicPr>
        <p:blipFill>
          <a:blip r:embed="rId1"/>
          <a:stretch/>
        </p:blipFill>
        <p:spPr>
          <a:xfrm>
            <a:off x="0" y="0"/>
            <a:ext cx="9534600" cy="7232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267984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462040" y="749160"/>
            <a:ext cx="293400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历 经 风 雨 八 百 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繁 华 古 都 在 眼 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千 姿 百 态 众 生 相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尽 在 绵 绵 画 中 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扬 名 海 外 震 国 威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惊 世 绝 技 人 人 赞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 华 文 化 真 叫 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渔舟唱晚.mp3" descr=""/>
          <p:cNvPicPr/>
          <p:nvPr/>
        </p:nvPicPr>
        <p:blipFill>
          <a:blip r:embed="rId2"/>
          <a:stretch/>
        </p:blipFill>
        <p:spPr>
          <a:xfrm>
            <a:off x="9144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8551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51AD-526B-460C-842C-F4F892B70CD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414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258920" y="76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20*  </a:t>
            </a:r>
            <a:r>
              <a:rPr b="1" lang="zh-CN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一幅名扬中外的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2952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人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295280" y="3459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街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29528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情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132000" y="2565360"/>
            <a:ext cx="26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多  形态各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700360" y="3429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热闹   清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73392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传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5867280" y="274320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6248520" y="299736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都风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活情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060640"/>
            <a:ext cx="7489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    ch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g       t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汴 梁    保 存     撑 船    摊 贩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lǘ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  y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          zh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吏    毛 驴     悠 闲    拽 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            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态各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32000" y="1052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384200" y="2209680"/>
            <a:ext cx="68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9640" y="2133720"/>
            <a:ext cx="8280360" cy="46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ō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作坊）                     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ū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溜达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uò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作业）                  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一溜烟）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车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乘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è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机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h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è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g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一乘轿子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340000" y="2924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987640" y="5373720"/>
            <a:ext cx="554040" cy="625320"/>
          </a:xfrm>
          <a:prstGeom prst="bracketPair">
            <a:avLst>
              <a:gd name="adj" fmla="val 16666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2411280" y="2924280"/>
            <a:ext cx="914400" cy="914400"/>
          </a:xfrm>
          <a:prstGeom prst="bracketPair">
            <a:avLst>
              <a:gd name="adj" fmla="val 16666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70036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111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116000" y="45086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21"/>
          <p:cNvSpPr/>
          <p:nvPr/>
        </p:nvSpPr>
        <p:spPr>
          <a:xfrm>
            <a:off x="579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2340360" y="1019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正确读出下列多音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q1"/>
          <p:cNvPicPr/>
          <p:nvPr/>
        </p:nvPicPr>
        <p:blipFill>
          <a:blip r:embed="rId1"/>
          <a:stretch/>
        </p:blipFill>
        <p:spPr>
          <a:xfrm>
            <a:off x="0" y="0"/>
            <a:ext cx="31165920" cy="7101000"/>
          </a:xfrm>
          <a:prstGeom prst="rect">
            <a:avLst/>
          </a:prstGeom>
          <a:ln w="0">
            <a:noFill/>
          </a:ln>
        </p:spPr>
      </p:pic>
      <p:pic>
        <p:nvPicPr>
          <p:cNvPr id="152" name="望江南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望江南.mp3" descr=""/>
          <p:cNvPicPr/>
          <p:nvPr/>
        </p:nvPicPr>
        <p:blipFill>
          <a:blip r:embed="rId3"/>
          <a:stretch/>
        </p:blipFill>
        <p:spPr>
          <a:xfrm>
            <a:off x="7451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6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6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quan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9640" y="692280"/>
            <a:ext cx="81360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中国十大传世名画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之一的清明上河图为北宋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风俗画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作品，宽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4.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厘米，长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28.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厘米，绢本设色；该画卷是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北宋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画家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张择端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存世的仅见的一幅精品，属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国宝级文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现存于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北京故宫博物院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。作品以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长卷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形式，采用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散点透视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构图法，生动地记录了中国十二世纪城市生活的面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张择端像"/>
          <p:cNvPicPr/>
          <p:nvPr/>
        </p:nvPicPr>
        <p:blipFill>
          <a:blip r:embed="rId1"/>
          <a:stretch/>
        </p:blipFill>
        <p:spPr>
          <a:xfrm>
            <a:off x="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4267080" y="380880"/>
            <a:ext cx="4572000" cy="1595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作者张择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北宋画家，字正道，东武（今山东诸城）人。早年游学汴京（今河南开封），后习绘画。宋徽宗时供职翰林图画院。专工界画宫室，尤擅绘舟车、市肆、桥梁、街道、城郭。存世作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清明上河图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卷，描绘当年汴京近郊在清明时节社会各阶层的生活景象，真实生动，是一件具有重要历史价值的优秀风俗画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button104"/>
          <p:cNvPicPr/>
          <p:nvPr/>
        </p:nvPicPr>
        <p:blipFill>
          <a:blip r:embed="rId2"/>
          <a:stretch/>
        </p:blipFill>
        <p:spPr>
          <a:xfrm>
            <a:off x="868680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24000" y="1196640"/>
            <a:ext cx="8516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北宋时候，有位画家叫张择端。他画了一幅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名扬中外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的画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——《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清明上河图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。这幅画长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52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4.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画的是北宋都城汴梁热闹的场面。这幅画已经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八百多年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的历史了，现在还完整地保存在北京故宫博物院里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4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