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390-1CA5-4C8B-858B-69C339FA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85D-D4FD-4FC4-8A70-931303C6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A32-3D2E-43F3-9617-389AD2D2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B71-FF9C-4D46-BAFF-6DDE2731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9D1-3AD7-4F72-B667-D799130A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22B2-5FF7-443F-A550-514F5F40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33A6-B08E-480B-A9F8-FE458F43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8E53-ECF2-4428-9043-92E4208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5C7-7FA7-4954-B5A6-155BCCA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E6B2-FFF8-4C65-B778-B6AE86C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2450-D9F0-46B2-AA21-CC4A71D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830-F893-4DCE-A2F4-62A5280C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171-B40F-423D-8D85-0BDFB3F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8A0F-4AD3-4FE7-BA1E-5E896FB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E4F0-42D1-4193-A85F-1ED9ACE0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C1B1-73A4-4E3B-A236-A55E2796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C0D-9CD7-4FB7-9F2A-6B9A846D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A53-0A2F-46CD-8B76-B2D57DF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D5F-6B6B-484F-AE4F-FAF83260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5A9-7E59-4AC2-9F56-08C831C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5C9-3074-476A-BCE8-F076791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A4C-26EE-4C5C-8BC8-22FDE3DB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974-E5E7-482C-8B00-DA017BF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9F7-E809-48FE-8B58-7784398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6459-AD87-47D4-8C39-072D3EF79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102-61CB-4875-A8B5-5E6B66CF7B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D234-E311-4653-8F76-0847ADD7F9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6" descr=""/>
          <p:cNvPicPr/>
          <p:nvPr/>
        </p:nvPicPr>
        <p:blipFill>
          <a:blip r:embed="rId2"/>
          <a:stretch/>
        </p:blipFill>
        <p:spPr>
          <a:xfrm>
            <a:off x="395280" y="2131920"/>
            <a:ext cx="8647200" cy="744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小兴安岭图片4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0456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12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0128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《一个小村庄的故事》课文插图一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《一个小村庄的故事》课文插图二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绿色家园三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自然环境的破坏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3948-8389-4F92-BBF3-200BEB8D4B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utton106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7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小村庄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092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树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9"/>
          <p:cNvSpPr/>
          <p:nvPr/>
        </p:nvSpPr>
        <p:spPr>
          <a:xfrm>
            <a:off x="3124080" y="1523880"/>
            <a:ext cx="152640" cy="3810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9000 h 3810240"/>
              <a:gd name="textAreaBottom" fmla="*/ 371124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32004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房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2558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3352680" y="3701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3352680" y="4768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7620120" y="2847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都没有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19320" y="3429000"/>
            <a:ext cx="1828800" cy="360"/>
            <a:chOff x="1219320" y="3429000"/>
            <a:chExt cx="1828800" cy="360"/>
          </a:xfrm>
        </p:grpSpPr>
        <p:sp>
          <p:nvSpPr>
            <p:cNvPr id="138" name="Line 38"/>
            <p:cNvSpPr/>
            <p:nvPr/>
          </p:nvSpPr>
          <p:spPr>
            <a:xfrm>
              <a:off x="1219320" y="34290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219320" y="34290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39"/>
          <p:cNvSpPr/>
          <p:nvPr/>
        </p:nvSpPr>
        <p:spPr>
          <a:xfrm>
            <a:off x="1447920" y="2863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419720" y="3429000"/>
            <a:ext cx="2971800" cy="360"/>
            <a:chOff x="4419720" y="3429000"/>
            <a:chExt cx="2971800" cy="360"/>
          </a:xfrm>
        </p:grpSpPr>
        <p:sp>
          <p:nvSpPr>
            <p:cNvPr id="142" name="Line 40"/>
            <p:cNvSpPr/>
            <p:nvPr/>
          </p:nvSpPr>
          <p:spPr>
            <a:xfrm>
              <a:off x="4419720" y="34290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419720" y="342900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41"/>
          <p:cNvSpPr/>
          <p:nvPr/>
        </p:nvSpPr>
        <p:spPr>
          <a:xfrm>
            <a:off x="5181480" y="2863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减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4038480" y="33973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一年年、一代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3276720" y="11430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14400" y="28195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5638680" y="28195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914400" y="42670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图片资料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5562720" y="42670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板书设计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0" name="Picture 12" descr="button106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1" name="一个小村庄的故事.wav" descr=""/>
          <p:cNvPicPr/>
          <p:nvPr/>
        </p:nvPicPr>
        <p:blipFill>
          <a:blip r:embed="rId3"/>
          <a:stretch/>
        </p:blipFill>
        <p:spPr>
          <a:xfrm>
            <a:off x="4152960" y="2057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04920" y="762120"/>
            <a:ext cx="8534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斧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头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盖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房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造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断   减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栋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家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具    冒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柴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烟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黎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明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洪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何  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33520" y="835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量的树木随着屋顶冒出的柴烟消失在天空中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3473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量的树木被当作柴草烧掉了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685800" y="133992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雨没喘气儿。</a:t>
            </a:r>
            <a:r>
              <a:rPr b="1" lang="zh-CN" sz="6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33210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雨一直下个不停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85800" y="835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7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r>
              <a:rPr b="1" lang="zh-CN" sz="7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所有靠斧头得到的一切，包括那些锋利的斧头。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2771640" y="551808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button106"/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33520" y="3429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用斧头砍的树盖的房子、做成的各式各样的工具，应有尽有的家具，还有那些锋利的斧头，全都没有了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835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所有靠斧头得到的一切，包括那些锋利的斧头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白桦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林海——白桦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林海——丛林"/>
          <p:cNvPicPr/>
          <p:nvPr/>
        </p:nvPicPr>
        <p:blipFill>
          <a:blip r:embed="rId3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林海——红松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2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