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E2E-0662-4CCF-95AE-1BAD4AC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7B8-A2C5-47A4-AD5A-80452D9C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207-700F-4CE1-967B-BA193AF0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236-F897-4868-B82C-137AFDAC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806-F016-46E0-9527-11A0CFBD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E109-A50F-44C0-9F88-15EAF7AA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A123-79B8-4618-989B-1AF0FD72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C6A-A883-41B4-BF19-76C51B9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BA9-4CE4-44F0-BA48-E9085D2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E23-DC0E-477F-8E9E-10F19EA7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640-095E-4D75-935F-0035EC5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28A-ECB3-4D96-B4FC-FFD8FE85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4371-A9DC-428D-8152-DC01A59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054A-3371-44BA-873E-18FAAB3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E37-F2DD-4FBF-86FB-2DF0FC4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E30-4741-4055-BB0E-92435FFA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633-54A6-4E05-ABD7-4A49DAB7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71C-8F41-412E-B207-DF72029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A64-5161-4274-B84C-A1A1074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149-AF4C-4100-A5BA-B63BDEE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37E-3DFF-478F-B01E-D9CDBD5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3D6-A7F2-44F3-81AC-E2C81EF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8F8-60D8-4055-991B-7F5D00A1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253-7AA0-4CAD-9A20-FF1B968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581-3AA0-4546-9DD1-A1C50AAB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245-62D4-4FC0-8F74-5E4CB43A50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730-6CF4-4951-B2CD-D16D298FF2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282,11,&#24187;&#28783;&#29255; 11" TargetMode="External"/><Relationship Id="rId3" Type="http://schemas.openxmlformats.org/officeDocument/2006/relationships/hyperlink" Target="282,11,&#24187;&#28783;&#29255; 11" TargetMode="External"/><Relationship Id="rId4" Type="http://schemas.openxmlformats.org/officeDocument/2006/relationships/hyperlink" Target="278,12,&#24187;&#28783;&#29255; 12" TargetMode="External"/><Relationship Id="rId5" Type="http://schemas.openxmlformats.org/officeDocument/2006/relationships/hyperlink" Target="278,12,&#24187;&#28783;&#29255; 12" TargetMode="External"/><Relationship Id="rId6" Type="http://schemas.openxmlformats.org/officeDocument/2006/relationships/hyperlink" Target="280,13,&#24187;&#28783;&#29255; 13" TargetMode="External"/><Relationship Id="rId7" Type="http://schemas.openxmlformats.org/officeDocument/2006/relationships/hyperlink" Target="280,13,&#24187;&#28783;&#29255; 13" TargetMode="External"/><Relationship Id="rId8" Type="http://schemas.openxmlformats.org/officeDocument/2006/relationships/hyperlink" Target="281,16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&#27515;&#26159;&#20809;&#33635;&#30340;&#65292;&#20182;&#26159;&#20026;&#21644;&#24179;&#32780;&#20498;&#19979;&#30340;&#65292;&#20182;&#20498;&#22312;&#20102;&#32500;&#25252;&#19990;&#30028;&#21644;&#24179;&#30340;&#22307;&#22363;&#19978;&#12290;  " TargetMode="External"/><Relationship Id="rId9" Type="http://schemas.openxmlformats.org/officeDocument/2006/relationships/hyperlink" Target="281,16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&#27515;&#26159;&#20809;&#33635;&#30340;&#65292;&#20182;&#26159;&#20026;&#21644;&#24179;&#32780;&#20498;&#19979;&#30340;&#65292;&#20182;&#20498;&#22312;&#20102;&#32500;&#25252;&#19990;&#30028;&#21644;&#24179;&#30340;&#22307;&#22363;&#19978;&#12290;  " TargetMode="Externa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3443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 Box 5" descr=""/>
          <p:cNvPicPr/>
          <p:nvPr/>
        </p:nvPicPr>
        <p:blipFill>
          <a:blip r:embed="rId2"/>
          <a:stretch/>
        </p:blipFill>
        <p:spPr>
          <a:xfrm>
            <a:off x="177840" y="907920"/>
            <a:ext cx="895680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74968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04496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4204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716160" y="6329520"/>
            <a:ext cx="95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　　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年以前，我亲爱的爸爸作为联合国的一名军事观察员，在执行维护和平的行动中壮烈牺牲，您给予了他高度的评价，赞扬他是“一名卓越的观察员，在执行联合国维和行动中体现了人道与公正的素质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08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49080" y="631512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476280"/>
            <a:ext cx="937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年多来，我们全家沉浸在失去亲人的巨大悲痛中，我至今都忘不了，爸爸临上飞机前对我和妈妈那深情的目光。他说：“孩子，等爸爸回来，我一定送你一顶‘蓝盔’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341080" y="6026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平！和平！和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（           ）的遗体。鲜血（      ）了他的征衣，腕上的手表（     ）了（      ）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200"/>
          <p:cNvSpPr/>
          <p:nvPr/>
        </p:nvSpPr>
        <p:spPr>
          <a:xfrm>
            <a:off x="298764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覆盖着国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遗体。鲜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染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他的征衣，腕上的手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浸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凝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平！和平！和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的爸爸精通四国语言，是一位出色的经济学硕士，本来他应该为人类作出更大的贡献，却被战争夺去了宝贵的生命。他的死是光荣的，他是为和平而倒下的，他倒在了维护世界和平的圣坛上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29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1048044898_1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4317840" y="5373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富汗长期内乱，人们不得不远走他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928440" y="5516640"/>
            <a:ext cx="681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美国纽约市世贸大厦遭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恐怖袭击，顷刻间倒坍，死亡两千多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90000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一个中国孩子的呼声1_图像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图1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5075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579920" y="55166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勒斯坦和以色列的长期争端所带来的不断的仇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xinsrc_27d5da1c617642a19cb39de2e6cd794b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6861960" y="-555120"/>
            <a:ext cx="789840" cy="77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伊拉克孩子在战火中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一个中国孩子的呼声1_图像188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24000" y="5537160"/>
            <a:ext cx="89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印度和巴基斯坦经常为克什米尔发生争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期的争端给当地的人民带来的灾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一个中国孩子的呼声1_图像182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138400" y="5229360"/>
            <a:ext cx="513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车臣恐怖分子绑架人质案，让三百多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质死于非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468720" y="-360"/>
            <a:ext cx="9612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争让无数人失去了生命。据不完全统计，第一次世界大战持续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参战，卷入战争人口达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，军民伤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第二次世界大战历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之久，先后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和地区参战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卷入战争，死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战争给人类造成的破坏更巨大。联合国儿童基金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报告，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因为战争，世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死亡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受伤或残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728520" y="649116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一个中国孩子的呼声1_图像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美丽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一个中国孩子的呼声1_图像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一个中国孩子的呼声1_图像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一个中国孩子的呼声1_图像279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一个中国孩子的呼声1_图像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一个中国孩子的呼声1_图像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0227_087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2608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187160" y="0"/>
            <a:ext cx="2375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是和平的使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衔着绿色的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穿梭在天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撒播和平的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飞过的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长出一棵棵枝繁叶茂的和平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从此，地球的一隅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y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战火熄灭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7060-FD67-45E5-92AA-8D0F47E5D7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2229120" y="907920"/>
            <a:ext cx="48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学了课文，你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很多感受，让我们也写几句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吁世界和平的话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一个中国孩子的呼声1_图像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一个中国孩子的呼声1_图像1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一个中国孩子的呼声1_图像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一个中国孩子的呼声1_图像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一个中国孩子的呼声1_图像1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维和"/>
          <p:cNvPicPr/>
          <p:nvPr/>
        </p:nvPicPr>
        <p:blipFill>
          <a:blip r:embed="rId1"/>
          <a:stretch/>
        </p:blipFill>
        <p:spPr>
          <a:xfrm>
            <a:off x="0" y="32004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276360" y="2971440"/>
            <a:ext cx="5638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联合国军事观察员</a:t>
            </a:r>
            <a:r>
              <a:rPr b="0" lang="zh-CN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是联合国维持和平行动的一部分。军事观察员来自联合国成员国。他们除佩戴标有各自国家名称和国旗标志的臂章外，一律戴天蓝色的贝雷帽，因为天蓝色是和平的象征。维和部队和军事观察员也因此被称为“蓝盔部队”。军事观察员的主要任务是监督冲突各方对停火协议的遵守情况。由于在执行任务时不能携带武器，因此军事观察员随时会面临一定危险</a:t>
            </a:r>
            <a:r>
              <a:rPr b="0" lang="zh-CN" sz="18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秘书加利"/>
          <p:cNvPicPr/>
          <p:nvPr/>
        </p:nvPicPr>
        <p:blipFill>
          <a:blip r:embed="rId2"/>
          <a:stretch/>
        </p:blipFill>
        <p:spPr>
          <a:xfrm>
            <a:off x="0" y="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438280" y="228600"/>
            <a:ext cx="689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合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于世界反法西斯战争胜利的凯歌声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几十年来，联合国历经国际风云变幻，在曲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上成长壮大，为人类的和平与繁荣作出了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要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307320" y="1752480"/>
            <a:ext cx="44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联合国第六任秘书长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布特罗斯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加利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埃及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任期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1992-1996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2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1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