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EF1-134C-4A33-903B-9F434611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795-37D0-499F-8C5F-DE52970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147-7A6B-4538-84C2-28D1A0FA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F61-C388-4F45-99E1-937FB770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99E-596B-4006-9B5D-92D67122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3C7A-4E61-464A-8C07-AE171BB8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E674-6BAD-42B6-AC66-44C44D3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CF2D-97EA-4380-8E0D-160CE77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5B4F-A7C0-442F-85A0-85EFF7F0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762-69FC-4A52-A93E-35A9810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3F0-8535-4B48-889A-27FEA90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53B-717E-47E6-BF19-9B3EC6B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F9A4-C2A2-4DE9-8675-40647A7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AED-A191-4740-AE00-602F6878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A94-005F-4FEA-A561-5299CD0D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3987-7CF0-4B62-9F5F-91CF8890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4A1-8BA6-479A-A65C-D1F49D3D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7ED-B7AA-4F7A-A977-6E86733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D65-7D91-499E-B62F-9841FBF1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D23-80DC-4370-A79F-E8F2D99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994-2C8C-421F-B841-4E759947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39D-D564-48A3-BF6B-712B43CC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CFD-F093-4250-884C-4B06BD3A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ABE-26DC-404F-AC9A-0AD4A9A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4E95-1DBB-4CEE-9CAA-2252DB115B5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87D5-1057-403A-8596-F25FBEBAAB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0437-5B38-4015-8520-CC8910C1F2B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6863-3003-4034-9729-AA75E0F026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042920" y="1197000"/>
            <a:ext cx="707256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饮湖上初晴后雨语文课件</a:t>
            </a:r>
            <a:r>
              <a:rPr b="1" lang="en-US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PPT</a:t>
            </a:r>
            <a:r>
              <a:rPr b="1" lang="zh-CN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模板下载</a:t>
            </a:r>
            <a:endParaRPr b="1" lang="en-US" sz="40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971640" y="27828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4.</a:t>
            </a:r>
            <a:r>
              <a:rPr b="1" lang="zh-CN" sz="6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朗读背诵再传情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7" descr="taoran397zx1"/>
          <p:cNvPicPr/>
          <p:nvPr/>
        </p:nvPicPr>
        <p:blipFill>
          <a:blip r:embed="rId1"/>
          <a:stretch/>
        </p:blipFill>
        <p:spPr>
          <a:xfrm>
            <a:off x="0" y="-144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26"/>
          <p:cNvSpPr/>
          <p:nvPr/>
        </p:nvSpPr>
        <p:spPr>
          <a:xfrm>
            <a:off x="1979640" y="2708280"/>
            <a:ext cx="59580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Calibri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ccff33"/>
                </a:solidFill>
                <a:latin typeface="Calibri"/>
                <a:ea typeface="楷体_GB2312"/>
              </a:rPr>
              <a:t>饮湖上初晴后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水光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潋滟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晴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好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色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空蒙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雨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亦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欲把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西湖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比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西子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浓妆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淡抹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总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宜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10.mp3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826920" y="2492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六月二十七望湖楼醉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黑云翻墨未遮山，白雨跳珠乱入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卷地风来忽吹散，望湖楼下水如天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7261-ED4F-4C1D-9914-971F361BED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611280" y="16527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根据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望天门山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这首诗意，参考书上的插图，你也用彩笔画一幅图</a:t>
            </a:r>
            <a:r>
              <a:rPr b="1" lang="zh-CN" sz="1800" spc="-1" strike="noStrike">
                <a:solidFill>
                  <a:srgbClr val="0000cc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55640" y="40622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还知道哪些描写祖国风光的古诗，读给大家听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3827880" y="2781360"/>
            <a:ext cx="164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诗人明诗题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124000" y="227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苏轼"/>
          <p:cNvPicPr/>
          <p:nvPr/>
        </p:nvPicPr>
        <p:blipFill>
          <a:blip r:embed="rId1"/>
          <a:stretch/>
        </p:blipFill>
        <p:spPr>
          <a:xfrm>
            <a:off x="1116000" y="1844640"/>
            <a:ext cx="6912000" cy="43340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3995640" y="1052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alibri"/>
                <a:ea typeface="楷体_GB2312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8200"/>
          <p:cNvSpPr/>
          <p:nvPr/>
        </p:nvSpPr>
        <p:spPr>
          <a:xfrm>
            <a:off x="2411280" y="54936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976480" y="29242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497d"/>
                </a:solidFill>
                <a:latin typeface="Calibri"/>
                <a:ea typeface="楷体_GB2312"/>
              </a:rPr>
              <a:t>饮湖上初晴后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900000" y="2781360"/>
            <a:ext cx="75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2.</a:t>
            </a:r>
            <a:r>
              <a:rPr b="1" lang="zh-CN" sz="6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解词连句知大意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潋滟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波光闪动的样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空蒙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雾气迷茫的样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方好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正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亦：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欲：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想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西子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西施。春秋时代越国有名的美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淡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雅朴素的装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浓抹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浓艳华丽的打扮。抹，涂脂抹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华文细黑"/>
              </a:rPr>
              <a:t>相宜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合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763640" y="1773360"/>
            <a:ext cx="59580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楷体_GB2312"/>
              </a:rPr>
              <a:t>饮湖上初晴后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光潋滟晴方好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色空蒙雨亦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欲把西湖比西子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淡妆浓抹总相宜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970800" y="2852640"/>
            <a:ext cx="164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3.</a:t>
            </a:r>
            <a:r>
              <a:rPr b="1" lang="zh-CN" sz="6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展开想象悟诗意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NewsMedia_251112"/>
          <p:cNvPicPr/>
          <p:nvPr/>
        </p:nvPicPr>
        <p:blipFill>
          <a:blip r:embed="rId1"/>
          <a:stretch/>
        </p:blipFill>
        <p:spPr>
          <a:xfrm>
            <a:off x="539640" y="2349360"/>
            <a:ext cx="3672000" cy="388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ater"/>
          <p:cNvPicPr/>
          <p:nvPr/>
        </p:nvPicPr>
        <p:blipFill>
          <a:blip r:embed="rId2"/>
          <a:stretch/>
        </p:blipFill>
        <p:spPr>
          <a:xfrm>
            <a:off x="4643280" y="2349360"/>
            <a:ext cx="3961080" cy="388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1887480" y="148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  <a:ea typeface="楷体_GB2312"/>
              </a:rPr>
              <a:t>晴天西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775120" y="1484280"/>
            <a:ext cx="1400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雨天西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8200"/>
          <p:cNvSpPr/>
          <p:nvPr/>
        </p:nvSpPr>
        <p:spPr>
          <a:xfrm>
            <a:off x="3059280" y="83664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7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5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