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2E28-4144-4EB5-896D-482ACB3A7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1763-B7E7-4AE8-A649-31423EE28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ADFB-9587-4BB3-963E-80D3A79754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8B95-2E9C-4646-9E88-862584C53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5D16-F7BB-4BB6-B835-DE13EB101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E833-6A72-49DB-BA13-B6F05061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2D58-4234-4A52-9C2A-BC8E97A8E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6E87-C0AD-43B0-9451-B49524F33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841D-9B20-44F3-9A34-A3E7D8842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8A4F-7BBC-4AD8-AEF5-459559B0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B106D-6D15-46F6-A78B-04C80946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5DCE-C56F-4D14-8B7C-F544F1626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BD83E-3D74-430B-A1A6-05E427F24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7E01-14D1-4B1D-B6B2-F07725252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74D66-D57E-4DD6-8626-158F0CCC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4AB00-61CA-4FEB-9D01-D8C26C70F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56724-BAA6-4799-8210-0F5E8723B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D4CAF-C860-4247-8F26-E8498F7F2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15A52-4451-4256-BABF-769350C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61B27-025F-4968-9932-29129ED4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E1B9-8732-4158-B502-6D63D9247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B63F-2338-45F5-AD39-E4A4CA282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27B2-04B8-4E67-A966-3C461588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CC7E5-BDE4-4A68-A9C3-BE4F3296C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0DDDB-3E1E-4919-9FD5-3C2A91DFFD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20C99-78A6-4E77-96F9-4EE35B80D1E6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ED404-70B4-4BAD-8987-05665F2F90A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9"/>
          <p:cNvSpPr/>
          <p:nvPr/>
        </p:nvSpPr>
        <p:spPr>
          <a:xfrm>
            <a:off x="2146320" y="12938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Text Box 5" descr=""/>
          <p:cNvPicPr/>
          <p:nvPr/>
        </p:nvPicPr>
        <p:blipFill>
          <a:blip r:embed="rId2"/>
          <a:stretch/>
        </p:blipFill>
        <p:spPr>
          <a:xfrm>
            <a:off x="7318440" y="609480"/>
            <a:ext cx="1292040" cy="5613480"/>
          </a:xfrm>
          <a:prstGeom prst="rect">
            <a:avLst/>
          </a:prstGeom>
          <a:ln w="0">
            <a:noFill/>
          </a:ln>
        </p:spPr>
      </p:pic>
      <p:pic>
        <p:nvPicPr>
          <p:cNvPr id="86" name="Text Box 9" descr=""/>
          <p:cNvPicPr/>
          <p:nvPr/>
        </p:nvPicPr>
        <p:blipFill>
          <a:blip r:embed="rId3"/>
          <a:stretch/>
        </p:blipFill>
        <p:spPr>
          <a:xfrm>
            <a:off x="6369120" y="1523880"/>
            <a:ext cx="677880" cy="3886200"/>
          </a:xfrm>
          <a:prstGeom prst="rect">
            <a:avLst/>
          </a:prstGeom>
          <a:ln w="0">
            <a:noFill/>
          </a:ln>
        </p:spPr>
      </p:pic>
      <p:sp>
        <p:nvSpPr>
          <p:cNvPr id="87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"/>
          <p:cNvSpPr/>
          <p:nvPr/>
        </p:nvSpPr>
        <p:spPr>
          <a:xfrm>
            <a:off x="155520" y="2133720"/>
            <a:ext cx="828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忆江南小学语文课件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26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Text Box 1027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28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914400" y="106668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居易曾在江南做官十年，为人民做了很多好事，当地百姓和他的感情很深。后来，他生病了，不得不谢任苏州刺史一职，在他离任回洛阳时，苏州的人们不舍得他走，都哭着为他送别。他的好友刘禹锡曾在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白太守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中写道：“苏州十万户，尽作婴儿啼”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3641760" y="479520"/>
            <a:ext cx="24541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026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1027"/>
          <p:cNvSpPr/>
          <p:nvPr/>
        </p:nvSpPr>
        <p:spPr>
          <a:xfrm>
            <a:off x="2286000" y="251460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能不忆江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4"/>
          <p:cNvSpPr/>
          <p:nvPr/>
        </p:nvSpPr>
        <p:spPr>
          <a:xfrm>
            <a:off x="609480" y="121932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忆是杭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寺月中寻桂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郡亭枕上看潮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何日更重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5"/>
          <p:cNvSpPr/>
          <p:nvPr/>
        </p:nvSpPr>
        <p:spPr>
          <a:xfrm>
            <a:off x="4724280" y="1219320"/>
            <a:ext cx="39625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次忆吴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酒一杯春竹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娃双舞醉芙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早晚复相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mhsn-guzheng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134" name="文本框 8200"/>
          <p:cNvSpPr/>
          <p:nvPr/>
        </p:nvSpPr>
        <p:spPr>
          <a:xfrm>
            <a:off x="2362320" y="53341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31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" dur="311119" fill="hold"/>
                                        <p:tgtEl>
                                          <p:spTgt spid="1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26"/>
          <p:cNvSpPr/>
          <p:nvPr/>
        </p:nvSpPr>
        <p:spPr>
          <a:xfrm>
            <a:off x="762120" y="1219320"/>
            <a:ext cx="39621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最忆是杭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山寺月中寻桂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郡亭枕上看潮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何日更重游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027"/>
          <p:cNvSpPr/>
          <p:nvPr/>
        </p:nvSpPr>
        <p:spPr>
          <a:xfrm>
            <a:off x="4648320" y="1219320"/>
            <a:ext cx="388620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江南忆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其次忆吴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酒一杯春竹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吴娃双舞醉芙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早晚复相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mhsn-guzheng.mp3" descr=""/>
          <p:cNvPicPr/>
          <p:nvPr/>
        </p:nvPicPr>
        <p:blipFill>
          <a:blip r:embed="rId1"/>
          <a:stretch/>
        </p:blipFill>
        <p:spPr>
          <a:xfrm>
            <a:off x="8153280" y="5867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restart="whenNotActive" nodeType="interactiveSeq" fill="hold">
                <p:stCondLst>
                  <p:cond evt="onClick">
                    <p:tgtEl>
                      <p:spTgt spid="138"/>
                    </p:tgtEl>
                  </p:cond>
                </p:stCondLst>
                <p:childTnLst>
                  <p:par>
                    <p:cTn id="37" fill="hold">
                      <p:stCondLst>
                        <p:cond evt="onClick">
                          <p:tgtEl>
                            <p:spTgt spid="138"/>
                          </p:tgtEl>
                        </p:cond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311119" fill="hold"/>
                                        <p:tgtEl>
                                          <p:spTgt spid="13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2286000" y="2514600"/>
            <a:ext cx="53341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0000"/>
                </a:solidFill>
                <a:latin typeface="Arial"/>
                <a:ea typeface="楷体_GB2312"/>
              </a:rPr>
              <a:t>能不忆江南？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BFEDC-F885-4208-A9EA-D9814E6F7AC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mhsn-guzheng.mp3" descr=""/>
          <p:cNvPicPr/>
          <p:nvPr/>
        </p:nvPicPr>
        <p:blipFill>
          <a:blip r:embed="rId2"/>
          <a:stretch/>
        </p:blipFill>
        <p:spPr>
          <a:xfrm>
            <a:off x="8077320" y="58672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311119" fill="hold"/>
                                        <p:tgtEl>
                                          <p:spTgt spid="1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2.MPG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55608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8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mhsn-guzheng.mp3" descr=""/>
          <p:cNvPicPr/>
          <p:nvPr/>
        </p:nvPicPr>
        <p:blipFill>
          <a:blip r:embed="rId2"/>
          <a:stretch/>
        </p:blipFill>
        <p:spPr>
          <a:xfrm>
            <a:off x="8153280" y="609588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311119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忆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8200"/>
          <p:cNvSpPr/>
          <p:nvPr/>
        </p:nvSpPr>
        <p:spPr>
          <a:xfrm>
            <a:off x="2438280" y="601992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好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ee92fe0a1ac05b0f94ca6b2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3"/>
          <p:cNvSpPr/>
          <p:nvPr/>
        </p:nvSpPr>
        <p:spPr>
          <a:xfrm>
            <a:off x="6770520" y="990720"/>
            <a:ext cx="1643400" cy="41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忆江南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白居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4"/>
          <p:cNvSpPr/>
          <p:nvPr/>
        </p:nvSpPr>
        <p:spPr>
          <a:xfrm>
            <a:off x="3809880" y="685800"/>
            <a:ext cx="3962520" cy="39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江南好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风景旧曾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日出江花红胜火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春来江水绿如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能不忆江南？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2-05T11:48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0:23Z</dcterms:modified>
  <cp:revision>2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  <property fmtid="{D5CDD505-2E9C-101B-9397-08002B2CF9AE}" pid="3" name="Version">
    <vt:r8>1</vt:r8>
  </property>
</Properties>
</file>