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chimes.wav" ContentType="audio/x-wav"/>
  <Override PartName="/ppt/media/image6.gif" ContentType="image/gif"/>
  <Override PartName="/ppt/media/image26.png" ContentType="image/png"/>
  <Override PartName="/ppt/media/image3.gif" ContentType="image/gif"/>
  <Override PartName="/ppt/media/image15.gif" ContentType="image/gif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type.wav" ContentType="audio/x-wav"/>
  <Override PartName="/ppt/media/image14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2.jpeg" ContentType="image/jpeg"/>
  <Override PartName="/ppt/media/image12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16.gif" ContentType="image/gif"/>
  <Override PartName="/ppt/media/image17.gif" ContentType="image/gif"/>
  <Override PartName="/ppt/media/image19.gif" ContentType="image/gif"/>
  <Override PartName="/ppt/media/image10.jpeg" ContentType="image/jpeg"/>
  <Override PartName="/ppt/media/image21.gif" ContentType="image/gif"/>
  <Override PartName="/ppt/media/image24.png" ContentType="image/png"/>
  <Override PartName="/ppt/media/image23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73A-8A57-4B3B-BB6D-F7D69807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26C-C932-4228-B19A-94FA3687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EC7-9254-4ED4-AB83-4AB00B29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E17-480A-45B0-9662-7C59E6B8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E6D6-0372-4388-85EE-3D70DC1F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D183-6528-42B7-9F3C-B5B3051F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F04C-353E-44A2-82A1-26A02731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1632-818F-438A-8575-B137BF3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CA20-593A-4E95-90AC-1BD0E3D6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5E21-A1A6-48E5-ABE5-2928C0C5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4246-8CA0-4E9B-8FB2-458CA96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74B-D2B4-4CE1-AE76-161DBC2E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754D-1332-4AB7-95E5-B0F06142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9A61-4ACB-4AF4-8209-FDF6633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00D5-50D6-46BB-8FF0-793EC1AE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D429-B8D9-4F1C-88DE-FE4B1F38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82C6-62CD-4820-9B3F-98870BDB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EEC8-75D1-4FD4-9110-4A42F88B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1603-BBF4-4F7E-B892-43973347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EFC6-7EE4-4ECC-99C6-AD644B8F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4C78-086E-4227-B13E-542B4986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2A307-7FE9-48A9-8D29-ECCF93B3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CA6-9A8D-4001-A67C-4745C288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9C5B3-5A64-407C-9E3E-58A42F4E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2CDC-37A4-437D-899F-B30D91E7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8878-95EF-4CBC-9C2E-260BE5CF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AFB8-3ECA-4019-BE3D-3387E77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BF0EE-73C9-41BC-8FB3-54CDF18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C320-6454-4408-B84A-1B6F7D4E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1528-3EED-4DFD-A544-212DC75F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995-9A98-43C7-905A-F45E1FE6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C49-E18F-4638-B3DD-81C28031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390-FD1B-4617-A3F3-2587DE1A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D2C-3F87-4074-9938-AAD59DCC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383-E17C-4BC3-B64C-9DCC749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522-0F8C-4992-AEC8-5F490461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8C07-9D70-4CD5-BE82-91D59C3B17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DA0-A7F5-4D25-93A4-B45723499B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42BD-9341-4833-8097-B578FD89A9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0B96-CB10-409E-A324-ECF4888151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22.gif"/><Relationship Id="rId12" Type="http://schemas.openxmlformats.org/officeDocument/2006/relationships/image" Target="../media/image23.gif"/><Relationship Id="rId13" Type="http://schemas.openxmlformats.org/officeDocument/2006/relationships/image" Target="../media/image23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image" Target="../media/image21.gif"/><Relationship Id="rId18" Type="http://schemas.openxmlformats.org/officeDocument/2006/relationships/image" Target="../media/image21.gif"/><Relationship Id="rId19" Type="http://schemas.openxmlformats.org/officeDocument/2006/relationships/image" Target="../media/image21.gif"/><Relationship Id="rId20" Type="http://schemas.openxmlformats.org/officeDocument/2006/relationships/image" Target="../media/image21.gif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2"/>
          <p:cNvSpPr/>
          <p:nvPr/>
        </p:nvSpPr>
        <p:spPr>
          <a:xfrm>
            <a:off x="1317600" y="1052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20040721092453-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"/>
          <p:cNvSpPr txBox="1"/>
          <p:nvPr/>
        </p:nvSpPr>
        <p:spPr>
          <a:xfrm>
            <a:off x="684360" y="1628640"/>
            <a:ext cx="6912000" cy="23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月亮的心愿</a:t>
            </a:r>
            <a:r>
              <a:rPr b="1" lang="en-US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PT</a:t>
            </a:r>
            <a:r>
              <a:rPr b="1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课件打包下载</a:t>
            </a:r>
            <a:endParaRPr b="1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round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6" name="Picture 7" descr="14[1]"/>
          <p:cNvPicPr/>
          <p:nvPr/>
        </p:nvPicPr>
        <p:blipFill>
          <a:blip r:embed="rId2"/>
          <a:stretch/>
        </p:blipFill>
        <p:spPr>
          <a:xfrm>
            <a:off x="5580000" y="4292640"/>
            <a:ext cx="360360" cy="3459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为什么月亮要改变自己的心愿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410200" y="2565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珍珍关心家人的行为感动了月亮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月亮使得明天下雨，好让珍珍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病好后，让珍珍和同学们一起去郊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4_23"/>
          <p:cNvPicPr/>
          <p:nvPr/>
        </p:nvPicPr>
        <p:blipFill>
          <a:blip r:embed="rId1"/>
          <a:stretch/>
        </p:blipFill>
        <p:spPr>
          <a:xfrm>
            <a:off x="-304920" y="-380880"/>
            <a:ext cx="29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1752480" y="1219320"/>
            <a:ext cx="4876920" cy="45720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200" spc="-1" strike="noStrike">
                <a:solidFill>
                  <a:srgbClr val="ccccff"/>
                </a:solidFill>
                <a:latin typeface="Times New Roman"/>
              </a:rPr>
              <a:t>?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948040" y="2209680"/>
            <a:ext cx="33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月亮的心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1962000" y="580536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2" name="Picture 3" descr="背景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4" descr="小人2"/>
            <p:cNvPicPr/>
            <p:nvPr/>
          </p:nvPicPr>
          <p:blipFill>
            <a:blip r:embed="rId2"/>
            <a:stretch/>
          </p:blipFill>
          <p:spPr>
            <a:xfrm>
              <a:off x="1752480" y="2336040"/>
              <a:ext cx="1314720" cy="173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小人"/>
            <p:cNvPicPr/>
            <p:nvPr/>
          </p:nvPicPr>
          <p:blipFill>
            <a:blip r:embed="rId3"/>
            <a:stretch/>
          </p:blipFill>
          <p:spPr>
            <a:xfrm>
              <a:off x="4267080" y="2486880"/>
              <a:ext cx="1182960" cy="16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" descr="小人3"/>
            <p:cNvPicPr/>
            <p:nvPr/>
          </p:nvPicPr>
          <p:blipFill>
            <a:blip r:embed="rId4"/>
            <a:stretch/>
          </p:blipFill>
          <p:spPr>
            <a:xfrm>
              <a:off x="2362320" y="3768120"/>
              <a:ext cx="1542960" cy="20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7" descr="小人4"/>
            <p:cNvPicPr/>
            <p:nvPr/>
          </p:nvPicPr>
          <p:blipFill>
            <a:blip r:embed="rId5"/>
            <a:stretch/>
          </p:blipFill>
          <p:spPr>
            <a:xfrm>
              <a:off x="3048120" y="2109960"/>
              <a:ext cx="1333440" cy="18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8" descr="小人5"/>
            <p:cNvPicPr/>
            <p:nvPr/>
          </p:nvPicPr>
          <p:blipFill>
            <a:blip r:embed="rId6"/>
            <a:stretch/>
          </p:blipFill>
          <p:spPr>
            <a:xfrm>
              <a:off x="5638680" y="3843360"/>
              <a:ext cx="1905120" cy="203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AutoShape 9"/>
          <p:cNvSpPr/>
          <p:nvPr/>
        </p:nvSpPr>
        <p:spPr>
          <a:xfrm>
            <a:off x="0" y="0"/>
            <a:ext cx="9144000" cy="2362320"/>
          </a:xfrm>
          <a:prstGeom prst="roundRect">
            <a:avLst>
              <a:gd name="adj" fmla="val 16667"/>
            </a:avLst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0" y="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两天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一个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艳阳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孩子们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一个都不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排着队，愉快地走在郊游的路上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星01"/>
          <p:cNvPicPr/>
          <p:nvPr/>
        </p:nvPicPr>
        <p:blipFill>
          <a:blip r:embed="rId1"/>
          <a:stretch/>
        </p:blipFill>
        <p:spPr>
          <a:xfrm>
            <a:off x="1835280" y="404640"/>
            <a:ext cx="3062160" cy="1433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星03"/>
          <p:cNvPicPr/>
          <p:nvPr/>
        </p:nvPicPr>
        <p:blipFill>
          <a:blip r:embed="rId2"/>
          <a:stretch/>
        </p:blipFill>
        <p:spPr>
          <a:xfrm>
            <a:off x="838080" y="289548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星05"/>
          <p:cNvPicPr/>
          <p:nvPr/>
        </p:nvPicPr>
        <p:blipFill>
          <a:blip r:embed="rId3"/>
          <a:stretch/>
        </p:blipFill>
        <p:spPr>
          <a:xfrm>
            <a:off x="5867280" y="3808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星04"/>
          <p:cNvPicPr/>
          <p:nvPr/>
        </p:nvPicPr>
        <p:blipFill>
          <a:blip r:embed="rId4"/>
          <a:stretch/>
        </p:blipFill>
        <p:spPr>
          <a:xfrm>
            <a:off x="3962520" y="13716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星02"/>
          <p:cNvPicPr/>
          <p:nvPr/>
        </p:nvPicPr>
        <p:blipFill>
          <a:blip r:embed="rId5"/>
          <a:stretch/>
        </p:blipFill>
        <p:spPr>
          <a:xfrm>
            <a:off x="3708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星03"/>
          <p:cNvPicPr/>
          <p:nvPr/>
        </p:nvPicPr>
        <p:blipFill>
          <a:blip r:embed="rId6"/>
          <a:stretch/>
        </p:blipFill>
        <p:spPr>
          <a:xfrm>
            <a:off x="4932360" y="566100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星03"/>
          <p:cNvPicPr/>
          <p:nvPr/>
        </p:nvPicPr>
        <p:blipFill>
          <a:blip r:embed="rId7"/>
          <a:stretch/>
        </p:blipFill>
        <p:spPr>
          <a:xfrm>
            <a:off x="2438280" y="2819520"/>
            <a:ext cx="331920" cy="28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星03"/>
          <p:cNvPicPr/>
          <p:nvPr/>
        </p:nvPicPr>
        <p:blipFill>
          <a:blip r:embed="rId8"/>
          <a:stretch/>
        </p:blipFill>
        <p:spPr>
          <a:xfrm flipH="1" rot="10800000">
            <a:off x="8001000" y="472392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星01"/>
          <p:cNvPicPr/>
          <p:nvPr/>
        </p:nvPicPr>
        <p:blipFill>
          <a:blip r:embed="rId9"/>
          <a:stretch/>
        </p:blipFill>
        <p:spPr>
          <a:xfrm>
            <a:off x="684360" y="1700280"/>
            <a:ext cx="2879640" cy="1347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星01"/>
          <p:cNvPicPr/>
          <p:nvPr/>
        </p:nvPicPr>
        <p:blipFill>
          <a:blip r:embed="rId10"/>
          <a:stretch/>
        </p:blipFill>
        <p:spPr>
          <a:xfrm>
            <a:off x="1403280" y="4149720"/>
            <a:ext cx="3095640" cy="1449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星04"/>
          <p:cNvPicPr/>
          <p:nvPr/>
        </p:nvPicPr>
        <p:blipFill>
          <a:blip r:embed="rId11"/>
          <a:stretch/>
        </p:blipFill>
        <p:spPr>
          <a:xfrm>
            <a:off x="4859280" y="3789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星02"/>
          <p:cNvPicPr/>
          <p:nvPr/>
        </p:nvPicPr>
        <p:blipFill>
          <a:blip r:embed="rId12"/>
          <a:stretch/>
        </p:blipFill>
        <p:spPr>
          <a:xfrm>
            <a:off x="7164360" y="547560"/>
            <a:ext cx="509760" cy="509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星02"/>
          <p:cNvPicPr/>
          <p:nvPr/>
        </p:nvPicPr>
        <p:blipFill>
          <a:blip r:embed="rId13"/>
          <a:stretch/>
        </p:blipFill>
        <p:spPr>
          <a:xfrm>
            <a:off x="7740720" y="301608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星05"/>
          <p:cNvPicPr/>
          <p:nvPr/>
        </p:nvPicPr>
        <p:blipFill>
          <a:blip r:embed="rId14"/>
          <a:stretch/>
        </p:blipFill>
        <p:spPr>
          <a:xfrm>
            <a:off x="3203640" y="29242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星05"/>
          <p:cNvPicPr/>
          <p:nvPr/>
        </p:nvPicPr>
        <p:blipFill>
          <a:blip r:embed="rId15"/>
          <a:stretch/>
        </p:blipFill>
        <p:spPr>
          <a:xfrm>
            <a:off x="6324480" y="18288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星05"/>
          <p:cNvPicPr/>
          <p:nvPr/>
        </p:nvPicPr>
        <p:blipFill>
          <a:blip r:embed="rId16"/>
          <a:stretch/>
        </p:blipFill>
        <p:spPr>
          <a:xfrm>
            <a:off x="7772400" y="1066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星05"/>
          <p:cNvPicPr/>
          <p:nvPr/>
        </p:nvPicPr>
        <p:blipFill>
          <a:blip r:embed="rId17"/>
          <a:stretch/>
        </p:blipFill>
        <p:spPr>
          <a:xfrm flipH="1">
            <a:off x="4211280" y="2565360"/>
            <a:ext cx="3429000" cy="365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星05"/>
          <p:cNvPicPr/>
          <p:nvPr/>
        </p:nvPicPr>
        <p:blipFill>
          <a:blip r:embed="rId18"/>
          <a:stretch/>
        </p:blipFill>
        <p:spPr>
          <a:xfrm>
            <a:off x="6781680" y="1219320"/>
            <a:ext cx="150840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星05"/>
          <p:cNvPicPr/>
          <p:nvPr/>
        </p:nvPicPr>
        <p:blipFill>
          <a:blip r:embed="rId19"/>
          <a:stretch/>
        </p:blipFill>
        <p:spPr>
          <a:xfrm>
            <a:off x="5003640" y="4869000"/>
            <a:ext cx="3210120" cy="322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星05"/>
          <p:cNvPicPr/>
          <p:nvPr/>
        </p:nvPicPr>
        <p:blipFill>
          <a:blip r:embed="rId20"/>
          <a:stretch/>
        </p:blipFill>
        <p:spPr>
          <a:xfrm>
            <a:off x="1403280" y="3860640"/>
            <a:ext cx="190512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2"/>
          <p:cNvSpPr/>
          <p:nvPr/>
        </p:nvSpPr>
        <p:spPr>
          <a:xfrm rot="12478800">
            <a:off x="4190400" y="227880"/>
            <a:ext cx="1307880" cy="251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92" y="2222"/>
                  <a:pt x="12384" y="5080"/>
                  <a:pt x="12384" y="10800"/>
                </a:cubicBezTo>
                <a:cubicBezTo>
                  <a:pt x="12384" y="16520"/>
                  <a:pt x="16992" y="193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闪烁的小星.mp3" descr=""/>
          <p:cNvPicPr/>
          <p:nvPr/>
        </p:nvPicPr>
        <p:blipFill>
          <a:blip r:embed="rId21"/>
          <a:stretch/>
        </p:blipFill>
        <p:spPr>
          <a:xfrm>
            <a:off x="8631360" y="7029360"/>
            <a:ext cx="512640" cy="513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4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月亮的心愿是（        ），因为（                           ）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.0)">
                                      <p:cBhvr>
                                        <p:cTn id="273" dur="5241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3"/>
          <p:cNvSpPr/>
          <p:nvPr/>
        </p:nvSpPr>
        <p:spPr>
          <a:xfrm>
            <a:off x="304920" y="3124080"/>
            <a:ext cx="4249440" cy="30974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会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2280" y="1522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362320" y="1522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572000" y="1522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781680" y="1522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4267080" y="213372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705720" y="213372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70"/>
          <p:cNvSpPr/>
          <p:nvPr/>
        </p:nvSpPr>
        <p:spPr>
          <a:xfrm>
            <a:off x="380880" y="2286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1"/>
          <p:cNvSpPr/>
          <p:nvPr/>
        </p:nvSpPr>
        <p:spPr>
          <a:xfrm>
            <a:off x="2666880" y="1522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72"/>
          <p:cNvSpPr/>
          <p:nvPr/>
        </p:nvSpPr>
        <p:spPr>
          <a:xfrm>
            <a:off x="4800600" y="152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3"/>
          <p:cNvSpPr/>
          <p:nvPr/>
        </p:nvSpPr>
        <p:spPr>
          <a:xfrm>
            <a:off x="7086600" y="2286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4"/>
          <p:cNvSpPr/>
          <p:nvPr/>
        </p:nvSpPr>
        <p:spPr>
          <a:xfrm>
            <a:off x="4572000" y="2133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5"/>
          <p:cNvSpPr/>
          <p:nvPr/>
        </p:nvSpPr>
        <p:spPr>
          <a:xfrm>
            <a:off x="7010280" y="21337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亮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131120" y="333360"/>
            <a:ext cx="607860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好了 太累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 太太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早晨   很早  早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去   来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914400" y="-685800"/>
            <a:ext cx="2438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口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762120" y="533520"/>
            <a:ext cx="266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力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648320" y="380880"/>
            <a:ext cx="28191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　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lìng</a:t>
            </a:r>
            <a:r>
              <a:rPr b="1" lang="zh-CN" sz="1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838080" y="2666880"/>
            <a:ext cx="236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田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85800" y="3886200"/>
            <a:ext cx="213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力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572000" y="3352680"/>
            <a:ext cx="213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男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8" descr="BRL00062"/>
          <p:cNvPicPr/>
          <p:nvPr/>
        </p:nvPicPr>
        <p:blipFill>
          <a:blip r:embed="rId1"/>
          <a:stretch/>
        </p:blipFill>
        <p:spPr>
          <a:xfrm>
            <a:off x="6629400" y="4038480"/>
            <a:ext cx="2266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2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1981440" cy="2286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1752480" y="91440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田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181480" y="1905120"/>
            <a:ext cx="22100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　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lèi</a:t>
            </a:r>
            <a:r>
              <a:rPr b="1" lang="zh-CN" sz="16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累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5" descr="BRL00062"/>
          <p:cNvPicPr/>
          <p:nvPr/>
        </p:nvPicPr>
        <p:blipFill>
          <a:blip r:embed="rId2"/>
          <a:stretch/>
        </p:blipFill>
        <p:spPr>
          <a:xfrm>
            <a:off x="0" y="4267080"/>
            <a:ext cx="2266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ject 2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1981440" cy="2286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1752480" y="91440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田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181480" y="1905120"/>
            <a:ext cx="22100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　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lèi</a:t>
            </a:r>
            <a:r>
              <a:rPr b="1" lang="zh-CN" sz="16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累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BRL00062"/>
          <p:cNvPicPr/>
          <p:nvPr/>
        </p:nvPicPr>
        <p:blipFill>
          <a:blip r:embed="rId2"/>
          <a:stretch/>
        </p:blipFill>
        <p:spPr>
          <a:xfrm>
            <a:off x="0" y="4267080"/>
            <a:ext cx="2266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576000" cy="2523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914400" y="1143000"/>
            <a:ext cx="27432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2120" y="1523880"/>
            <a:ext cx="281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大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5029200" y="2438280"/>
            <a:ext cx="27432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ài</a:t>
            </a:r>
            <a:r>
              <a:rPr b="0" lang="zh-CN" sz="16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太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6" descr="BRL00062"/>
          <p:cNvPicPr/>
          <p:nvPr/>
        </p:nvPicPr>
        <p:blipFill>
          <a:blip r:embed="rId2"/>
          <a:stretch/>
        </p:blipFill>
        <p:spPr>
          <a:xfrm>
            <a:off x="533520" y="4267080"/>
            <a:ext cx="2266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01480" y="685800"/>
            <a:ext cx="224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摘苹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4" descr=""/>
          <p:cNvPicPr/>
          <p:nvPr/>
        </p:nvPicPr>
        <p:blipFill>
          <a:blip r:embed="rId2"/>
          <a:stretch/>
        </p:blipFill>
        <p:spPr>
          <a:xfrm>
            <a:off x="2819520" y="609480"/>
            <a:ext cx="1284120" cy="12956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5" descr=""/>
          <p:cNvPicPr/>
          <p:nvPr/>
        </p:nvPicPr>
        <p:blipFill>
          <a:blip r:embed="rId3"/>
          <a:stretch/>
        </p:blipFill>
        <p:spPr>
          <a:xfrm>
            <a:off x="5421240" y="3124080"/>
            <a:ext cx="1284480" cy="129564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6" descr=""/>
          <p:cNvPicPr/>
          <p:nvPr/>
        </p:nvPicPr>
        <p:blipFill>
          <a:blip r:embed="rId4"/>
          <a:stretch/>
        </p:blipFill>
        <p:spPr>
          <a:xfrm>
            <a:off x="3897360" y="1752480"/>
            <a:ext cx="1284120" cy="129564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7" descr=""/>
          <p:cNvPicPr/>
          <p:nvPr/>
        </p:nvPicPr>
        <p:blipFill>
          <a:blip r:embed="rId5"/>
          <a:stretch/>
        </p:blipFill>
        <p:spPr>
          <a:xfrm>
            <a:off x="4038480" y="380880"/>
            <a:ext cx="128448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8" descr=""/>
          <p:cNvPicPr/>
          <p:nvPr/>
        </p:nvPicPr>
        <p:blipFill>
          <a:blip r:embed="rId6"/>
          <a:stretch/>
        </p:blipFill>
        <p:spPr>
          <a:xfrm>
            <a:off x="5040360" y="16765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9" descr=""/>
          <p:cNvPicPr/>
          <p:nvPr/>
        </p:nvPicPr>
        <p:blipFill>
          <a:blip r:embed="rId7"/>
          <a:stretch/>
        </p:blipFill>
        <p:spPr>
          <a:xfrm>
            <a:off x="5192640" y="457200"/>
            <a:ext cx="128448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10" descr=""/>
          <p:cNvPicPr/>
          <p:nvPr/>
        </p:nvPicPr>
        <p:blipFill>
          <a:blip r:embed="rId8"/>
          <a:stretch/>
        </p:blipFill>
        <p:spPr>
          <a:xfrm>
            <a:off x="6640560" y="7621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11" descr=""/>
          <p:cNvPicPr/>
          <p:nvPr/>
        </p:nvPicPr>
        <p:blipFill>
          <a:blip r:embed="rId9"/>
          <a:stretch/>
        </p:blipFill>
        <p:spPr>
          <a:xfrm>
            <a:off x="2830680" y="19051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12" descr=""/>
          <p:cNvPicPr/>
          <p:nvPr/>
        </p:nvPicPr>
        <p:blipFill>
          <a:blip r:embed="rId10"/>
          <a:stretch/>
        </p:blipFill>
        <p:spPr>
          <a:xfrm>
            <a:off x="3124080" y="3200400"/>
            <a:ext cx="128448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13" descr=""/>
          <p:cNvPicPr/>
          <p:nvPr/>
        </p:nvPicPr>
        <p:blipFill>
          <a:blip r:embed="rId11"/>
          <a:stretch/>
        </p:blipFill>
        <p:spPr>
          <a:xfrm>
            <a:off x="4278240" y="3048120"/>
            <a:ext cx="1284480" cy="1295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4"/>
          <p:cNvSpPr/>
          <p:nvPr/>
        </p:nvSpPr>
        <p:spPr>
          <a:xfrm>
            <a:off x="3417120" y="3429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4419720" y="335268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156480" y="2133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4255200" y="2057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5703120" y="3352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5363280" y="1905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4296600" y="609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5515560" y="685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3110760" y="838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6998400" y="1066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Object 24" descr=""/>
          <p:cNvPicPr/>
          <p:nvPr/>
        </p:nvPicPr>
        <p:blipFill>
          <a:blip r:embed="rId12"/>
          <a:stretch/>
        </p:blipFill>
        <p:spPr>
          <a:xfrm>
            <a:off x="696960" y="320040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25" descr=""/>
          <p:cNvPicPr/>
          <p:nvPr/>
        </p:nvPicPr>
        <p:blipFill>
          <a:blip r:embed="rId13"/>
          <a:stretch/>
        </p:blipFill>
        <p:spPr>
          <a:xfrm>
            <a:off x="457200" y="16765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26" descr=""/>
          <p:cNvPicPr/>
          <p:nvPr/>
        </p:nvPicPr>
        <p:blipFill>
          <a:blip r:embed="rId14"/>
          <a:stretch/>
        </p:blipFill>
        <p:spPr>
          <a:xfrm>
            <a:off x="1905120" y="32767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27" descr=""/>
          <p:cNvPicPr/>
          <p:nvPr/>
        </p:nvPicPr>
        <p:blipFill>
          <a:blip r:embed="rId15"/>
          <a:stretch/>
        </p:blipFill>
        <p:spPr>
          <a:xfrm>
            <a:off x="1687680" y="1981080"/>
            <a:ext cx="1284120" cy="1295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8"/>
          <p:cNvSpPr/>
          <p:nvPr/>
        </p:nvSpPr>
        <p:spPr>
          <a:xfrm>
            <a:off x="1969200" y="2286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794520" y="1981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978480" y="35053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2239200" y="35053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bject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120492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1143000" y="533520"/>
            <a:ext cx="190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肖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191120" y="2590920"/>
            <a:ext cx="350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qiāo</a:t>
            </a:r>
            <a:r>
              <a:rPr b="1" lang="zh-CN" sz="1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悄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5" descr="BRL00062"/>
          <p:cNvPicPr/>
          <p:nvPr/>
        </p:nvPicPr>
        <p:blipFill>
          <a:blip r:embed="rId2"/>
          <a:stretch/>
        </p:blipFill>
        <p:spPr>
          <a:xfrm>
            <a:off x="6877080" y="189000"/>
            <a:ext cx="2266920" cy="225720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1"/>
          <p:cNvSpPr/>
          <p:nvPr/>
        </p:nvSpPr>
        <p:spPr>
          <a:xfrm>
            <a:off x="2753280" y="587700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Arial"/>
                <a:ea typeface="楷体"/>
              </a:rPr>
              <a:t>女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952880" y="1197000"/>
            <a:ext cx="10951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女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女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女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6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266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268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271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Text Box 10"/>
          <p:cNvSpPr/>
          <p:nvPr/>
        </p:nvSpPr>
        <p:spPr>
          <a:xfrm>
            <a:off x="1116000" y="4149720"/>
            <a:ext cx="835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Arial"/>
                <a:ea typeface="楷体"/>
              </a:rPr>
              <a:t>早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952880" y="119700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早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早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6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278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280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283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Text Box 10"/>
          <p:cNvSpPr/>
          <p:nvPr/>
        </p:nvSpPr>
        <p:spPr>
          <a:xfrm>
            <a:off x="1116000" y="4149720"/>
            <a:ext cx="835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早晨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我去广场锻炼身体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697040" y="765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Arial"/>
                <a:ea typeface="楷体"/>
              </a:rPr>
              <a:t>太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4952880" y="119700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太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太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6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290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292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295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Text Box 10"/>
          <p:cNvSpPr/>
          <p:nvPr/>
        </p:nvSpPr>
        <p:spPr>
          <a:xfrm>
            <a:off x="1116000" y="4149720"/>
            <a:ext cx="835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太阳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每天从东方升起，西方落下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Arial"/>
                <a:ea typeface="楷体"/>
              </a:rPr>
              <a:t>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4952880" y="119700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不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去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6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302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304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307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Text Box 10"/>
          <p:cNvSpPr/>
          <p:nvPr/>
        </p:nvSpPr>
        <p:spPr>
          <a:xfrm>
            <a:off x="1116000" y="4149720"/>
            <a:ext cx="835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我决定周末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不去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动物园了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870480" y="1844640"/>
            <a:ext cx="73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i   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zhuā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57000" y="3505320"/>
            <a:ext cx="786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累   户   帘   病   装   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90900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会连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066680" y="2438280"/>
            <a:ext cx="2743200" cy="1143000"/>
            <a:chOff x="1066680" y="2438280"/>
            <a:chExt cx="2743200" cy="1143000"/>
          </a:xfrm>
        </p:grpSpPr>
        <p:sp>
          <p:nvSpPr>
            <p:cNvPr id="314" name="Line 5"/>
            <p:cNvSpPr/>
            <p:nvPr/>
          </p:nvSpPr>
          <p:spPr>
            <a:xfrm>
              <a:off x="1066680" y="2438280"/>
              <a:ext cx="2743200" cy="1143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066680" y="2438280"/>
              <a:ext cx="27432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837720" y="2438280"/>
            <a:ext cx="1676880" cy="1067040"/>
            <a:chOff x="837720" y="2438280"/>
            <a:chExt cx="1676880" cy="1067040"/>
          </a:xfrm>
        </p:grpSpPr>
        <p:sp>
          <p:nvSpPr>
            <p:cNvPr id="317" name="Line 6"/>
            <p:cNvSpPr/>
            <p:nvPr/>
          </p:nvSpPr>
          <p:spPr>
            <a:xfrm flipH="1">
              <a:off x="837720" y="2438280"/>
              <a:ext cx="1676520" cy="10670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838080" y="2438280"/>
              <a:ext cx="167652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2320" y="2438280"/>
            <a:ext cx="1295280" cy="1143000"/>
            <a:chOff x="2362320" y="2438280"/>
            <a:chExt cx="1295280" cy="1143000"/>
          </a:xfrm>
        </p:grpSpPr>
        <p:sp>
          <p:nvSpPr>
            <p:cNvPr id="320" name="Line 7"/>
            <p:cNvSpPr/>
            <p:nvPr/>
          </p:nvSpPr>
          <p:spPr>
            <a:xfrm flipH="1">
              <a:off x="2362320" y="2438280"/>
              <a:ext cx="1295280" cy="1143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362320" y="2438280"/>
              <a:ext cx="12952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932360" y="2421000"/>
            <a:ext cx="431640" cy="1152360"/>
            <a:chOff x="4932360" y="2421000"/>
            <a:chExt cx="431640" cy="1152360"/>
          </a:xfrm>
        </p:grpSpPr>
        <p:sp>
          <p:nvSpPr>
            <p:cNvPr id="323" name="Line 8"/>
            <p:cNvSpPr/>
            <p:nvPr/>
          </p:nvSpPr>
          <p:spPr>
            <a:xfrm>
              <a:off x="4932360" y="2421000"/>
              <a:ext cx="431640" cy="1152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4932360" y="2421000"/>
              <a:ext cx="4316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477120" y="2590920"/>
            <a:ext cx="1828800" cy="914400"/>
            <a:chOff x="6477120" y="2590920"/>
            <a:chExt cx="1828800" cy="914400"/>
          </a:xfrm>
        </p:grpSpPr>
        <p:sp>
          <p:nvSpPr>
            <p:cNvPr id="326" name="Line 9"/>
            <p:cNvSpPr/>
            <p:nvPr/>
          </p:nvSpPr>
          <p:spPr>
            <a:xfrm>
              <a:off x="6477120" y="2590920"/>
              <a:ext cx="1828800" cy="9144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6477120" y="2590920"/>
              <a:ext cx="18288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781680" y="2438280"/>
            <a:ext cx="1067040" cy="1219320"/>
            <a:chOff x="6781680" y="2438280"/>
            <a:chExt cx="1067040" cy="1219320"/>
          </a:xfrm>
        </p:grpSpPr>
        <p:sp>
          <p:nvSpPr>
            <p:cNvPr id="329" name="Line 10"/>
            <p:cNvSpPr/>
            <p:nvPr/>
          </p:nvSpPr>
          <p:spPr>
            <a:xfrm flipH="1">
              <a:off x="6781680" y="2438280"/>
              <a:ext cx="1067040" cy="12193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781680" y="2438280"/>
              <a:ext cx="106704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BF66-ACAC-4D24-8B71-F9AD930A64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4"/>
          <p:cNvPicPr/>
          <p:nvPr/>
        </p:nvPicPr>
        <p:blipFill>
          <a:blip r:embed="rId1"/>
          <a:stretch/>
        </p:blipFill>
        <p:spPr>
          <a:xfrm>
            <a:off x="-98280" y="-458640"/>
            <a:ext cx="9242280" cy="7316640"/>
          </a:xfrm>
          <a:prstGeom prst="rect">
            <a:avLst/>
          </a:prstGeom>
          <a:ln w="0">
            <a:noFill/>
          </a:ln>
        </p:spPr>
      </p:pic>
      <p:sp>
        <p:nvSpPr>
          <p:cNvPr id="33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3E59-680F-4B84-951D-CEDA5C8BF9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图片 7" descr="写字.jpg"/>
          <p:cNvPicPr/>
          <p:nvPr/>
        </p:nvPicPr>
        <p:blipFill>
          <a:blip r:embed="rId2"/>
          <a:srcRect l="0" t="0" r="19865" b="0"/>
          <a:stretch/>
        </p:blipFill>
        <p:spPr>
          <a:xfrm>
            <a:off x="900000" y="1916280"/>
            <a:ext cx="3816360" cy="357156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8" descr="尖1.jpg"/>
          <p:cNvPicPr/>
          <p:nvPr/>
        </p:nvPicPr>
        <p:blipFill>
          <a:blip r:embed="rId3"/>
          <a:srcRect l="0" t="6791" r="0" b="9590"/>
          <a:stretch/>
        </p:blipFill>
        <p:spPr>
          <a:xfrm>
            <a:off x="4932360" y="3068640"/>
            <a:ext cx="28814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60020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71640" y="206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3512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07880" y="369720"/>
            <a:ext cx="84013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窗帘   女孩    背包   装着  天气   照顾    生病   劳累   医生   离开    悄悄地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窗户   太阳    另一个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言自语   窗户   郊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另一家      商量商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92280"/>
            <a:ext cx="9144000" cy="21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许了（  ）次心愿，刚开始，她希望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后来，她希望（         ）。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284720" y="836640"/>
            <a:ext cx="7189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623840" y="1916280"/>
            <a:ext cx="18266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有好天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13600" y="2995560"/>
            <a:ext cx="14151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天下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484360" y="83664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692360" y="692280"/>
            <a:ext cx="6983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明天孩子们去郊游，得去跟太阳公公商量商量，让明天有个好天气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979640" y="4076640"/>
            <a:ext cx="6696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去跟雷公公说说，明天还是下雨吧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4_23"/>
          <p:cNvPicPr/>
          <p:nvPr/>
        </p:nvPicPr>
        <p:blipFill>
          <a:blip r:embed="rId1"/>
          <a:stretch/>
        </p:blipFill>
        <p:spPr>
          <a:xfrm>
            <a:off x="0" y="0"/>
            <a:ext cx="2050920" cy="2492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@[HRQ_9(AG%LY}YM66V@6%6"/>
          <p:cNvPicPr/>
          <p:nvPr/>
        </p:nvPicPr>
        <p:blipFill>
          <a:blip r:embed="rId2"/>
          <a:stretch/>
        </p:blipFill>
        <p:spPr>
          <a:xfrm>
            <a:off x="395280" y="414972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007131215010580"/>
          <p:cNvPicPr/>
          <p:nvPr/>
        </p:nvPicPr>
        <p:blipFill>
          <a:blip r:embed="rId1"/>
          <a:stretch/>
        </p:blipFill>
        <p:spPr>
          <a:xfrm>
            <a:off x="0" y="333360"/>
            <a:ext cx="4716360" cy="518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200713121509734"/>
          <p:cNvPicPr/>
          <p:nvPr/>
        </p:nvPicPr>
        <p:blipFill>
          <a:blip r:embed="rId2"/>
          <a:stretch/>
        </p:blipFill>
        <p:spPr>
          <a:xfrm>
            <a:off x="4643280" y="549360"/>
            <a:ext cx="4500720" cy="49672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4"/>
          <p:cNvSpPr txBox="1"/>
          <p:nvPr/>
        </p:nvSpPr>
        <p:spPr>
          <a:xfrm>
            <a:off x="395280" y="549360"/>
            <a:ext cx="108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○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7451640" y="549360"/>
            <a:ext cx="108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○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1692360" y="5877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图一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6516720" y="5805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图二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200713121509734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0" y="0"/>
            <a:ext cx="9144000" cy="268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月亮又来到另一家的窗前，只见一个小女孩正在照顾生病的妈妈。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妈妈说：“珍珍，早点儿睡吧，不要太累了，明天你还要去郊游呢。” 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妈妈，我不想去了。”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明天还是和大家一起去玩儿吧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!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可是，医生说您的病还没好呢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999800" y="5589720"/>
            <a:ext cx="4737600" cy="64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珍珍是个（                     ）的孩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pic_6588"/>
          <p:cNvPicPr/>
          <p:nvPr/>
        </p:nvPicPr>
        <p:blipFill>
          <a:blip r:embed="rId1"/>
          <a:srcRect l="6314" t="63814" r="6578" b="6802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0" y="4038480"/>
            <a:ext cx="9144000" cy="31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说：“珍珍，早点儿睡吧，不要太累了，明天你还要去郊游呢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妈妈，我不想去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明天还是去和大家玩玩吧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可是，医生说您的病还没好呢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 rot="485400">
            <a:off x="5364000" y="3213000"/>
            <a:ext cx="598680" cy="647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4537080" cy="3244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755640" y="62064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月亮悄悄地离开了窗户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心里想：“我去跟雷公公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明天还是下雨吧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01:5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5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