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FA8-8D2E-4A6C-80D9-F80F2CF0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23D-52A4-4D56-8FB5-EDB2586D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310-DC69-499D-A9E3-A713E8BD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9B0-2562-4B1B-99DF-AE7A68DE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552E-711F-477C-8FBD-CB79F61A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8E81-E7F6-459B-B16B-A1D684B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9D1-038D-46F4-937A-1F46088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D8E8-33A0-493D-BDA6-91C4089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1BAC-4B07-4AAD-B835-64CA3FB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B27E-E4C2-494D-9350-270E0DDC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808-0035-4843-B313-2C1390D1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65E-904F-46CE-940C-EE0487C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54D3-930B-41CD-98CF-F71C4700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996-4D82-45E4-995B-B4E1E0E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35E5-B15D-4226-9272-C62FA1F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7C0-4EDA-4701-B19D-F75F00C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16C8-9041-4072-9B7E-5B7F8A94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0DB-4ADF-49C6-8801-05EC6453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71A-9F46-4E04-946C-70F35C1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38E-5D44-4310-BF9A-D7783AFC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396-162C-4921-9384-3347D473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98E-D3B9-4172-8DC8-5D52A41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528-1AFA-4A84-A61A-47AC80B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B95-D629-4671-BCFE-6CB185C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64B-9CD6-4D1E-8CEB-F0013547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E6E-D78D-47EC-8F8B-22AC2DDAE11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4CB-D423-409C-B1A5-ECD2ABF6BA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5-03"/>
          <p:cNvPicPr/>
          <p:nvPr/>
        </p:nvPicPr>
        <p:blipFill>
          <a:blip r:embed="rId1"/>
          <a:stretch/>
        </p:blipFill>
        <p:spPr>
          <a:xfrm>
            <a:off x="250920" y="538200"/>
            <a:ext cx="3716280" cy="5770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971640" y="44280"/>
            <a:ext cx="74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语文课件开国大典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1"/>
          <a:stretch/>
        </p:blipFill>
        <p:spPr>
          <a:xfrm>
            <a:off x="466560" y="692280"/>
            <a:ext cx="8282160" cy="44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3708360" y="544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骑兵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200581810172738"/>
          <p:cNvPicPr/>
          <p:nvPr/>
        </p:nvPicPr>
        <p:blipFill>
          <a:blip r:embed="rId1"/>
          <a:stretch/>
        </p:blipFill>
        <p:spPr>
          <a:xfrm>
            <a:off x="468360" y="573120"/>
            <a:ext cx="8244000" cy="4727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324000" y="580536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安门广场灯火辉煌的景象和群众队伍游行的情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971640" y="2997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典礼前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典礼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阅兵式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游行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散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9AD3-C642-4D4A-824E-923E092CC1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03640" y="105264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692360" y="297180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、有表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、思考课后练习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468360" y="112536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3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43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042920" y="54514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开国大典之前天安门广场的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kaigu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45_35489_36c590699e9855f"/>
          <p:cNvPicPr/>
          <p:nvPr/>
        </p:nvPicPr>
        <p:blipFill>
          <a:blip r:embed="rId1"/>
          <a:stretch/>
        </p:blipFill>
        <p:spPr>
          <a:xfrm>
            <a:off x="2484360" y="549360"/>
            <a:ext cx="432108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635280" y="58118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图片1"/>
          <p:cNvPicPr/>
          <p:nvPr/>
        </p:nvPicPr>
        <p:blipFill>
          <a:blip r:embed="rId1"/>
          <a:stretch/>
        </p:blipFill>
        <p:spPr>
          <a:xfrm>
            <a:off x="1042920" y="333360"/>
            <a:ext cx="7096320" cy="5288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55640" y="580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典礼开始，毛主席宣读中央人民政府公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8197"/>
          <p:cNvSpPr/>
          <p:nvPr/>
        </p:nvSpPr>
        <p:spPr>
          <a:xfrm>
            <a:off x="1619280" y="44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47640" y="55245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董希文油画作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开国大典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200724184537789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479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11595553074332000002286540"/>
          <p:cNvPicPr/>
          <p:nvPr/>
        </p:nvPicPr>
        <p:blipFill>
          <a:blip r:embed="rId1"/>
          <a:stretch/>
        </p:blipFill>
        <p:spPr>
          <a:xfrm>
            <a:off x="539640" y="4191120"/>
            <a:ext cx="3673440" cy="1974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"/>
          <p:cNvPicPr/>
          <p:nvPr/>
        </p:nvPicPr>
        <p:blipFill>
          <a:blip r:embed="rId2"/>
          <a:stretch/>
        </p:blipFill>
        <p:spPr>
          <a:xfrm>
            <a:off x="4932360" y="4222800"/>
            <a:ext cx="3673440" cy="1942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2"/>
          <p:cNvPicPr/>
          <p:nvPr/>
        </p:nvPicPr>
        <p:blipFill>
          <a:blip r:embed="rId3"/>
          <a:stretch/>
        </p:blipFill>
        <p:spPr>
          <a:xfrm>
            <a:off x="1187280" y="476280"/>
            <a:ext cx="655344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2987640" y="3292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阅兵式的盛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"/>
          <p:cNvPicPr/>
          <p:nvPr/>
        </p:nvPicPr>
        <p:blipFill>
          <a:blip r:embed="rId1"/>
          <a:stretch/>
        </p:blipFill>
        <p:spPr>
          <a:xfrm>
            <a:off x="324000" y="1049400"/>
            <a:ext cx="8424720" cy="3747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780000" y="545148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战车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1595553074332000002286540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4452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708360" y="544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骑兵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0:4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7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