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gif" ContentType="image/gif"/>
  <Override PartName="/ppt/media/image19.wmf" ContentType="image/x-wmf"/>
  <Override PartName="/ppt/media/image20.wmf" ContentType="image/x-wmf"/>
  <Override PartName="/ppt/media/image32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7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0.png" ContentType="image/png"/>
  <Override PartName="/ppt/media/image10.gif" ContentType="image/gif"/>
  <Override PartName="/ppt/media/image11.gif" ContentType="image/gif"/>
  <Override PartName="/ppt/media/image24.jpeg" ContentType="image/jpeg"/>
  <Override PartName="/ppt/media/image12.gif" ContentType="image/gif"/>
  <Override PartName="/ppt/media/image6.png" ContentType="image/png"/>
  <Override PartName="/ppt/media/image13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16.wmf" ContentType="image/x-wmf"/>
  <Override PartName="/ppt/media/image28.gif" ContentType="image/gif"/>
  <Override PartName="/ppt/media/image33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9.jpeg" ContentType="image/jpeg"/>
  <Override PartName="/ppt/media/image31.jpeg" ContentType="image/jpeg"/>
  <Override PartName="/ppt/media/image14.gif" ContentType="image/gi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894-1FAD-4763-ACEA-0E7C3C9A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153-88B4-4448-997D-3BDF7CCA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F04-77AC-4C40-971C-DF37838D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41F-30B5-4F2E-BC03-69C45652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586C-9A89-43A8-8DE0-2D62307B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F996-0783-478B-AC1E-B25F134A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FFD0-C41B-474D-B949-361ED8B4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A891-A437-45C4-AA4E-55CFDBD7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A283-A234-4768-8B52-179A9601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A972-C482-48C9-AEC4-547EA1EC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B5EB-420B-4156-80A9-A46266E0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B8F-BBA7-4AE9-87C4-4191F06F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0ED5-DFED-45E8-8E5C-370DE740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D3EE-94C3-48BB-A580-3F984FA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59BC-48AC-4B90-A31D-E2D41752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B1CB-5391-4130-9BFA-3EC786FA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969E-779A-4866-AE9F-0946AE54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F19-1EBA-4F86-BFE5-692D704E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AA9-3C6F-47F2-85E3-7CB8BDF8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A27-580C-4A87-B66A-20B29E68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2E4-35CA-4D54-A7D8-22898750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544-3DB6-4EC7-9F5D-6E5C564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8E9-F4BC-497A-A64B-54220CD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E08-D696-4982-84DD-10A03F28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9AC4-86DD-4FE4-B471-B3E039AC3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048A-F40D-4906-8662-DFA081CC923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47C2-6938-455C-9C50-4D9658A21C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267,24,1-4&#33258;&#28982;&#27573;" TargetMode="External"/><Relationship Id="rId4" Type="http://schemas.openxmlformats.org/officeDocument/2006/relationships/hyperlink" Target="269,26,&#31532;6-9&#33258;&#28982;&#27573;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4.gi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17.wmf"/><Relationship Id="rId19" Type="http://schemas.openxmlformats.org/officeDocument/2006/relationships/image" Target="../media/image18.wmf"/><Relationship Id="rId20" Type="http://schemas.openxmlformats.org/officeDocument/2006/relationships/image" Target="../media/image19.wmf"/><Relationship Id="rId21" Type="http://schemas.openxmlformats.org/officeDocument/2006/relationships/image" Target="../media/image20.wmf"/><Relationship Id="rId22" Type="http://schemas.openxmlformats.org/officeDocument/2006/relationships/image" Target="../media/image13.gif"/><Relationship Id="rId23" Type="http://schemas.openxmlformats.org/officeDocument/2006/relationships/image" Target="../media/image12.gif"/><Relationship Id="rId24" Type="http://schemas.openxmlformats.org/officeDocument/2006/relationships/image" Target="../media/image21.gif"/><Relationship Id="rId25" Type="http://schemas.openxmlformats.org/officeDocument/2006/relationships/hyperlink" Target="268,25,&#31532;4-5&#33258;&#28982;&#27573;" TargetMode="External"/><Relationship Id="rId2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1981080" y="1219320"/>
            <a:ext cx="5715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语文课件兰兰过桥</a:t>
            </a: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模板下载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2"/>
          <p:cNvSpPr txBox="1"/>
          <p:nvPr/>
        </p:nvSpPr>
        <p:spPr>
          <a:xfrm rot="5400000">
            <a:off x="-457560" y="2514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2590920" y="1295280"/>
            <a:ext cx="4952880" cy="4605480"/>
            <a:chOff x="2590920" y="1295280"/>
            <a:chExt cx="4952880" cy="4605480"/>
          </a:xfrm>
        </p:grpSpPr>
        <p:sp>
          <p:nvSpPr>
            <p:cNvPr id="213" name="AutoShape 6"/>
            <p:cNvSpPr/>
            <p:nvPr/>
          </p:nvSpPr>
          <p:spPr>
            <a:xfrm>
              <a:off x="2590920" y="1295280"/>
              <a:ext cx="4952880" cy="46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3890880" y="2466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3909240" y="2439720"/>
              <a:ext cx="2298960" cy="2305800"/>
            </a:xfrm>
            <a:custGeom>
              <a:avLst/>
              <a:gdLst/>
              <a:ahLst/>
              <a:rect l="l" t="t" r="r" b="b"/>
              <a:pathLst>
                <a:path w="1901" h="1906">
                  <a:moveTo>
                    <a:pt x="1135" y="704"/>
                  </a:moveTo>
                  <a:lnTo>
                    <a:pt x="1140" y="704"/>
                  </a:lnTo>
                  <a:lnTo>
                    <a:pt x="1144" y="699"/>
                  </a:lnTo>
                  <a:lnTo>
                    <a:pt x="1149" y="694"/>
                  </a:lnTo>
                  <a:lnTo>
                    <a:pt x="1154" y="689"/>
                  </a:lnTo>
                  <a:lnTo>
                    <a:pt x="1159" y="680"/>
                  </a:lnTo>
                  <a:lnTo>
                    <a:pt x="1163" y="670"/>
                  </a:lnTo>
                  <a:lnTo>
                    <a:pt x="1173" y="661"/>
                  </a:lnTo>
                  <a:lnTo>
                    <a:pt x="1178" y="651"/>
                  </a:lnTo>
                  <a:lnTo>
                    <a:pt x="1183" y="637"/>
                  </a:lnTo>
                  <a:lnTo>
                    <a:pt x="1187" y="622"/>
                  </a:lnTo>
                  <a:lnTo>
                    <a:pt x="1197" y="608"/>
                  </a:lnTo>
                  <a:lnTo>
                    <a:pt x="1202" y="589"/>
                  </a:lnTo>
                  <a:lnTo>
                    <a:pt x="1207" y="574"/>
                  </a:lnTo>
                  <a:lnTo>
                    <a:pt x="1216" y="555"/>
                  </a:lnTo>
                  <a:lnTo>
                    <a:pt x="1231" y="512"/>
                  </a:lnTo>
                  <a:lnTo>
                    <a:pt x="1245" y="474"/>
                  </a:lnTo>
                  <a:lnTo>
                    <a:pt x="1259" y="435"/>
                  </a:lnTo>
                  <a:lnTo>
                    <a:pt x="1269" y="397"/>
                  </a:lnTo>
                  <a:lnTo>
                    <a:pt x="1278" y="364"/>
                  </a:lnTo>
                  <a:lnTo>
                    <a:pt x="1283" y="335"/>
                  </a:lnTo>
                  <a:lnTo>
                    <a:pt x="1293" y="301"/>
                  </a:lnTo>
                  <a:lnTo>
                    <a:pt x="1298" y="273"/>
                  </a:lnTo>
                  <a:lnTo>
                    <a:pt x="1298" y="249"/>
                  </a:lnTo>
                  <a:lnTo>
                    <a:pt x="1302" y="225"/>
                  </a:lnTo>
                  <a:lnTo>
                    <a:pt x="1302" y="206"/>
                  </a:lnTo>
                  <a:lnTo>
                    <a:pt x="1302" y="191"/>
                  </a:lnTo>
                  <a:lnTo>
                    <a:pt x="1302" y="172"/>
                  </a:lnTo>
                  <a:lnTo>
                    <a:pt x="1298" y="162"/>
                  </a:lnTo>
                  <a:lnTo>
                    <a:pt x="1298" y="148"/>
                  </a:lnTo>
                  <a:lnTo>
                    <a:pt x="1293" y="138"/>
                  </a:lnTo>
                  <a:lnTo>
                    <a:pt x="1293" y="134"/>
                  </a:lnTo>
                  <a:lnTo>
                    <a:pt x="1283" y="124"/>
                  </a:lnTo>
                  <a:lnTo>
                    <a:pt x="1274" y="119"/>
                  </a:lnTo>
                  <a:lnTo>
                    <a:pt x="1254" y="115"/>
                  </a:lnTo>
                  <a:lnTo>
                    <a:pt x="1240" y="115"/>
                  </a:lnTo>
                  <a:lnTo>
                    <a:pt x="1231" y="115"/>
                  </a:lnTo>
                  <a:lnTo>
                    <a:pt x="1216" y="115"/>
                  </a:lnTo>
                  <a:lnTo>
                    <a:pt x="1202" y="119"/>
                  </a:lnTo>
                  <a:lnTo>
                    <a:pt x="1183" y="119"/>
                  </a:lnTo>
                  <a:lnTo>
                    <a:pt x="1163" y="124"/>
                  </a:lnTo>
                  <a:lnTo>
                    <a:pt x="1144" y="129"/>
                  </a:lnTo>
                  <a:lnTo>
                    <a:pt x="1120" y="134"/>
                  </a:lnTo>
                  <a:lnTo>
                    <a:pt x="1092" y="138"/>
                  </a:lnTo>
                  <a:lnTo>
                    <a:pt x="1034" y="153"/>
                  </a:lnTo>
                  <a:lnTo>
                    <a:pt x="1010" y="158"/>
                  </a:lnTo>
                  <a:lnTo>
                    <a:pt x="981" y="162"/>
                  </a:lnTo>
                  <a:lnTo>
                    <a:pt x="958" y="167"/>
                  </a:lnTo>
                  <a:lnTo>
                    <a:pt x="934" y="172"/>
                  </a:lnTo>
                  <a:lnTo>
                    <a:pt x="914" y="177"/>
                  </a:lnTo>
                  <a:lnTo>
                    <a:pt x="895" y="182"/>
                  </a:lnTo>
                  <a:lnTo>
                    <a:pt x="876" y="186"/>
                  </a:lnTo>
                  <a:lnTo>
                    <a:pt x="857" y="191"/>
                  </a:lnTo>
                  <a:lnTo>
                    <a:pt x="838" y="191"/>
                  </a:lnTo>
                  <a:lnTo>
                    <a:pt x="823" y="196"/>
                  </a:lnTo>
                  <a:lnTo>
                    <a:pt x="809" y="191"/>
                  </a:lnTo>
                  <a:lnTo>
                    <a:pt x="795" y="191"/>
                  </a:lnTo>
                  <a:lnTo>
                    <a:pt x="785" y="186"/>
                  </a:lnTo>
                  <a:lnTo>
                    <a:pt x="771" y="182"/>
                  </a:lnTo>
                  <a:lnTo>
                    <a:pt x="761" y="177"/>
                  </a:lnTo>
                  <a:lnTo>
                    <a:pt x="752" y="172"/>
                  </a:lnTo>
                  <a:lnTo>
                    <a:pt x="742" y="167"/>
                  </a:lnTo>
                  <a:lnTo>
                    <a:pt x="732" y="162"/>
                  </a:lnTo>
                  <a:lnTo>
                    <a:pt x="728" y="158"/>
                  </a:lnTo>
                  <a:lnTo>
                    <a:pt x="723" y="153"/>
                  </a:lnTo>
                  <a:lnTo>
                    <a:pt x="723" y="148"/>
                  </a:lnTo>
                  <a:lnTo>
                    <a:pt x="723" y="138"/>
                  </a:lnTo>
                  <a:lnTo>
                    <a:pt x="728" y="138"/>
                  </a:lnTo>
                  <a:lnTo>
                    <a:pt x="732" y="138"/>
                  </a:lnTo>
                  <a:lnTo>
                    <a:pt x="742" y="138"/>
                  </a:lnTo>
                  <a:lnTo>
                    <a:pt x="756" y="138"/>
                  </a:lnTo>
                  <a:lnTo>
                    <a:pt x="766" y="134"/>
                  </a:lnTo>
                  <a:lnTo>
                    <a:pt x="780" y="134"/>
                  </a:lnTo>
                  <a:lnTo>
                    <a:pt x="799" y="129"/>
                  </a:lnTo>
                  <a:lnTo>
                    <a:pt x="814" y="129"/>
                  </a:lnTo>
                  <a:lnTo>
                    <a:pt x="833" y="124"/>
                  </a:lnTo>
                  <a:lnTo>
                    <a:pt x="857" y="119"/>
                  </a:lnTo>
                  <a:lnTo>
                    <a:pt x="881" y="115"/>
                  </a:lnTo>
                  <a:lnTo>
                    <a:pt x="905" y="110"/>
                  </a:lnTo>
                  <a:lnTo>
                    <a:pt x="929" y="105"/>
                  </a:lnTo>
                  <a:lnTo>
                    <a:pt x="958" y="95"/>
                  </a:lnTo>
                  <a:lnTo>
                    <a:pt x="986" y="91"/>
                  </a:lnTo>
                  <a:lnTo>
                    <a:pt x="1015" y="81"/>
                  </a:lnTo>
                  <a:lnTo>
                    <a:pt x="1044" y="76"/>
                  </a:lnTo>
                  <a:lnTo>
                    <a:pt x="1072" y="71"/>
                  </a:lnTo>
                  <a:lnTo>
                    <a:pt x="1096" y="62"/>
                  </a:lnTo>
                  <a:lnTo>
                    <a:pt x="1125" y="57"/>
                  </a:lnTo>
                  <a:lnTo>
                    <a:pt x="1144" y="52"/>
                  </a:lnTo>
                  <a:lnTo>
                    <a:pt x="1168" y="47"/>
                  </a:lnTo>
                  <a:lnTo>
                    <a:pt x="1187" y="43"/>
                  </a:lnTo>
                  <a:lnTo>
                    <a:pt x="1202" y="38"/>
                  </a:lnTo>
                  <a:lnTo>
                    <a:pt x="1216" y="33"/>
                  </a:lnTo>
                  <a:lnTo>
                    <a:pt x="1231" y="33"/>
                  </a:lnTo>
                  <a:lnTo>
                    <a:pt x="1240" y="28"/>
                  </a:lnTo>
                  <a:lnTo>
                    <a:pt x="1254" y="24"/>
                  </a:lnTo>
                  <a:lnTo>
                    <a:pt x="1259" y="24"/>
                  </a:lnTo>
                  <a:lnTo>
                    <a:pt x="1264" y="19"/>
                  </a:lnTo>
                  <a:lnTo>
                    <a:pt x="1269" y="19"/>
                  </a:lnTo>
                  <a:lnTo>
                    <a:pt x="1274" y="14"/>
                  </a:lnTo>
                  <a:lnTo>
                    <a:pt x="1283" y="9"/>
                  </a:lnTo>
                  <a:lnTo>
                    <a:pt x="1293" y="4"/>
                  </a:lnTo>
                  <a:lnTo>
                    <a:pt x="1302" y="0"/>
                  </a:lnTo>
                  <a:lnTo>
                    <a:pt x="1317" y="0"/>
                  </a:lnTo>
                  <a:lnTo>
                    <a:pt x="1322" y="0"/>
                  </a:lnTo>
                  <a:lnTo>
                    <a:pt x="1326" y="4"/>
                  </a:lnTo>
                  <a:lnTo>
                    <a:pt x="1336" y="4"/>
                  </a:lnTo>
                  <a:lnTo>
                    <a:pt x="1350" y="9"/>
                  </a:lnTo>
                  <a:lnTo>
                    <a:pt x="1365" y="19"/>
                  </a:lnTo>
                  <a:lnTo>
                    <a:pt x="1379" y="28"/>
                  </a:lnTo>
                  <a:lnTo>
                    <a:pt x="1398" y="38"/>
                  </a:lnTo>
                  <a:lnTo>
                    <a:pt x="1422" y="47"/>
                  </a:lnTo>
                  <a:lnTo>
                    <a:pt x="1436" y="62"/>
                  </a:lnTo>
                  <a:lnTo>
                    <a:pt x="1456" y="71"/>
                  </a:lnTo>
                  <a:lnTo>
                    <a:pt x="1465" y="81"/>
                  </a:lnTo>
                  <a:lnTo>
                    <a:pt x="1480" y="91"/>
                  </a:lnTo>
                  <a:lnTo>
                    <a:pt x="1484" y="100"/>
                  </a:lnTo>
                  <a:lnTo>
                    <a:pt x="1494" y="105"/>
                  </a:lnTo>
                  <a:lnTo>
                    <a:pt x="1499" y="110"/>
                  </a:lnTo>
                  <a:lnTo>
                    <a:pt x="1499" y="115"/>
                  </a:lnTo>
                  <a:lnTo>
                    <a:pt x="1494" y="124"/>
                  </a:lnTo>
                  <a:lnTo>
                    <a:pt x="1489" y="134"/>
                  </a:lnTo>
                  <a:lnTo>
                    <a:pt x="1484" y="143"/>
                  </a:lnTo>
                  <a:lnTo>
                    <a:pt x="1470" y="148"/>
                  </a:lnTo>
                  <a:lnTo>
                    <a:pt x="1460" y="153"/>
                  </a:lnTo>
                  <a:lnTo>
                    <a:pt x="1456" y="162"/>
                  </a:lnTo>
                  <a:lnTo>
                    <a:pt x="1451" y="172"/>
                  </a:lnTo>
                  <a:lnTo>
                    <a:pt x="1446" y="186"/>
                  </a:lnTo>
                  <a:lnTo>
                    <a:pt x="1441" y="201"/>
                  </a:lnTo>
                  <a:lnTo>
                    <a:pt x="1436" y="220"/>
                  </a:lnTo>
                  <a:lnTo>
                    <a:pt x="1432" y="239"/>
                  </a:lnTo>
                  <a:lnTo>
                    <a:pt x="1427" y="263"/>
                  </a:lnTo>
                  <a:lnTo>
                    <a:pt x="1422" y="292"/>
                  </a:lnTo>
                  <a:lnTo>
                    <a:pt x="1417" y="320"/>
                  </a:lnTo>
                  <a:lnTo>
                    <a:pt x="1408" y="354"/>
                  </a:lnTo>
                  <a:lnTo>
                    <a:pt x="1398" y="388"/>
                  </a:lnTo>
                  <a:lnTo>
                    <a:pt x="1384" y="431"/>
                  </a:lnTo>
                  <a:lnTo>
                    <a:pt x="1374" y="474"/>
                  </a:lnTo>
                  <a:lnTo>
                    <a:pt x="1360" y="522"/>
                  </a:lnTo>
                  <a:lnTo>
                    <a:pt x="1341" y="570"/>
                  </a:lnTo>
                  <a:lnTo>
                    <a:pt x="1336" y="598"/>
                  </a:lnTo>
                  <a:lnTo>
                    <a:pt x="1326" y="622"/>
                  </a:lnTo>
                  <a:lnTo>
                    <a:pt x="1317" y="646"/>
                  </a:lnTo>
                  <a:lnTo>
                    <a:pt x="1312" y="665"/>
                  </a:lnTo>
                  <a:lnTo>
                    <a:pt x="1302" y="689"/>
                  </a:lnTo>
                  <a:lnTo>
                    <a:pt x="1293" y="708"/>
                  </a:lnTo>
                  <a:lnTo>
                    <a:pt x="1288" y="728"/>
                  </a:lnTo>
                  <a:lnTo>
                    <a:pt x="1278" y="747"/>
                  </a:lnTo>
                  <a:lnTo>
                    <a:pt x="1269" y="761"/>
                  </a:lnTo>
                  <a:lnTo>
                    <a:pt x="1264" y="775"/>
                  </a:lnTo>
                  <a:lnTo>
                    <a:pt x="1254" y="790"/>
                  </a:lnTo>
                  <a:lnTo>
                    <a:pt x="1250" y="799"/>
                  </a:lnTo>
                  <a:lnTo>
                    <a:pt x="1240" y="814"/>
                  </a:lnTo>
                  <a:lnTo>
                    <a:pt x="1235" y="823"/>
                  </a:lnTo>
                  <a:lnTo>
                    <a:pt x="1226" y="828"/>
                  </a:lnTo>
                  <a:lnTo>
                    <a:pt x="1221" y="838"/>
                  </a:lnTo>
                  <a:lnTo>
                    <a:pt x="1207" y="852"/>
                  </a:lnTo>
                  <a:lnTo>
                    <a:pt x="1192" y="862"/>
                  </a:lnTo>
                  <a:lnTo>
                    <a:pt x="1178" y="871"/>
                  </a:lnTo>
                  <a:lnTo>
                    <a:pt x="1168" y="881"/>
                  </a:lnTo>
                  <a:lnTo>
                    <a:pt x="1159" y="886"/>
                  </a:lnTo>
                  <a:lnTo>
                    <a:pt x="1149" y="890"/>
                  </a:lnTo>
                  <a:lnTo>
                    <a:pt x="1144" y="895"/>
                  </a:lnTo>
                  <a:lnTo>
                    <a:pt x="1135" y="895"/>
                  </a:lnTo>
                  <a:lnTo>
                    <a:pt x="1130" y="895"/>
                  </a:lnTo>
                  <a:lnTo>
                    <a:pt x="1125" y="890"/>
                  </a:lnTo>
                  <a:lnTo>
                    <a:pt x="1120" y="886"/>
                  </a:lnTo>
                  <a:lnTo>
                    <a:pt x="1116" y="881"/>
                  </a:lnTo>
                  <a:lnTo>
                    <a:pt x="1111" y="876"/>
                  </a:lnTo>
                  <a:lnTo>
                    <a:pt x="1106" y="866"/>
                  </a:lnTo>
                  <a:lnTo>
                    <a:pt x="1106" y="857"/>
                  </a:lnTo>
                  <a:lnTo>
                    <a:pt x="1101" y="847"/>
                  </a:lnTo>
                  <a:lnTo>
                    <a:pt x="1096" y="833"/>
                  </a:lnTo>
                  <a:lnTo>
                    <a:pt x="1092" y="819"/>
                  </a:lnTo>
                  <a:lnTo>
                    <a:pt x="1087" y="804"/>
                  </a:lnTo>
                  <a:lnTo>
                    <a:pt x="1077" y="790"/>
                  </a:lnTo>
                  <a:lnTo>
                    <a:pt x="1068" y="775"/>
                  </a:lnTo>
                  <a:lnTo>
                    <a:pt x="1058" y="756"/>
                  </a:lnTo>
                  <a:lnTo>
                    <a:pt x="1049" y="737"/>
                  </a:lnTo>
                  <a:lnTo>
                    <a:pt x="1029" y="723"/>
                  </a:lnTo>
                  <a:lnTo>
                    <a:pt x="1015" y="704"/>
                  </a:lnTo>
                  <a:lnTo>
                    <a:pt x="1005" y="694"/>
                  </a:lnTo>
                  <a:lnTo>
                    <a:pt x="996" y="680"/>
                  </a:lnTo>
                  <a:lnTo>
                    <a:pt x="991" y="670"/>
                  </a:lnTo>
                  <a:lnTo>
                    <a:pt x="986" y="661"/>
                  </a:lnTo>
                  <a:lnTo>
                    <a:pt x="986" y="656"/>
                  </a:lnTo>
                  <a:lnTo>
                    <a:pt x="986" y="651"/>
                  </a:lnTo>
                  <a:lnTo>
                    <a:pt x="986" y="646"/>
                  </a:lnTo>
                  <a:lnTo>
                    <a:pt x="991" y="646"/>
                  </a:lnTo>
                  <a:lnTo>
                    <a:pt x="996" y="646"/>
                  </a:lnTo>
                  <a:lnTo>
                    <a:pt x="1001" y="651"/>
                  </a:lnTo>
                  <a:lnTo>
                    <a:pt x="1010" y="651"/>
                  </a:lnTo>
                  <a:lnTo>
                    <a:pt x="1020" y="656"/>
                  </a:lnTo>
                  <a:lnTo>
                    <a:pt x="1029" y="665"/>
                  </a:lnTo>
                  <a:lnTo>
                    <a:pt x="1044" y="670"/>
                  </a:lnTo>
                  <a:lnTo>
                    <a:pt x="1058" y="680"/>
                  </a:lnTo>
                  <a:lnTo>
                    <a:pt x="1068" y="689"/>
                  </a:lnTo>
                  <a:lnTo>
                    <a:pt x="1082" y="694"/>
                  </a:lnTo>
                  <a:lnTo>
                    <a:pt x="1092" y="699"/>
                  </a:lnTo>
                  <a:lnTo>
                    <a:pt x="1101" y="704"/>
                  </a:lnTo>
                  <a:lnTo>
                    <a:pt x="1111" y="708"/>
                  </a:lnTo>
                  <a:lnTo>
                    <a:pt x="1120" y="708"/>
                  </a:lnTo>
                  <a:lnTo>
                    <a:pt x="1130" y="708"/>
                  </a:lnTo>
                  <a:lnTo>
                    <a:pt x="1135" y="704"/>
                  </a:lnTo>
                  <a:close/>
                  <a:moveTo>
                    <a:pt x="1551" y="421"/>
                  </a:moveTo>
                  <a:lnTo>
                    <a:pt x="1571" y="431"/>
                  </a:lnTo>
                  <a:lnTo>
                    <a:pt x="1590" y="435"/>
                  </a:lnTo>
                  <a:lnTo>
                    <a:pt x="1604" y="440"/>
                  </a:lnTo>
                  <a:lnTo>
                    <a:pt x="1618" y="445"/>
                  </a:lnTo>
                  <a:lnTo>
                    <a:pt x="1633" y="455"/>
                  </a:lnTo>
                  <a:lnTo>
                    <a:pt x="1642" y="459"/>
                  </a:lnTo>
                  <a:lnTo>
                    <a:pt x="1647" y="464"/>
                  </a:lnTo>
                  <a:lnTo>
                    <a:pt x="1652" y="474"/>
                  </a:lnTo>
                  <a:lnTo>
                    <a:pt x="1657" y="488"/>
                  </a:lnTo>
                  <a:lnTo>
                    <a:pt x="1662" y="502"/>
                  </a:lnTo>
                  <a:lnTo>
                    <a:pt x="1662" y="522"/>
                  </a:lnTo>
                  <a:lnTo>
                    <a:pt x="1662" y="536"/>
                  </a:lnTo>
                  <a:lnTo>
                    <a:pt x="1662" y="546"/>
                  </a:lnTo>
                  <a:lnTo>
                    <a:pt x="1657" y="555"/>
                  </a:lnTo>
                  <a:lnTo>
                    <a:pt x="1657" y="560"/>
                  </a:lnTo>
                  <a:lnTo>
                    <a:pt x="1652" y="570"/>
                  </a:lnTo>
                  <a:lnTo>
                    <a:pt x="1642" y="574"/>
                  </a:lnTo>
                  <a:lnTo>
                    <a:pt x="1638" y="574"/>
                  </a:lnTo>
                  <a:lnTo>
                    <a:pt x="1628" y="579"/>
                  </a:lnTo>
                  <a:lnTo>
                    <a:pt x="1618" y="579"/>
                  </a:lnTo>
                  <a:lnTo>
                    <a:pt x="1614" y="579"/>
                  </a:lnTo>
                  <a:lnTo>
                    <a:pt x="1604" y="579"/>
                  </a:lnTo>
                  <a:lnTo>
                    <a:pt x="1595" y="574"/>
                  </a:lnTo>
                  <a:lnTo>
                    <a:pt x="1585" y="570"/>
                  </a:lnTo>
                  <a:lnTo>
                    <a:pt x="1575" y="565"/>
                  </a:lnTo>
                  <a:lnTo>
                    <a:pt x="1561" y="560"/>
                  </a:lnTo>
                  <a:lnTo>
                    <a:pt x="1547" y="550"/>
                  </a:lnTo>
                  <a:lnTo>
                    <a:pt x="1527" y="541"/>
                  </a:lnTo>
                  <a:lnTo>
                    <a:pt x="1508" y="531"/>
                  </a:lnTo>
                  <a:lnTo>
                    <a:pt x="1489" y="522"/>
                  </a:lnTo>
                  <a:lnTo>
                    <a:pt x="1470" y="507"/>
                  </a:lnTo>
                  <a:lnTo>
                    <a:pt x="1446" y="498"/>
                  </a:lnTo>
                  <a:lnTo>
                    <a:pt x="1422" y="483"/>
                  </a:lnTo>
                  <a:lnTo>
                    <a:pt x="1398" y="464"/>
                  </a:lnTo>
                  <a:lnTo>
                    <a:pt x="1369" y="450"/>
                  </a:lnTo>
                  <a:lnTo>
                    <a:pt x="1341" y="431"/>
                  </a:lnTo>
                  <a:lnTo>
                    <a:pt x="1360" y="421"/>
                  </a:lnTo>
                  <a:lnTo>
                    <a:pt x="1379" y="411"/>
                  </a:lnTo>
                  <a:lnTo>
                    <a:pt x="1403" y="402"/>
                  </a:lnTo>
                  <a:lnTo>
                    <a:pt x="1422" y="397"/>
                  </a:lnTo>
                  <a:lnTo>
                    <a:pt x="1432" y="397"/>
                  </a:lnTo>
                  <a:lnTo>
                    <a:pt x="1441" y="397"/>
                  </a:lnTo>
                  <a:lnTo>
                    <a:pt x="1456" y="402"/>
                  </a:lnTo>
                  <a:lnTo>
                    <a:pt x="1470" y="402"/>
                  </a:lnTo>
                  <a:lnTo>
                    <a:pt x="1489" y="407"/>
                  </a:lnTo>
                  <a:lnTo>
                    <a:pt x="1508" y="411"/>
                  </a:lnTo>
                  <a:lnTo>
                    <a:pt x="1527" y="416"/>
                  </a:lnTo>
                  <a:lnTo>
                    <a:pt x="1551" y="421"/>
                  </a:lnTo>
                  <a:close/>
                  <a:moveTo>
                    <a:pt x="1542" y="953"/>
                  </a:moveTo>
                  <a:lnTo>
                    <a:pt x="1575" y="953"/>
                  </a:lnTo>
                  <a:lnTo>
                    <a:pt x="1604" y="962"/>
                  </a:lnTo>
                  <a:lnTo>
                    <a:pt x="1623" y="962"/>
                  </a:lnTo>
                  <a:lnTo>
                    <a:pt x="1638" y="972"/>
                  </a:lnTo>
                  <a:lnTo>
                    <a:pt x="1652" y="977"/>
                  </a:lnTo>
                  <a:lnTo>
                    <a:pt x="1671" y="986"/>
                  </a:lnTo>
                  <a:lnTo>
                    <a:pt x="1686" y="996"/>
                  </a:lnTo>
                  <a:lnTo>
                    <a:pt x="1700" y="1005"/>
                  </a:lnTo>
                  <a:lnTo>
                    <a:pt x="1709" y="1010"/>
                  </a:lnTo>
                  <a:lnTo>
                    <a:pt x="1724" y="1015"/>
                  </a:lnTo>
                  <a:lnTo>
                    <a:pt x="1729" y="1025"/>
                  </a:lnTo>
                  <a:lnTo>
                    <a:pt x="1738" y="1029"/>
                  </a:lnTo>
                  <a:lnTo>
                    <a:pt x="1743" y="1034"/>
                  </a:lnTo>
                  <a:lnTo>
                    <a:pt x="1748" y="1034"/>
                  </a:lnTo>
                  <a:lnTo>
                    <a:pt x="1753" y="1049"/>
                  </a:lnTo>
                  <a:lnTo>
                    <a:pt x="1753" y="1053"/>
                  </a:lnTo>
                  <a:lnTo>
                    <a:pt x="1753" y="1063"/>
                  </a:lnTo>
                  <a:lnTo>
                    <a:pt x="1748" y="1068"/>
                  </a:lnTo>
                  <a:lnTo>
                    <a:pt x="1743" y="1072"/>
                  </a:lnTo>
                  <a:lnTo>
                    <a:pt x="1733" y="1072"/>
                  </a:lnTo>
                  <a:lnTo>
                    <a:pt x="1729" y="1077"/>
                  </a:lnTo>
                  <a:lnTo>
                    <a:pt x="1719" y="1077"/>
                  </a:lnTo>
                  <a:lnTo>
                    <a:pt x="1705" y="1077"/>
                  </a:lnTo>
                  <a:lnTo>
                    <a:pt x="1690" y="1077"/>
                  </a:lnTo>
                  <a:lnTo>
                    <a:pt x="1676" y="1077"/>
                  </a:lnTo>
                  <a:lnTo>
                    <a:pt x="1662" y="1082"/>
                  </a:lnTo>
                  <a:lnTo>
                    <a:pt x="1642" y="1082"/>
                  </a:lnTo>
                  <a:lnTo>
                    <a:pt x="1618" y="1082"/>
                  </a:lnTo>
                  <a:lnTo>
                    <a:pt x="1599" y="1082"/>
                  </a:lnTo>
                  <a:lnTo>
                    <a:pt x="1575" y="1082"/>
                  </a:lnTo>
                  <a:lnTo>
                    <a:pt x="1547" y="1077"/>
                  </a:lnTo>
                  <a:lnTo>
                    <a:pt x="1518" y="1077"/>
                  </a:lnTo>
                  <a:lnTo>
                    <a:pt x="1489" y="1077"/>
                  </a:lnTo>
                  <a:lnTo>
                    <a:pt x="1427" y="1072"/>
                  </a:lnTo>
                  <a:lnTo>
                    <a:pt x="1365" y="1072"/>
                  </a:lnTo>
                  <a:lnTo>
                    <a:pt x="1245" y="1077"/>
                  </a:lnTo>
                  <a:lnTo>
                    <a:pt x="1125" y="1077"/>
                  </a:lnTo>
                  <a:lnTo>
                    <a:pt x="1005" y="1087"/>
                  </a:lnTo>
                  <a:lnTo>
                    <a:pt x="948" y="1092"/>
                  </a:lnTo>
                  <a:lnTo>
                    <a:pt x="895" y="1096"/>
                  </a:lnTo>
                  <a:lnTo>
                    <a:pt x="843" y="1106"/>
                  </a:lnTo>
                  <a:lnTo>
                    <a:pt x="790" y="1111"/>
                  </a:lnTo>
                  <a:lnTo>
                    <a:pt x="742" y="1116"/>
                  </a:lnTo>
                  <a:lnTo>
                    <a:pt x="694" y="1120"/>
                  </a:lnTo>
                  <a:lnTo>
                    <a:pt x="651" y="1125"/>
                  </a:lnTo>
                  <a:lnTo>
                    <a:pt x="608" y="1125"/>
                  </a:lnTo>
                  <a:lnTo>
                    <a:pt x="526" y="1140"/>
                  </a:lnTo>
                  <a:lnTo>
                    <a:pt x="440" y="1149"/>
                  </a:lnTo>
                  <a:lnTo>
                    <a:pt x="354" y="1159"/>
                  </a:lnTo>
                  <a:lnTo>
                    <a:pt x="273" y="1168"/>
                  </a:lnTo>
                  <a:lnTo>
                    <a:pt x="253" y="1173"/>
                  </a:lnTo>
                  <a:lnTo>
                    <a:pt x="234" y="1173"/>
                  </a:lnTo>
                  <a:lnTo>
                    <a:pt x="215" y="1178"/>
                  </a:lnTo>
                  <a:lnTo>
                    <a:pt x="196" y="1178"/>
                  </a:lnTo>
                  <a:lnTo>
                    <a:pt x="182" y="1183"/>
                  </a:lnTo>
                  <a:lnTo>
                    <a:pt x="167" y="1183"/>
                  </a:lnTo>
                  <a:lnTo>
                    <a:pt x="153" y="1187"/>
                  </a:lnTo>
                  <a:lnTo>
                    <a:pt x="143" y="1187"/>
                  </a:lnTo>
                  <a:lnTo>
                    <a:pt x="134" y="1187"/>
                  </a:lnTo>
                  <a:lnTo>
                    <a:pt x="124" y="1192"/>
                  </a:lnTo>
                  <a:lnTo>
                    <a:pt x="115" y="1192"/>
                  </a:lnTo>
                  <a:lnTo>
                    <a:pt x="105" y="1192"/>
                  </a:lnTo>
                  <a:lnTo>
                    <a:pt x="100" y="1192"/>
                  </a:lnTo>
                  <a:lnTo>
                    <a:pt x="95" y="1192"/>
                  </a:lnTo>
                  <a:lnTo>
                    <a:pt x="91" y="1192"/>
                  </a:lnTo>
                  <a:lnTo>
                    <a:pt x="86" y="1192"/>
                  </a:lnTo>
                  <a:lnTo>
                    <a:pt x="81" y="1192"/>
                  </a:lnTo>
                  <a:lnTo>
                    <a:pt x="76" y="1187"/>
                  </a:lnTo>
                  <a:lnTo>
                    <a:pt x="67" y="1187"/>
                  </a:lnTo>
                  <a:lnTo>
                    <a:pt x="57" y="1183"/>
                  </a:lnTo>
                  <a:lnTo>
                    <a:pt x="47" y="1178"/>
                  </a:lnTo>
                  <a:lnTo>
                    <a:pt x="38" y="1168"/>
                  </a:lnTo>
                  <a:lnTo>
                    <a:pt x="28" y="1159"/>
                  </a:lnTo>
                  <a:lnTo>
                    <a:pt x="24" y="1149"/>
                  </a:lnTo>
                  <a:lnTo>
                    <a:pt x="14" y="1144"/>
                  </a:lnTo>
                  <a:lnTo>
                    <a:pt x="9" y="1135"/>
                  </a:lnTo>
                  <a:lnTo>
                    <a:pt x="4" y="1130"/>
                  </a:lnTo>
                  <a:lnTo>
                    <a:pt x="4" y="1125"/>
                  </a:lnTo>
                  <a:lnTo>
                    <a:pt x="0" y="1120"/>
                  </a:lnTo>
                  <a:lnTo>
                    <a:pt x="4" y="1116"/>
                  </a:lnTo>
                  <a:lnTo>
                    <a:pt x="4" y="1111"/>
                  </a:lnTo>
                  <a:lnTo>
                    <a:pt x="9" y="1106"/>
                  </a:lnTo>
                  <a:lnTo>
                    <a:pt x="19" y="1106"/>
                  </a:lnTo>
                  <a:lnTo>
                    <a:pt x="28" y="1106"/>
                  </a:lnTo>
                  <a:lnTo>
                    <a:pt x="43" y="1101"/>
                  </a:lnTo>
                  <a:lnTo>
                    <a:pt x="62" y="1101"/>
                  </a:lnTo>
                  <a:lnTo>
                    <a:pt x="86" y="1101"/>
                  </a:lnTo>
                  <a:lnTo>
                    <a:pt x="115" y="1096"/>
                  </a:lnTo>
                  <a:lnTo>
                    <a:pt x="143" y="1092"/>
                  </a:lnTo>
                  <a:lnTo>
                    <a:pt x="177" y="1092"/>
                  </a:lnTo>
                  <a:lnTo>
                    <a:pt x="215" y="1087"/>
                  </a:lnTo>
                  <a:lnTo>
                    <a:pt x="258" y="1082"/>
                  </a:lnTo>
                  <a:lnTo>
                    <a:pt x="306" y="1082"/>
                  </a:lnTo>
                  <a:lnTo>
                    <a:pt x="354" y="1077"/>
                  </a:lnTo>
                  <a:lnTo>
                    <a:pt x="411" y="1072"/>
                  </a:lnTo>
                  <a:lnTo>
                    <a:pt x="469" y="1068"/>
                  </a:lnTo>
                  <a:lnTo>
                    <a:pt x="531" y="1063"/>
                  </a:lnTo>
                  <a:lnTo>
                    <a:pt x="651" y="1049"/>
                  </a:lnTo>
                  <a:lnTo>
                    <a:pt x="713" y="1044"/>
                  </a:lnTo>
                  <a:lnTo>
                    <a:pt x="771" y="1034"/>
                  </a:lnTo>
                  <a:lnTo>
                    <a:pt x="828" y="1029"/>
                  </a:lnTo>
                  <a:lnTo>
                    <a:pt x="881" y="1025"/>
                  </a:lnTo>
                  <a:lnTo>
                    <a:pt x="938" y="1015"/>
                  </a:lnTo>
                  <a:lnTo>
                    <a:pt x="986" y="1010"/>
                  </a:lnTo>
                  <a:lnTo>
                    <a:pt x="1039" y="1005"/>
                  </a:lnTo>
                  <a:lnTo>
                    <a:pt x="1087" y="1005"/>
                  </a:lnTo>
                  <a:lnTo>
                    <a:pt x="1135" y="1001"/>
                  </a:lnTo>
                  <a:lnTo>
                    <a:pt x="1183" y="991"/>
                  </a:lnTo>
                  <a:lnTo>
                    <a:pt x="1226" y="986"/>
                  </a:lnTo>
                  <a:lnTo>
                    <a:pt x="1264" y="981"/>
                  </a:lnTo>
                  <a:lnTo>
                    <a:pt x="1307" y="977"/>
                  </a:lnTo>
                  <a:lnTo>
                    <a:pt x="1341" y="967"/>
                  </a:lnTo>
                  <a:lnTo>
                    <a:pt x="1379" y="967"/>
                  </a:lnTo>
                  <a:lnTo>
                    <a:pt x="1408" y="962"/>
                  </a:lnTo>
                  <a:lnTo>
                    <a:pt x="1436" y="962"/>
                  </a:lnTo>
                  <a:lnTo>
                    <a:pt x="1465" y="958"/>
                  </a:lnTo>
                  <a:lnTo>
                    <a:pt x="1489" y="958"/>
                  </a:lnTo>
                  <a:lnTo>
                    <a:pt x="1508" y="953"/>
                  </a:lnTo>
                  <a:lnTo>
                    <a:pt x="1527" y="953"/>
                  </a:lnTo>
                  <a:lnTo>
                    <a:pt x="1542" y="953"/>
                  </a:lnTo>
                  <a:close/>
                  <a:moveTo>
                    <a:pt x="790" y="962"/>
                  </a:moveTo>
                  <a:lnTo>
                    <a:pt x="780" y="943"/>
                  </a:lnTo>
                  <a:lnTo>
                    <a:pt x="771" y="929"/>
                  </a:lnTo>
                  <a:lnTo>
                    <a:pt x="771" y="924"/>
                  </a:lnTo>
                  <a:lnTo>
                    <a:pt x="771" y="914"/>
                  </a:lnTo>
                  <a:lnTo>
                    <a:pt x="771" y="910"/>
                  </a:lnTo>
                  <a:lnTo>
                    <a:pt x="771" y="905"/>
                  </a:lnTo>
                  <a:lnTo>
                    <a:pt x="775" y="895"/>
                  </a:lnTo>
                  <a:lnTo>
                    <a:pt x="780" y="890"/>
                  </a:lnTo>
                  <a:lnTo>
                    <a:pt x="785" y="890"/>
                  </a:lnTo>
                  <a:lnTo>
                    <a:pt x="790" y="886"/>
                  </a:lnTo>
                  <a:lnTo>
                    <a:pt x="799" y="886"/>
                  </a:lnTo>
                  <a:lnTo>
                    <a:pt x="809" y="886"/>
                  </a:lnTo>
                  <a:lnTo>
                    <a:pt x="828" y="886"/>
                  </a:lnTo>
                  <a:lnTo>
                    <a:pt x="847" y="890"/>
                  </a:lnTo>
                  <a:lnTo>
                    <a:pt x="871" y="895"/>
                  </a:lnTo>
                  <a:lnTo>
                    <a:pt x="895" y="905"/>
                  </a:lnTo>
                  <a:lnTo>
                    <a:pt x="910" y="919"/>
                  </a:lnTo>
                  <a:lnTo>
                    <a:pt x="919" y="924"/>
                  </a:lnTo>
                  <a:lnTo>
                    <a:pt x="924" y="934"/>
                  </a:lnTo>
                  <a:lnTo>
                    <a:pt x="929" y="943"/>
                  </a:lnTo>
                  <a:lnTo>
                    <a:pt x="929" y="953"/>
                  </a:lnTo>
                  <a:lnTo>
                    <a:pt x="929" y="962"/>
                  </a:lnTo>
                  <a:lnTo>
                    <a:pt x="929" y="967"/>
                  </a:lnTo>
                  <a:lnTo>
                    <a:pt x="929" y="977"/>
                  </a:lnTo>
                  <a:lnTo>
                    <a:pt x="924" y="986"/>
                  </a:lnTo>
                  <a:lnTo>
                    <a:pt x="924" y="1001"/>
                  </a:lnTo>
                  <a:lnTo>
                    <a:pt x="924" y="1015"/>
                  </a:lnTo>
                  <a:lnTo>
                    <a:pt x="919" y="1034"/>
                  </a:lnTo>
                  <a:lnTo>
                    <a:pt x="919" y="1058"/>
                  </a:lnTo>
                  <a:lnTo>
                    <a:pt x="919" y="1077"/>
                  </a:lnTo>
                  <a:lnTo>
                    <a:pt x="914" y="1106"/>
                  </a:lnTo>
                  <a:lnTo>
                    <a:pt x="914" y="1135"/>
                  </a:lnTo>
                  <a:lnTo>
                    <a:pt x="914" y="1168"/>
                  </a:lnTo>
                  <a:lnTo>
                    <a:pt x="914" y="1202"/>
                  </a:lnTo>
                  <a:lnTo>
                    <a:pt x="914" y="1240"/>
                  </a:lnTo>
                  <a:lnTo>
                    <a:pt x="910" y="1278"/>
                  </a:lnTo>
                  <a:lnTo>
                    <a:pt x="910" y="1322"/>
                  </a:lnTo>
                  <a:lnTo>
                    <a:pt x="910" y="1369"/>
                  </a:lnTo>
                  <a:lnTo>
                    <a:pt x="910" y="1417"/>
                  </a:lnTo>
                  <a:lnTo>
                    <a:pt x="910" y="1465"/>
                  </a:lnTo>
                  <a:lnTo>
                    <a:pt x="910" y="1513"/>
                  </a:lnTo>
                  <a:lnTo>
                    <a:pt x="910" y="1556"/>
                  </a:lnTo>
                  <a:lnTo>
                    <a:pt x="910" y="1595"/>
                  </a:lnTo>
                  <a:lnTo>
                    <a:pt x="910" y="1633"/>
                  </a:lnTo>
                  <a:lnTo>
                    <a:pt x="910" y="1666"/>
                  </a:lnTo>
                  <a:lnTo>
                    <a:pt x="905" y="1700"/>
                  </a:lnTo>
                  <a:lnTo>
                    <a:pt x="905" y="1729"/>
                  </a:lnTo>
                  <a:lnTo>
                    <a:pt x="905" y="1753"/>
                  </a:lnTo>
                  <a:lnTo>
                    <a:pt x="905" y="1777"/>
                  </a:lnTo>
                  <a:lnTo>
                    <a:pt x="900" y="1800"/>
                  </a:lnTo>
                  <a:lnTo>
                    <a:pt x="900" y="1820"/>
                  </a:lnTo>
                  <a:lnTo>
                    <a:pt x="900" y="1834"/>
                  </a:lnTo>
                  <a:lnTo>
                    <a:pt x="895" y="1848"/>
                  </a:lnTo>
                  <a:lnTo>
                    <a:pt x="895" y="1858"/>
                  </a:lnTo>
                  <a:lnTo>
                    <a:pt x="895" y="1863"/>
                  </a:lnTo>
                  <a:lnTo>
                    <a:pt x="881" y="1882"/>
                  </a:lnTo>
                  <a:lnTo>
                    <a:pt x="871" y="1896"/>
                  </a:lnTo>
                  <a:lnTo>
                    <a:pt x="862" y="1901"/>
                  </a:lnTo>
                  <a:lnTo>
                    <a:pt x="857" y="1906"/>
                  </a:lnTo>
                  <a:lnTo>
                    <a:pt x="852" y="1906"/>
                  </a:lnTo>
                  <a:lnTo>
                    <a:pt x="847" y="1906"/>
                  </a:lnTo>
                  <a:lnTo>
                    <a:pt x="843" y="1901"/>
                  </a:lnTo>
                  <a:lnTo>
                    <a:pt x="838" y="1896"/>
                  </a:lnTo>
                  <a:lnTo>
                    <a:pt x="833" y="1887"/>
                  </a:lnTo>
                  <a:lnTo>
                    <a:pt x="828" y="1877"/>
                  </a:lnTo>
                  <a:lnTo>
                    <a:pt x="819" y="1863"/>
                  </a:lnTo>
                  <a:lnTo>
                    <a:pt x="814" y="1844"/>
                  </a:lnTo>
                  <a:lnTo>
                    <a:pt x="809" y="1824"/>
                  </a:lnTo>
                  <a:lnTo>
                    <a:pt x="799" y="1800"/>
                  </a:lnTo>
                  <a:lnTo>
                    <a:pt x="795" y="1781"/>
                  </a:lnTo>
                  <a:lnTo>
                    <a:pt x="790" y="1762"/>
                  </a:lnTo>
                  <a:lnTo>
                    <a:pt x="785" y="1743"/>
                  </a:lnTo>
                  <a:lnTo>
                    <a:pt x="785" y="1724"/>
                  </a:lnTo>
                  <a:lnTo>
                    <a:pt x="785" y="1705"/>
                  </a:lnTo>
                  <a:lnTo>
                    <a:pt x="785" y="1686"/>
                  </a:lnTo>
                  <a:lnTo>
                    <a:pt x="790" y="1666"/>
                  </a:lnTo>
                  <a:lnTo>
                    <a:pt x="795" y="1647"/>
                  </a:lnTo>
                  <a:lnTo>
                    <a:pt x="799" y="1628"/>
                  </a:lnTo>
                  <a:lnTo>
                    <a:pt x="804" y="1609"/>
                  </a:lnTo>
                  <a:lnTo>
                    <a:pt x="809" y="1585"/>
                  </a:lnTo>
                  <a:lnTo>
                    <a:pt x="814" y="1556"/>
                  </a:lnTo>
                  <a:lnTo>
                    <a:pt x="819" y="1523"/>
                  </a:lnTo>
                  <a:lnTo>
                    <a:pt x="819" y="1489"/>
                  </a:lnTo>
                  <a:lnTo>
                    <a:pt x="823" y="1451"/>
                  </a:lnTo>
                  <a:lnTo>
                    <a:pt x="828" y="1374"/>
                  </a:lnTo>
                  <a:lnTo>
                    <a:pt x="833" y="1302"/>
                  </a:lnTo>
                  <a:lnTo>
                    <a:pt x="833" y="1221"/>
                  </a:lnTo>
                  <a:lnTo>
                    <a:pt x="833" y="1144"/>
                  </a:lnTo>
                  <a:lnTo>
                    <a:pt x="828" y="1106"/>
                  </a:lnTo>
                  <a:lnTo>
                    <a:pt x="828" y="1077"/>
                  </a:lnTo>
                  <a:lnTo>
                    <a:pt x="823" y="1049"/>
                  </a:lnTo>
                  <a:lnTo>
                    <a:pt x="819" y="1025"/>
                  </a:lnTo>
                  <a:lnTo>
                    <a:pt x="814" y="1005"/>
                  </a:lnTo>
                  <a:lnTo>
                    <a:pt x="804" y="986"/>
                  </a:lnTo>
                  <a:lnTo>
                    <a:pt x="799" y="972"/>
                  </a:lnTo>
                  <a:lnTo>
                    <a:pt x="790" y="962"/>
                  </a:lnTo>
                  <a:close/>
                  <a:moveTo>
                    <a:pt x="421" y="1556"/>
                  </a:moveTo>
                  <a:lnTo>
                    <a:pt x="359" y="1595"/>
                  </a:lnTo>
                  <a:lnTo>
                    <a:pt x="297" y="1628"/>
                  </a:lnTo>
                  <a:lnTo>
                    <a:pt x="239" y="1662"/>
                  </a:lnTo>
                  <a:lnTo>
                    <a:pt x="177" y="1700"/>
                  </a:lnTo>
                  <a:lnTo>
                    <a:pt x="148" y="1714"/>
                  </a:lnTo>
                  <a:lnTo>
                    <a:pt x="124" y="1724"/>
                  </a:lnTo>
                  <a:lnTo>
                    <a:pt x="105" y="1733"/>
                  </a:lnTo>
                  <a:lnTo>
                    <a:pt x="86" y="1738"/>
                  </a:lnTo>
                  <a:lnTo>
                    <a:pt x="71" y="1743"/>
                  </a:lnTo>
                  <a:lnTo>
                    <a:pt x="62" y="1743"/>
                  </a:lnTo>
                  <a:lnTo>
                    <a:pt x="52" y="1743"/>
                  </a:lnTo>
                  <a:lnTo>
                    <a:pt x="47" y="1743"/>
                  </a:lnTo>
                  <a:lnTo>
                    <a:pt x="47" y="1738"/>
                  </a:lnTo>
                  <a:lnTo>
                    <a:pt x="47" y="1729"/>
                  </a:lnTo>
                  <a:lnTo>
                    <a:pt x="52" y="1724"/>
                  </a:lnTo>
                  <a:lnTo>
                    <a:pt x="62" y="1714"/>
                  </a:lnTo>
                  <a:lnTo>
                    <a:pt x="76" y="1700"/>
                  </a:lnTo>
                  <a:lnTo>
                    <a:pt x="95" y="1686"/>
                  </a:lnTo>
                  <a:lnTo>
                    <a:pt x="115" y="1671"/>
                  </a:lnTo>
                  <a:lnTo>
                    <a:pt x="143" y="1657"/>
                  </a:lnTo>
                  <a:lnTo>
                    <a:pt x="196" y="1623"/>
                  </a:lnTo>
                  <a:lnTo>
                    <a:pt x="244" y="1590"/>
                  </a:lnTo>
                  <a:lnTo>
                    <a:pt x="297" y="1551"/>
                  </a:lnTo>
                  <a:lnTo>
                    <a:pt x="340" y="1508"/>
                  </a:lnTo>
                  <a:lnTo>
                    <a:pt x="354" y="1499"/>
                  </a:lnTo>
                  <a:lnTo>
                    <a:pt x="368" y="1484"/>
                  </a:lnTo>
                  <a:lnTo>
                    <a:pt x="383" y="1470"/>
                  </a:lnTo>
                  <a:lnTo>
                    <a:pt x="402" y="1456"/>
                  </a:lnTo>
                  <a:lnTo>
                    <a:pt x="421" y="1436"/>
                  </a:lnTo>
                  <a:lnTo>
                    <a:pt x="440" y="1413"/>
                  </a:lnTo>
                  <a:lnTo>
                    <a:pt x="459" y="1393"/>
                  </a:lnTo>
                  <a:lnTo>
                    <a:pt x="483" y="1365"/>
                  </a:lnTo>
                  <a:lnTo>
                    <a:pt x="512" y="1341"/>
                  </a:lnTo>
                  <a:lnTo>
                    <a:pt x="541" y="1307"/>
                  </a:lnTo>
                  <a:lnTo>
                    <a:pt x="570" y="1278"/>
                  </a:lnTo>
                  <a:lnTo>
                    <a:pt x="598" y="1245"/>
                  </a:lnTo>
                  <a:lnTo>
                    <a:pt x="632" y="1207"/>
                  </a:lnTo>
                  <a:lnTo>
                    <a:pt x="665" y="1168"/>
                  </a:lnTo>
                  <a:lnTo>
                    <a:pt x="699" y="1130"/>
                  </a:lnTo>
                  <a:lnTo>
                    <a:pt x="737" y="1087"/>
                  </a:lnTo>
                  <a:lnTo>
                    <a:pt x="804" y="1101"/>
                  </a:lnTo>
                  <a:lnTo>
                    <a:pt x="866" y="1120"/>
                  </a:lnTo>
                  <a:lnTo>
                    <a:pt x="828" y="1163"/>
                  </a:lnTo>
                  <a:lnTo>
                    <a:pt x="790" y="1207"/>
                  </a:lnTo>
                  <a:lnTo>
                    <a:pt x="752" y="1245"/>
                  </a:lnTo>
                  <a:lnTo>
                    <a:pt x="718" y="1283"/>
                  </a:lnTo>
                  <a:lnTo>
                    <a:pt x="684" y="1317"/>
                  </a:lnTo>
                  <a:lnTo>
                    <a:pt x="651" y="1350"/>
                  </a:lnTo>
                  <a:lnTo>
                    <a:pt x="622" y="1379"/>
                  </a:lnTo>
                  <a:lnTo>
                    <a:pt x="593" y="1408"/>
                  </a:lnTo>
                  <a:lnTo>
                    <a:pt x="565" y="1432"/>
                  </a:lnTo>
                  <a:lnTo>
                    <a:pt x="541" y="1456"/>
                  </a:lnTo>
                  <a:lnTo>
                    <a:pt x="512" y="1480"/>
                  </a:lnTo>
                  <a:lnTo>
                    <a:pt x="493" y="1499"/>
                  </a:lnTo>
                  <a:lnTo>
                    <a:pt x="469" y="1518"/>
                  </a:lnTo>
                  <a:lnTo>
                    <a:pt x="450" y="1532"/>
                  </a:lnTo>
                  <a:lnTo>
                    <a:pt x="435" y="1547"/>
                  </a:lnTo>
                  <a:lnTo>
                    <a:pt x="421" y="1556"/>
                  </a:lnTo>
                  <a:close/>
                  <a:moveTo>
                    <a:pt x="876" y="1077"/>
                  </a:moveTo>
                  <a:lnTo>
                    <a:pt x="905" y="1106"/>
                  </a:lnTo>
                  <a:lnTo>
                    <a:pt x="938" y="1135"/>
                  </a:lnTo>
                  <a:lnTo>
                    <a:pt x="977" y="1163"/>
                  </a:lnTo>
                  <a:lnTo>
                    <a:pt x="1010" y="1192"/>
                  </a:lnTo>
                  <a:lnTo>
                    <a:pt x="1053" y="1221"/>
                  </a:lnTo>
                  <a:lnTo>
                    <a:pt x="1096" y="1250"/>
                  </a:lnTo>
                  <a:lnTo>
                    <a:pt x="1140" y="1278"/>
                  </a:lnTo>
                  <a:lnTo>
                    <a:pt x="1187" y="1307"/>
                  </a:lnTo>
                  <a:lnTo>
                    <a:pt x="1235" y="1345"/>
                  </a:lnTo>
                  <a:lnTo>
                    <a:pt x="1283" y="1374"/>
                  </a:lnTo>
                  <a:lnTo>
                    <a:pt x="1336" y="1403"/>
                  </a:lnTo>
                  <a:lnTo>
                    <a:pt x="1389" y="1432"/>
                  </a:lnTo>
                  <a:lnTo>
                    <a:pt x="1446" y="1460"/>
                  </a:lnTo>
                  <a:lnTo>
                    <a:pt x="1508" y="1484"/>
                  </a:lnTo>
                  <a:lnTo>
                    <a:pt x="1571" y="1508"/>
                  </a:lnTo>
                  <a:lnTo>
                    <a:pt x="1638" y="1532"/>
                  </a:lnTo>
                  <a:lnTo>
                    <a:pt x="1666" y="1547"/>
                  </a:lnTo>
                  <a:lnTo>
                    <a:pt x="1700" y="1556"/>
                  </a:lnTo>
                  <a:lnTo>
                    <a:pt x="1729" y="1566"/>
                  </a:lnTo>
                  <a:lnTo>
                    <a:pt x="1753" y="1575"/>
                  </a:lnTo>
                  <a:lnTo>
                    <a:pt x="1777" y="1585"/>
                  </a:lnTo>
                  <a:lnTo>
                    <a:pt x="1800" y="1595"/>
                  </a:lnTo>
                  <a:lnTo>
                    <a:pt x="1820" y="1604"/>
                  </a:lnTo>
                  <a:lnTo>
                    <a:pt x="1839" y="1609"/>
                  </a:lnTo>
                  <a:lnTo>
                    <a:pt x="1853" y="1614"/>
                  </a:lnTo>
                  <a:lnTo>
                    <a:pt x="1868" y="1623"/>
                  </a:lnTo>
                  <a:lnTo>
                    <a:pt x="1877" y="1628"/>
                  </a:lnTo>
                  <a:lnTo>
                    <a:pt x="1887" y="1628"/>
                  </a:lnTo>
                  <a:lnTo>
                    <a:pt x="1896" y="1633"/>
                  </a:lnTo>
                  <a:lnTo>
                    <a:pt x="1901" y="1638"/>
                  </a:lnTo>
                  <a:lnTo>
                    <a:pt x="1901" y="1642"/>
                  </a:lnTo>
                  <a:lnTo>
                    <a:pt x="1896" y="1647"/>
                  </a:lnTo>
                  <a:lnTo>
                    <a:pt x="1891" y="1647"/>
                  </a:lnTo>
                  <a:lnTo>
                    <a:pt x="1887" y="1652"/>
                  </a:lnTo>
                  <a:lnTo>
                    <a:pt x="1882" y="1652"/>
                  </a:lnTo>
                  <a:lnTo>
                    <a:pt x="1872" y="1657"/>
                  </a:lnTo>
                  <a:lnTo>
                    <a:pt x="1863" y="1657"/>
                  </a:lnTo>
                  <a:lnTo>
                    <a:pt x="1853" y="1662"/>
                  </a:lnTo>
                  <a:lnTo>
                    <a:pt x="1844" y="1666"/>
                  </a:lnTo>
                  <a:lnTo>
                    <a:pt x="1829" y="1666"/>
                  </a:lnTo>
                  <a:lnTo>
                    <a:pt x="1815" y="1671"/>
                  </a:lnTo>
                  <a:lnTo>
                    <a:pt x="1800" y="1671"/>
                  </a:lnTo>
                  <a:lnTo>
                    <a:pt x="1786" y="1676"/>
                  </a:lnTo>
                  <a:lnTo>
                    <a:pt x="1767" y="1681"/>
                  </a:lnTo>
                  <a:lnTo>
                    <a:pt x="1748" y="1681"/>
                  </a:lnTo>
                  <a:lnTo>
                    <a:pt x="1709" y="1690"/>
                  </a:lnTo>
                  <a:lnTo>
                    <a:pt x="1671" y="1695"/>
                  </a:lnTo>
                  <a:lnTo>
                    <a:pt x="1638" y="1700"/>
                  </a:lnTo>
                  <a:lnTo>
                    <a:pt x="1604" y="1700"/>
                  </a:lnTo>
                  <a:lnTo>
                    <a:pt x="1575" y="1700"/>
                  </a:lnTo>
                  <a:lnTo>
                    <a:pt x="1551" y="1705"/>
                  </a:lnTo>
                  <a:lnTo>
                    <a:pt x="1527" y="1700"/>
                  </a:lnTo>
                  <a:lnTo>
                    <a:pt x="1508" y="1700"/>
                  </a:lnTo>
                  <a:lnTo>
                    <a:pt x="1484" y="1695"/>
                  </a:lnTo>
                  <a:lnTo>
                    <a:pt x="1456" y="1686"/>
                  </a:lnTo>
                  <a:lnTo>
                    <a:pt x="1432" y="1671"/>
                  </a:lnTo>
                  <a:lnTo>
                    <a:pt x="1403" y="1652"/>
                  </a:lnTo>
                  <a:lnTo>
                    <a:pt x="1374" y="1628"/>
                  </a:lnTo>
                  <a:lnTo>
                    <a:pt x="1341" y="1599"/>
                  </a:lnTo>
                  <a:lnTo>
                    <a:pt x="1326" y="1580"/>
                  </a:lnTo>
                  <a:lnTo>
                    <a:pt x="1307" y="1566"/>
                  </a:lnTo>
                  <a:lnTo>
                    <a:pt x="1293" y="1547"/>
                  </a:lnTo>
                  <a:lnTo>
                    <a:pt x="1274" y="1527"/>
                  </a:lnTo>
                  <a:lnTo>
                    <a:pt x="1235" y="1489"/>
                  </a:lnTo>
                  <a:lnTo>
                    <a:pt x="1202" y="1456"/>
                  </a:lnTo>
                  <a:lnTo>
                    <a:pt x="1173" y="1427"/>
                  </a:lnTo>
                  <a:lnTo>
                    <a:pt x="1144" y="1403"/>
                  </a:lnTo>
                  <a:lnTo>
                    <a:pt x="1116" y="1379"/>
                  </a:lnTo>
                  <a:lnTo>
                    <a:pt x="1096" y="1355"/>
                  </a:lnTo>
                  <a:lnTo>
                    <a:pt x="1077" y="1341"/>
                  </a:lnTo>
                  <a:lnTo>
                    <a:pt x="1058" y="1326"/>
                  </a:lnTo>
                  <a:lnTo>
                    <a:pt x="1039" y="1312"/>
                  </a:lnTo>
                  <a:lnTo>
                    <a:pt x="1020" y="1293"/>
                  </a:lnTo>
                  <a:lnTo>
                    <a:pt x="996" y="1274"/>
                  </a:lnTo>
                  <a:lnTo>
                    <a:pt x="972" y="1250"/>
                  </a:lnTo>
                  <a:lnTo>
                    <a:pt x="948" y="1226"/>
                  </a:lnTo>
                  <a:lnTo>
                    <a:pt x="914" y="1197"/>
                  </a:lnTo>
                  <a:lnTo>
                    <a:pt x="886" y="1163"/>
                  </a:lnTo>
                  <a:lnTo>
                    <a:pt x="852" y="1125"/>
                  </a:lnTo>
                  <a:lnTo>
                    <a:pt x="876" y="1077"/>
                  </a:lnTo>
                  <a:close/>
                  <a:moveTo>
                    <a:pt x="512" y="929"/>
                  </a:moveTo>
                  <a:lnTo>
                    <a:pt x="512" y="924"/>
                  </a:lnTo>
                  <a:lnTo>
                    <a:pt x="512" y="919"/>
                  </a:lnTo>
                  <a:lnTo>
                    <a:pt x="517" y="910"/>
                  </a:lnTo>
                  <a:lnTo>
                    <a:pt x="526" y="900"/>
                  </a:lnTo>
                  <a:lnTo>
                    <a:pt x="541" y="886"/>
                  </a:lnTo>
                  <a:lnTo>
                    <a:pt x="555" y="871"/>
                  </a:lnTo>
                  <a:lnTo>
                    <a:pt x="570" y="857"/>
                  </a:lnTo>
                  <a:lnTo>
                    <a:pt x="593" y="838"/>
                  </a:lnTo>
                  <a:lnTo>
                    <a:pt x="613" y="819"/>
                  </a:lnTo>
                  <a:lnTo>
                    <a:pt x="637" y="799"/>
                  </a:lnTo>
                  <a:lnTo>
                    <a:pt x="661" y="775"/>
                  </a:lnTo>
                  <a:lnTo>
                    <a:pt x="684" y="752"/>
                  </a:lnTo>
                  <a:lnTo>
                    <a:pt x="708" y="723"/>
                  </a:lnTo>
                  <a:lnTo>
                    <a:pt x="732" y="694"/>
                  </a:lnTo>
                  <a:lnTo>
                    <a:pt x="756" y="661"/>
                  </a:lnTo>
                  <a:lnTo>
                    <a:pt x="780" y="627"/>
                  </a:lnTo>
                  <a:lnTo>
                    <a:pt x="804" y="593"/>
                  </a:lnTo>
                  <a:lnTo>
                    <a:pt x="828" y="560"/>
                  </a:lnTo>
                  <a:lnTo>
                    <a:pt x="852" y="531"/>
                  </a:lnTo>
                  <a:lnTo>
                    <a:pt x="871" y="498"/>
                  </a:lnTo>
                  <a:lnTo>
                    <a:pt x="890" y="464"/>
                  </a:lnTo>
                  <a:lnTo>
                    <a:pt x="905" y="431"/>
                  </a:lnTo>
                  <a:lnTo>
                    <a:pt x="919" y="397"/>
                  </a:lnTo>
                  <a:lnTo>
                    <a:pt x="929" y="364"/>
                  </a:lnTo>
                  <a:lnTo>
                    <a:pt x="938" y="330"/>
                  </a:lnTo>
                  <a:lnTo>
                    <a:pt x="943" y="297"/>
                  </a:lnTo>
                  <a:lnTo>
                    <a:pt x="948" y="268"/>
                  </a:lnTo>
                  <a:lnTo>
                    <a:pt x="953" y="239"/>
                  </a:lnTo>
                  <a:lnTo>
                    <a:pt x="958" y="210"/>
                  </a:lnTo>
                  <a:lnTo>
                    <a:pt x="958" y="186"/>
                  </a:lnTo>
                  <a:lnTo>
                    <a:pt x="958" y="162"/>
                  </a:lnTo>
                  <a:lnTo>
                    <a:pt x="953" y="138"/>
                  </a:lnTo>
                  <a:lnTo>
                    <a:pt x="986" y="158"/>
                  </a:lnTo>
                  <a:lnTo>
                    <a:pt x="1015" y="172"/>
                  </a:lnTo>
                  <a:lnTo>
                    <a:pt x="1039" y="182"/>
                  </a:lnTo>
                  <a:lnTo>
                    <a:pt x="1058" y="196"/>
                  </a:lnTo>
                  <a:lnTo>
                    <a:pt x="1072" y="210"/>
                  </a:lnTo>
                  <a:lnTo>
                    <a:pt x="1082" y="220"/>
                  </a:lnTo>
                  <a:lnTo>
                    <a:pt x="1092" y="229"/>
                  </a:lnTo>
                  <a:lnTo>
                    <a:pt x="1092" y="239"/>
                  </a:lnTo>
                  <a:lnTo>
                    <a:pt x="1092" y="249"/>
                  </a:lnTo>
                  <a:lnTo>
                    <a:pt x="1087" y="263"/>
                  </a:lnTo>
                  <a:lnTo>
                    <a:pt x="1087" y="277"/>
                  </a:lnTo>
                  <a:lnTo>
                    <a:pt x="1077" y="297"/>
                  </a:lnTo>
                  <a:lnTo>
                    <a:pt x="1072" y="320"/>
                  </a:lnTo>
                  <a:lnTo>
                    <a:pt x="1063" y="344"/>
                  </a:lnTo>
                  <a:lnTo>
                    <a:pt x="1053" y="373"/>
                  </a:lnTo>
                  <a:lnTo>
                    <a:pt x="1039" y="407"/>
                  </a:lnTo>
                  <a:lnTo>
                    <a:pt x="1025" y="440"/>
                  </a:lnTo>
                  <a:lnTo>
                    <a:pt x="1005" y="474"/>
                  </a:lnTo>
                  <a:lnTo>
                    <a:pt x="986" y="507"/>
                  </a:lnTo>
                  <a:lnTo>
                    <a:pt x="967" y="541"/>
                  </a:lnTo>
                  <a:lnTo>
                    <a:pt x="943" y="574"/>
                  </a:lnTo>
                  <a:lnTo>
                    <a:pt x="919" y="608"/>
                  </a:lnTo>
                  <a:lnTo>
                    <a:pt x="895" y="641"/>
                  </a:lnTo>
                  <a:lnTo>
                    <a:pt x="866" y="670"/>
                  </a:lnTo>
                  <a:lnTo>
                    <a:pt x="838" y="704"/>
                  </a:lnTo>
                  <a:lnTo>
                    <a:pt x="809" y="732"/>
                  </a:lnTo>
                  <a:lnTo>
                    <a:pt x="785" y="756"/>
                  </a:lnTo>
                  <a:lnTo>
                    <a:pt x="756" y="785"/>
                  </a:lnTo>
                  <a:lnTo>
                    <a:pt x="728" y="809"/>
                  </a:lnTo>
                  <a:lnTo>
                    <a:pt x="699" y="828"/>
                  </a:lnTo>
                  <a:lnTo>
                    <a:pt x="670" y="852"/>
                  </a:lnTo>
                  <a:lnTo>
                    <a:pt x="641" y="871"/>
                  </a:lnTo>
                  <a:lnTo>
                    <a:pt x="617" y="886"/>
                  </a:lnTo>
                  <a:lnTo>
                    <a:pt x="593" y="900"/>
                  </a:lnTo>
                  <a:lnTo>
                    <a:pt x="570" y="914"/>
                  </a:lnTo>
                  <a:lnTo>
                    <a:pt x="555" y="919"/>
                  </a:lnTo>
                  <a:lnTo>
                    <a:pt x="536" y="929"/>
                  </a:lnTo>
                  <a:lnTo>
                    <a:pt x="526" y="929"/>
                  </a:lnTo>
                  <a:lnTo>
                    <a:pt x="517" y="929"/>
                  </a:lnTo>
                  <a:lnTo>
                    <a:pt x="512" y="929"/>
                  </a:lnTo>
                  <a:close/>
                  <a:moveTo>
                    <a:pt x="349" y="124"/>
                  </a:moveTo>
                  <a:lnTo>
                    <a:pt x="330" y="105"/>
                  </a:lnTo>
                  <a:lnTo>
                    <a:pt x="311" y="86"/>
                  </a:lnTo>
                  <a:lnTo>
                    <a:pt x="297" y="71"/>
                  </a:lnTo>
                  <a:lnTo>
                    <a:pt x="282" y="57"/>
                  </a:lnTo>
                  <a:lnTo>
                    <a:pt x="277" y="43"/>
                  </a:lnTo>
                  <a:lnTo>
                    <a:pt x="268" y="28"/>
                  </a:lnTo>
                  <a:lnTo>
                    <a:pt x="263" y="19"/>
                  </a:lnTo>
                  <a:lnTo>
                    <a:pt x="263" y="9"/>
                  </a:lnTo>
                  <a:lnTo>
                    <a:pt x="297" y="9"/>
                  </a:lnTo>
                  <a:lnTo>
                    <a:pt x="335" y="14"/>
                  </a:lnTo>
                  <a:lnTo>
                    <a:pt x="373" y="19"/>
                  </a:lnTo>
                  <a:lnTo>
                    <a:pt x="411" y="24"/>
                  </a:lnTo>
                  <a:lnTo>
                    <a:pt x="440" y="33"/>
                  </a:lnTo>
                  <a:lnTo>
                    <a:pt x="455" y="38"/>
                  </a:lnTo>
                  <a:lnTo>
                    <a:pt x="469" y="43"/>
                  </a:lnTo>
                  <a:lnTo>
                    <a:pt x="479" y="47"/>
                  </a:lnTo>
                  <a:lnTo>
                    <a:pt x="488" y="57"/>
                  </a:lnTo>
                  <a:lnTo>
                    <a:pt x="498" y="67"/>
                  </a:lnTo>
                  <a:lnTo>
                    <a:pt x="507" y="71"/>
                  </a:lnTo>
                  <a:lnTo>
                    <a:pt x="512" y="86"/>
                  </a:lnTo>
                  <a:lnTo>
                    <a:pt x="517" y="95"/>
                  </a:lnTo>
                  <a:lnTo>
                    <a:pt x="517" y="105"/>
                  </a:lnTo>
                  <a:lnTo>
                    <a:pt x="517" y="115"/>
                  </a:lnTo>
                  <a:lnTo>
                    <a:pt x="517" y="138"/>
                  </a:lnTo>
                  <a:lnTo>
                    <a:pt x="512" y="158"/>
                  </a:lnTo>
                  <a:lnTo>
                    <a:pt x="507" y="167"/>
                  </a:lnTo>
                  <a:lnTo>
                    <a:pt x="502" y="177"/>
                  </a:lnTo>
                  <a:lnTo>
                    <a:pt x="493" y="186"/>
                  </a:lnTo>
                  <a:lnTo>
                    <a:pt x="488" y="191"/>
                  </a:lnTo>
                  <a:lnTo>
                    <a:pt x="483" y="196"/>
                  </a:lnTo>
                  <a:lnTo>
                    <a:pt x="474" y="201"/>
                  </a:lnTo>
                  <a:lnTo>
                    <a:pt x="469" y="201"/>
                  </a:lnTo>
                  <a:lnTo>
                    <a:pt x="464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5" y="186"/>
                  </a:lnTo>
                  <a:lnTo>
                    <a:pt x="421" y="182"/>
                  </a:lnTo>
                  <a:lnTo>
                    <a:pt x="407" y="167"/>
                  </a:lnTo>
                  <a:lnTo>
                    <a:pt x="392" y="158"/>
                  </a:lnTo>
                  <a:lnTo>
                    <a:pt x="373" y="143"/>
                  </a:lnTo>
                  <a:lnTo>
                    <a:pt x="349" y="124"/>
                  </a:lnTo>
                  <a:close/>
                  <a:moveTo>
                    <a:pt x="297" y="306"/>
                  </a:moveTo>
                  <a:lnTo>
                    <a:pt x="316" y="311"/>
                  </a:lnTo>
                  <a:lnTo>
                    <a:pt x="325" y="320"/>
                  </a:lnTo>
                  <a:lnTo>
                    <a:pt x="340" y="330"/>
                  </a:lnTo>
                  <a:lnTo>
                    <a:pt x="349" y="335"/>
                  </a:lnTo>
                  <a:lnTo>
                    <a:pt x="359" y="344"/>
                  </a:lnTo>
                  <a:lnTo>
                    <a:pt x="368" y="354"/>
                  </a:lnTo>
                  <a:lnTo>
                    <a:pt x="373" y="364"/>
                  </a:lnTo>
                  <a:lnTo>
                    <a:pt x="378" y="373"/>
                  </a:lnTo>
                  <a:lnTo>
                    <a:pt x="378" y="383"/>
                  </a:lnTo>
                  <a:lnTo>
                    <a:pt x="378" y="397"/>
                  </a:lnTo>
                  <a:lnTo>
                    <a:pt x="378" y="416"/>
                  </a:lnTo>
                  <a:lnTo>
                    <a:pt x="378" y="421"/>
                  </a:lnTo>
                  <a:lnTo>
                    <a:pt x="373" y="431"/>
                  </a:lnTo>
                  <a:lnTo>
                    <a:pt x="368" y="435"/>
                  </a:lnTo>
                  <a:lnTo>
                    <a:pt x="368" y="440"/>
                  </a:lnTo>
                  <a:lnTo>
                    <a:pt x="354" y="450"/>
                  </a:lnTo>
                  <a:lnTo>
                    <a:pt x="344" y="459"/>
                  </a:lnTo>
                  <a:lnTo>
                    <a:pt x="330" y="464"/>
                  </a:lnTo>
                  <a:lnTo>
                    <a:pt x="325" y="464"/>
                  </a:lnTo>
                  <a:lnTo>
                    <a:pt x="320" y="464"/>
                  </a:lnTo>
                  <a:lnTo>
                    <a:pt x="311" y="459"/>
                  </a:lnTo>
                  <a:lnTo>
                    <a:pt x="301" y="455"/>
                  </a:lnTo>
                  <a:lnTo>
                    <a:pt x="292" y="445"/>
                  </a:lnTo>
                  <a:lnTo>
                    <a:pt x="277" y="435"/>
                  </a:lnTo>
                  <a:lnTo>
                    <a:pt x="263" y="426"/>
                  </a:lnTo>
                  <a:lnTo>
                    <a:pt x="249" y="411"/>
                  </a:lnTo>
                  <a:lnTo>
                    <a:pt x="229" y="397"/>
                  </a:lnTo>
                  <a:lnTo>
                    <a:pt x="210" y="383"/>
                  </a:lnTo>
                  <a:lnTo>
                    <a:pt x="196" y="368"/>
                  </a:lnTo>
                  <a:lnTo>
                    <a:pt x="182" y="349"/>
                  </a:lnTo>
                  <a:lnTo>
                    <a:pt x="172" y="335"/>
                  </a:lnTo>
                  <a:lnTo>
                    <a:pt x="162" y="320"/>
                  </a:lnTo>
                  <a:lnTo>
                    <a:pt x="158" y="306"/>
                  </a:lnTo>
                  <a:lnTo>
                    <a:pt x="153" y="292"/>
                  </a:lnTo>
                  <a:lnTo>
                    <a:pt x="153" y="282"/>
                  </a:lnTo>
                  <a:lnTo>
                    <a:pt x="196" y="282"/>
                  </a:lnTo>
                  <a:lnTo>
                    <a:pt x="215" y="282"/>
                  </a:lnTo>
                  <a:lnTo>
                    <a:pt x="234" y="287"/>
                  </a:lnTo>
                  <a:lnTo>
                    <a:pt x="253" y="292"/>
                  </a:lnTo>
                  <a:lnTo>
                    <a:pt x="268" y="297"/>
                  </a:lnTo>
                  <a:lnTo>
                    <a:pt x="282" y="301"/>
                  </a:lnTo>
                  <a:lnTo>
                    <a:pt x="297" y="306"/>
                  </a:lnTo>
                  <a:close/>
                  <a:moveTo>
                    <a:pt x="737" y="287"/>
                  </a:moveTo>
                  <a:lnTo>
                    <a:pt x="756" y="311"/>
                  </a:lnTo>
                  <a:lnTo>
                    <a:pt x="761" y="320"/>
                  </a:lnTo>
                  <a:lnTo>
                    <a:pt x="771" y="330"/>
                  </a:lnTo>
                  <a:lnTo>
                    <a:pt x="775" y="344"/>
                  </a:lnTo>
                  <a:lnTo>
                    <a:pt x="780" y="354"/>
                  </a:lnTo>
                  <a:lnTo>
                    <a:pt x="780" y="368"/>
                  </a:lnTo>
                  <a:lnTo>
                    <a:pt x="780" y="383"/>
                  </a:lnTo>
                  <a:lnTo>
                    <a:pt x="780" y="392"/>
                  </a:lnTo>
                  <a:lnTo>
                    <a:pt x="780" y="407"/>
                  </a:lnTo>
                  <a:lnTo>
                    <a:pt x="775" y="421"/>
                  </a:lnTo>
                  <a:lnTo>
                    <a:pt x="771" y="435"/>
                  </a:lnTo>
                  <a:lnTo>
                    <a:pt x="756" y="469"/>
                  </a:lnTo>
                  <a:lnTo>
                    <a:pt x="737" y="507"/>
                  </a:lnTo>
                  <a:lnTo>
                    <a:pt x="728" y="522"/>
                  </a:lnTo>
                  <a:lnTo>
                    <a:pt x="718" y="536"/>
                  </a:lnTo>
                  <a:lnTo>
                    <a:pt x="708" y="550"/>
                  </a:lnTo>
                  <a:lnTo>
                    <a:pt x="704" y="560"/>
                  </a:lnTo>
                  <a:lnTo>
                    <a:pt x="694" y="570"/>
                  </a:lnTo>
                  <a:lnTo>
                    <a:pt x="689" y="574"/>
                  </a:lnTo>
                  <a:lnTo>
                    <a:pt x="680" y="579"/>
                  </a:lnTo>
                  <a:lnTo>
                    <a:pt x="670" y="579"/>
                  </a:lnTo>
                  <a:lnTo>
                    <a:pt x="665" y="574"/>
                  </a:lnTo>
                  <a:lnTo>
                    <a:pt x="661" y="574"/>
                  </a:lnTo>
                  <a:lnTo>
                    <a:pt x="656" y="570"/>
                  </a:lnTo>
                  <a:lnTo>
                    <a:pt x="651" y="555"/>
                  </a:lnTo>
                  <a:lnTo>
                    <a:pt x="641" y="536"/>
                  </a:lnTo>
                  <a:lnTo>
                    <a:pt x="637" y="522"/>
                  </a:lnTo>
                  <a:lnTo>
                    <a:pt x="632" y="502"/>
                  </a:lnTo>
                  <a:lnTo>
                    <a:pt x="627" y="488"/>
                  </a:lnTo>
                  <a:lnTo>
                    <a:pt x="627" y="483"/>
                  </a:lnTo>
                  <a:lnTo>
                    <a:pt x="627" y="479"/>
                  </a:lnTo>
                  <a:lnTo>
                    <a:pt x="627" y="474"/>
                  </a:lnTo>
                  <a:lnTo>
                    <a:pt x="632" y="469"/>
                  </a:lnTo>
                  <a:lnTo>
                    <a:pt x="632" y="464"/>
                  </a:lnTo>
                  <a:lnTo>
                    <a:pt x="637" y="459"/>
                  </a:lnTo>
                  <a:lnTo>
                    <a:pt x="646" y="455"/>
                  </a:lnTo>
                  <a:lnTo>
                    <a:pt x="651" y="445"/>
                  </a:lnTo>
                  <a:lnTo>
                    <a:pt x="661" y="440"/>
                  </a:lnTo>
                  <a:lnTo>
                    <a:pt x="665" y="431"/>
                  </a:lnTo>
                  <a:lnTo>
                    <a:pt x="675" y="421"/>
                  </a:lnTo>
                  <a:lnTo>
                    <a:pt x="684" y="407"/>
                  </a:lnTo>
                  <a:lnTo>
                    <a:pt x="694" y="388"/>
                  </a:lnTo>
                  <a:lnTo>
                    <a:pt x="704" y="368"/>
                  </a:lnTo>
                  <a:lnTo>
                    <a:pt x="713" y="344"/>
                  </a:lnTo>
                  <a:lnTo>
                    <a:pt x="728" y="320"/>
                  </a:lnTo>
                  <a:lnTo>
                    <a:pt x="737" y="287"/>
                  </a:lnTo>
                  <a:close/>
                  <a:moveTo>
                    <a:pt x="263" y="938"/>
                  </a:moveTo>
                  <a:lnTo>
                    <a:pt x="258" y="938"/>
                  </a:lnTo>
                  <a:lnTo>
                    <a:pt x="249" y="934"/>
                  </a:lnTo>
                  <a:lnTo>
                    <a:pt x="244" y="929"/>
                  </a:lnTo>
                  <a:lnTo>
                    <a:pt x="234" y="919"/>
                  </a:lnTo>
                  <a:lnTo>
                    <a:pt x="229" y="910"/>
                  </a:lnTo>
                  <a:lnTo>
                    <a:pt x="220" y="890"/>
                  </a:lnTo>
                  <a:lnTo>
                    <a:pt x="210" y="876"/>
                  </a:lnTo>
                  <a:lnTo>
                    <a:pt x="206" y="852"/>
                  </a:lnTo>
                  <a:lnTo>
                    <a:pt x="196" y="833"/>
                  </a:lnTo>
                  <a:lnTo>
                    <a:pt x="186" y="814"/>
                  </a:lnTo>
                  <a:lnTo>
                    <a:pt x="182" y="799"/>
                  </a:lnTo>
                  <a:lnTo>
                    <a:pt x="177" y="785"/>
                  </a:lnTo>
                  <a:lnTo>
                    <a:pt x="177" y="771"/>
                  </a:lnTo>
                  <a:lnTo>
                    <a:pt x="172" y="761"/>
                  </a:lnTo>
                  <a:lnTo>
                    <a:pt x="177" y="752"/>
                  </a:lnTo>
                  <a:lnTo>
                    <a:pt x="177" y="747"/>
                  </a:lnTo>
                  <a:lnTo>
                    <a:pt x="182" y="737"/>
                  </a:lnTo>
                  <a:lnTo>
                    <a:pt x="191" y="732"/>
                  </a:lnTo>
                  <a:lnTo>
                    <a:pt x="201" y="732"/>
                  </a:lnTo>
                  <a:lnTo>
                    <a:pt x="210" y="728"/>
                  </a:lnTo>
                  <a:lnTo>
                    <a:pt x="220" y="732"/>
                  </a:lnTo>
                  <a:lnTo>
                    <a:pt x="225" y="732"/>
                  </a:lnTo>
                  <a:lnTo>
                    <a:pt x="239" y="732"/>
                  </a:lnTo>
                  <a:lnTo>
                    <a:pt x="249" y="728"/>
                  </a:lnTo>
                  <a:lnTo>
                    <a:pt x="263" y="723"/>
                  </a:lnTo>
                  <a:lnTo>
                    <a:pt x="268" y="718"/>
                  </a:lnTo>
                  <a:lnTo>
                    <a:pt x="277" y="708"/>
                  </a:lnTo>
                  <a:lnTo>
                    <a:pt x="292" y="699"/>
                  </a:lnTo>
                  <a:lnTo>
                    <a:pt x="306" y="680"/>
                  </a:lnTo>
                  <a:lnTo>
                    <a:pt x="330" y="661"/>
                  </a:lnTo>
                  <a:lnTo>
                    <a:pt x="354" y="641"/>
                  </a:lnTo>
                  <a:lnTo>
                    <a:pt x="378" y="613"/>
                  </a:lnTo>
                  <a:lnTo>
                    <a:pt x="392" y="598"/>
                  </a:lnTo>
                  <a:lnTo>
                    <a:pt x="411" y="579"/>
                  </a:lnTo>
                  <a:lnTo>
                    <a:pt x="426" y="565"/>
                  </a:lnTo>
                  <a:lnTo>
                    <a:pt x="440" y="546"/>
                  </a:lnTo>
                  <a:lnTo>
                    <a:pt x="469" y="522"/>
                  </a:lnTo>
                  <a:lnTo>
                    <a:pt x="493" y="498"/>
                  </a:lnTo>
                  <a:lnTo>
                    <a:pt x="512" y="479"/>
                  </a:lnTo>
                  <a:lnTo>
                    <a:pt x="531" y="469"/>
                  </a:lnTo>
                  <a:lnTo>
                    <a:pt x="541" y="459"/>
                  </a:lnTo>
                  <a:lnTo>
                    <a:pt x="550" y="455"/>
                  </a:lnTo>
                  <a:lnTo>
                    <a:pt x="555" y="455"/>
                  </a:lnTo>
                  <a:lnTo>
                    <a:pt x="560" y="459"/>
                  </a:lnTo>
                  <a:lnTo>
                    <a:pt x="560" y="464"/>
                  </a:lnTo>
                  <a:lnTo>
                    <a:pt x="555" y="469"/>
                  </a:lnTo>
                  <a:lnTo>
                    <a:pt x="555" y="474"/>
                  </a:lnTo>
                  <a:lnTo>
                    <a:pt x="550" y="483"/>
                  </a:lnTo>
                  <a:lnTo>
                    <a:pt x="546" y="498"/>
                  </a:lnTo>
                  <a:lnTo>
                    <a:pt x="541" y="507"/>
                  </a:lnTo>
                  <a:lnTo>
                    <a:pt x="536" y="522"/>
                  </a:lnTo>
                  <a:lnTo>
                    <a:pt x="526" y="536"/>
                  </a:lnTo>
                  <a:lnTo>
                    <a:pt x="517" y="555"/>
                  </a:lnTo>
                  <a:lnTo>
                    <a:pt x="507" y="574"/>
                  </a:lnTo>
                  <a:lnTo>
                    <a:pt x="498" y="598"/>
                  </a:lnTo>
                  <a:lnTo>
                    <a:pt x="483" y="617"/>
                  </a:lnTo>
                  <a:lnTo>
                    <a:pt x="469" y="641"/>
                  </a:lnTo>
                  <a:lnTo>
                    <a:pt x="455" y="670"/>
                  </a:lnTo>
                  <a:lnTo>
                    <a:pt x="435" y="694"/>
                  </a:lnTo>
                  <a:lnTo>
                    <a:pt x="421" y="723"/>
                  </a:lnTo>
                  <a:lnTo>
                    <a:pt x="402" y="752"/>
                  </a:lnTo>
                  <a:lnTo>
                    <a:pt x="388" y="775"/>
                  </a:lnTo>
                  <a:lnTo>
                    <a:pt x="373" y="799"/>
                  </a:lnTo>
                  <a:lnTo>
                    <a:pt x="359" y="819"/>
                  </a:lnTo>
                  <a:lnTo>
                    <a:pt x="344" y="838"/>
                  </a:lnTo>
                  <a:lnTo>
                    <a:pt x="335" y="857"/>
                  </a:lnTo>
                  <a:lnTo>
                    <a:pt x="320" y="871"/>
                  </a:lnTo>
                  <a:lnTo>
                    <a:pt x="311" y="886"/>
                  </a:lnTo>
                  <a:lnTo>
                    <a:pt x="301" y="900"/>
                  </a:lnTo>
                  <a:lnTo>
                    <a:pt x="292" y="910"/>
                  </a:lnTo>
                  <a:lnTo>
                    <a:pt x="287" y="919"/>
                  </a:lnTo>
                  <a:lnTo>
                    <a:pt x="277" y="924"/>
                  </a:lnTo>
                  <a:lnTo>
                    <a:pt x="273" y="929"/>
                  </a:lnTo>
                  <a:lnTo>
                    <a:pt x="268" y="934"/>
                  </a:lnTo>
                  <a:lnTo>
                    <a:pt x="263" y="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4783680" y="2439720"/>
              <a:ext cx="938520" cy="1082520"/>
            </a:xfrm>
            <a:custGeom>
              <a:avLst/>
              <a:gdLst/>
              <a:ahLst/>
              <a:rect l="l" t="t" r="r" b="b"/>
              <a:pathLst>
                <a:path w="776" h="895">
                  <a:moveTo>
                    <a:pt x="412" y="704"/>
                  </a:moveTo>
                  <a:lnTo>
                    <a:pt x="417" y="704"/>
                  </a:lnTo>
                  <a:lnTo>
                    <a:pt x="421" y="699"/>
                  </a:lnTo>
                  <a:lnTo>
                    <a:pt x="426" y="694"/>
                  </a:lnTo>
                  <a:lnTo>
                    <a:pt x="431" y="689"/>
                  </a:lnTo>
                  <a:lnTo>
                    <a:pt x="436" y="680"/>
                  </a:lnTo>
                  <a:lnTo>
                    <a:pt x="440" y="670"/>
                  </a:lnTo>
                  <a:lnTo>
                    <a:pt x="450" y="661"/>
                  </a:lnTo>
                  <a:lnTo>
                    <a:pt x="455" y="651"/>
                  </a:lnTo>
                  <a:lnTo>
                    <a:pt x="460" y="637"/>
                  </a:lnTo>
                  <a:lnTo>
                    <a:pt x="464" y="622"/>
                  </a:lnTo>
                  <a:lnTo>
                    <a:pt x="474" y="608"/>
                  </a:lnTo>
                  <a:lnTo>
                    <a:pt x="479" y="589"/>
                  </a:lnTo>
                  <a:lnTo>
                    <a:pt x="484" y="574"/>
                  </a:lnTo>
                  <a:lnTo>
                    <a:pt x="493" y="555"/>
                  </a:lnTo>
                  <a:lnTo>
                    <a:pt x="508" y="512"/>
                  </a:lnTo>
                  <a:lnTo>
                    <a:pt x="522" y="474"/>
                  </a:lnTo>
                  <a:lnTo>
                    <a:pt x="536" y="435"/>
                  </a:lnTo>
                  <a:lnTo>
                    <a:pt x="546" y="397"/>
                  </a:lnTo>
                  <a:lnTo>
                    <a:pt x="555" y="364"/>
                  </a:lnTo>
                  <a:lnTo>
                    <a:pt x="560" y="335"/>
                  </a:lnTo>
                  <a:lnTo>
                    <a:pt x="570" y="301"/>
                  </a:lnTo>
                  <a:lnTo>
                    <a:pt x="575" y="273"/>
                  </a:lnTo>
                  <a:lnTo>
                    <a:pt x="575" y="249"/>
                  </a:lnTo>
                  <a:lnTo>
                    <a:pt x="579" y="225"/>
                  </a:lnTo>
                  <a:lnTo>
                    <a:pt x="579" y="206"/>
                  </a:lnTo>
                  <a:lnTo>
                    <a:pt x="579" y="191"/>
                  </a:lnTo>
                  <a:lnTo>
                    <a:pt x="579" y="172"/>
                  </a:lnTo>
                  <a:lnTo>
                    <a:pt x="575" y="162"/>
                  </a:lnTo>
                  <a:lnTo>
                    <a:pt x="575" y="148"/>
                  </a:lnTo>
                  <a:lnTo>
                    <a:pt x="570" y="138"/>
                  </a:lnTo>
                  <a:lnTo>
                    <a:pt x="570" y="134"/>
                  </a:lnTo>
                  <a:lnTo>
                    <a:pt x="560" y="124"/>
                  </a:lnTo>
                  <a:lnTo>
                    <a:pt x="551" y="119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8" y="115"/>
                  </a:lnTo>
                  <a:lnTo>
                    <a:pt x="493" y="115"/>
                  </a:lnTo>
                  <a:lnTo>
                    <a:pt x="479" y="119"/>
                  </a:lnTo>
                  <a:lnTo>
                    <a:pt x="460" y="119"/>
                  </a:lnTo>
                  <a:lnTo>
                    <a:pt x="440" y="124"/>
                  </a:lnTo>
                  <a:lnTo>
                    <a:pt x="421" y="129"/>
                  </a:lnTo>
                  <a:lnTo>
                    <a:pt x="397" y="134"/>
                  </a:lnTo>
                  <a:lnTo>
                    <a:pt x="369" y="138"/>
                  </a:lnTo>
                  <a:lnTo>
                    <a:pt x="311" y="153"/>
                  </a:lnTo>
                  <a:lnTo>
                    <a:pt x="287" y="158"/>
                  </a:lnTo>
                  <a:lnTo>
                    <a:pt x="258" y="162"/>
                  </a:lnTo>
                  <a:lnTo>
                    <a:pt x="235" y="167"/>
                  </a:lnTo>
                  <a:lnTo>
                    <a:pt x="211" y="172"/>
                  </a:lnTo>
                  <a:lnTo>
                    <a:pt x="191" y="177"/>
                  </a:lnTo>
                  <a:lnTo>
                    <a:pt x="172" y="182"/>
                  </a:lnTo>
                  <a:lnTo>
                    <a:pt x="153" y="186"/>
                  </a:lnTo>
                  <a:lnTo>
                    <a:pt x="134" y="191"/>
                  </a:lnTo>
                  <a:lnTo>
                    <a:pt x="115" y="191"/>
                  </a:lnTo>
                  <a:lnTo>
                    <a:pt x="100" y="196"/>
                  </a:lnTo>
                  <a:lnTo>
                    <a:pt x="86" y="191"/>
                  </a:lnTo>
                  <a:lnTo>
                    <a:pt x="72" y="191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7"/>
                  </a:lnTo>
                  <a:lnTo>
                    <a:pt x="29" y="172"/>
                  </a:lnTo>
                  <a:lnTo>
                    <a:pt x="19" y="167"/>
                  </a:lnTo>
                  <a:lnTo>
                    <a:pt x="9" y="162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9" y="138"/>
                  </a:lnTo>
                  <a:lnTo>
                    <a:pt x="19" y="138"/>
                  </a:lnTo>
                  <a:lnTo>
                    <a:pt x="33" y="138"/>
                  </a:lnTo>
                  <a:lnTo>
                    <a:pt x="43" y="134"/>
                  </a:lnTo>
                  <a:lnTo>
                    <a:pt x="57" y="134"/>
                  </a:lnTo>
                  <a:lnTo>
                    <a:pt x="76" y="129"/>
                  </a:lnTo>
                  <a:lnTo>
                    <a:pt x="91" y="129"/>
                  </a:lnTo>
                  <a:lnTo>
                    <a:pt x="110" y="124"/>
                  </a:lnTo>
                  <a:lnTo>
                    <a:pt x="134" y="119"/>
                  </a:lnTo>
                  <a:lnTo>
                    <a:pt x="158" y="115"/>
                  </a:lnTo>
                  <a:lnTo>
                    <a:pt x="182" y="110"/>
                  </a:lnTo>
                  <a:lnTo>
                    <a:pt x="206" y="105"/>
                  </a:lnTo>
                  <a:lnTo>
                    <a:pt x="235" y="95"/>
                  </a:lnTo>
                  <a:lnTo>
                    <a:pt x="263" y="91"/>
                  </a:lnTo>
                  <a:lnTo>
                    <a:pt x="292" y="81"/>
                  </a:lnTo>
                  <a:lnTo>
                    <a:pt x="321" y="76"/>
                  </a:lnTo>
                  <a:lnTo>
                    <a:pt x="349" y="71"/>
                  </a:lnTo>
                  <a:lnTo>
                    <a:pt x="373" y="62"/>
                  </a:lnTo>
                  <a:lnTo>
                    <a:pt x="402" y="57"/>
                  </a:lnTo>
                  <a:lnTo>
                    <a:pt x="421" y="52"/>
                  </a:lnTo>
                  <a:lnTo>
                    <a:pt x="445" y="47"/>
                  </a:lnTo>
                  <a:lnTo>
                    <a:pt x="464" y="43"/>
                  </a:lnTo>
                  <a:lnTo>
                    <a:pt x="479" y="38"/>
                  </a:lnTo>
                  <a:lnTo>
                    <a:pt x="493" y="33"/>
                  </a:lnTo>
                  <a:lnTo>
                    <a:pt x="508" y="33"/>
                  </a:lnTo>
                  <a:lnTo>
                    <a:pt x="517" y="28"/>
                  </a:lnTo>
                  <a:lnTo>
                    <a:pt x="531" y="24"/>
                  </a:lnTo>
                  <a:lnTo>
                    <a:pt x="536" y="24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1" y="14"/>
                  </a:lnTo>
                  <a:lnTo>
                    <a:pt x="560" y="9"/>
                  </a:lnTo>
                  <a:lnTo>
                    <a:pt x="570" y="4"/>
                  </a:lnTo>
                  <a:lnTo>
                    <a:pt x="579" y="0"/>
                  </a:lnTo>
                  <a:lnTo>
                    <a:pt x="594" y="0"/>
                  </a:lnTo>
                  <a:lnTo>
                    <a:pt x="599" y="0"/>
                  </a:lnTo>
                  <a:lnTo>
                    <a:pt x="603" y="4"/>
                  </a:lnTo>
                  <a:lnTo>
                    <a:pt x="613" y="4"/>
                  </a:lnTo>
                  <a:lnTo>
                    <a:pt x="627" y="9"/>
                  </a:lnTo>
                  <a:lnTo>
                    <a:pt x="642" y="19"/>
                  </a:lnTo>
                  <a:lnTo>
                    <a:pt x="656" y="28"/>
                  </a:lnTo>
                  <a:lnTo>
                    <a:pt x="675" y="38"/>
                  </a:lnTo>
                  <a:lnTo>
                    <a:pt x="699" y="47"/>
                  </a:lnTo>
                  <a:lnTo>
                    <a:pt x="713" y="62"/>
                  </a:lnTo>
                  <a:lnTo>
                    <a:pt x="733" y="71"/>
                  </a:lnTo>
                  <a:lnTo>
                    <a:pt x="742" y="81"/>
                  </a:lnTo>
                  <a:lnTo>
                    <a:pt x="757" y="91"/>
                  </a:lnTo>
                  <a:lnTo>
                    <a:pt x="761" y="100"/>
                  </a:lnTo>
                  <a:lnTo>
                    <a:pt x="771" y="105"/>
                  </a:lnTo>
                  <a:lnTo>
                    <a:pt x="776" y="110"/>
                  </a:lnTo>
                  <a:lnTo>
                    <a:pt x="776" y="115"/>
                  </a:lnTo>
                  <a:lnTo>
                    <a:pt x="771" y="124"/>
                  </a:lnTo>
                  <a:lnTo>
                    <a:pt x="766" y="134"/>
                  </a:lnTo>
                  <a:lnTo>
                    <a:pt x="761" y="143"/>
                  </a:lnTo>
                  <a:lnTo>
                    <a:pt x="747" y="148"/>
                  </a:lnTo>
                  <a:lnTo>
                    <a:pt x="737" y="153"/>
                  </a:lnTo>
                  <a:lnTo>
                    <a:pt x="733" y="162"/>
                  </a:lnTo>
                  <a:lnTo>
                    <a:pt x="728" y="172"/>
                  </a:lnTo>
                  <a:lnTo>
                    <a:pt x="723" y="186"/>
                  </a:lnTo>
                  <a:lnTo>
                    <a:pt x="718" y="201"/>
                  </a:lnTo>
                  <a:lnTo>
                    <a:pt x="713" y="220"/>
                  </a:lnTo>
                  <a:lnTo>
                    <a:pt x="709" y="239"/>
                  </a:lnTo>
                  <a:lnTo>
                    <a:pt x="704" y="263"/>
                  </a:lnTo>
                  <a:lnTo>
                    <a:pt x="699" y="292"/>
                  </a:lnTo>
                  <a:lnTo>
                    <a:pt x="694" y="320"/>
                  </a:lnTo>
                  <a:lnTo>
                    <a:pt x="685" y="354"/>
                  </a:lnTo>
                  <a:lnTo>
                    <a:pt x="675" y="388"/>
                  </a:lnTo>
                  <a:lnTo>
                    <a:pt x="661" y="431"/>
                  </a:lnTo>
                  <a:lnTo>
                    <a:pt x="651" y="474"/>
                  </a:lnTo>
                  <a:lnTo>
                    <a:pt x="637" y="522"/>
                  </a:lnTo>
                  <a:lnTo>
                    <a:pt x="618" y="570"/>
                  </a:lnTo>
                  <a:lnTo>
                    <a:pt x="613" y="598"/>
                  </a:lnTo>
                  <a:lnTo>
                    <a:pt x="603" y="622"/>
                  </a:lnTo>
                  <a:lnTo>
                    <a:pt x="594" y="646"/>
                  </a:lnTo>
                  <a:lnTo>
                    <a:pt x="589" y="665"/>
                  </a:lnTo>
                  <a:lnTo>
                    <a:pt x="579" y="689"/>
                  </a:lnTo>
                  <a:lnTo>
                    <a:pt x="570" y="708"/>
                  </a:lnTo>
                  <a:lnTo>
                    <a:pt x="565" y="728"/>
                  </a:lnTo>
                  <a:lnTo>
                    <a:pt x="555" y="747"/>
                  </a:lnTo>
                  <a:lnTo>
                    <a:pt x="546" y="761"/>
                  </a:lnTo>
                  <a:lnTo>
                    <a:pt x="541" y="775"/>
                  </a:lnTo>
                  <a:lnTo>
                    <a:pt x="531" y="790"/>
                  </a:lnTo>
                  <a:lnTo>
                    <a:pt x="527" y="799"/>
                  </a:lnTo>
                  <a:lnTo>
                    <a:pt x="517" y="814"/>
                  </a:lnTo>
                  <a:lnTo>
                    <a:pt x="512" y="823"/>
                  </a:lnTo>
                  <a:lnTo>
                    <a:pt x="503" y="828"/>
                  </a:lnTo>
                  <a:lnTo>
                    <a:pt x="498" y="838"/>
                  </a:lnTo>
                  <a:lnTo>
                    <a:pt x="484" y="852"/>
                  </a:lnTo>
                  <a:lnTo>
                    <a:pt x="469" y="862"/>
                  </a:lnTo>
                  <a:lnTo>
                    <a:pt x="455" y="871"/>
                  </a:lnTo>
                  <a:lnTo>
                    <a:pt x="445" y="881"/>
                  </a:lnTo>
                  <a:lnTo>
                    <a:pt x="436" y="886"/>
                  </a:lnTo>
                  <a:lnTo>
                    <a:pt x="426" y="890"/>
                  </a:lnTo>
                  <a:lnTo>
                    <a:pt x="421" y="895"/>
                  </a:lnTo>
                  <a:lnTo>
                    <a:pt x="412" y="895"/>
                  </a:lnTo>
                  <a:lnTo>
                    <a:pt x="407" y="895"/>
                  </a:lnTo>
                  <a:lnTo>
                    <a:pt x="402" y="890"/>
                  </a:lnTo>
                  <a:lnTo>
                    <a:pt x="397" y="886"/>
                  </a:lnTo>
                  <a:lnTo>
                    <a:pt x="393" y="881"/>
                  </a:lnTo>
                  <a:lnTo>
                    <a:pt x="388" y="876"/>
                  </a:lnTo>
                  <a:lnTo>
                    <a:pt x="383" y="866"/>
                  </a:lnTo>
                  <a:lnTo>
                    <a:pt x="383" y="857"/>
                  </a:lnTo>
                  <a:lnTo>
                    <a:pt x="378" y="847"/>
                  </a:lnTo>
                  <a:lnTo>
                    <a:pt x="373" y="833"/>
                  </a:lnTo>
                  <a:lnTo>
                    <a:pt x="369" y="819"/>
                  </a:lnTo>
                  <a:lnTo>
                    <a:pt x="364" y="804"/>
                  </a:lnTo>
                  <a:lnTo>
                    <a:pt x="354" y="790"/>
                  </a:lnTo>
                  <a:lnTo>
                    <a:pt x="345" y="775"/>
                  </a:lnTo>
                  <a:lnTo>
                    <a:pt x="335" y="756"/>
                  </a:lnTo>
                  <a:lnTo>
                    <a:pt x="326" y="737"/>
                  </a:lnTo>
                  <a:lnTo>
                    <a:pt x="306" y="723"/>
                  </a:lnTo>
                  <a:lnTo>
                    <a:pt x="292" y="704"/>
                  </a:lnTo>
                  <a:lnTo>
                    <a:pt x="282" y="694"/>
                  </a:lnTo>
                  <a:lnTo>
                    <a:pt x="273" y="680"/>
                  </a:lnTo>
                  <a:lnTo>
                    <a:pt x="268" y="670"/>
                  </a:lnTo>
                  <a:lnTo>
                    <a:pt x="263" y="661"/>
                  </a:lnTo>
                  <a:lnTo>
                    <a:pt x="263" y="656"/>
                  </a:lnTo>
                  <a:lnTo>
                    <a:pt x="263" y="651"/>
                  </a:lnTo>
                  <a:lnTo>
                    <a:pt x="263" y="646"/>
                  </a:lnTo>
                  <a:lnTo>
                    <a:pt x="268" y="646"/>
                  </a:lnTo>
                  <a:lnTo>
                    <a:pt x="273" y="646"/>
                  </a:lnTo>
                  <a:lnTo>
                    <a:pt x="278" y="651"/>
                  </a:lnTo>
                  <a:lnTo>
                    <a:pt x="287" y="651"/>
                  </a:lnTo>
                  <a:lnTo>
                    <a:pt x="297" y="656"/>
                  </a:lnTo>
                  <a:lnTo>
                    <a:pt x="306" y="665"/>
                  </a:lnTo>
                  <a:lnTo>
                    <a:pt x="321" y="670"/>
                  </a:lnTo>
                  <a:lnTo>
                    <a:pt x="335" y="680"/>
                  </a:lnTo>
                  <a:lnTo>
                    <a:pt x="345" y="689"/>
                  </a:lnTo>
                  <a:lnTo>
                    <a:pt x="359" y="694"/>
                  </a:lnTo>
                  <a:lnTo>
                    <a:pt x="369" y="699"/>
                  </a:lnTo>
                  <a:lnTo>
                    <a:pt x="378" y="704"/>
                  </a:lnTo>
                  <a:lnTo>
                    <a:pt x="388" y="708"/>
                  </a:lnTo>
                  <a:lnTo>
                    <a:pt x="397" y="708"/>
                  </a:lnTo>
                  <a:lnTo>
                    <a:pt x="407" y="708"/>
                  </a:lnTo>
                  <a:lnTo>
                    <a:pt x="412" y="70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5531400" y="2919960"/>
              <a:ext cx="388080" cy="219960"/>
            </a:xfrm>
            <a:custGeom>
              <a:avLst/>
              <a:gdLst/>
              <a:ahLst/>
              <a:rect l="l" t="t" r="r" b="b"/>
              <a:pathLst>
                <a:path w="321" h="182">
                  <a:moveTo>
                    <a:pt x="210" y="24"/>
                  </a:moveTo>
                  <a:lnTo>
                    <a:pt x="230" y="34"/>
                  </a:lnTo>
                  <a:lnTo>
                    <a:pt x="249" y="38"/>
                  </a:lnTo>
                  <a:lnTo>
                    <a:pt x="263" y="43"/>
                  </a:lnTo>
                  <a:lnTo>
                    <a:pt x="277" y="48"/>
                  </a:lnTo>
                  <a:lnTo>
                    <a:pt x="292" y="58"/>
                  </a:lnTo>
                  <a:lnTo>
                    <a:pt x="301" y="62"/>
                  </a:lnTo>
                  <a:lnTo>
                    <a:pt x="306" y="67"/>
                  </a:lnTo>
                  <a:lnTo>
                    <a:pt x="311" y="77"/>
                  </a:lnTo>
                  <a:lnTo>
                    <a:pt x="316" y="91"/>
                  </a:lnTo>
                  <a:lnTo>
                    <a:pt x="321" y="105"/>
                  </a:lnTo>
                  <a:lnTo>
                    <a:pt x="321" y="125"/>
                  </a:lnTo>
                  <a:lnTo>
                    <a:pt x="321" y="139"/>
                  </a:lnTo>
                  <a:lnTo>
                    <a:pt x="321" y="149"/>
                  </a:lnTo>
                  <a:lnTo>
                    <a:pt x="316" y="158"/>
                  </a:lnTo>
                  <a:lnTo>
                    <a:pt x="316" y="163"/>
                  </a:lnTo>
                  <a:lnTo>
                    <a:pt x="311" y="173"/>
                  </a:lnTo>
                  <a:lnTo>
                    <a:pt x="301" y="177"/>
                  </a:lnTo>
                  <a:lnTo>
                    <a:pt x="297" y="177"/>
                  </a:lnTo>
                  <a:lnTo>
                    <a:pt x="287" y="182"/>
                  </a:lnTo>
                  <a:lnTo>
                    <a:pt x="277" y="182"/>
                  </a:lnTo>
                  <a:lnTo>
                    <a:pt x="273" y="182"/>
                  </a:lnTo>
                  <a:lnTo>
                    <a:pt x="263" y="182"/>
                  </a:lnTo>
                  <a:lnTo>
                    <a:pt x="254" y="177"/>
                  </a:lnTo>
                  <a:lnTo>
                    <a:pt x="244" y="173"/>
                  </a:lnTo>
                  <a:lnTo>
                    <a:pt x="234" y="168"/>
                  </a:lnTo>
                  <a:lnTo>
                    <a:pt x="220" y="163"/>
                  </a:lnTo>
                  <a:lnTo>
                    <a:pt x="206" y="153"/>
                  </a:lnTo>
                  <a:lnTo>
                    <a:pt x="186" y="144"/>
                  </a:lnTo>
                  <a:lnTo>
                    <a:pt x="167" y="134"/>
                  </a:lnTo>
                  <a:lnTo>
                    <a:pt x="148" y="125"/>
                  </a:lnTo>
                  <a:lnTo>
                    <a:pt x="129" y="110"/>
                  </a:lnTo>
                  <a:lnTo>
                    <a:pt x="105" y="101"/>
                  </a:lnTo>
                  <a:lnTo>
                    <a:pt x="81" y="86"/>
                  </a:lnTo>
                  <a:lnTo>
                    <a:pt x="57" y="67"/>
                  </a:lnTo>
                  <a:lnTo>
                    <a:pt x="28" y="53"/>
                  </a:lnTo>
                  <a:lnTo>
                    <a:pt x="0" y="34"/>
                  </a:lnTo>
                  <a:lnTo>
                    <a:pt x="19" y="24"/>
                  </a:lnTo>
                  <a:lnTo>
                    <a:pt x="38" y="14"/>
                  </a:lnTo>
                  <a:lnTo>
                    <a:pt x="62" y="5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48" y="10"/>
                  </a:lnTo>
                  <a:lnTo>
                    <a:pt x="167" y="14"/>
                  </a:lnTo>
                  <a:lnTo>
                    <a:pt x="186" y="19"/>
                  </a:lnTo>
                  <a:lnTo>
                    <a:pt x="210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3909240" y="3592800"/>
              <a:ext cx="2120040" cy="288720"/>
            </a:xfrm>
            <a:custGeom>
              <a:avLst/>
              <a:gdLst/>
              <a:ahLst/>
              <a:rect l="l" t="t" r="r" b="b"/>
              <a:pathLst>
                <a:path w="1753" h="239">
                  <a:moveTo>
                    <a:pt x="1542" y="0"/>
                  </a:moveTo>
                  <a:lnTo>
                    <a:pt x="1575" y="0"/>
                  </a:lnTo>
                  <a:lnTo>
                    <a:pt x="1604" y="9"/>
                  </a:lnTo>
                  <a:lnTo>
                    <a:pt x="1623" y="9"/>
                  </a:lnTo>
                  <a:lnTo>
                    <a:pt x="1638" y="19"/>
                  </a:lnTo>
                  <a:lnTo>
                    <a:pt x="1652" y="24"/>
                  </a:lnTo>
                  <a:lnTo>
                    <a:pt x="1671" y="33"/>
                  </a:lnTo>
                  <a:lnTo>
                    <a:pt x="1686" y="43"/>
                  </a:lnTo>
                  <a:lnTo>
                    <a:pt x="1700" y="52"/>
                  </a:lnTo>
                  <a:lnTo>
                    <a:pt x="1709" y="57"/>
                  </a:lnTo>
                  <a:lnTo>
                    <a:pt x="1724" y="62"/>
                  </a:lnTo>
                  <a:lnTo>
                    <a:pt x="1729" y="72"/>
                  </a:lnTo>
                  <a:lnTo>
                    <a:pt x="1738" y="76"/>
                  </a:lnTo>
                  <a:lnTo>
                    <a:pt x="1743" y="81"/>
                  </a:lnTo>
                  <a:lnTo>
                    <a:pt x="1748" y="81"/>
                  </a:lnTo>
                  <a:lnTo>
                    <a:pt x="1753" y="96"/>
                  </a:lnTo>
                  <a:lnTo>
                    <a:pt x="1753" y="100"/>
                  </a:lnTo>
                  <a:lnTo>
                    <a:pt x="1753" y="110"/>
                  </a:lnTo>
                  <a:lnTo>
                    <a:pt x="1748" y="115"/>
                  </a:lnTo>
                  <a:lnTo>
                    <a:pt x="1743" y="119"/>
                  </a:lnTo>
                  <a:lnTo>
                    <a:pt x="1733" y="119"/>
                  </a:lnTo>
                  <a:lnTo>
                    <a:pt x="1729" y="124"/>
                  </a:lnTo>
                  <a:lnTo>
                    <a:pt x="1719" y="124"/>
                  </a:lnTo>
                  <a:lnTo>
                    <a:pt x="1705" y="124"/>
                  </a:lnTo>
                  <a:lnTo>
                    <a:pt x="1690" y="124"/>
                  </a:lnTo>
                  <a:lnTo>
                    <a:pt x="1676" y="124"/>
                  </a:lnTo>
                  <a:lnTo>
                    <a:pt x="1662" y="129"/>
                  </a:lnTo>
                  <a:lnTo>
                    <a:pt x="1642" y="129"/>
                  </a:lnTo>
                  <a:lnTo>
                    <a:pt x="1618" y="129"/>
                  </a:lnTo>
                  <a:lnTo>
                    <a:pt x="1599" y="129"/>
                  </a:lnTo>
                  <a:lnTo>
                    <a:pt x="1575" y="129"/>
                  </a:lnTo>
                  <a:lnTo>
                    <a:pt x="1547" y="124"/>
                  </a:lnTo>
                  <a:lnTo>
                    <a:pt x="1518" y="124"/>
                  </a:lnTo>
                  <a:lnTo>
                    <a:pt x="1489" y="124"/>
                  </a:lnTo>
                  <a:lnTo>
                    <a:pt x="1427" y="119"/>
                  </a:lnTo>
                  <a:lnTo>
                    <a:pt x="1365" y="119"/>
                  </a:lnTo>
                  <a:lnTo>
                    <a:pt x="1245" y="124"/>
                  </a:lnTo>
                  <a:lnTo>
                    <a:pt x="1125" y="124"/>
                  </a:lnTo>
                  <a:lnTo>
                    <a:pt x="1005" y="134"/>
                  </a:lnTo>
                  <a:lnTo>
                    <a:pt x="948" y="139"/>
                  </a:lnTo>
                  <a:lnTo>
                    <a:pt x="895" y="143"/>
                  </a:lnTo>
                  <a:lnTo>
                    <a:pt x="843" y="153"/>
                  </a:lnTo>
                  <a:lnTo>
                    <a:pt x="790" y="158"/>
                  </a:lnTo>
                  <a:lnTo>
                    <a:pt x="742" y="163"/>
                  </a:lnTo>
                  <a:lnTo>
                    <a:pt x="694" y="167"/>
                  </a:lnTo>
                  <a:lnTo>
                    <a:pt x="651" y="172"/>
                  </a:lnTo>
                  <a:lnTo>
                    <a:pt x="608" y="172"/>
                  </a:lnTo>
                  <a:lnTo>
                    <a:pt x="526" y="187"/>
                  </a:lnTo>
                  <a:lnTo>
                    <a:pt x="440" y="196"/>
                  </a:lnTo>
                  <a:lnTo>
                    <a:pt x="354" y="206"/>
                  </a:lnTo>
                  <a:lnTo>
                    <a:pt x="273" y="215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15" y="225"/>
                  </a:lnTo>
                  <a:lnTo>
                    <a:pt x="196" y="225"/>
                  </a:lnTo>
                  <a:lnTo>
                    <a:pt x="182" y="230"/>
                  </a:lnTo>
                  <a:lnTo>
                    <a:pt x="167" y="230"/>
                  </a:lnTo>
                  <a:lnTo>
                    <a:pt x="153" y="234"/>
                  </a:lnTo>
                  <a:lnTo>
                    <a:pt x="143" y="234"/>
                  </a:lnTo>
                  <a:lnTo>
                    <a:pt x="134" y="234"/>
                  </a:lnTo>
                  <a:lnTo>
                    <a:pt x="124" y="239"/>
                  </a:lnTo>
                  <a:lnTo>
                    <a:pt x="115" y="239"/>
                  </a:lnTo>
                  <a:lnTo>
                    <a:pt x="105" y="239"/>
                  </a:lnTo>
                  <a:lnTo>
                    <a:pt x="100" y="239"/>
                  </a:lnTo>
                  <a:lnTo>
                    <a:pt x="95" y="239"/>
                  </a:lnTo>
                  <a:lnTo>
                    <a:pt x="91" y="239"/>
                  </a:lnTo>
                  <a:lnTo>
                    <a:pt x="86" y="239"/>
                  </a:lnTo>
                  <a:lnTo>
                    <a:pt x="81" y="239"/>
                  </a:lnTo>
                  <a:lnTo>
                    <a:pt x="76" y="234"/>
                  </a:lnTo>
                  <a:lnTo>
                    <a:pt x="67" y="234"/>
                  </a:lnTo>
                  <a:lnTo>
                    <a:pt x="57" y="230"/>
                  </a:lnTo>
                  <a:lnTo>
                    <a:pt x="47" y="225"/>
                  </a:lnTo>
                  <a:lnTo>
                    <a:pt x="38" y="215"/>
                  </a:lnTo>
                  <a:lnTo>
                    <a:pt x="28" y="206"/>
                  </a:lnTo>
                  <a:lnTo>
                    <a:pt x="24" y="196"/>
                  </a:lnTo>
                  <a:lnTo>
                    <a:pt x="14" y="191"/>
                  </a:lnTo>
                  <a:lnTo>
                    <a:pt x="9" y="182"/>
                  </a:lnTo>
                  <a:lnTo>
                    <a:pt x="4" y="177"/>
                  </a:lnTo>
                  <a:lnTo>
                    <a:pt x="4" y="172"/>
                  </a:lnTo>
                  <a:lnTo>
                    <a:pt x="0" y="167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9" y="153"/>
                  </a:lnTo>
                  <a:lnTo>
                    <a:pt x="28" y="153"/>
                  </a:lnTo>
                  <a:lnTo>
                    <a:pt x="43" y="148"/>
                  </a:lnTo>
                  <a:lnTo>
                    <a:pt x="62" y="148"/>
                  </a:lnTo>
                  <a:lnTo>
                    <a:pt x="86" y="148"/>
                  </a:lnTo>
                  <a:lnTo>
                    <a:pt x="115" y="143"/>
                  </a:lnTo>
                  <a:lnTo>
                    <a:pt x="143" y="139"/>
                  </a:lnTo>
                  <a:lnTo>
                    <a:pt x="177" y="139"/>
                  </a:lnTo>
                  <a:lnTo>
                    <a:pt x="215" y="134"/>
                  </a:lnTo>
                  <a:lnTo>
                    <a:pt x="258" y="129"/>
                  </a:lnTo>
                  <a:lnTo>
                    <a:pt x="306" y="129"/>
                  </a:lnTo>
                  <a:lnTo>
                    <a:pt x="354" y="124"/>
                  </a:lnTo>
                  <a:lnTo>
                    <a:pt x="411" y="119"/>
                  </a:lnTo>
                  <a:lnTo>
                    <a:pt x="469" y="115"/>
                  </a:lnTo>
                  <a:lnTo>
                    <a:pt x="531" y="110"/>
                  </a:lnTo>
                  <a:lnTo>
                    <a:pt x="651" y="96"/>
                  </a:lnTo>
                  <a:lnTo>
                    <a:pt x="713" y="91"/>
                  </a:lnTo>
                  <a:lnTo>
                    <a:pt x="771" y="81"/>
                  </a:lnTo>
                  <a:lnTo>
                    <a:pt x="828" y="76"/>
                  </a:lnTo>
                  <a:lnTo>
                    <a:pt x="881" y="72"/>
                  </a:lnTo>
                  <a:lnTo>
                    <a:pt x="938" y="62"/>
                  </a:lnTo>
                  <a:lnTo>
                    <a:pt x="986" y="57"/>
                  </a:lnTo>
                  <a:lnTo>
                    <a:pt x="1039" y="52"/>
                  </a:lnTo>
                  <a:lnTo>
                    <a:pt x="1087" y="52"/>
                  </a:lnTo>
                  <a:lnTo>
                    <a:pt x="1135" y="48"/>
                  </a:lnTo>
                  <a:lnTo>
                    <a:pt x="1183" y="38"/>
                  </a:lnTo>
                  <a:lnTo>
                    <a:pt x="1226" y="33"/>
                  </a:lnTo>
                  <a:lnTo>
                    <a:pt x="1264" y="28"/>
                  </a:lnTo>
                  <a:lnTo>
                    <a:pt x="1307" y="24"/>
                  </a:lnTo>
                  <a:lnTo>
                    <a:pt x="1341" y="14"/>
                  </a:lnTo>
                  <a:lnTo>
                    <a:pt x="1379" y="14"/>
                  </a:lnTo>
                  <a:lnTo>
                    <a:pt x="1408" y="9"/>
                  </a:lnTo>
                  <a:lnTo>
                    <a:pt x="1436" y="9"/>
                  </a:lnTo>
                  <a:lnTo>
                    <a:pt x="1465" y="5"/>
                  </a:lnTo>
                  <a:lnTo>
                    <a:pt x="1489" y="5"/>
                  </a:lnTo>
                  <a:lnTo>
                    <a:pt x="1508" y="0"/>
                  </a:lnTo>
                  <a:lnTo>
                    <a:pt x="1527" y="0"/>
                  </a:lnTo>
                  <a:lnTo>
                    <a:pt x="1542" y="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4841640" y="3511440"/>
              <a:ext cx="191160" cy="1233720"/>
            </a:xfrm>
            <a:custGeom>
              <a:avLst/>
              <a:gdLst/>
              <a:ahLst/>
              <a:rect l="l" t="t" r="r" b="b"/>
              <a:pathLst>
                <a:path w="158" h="1020">
                  <a:moveTo>
                    <a:pt x="19" y="76"/>
                  </a:moveTo>
                  <a:lnTo>
                    <a:pt x="9" y="5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4"/>
                  </a:lnTo>
                  <a:lnTo>
                    <a:pt x="100" y="9"/>
                  </a:lnTo>
                  <a:lnTo>
                    <a:pt x="124" y="19"/>
                  </a:lnTo>
                  <a:lnTo>
                    <a:pt x="139" y="33"/>
                  </a:lnTo>
                  <a:lnTo>
                    <a:pt x="148" y="38"/>
                  </a:lnTo>
                  <a:lnTo>
                    <a:pt x="153" y="48"/>
                  </a:lnTo>
                  <a:lnTo>
                    <a:pt x="158" y="57"/>
                  </a:lnTo>
                  <a:lnTo>
                    <a:pt x="158" y="67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91"/>
                  </a:lnTo>
                  <a:lnTo>
                    <a:pt x="153" y="100"/>
                  </a:lnTo>
                  <a:lnTo>
                    <a:pt x="153" y="115"/>
                  </a:lnTo>
                  <a:lnTo>
                    <a:pt x="153" y="129"/>
                  </a:lnTo>
                  <a:lnTo>
                    <a:pt x="148" y="148"/>
                  </a:lnTo>
                  <a:lnTo>
                    <a:pt x="148" y="172"/>
                  </a:lnTo>
                  <a:lnTo>
                    <a:pt x="148" y="191"/>
                  </a:lnTo>
                  <a:lnTo>
                    <a:pt x="143" y="220"/>
                  </a:lnTo>
                  <a:lnTo>
                    <a:pt x="143" y="249"/>
                  </a:lnTo>
                  <a:lnTo>
                    <a:pt x="143" y="282"/>
                  </a:lnTo>
                  <a:lnTo>
                    <a:pt x="143" y="316"/>
                  </a:lnTo>
                  <a:lnTo>
                    <a:pt x="143" y="354"/>
                  </a:lnTo>
                  <a:lnTo>
                    <a:pt x="139" y="392"/>
                  </a:lnTo>
                  <a:lnTo>
                    <a:pt x="139" y="436"/>
                  </a:lnTo>
                  <a:lnTo>
                    <a:pt x="139" y="483"/>
                  </a:lnTo>
                  <a:lnTo>
                    <a:pt x="139" y="531"/>
                  </a:lnTo>
                  <a:lnTo>
                    <a:pt x="139" y="579"/>
                  </a:lnTo>
                  <a:lnTo>
                    <a:pt x="139" y="627"/>
                  </a:lnTo>
                  <a:lnTo>
                    <a:pt x="139" y="670"/>
                  </a:lnTo>
                  <a:lnTo>
                    <a:pt x="139" y="709"/>
                  </a:lnTo>
                  <a:lnTo>
                    <a:pt x="139" y="747"/>
                  </a:lnTo>
                  <a:lnTo>
                    <a:pt x="139" y="780"/>
                  </a:lnTo>
                  <a:lnTo>
                    <a:pt x="134" y="814"/>
                  </a:lnTo>
                  <a:lnTo>
                    <a:pt x="134" y="843"/>
                  </a:lnTo>
                  <a:lnTo>
                    <a:pt x="134" y="867"/>
                  </a:lnTo>
                  <a:lnTo>
                    <a:pt x="134" y="891"/>
                  </a:lnTo>
                  <a:lnTo>
                    <a:pt x="129" y="914"/>
                  </a:lnTo>
                  <a:lnTo>
                    <a:pt x="129" y="934"/>
                  </a:lnTo>
                  <a:lnTo>
                    <a:pt x="129" y="948"/>
                  </a:lnTo>
                  <a:lnTo>
                    <a:pt x="124" y="962"/>
                  </a:lnTo>
                  <a:lnTo>
                    <a:pt x="124" y="972"/>
                  </a:lnTo>
                  <a:lnTo>
                    <a:pt x="124" y="977"/>
                  </a:lnTo>
                  <a:lnTo>
                    <a:pt x="110" y="996"/>
                  </a:lnTo>
                  <a:lnTo>
                    <a:pt x="100" y="1010"/>
                  </a:lnTo>
                  <a:lnTo>
                    <a:pt x="91" y="1015"/>
                  </a:lnTo>
                  <a:lnTo>
                    <a:pt x="86" y="1020"/>
                  </a:lnTo>
                  <a:lnTo>
                    <a:pt x="81" y="1020"/>
                  </a:lnTo>
                  <a:lnTo>
                    <a:pt x="76" y="1020"/>
                  </a:lnTo>
                  <a:lnTo>
                    <a:pt x="72" y="1015"/>
                  </a:lnTo>
                  <a:lnTo>
                    <a:pt x="67" y="1010"/>
                  </a:lnTo>
                  <a:lnTo>
                    <a:pt x="62" y="1001"/>
                  </a:lnTo>
                  <a:lnTo>
                    <a:pt x="57" y="991"/>
                  </a:lnTo>
                  <a:lnTo>
                    <a:pt x="48" y="977"/>
                  </a:lnTo>
                  <a:lnTo>
                    <a:pt x="43" y="958"/>
                  </a:lnTo>
                  <a:lnTo>
                    <a:pt x="38" y="938"/>
                  </a:lnTo>
                  <a:lnTo>
                    <a:pt x="28" y="914"/>
                  </a:lnTo>
                  <a:lnTo>
                    <a:pt x="24" y="895"/>
                  </a:lnTo>
                  <a:lnTo>
                    <a:pt x="19" y="876"/>
                  </a:lnTo>
                  <a:lnTo>
                    <a:pt x="14" y="857"/>
                  </a:lnTo>
                  <a:lnTo>
                    <a:pt x="14" y="838"/>
                  </a:lnTo>
                  <a:lnTo>
                    <a:pt x="14" y="819"/>
                  </a:lnTo>
                  <a:lnTo>
                    <a:pt x="14" y="800"/>
                  </a:lnTo>
                  <a:lnTo>
                    <a:pt x="19" y="780"/>
                  </a:lnTo>
                  <a:lnTo>
                    <a:pt x="24" y="761"/>
                  </a:lnTo>
                  <a:lnTo>
                    <a:pt x="28" y="742"/>
                  </a:lnTo>
                  <a:lnTo>
                    <a:pt x="33" y="723"/>
                  </a:lnTo>
                  <a:lnTo>
                    <a:pt x="38" y="699"/>
                  </a:lnTo>
                  <a:lnTo>
                    <a:pt x="43" y="670"/>
                  </a:lnTo>
                  <a:lnTo>
                    <a:pt x="48" y="637"/>
                  </a:lnTo>
                  <a:lnTo>
                    <a:pt x="48" y="603"/>
                  </a:lnTo>
                  <a:lnTo>
                    <a:pt x="52" y="565"/>
                  </a:lnTo>
                  <a:lnTo>
                    <a:pt x="57" y="488"/>
                  </a:lnTo>
                  <a:lnTo>
                    <a:pt x="62" y="416"/>
                  </a:lnTo>
                  <a:lnTo>
                    <a:pt x="62" y="335"/>
                  </a:lnTo>
                  <a:lnTo>
                    <a:pt x="62" y="258"/>
                  </a:lnTo>
                  <a:lnTo>
                    <a:pt x="57" y="220"/>
                  </a:lnTo>
                  <a:lnTo>
                    <a:pt x="57" y="191"/>
                  </a:lnTo>
                  <a:lnTo>
                    <a:pt x="52" y="163"/>
                  </a:lnTo>
                  <a:lnTo>
                    <a:pt x="48" y="139"/>
                  </a:lnTo>
                  <a:lnTo>
                    <a:pt x="43" y="119"/>
                  </a:lnTo>
                  <a:lnTo>
                    <a:pt x="33" y="100"/>
                  </a:lnTo>
                  <a:lnTo>
                    <a:pt x="28" y="86"/>
                  </a:lnTo>
                  <a:lnTo>
                    <a:pt x="19" y="7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3966120" y="3754440"/>
              <a:ext cx="990360" cy="793440"/>
            </a:xfrm>
            <a:custGeom>
              <a:avLst/>
              <a:gdLst/>
              <a:ahLst/>
              <a:rect l="l" t="t" r="r" b="b"/>
              <a:pathLst>
                <a:path w="819" h="656">
                  <a:moveTo>
                    <a:pt x="374" y="469"/>
                  </a:moveTo>
                  <a:lnTo>
                    <a:pt x="312" y="508"/>
                  </a:lnTo>
                  <a:lnTo>
                    <a:pt x="250" y="541"/>
                  </a:lnTo>
                  <a:lnTo>
                    <a:pt x="192" y="575"/>
                  </a:lnTo>
                  <a:lnTo>
                    <a:pt x="130" y="613"/>
                  </a:lnTo>
                  <a:lnTo>
                    <a:pt x="101" y="627"/>
                  </a:lnTo>
                  <a:lnTo>
                    <a:pt x="77" y="637"/>
                  </a:lnTo>
                  <a:lnTo>
                    <a:pt x="58" y="646"/>
                  </a:lnTo>
                  <a:lnTo>
                    <a:pt x="39" y="651"/>
                  </a:lnTo>
                  <a:lnTo>
                    <a:pt x="24" y="656"/>
                  </a:lnTo>
                  <a:lnTo>
                    <a:pt x="15" y="656"/>
                  </a:lnTo>
                  <a:lnTo>
                    <a:pt x="5" y="656"/>
                  </a:lnTo>
                  <a:lnTo>
                    <a:pt x="0" y="656"/>
                  </a:lnTo>
                  <a:lnTo>
                    <a:pt x="0" y="651"/>
                  </a:lnTo>
                  <a:lnTo>
                    <a:pt x="0" y="642"/>
                  </a:lnTo>
                  <a:lnTo>
                    <a:pt x="5" y="637"/>
                  </a:lnTo>
                  <a:lnTo>
                    <a:pt x="15" y="627"/>
                  </a:lnTo>
                  <a:lnTo>
                    <a:pt x="29" y="613"/>
                  </a:lnTo>
                  <a:lnTo>
                    <a:pt x="48" y="599"/>
                  </a:lnTo>
                  <a:lnTo>
                    <a:pt x="68" y="584"/>
                  </a:lnTo>
                  <a:lnTo>
                    <a:pt x="96" y="570"/>
                  </a:lnTo>
                  <a:lnTo>
                    <a:pt x="149" y="536"/>
                  </a:lnTo>
                  <a:lnTo>
                    <a:pt x="197" y="503"/>
                  </a:lnTo>
                  <a:lnTo>
                    <a:pt x="250" y="464"/>
                  </a:lnTo>
                  <a:lnTo>
                    <a:pt x="293" y="421"/>
                  </a:lnTo>
                  <a:lnTo>
                    <a:pt x="307" y="412"/>
                  </a:lnTo>
                  <a:lnTo>
                    <a:pt x="321" y="397"/>
                  </a:lnTo>
                  <a:lnTo>
                    <a:pt x="336" y="383"/>
                  </a:lnTo>
                  <a:lnTo>
                    <a:pt x="355" y="369"/>
                  </a:lnTo>
                  <a:lnTo>
                    <a:pt x="374" y="349"/>
                  </a:lnTo>
                  <a:lnTo>
                    <a:pt x="393" y="326"/>
                  </a:lnTo>
                  <a:lnTo>
                    <a:pt x="412" y="306"/>
                  </a:lnTo>
                  <a:lnTo>
                    <a:pt x="436" y="278"/>
                  </a:lnTo>
                  <a:lnTo>
                    <a:pt x="465" y="254"/>
                  </a:lnTo>
                  <a:lnTo>
                    <a:pt x="494" y="220"/>
                  </a:lnTo>
                  <a:lnTo>
                    <a:pt x="523" y="191"/>
                  </a:lnTo>
                  <a:lnTo>
                    <a:pt x="551" y="158"/>
                  </a:lnTo>
                  <a:lnTo>
                    <a:pt x="585" y="120"/>
                  </a:lnTo>
                  <a:lnTo>
                    <a:pt x="618" y="81"/>
                  </a:lnTo>
                  <a:lnTo>
                    <a:pt x="652" y="43"/>
                  </a:lnTo>
                  <a:lnTo>
                    <a:pt x="690" y="0"/>
                  </a:lnTo>
                  <a:lnTo>
                    <a:pt x="757" y="14"/>
                  </a:lnTo>
                  <a:lnTo>
                    <a:pt x="819" y="33"/>
                  </a:lnTo>
                  <a:lnTo>
                    <a:pt x="781" y="76"/>
                  </a:lnTo>
                  <a:lnTo>
                    <a:pt x="743" y="120"/>
                  </a:lnTo>
                  <a:lnTo>
                    <a:pt x="705" y="158"/>
                  </a:lnTo>
                  <a:lnTo>
                    <a:pt x="671" y="196"/>
                  </a:lnTo>
                  <a:lnTo>
                    <a:pt x="637" y="230"/>
                  </a:lnTo>
                  <a:lnTo>
                    <a:pt x="604" y="263"/>
                  </a:lnTo>
                  <a:lnTo>
                    <a:pt x="575" y="292"/>
                  </a:lnTo>
                  <a:lnTo>
                    <a:pt x="546" y="321"/>
                  </a:lnTo>
                  <a:lnTo>
                    <a:pt x="518" y="345"/>
                  </a:lnTo>
                  <a:lnTo>
                    <a:pt x="494" y="369"/>
                  </a:lnTo>
                  <a:lnTo>
                    <a:pt x="465" y="393"/>
                  </a:lnTo>
                  <a:lnTo>
                    <a:pt x="446" y="412"/>
                  </a:lnTo>
                  <a:lnTo>
                    <a:pt x="422" y="431"/>
                  </a:lnTo>
                  <a:lnTo>
                    <a:pt x="403" y="445"/>
                  </a:lnTo>
                  <a:lnTo>
                    <a:pt x="388" y="460"/>
                  </a:lnTo>
                  <a:lnTo>
                    <a:pt x="374" y="46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4939560" y="3742560"/>
              <a:ext cx="1268640" cy="759600"/>
            </a:xfrm>
            <a:custGeom>
              <a:avLst/>
              <a:gdLst/>
              <a:ahLst/>
              <a:rect l="l" t="t" r="r" b="b"/>
              <a:pathLst>
                <a:path w="1049" h="628">
                  <a:moveTo>
                    <a:pt x="24" y="0"/>
                  </a:moveTo>
                  <a:lnTo>
                    <a:pt x="53" y="29"/>
                  </a:lnTo>
                  <a:lnTo>
                    <a:pt x="86" y="58"/>
                  </a:lnTo>
                  <a:lnTo>
                    <a:pt x="125" y="86"/>
                  </a:lnTo>
                  <a:lnTo>
                    <a:pt x="158" y="115"/>
                  </a:lnTo>
                  <a:lnTo>
                    <a:pt x="201" y="144"/>
                  </a:lnTo>
                  <a:lnTo>
                    <a:pt x="244" y="173"/>
                  </a:lnTo>
                  <a:lnTo>
                    <a:pt x="288" y="201"/>
                  </a:lnTo>
                  <a:lnTo>
                    <a:pt x="335" y="230"/>
                  </a:lnTo>
                  <a:lnTo>
                    <a:pt x="383" y="268"/>
                  </a:lnTo>
                  <a:lnTo>
                    <a:pt x="431" y="297"/>
                  </a:lnTo>
                  <a:lnTo>
                    <a:pt x="484" y="326"/>
                  </a:lnTo>
                  <a:lnTo>
                    <a:pt x="537" y="355"/>
                  </a:lnTo>
                  <a:lnTo>
                    <a:pt x="594" y="383"/>
                  </a:lnTo>
                  <a:lnTo>
                    <a:pt x="656" y="407"/>
                  </a:lnTo>
                  <a:lnTo>
                    <a:pt x="719" y="431"/>
                  </a:lnTo>
                  <a:lnTo>
                    <a:pt x="786" y="455"/>
                  </a:lnTo>
                  <a:lnTo>
                    <a:pt x="814" y="470"/>
                  </a:lnTo>
                  <a:lnTo>
                    <a:pt x="848" y="479"/>
                  </a:lnTo>
                  <a:lnTo>
                    <a:pt x="877" y="489"/>
                  </a:lnTo>
                  <a:lnTo>
                    <a:pt x="901" y="498"/>
                  </a:lnTo>
                  <a:lnTo>
                    <a:pt x="925" y="508"/>
                  </a:lnTo>
                  <a:lnTo>
                    <a:pt x="948" y="518"/>
                  </a:lnTo>
                  <a:lnTo>
                    <a:pt x="968" y="527"/>
                  </a:lnTo>
                  <a:lnTo>
                    <a:pt x="987" y="532"/>
                  </a:lnTo>
                  <a:lnTo>
                    <a:pt x="1001" y="537"/>
                  </a:lnTo>
                  <a:lnTo>
                    <a:pt x="1016" y="546"/>
                  </a:lnTo>
                  <a:lnTo>
                    <a:pt x="1025" y="551"/>
                  </a:lnTo>
                  <a:lnTo>
                    <a:pt x="1035" y="551"/>
                  </a:lnTo>
                  <a:lnTo>
                    <a:pt x="1044" y="556"/>
                  </a:lnTo>
                  <a:lnTo>
                    <a:pt x="1049" y="561"/>
                  </a:lnTo>
                  <a:lnTo>
                    <a:pt x="1049" y="565"/>
                  </a:lnTo>
                  <a:lnTo>
                    <a:pt x="1044" y="570"/>
                  </a:lnTo>
                  <a:lnTo>
                    <a:pt x="1039" y="570"/>
                  </a:lnTo>
                  <a:lnTo>
                    <a:pt x="1035" y="575"/>
                  </a:lnTo>
                  <a:lnTo>
                    <a:pt x="1030" y="575"/>
                  </a:lnTo>
                  <a:lnTo>
                    <a:pt x="1020" y="580"/>
                  </a:lnTo>
                  <a:lnTo>
                    <a:pt x="1011" y="580"/>
                  </a:lnTo>
                  <a:lnTo>
                    <a:pt x="1001" y="585"/>
                  </a:lnTo>
                  <a:lnTo>
                    <a:pt x="992" y="589"/>
                  </a:lnTo>
                  <a:lnTo>
                    <a:pt x="977" y="589"/>
                  </a:lnTo>
                  <a:lnTo>
                    <a:pt x="963" y="594"/>
                  </a:lnTo>
                  <a:lnTo>
                    <a:pt x="948" y="594"/>
                  </a:lnTo>
                  <a:lnTo>
                    <a:pt x="934" y="599"/>
                  </a:lnTo>
                  <a:lnTo>
                    <a:pt x="915" y="604"/>
                  </a:lnTo>
                  <a:lnTo>
                    <a:pt x="896" y="604"/>
                  </a:lnTo>
                  <a:lnTo>
                    <a:pt x="857" y="613"/>
                  </a:lnTo>
                  <a:lnTo>
                    <a:pt x="819" y="618"/>
                  </a:lnTo>
                  <a:lnTo>
                    <a:pt x="786" y="623"/>
                  </a:lnTo>
                  <a:lnTo>
                    <a:pt x="752" y="623"/>
                  </a:lnTo>
                  <a:lnTo>
                    <a:pt x="723" y="623"/>
                  </a:lnTo>
                  <a:lnTo>
                    <a:pt x="699" y="628"/>
                  </a:lnTo>
                  <a:lnTo>
                    <a:pt x="675" y="623"/>
                  </a:lnTo>
                  <a:lnTo>
                    <a:pt x="656" y="623"/>
                  </a:lnTo>
                  <a:lnTo>
                    <a:pt x="632" y="618"/>
                  </a:lnTo>
                  <a:lnTo>
                    <a:pt x="604" y="609"/>
                  </a:lnTo>
                  <a:lnTo>
                    <a:pt x="580" y="594"/>
                  </a:lnTo>
                  <a:lnTo>
                    <a:pt x="551" y="575"/>
                  </a:lnTo>
                  <a:lnTo>
                    <a:pt x="522" y="551"/>
                  </a:lnTo>
                  <a:lnTo>
                    <a:pt x="489" y="522"/>
                  </a:lnTo>
                  <a:lnTo>
                    <a:pt x="474" y="503"/>
                  </a:lnTo>
                  <a:lnTo>
                    <a:pt x="455" y="489"/>
                  </a:lnTo>
                  <a:lnTo>
                    <a:pt x="441" y="470"/>
                  </a:lnTo>
                  <a:lnTo>
                    <a:pt x="422" y="450"/>
                  </a:lnTo>
                  <a:lnTo>
                    <a:pt x="383" y="412"/>
                  </a:lnTo>
                  <a:lnTo>
                    <a:pt x="350" y="379"/>
                  </a:lnTo>
                  <a:lnTo>
                    <a:pt x="321" y="350"/>
                  </a:lnTo>
                  <a:lnTo>
                    <a:pt x="292" y="326"/>
                  </a:lnTo>
                  <a:lnTo>
                    <a:pt x="264" y="302"/>
                  </a:lnTo>
                  <a:lnTo>
                    <a:pt x="244" y="278"/>
                  </a:lnTo>
                  <a:lnTo>
                    <a:pt x="225" y="264"/>
                  </a:lnTo>
                  <a:lnTo>
                    <a:pt x="206" y="249"/>
                  </a:lnTo>
                  <a:lnTo>
                    <a:pt x="187" y="235"/>
                  </a:lnTo>
                  <a:lnTo>
                    <a:pt x="168" y="216"/>
                  </a:lnTo>
                  <a:lnTo>
                    <a:pt x="144" y="197"/>
                  </a:lnTo>
                  <a:lnTo>
                    <a:pt x="120" y="173"/>
                  </a:lnTo>
                  <a:lnTo>
                    <a:pt x="96" y="149"/>
                  </a:lnTo>
                  <a:lnTo>
                    <a:pt x="62" y="120"/>
                  </a:lnTo>
                  <a:lnTo>
                    <a:pt x="34" y="86"/>
                  </a:lnTo>
                  <a:lnTo>
                    <a:pt x="0" y="48"/>
                  </a:lnTo>
                  <a:lnTo>
                    <a:pt x="24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4528440" y="2606760"/>
              <a:ext cx="701280" cy="956880"/>
            </a:xfrm>
            <a:custGeom>
              <a:avLst/>
              <a:gdLst/>
              <a:ahLst/>
              <a:rect l="l" t="t" r="r" b="b"/>
              <a:pathLst>
                <a:path w="580" h="791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5" y="772"/>
                  </a:lnTo>
                  <a:lnTo>
                    <a:pt x="14" y="762"/>
                  </a:lnTo>
                  <a:lnTo>
                    <a:pt x="29" y="748"/>
                  </a:lnTo>
                  <a:lnTo>
                    <a:pt x="43" y="733"/>
                  </a:lnTo>
                  <a:lnTo>
                    <a:pt x="58" y="719"/>
                  </a:lnTo>
                  <a:lnTo>
                    <a:pt x="81" y="700"/>
                  </a:lnTo>
                  <a:lnTo>
                    <a:pt x="101" y="681"/>
                  </a:lnTo>
                  <a:lnTo>
                    <a:pt x="125" y="661"/>
                  </a:lnTo>
                  <a:lnTo>
                    <a:pt x="149" y="637"/>
                  </a:lnTo>
                  <a:lnTo>
                    <a:pt x="172" y="614"/>
                  </a:lnTo>
                  <a:lnTo>
                    <a:pt x="196" y="585"/>
                  </a:lnTo>
                  <a:lnTo>
                    <a:pt x="220" y="556"/>
                  </a:lnTo>
                  <a:lnTo>
                    <a:pt x="244" y="523"/>
                  </a:lnTo>
                  <a:lnTo>
                    <a:pt x="268" y="489"/>
                  </a:lnTo>
                  <a:lnTo>
                    <a:pt x="292" y="455"/>
                  </a:lnTo>
                  <a:lnTo>
                    <a:pt x="316" y="422"/>
                  </a:lnTo>
                  <a:lnTo>
                    <a:pt x="340" y="393"/>
                  </a:lnTo>
                  <a:lnTo>
                    <a:pt x="359" y="360"/>
                  </a:lnTo>
                  <a:lnTo>
                    <a:pt x="378" y="326"/>
                  </a:lnTo>
                  <a:lnTo>
                    <a:pt x="393" y="293"/>
                  </a:lnTo>
                  <a:lnTo>
                    <a:pt x="407" y="259"/>
                  </a:lnTo>
                  <a:lnTo>
                    <a:pt x="417" y="226"/>
                  </a:lnTo>
                  <a:lnTo>
                    <a:pt x="426" y="192"/>
                  </a:lnTo>
                  <a:lnTo>
                    <a:pt x="431" y="159"/>
                  </a:lnTo>
                  <a:lnTo>
                    <a:pt x="436" y="130"/>
                  </a:lnTo>
                  <a:lnTo>
                    <a:pt x="441" y="101"/>
                  </a:lnTo>
                  <a:lnTo>
                    <a:pt x="446" y="72"/>
                  </a:lnTo>
                  <a:lnTo>
                    <a:pt x="446" y="48"/>
                  </a:lnTo>
                  <a:lnTo>
                    <a:pt x="446" y="24"/>
                  </a:lnTo>
                  <a:lnTo>
                    <a:pt x="441" y="0"/>
                  </a:lnTo>
                  <a:lnTo>
                    <a:pt x="474" y="20"/>
                  </a:lnTo>
                  <a:lnTo>
                    <a:pt x="503" y="34"/>
                  </a:lnTo>
                  <a:lnTo>
                    <a:pt x="527" y="44"/>
                  </a:lnTo>
                  <a:lnTo>
                    <a:pt x="546" y="58"/>
                  </a:lnTo>
                  <a:lnTo>
                    <a:pt x="560" y="72"/>
                  </a:lnTo>
                  <a:lnTo>
                    <a:pt x="570" y="82"/>
                  </a:lnTo>
                  <a:lnTo>
                    <a:pt x="580" y="91"/>
                  </a:lnTo>
                  <a:lnTo>
                    <a:pt x="580" y="101"/>
                  </a:lnTo>
                  <a:lnTo>
                    <a:pt x="580" y="111"/>
                  </a:lnTo>
                  <a:lnTo>
                    <a:pt x="575" y="125"/>
                  </a:lnTo>
                  <a:lnTo>
                    <a:pt x="575" y="139"/>
                  </a:lnTo>
                  <a:lnTo>
                    <a:pt x="565" y="159"/>
                  </a:lnTo>
                  <a:lnTo>
                    <a:pt x="560" y="182"/>
                  </a:lnTo>
                  <a:lnTo>
                    <a:pt x="551" y="206"/>
                  </a:lnTo>
                  <a:lnTo>
                    <a:pt x="541" y="235"/>
                  </a:lnTo>
                  <a:lnTo>
                    <a:pt x="527" y="269"/>
                  </a:lnTo>
                  <a:lnTo>
                    <a:pt x="513" y="302"/>
                  </a:lnTo>
                  <a:lnTo>
                    <a:pt x="493" y="336"/>
                  </a:lnTo>
                  <a:lnTo>
                    <a:pt x="474" y="369"/>
                  </a:lnTo>
                  <a:lnTo>
                    <a:pt x="455" y="403"/>
                  </a:lnTo>
                  <a:lnTo>
                    <a:pt x="431" y="436"/>
                  </a:lnTo>
                  <a:lnTo>
                    <a:pt x="407" y="470"/>
                  </a:lnTo>
                  <a:lnTo>
                    <a:pt x="383" y="503"/>
                  </a:lnTo>
                  <a:lnTo>
                    <a:pt x="354" y="532"/>
                  </a:lnTo>
                  <a:lnTo>
                    <a:pt x="326" y="566"/>
                  </a:lnTo>
                  <a:lnTo>
                    <a:pt x="297" y="594"/>
                  </a:lnTo>
                  <a:lnTo>
                    <a:pt x="273" y="618"/>
                  </a:lnTo>
                  <a:lnTo>
                    <a:pt x="244" y="647"/>
                  </a:lnTo>
                  <a:lnTo>
                    <a:pt x="216" y="671"/>
                  </a:lnTo>
                  <a:lnTo>
                    <a:pt x="187" y="690"/>
                  </a:lnTo>
                  <a:lnTo>
                    <a:pt x="158" y="714"/>
                  </a:lnTo>
                  <a:lnTo>
                    <a:pt x="129" y="733"/>
                  </a:lnTo>
                  <a:lnTo>
                    <a:pt x="105" y="748"/>
                  </a:lnTo>
                  <a:lnTo>
                    <a:pt x="81" y="762"/>
                  </a:lnTo>
                  <a:lnTo>
                    <a:pt x="58" y="776"/>
                  </a:lnTo>
                  <a:lnTo>
                    <a:pt x="43" y="781"/>
                  </a:lnTo>
                  <a:lnTo>
                    <a:pt x="24" y="791"/>
                  </a:lnTo>
                  <a:lnTo>
                    <a:pt x="14" y="791"/>
                  </a:lnTo>
                  <a:lnTo>
                    <a:pt x="5" y="791"/>
                  </a:lnTo>
                  <a:lnTo>
                    <a:pt x="0" y="791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"/>
            <p:cNvSpPr/>
            <p:nvPr/>
          </p:nvSpPr>
          <p:spPr>
            <a:xfrm>
              <a:off x="4227480" y="2450520"/>
              <a:ext cx="307080" cy="23184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86" y="115"/>
                  </a:moveTo>
                  <a:lnTo>
                    <a:pt x="67" y="96"/>
                  </a:lnTo>
                  <a:lnTo>
                    <a:pt x="48" y="77"/>
                  </a:lnTo>
                  <a:lnTo>
                    <a:pt x="34" y="62"/>
                  </a:lnTo>
                  <a:lnTo>
                    <a:pt x="19" y="48"/>
                  </a:lnTo>
                  <a:lnTo>
                    <a:pt x="14" y="3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" y="0"/>
                  </a:lnTo>
                  <a:lnTo>
                    <a:pt x="72" y="5"/>
                  </a:lnTo>
                  <a:lnTo>
                    <a:pt x="110" y="10"/>
                  </a:lnTo>
                  <a:lnTo>
                    <a:pt x="148" y="15"/>
                  </a:lnTo>
                  <a:lnTo>
                    <a:pt x="177" y="24"/>
                  </a:lnTo>
                  <a:lnTo>
                    <a:pt x="192" y="29"/>
                  </a:lnTo>
                  <a:lnTo>
                    <a:pt x="206" y="34"/>
                  </a:lnTo>
                  <a:lnTo>
                    <a:pt x="216" y="38"/>
                  </a:lnTo>
                  <a:lnTo>
                    <a:pt x="225" y="48"/>
                  </a:lnTo>
                  <a:lnTo>
                    <a:pt x="235" y="58"/>
                  </a:lnTo>
                  <a:lnTo>
                    <a:pt x="244" y="62"/>
                  </a:lnTo>
                  <a:lnTo>
                    <a:pt x="249" y="77"/>
                  </a:lnTo>
                  <a:lnTo>
                    <a:pt x="254" y="86"/>
                  </a:lnTo>
                  <a:lnTo>
                    <a:pt x="254" y="96"/>
                  </a:lnTo>
                  <a:lnTo>
                    <a:pt x="254" y="106"/>
                  </a:lnTo>
                  <a:lnTo>
                    <a:pt x="254" y="129"/>
                  </a:lnTo>
                  <a:lnTo>
                    <a:pt x="249" y="149"/>
                  </a:lnTo>
                  <a:lnTo>
                    <a:pt x="244" y="158"/>
                  </a:lnTo>
                  <a:lnTo>
                    <a:pt x="239" y="168"/>
                  </a:lnTo>
                  <a:lnTo>
                    <a:pt x="230" y="177"/>
                  </a:lnTo>
                  <a:lnTo>
                    <a:pt x="225" y="182"/>
                  </a:lnTo>
                  <a:lnTo>
                    <a:pt x="220" y="187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87"/>
                  </a:lnTo>
                  <a:lnTo>
                    <a:pt x="192" y="187"/>
                  </a:lnTo>
                  <a:lnTo>
                    <a:pt x="182" y="187"/>
                  </a:lnTo>
                  <a:lnTo>
                    <a:pt x="172" y="177"/>
                  </a:lnTo>
                  <a:lnTo>
                    <a:pt x="158" y="173"/>
                  </a:lnTo>
                  <a:lnTo>
                    <a:pt x="144" y="158"/>
                  </a:lnTo>
                  <a:lnTo>
                    <a:pt x="129" y="149"/>
                  </a:lnTo>
                  <a:lnTo>
                    <a:pt x="110" y="134"/>
                  </a:lnTo>
                  <a:lnTo>
                    <a:pt x="86" y="115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7"/>
            <p:cNvSpPr/>
            <p:nvPr/>
          </p:nvSpPr>
          <p:spPr>
            <a:xfrm>
              <a:off x="4094280" y="2781000"/>
              <a:ext cx="271800" cy="219960"/>
            </a:xfrm>
            <a:custGeom>
              <a:avLst/>
              <a:gdLst/>
              <a:ahLst/>
              <a:rect l="l" t="t" r="r" b="b"/>
              <a:pathLst>
                <a:path w="225" h="182">
                  <a:moveTo>
                    <a:pt x="144" y="24"/>
                  </a:moveTo>
                  <a:lnTo>
                    <a:pt x="163" y="29"/>
                  </a:lnTo>
                  <a:lnTo>
                    <a:pt x="172" y="38"/>
                  </a:lnTo>
                  <a:lnTo>
                    <a:pt x="187" y="48"/>
                  </a:lnTo>
                  <a:lnTo>
                    <a:pt x="196" y="53"/>
                  </a:lnTo>
                  <a:lnTo>
                    <a:pt x="206" y="62"/>
                  </a:lnTo>
                  <a:lnTo>
                    <a:pt x="215" y="72"/>
                  </a:lnTo>
                  <a:lnTo>
                    <a:pt x="220" y="82"/>
                  </a:lnTo>
                  <a:lnTo>
                    <a:pt x="225" y="91"/>
                  </a:lnTo>
                  <a:lnTo>
                    <a:pt x="225" y="101"/>
                  </a:lnTo>
                  <a:lnTo>
                    <a:pt x="225" y="115"/>
                  </a:lnTo>
                  <a:lnTo>
                    <a:pt x="225" y="134"/>
                  </a:lnTo>
                  <a:lnTo>
                    <a:pt x="225" y="139"/>
                  </a:lnTo>
                  <a:lnTo>
                    <a:pt x="220" y="149"/>
                  </a:lnTo>
                  <a:lnTo>
                    <a:pt x="215" y="153"/>
                  </a:lnTo>
                  <a:lnTo>
                    <a:pt x="215" y="158"/>
                  </a:lnTo>
                  <a:lnTo>
                    <a:pt x="201" y="168"/>
                  </a:lnTo>
                  <a:lnTo>
                    <a:pt x="191" y="177"/>
                  </a:lnTo>
                  <a:lnTo>
                    <a:pt x="177" y="182"/>
                  </a:lnTo>
                  <a:lnTo>
                    <a:pt x="172" y="182"/>
                  </a:lnTo>
                  <a:lnTo>
                    <a:pt x="167" y="182"/>
                  </a:lnTo>
                  <a:lnTo>
                    <a:pt x="158" y="177"/>
                  </a:lnTo>
                  <a:lnTo>
                    <a:pt x="148" y="173"/>
                  </a:lnTo>
                  <a:lnTo>
                    <a:pt x="139" y="163"/>
                  </a:lnTo>
                  <a:lnTo>
                    <a:pt x="124" y="153"/>
                  </a:lnTo>
                  <a:lnTo>
                    <a:pt x="110" y="144"/>
                  </a:lnTo>
                  <a:lnTo>
                    <a:pt x="96" y="129"/>
                  </a:lnTo>
                  <a:lnTo>
                    <a:pt x="76" y="115"/>
                  </a:lnTo>
                  <a:lnTo>
                    <a:pt x="57" y="101"/>
                  </a:lnTo>
                  <a:lnTo>
                    <a:pt x="43" y="86"/>
                  </a:lnTo>
                  <a:lnTo>
                    <a:pt x="29" y="67"/>
                  </a:lnTo>
                  <a:lnTo>
                    <a:pt x="19" y="53"/>
                  </a:lnTo>
                  <a:lnTo>
                    <a:pt x="9" y="38"/>
                  </a:lnTo>
                  <a:lnTo>
                    <a:pt x="5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81" y="5"/>
                  </a:lnTo>
                  <a:lnTo>
                    <a:pt x="100" y="10"/>
                  </a:lnTo>
                  <a:lnTo>
                    <a:pt x="115" y="15"/>
                  </a:lnTo>
                  <a:lnTo>
                    <a:pt x="129" y="19"/>
                  </a:lnTo>
                  <a:lnTo>
                    <a:pt x="144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4667760" y="2787120"/>
              <a:ext cx="185040" cy="352800"/>
            </a:xfrm>
            <a:custGeom>
              <a:avLst/>
              <a:gdLst/>
              <a:ahLst/>
              <a:rect l="l" t="t" r="r" b="b"/>
              <a:pathLst>
                <a:path w="153" h="292">
                  <a:moveTo>
                    <a:pt x="110" y="0"/>
                  </a:moveTo>
                  <a:lnTo>
                    <a:pt x="129" y="24"/>
                  </a:lnTo>
                  <a:lnTo>
                    <a:pt x="134" y="33"/>
                  </a:lnTo>
                  <a:lnTo>
                    <a:pt x="144" y="43"/>
                  </a:lnTo>
                  <a:lnTo>
                    <a:pt x="148" y="57"/>
                  </a:lnTo>
                  <a:lnTo>
                    <a:pt x="153" y="67"/>
                  </a:lnTo>
                  <a:lnTo>
                    <a:pt x="153" y="81"/>
                  </a:lnTo>
                  <a:lnTo>
                    <a:pt x="153" y="96"/>
                  </a:lnTo>
                  <a:lnTo>
                    <a:pt x="153" y="105"/>
                  </a:lnTo>
                  <a:lnTo>
                    <a:pt x="153" y="120"/>
                  </a:lnTo>
                  <a:lnTo>
                    <a:pt x="148" y="134"/>
                  </a:lnTo>
                  <a:lnTo>
                    <a:pt x="144" y="148"/>
                  </a:lnTo>
                  <a:lnTo>
                    <a:pt x="129" y="182"/>
                  </a:lnTo>
                  <a:lnTo>
                    <a:pt x="110" y="220"/>
                  </a:lnTo>
                  <a:lnTo>
                    <a:pt x="101" y="235"/>
                  </a:lnTo>
                  <a:lnTo>
                    <a:pt x="91" y="249"/>
                  </a:lnTo>
                  <a:lnTo>
                    <a:pt x="81" y="263"/>
                  </a:lnTo>
                  <a:lnTo>
                    <a:pt x="77" y="273"/>
                  </a:lnTo>
                  <a:lnTo>
                    <a:pt x="67" y="283"/>
                  </a:lnTo>
                  <a:lnTo>
                    <a:pt x="62" y="287"/>
                  </a:lnTo>
                  <a:lnTo>
                    <a:pt x="53" y="292"/>
                  </a:lnTo>
                  <a:lnTo>
                    <a:pt x="43" y="292"/>
                  </a:lnTo>
                  <a:lnTo>
                    <a:pt x="38" y="287"/>
                  </a:lnTo>
                  <a:lnTo>
                    <a:pt x="34" y="287"/>
                  </a:lnTo>
                  <a:lnTo>
                    <a:pt x="29" y="283"/>
                  </a:lnTo>
                  <a:lnTo>
                    <a:pt x="24" y="268"/>
                  </a:lnTo>
                  <a:lnTo>
                    <a:pt x="14" y="249"/>
                  </a:lnTo>
                  <a:lnTo>
                    <a:pt x="10" y="235"/>
                  </a:lnTo>
                  <a:lnTo>
                    <a:pt x="5" y="215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10" y="172"/>
                  </a:lnTo>
                  <a:lnTo>
                    <a:pt x="19" y="168"/>
                  </a:lnTo>
                  <a:lnTo>
                    <a:pt x="24" y="158"/>
                  </a:lnTo>
                  <a:lnTo>
                    <a:pt x="34" y="153"/>
                  </a:lnTo>
                  <a:lnTo>
                    <a:pt x="38" y="144"/>
                  </a:lnTo>
                  <a:lnTo>
                    <a:pt x="48" y="134"/>
                  </a:lnTo>
                  <a:lnTo>
                    <a:pt x="57" y="120"/>
                  </a:lnTo>
                  <a:lnTo>
                    <a:pt x="67" y="101"/>
                  </a:lnTo>
                  <a:lnTo>
                    <a:pt x="77" y="81"/>
                  </a:lnTo>
                  <a:lnTo>
                    <a:pt x="86" y="57"/>
                  </a:lnTo>
                  <a:lnTo>
                    <a:pt x="101" y="33"/>
                  </a:lnTo>
                  <a:lnTo>
                    <a:pt x="110" y="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9"/>
            <p:cNvSpPr/>
            <p:nvPr/>
          </p:nvSpPr>
          <p:spPr>
            <a:xfrm>
              <a:off x="4117320" y="2990160"/>
              <a:ext cx="469080" cy="583920"/>
            </a:xfrm>
            <a:custGeom>
              <a:avLst/>
              <a:gdLst/>
              <a:ahLst/>
              <a:rect l="l" t="t" r="r" b="b"/>
              <a:pathLst>
                <a:path w="388" h="483">
                  <a:moveTo>
                    <a:pt x="91" y="483"/>
                  </a:moveTo>
                  <a:lnTo>
                    <a:pt x="86" y="483"/>
                  </a:lnTo>
                  <a:lnTo>
                    <a:pt x="77" y="479"/>
                  </a:lnTo>
                  <a:lnTo>
                    <a:pt x="72" y="474"/>
                  </a:lnTo>
                  <a:lnTo>
                    <a:pt x="62" y="464"/>
                  </a:lnTo>
                  <a:lnTo>
                    <a:pt x="57" y="455"/>
                  </a:lnTo>
                  <a:lnTo>
                    <a:pt x="48" y="435"/>
                  </a:lnTo>
                  <a:lnTo>
                    <a:pt x="38" y="421"/>
                  </a:lnTo>
                  <a:lnTo>
                    <a:pt x="34" y="397"/>
                  </a:lnTo>
                  <a:lnTo>
                    <a:pt x="24" y="378"/>
                  </a:lnTo>
                  <a:lnTo>
                    <a:pt x="14" y="359"/>
                  </a:lnTo>
                  <a:lnTo>
                    <a:pt x="10" y="344"/>
                  </a:lnTo>
                  <a:lnTo>
                    <a:pt x="5" y="330"/>
                  </a:lnTo>
                  <a:lnTo>
                    <a:pt x="5" y="316"/>
                  </a:lnTo>
                  <a:lnTo>
                    <a:pt x="0" y="306"/>
                  </a:lnTo>
                  <a:lnTo>
                    <a:pt x="5" y="297"/>
                  </a:lnTo>
                  <a:lnTo>
                    <a:pt x="5" y="292"/>
                  </a:lnTo>
                  <a:lnTo>
                    <a:pt x="10" y="282"/>
                  </a:lnTo>
                  <a:lnTo>
                    <a:pt x="19" y="277"/>
                  </a:lnTo>
                  <a:lnTo>
                    <a:pt x="29" y="277"/>
                  </a:lnTo>
                  <a:lnTo>
                    <a:pt x="38" y="273"/>
                  </a:lnTo>
                  <a:lnTo>
                    <a:pt x="48" y="277"/>
                  </a:lnTo>
                  <a:lnTo>
                    <a:pt x="53" y="277"/>
                  </a:lnTo>
                  <a:lnTo>
                    <a:pt x="67" y="277"/>
                  </a:lnTo>
                  <a:lnTo>
                    <a:pt x="77" y="273"/>
                  </a:lnTo>
                  <a:lnTo>
                    <a:pt x="91" y="268"/>
                  </a:lnTo>
                  <a:lnTo>
                    <a:pt x="96" y="263"/>
                  </a:lnTo>
                  <a:lnTo>
                    <a:pt x="105" y="253"/>
                  </a:lnTo>
                  <a:lnTo>
                    <a:pt x="120" y="244"/>
                  </a:lnTo>
                  <a:lnTo>
                    <a:pt x="134" y="225"/>
                  </a:lnTo>
                  <a:lnTo>
                    <a:pt x="158" y="206"/>
                  </a:lnTo>
                  <a:lnTo>
                    <a:pt x="182" y="186"/>
                  </a:lnTo>
                  <a:lnTo>
                    <a:pt x="206" y="158"/>
                  </a:lnTo>
                  <a:lnTo>
                    <a:pt x="220" y="143"/>
                  </a:lnTo>
                  <a:lnTo>
                    <a:pt x="239" y="124"/>
                  </a:lnTo>
                  <a:lnTo>
                    <a:pt x="254" y="110"/>
                  </a:lnTo>
                  <a:lnTo>
                    <a:pt x="268" y="91"/>
                  </a:lnTo>
                  <a:lnTo>
                    <a:pt x="297" y="67"/>
                  </a:lnTo>
                  <a:lnTo>
                    <a:pt x="321" y="43"/>
                  </a:lnTo>
                  <a:lnTo>
                    <a:pt x="340" y="24"/>
                  </a:lnTo>
                  <a:lnTo>
                    <a:pt x="359" y="14"/>
                  </a:lnTo>
                  <a:lnTo>
                    <a:pt x="369" y="4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4"/>
                  </a:lnTo>
                  <a:lnTo>
                    <a:pt x="388" y="9"/>
                  </a:lnTo>
                  <a:lnTo>
                    <a:pt x="383" y="14"/>
                  </a:lnTo>
                  <a:lnTo>
                    <a:pt x="383" y="19"/>
                  </a:lnTo>
                  <a:lnTo>
                    <a:pt x="378" y="28"/>
                  </a:lnTo>
                  <a:lnTo>
                    <a:pt x="374" y="43"/>
                  </a:lnTo>
                  <a:lnTo>
                    <a:pt x="369" y="52"/>
                  </a:lnTo>
                  <a:lnTo>
                    <a:pt x="364" y="67"/>
                  </a:lnTo>
                  <a:lnTo>
                    <a:pt x="354" y="81"/>
                  </a:lnTo>
                  <a:lnTo>
                    <a:pt x="345" y="100"/>
                  </a:lnTo>
                  <a:lnTo>
                    <a:pt x="335" y="119"/>
                  </a:lnTo>
                  <a:lnTo>
                    <a:pt x="326" y="143"/>
                  </a:lnTo>
                  <a:lnTo>
                    <a:pt x="311" y="162"/>
                  </a:lnTo>
                  <a:lnTo>
                    <a:pt x="297" y="186"/>
                  </a:lnTo>
                  <a:lnTo>
                    <a:pt x="283" y="215"/>
                  </a:lnTo>
                  <a:lnTo>
                    <a:pt x="263" y="239"/>
                  </a:lnTo>
                  <a:lnTo>
                    <a:pt x="249" y="268"/>
                  </a:lnTo>
                  <a:lnTo>
                    <a:pt x="230" y="297"/>
                  </a:lnTo>
                  <a:lnTo>
                    <a:pt x="216" y="320"/>
                  </a:lnTo>
                  <a:lnTo>
                    <a:pt x="201" y="344"/>
                  </a:lnTo>
                  <a:lnTo>
                    <a:pt x="187" y="364"/>
                  </a:lnTo>
                  <a:lnTo>
                    <a:pt x="172" y="383"/>
                  </a:lnTo>
                  <a:lnTo>
                    <a:pt x="163" y="402"/>
                  </a:lnTo>
                  <a:lnTo>
                    <a:pt x="148" y="416"/>
                  </a:lnTo>
                  <a:lnTo>
                    <a:pt x="139" y="431"/>
                  </a:lnTo>
                  <a:lnTo>
                    <a:pt x="129" y="445"/>
                  </a:lnTo>
                  <a:lnTo>
                    <a:pt x="120" y="455"/>
                  </a:lnTo>
                  <a:lnTo>
                    <a:pt x="115" y="464"/>
                  </a:lnTo>
                  <a:lnTo>
                    <a:pt x="105" y="469"/>
                  </a:lnTo>
                  <a:lnTo>
                    <a:pt x="101" y="474"/>
                  </a:lnTo>
                  <a:lnTo>
                    <a:pt x="96" y="479"/>
                  </a:lnTo>
                  <a:lnTo>
                    <a:pt x="91" y="483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3276720" y="2286000"/>
          <a:ext cx="3124080" cy="266688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"/>
          <p:cNvSpPr txBox="1"/>
          <p:nvPr/>
        </p:nvSpPr>
        <p:spPr>
          <a:xfrm rot="5400000">
            <a:off x="-457560" y="2514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590920" y="1295280"/>
            <a:ext cx="4952880" cy="4605480"/>
            <a:chOff x="2590920" y="1295280"/>
            <a:chExt cx="4952880" cy="4605480"/>
          </a:xfrm>
        </p:grpSpPr>
        <p:sp>
          <p:nvSpPr>
            <p:cNvPr id="230" name="AutoShape 6"/>
            <p:cNvSpPr/>
            <p:nvPr/>
          </p:nvSpPr>
          <p:spPr>
            <a:xfrm>
              <a:off x="2590920" y="1295280"/>
              <a:ext cx="4952880" cy="46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3890880" y="2466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3909240" y="2439720"/>
              <a:ext cx="2298960" cy="2305800"/>
            </a:xfrm>
            <a:custGeom>
              <a:avLst/>
              <a:gdLst/>
              <a:ahLst/>
              <a:rect l="l" t="t" r="r" b="b"/>
              <a:pathLst>
                <a:path w="1901" h="1906">
                  <a:moveTo>
                    <a:pt x="1135" y="704"/>
                  </a:moveTo>
                  <a:lnTo>
                    <a:pt x="1140" y="704"/>
                  </a:lnTo>
                  <a:lnTo>
                    <a:pt x="1144" y="699"/>
                  </a:lnTo>
                  <a:lnTo>
                    <a:pt x="1149" y="694"/>
                  </a:lnTo>
                  <a:lnTo>
                    <a:pt x="1154" y="689"/>
                  </a:lnTo>
                  <a:lnTo>
                    <a:pt x="1159" y="680"/>
                  </a:lnTo>
                  <a:lnTo>
                    <a:pt x="1163" y="670"/>
                  </a:lnTo>
                  <a:lnTo>
                    <a:pt x="1173" y="661"/>
                  </a:lnTo>
                  <a:lnTo>
                    <a:pt x="1178" y="651"/>
                  </a:lnTo>
                  <a:lnTo>
                    <a:pt x="1183" y="637"/>
                  </a:lnTo>
                  <a:lnTo>
                    <a:pt x="1187" y="622"/>
                  </a:lnTo>
                  <a:lnTo>
                    <a:pt x="1197" y="608"/>
                  </a:lnTo>
                  <a:lnTo>
                    <a:pt x="1202" y="589"/>
                  </a:lnTo>
                  <a:lnTo>
                    <a:pt x="1207" y="574"/>
                  </a:lnTo>
                  <a:lnTo>
                    <a:pt x="1216" y="555"/>
                  </a:lnTo>
                  <a:lnTo>
                    <a:pt x="1231" y="512"/>
                  </a:lnTo>
                  <a:lnTo>
                    <a:pt x="1245" y="474"/>
                  </a:lnTo>
                  <a:lnTo>
                    <a:pt x="1259" y="435"/>
                  </a:lnTo>
                  <a:lnTo>
                    <a:pt x="1269" y="397"/>
                  </a:lnTo>
                  <a:lnTo>
                    <a:pt x="1278" y="364"/>
                  </a:lnTo>
                  <a:lnTo>
                    <a:pt x="1283" y="335"/>
                  </a:lnTo>
                  <a:lnTo>
                    <a:pt x="1293" y="301"/>
                  </a:lnTo>
                  <a:lnTo>
                    <a:pt x="1298" y="273"/>
                  </a:lnTo>
                  <a:lnTo>
                    <a:pt x="1298" y="249"/>
                  </a:lnTo>
                  <a:lnTo>
                    <a:pt x="1302" y="225"/>
                  </a:lnTo>
                  <a:lnTo>
                    <a:pt x="1302" y="206"/>
                  </a:lnTo>
                  <a:lnTo>
                    <a:pt x="1302" y="191"/>
                  </a:lnTo>
                  <a:lnTo>
                    <a:pt x="1302" y="172"/>
                  </a:lnTo>
                  <a:lnTo>
                    <a:pt x="1298" y="162"/>
                  </a:lnTo>
                  <a:lnTo>
                    <a:pt x="1298" y="148"/>
                  </a:lnTo>
                  <a:lnTo>
                    <a:pt x="1293" y="138"/>
                  </a:lnTo>
                  <a:lnTo>
                    <a:pt x="1293" y="134"/>
                  </a:lnTo>
                  <a:lnTo>
                    <a:pt x="1283" y="124"/>
                  </a:lnTo>
                  <a:lnTo>
                    <a:pt x="1274" y="119"/>
                  </a:lnTo>
                  <a:lnTo>
                    <a:pt x="1254" y="115"/>
                  </a:lnTo>
                  <a:lnTo>
                    <a:pt x="1240" y="115"/>
                  </a:lnTo>
                  <a:lnTo>
                    <a:pt x="1231" y="115"/>
                  </a:lnTo>
                  <a:lnTo>
                    <a:pt x="1216" y="115"/>
                  </a:lnTo>
                  <a:lnTo>
                    <a:pt x="1202" y="119"/>
                  </a:lnTo>
                  <a:lnTo>
                    <a:pt x="1183" y="119"/>
                  </a:lnTo>
                  <a:lnTo>
                    <a:pt x="1163" y="124"/>
                  </a:lnTo>
                  <a:lnTo>
                    <a:pt x="1144" y="129"/>
                  </a:lnTo>
                  <a:lnTo>
                    <a:pt x="1120" y="134"/>
                  </a:lnTo>
                  <a:lnTo>
                    <a:pt x="1092" y="138"/>
                  </a:lnTo>
                  <a:lnTo>
                    <a:pt x="1034" y="153"/>
                  </a:lnTo>
                  <a:lnTo>
                    <a:pt x="1010" y="158"/>
                  </a:lnTo>
                  <a:lnTo>
                    <a:pt x="981" y="162"/>
                  </a:lnTo>
                  <a:lnTo>
                    <a:pt x="958" y="167"/>
                  </a:lnTo>
                  <a:lnTo>
                    <a:pt x="934" y="172"/>
                  </a:lnTo>
                  <a:lnTo>
                    <a:pt x="914" y="177"/>
                  </a:lnTo>
                  <a:lnTo>
                    <a:pt x="895" y="182"/>
                  </a:lnTo>
                  <a:lnTo>
                    <a:pt x="876" y="186"/>
                  </a:lnTo>
                  <a:lnTo>
                    <a:pt x="857" y="191"/>
                  </a:lnTo>
                  <a:lnTo>
                    <a:pt x="838" y="191"/>
                  </a:lnTo>
                  <a:lnTo>
                    <a:pt x="823" y="196"/>
                  </a:lnTo>
                  <a:lnTo>
                    <a:pt x="809" y="191"/>
                  </a:lnTo>
                  <a:lnTo>
                    <a:pt x="795" y="191"/>
                  </a:lnTo>
                  <a:lnTo>
                    <a:pt x="785" y="186"/>
                  </a:lnTo>
                  <a:lnTo>
                    <a:pt x="771" y="182"/>
                  </a:lnTo>
                  <a:lnTo>
                    <a:pt x="761" y="177"/>
                  </a:lnTo>
                  <a:lnTo>
                    <a:pt x="752" y="172"/>
                  </a:lnTo>
                  <a:lnTo>
                    <a:pt x="742" y="167"/>
                  </a:lnTo>
                  <a:lnTo>
                    <a:pt x="732" y="162"/>
                  </a:lnTo>
                  <a:lnTo>
                    <a:pt x="728" y="158"/>
                  </a:lnTo>
                  <a:lnTo>
                    <a:pt x="723" y="153"/>
                  </a:lnTo>
                  <a:lnTo>
                    <a:pt x="723" y="148"/>
                  </a:lnTo>
                  <a:lnTo>
                    <a:pt x="723" y="138"/>
                  </a:lnTo>
                  <a:lnTo>
                    <a:pt x="728" y="138"/>
                  </a:lnTo>
                  <a:lnTo>
                    <a:pt x="732" y="138"/>
                  </a:lnTo>
                  <a:lnTo>
                    <a:pt x="742" y="138"/>
                  </a:lnTo>
                  <a:lnTo>
                    <a:pt x="756" y="138"/>
                  </a:lnTo>
                  <a:lnTo>
                    <a:pt x="766" y="134"/>
                  </a:lnTo>
                  <a:lnTo>
                    <a:pt x="780" y="134"/>
                  </a:lnTo>
                  <a:lnTo>
                    <a:pt x="799" y="129"/>
                  </a:lnTo>
                  <a:lnTo>
                    <a:pt x="814" y="129"/>
                  </a:lnTo>
                  <a:lnTo>
                    <a:pt x="833" y="124"/>
                  </a:lnTo>
                  <a:lnTo>
                    <a:pt x="857" y="119"/>
                  </a:lnTo>
                  <a:lnTo>
                    <a:pt x="881" y="115"/>
                  </a:lnTo>
                  <a:lnTo>
                    <a:pt x="905" y="110"/>
                  </a:lnTo>
                  <a:lnTo>
                    <a:pt x="929" y="105"/>
                  </a:lnTo>
                  <a:lnTo>
                    <a:pt x="958" y="95"/>
                  </a:lnTo>
                  <a:lnTo>
                    <a:pt x="986" y="91"/>
                  </a:lnTo>
                  <a:lnTo>
                    <a:pt x="1015" y="81"/>
                  </a:lnTo>
                  <a:lnTo>
                    <a:pt x="1044" y="76"/>
                  </a:lnTo>
                  <a:lnTo>
                    <a:pt x="1072" y="71"/>
                  </a:lnTo>
                  <a:lnTo>
                    <a:pt x="1096" y="62"/>
                  </a:lnTo>
                  <a:lnTo>
                    <a:pt x="1125" y="57"/>
                  </a:lnTo>
                  <a:lnTo>
                    <a:pt x="1144" y="52"/>
                  </a:lnTo>
                  <a:lnTo>
                    <a:pt x="1168" y="47"/>
                  </a:lnTo>
                  <a:lnTo>
                    <a:pt x="1187" y="43"/>
                  </a:lnTo>
                  <a:lnTo>
                    <a:pt x="1202" y="38"/>
                  </a:lnTo>
                  <a:lnTo>
                    <a:pt x="1216" y="33"/>
                  </a:lnTo>
                  <a:lnTo>
                    <a:pt x="1231" y="33"/>
                  </a:lnTo>
                  <a:lnTo>
                    <a:pt x="1240" y="28"/>
                  </a:lnTo>
                  <a:lnTo>
                    <a:pt x="1254" y="24"/>
                  </a:lnTo>
                  <a:lnTo>
                    <a:pt x="1259" y="24"/>
                  </a:lnTo>
                  <a:lnTo>
                    <a:pt x="1264" y="19"/>
                  </a:lnTo>
                  <a:lnTo>
                    <a:pt x="1269" y="19"/>
                  </a:lnTo>
                  <a:lnTo>
                    <a:pt x="1274" y="14"/>
                  </a:lnTo>
                  <a:lnTo>
                    <a:pt x="1283" y="9"/>
                  </a:lnTo>
                  <a:lnTo>
                    <a:pt x="1293" y="4"/>
                  </a:lnTo>
                  <a:lnTo>
                    <a:pt x="1302" y="0"/>
                  </a:lnTo>
                  <a:lnTo>
                    <a:pt x="1317" y="0"/>
                  </a:lnTo>
                  <a:lnTo>
                    <a:pt x="1322" y="0"/>
                  </a:lnTo>
                  <a:lnTo>
                    <a:pt x="1326" y="4"/>
                  </a:lnTo>
                  <a:lnTo>
                    <a:pt x="1336" y="4"/>
                  </a:lnTo>
                  <a:lnTo>
                    <a:pt x="1350" y="9"/>
                  </a:lnTo>
                  <a:lnTo>
                    <a:pt x="1365" y="19"/>
                  </a:lnTo>
                  <a:lnTo>
                    <a:pt x="1379" y="28"/>
                  </a:lnTo>
                  <a:lnTo>
                    <a:pt x="1398" y="38"/>
                  </a:lnTo>
                  <a:lnTo>
                    <a:pt x="1422" y="47"/>
                  </a:lnTo>
                  <a:lnTo>
                    <a:pt x="1436" y="62"/>
                  </a:lnTo>
                  <a:lnTo>
                    <a:pt x="1456" y="71"/>
                  </a:lnTo>
                  <a:lnTo>
                    <a:pt x="1465" y="81"/>
                  </a:lnTo>
                  <a:lnTo>
                    <a:pt x="1480" y="91"/>
                  </a:lnTo>
                  <a:lnTo>
                    <a:pt x="1484" y="100"/>
                  </a:lnTo>
                  <a:lnTo>
                    <a:pt x="1494" y="105"/>
                  </a:lnTo>
                  <a:lnTo>
                    <a:pt x="1499" y="110"/>
                  </a:lnTo>
                  <a:lnTo>
                    <a:pt x="1499" y="115"/>
                  </a:lnTo>
                  <a:lnTo>
                    <a:pt x="1494" y="124"/>
                  </a:lnTo>
                  <a:lnTo>
                    <a:pt x="1489" y="134"/>
                  </a:lnTo>
                  <a:lnTo>
                    <a:pt x="1484" y="143"/>
                  </a:lnTo>
                  <a:lnTo>
                    <a:pt x="1470" y="148"/>
                  </a:lnTo>
                  <a:lnTo>
                    <a:pt x="1460" y="153"/>
                  </a:lnTo>
                  <a:lnTo>
                    <a:pt x="1456" y="162"/>
                  </a:lnTo>
                  <a:lnTo>
                    <a:pt x="1451" y="172"/>
                  </a:lnTo>
                  <a:lnTo>
                    <a:pt x="1446" y="186"/>
                  </a:lnTo>
                  <a:lnTo>
                    <a:pt x="1441" y="201"/>
                  </a:lnTo>
                  <a:lnTo>
                    <a:pt x="1436" y="220"/>
                  </a:lnTo>
                  <a:lnTo>
                    <a:pt x="1432" y="239"/>
                  </a:lnTo>
                  <a:lnTo>
                    <a:pt x="1427" y="263"/>
                  </a:lnTo>
                  <a:lnTo>
                    <a:pt x="1422" y="292"/>
                  </a:lnTo>
                  <a:lnTo>
                    <a:pt x="1417" y="320"/>
                  </a:lnTo>
                  <a:lnTo>
                    <a:pt x="1408" y="354"/>
                  </a:lnTo>
                  <a:lnTo>
                    <a:pt x="1398" y="388"/>
                  </a:lnTo>
                  <a:lnTo>
                    <a:pt x="1384" y="431"/>
                  </a:lnTo>
                  <a:lnTo>
                    <a:pt x="1374" y="474"/>
                  </a:lnTo>
                  <a:lnTo>
                    <a:pt x="1360" y="522"/>
                  </a:lnTo>
                  <a:lnTo>
                    <a:pt x="1341" y="570"/>
                  </a:lnTo>
                  <a:lnTo>
                    <a:pt x="1336" y="598"/>
                  </a:lnTo>
                  <a:lnTo>
                    <a:pt x="1326" y="622"/>
                  </a:lnTo>
                  <a:lnTo>
                    <a:pt x="1317" y="646"/>
                  </a:lnTo>
                  <a:lnTo>
                    <a:pt x="1312" y="665"/>
                  </a:lnTo>
                  <a:lnTo>
                    <a:pt x="1302" y="689"/>
                  </a:lnTo>
                  <a:lnTo>
                    <a:pt x="1293" y="708"/>
                  </a:lnTo>
                  <a:lnTo>
                    <a:pt x="1288" y="728"/>
                  </a:lnTo>
                  <a:lnTo>
                    <a:pt x="1278" y="747"/>
                  </a:lnTo>
                  <a:lnTo>
                    <a:pt x="1269" y="761"/>
                  </a:lnTo>
                  <a:lnTo>
                    <a:pt x="1264" y="775"/>
                  </a:lnTo>
                  <a:lnTo>
                    <a:pt x="1254" y="790"/>
                  </a:lnTo>
                  <a:lnTo>
                    <a:pt x="1250" y="799"/>
                  </a:lnTo>
                  <a:lnTo>
                    <a:pt x="1240" y="814"/>
                  </a:lnTo>
                  <a:lnTo>
                    <a:pt x="1235" y="823"/>
                  </a:lnTo>
                  <a:lnTo>
                    <a:pt x="1226" y="828"/>
                  </a:lnTo>
                  <a:lnTo>
                    <a:pt x="1221" y="838"/>
                  </a:lnTo>
                  <a:lnTo>
                    <a:pt x="1207" y="852"/>
                  </a:lnTo>
                  <a:lnTo>
                    <a:pt x="1192" y="862"/>
                  </a:lnTo>
                  <a:lnTo>
                    <a:pt x="1178" y="871"/>
                  </a:lnTo>
                  <a:lnTo>
                    <a:pt x="1168" y="881"/>
                  </a:lnTo>
                  <a:lnTo>
                    <a:pt x="1159" y="886"/>
                  </a:lnTo>
                  <a:lnTo>
                    <a:pt x="1149" y="890"/>
                  </a:lnTo>
                  <a:lnTo>
                    <a:pt x="1144" y="895"/>
                  </a:lnTo>
                  <a:lnTo>
                    <a:pt x="1135" y="895"/>
                  </a:lnTo>
                  <a:lnTo>
                    <a:pt x="1130" y="895"/>
                  </a:lnTo>
                  <a:lnTo>
                    <a:pt x="1125" y="890"/>
                  </a:lnTo>
                  <a:lnTo>
                    <a:pt x="1120" y="886"/>
                  </a:lnTo>
                  <a:lnTo>
                    <a:pt x="1116" y="881"/>
                  </a:lnTo>
                  <a:lnTo>
                    <a:pt x="1111" y="876"/>
                  </a:lnTo>
                  <a:lnTo>
                    <a:pt x="1106" y="866"/>
                  </a:lnTo>
                  <a:lnTo>
                    <a:pt x="1106" y="857"/>
                  </a:lnTo>
                  <a:lnTo>
                    <a:pt x="1101" y="847"/>
                  </a:lnTo>
                  <a:lnTo>
                    <a:pt x="1096" y="833"/>
                  </a:lnTo>
                  <a:lnTo>
                    <a:pt x="1092" y="819"/>
                  </a:lnTo>
                  <a:lnTo>
                    <a:pt x="1087" y="804"/>
                  </a:lnTo>
                  <a:lnTo>
                    <a:pt x="1077" y="790"/>
                  </a:lnTo>
                  <a:lnTo>
                    <a:pt x="1068" y="775"/>
                  </a:lnTo>
                  <a:lnTo>
                    <a:pt x="1058" y="756"/>
                  </a:lnTo>
                  <a:lnTo>
                    <a:pt x="1049" y="737"/>
                  </a:lnTo>
                  <a:lnTo>
                    <a:pt x="1029" y="723"/>
                  </a:lnTo>
                  <a:lnTo>
                    <a:pt x="1015" y="704"/>
                  </a:lnTo>
                  <a:lnTo>
                    <a:pt x="1005" y="694"/>
                  </a:lnTo>
                  <a:lnTo>
                    <a:pt x="996" y="680"/>
                  </a:lnTo>
                  <a:lnTo>
                    <a:pt x="991" y="670"/>
                  </a:lnTo>
                  <a:lnTo>
                    <a:pt x="986" y="661"/>
                  </a:lnTo>
                  <a:lnTo>
                    <a:pt x="986" y="656"/>
                  </a:lnTo>
                  <a:lnTo>
                    <a:pt x="986" y="651"/>
                  </a:lnTo>
                  <a:lnTo>
                    <a:pt x="986" y="646"/>
                  </a:lnTo>
                  <a:lnTo>
                    <a:pt x="991" y="646"/>
                  </a:lnTo>
                  <a:lnTo>
                    <a:pt x="996" y="646"/>
                  </a:lnTo>
                  <a:lnTo>
                    <a:pt x="1001" y="651"/>
                  </a:lnTo>
                  <a:lnTo>
                    <a:pt x="1010" y="651"/>
                  </a:lnTo>
                  <a:lnTo>
                    <a:pt x="1020" y="656"/>
                  </a:lnTo>
                  <a:lnTo>
                    <a:pt x="1029" y="665"/>
                  </a:lnTo>
                  <a:lnTo>
                    <a:pt x="1044" y="670"/>
                  </a:lnTo>
                  <a:lnTo>
                    <a:pt x="1058" y="680"/>
                  </a:lnTo>
                  <a:lnTo>
                    <a:pt x="1068" y="689"/>
                  </a:lnTo>
                  <a:lnTo>
                    <a:pt x="1082" y="694"/>
                  </a:lnTo>
                  <a:lnTo>
                    <a:pt x="1092" y="699"/>
                  </a:lnTo>
                  <a:lnTo>
                    <a:pt x="1101" y="704"/>
                  </a:lnTo>
                  <a:lnTo>
                    <a:pt x="1111" y="708"/>
                  </a:lnTo>
                  <a:lnTo>
                    <a:pt x="1120" y="708"/>
                  </a:lnTo>
                  <a:lnTo>
                    <a:pt x="1130" y="708"/>
                  </a:lnTo>
                  <a:lnTo>
                    <a:pt x="1135" y="704"/>
                  </a:lnTo>
                  <a:close/>
                  <a:moveTo>
                    <a:pt x="1551" y="421"/>
                  </a:moveTo>
                  <a:lnTo>
                    <a:pt x="1571" y="431"/>
                  </a:lnTo>
                  <a:lnTo>
                    <a:pt x="1590" y="435"/>
                  </a:lnTo>
                  <a:lnTo>
                    <a:pt x="1604" y="440"/>
                  </a:lnTo>
                  <a:lnTo>
                    <a:pt x="1618" y="445"/>
                  </a:lnTo>
                  <a:lnTo>
                    <a:pt x="1633" y="455"/>
                  </a:lnTo>
                  <a:lnTo>
                    <a:pt x="1642" y="459"/>
                  </a:lnTo>
                  <a:lnTo>
                    <a:pt x="1647" y="464"/>
                  </a:lnTo>
                  <a:lnTo>
                    <a:pt x="1652" y="474"/>
                  </a:lnTo>
                  <a:lnTo>
                    <a:pt x="1657" y="488"/>
                  </a:lnTo>
                  <a:lnTo>
                    <a:pt x="1662" y="502"/>
                  </a:lnTo>
                  <a:lnTo>
                    <a:pt x="1662" y="522"/>
                  </a:lnTo>
                  <a:lnTo>
                    <a:pt x="1662" y="536"/>
                  </a:lnTo>
                  <a:lnTo>
                    <a:pt x="1662" y="546"/>
                  </a:lnTo>
                  <a:lnTo>
                    <a:pt x="1657" y="555"/>
                  </a:lnTo>
                  <a:lnTo>
                    <a:pt x="1657" y="560"/>
                  </a:lnTo>
                  <a:lnTo>
                    <a:pt x="1652" y="570"/>
                  </a:lnTo>
                  <a:lnTo>
                    <a:pt x="1642" y="574"/>
                  </a:lnTo>
                  <a:lnTo>
                    <a:pt x="1638" y="574"/>
                  </a:lnTo>
                  <a:lnTo>
                    <a:pt x="1628" y="579"/>
                  </a:lnTo>
                  <a:lnTo>
                    <a:pt x="1618" y="579"/>
                  </a:lnTo>
                  <a:lnTo>
                    <a:pt x="1614" y="579"/>
                  </a:lnTo>
                  <a:lnTo>
                    <a:pt x="1604" y="579"/>
                  </a:lnTo>
                  <a:lnTo>
                    <a:pt x="1595" y="574"/>
                  </a:lnTo>
                  <a:lnTo>
                    <a:pt x="1585" y="570"/>
                  </a:lnTo>
                  <a:lnTo>
                    <a:pt x="1575" y="565"/>
                  </a:lnTo>
                  <a:lnTo>
                    <a:pt x="1561" y="560"/>
                  </a:lnTo>
                  <a:lnTo>
                    <a:pt x="1547" y="550"/>
                  </a:lnTo>
                  <a:lnTo>
                    <a:pt x="1527" y="541"/>
                  </a:lnTo>
                  <a:lnTo>
                    <a:pt x="1508" y="531"/>
                  </a:lnTo>
                  <a:lnTo>
                    <a:pt x="1489" y="522"/>
                  </a:lnTo>
                  <a:lnTo>
                    <a:pt x="1470" y="507"/>
                  </a:lnTo>
                  <a:lnTo>
                    <a:pt x="1446" y="498"/>
                  </a:lnTo>
                  <a:lnTo>
                    <a:pt x="1422" y="483"/>
                  </a:lnTo>
                  <a:lnTo>
                    <a:pt x="1398" y="464"/>
                  </a:lnTo>
                  <a:lnTo>
                    <a:pt x="1369" y="450"/>
                  </a:lnTo>
                  <a:lnTo>
                    <a:pt x="1341" y="431"/>
                  </a:lnTo>
                  <a:lnTo>
                    <a:pt x="1360" y="421"/>
                  </a:lnTo>
                  <a:lnTo>
                    <a:pt x="1379" y="411"/>
                  </a:lnTo>
                  <a:lnTo>
                    <a:pt x="1403" y="402"/>
                  </a:lnTo>
                  <a:lnTo>
                    <a:pt x="1422" y="397"/>
                  </a:lnTo>
                  <a:lnTo>
                    <a:pt x="1432" y="397"/>
                  </a:lnTo>
                  <a:lnTo>
                    <a:pt x="1441" y="397"/>
                  </a:lnTo>
                  <a:lnTo>
                    <a:pt x="1456" y="402"/>
                  </a:lnTo>
                  <a:lnTo>
                    <a:pt x="1470" y="402"/>
                  </a:lnTo>
                  <a:lnTo>
                    <a:pt x="1489" y="407"/>
                  </a:lnTo>
                  <a:lnTo>
                    <a:pt x="1508" y="411"/>
                  </a:lnTo>
                  <a:lnTo>
                    <a:pt x="1527" y="416"/>
                  </a:lnTo>
                  <a:lnTo>
                    <a:pt x="1551" y="421"/>
                  </a:lnTo>
                  <a:close/>
                  <a:moveTo>
                    <a:pt x="1542" y="953"/>
                  </a:moveTo>
                  <a:lnTo>
                    <a:pt x="1575" y="953"/>
                  </a:lnTo>
                  <a:lnTo>
                    <a:pt x="1604" y="962"/>
                  </a:lnTo>
                  <a:lnTo>
                    <a:pt x="1623" y="962"/>
                  </a:lnTo>
                  <a:lnTo>
                    <a:pt x="1638" y="972"/>
                  </a:lnTo>
                  <a:lnTo>
                    <a:pt x="1652" y="977"/>
                  </a:lnTo>
                  <a:lnTo>
                    <a:pt x="1671" y="986"/>
                  </a:lnTo>
                  <a:lnTo>
                    <a:pt x="1686" y="996"/>
                  </a:lnTo>
                  <a:lnTo>
                    <a:pt x="1700" y="1005"/>
                  </a:lnTo>
                  <a:lnTo>
                    <a:pt x="1709" y="1010"/>
                  </a:lnTo>
                  <a:lnTo>
                    <a:pt x="1724" y="1015"/>
                  </a:lnTo>
                  <a:lnTo>
                    <a:pt x="1729" y="1025"/>
                  </a:lnTo>
                  <a:lnTo>
                    <a:pt x="1738" y="1029"/>
                  </a:lnTo>
                  <a:lnTo>
                    <a:pt x="1743" y="1034"/>
                  </a:lnTo>
                  <a:lnTo>
                    <a:pt x="1748" y="1034"/>
                  </a:lnTo>
                  <a:lnTo>
                    <a:pt x="1753" y="1049"/>
                  </a:lnTo>
                  <a:lnTo>
                    <a:pt x="1753" y="1053"/>
                  </a:lnTo>
                  <a:lnTo>
                    <a:pt x="1753" y="1063"/>
                  </a:lnTo>
                  <a:lnTo>
                    <a:pt x="1748" y="1068"/>
                  </a:lnTo>
                  <a:lnTo>
                    <a:pt x="1743" y="1072"/>
                  </a:lnTo>
                  <a:lnTo>
                    <a:pt x="1733" y="1072"/>
                  </a:lnTo>
                  <a:lnTo>
                    <a:pt x="1729" y="1077"/>
                  </a:lnTo>
                  <a:lnTo>
                    <a:pt x="1719" y="1077"/>
                  </a:lnTo>
                  <a:lnTo>
                    <a:pt x="1705" y="1077"/>
                  </a:lnTo>
                  <a:lnTo>
                    <a:pt x="1690" y="1077"/>
                  </a:lnTo>
                  <a:lnTo>
                    <a:pt x="1676" y="1077"/>
                  </a:lnTo>
                  <a:lnTo>
                    <a:pt x="1662" y="1082"/>
                  </a:lnTo>
                  <a:lnTo>
                    <a:pt x="1642" y="1082"/>
                  </a:lnTo>
                  <a:lnTo>
                    <a:pt x="1618" y="1082"/>
                  </a:lnTo>
                  <a:lnTo>
                    <a:pt x="1599" y="1082"/>
                  </a:lnTo>
                  <a:lnTo>
                    <a:pt x="1575" y="1082"/>
                  </a:lnTo>
                  <a:lnTo>
                    <a:pt x="1547" y="1077"/>
                  </a:lnTo>
                  <a:lnTo>
                    <a:pt x="1518" y="1077"/>
                  </a:lnTo>
                  <a:lnTo>
                    <a:pt x="1489" y="1077"/>
                  </a:lnTo>
                  <a:lnTo>
                    <a:pt x="1427" y="1072"/>
                  </a:lnTo>
                  <a:lnTo>
                    <a:pt x="1365" y="1072"/>
                  </a:lnTo>
                  <a:lnTo>
                    <a:pt x="1245" y="1077"/>
                  </a:lnTo>
                  <a:lnTo>
                    <a:pt x="1125" y="1077"/>
                  </a:lnTo>
                  <a:lnTo>
                    <a:pt x="1005" y="1087"/>
                  </a:lnTo>
                  <a:lnTo>
                    <a:pt x="948" y="1092"/>
                  </a:lnTo>
                  <a:lnTo>
                    <a:pt x="895" y="1096"/>
                  </a:lnTo>
                  <a:lnTo>
                    <a:pt x="843" y="1106"/>
                  </a:lnTo>
                  <a:lnTo>
                    <a:pt x="790" y="1111"/>
                  </a:lnTo>
                  <a:lnTo>
                    <a:pt x="742" y="1116"/>
                  </a:lnTo>
                  <a:lnTo>
                    <a:pt x="694" y="1120"/>
                  </a:lnTo>
                  <a:lnTo>
                    <a:pt x="651" y="1125"/>
                  </a:lnTo>
                  <a:lnTo>
                    <a:pt x="608" y="1125"/>
                  </a:lnTo>
                  <a:lnTo>
                    <a:pt x="526" y="1140"/>
                  </a:lnTo>
                  <a:lnTo>
                    <a:pt x="440" y="1149"/>
                  </a:lnTo>
                  <a:lnTo>
                    <a:pt x="354" y="1159"/>
                  </a:lnTo>
                  <a:lnTo>
                    <a:pt x="273" y="1168"/>
                  </a:lnTo>
                  <a:lnTo>
                    <a:pt x="253" y="1173"/>
                  </a:lnTo>
                  <a:lnTo>
                    <a:pt x="234" y="1173"/>
                  </a:lnTo>
                  <a:lnTo>
                    <a:pt x="215" y="1178"/>
                  </a:lnTo>
                  <a:lnTo>
                    <a:pt x="196" y="1178"/>
                  </a:lnTo>
                  <a:lnTo>
                    <a:pt x="182" y="1183"/>
                  </a:lnTo>
                  <a:lnTo>
                    <a:pt x="167" y="1183"/>
                  </a:lnTo>
                  <a:lnTo>
                    <a:pt x="153" y="1187"/>
                  </a:lnTo>
                  <a:lnTo>
                    <a:pt x="143" y="1187"/>
                  </a:lnTo>
                  <a:lnTo>
                    <a:pt x="134" y="1187"/>
                  </a:lnTo>
                  <a:lnTo>
                    <a:pt x="124" y="1192"/>
                  </a:lnTo>
                  <a:lnTo>
                    <a:pt x="115" y="1192"/>
                  </a:lnTo>
                  <a:lnTo>
                    <a:pt x="105" y="1192"/>
                  </a:lnTo>
                  <a:lnTo>
                    <a:pt x="100" y="1192"/>
                  </a:lnTo>
                  <a:lnTo>
                    <a:pt x="95" y="1192"/>
                  </a:lnTo>
                  <a:lnTo>
                    <a:pt x="91" y="1192"/>
                  </a:lnTo>
                  <a:lnTo>
                    <a:pt x="86" y="1192"/>
                  </a:lnTo>
                  <a:lnTo>
                    <a:pt x="81" y="1192"/>
                  </a:lnTo>
                  <a:lnTo>
                    <a:pt x="76" y="1187"/>
                  </a:lnTo>
                  <a:lnTo>
                    <a:pt x="67" y="1187"/>
                  </a:lnTo>
                  <a:lnTo>
                    <a:pt x="57" y="1183"/>
                  </a:lnTo>
                  <a:lnTo>
                    <a:pt x="47" y="1178"/>
                  </a:lnTo>
                  <a:lnTo>
                    <a:pt x="38" y="1168"/>
                  </a:lnTo>
                  <a:lnTo>
                    <a:pt x="28" y="1159"/>
                  </a:lnTo>
                  <a:lnTo>
                    <a:pt x="24" y="1149"/>
                  </a:lnTo>
                  <a:lnTo>
                    <a:pt x="14" y="1144"/>
                  </a:lnTo>
                  <a:lnTo>
                    <a:pt x="9" y="1135"/>
                  </a:lnTo>
                  <a:lnTo>
                    <a:pt x="4" y="1130"/>
                  </a:lnTo>
                  <a:lnTo>
                    <a:pt x="4" y="1125"/>
                  </a:lnTo>
                  <a:lnTo>
                    <a:pt x="0" y="1120"/>
                  </a:lnTo>
                  <a:lnTo>
                    <a:pt x="4" y="1116"/>
                  </a:lnTo>
                  <a:lnTo>
                    <a:pt x="4" y="1111"/>
                  </a:lnTo>
                  <a:lnTo>
                    <a:pt x="9" y="1106"/>
                  </a:lnTo>
                  <a:lnTo>
                    <a:pt x="19" y="1106"/>
                  </a:lnTo>
                  <a:lnTo>
                    <a:pt x="28" y="1106"/>
                  </a:lnTo>
                  <a:lnTo>
                    <a:pt x="43" y="1101"/>
                  </a:lnTo>
                  <a:lnTo>
                    <a:pt x="62" y="1101"/>
                  </a:lnTo>
                  <a:lnTo>
                    <a:pt x="86" y="1101"/>
                  </a:lnTo>
                  <a:lnTo>
                    <a:pt x="115" y="1096"/>
                  </a:lnTo>
                  <a:lnTo>
                    <a:pt x="143" y="1092"/>
                  </a:lnTo>
                  <a:lnTo>
                    <a:pt x="177" y="1092"/>
                  </a:lnTo>
                  <a:lnTo>
                    <a:pt x="215" y="1087"/>
                  </a:lnTo>
                  <a:lnTo>
                    <a:pt x="258" y="1082"/>
                  </a:lnTo>
                  <a:lnTo>
                    <a:pt x="306" y="1082"/>
                  </a:lnTo>
                  <a:lnTo>
                    <a:pt x="354" y="1077"/>
                  </a:lnTo>
                  <a:lnTo>
                    <a:pt x="411" y="1072"/>
                  </a:lnTo>
                  <a:lnTo>
                    <a:pt x="469" y="1068"/>
                  </a:lnTo>
                  <a:lnTo>
                    <a:pt x="531" y="1063"/>
                  </a:lnTo>
                  <a:lnTo>
                    <a:pt x="651" y="1049"/>
                  </a:lnTo>
                  <a:lnTo>
                    <a:pt x="713" y="1044"/>
                  </a:lnTo>
                  <a:lnTo>
                    <a:pt x="771" y="1034"/>
                  </a:lnTo>
                  <a:lnTo>
                    <a:pt x="828" y="1029"/>
                  </a:lnTo>
                  <a:lnTo>
                    <a:pt x="881" y="1025"/>
                  </a:lnTo>
                  <a:lnTo>
                    <a:pt x="938" y="1015"/>
                  </a:lnTo>
                  <a:lnTo>
                    <a:pt x="986" y="1010"/>
                  </a:lnTo>
                  <a:lnTo>
                    <a:pt x="1039" y="1005"/>
                  </a:lnTo>
                  <a:lnTo>
                    <a:pt x="1087" y="1005"/>
                  </a:lnTo>
                  <a:lnTo>
                    <a:pt x="1135" y="1001"/>
                  </a:lnTo>
                  <a:lnTo>
                    <a:pt x="1183" y="991"/>
                  </a:lnTo>
                  <a:lnTo>
                    <a:pt x="1226" y="986"/>
                  </a:lnTo>
                  <a:lnTo>
                    <a:pt x="1264" y="981"/>
                  </a:lnTo>
                  <a:lnTo>
                    <a:pt x="1307" y="977"/>
                  </a:lnTo>
                  <a:lnTo>
                    <a:pt x="1341" y="967"/>
                  </a:lnTo>
                  <a:lnTo>
                    <a:pt x="1379" y="967"/>
                  </a:lnTo>
                  <a:lnTo>
                    <a:pt x="1408" y="962"/>
                  </a:lnTo>
                  <a:lnTo>
                    <a:pt x="1436" y="962"/>
                  </a:lnTo>
                  <a:lnTo>
                    <a:pt x="1465" y="958"/>
                  </a:lnTo>
                  <a:lnTo>
                    <a:pt x="1489" y="958"/>
                  </a:lnTo>
                  <a:lnTo>
                    <a:pt x="1508" y="953"/>
                  </a:lnTo>
                  <a:lnTo>
                    <a:pt x="1527" y="953"/>
                  </a:lnTo>
                  <a:lnTo>
                    <a:pt x="1542" y="953"/>
                  </a:lnTo>
                  <a:close/>
                  <a:moveTo>
                    <a:pt x="790" y="962"/>
                  </a:moveTo>
                  <a:lnTo>
                    <a:pt x="780" y="943"/>
                  </a:lnTo>
                  <a:lnTo>
                    <a:pt x="771" y="929"/>
                  </a:lnTo>
                  <a:lnTo>
                    <a:pt x="771" y="924"/>
                  </a:lnTo>
                  <a:lnTo>
                    <a:pt x="771" y="914"/>
                  </a:lnTo>
                  <a:lnTo>
                    <a:pt x="771" y="910"/>
                  </a:lnTo>
                  <a:lnTo>
                    <a:pt x="771" y="905"/>
                  </a:lnTo>
                  <a:lnTo>
                    <a:pt x="775" y="895"/>
                  </a:lnTo>
                  <a:lnTo>
                    <a:pt x="780" y="890"/>
                  </a:lnTo>
                  <a:lnTo>
                    <a:pt x="785" y="890"/>
                  </a:lnTo>
                  <a:lnTo>
                    <a:pt x="790" y="886"/>
                  </a:lnTo>
                  <a:lnTo>
                    <a:pt x="799" y="886"/>
                  </a:lnTo>
                  <a:lnTo>
                    <a:pt x="809" y="886"/>
                  </a:lnTo>
                  <a:lnTo>
                    <a:pt x="828" y="886"/>
                  </a:lnTo>
                  <a:lnTo>
                    <a:pt x="847" y="890"/>
                  </a:lnTo>
                  <a:lnTo>
                    <a:pt x="871" y="895"/>
                  </a:lnTo>
                  <a:lnTo>
                    <a:pt x="895" y="905"/>
                  </a:lnTo>
                  <a:lnTo>
                    <a:pt x="910" y="919"/>
                  </a:lnTo>
                  <a:lnTo>
                    <a:pt x="919" y="924"/>
                  </a:lnTo>
                  <a:lnTo>
                    <a:pt x="924" y="934"/>
                  </a:lnTo>
                  <a:lnTo>
                    <a:pt x="929" y="943"/>
                  </a:lnTo>
                  <a:lnTo>
                    <a:pt x="929" y="953"/>
                  </a:lnTo>
                  <a:lnTo>
                    <a:pt x="929" y="962"/>
                  </a:lnTo>
                  <a:lnTo>
                    <a:pt x="929" y="967"/>
                  </a:lnTo>
                  <a:lnTo>
                    <a:pt x="929" y="977"/>
                  </a:lnTo>
                  <a:lnTo>
                    <a:pt x="924" y="986"/>
                  </a:lnTo>
                  <a:lnTo>
                    <a:pt x="924" y="1001"/>
                  </a:lnTo>
                  <a:lnTo>
                    <a:pt x="924" y="1015"/>
                  </a:lnTo>
                  <a:lnTo>
                    <a:pt x="919" y="1034"/>
                  </a:lnTo>
                  <a:lnTo>
                    <a:pt x="919" y="1058"/>
                  </a:lnTo>
                  <a:lnTo>
                    <a:pt x="919" y="1077"/>
                  </a:lnTo>
                  <a:lnTo>
                    <a:pt x="914" y="1106"/>
                  </a:lnTo>
                  <a:lnTo>
                    <a:pt x="914" y="1135"/>
                  </a:lnTo>
                  <a:lnTo>
                    <a:pt x="914" y="1168"/>
                  </a:lnTo>
                  <a:lnTo>
                    <a:pt x="914" y="1202"/>
                  </a:lnTo>
                  <a:lnTo>
                    <a:pt x="914" y="1240"/>
                  </a:lnTo>
                  <a:lnTo>
                    <a:pt x="910" y="1278"/>
                  </a:lnTo>
                  <a:lnTo>
                    <a:pt x="910" y="1322"/>
                  </a:lnTo>
                  <a:lnTo>
                    <a:pt x="910" y="1369"/>
                  </a:lnTo>
                  <a:lnTo>
                    <a:pt x="910" y="1417"/>
                  </a:lnTo>
                  <a:lnTo>
                    <a:pt x="910" y="1465"/>
                  </a:lnTo>
                  <a:lnTo>
                    <a:pt x="910" y="1513"/>
                  </a:lnTo>
                  <a:lnTo>
                    <a:pt x="910" y="1556"/>
                  </a:lnTo>
                  <a:lnTo>
                    <a:pt x="910" y="1595"/>
                  </a:lnTo>
                  <a:lnTo>
                    <a:pt x="910" y="1633"/>
                  </a:lnTo>
                  <a:lnTo>
                    <a:pt x="910" y="1666"/>
                  </a:lnTo>
                  <a:lnTo>
                    <a:pt x="905" y="1700"/>
                  </a:lnTo>
                  <a:lnTo>
                    <a:pt x="905" y="1729"/>
                  </a:lnTo>
                  <a:lnTo>
                    <a:pt x="905" y="1753"/>
                  </a:lnTo>
                  <a:lnTo>
                    <a:pt x="905" y="1777"/>
                  </a:lnTo>
                  <a:lnTo>
                    <a:pt x="900" y="1800"/>
                  </a:lnTo>
                  <a:lnTo>
                    <a:pt x="900" y="1820"/>
                  </a:lnTo>
                  <a:lnTo>
                    <a:pt x="900" y="1834"/>
                  </a:lnTo>
                  <a:lnTo>
                    <a:pt x="895" y="1848"/>
                  </a:lnTo>
                  <a:lnTo>
                    <a:pt x="895" y="1858"/>
                  </a:lnTo>
                  <a:lnTo>
                    <a:pt x="895" y="1863"/>
                  </a:lnTo>
                  <a:lnTo>
                    <a:pt x="881" y="1882"/>
                  </a:lnTo>
                  <a:lnTo>
                    <a:pt x="871" y="1896"/>
                  </a:lnTo>
                  <a:lnTo>
                    <a:pt x="862" y="1901"/>
                  </a:lnTo>
                  <a:lnTo>
                    <a:pt x="857" y="1906"/>
                  </a:lnTo>
                  <a:lnTo>
                    <a:pt x="852" y="1906"/>
                  </a:lnTo>
                  <a:lnTo>
                    <a:pt x="847" y="1906"/>
                  </a:lnTo>
                  <a:lnTo>
                    <a:pt x="843" y="1901"/>
                  </a:lnTo>
                  <a:lnTo>
                    <a:pt x="838" y="1896"/>
                  </a:lnTo>
                  <a:lnTo>
                    <a:pt x="833" y="1887"/>
                  </a:lnTo>
                  <a:lnTo>
                    <a:pt x="828" y="1877"/>
                  </a:lnTo>
                  <a:lnTo>
                    <a:pt x="819" y="1863"/>
                  </a:lnTo>
                  <a:lnTo>
                    <a:pt x="814" y="1844"/>
                  </a:lnTo>
                  <a:lnTo>
                    <a:pt x="809" y="1824"/>
                  </a:lnTo>
                  <a:lnTo>
                    <a:pt x="799" y="1800"/>
                  </a:lnTo>
                  <a:lnTo>
                    <a:pt x="795" y="1781"/>
                  </a:lnTo>
                  <a:lnTo>
                    <a:pt x="790" y="1762"/>
                  </a:lnTo>
                  <a:lnTo>
                    <a:pt x="785" y="1743"/>
                  </a:lnTo>
                  <a:lnTo>
                    <a:pt x="785" y="1724"/>
                  </a:lnTo>
                  <a:lnTo>
                    <a:pt x="785" y="1705"/>
                  </a:lnTo>
                  <a:lnTo>
                    <a:pt x="785" y="1686"/>
                  </a:lnTo>
                  <a:lnTo>
                    <a:pt x="790" y="1666"/>
                  </a:lnTo>
                  <a:lnTo>
                    <a:pt x="795" y="1647"/>
                  </a:lnTo>
                  <a:lnTo>
                    <a:pt x="799" y="1628"/>
                  </a:lnTo>
                  <a:lnTo>
                    <a:pt x="804" y="1609"/>
                  </a:lnTo>
                  <a:lnTo>
                    <a:pt x="809" y="1585"/>
                  </a:lnTo>
                  <a:lnTo>
                    <a:pt x="814" y="1556"/>
                  </a:lnTo>
                  <a:lnTo>
                    <a:pt x="819" y="1523"/>
                  </a:lnTo>
                  <a:lnTo>
                    <a:pt x="819" y="1489"/>
                  </a:lnTo>
                  <a:lnTo>
                    <a:pt x="823" y="1451"/>
                  </a:lnTo>
                  <a:lnTo>
                    <a:pt x="828" y="1374"/>
                  </a:lnTo>
                  <a:lnTo>
                    <a:pt x="833" y="1302"/>
                  </a:lnTo>
                  <a:lnTo>
                    <a:pt x="833" y="1221"/>
                  </a:lnTo>
                  <a:lnTo>
                    <a:pt x="833" y="1144"/>
                  </a:lnTo>
                  <a:lnTo>
                    <a:pt x="828" y="1106"/>
                  </a:lnTo>
                  <a:lnTo>
                    <a:pt x="828" y="1077"/>
                  </a:lnTo>
                  <a:lnTo>
                    <a:pt x="823" y="1049"/>
                  </a:lnTo>
                  <a:lnTo>
                    <a:pt x="819" y="1025"/>
                  </a:lnTo>
                  <a:lnTo>
                    <a:pt x="814" y="1005"/>
                  </a:lnTo>
                  <a:lnTo>
                    <a:pt x="804" y="986"/>
                  </a:lnTo>
                  <a:lnTo>
                    <a:pt x="799" y="972"/>
                  </a:lnTo>
                  <a:lnTo>
                    <a:pt x="790" y="962"/>
                  </a:lnTo>
                  <a:close/>
                  <a:moveTo>
                    <a:pt x="421" y="1556"/>
                  </a:moveTo>
                  <a:lnTo>
                    <a:pt x="359" y="1595"/>
                  </a:lnTo>
                  <a:lnTo>
                    <a:pt x="297" y="1628"/>
                  </a:lnTo>
                  <a:lnTo>
                    <a:pt x="239" y="1662"/>
                  </a:lnTo>
                  <a:lnTo>
                    <a:pt x="177" y="1700"/>
                  </a:lnTo>
                  <a:lnTo>
                    <a:pt x="148" y="1714"/>
                  </a:lnTo>
                  <a:lnTo>
                    <a:pt x="124" y="1724"/>
                  </a:lnTo>
                  <a:lnTo>
                    <a:pt x="105" y="1733"/>
                  </a:lnTo>
                  <a:lnTo>
                    <a:pt x="86" y="1738"/>
                  </a:lnTo>
                  <a:lnTo>
                    <a:pt x="71" y="1743"/>
                  </a:lnTo>
                  <a:lnTo>
                    <a:pt x="62" y="1743"/>
                  </a:lnTo>
                  <a:lnTo>
                    <a:pt x="52" y="1743"/>
                  </a:lnTo>
                  <a:lnTo>
                    <a:pt x="47" y="1743"/>
                  </a:lnTo>
                  <a:lnTo>
                    <a:pt x="47" y="1738"/>
                  </a:lnTo>
                  <a:lnTo>
                    <a:pt x="47" y="1729"/>
                  </a:lnTo>
                  <a:lnTo>
                    <a:pt x="52" y="1724"/>
                  </a:lnTo>
                  <a:lnTo>
                    <a:pt x="62" y="1714"/>
                  </a:lnTo>
                  <a:lnTo>
                    <a:pt x="76" y="1700"/>
                  </a:lnTo>
                  <a:lnTo>
                    <a:pt x="95" y="1686"/>
                  </a:lnTo>
                  <a:lnTo>
                    <a:pt x="115" y="1671"/>
                  </a:lnTo>
                  <a:lnTo>
                    <a:pt x="143" y="1657"/>
                  </a:lnTo>
                  <a:lnTo>
                    <a:pt x="196" y="1623"/>
                  </a:lnTo>
                  <a:lnTo>
                    <a:pt x="244" y="1590"/>
                  </a:lnTo>
                  <a:lnTo>
                    <a:pt x="297" y="1551"/>
                  </a:lnTo>
                  <a:lnTo>
                    <a:pt x="340" y="1508"/>
                  </a:lnTo>
                  <a:lnTo>
                    <a:pt x="354" y="1499"/>
                  </a:lnTo>
                  <a:lnTo>
                    <a:pt x="368" y="1484"/>
                  </a:lnTo>
                  <a:lnTo>
                    <a:pt x="383" y="1470"/>
                  </a:lnTo>
                  <a:lnTo>
                    <a:pt x="402" y="1456"/>
                  </a:lnTo>
                  <a:lnTo>
                    <a:pt x="421" y="1436"/>
                  </a:lnTo>
                  <a:lnTo>
                    <a:pt x="440" y="1413"/>
                  </a:lnTo>
                  <a:lnTo>
                    <a:pt x="459" y="1393"/>
                  </a:lnTo>
                  <a:lnTo>
                    <a:pt x="483" y="1365"/>
                  </a:lnTo>
                  <a:lnTo>
                    <a:pt x="512" y="1341"/>
                  </a:lnTo>
                  <a:lnTo>
                    <a:pt x="541" y="1307"/>
                  </a:lnTo>
                  <a:lnTo>
                    <a:pt x="570" y="1278"/>
                  </a:lnTo>
                  <a:lnTo>
                    <a:pt x="598" y="1245"/>
                  </a:lnTo>
                  <a:lnTo>
                    <a:pt x="632" y="1207"/>
                  </a:lnTo>
                  <a:lnTo>
                    <a:pt x="665" y="1168"/>
                  </a:lnTo>
                  <a:lnTo>
                    <a:pt x="699" y="1130"/>
                  </a:lnTo>
                  <a:lnTo>
                    <a:pt x="737" y="1087"/>
                  </a:lnTo>
                  <a:lnTo>
                    <a:pt x="804" y="1101"/>
                  </a:lnTo>
                  <a:lnTo>
                    <a:pt x="866" y="1120"/>
                  </a:lnTo>
                  <a:lnTo>
                    <a:pt x="828" y="1163"/>
                  </a:lnTo>
                  <a:lnTo>
                    <a:pt x="790" y="1207"/>
                  </a:lnTo>
                  <a:lnTo>
                    <a:pt x="752" y="1245"/>
                  </a:lnTo>
                  <a:lnTo>
                    <a:pt x="718" y="1283"/>
                  </a:lnTo>
                  <a:lnTo>
                    <a:pt x="684" y="1317"/>
                  </a:lnTo>
                  <a:lnTo>
                    <a:pt x="651" y="1350"/>
                  </a:lnTo>
                  <a:lnTo>
                    <a:pt x="622" y="1379"/>
                  </a:lnTo>
                  <a:lnTo>
                    <a:pt x="593" y="1408"/>
                  </a:lnTo>
                  <a:lnTo>
                    <a:pt x="565" y="1432"/>
                  </a:lnTo>
                  <a:lnTo>
                    <a:pt x="541" y="1456"/>
                  </a:lnTo>
                  <a:lnTo>
                    <a:pt x="512" y="1480"/>
                  </a:lnTo>
                  <a:lnTo>
                    <a:pt x="493" y="1499"/>
                  </a:lnTo>
                  <a:lnTo>
                    <a:pt x="469" y="1518"/>
                  </a:lnTo>
                  <a:lnTo>
                    <a:pt x="450" y="1532"/>
                  </a:lnTo>
                  <a:lnTo>
                    <a:pt x="435" y="1547"/>
                  </a:lnTo>
                  <a:lnTo>
                    <a:pt x="421" y="1556"/>
                  </a:lnTo>
                  <a:close/>
                  <a:moveTo>
                    <a:pt x="876" y="1077"/>
                  </a:moveTo>
                  <a:lnTo>
                    <a:pt x="905" y="1106"/>
                  </a:lnTo>
                  <a:lnTo>
                    <a:pt x="938" y="1135"/>
                  </a:lnTo>
                  <a:lnTo>
                    <a:pt x="977" y="1163"/>
                  </a:lnTo>
                  <a:lnTo>
                    <a:pt x="1010" y="1192"/>
                  </a:lnTo>
                  <a:lnTo>
                    <a:pt x="1053" y="1221"/>
                  </a:lnTo>
                  <a:lnTo>
                    <a:pt x="1096" y="1250"/>
                  </a:lnTo>
                  <a:lnTo>
                    <a:pt x="1140" y="1278"/>
                  </a:lnTo>
                  <a:lnTo>
                    <a:pt x="1187" y="1307"/>
                  </a:lnTo>
                  <a:lnTo>
                    <a:pt x="1235" y="1345"/>
                  </a:lnTo>
                  <a:lnTo>
                    <a:pt x="1283" y="1374"/>
                  </a:lnTo>
                  <a:lnTo>
                    <a:pt x="1336" y="1403"/>
                  </a:lnTo>
                  <a:lnTo>
                    <a:pt x="1389" y="1432"/>
                  </a:lnTo>
                  <a:lnTo>
                    <a:pt x="1446" y="1460"/>
                  </a:lnTo>
                  <a:lnTo>
                    <a:pt x="1508" y="1484"/>
                  </a:lnTo>
                  <a:lnTo>
                    <a:pt x="1571" y="1508"/>
                  </a:lnTo>
                  <a:lnTo>
                    <a:pt x="1638" y="1532"/>
                  </a:lnTo>
                  <a:lnTo>
                    <a:pt x="1666" y="1547"/>
                  </a:lnTo>
                  <a:lnTo>
                    <a:pt x="1700" y="1556"/>
                  </a:lnTo>
                  <a:lnTo>
                    <a:pt x="1729" y="1566"/>
                  </a:lnTo>
                  <a:lnTo>
                    <a:pt x="1753" y="1575"/>
                  </a:lnTo>
                  <a:lnTo>
                    <a:pt x="1777" y="1585"/>
                  </a:lnTo>
                  <a:lnTo>
                    <a:pt x="1800" y="1595"/>
                  </a:lnTo>
                  <a:lnTo>
                    <a:pt x="1820" y="1604"/>
                  </a:lnTo>
                  <a:lnTo>
                    <a:pt x="1839" y="1609"/>
                  </a:lnTo>
                  <a:lnTo>
                    <a:pt x="1853" y="1614"/>
                  </a:lnTo>
                  <a:lnTo>
                    <a:pt x="1868" y="1623"/>
                  </a:lnTo>
                  <a:lnTo>
                    <a:pt x="1877" y="1628"/>
                  </a:lnTo>
                  <a:lnTo>
                    <a:pt x="1887" y="1628"/>
                  </a:lnTo>
                  <a:lnTo>
                    <a:pt x="1896" y="1633"/>
                  </a:lnTo>
                  <a:lnTo>
                    <a:pt x="1901" y="1638"/>
                  </a:lnTo>
                  <a:lnTo>
                    <a:pt x="1901" y="1642"/>
                  </a:lnTo>
                  <a:lnTo>
                    <a:pt x="1896" y="1647"/>
                  </a:lnTo>
                  <a:lnTo>
                    <a:pt x="1891" y="1647"/>
                  </a:lnTo>
                  <a:lnTo>
                    <a:pt x="1887" y="1652"/>
                  </a:lnTo>
                  <a:lnTo>
                    <a:pt x="1882" y="1652"/>
                  </a:lnTo>
                  <a:lnTo>
                    <a:pt x="1872" y="1657"/>
                  </a:lnTo>
                  <a:lnTo>
                    <a:pt x="1863" y="1657"/>
                  </a:lnTo>
                  <a:lnTo>
                    <a:pt x="1853" y="1662"/>
                  </a:lnTo>
                  <a:lnTo>
                    <a:pt x="1844" y="1666"/>
                  </a:lnTo>
                  <a:lnTo>
                    <a:pt x="1829" y="1666"/>
                  </a:lnTo>
                  <a:lnTo>
                    <a:pt x="1815" y="1671"/>
                  </a:lnTo>
                  <a:lnTo>
                    <a:pt x="1800" y="1671"/>
                  </a:lnTo>
                  <a:lnTo>
                    <a:pt x="1786" y="1676"/>
                  </a:lnTo>
                  <a:lnTo>
                    <a:pt x="1767" y="1681"/>
                  </a:lnTo>
                  <a:lnTo>
                    <a:pt x="1748" y="1681"/>
                  </a:lnTo>
                  <a:lnTo>
                    <a:pt x="1709" y="1690"/>
                  </a:lnTo>
                  <a:lnTo>
                    <a:pt x="1671" y="1695"/>
                  </a:lnTo>
                  <a:lnTo>
                    <a:pt x="1638" y="1700"/>
                  </a:lnTo>
                  <a:lnTo>
                    <a:pt x="1604" y="1700"/>
                  </a:lnTo>
                  <a:lnTo>
                    <a:pt x="1575" y="1700"/>
                  </a:lnTo>
                  <a:lnTo>
                    <a:pt x="1551" y="1705"/>
                  </a:lnTo>
                  <a:lnTo>
                    <a:pt x="1527" y="1700"/>
                  </a:lnTo>
                  <a:lnTo>
                    <a:pt x="1508" y="1700"/>
                  </a:lnTo>
                  <a:lnTo>
                    <a:pt x="1484" y="1695"/>
                  </a:lnTo>
                  <a:lnTo>
                    <a:pt x="1456" y="1686"/>
                  </a:lnTo>
                  <a:lnTo>
                    <a:pt x="1432" y="1671"/>
                  </a:lnTo>
                  <a:lnTo>
                    <a:pt x="1403" y="1652"/>
                  </a:lnTo>
                  <a:lnTo>
                    <a:pt x="1374" y="1628"/>
                  </a:lnTo>
                  <a:lnTo>
                    <a:pt x="1341" y="1599"/>
                  </a:lnTo>
                  <a:lnTo>
                    <a:pt x="1326" y="1580"/>
                  </a:lnTo>
                  <a:lnTo>
                    <a:pt x="1307" y="1566"/>
                  </a:lnTo>
                  <a:lnTo>
                    <a:pt x="1293" y="1547"/>
                  </a:lnTo>
                  <a:lnTo>
                    <a:pt x="1274" y="1527"/>
                  </a:lnTo>
                  <a:lnTo>
                    <a:pt x="1235" y="1489"/>
                  </a:lnTo>
                  <a:lnTo>
                    <a:pt x="1202" y="1456"/>
                  </a:lnTo>
                  <a:lnTo>
                    <a:pt x="1173" y="1427"/>
                  </a:lnTo>
                  <a:lnTo>
                    <a:pt x="1144" y="1403"/>
                  </a:lnTo>
                  <a:lnTo>
                    <a:pt x="1116" y="1379"/>
                  </a:lnTo>
                  <a:lnTo>
                    <a:pt x="1096" y="1355"/>
                  </a:lnTo>
                  <a:lnTo>
                    <a:pt x="1077" y="1341"/>
                  </a:lnTo>
                  <a:lnTo>
                    <a:pt x="1058" y="1326"/>
                  </a:lnTo>
                  <a:lnTo>
                    <a:pt x="1039" y="1312"/>
                  </a:lnTo>
                  <a:lnTo>
                    <a:pt x="1020" y="1293"/>
                  </a:lnTo>
                  <a:lnTo>
                    <a:pt x="996" y="1274"/>
                  </a:lnTo>
                  <a:lnTo>
                    <a:pt x="972" y="1250"/>
                  </a:lnTo>
                  <a:lnTo>
                    <a:pt x="948" y="1226"/>
                  </a:lnTo>
                  <a:lnTo>
                    <a:pt x="914" y="1197"/>
                  </a:lnTo>
                  <a:lnTo>
                    <a:pt x="886" y="1163"/>
                  </a:lnTo>
                  <a:lnTo>
                    <a:pt x="852" y="1125"/>
                  </a:lnTo>
                  <a:lnTo>
                    <a:pt x="876" y="1077"/>
                  </a:lnTo>
                  <a:close/>
                  <a:moveTo>
                    <a:pt x="512" y="929"/>
                  </a:moveTo>
                  <a:lnTo>
                    <a:pt x="512" y="924"/>
                  </a:lnTo>
                  <a:lnTo>
                    <a:pt x="512" y="919"/>
                  </a:lnTo>
                  <a:lnTo>
                    <a:pt x="517" y="910"/>
                  </a:lnTo>
                  <a:lnTo>
                    <a:pt x="526" y="900"/>
                  </a:lnTo>
                  <a:lnTo>
                    <a:pt x="541" y="886"/>
                  </a:lnTo>
                  <a:lnTo>
                    <a:pt x="555" y="871"/>
                  </a:lnTo>
                  <a:lnTo>
                    <a:pt x="570" y="857"/>
                  </a:lnTo>
                  <a:lnTo>
                    <a:pt x="593" y="838"/>
                  </a:lnTo>
                  <a:lnTo>
                    <a:pt x="613" y="819"/>
                  </a:lnTo>
                  <a:lnTo>
                    <a:pt x="637" y="799"/>
                  </a:lnTo>
                  <a:lnTo>
                    <a:pt x="661" y="775"/>
                  </a:lnTo>
                  <a:lnTo>
                    <a:pt x="684" y="752"/>
                  </a:lnTo>
                  <a:lnTo>
                    <a:pt x="708" y="723"/>
                  </a:lnTo>
                  <a:lnTo>
                    <a:pt x="732" y="694"/>
                  </a:lnTo>
                  <a:lnTo>
                    <a:pt x="756" y="661"/>
                  </a:lnTo>
                  <a:lnTo>
                    <a:pt x="780" y="627"/>
                  </a:lnTo>
                  <a:lnTo>
                    <a:pt x="804" y="593"/>
                  </a:lnTo>
                  <a:lnTo>
                    <a:pt x="828" y="560"/>
                  </a:lnTo>
                  <a:lnTo>
                    <a:pt x="852" y="531"/>
                  </a:lnTo>
                  <a:lnTo>
                    <a:pt x="871" y="498"/>
                  </a:lnTo>
                  <a:lnTo>
                    <a:pt x="890" y="464"/>
                  </a:lnTo>
                  <a:lnTo>
                    <a:pt x="905" y="431"/>
                  </a:lnTo>
                  <a:lnTo>
                    <a:pt x="919" y="397"/>
                  </a:lnTo>
                  <a:lnTo>
                    <a:pt x="929" y="364"/>
                  </a:lnTo>
                  <a:lnTo>
                    <a:pt x="938" y="330"/>
                  </a:lnTo>
                  <a:lnTo>
                    <a:pt x="943" y="297"/>
                  </a:lnTo>
                  <a:lnTo>
                    <a:pt x="948" y="268"/>
                  </a:lnTo>
                  <a:lnTo>
                    <a:pt x="953" y="239"/>
                  </a:lnTo>
                  <a:lnTo>
                    <a:pt x="958" y="210"/>
                  </a:lnTo>
                  <a:lnTo>
                    <a:pt x="958" y="186"/>
                  </a:lnTo>
                  <a:lnTo>
                    <a:pt x="958" y="162"/>
                  </a:lnTo>
                  <a:lnTo>
                    <a:pt x="953" y="138"/>
                  </a:lnTo>
                  <a:lnTo>
                    <a:pt x="986" y="158"/>
                  </a:lnTo>
                  <a:lnTo>
                    <a:pt x="1015" y="172"/>
                  </a:lnTo>
                  <a:lnTo>
                    <a:pt x="1039" y="182"/>
                  </a:lnTo>
                  <a:lnTo>
                    <a:pt x="1058" y="196"/>
                  </a:lnTo>
                  <a:lnTo>
                    <a:pt x="1072" y="210"/>
                  </a:lnTo>
                  <a:lnTo>
                    <a:pt x="1082" y="220"/>
                  </a:lnTo>
                  <a:lnTo>
                    <a:pt x="1092" y="229"/>
                  </a:lnTo>
                  <a:lnTo>
                    <a:pt x="1092" y="239"/>
                  </a:lnTo>
                  <a:lnTo>
                    <a:pt x="1092" y="249"/>
                  </a:lnTo>
                  <a:lnTo>
                    <a:pt x="1087" y="263"/>
                  </a:lnTo>
                  <a:lnTo>
                    <a:pt x="1087" y="277"/>
                  </a:lnTo>
                  <a:lnTo>
                    <a:pt x="1077" y="297"/>
                  </a:lnTo>
                  <a:lnTo>
                    <a:pt x="1072" y="320"/>
                  </a:lnTo>
                  <a:lnTo>
                    <a:pt x="1063" y="344"/>
                  </a:lnTo>
                  <a:lnTo>
                    <a:pt x="1053" y="373"/>
                  </a:lnTo>
                  <a:lnTo>
                    <a:pt x="1039" y="407"/>
                  </a:lnTo>
                  <a:lnTo>
                    <a:pt x="1025" y="440"/>
                  </a:lnTo>
                  <a:lnTo>
                    <a:pt x="1005" y="474"/>
                  </a:lnTo>
                  <a:lnTo>
                    <a:pt x="986" y="507"/>
                  </a:lnTo>
                  <a:lnTo>
                    <a:pt x="967" y="541"/>
                  </a:lnTo>
                  <a:lnTo>
                    <a:pt x="943" y="574"/>
                  </a:lnTo>
                  <a:lnTo>
                    <a:pt x="919" y="608"/>
                  </a:lnTo>
                  <a:lnTo>
                    <a:pt x="895" y="641"/>
                  </a:lnTo>
                  <a:lnTo>
                    <a:pt x="866" y="670"/>
                  </a:lnTo>
                  <a:lnTo>
                    <a:pt x="838" y="704"/>
                  </a:lnTo>
                  <a:lnTo>
                    <a:pt x="809" y="732"/>
                  </a:lnTo>
                  <a:lnTo>
                    <a:pt x="785" y="756"/>
                  </a:lnTo>
                  <a:lnTo>
                    <a:pt x="756" y="785"/>
                  </a:lnTo>
                  <a:lnTo>
                    <a:pt x="728" y="809"/>
                  </a:lnTo>
                  <a:lnTo>
                    <a:pt x="699" y="828"/>
                  </a:lnTo>
                  <a:lnTo>
                    <a:pt x="670" y="852"/>
                  </a:lnTo>
                  <a:lnTo>
                    <a:pt x="641" y="871"/>
                  </a:lnTo>
                  <a:lnTo>
                    <a:pt x="617" y="886"/>
                  </a:lnTo>
                  <a:lnTo>
                    <a:pt x="593" y="900"/>
                  </a:lnTo>
                  <a:lnTo>
                    <a:pt x="570" y="914"/>
                  </a:lnTo>
                  <a:lnTo>
                    <a:pt x="555" y="919"/>
                  </a:lnTo>
                  <a:lnTo>
                    <a:pt x="536" y="929"/>
                  </a:lnTo>
                  <a:lnTo>
                    <a:pt x="526" y="929"/>
                  </a:lnTo>
                  <a:lnTo>
                    <a:pt x="517" y="929"/>
                  </a:lnTo>
                  <a:lnTo>
                    <a:pt x="512" y="929"/>
                  </a:lnTo>
                  <a:close/>
                  <a:moveTo>
                    <a:pt x="349" y="124"/>
                  </a:moveTo>
                  <a:lnTo>
                    <a:pt x="330" y="105"/>
                  </a:lnTo>
                  <a:lnTo>
                    <a:pt x="311" y="86"/>
                  </a:lnTo>
                  <a:lnTo>
                    <a:pt x="297" y="71"/>
                  </a:lnTo>
                  <a:lnTo>
                    <a:pt x="282" y="57"/>
                  </a:lnTo>
                  <a:lnTo>
                    <a:pt x="277" y="43"/>
                  </a:lnTo>
                  <a:lnTo>
                    <a:pt x="268" y="28"/>
                  </a:lnTo>
                  <a:lnTo>
                    <a:pt x="263" y="19"/>
                  </a:lnTo>
                  <a:lnTo>
                    <a:pt x="263" y="9"/>
                  </a:lnTo>
                  <a:lnTo>
                    <a:pt x="297" y="9"/>
                  </a:lnTo>
                  <a:lnTo>
                    <a:pt x="335" y="14"/>
                  </a:lnTo>
                  <a:lnTo>
                    <a:pt x="373" y="19"/>
                  </a:lnTo>
                  <a:lnTo>
                    <a:pt x="411" y="24"/>
                  </a:lnTo>
                  <a:lnTo>
                    <a:pt x="440" y="33"/>
                  </a:lnTo>
                  <a:lnTo>
                    <a:pt x="455" y="38"/>
                  </a:lnTo>
                  <a:lnTo>
                    <a:pt x="469" y="43"/>
                  </a:lnTo>
                  <a:lnTo>
                    <a:pt x="479" y="47"/>
                  </a:lnTo>
                  <a:lnTo>
                    <a:pt x="488" y="57"/>
                  </a:lnTo>
                  <a:lnTo>
                    <a:pt x="498" y="67"/>
                  </a:lnTo>
                  <a:lnTo>
                    <a:pt x="507" y="71"/>
                  </a:lnTo>
                  <a:lnTo>
                    <a:pt x="512" y="86"/>
                  </a:lnTo>
                  <a:lnTo>
                    <a:pt x="517" y="95"/>
                  </a:lnTo>
                  <a:lnTo>
                    <a:pt x="517" y="105"/>
                  </a:lnTo>
                  <a:lnTo>
                    <a:pt x="517" y="115"/>
                  </a:lnTo>
                  <a:lnTo>
                    <a:pt x="517" y="138"/>
                  </a:lnTo>
                  <a:lnTo>
                    <a:pt x="512" y="158"/>
                  </a:lnTo>
                  <a:lnTo>
                    <a:pt x="507" y="167"/>
                  </a:lnTo>
                  <a:lnTo>
                    <a:pt x="502" y="177"/>
                  </a:lnTo>
                  <a:lnTo>
                    <a:pt x="493" y="186"/>
                  </a:lnTo>
                  <a:lnTo>
                    <a:pt x="488" y="191"/>
                  </a:lnTo>
                  <a:lnTo>
                    <a:pt x="483" y="196"/>
                  </a:lnTo>
                  <a:lnTo>
                    <a:pt x="474" y="201"/>
                  </a:lnTo>
                  <a:lnTo>
                    <a:pt x="469" y="201"/>
                  </a:lnTo>
                  <a:lnTo>
                    <a:pt x="464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5" y="186"/>
                  </a:lnTo>
                  <a:lnTo>
                    <a:pt x="421" y="182"/>
                  </a:lnTo>
                  <a:lnTo>
                    <a:pt x="407" y="167"/>
                  </a:lnTo>
                  <a:lnTo>
                    <a:pt x="392" y="158"/>
                  </a:lnTo>
                  <a:lnTo>
                    <a:pt x="373" y="143"/>
                  </a:lnTo>
                  <a:lnTo>
                    <a:pt x="349" y="124"/>
                  </a:lnTo>
                  <a:close/>
                  <a:moveTo>
                    <a:pt x="297" y="306"/>
                  </a:moveTo>
                  <a:lnTo>
                    <a:pt x="316" y="311"/>
                  </a:lnTo>
                  <a:lnTo>
                    <a:pt x="325" y="320"/>
                  </a:lnTo>
                  <a:lnTo>
                    <a:pt x="340" y="330"/>
                  </a:lnTo>
                  <a:lnTo>
                    <a:pt x="349" y="335"/>
                  </a:lnTo>
                  <a:lnTo>
                    <a:pt x="359" y="344"/>
                  </a:lnTo>
                  <a:lnTo>
                    <a:pt x="368" y="354"/>
                  </a:lnTo>
                  <a:lnTo>
                    <a:pt x="373" y="364"/>
                  </a:lnTo>
                  <a:lnTo>
                    <a:pt x="378" y="373"/>
                  </a:lnTo>
                  <a:lnTo>
                    <a:pt x="378" y="383"/>
                  </a:lnTo>
                  <a:lnTo>
                    <a:pt x="378" y="397"/>
                  </a:lnTo>
                  <a:lnTo>
                    <a:pt x="378" y="416"/>
                  </a:lnTo>
                  <a:lnTo>
                    <a:pt x="378" y="421"/>
                  </a:lnTo>
                  <a:lnTo>
                    <a:pt x="373" y="431"/>
                  </a:lnTo>
                  <a:lnTo>
                    <a:pt x="368" y="435"/>
                  </a:lnTo>
                  <a:lnTo>
                    <a:pt x="368" y="440"/>
                  </a:lnTo>
                  <a:lnTo>
                    <a:pt x="354" y="450"/>
                  </a:lnTo>
                  <a:lnTo>
                    <a:pt x="344" y="459"/>
                  </a:lnTo>
                  <a:lnTo>
                    <a:pt x="330" y="464"/>
                  </a:lnTo>
                  <a:lnTo>
                    <a:pt x="325" y="464"/>
                  </a:lnTo>
                  <a:lnTo>
                    <a:pt x="320" y="464"/>
                  </a:lnTo>
                  <a:lnTo>
                    <a:pt x="311" y="459"/>
                  </a:lnTo>
                  <a:lnTo>
                    <a:pt x="301" y="455"/>
                  </a:lnTo>
                  <a:lnTo>
                    <a:pt x="292" y="445"/>
                  </a:lnTo>
                  <a:lnTo>
                    <a:pt x="277" y="435"/>
                  </a:lnTo>
                  <a:lnTo>
                    <a:pt x="263" y="426"/>
                  </a:lnTo>
                  <a:lnTo>
                    <a:pt x="249" y="411"/>
                  </a:lnTo>
                  <a:lnTo>
                    <a:pt x="229" y="397"/>
                  </a:lnTo>
                  <a:lnTo>
                    <a:pt x="210" y="383"/>
                  </a:lnTo>
                  <a:lnTo>
                    <a:pt x="196" y="368"/>
                  </a:lnTo>
                  <a:lnTo>
                    <a:pt x="182" y="349"/>
                  </a:lnTo>
                  <a:lnTo>
                    <a:pt x="172" y="335"/>
                  </a:lnTo>
                  <a:lnTo>
                    <a:pt x="162" y="320"/>
                  </a:lnTo>
                  <a:lnTo>
                    <a:pt x="158" y="306"/>
                  </a:lnTo>
                  <a:lnTo>
                    <a:pt x="153" y="292"/>
                  </a:lnTo>
                  <a:lnTo>
                    <a:pt x="153" y="282"/>
                  </a:lnTo>
                  <a:lnTo>
                    <a:pt x="196" y="282"/>
                  </a:lnTo>
                  <a:lnTo>
                    <a:pt x="215" y="282"/>
                  </a:lnTo>
                  <a:lnTo>
                    <a:pt x="234" y="287"/>
                  </a:lnTo>
                  <a:lnTo>
                    <a:pt x="253" y="292"/>
                  </a:lnTo>
                  <a:lnTo>
                    <a:pt x="268" y="297"/>
                  </a:lnTo>
                  <a:lnTo>
                    <a:pt x="282" y="301"/>
                  </a:lnTo>
                  <a:lnTo>
                    <a:pt x="297" y="306"/>
                  </a:lnTo>
                  <a:close/>
                  <a:moveTo>
                    <a:pt x="737" y="287"/>
                  </a:moveTo>
                  <a:lnTo>
                    <a:pt x="756" y="311"/>
                  </a:lnTo>
                  <a:lnTo>
                    <a:pt x="761" y="320"/>
                  </a:lnTo>
                  <a:lnTo>
                    <a:pt x="771" y="330"/>
                  </a:lnTo>
                  <a:lnTo>
                    <a:pt x="775" y="344"/>
                  </a:lnTo>
                  <a:lnTo>
                    <a:pt x="780" y="354"/>
                  </a:lnTo>
                  <a:lnTo>
                    <a:pt x="780" y="368"/>
                  </a:lnTo>
                  <a:lnTo>
                    <a:pt x="780" y="383"/>
                  </a:lnTo>
                  <a:lnTo>
                    <a:pt x="780" y="392"/>
                  </a:lnTo>
                  <a:lnTo>
                    <a:pt x="780" y="407"/>
                  </a:lnTo>
                  <a:lnTo>
                    <a:pt x="775" y="421"/>
                  </a:lnTo>
                  <a:lnTo>
                    <a:pt x="771" y="435"/>
                  </a:lnTo>
                  <a:lnTo>
                    <a:pt x="756" y="469"/>
                  </a:lnTo>
                  <a:lnTo>
                    <a:pt x="737" y="507"/>
                  </a:lnTo>
                  <a:lnTo>
                    <a:pt x="728" y="522"/>
                  </a:lnTo>
                  <a:lnTo>
                    <a:pt x="718" y="536"/>
                  </a:lnTo>
                  <a:lnTo>
                    <a:pt x="708" y="550"/>
                  </a:lnTo>
                  <a:lnTo>
                    <a:pt x="704" y="560"/>
                  </a:lnTo>
                  <a:lnTo>
                    <a:pt x="694" y="570"/>
                  </a:lnTo>
                  <a:lnTo>
                    <a:pt x="689" y="574"/>
                  </a:lnTo>
                  <a:lnTo>
                    <a:pt x="680" y="579"/>
                  </a:lnTo>
                  <a:lnTo>
                    <a:pt x="670" y="579"/>
                  </a:lnTo>
                  <a:lnTo>
                    <a:pt x="665" y="574"/>
                  </a:lnTo>
                  <a:lnTo>
                    <a:pt x="661" y="574"/>
                  </a:lnTo>
                  <a:lnTo>
                    <a:pt x="656" y="570"/>
                  </a:lnTo>
                  <a:lnTo>
                    <a:pt x="651" y="555"/>
                  </a:lnTo>
                  <a:lnTo>
                    <a:pt x="641" y="536"/>
                  </a:lnTo>
                  <a:lnTo>
                    <a:pt x="637" y="522"/>
                  </a:lnTo>
                  <a:lnTo>
                    <a:pt x="632" y="502"/>
                  </a:lnTo>
                  <a:lnTo>
                    <a:pt x="627" y="488"/>
                  </a:lnTo>
                  <a:lnTo>
                    <a:pt x="627" y="483"/>
                  </a:lnTo>
                  <a:lnTo>
                    <a:pt x="627" y="479"/>
                  </a:lnTo>
                  <a:lnTo>
                    <a:pt x="627" y="474"/>
                  </a:lnTo>
                  <a:lnTo>
                    <a:pt x="632" y="469"/>
                  </a:lnTo>
                  <a:lnTo>
                    <a:pt x="632" y="464"/>
                  </a:lnTo>
                  <a:lnTo>
                    <a:pt x="637" y="459"/>
                  </a:lnTo>
                  <a:lnTo>
                    <a:pt x="646" y="455"/>
                  </a:lnTo>
                  <a:lnTo>
                    <a:pt x="651" y="445"/>
                  </a:lnTo>
                  <a:lnTo>
                    <a:pt x="661" y="440"/>
                  </a:lnTo>
                  <a:lnTo>
                    <a:pt x="665" y="431"/>
                  </a:lnTo>
                  <a:lnTo>
                    <a:pt x="675" y="421"/>
                  </a:lnTo>
                  <a:lnTo>
                    <a:pt x="684" y="407"/>
                  </a:lnTo>
                  <a:lnTo>
                    <a:pt x="694" y="388"/>
                  </a:lnTo>
                  <a:lnTo>
                    <a:pt x="704" y="368"/>
                  </a:lnTo>
                  <a:lnTo>
                    <a:pt x="713" y="344"/>
                  </a:lnTo>
                  <a:lnTo>
                    <a:pt x="728" y="320"/>
                  </a:lnTo>
                  <a:lnTo>
                    <a:pt x="737" y="287"/>
                  </a:lnTo>
                  <a:close/>
                  <a:moveTo>
                    <a:pt x="263" y="938"/>
                  </a:moveTo>
                  <a:lnTo>
                    <a:pt x="258" y="938"/>
                  </a:lnTo>
                  <a:lnTo>
                    <a:pt x="249" y="934"/>
                  </a:lnTo>
                  <a:lnTo>
                    <a:pt x="244" y="929"/>
                  </a:lnTo>
                  <a:lnTo>
                    <a:pt x="234" y="919"/>
                  </a:lnTo>
                  <a:lnTo>
                    <a:pt x="229" y="910"/>
                  </a:lnTo>
                  <a:lnTo>
                    <a:pt x="220" y="890"/>
                  </a:lnTo>
                  <a:lnTo>
                    <a:pt x="210" y="876"/>
                  </a:lnTo>
                  <a:lnTo>
                    <a:pt x="206" y="852"/>
                  </a:lnTo>
                  <a:lnTo>
                    <a:pt x="196" y="833"/>
                  </a:lnTo>
                  <a:lnTo>
                    <a:pt x="186" y="814"/>
                  </a:lnTo>
                  <a:lnTo>
                    <a:pt x="182" y="799"/>
                  </a:lnTo>
                  <a:lnTo>
                    <a:pt x="177" y="785"/>
                  </a:lnTo>
                  <a:lnTo>
                    <a:pt x="177" y="771"/>
                  </a:lnTo>
                  <a:lnTo>
                    <a:pt x="172" y="761"/>
                  </a:lnTo>
                  <a:lnTo>
                    <a:pt x="177" y="752"/>
                  </a:lnTo>
                  <a:lnTo>
                    <a:pt x="177" y="747"/>
                  </a:lnTo>
                  <a:lnTo>
                    <a:pt x="182" y="737"/>
                  </a:lnTo>
                  <a:lnTo>
                    <a:pt x="191" y="732"/>
                  </a:lnTo>
                  <a:lnTo>
                    <a:pt x="201" y="732"/>
                  </a:lnTo>
                  <a:lnTo>
                    <a:pt x="210" y="728"/>
                  </a:lnTo>
                  <a:lnTo>
                    <a:pt x="220" y="732"/>
                  </a:lnTo>
                  <a:lnTo>
                    <a:pt x="225" y="732"/>
                  </a:lnTo>
                  <a:lnTo>
                    <a:pt x="239" y="732"/>
                  </a:lnTo>
                  <a:lnTo>
                    <a:pt x="249" y="728"/>
                  </a:lnTo>
                  <a:lnTo>
                    <a:pt x="263" y="723"/>
                  </a:lnTo>
                  <a:lnTo>
                    <a:pt x="268" y="718"/>
                  </a:lnTo>
                  <a:lnTo>
                    <a:pt x="277" y="708"/>
                  </a:lnTo>
                  <a:lnTo>
                    <a:pt x="292" y="699"/>
                  </a:lnTo>
                  <a:lnTo>
                    <a:pt x="306" y="680"/>
                  </a:lnTo>
                  <a:lnTo>
                    <a:pt x="330" y="661"/>
                  </a:lnTo>
                  <a:lnTo>
                    <a:pt x="354" y="641"/>
                  </a:lnTo>
                  <a:lnTo>
                    <a:pt x="378" y="613"/>
                  </a:lnTo>
                  <a:lnTo>
                    <a:pt x="392" y="598"/>
                  </a:lnTo>
                  <a:lnTo>
                    <a:pt x="411" y="579"/>
                  </a:lnTo>
                  <a:lnTo>
                    <a:pt x="426" y="565"/>
                  </a:lnTo>
                  <a:lnTo>
                    <a:pt x="440" y="546"/>
                  </a:lnTo>
                  <a:lnTo>
                    <a:pt x="469" y="522"/>
                  </a:lnTo>
                  <a:lnTo>
                    <a:pt x="493" y="498"/>
                  </a:lnTo>
                  <a:lnTo>
                    <a:pt x="512" y="479"/>
                  </a:lnTo>
                  <a:lnTo>
                    <a:pt x="531" y="469"/>
                  </a:lnTo>
                  <a:lnTo>
                    <a:pt x="541" y="459"/>
                  </a:lnTo>
                  <a:lnTo>
                    <a:pt x="550" y="455"/>
                  </a:lnTo>
                  <a:lnTo>
                    <a:pt x="555" y="455"/>
                  </a:lnTo>
                  <a:lnTo>
                    <a:pt x="560" y="459"/>
                  </a:lnTo>
                  <a:lnTo>
                    <a:pt x="560" y="464"/>
                  </a:lnTo>
                  <a:lnTo>
                    <a:pt x="555" y="469"/>
                  </a:lnTo>
                  <a:lnTo>
                    <a:pt x="555" y="474"/>
                  </a:lnTo>
                  <a:lnTo>
                    <a:pt x="550" y="483"/>
                  </a:lnTo>
                  <a:lnTo>
                    <a:pt x="546" y="498"/>
                  </a:lnTo>
                  <a:lnTo>
                    <a:pt x="541" y="507"/>
                  </a:lnTo>
                  <a:lnTo>
                    <a:pt x="536" y="522"/>
                  </a:lnTo>
                  <a:lnTo>
                    <a:pt x="526" y="536"/>
                  </a:lnTo>
                  <a:lnTo>
                    <a:pt x="517" y="555"/>
                  </a:lnTo>
                  <a:lnTo>
                    <a:pt x="507" y="574"/>
                  </a:lnTo>
                  <a:lnTo>
                    <a:pt x="498" y="598"/>
                  </a:lnTo>
                  <a:lnTo>
                    <a:pt x="483" y="617"/>
                  </a:lnTo>
                  <a:lnTo>
                    <a:pt x="469" y="641"/>
                  </a:lnTo>
                  <a:lnTo>
                    <a:pt x="455" y="670"/>
                  </a:lnTo>
                  <a:lnTo>
                    <a:pt x="435" y="694"/>
                  </a:lnTo>
                  <a:lnTo>
                    <a:pt x="421" y="723"/>
                  </a:lnTo>
                  <a:lnTo>
                    <a:pt x="402" y="752"/>
                  </a:lnTo>
                  <a:lnTo>
                    <a:pt x="388" y="775"/>
                  </a:lnTo>
                  <a:lnTo>
                    <a:pt x="373" y="799"/>
                  </a:lnTo>
                  <a:lnTo>
                    <a:pt x="359" y="819"/>
                  </a:lnTo>
                  <a:lnTo>
                    <a:pt x="344" y="838"/>
                  </a:lnTo>
                  <a:lnTo>
                    <a:pt x="335" y="857"/>
                  </a:lnTo>
                  <a:lnTo>
                    <a:pt x="320" y="871"/>
                  </a:lnTo>
                  <a:lnTo>
                    <a:pt x="311" y="886"/>
                  </a:lnTo>
                  <a:lnTo>
                    <a:pt x="301" y="900"/>
                  </a:lnTo>
                  <a:lnTo>
                    <a:pt x="292" y="910"/>
                  </a:lnTo>
                  <a:lnTo>
                    <a:pt x="287" y="919"/>
                  </a:lnTo>
                  <a:lnTo>
                    <a:pt x="277" y="924"/>
                  </a:lnTo>
                  <a:lnTo>
                    <a:pt x="273" y="929"/>
                  </a:lnTo>
                  <a:lnTo>
                    <a:pt x="268" y="934"/>
                  </a:lnTo>
                  <a:lnTo>
                    <a:pt x="263" y="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4783680" y="2439720"/>
              <a:ext cx="938520" cy="1082520"/>
            </a:xfrm>
            <a:custGeom>
              <a:avLst/>
              <a:gdLst/>
              <a:ahLst/>
              <a:rect l="l" t="t" r="r" b="b"/>
              <a:pathLst>
                <a:path w="776" h="895">
                  <a:moveTo>
                    <a:pt x="412" y="704"/>
                  </a:moveTo>
                  <a:lnTo>
                    <a:pt x="417" y="704"/>
                  </a:lnTo>
                  <a:lnTo>
                    <a:pt x="421" y="699"/>
                  </a:lnTo>
                  <a:lnTo>
                    <a:pt x="426" y="694"/>
                  </a:lnTo>
                  <a:lnTo>
                    <a:pt x="431" y="689"/>
                  </a:lnTo>
                  <a:lnTo>
                    <a:pt x="436" y="680"/>
                  </a:lnTo>
                  <a:lnTo>
                    <a:pt x="440" y="670"/>
                  </a:lnTo>
                  <a:lnTo>
                    <a:pt x="450" y="661"/>
                  </a:lnTo>
                  <a:lnTo>
                    <a:pt x="455" y="651"/>
                  </a:lnTo>
                  <a:lnTo>
                    <a:pt x="460" y="637"/>
                  </a:lnTo>
                  <a:lnTo>
                    <a:pt x="464" y="622"/>
                  </a:lnTo>
                  <a:lnTo>
                    <a:pt x="474" y="608"/>
                  </a:lnTo>
                  <a:lnTo>
                    <a:pt x="479" y="589"/>
                  </a:lnTo>
                  <a:lnTo>
                    <a:pt x="484" y="574"/>
                  </a:lnTo>
                  <a:lnTo>
                    <a:pt x="493" y="555"/>
                  </a:lnTo>
                  <a:lnTo>
                    <a:pt x="508" y="512"/>
                  </a:lnTo>
                  <a:lnTo>
                    <a:pt x="522" y="474"/>
                  </a:lnTo>
                  <a:lnTo>
                    <a:pt x="536" y="435"/>
                  </a:lnTo>
                  <a:lnTo>
                    <a:pt x="546" y="397"/>
                  </a:lnTo>
                  <a:lnTo>
                    <a:pt x="555" y="364"/>
                  </a:lnTo>
                  <a:lnTo>
                    <a:pt x="560" y="335"/>
                  </a:lnTo>
                  <a:lnTo>
                    <a:pt x="570" y="301"/>
                  </a:lnTo>
                  <a:lnTo>
                    <a:pt x="575" y="273"/>
                  </a:lnTo>
                  <a:lnTo>
                    <a:pt x="575" y="249"/>
                  </a:lnTo>
                  <a:lnTo>
                    <a:pt x="579" y="225"/>
                  </a:lnTo>
                  <a:lnTo>
                    <a:pt x="579" y="206"/>
                  </a:lnTo>
                  <a:lnTo>
                    <a:pt x="579" y="191"/>
                  </a:lnTo>
                  <a:lnTo>
                    <a:pt x="579" y="172"/>
                  </a:lnTo>
                  <a:lnTo>
                    <a:pt x="575" y="162"/>
                  </a:lnTo>
                  <a:lnTo>
                    <a:pt x="575" y="148"/>
                  </a:lnTo>
                  <a:lnTo>
                    <a:pt x="570" y="138"/>
                  </a:lnTo>
                  <a:lnTo>
                    <a:pt x="570" y="134"/>
                  </a:lnTo>
                  <a:lnTo>
                    <a:pt x="560" y="124"/>
                  </a:lnTo>
                  <a:lnTo>
                    <a:pt x="551" y="119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8" y="115"/>
                  </a:lnTo>
                  <a:lnTo>
                    <a:pt x="493" y="115"/>
                  </a:lnTo>
                  <a:lnTo>
                    <a:pt x="479" y="119"/>
                  </a:lnTo>
                  <a:lnTo>
                    <a:pt x="460" y="119"/>
                  </a:lnTo>
                  <a:lnTo>
                    <a:pt x="440" y="124"/>
                  </a:lnTo>
                  <a:lnTo>
                    <a:pt x="421" y="129"/>
                  </a:lnTo>
                  <a:lnTo>
                    <a:pt x="397" y="134"/>
                  </a:lnTo>
                  <a:lnTo>
                    <a:pt x="369" y="138"/>
                  </a:lnTo>
                  <a:lnTo>
                    <a:pt x="311" y="153"/>
                  </a:lnTo>
                  <a:lnTo>
                    <a:pt x="287" y="158"/>
                  </a:lnTo>
                  <a:lnTo>
                    <a:pt x="258" y="162"/>
                  </a:lnTo>
                  <a:lnTo>
                    <a:pt x="235" y="167"/>
                  </a:lnTo>
                  <a:lnTo>
                    <a:pt x="211" y="172"/>
                  </a:lnTo>
                  <a:lnTo>
                    <a:pt x="191" y="177"/>
                  </a:lnTo>
                  <a:lnTo>
                    <a:pt x="172" y="182"/>
                  </a:lnTo>
                  <a:lnTo>
                    <a:pt x="153" y="186"/>
                  </a:lnTo>
                  <a:lnTo>
                    <a:pt x="134" y="191"/>
                  </a:lnTo>
                  <a:lnTo>
                    <a:pt x="115" y="191"/>
                  </a:lnTo>
                  <a:lnTo>
                    <a:pt x="100" y="196"/>
                  </a:lnTo>
                  <a:lnTo>
                    <a:pt x="86" y="191"/>
                  </a:lnTo>
                  <a:lnTo>
                    <a:pt x="72" y="191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7"/>
                  </a:lnTo>
                  <a:lnTo>
                    <a:pt x="29" y="172"/>
                  </a:lnTo>
                  <a:lnTo>
                    <a:pt x="19" y="167"/>
                  </a:lnTo>
                  <a:lnTo>
                    <a:pt x="9" y="162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9" y="138"/>
                  </a:lnTo>
                  <a:lnTo>
                    <a:pt x="19" y="138"/>
                  </a:lnTo>
                  <a:lnTo>
                    <a:pt x="33" y="138"/>
                  </a:lnTo>
                  <a:lnTo>
                    <a:pt x="43" y="134"/>
                  </a:lnTo>
                  <a:lnTo>
                    <a:pt x="57" y="134"/>
                  </a:lnTo>
                  <a:lnTo>
                    <a:pt x="76" y="129"/>
                  </a:lnTo>
                  <a:lnTo>
                    <a:pt x="91" y="129"/>
                  </a:lnTo>
                  <a:lnTo>
                    <a:pt x="110" y="124"/>
                  </a:lnTo>
                  <a:lnTo>
                    <a:pt x="134" y="119"/>
                  </a:lnTo>
                  <a:lnTo>
                    <a:pt x="158" y="115"/>
                  </a:lnTo>
                  <a:lnTo>
                    <a:pt x="182" y="110"/>
                  </a:lnTo>
                  <a:lnTo>
                    <a:pt x="206" y="105"/>
                  </a:lnTo>
                  <a:lnTo>
                    <a:pt x="235" y="95"/>
                  </a:lnTo>
                  <a:lnTo>
                    <a:pt x="263" y="91"/>
                  </a:lnTo>
                  <a:lnTo>
                    <a:pt x="292" y="81"/>
                  </a:lnTo>
                  <a:lnTo>
                    <a:pt x="321" y="76"/>
                  </a:lnTo>
                  <a:lnTo>
                    <a:pt x="349" y="71"/>
                  </a:lnTo>
                  <a:lnTo>
                    <a:pt x="373" y="62"/>
                  </a:lnTo>
                  <a:lnTo>
                    <a:pt x="402" y="57"/>
                  </a:lnTo>
                  <a:lnTo>
                    <a:pt x="421" y="52"/>
                  </a:lnTo>
                  <a:lnTo>
                    <a:pt x="445" y="47"/>
                  </a:lnTo>
                  <a:lnTo>
                    <a:pt x="464" y="43"/>
                  </a:lnTo>
                  <a:lnTo>
                    <a:pt x="479" y="38"/>
                  </a:lnTo>
                  <a:lnTo>
                    <a:pt x="493" y="33"/>
                  </a:lnTo>
                  <a:lnTo>
                    <a:pt x="508" y="33"/>
                  </a:lnTo>
                  <a:lnTo>
                    <a:pt x="517" y="28"/>
                  </a:lnTo>
                  <a:lnTo>
                    <a:pt x="531" y="24"/>
                  </a:lnTo>
                  <a:lnTo>
                    <a:pt x="536" y="24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1" y="14"/>
                  </a:lnTo>
                  <a:lnTo>
                    <a:pt x="560" y="9"/>
                  </a:lnTo>
                  <a:lnTo>
                    <a:pt x="570" y="4"/>
                  </a:lnTo>
                  <a:lnTo>
                    <a:pt x="579" y="0"/>
                  </a:lnTo>
                  <a:lnTo>
                    <a:pt x="594" y="0"/>
                  </a:lnTo>
                  <a:lnTo>
                    <a:pt x="599" y="0"/>
                  </a:lnTo>
                  <a:lnTo>
                    <a:pt x="603" y="4"/>
                  </a:lnTo>
                  <a:lnTo>
                    <a:pt x="613" y="4"/>
                  </a:lnTo>
                  <a:lnTo>
                    <a:pt x="627" y="9"/>
                  </a:lnTo>
                  <a:lnTo>
                    <a:pt x="642" y="19"/>
                  </a:lnTo>
                  <a:lnTo>
                    <a:pt x="656" y="28"/>
                  </a:lnTo>
                  <a:lnTo>
                    <a:pt x="675" y="38"/>
                  </a:lnTo>
                  <a:lnTo>
                    <a:pt x="699" y="47"/>
                  </a:lnTo>
                  <a:lnTo>
                    <a:pt x="713" y="62"/>
                  </a:lnTo>
                  <a:lnTo>
                    <a:pt x="733" y="71"/>
                  </a:lnTo>
                  <a:lnTo>
                    <a:pt x="742" y="81"/>
                  </a:lnTo>
                  <a:lnTo>
                    <a:pt x="757" y="91"/>
                  </a:lnTo>
                  <a:lnTo>
                    <a:pt x="761" y="100"/>
                  </a:lnTo>
                  <a:lnTo>
                    <a:pt x="771" y="105"/>
                  </a:lnTo>
                  <a:lnTo>
                    <a:pt x="776" y="110"/>
                  </a:lnTo>
                  <a:lnTo>
                    <a:pt x="776" y="115"/>
                  </a:lnTo>
                  <a:lnTo>
                    <a:pt x="771" y="124"/>
                  </a:lnTo>
                  <a:lnTo>
                    <a:pt x="766" y="134"/>
                  </a:lnTo>
                  <a:lnTo>
                    <a:pt x="761" y="143"/>
                  </a:lnTo>
                  <a:lnTo>
                    <a:pt x="747" y="148"/>
                  </a:lnTo>
                  <a:lnTo>
                    <a:pt x="737" y="153"/>
                  </a:lnTo>
                  <a:lnTo>
                    <a:pt x="733" y="162"/>
                  </a:lnTo>
                  <a:lnTo>
                    <a:pt x="728" y="172"/>
                  </a:lnTo>
                  <a:lnTo>
                    <a:pt x="723" y="186"/>
                  </a:lnTo>
                  <a:lnTo>
                    <a:pt x="718" y="201"/>
                  </a:lnTo>
                  <a:lnTo>
                    <a:pt x="713" y="220"/>
                  </a:lnTo>
                  <a:lnTo>
                    <a:pt x="709" y="239"/>
                  </a:lnTo>
                  <a:lnTo>
                    <a:pt x="704" y="263"/>
                  </a:lnTo>
                  <a:lnTo>
                    <a:pt x="699" y="292"/>
                  </a:lnTo>
                  <a:lnTo>
                    <a:pt x="694" y="320"/>
                  </a:lnTo>
                  <a:lnTo>
                    <a:pt x="685" y="354"/>
                  </a:lnTo>
                  <a:lnTo>
                    <a:pt x="675" y="388"/>
                  </a:lnTo>
                  <a:lnTo>
                    <a:pt x="661" y="431"/>
                  </a:lnTo>
                  <a:lnTo>
                    <a:pt x="651" y="474"/>
                  </a:lnTo>
                  <a:lnTo>
                    <a:pt x="637" y="522"/>
                  </a:lnTo>
                  <a:lnTo>
                    <a:pt x="618" y="570"/>
                  </a:lnTo>
                  <a:lnTo>
                    <a:pt x="613" y="598"/>
                  </a:lnTo>
                  <a:lnTo>
                    <a:pt x="603" y="622"/>
                  </a:lnTo>
                  <a:lnTo>
                    <a:pt x="594" y="646"/>
                  </a:lnTo>
                  <a:lnTo>
                    <a:pt x="589" y="665"/>
                  </a:lnTo>
                  <a:lnTo>
                    <a:pt x="579" y="689"/>
                  </a:lnTo>
                  <a:lnTo>
                    <a:pt x="570" y="708"/>
                  </a:lnTo>
                  <a:lnTo>
                    <a:pt x="565" y="728"/>
                  </a:lnTo>
                  <a:lnTo>
                    <a:pt x="555" y="747"/>
                  </a:lnTo>
                  <a:lnTo>
                    <a:pt x="546" y="761"/>
                  </a:lnTo>
                  <a:lnTo>
                    <a:pt x="541" y="775"/>
                  </a:lnTo>
                  <a:lnTo>
                    <a:pt x="531" y="790"/>
                  </a:lnTo>
                  <a:lnTo>
                    <a:pt x="527" y="799"/>
                  </a:lnTo>
                  <a:lnTo>
                    <a:pt x="517" y="814"/>
                  </a:lnTo>
                  <a:lnTo>
                    <a:pt x="512" y="823"/>
                  </a:lnTo>
                  <a:lnTo>
                    <a:pt x="503" y="828"/>
                  </a:lnTo>
                  <a:lnTo>
                    <a:pt x="498" y="838"/>
                  </a:lnTo>
                  <a:lnTo>
                    <a:pt x="484" y="852"/>
                  </a:lnTo>
                  <a:lnTo>
                    <a:pt x="469" y="862"/>
                  </a:lnTo>
                  <a:lnTo>
                    <a:pt x="455" y="871"/>
                  </a:lnTo>
                  <a:lnTo>
                    <a:pt x="445" y="881"/>
                  </a:lnTo>
                  <a:lnTo>
                    <a:pt x="436" y="886"/>
                  </a:lnTo>
                  <a:lnTo>
                    <a:pt x="426" y="890"/>
                  </a:lnTo>
                  <a:lnTo>
                    <a:pt x="421" y="895"/>
                  </a:lnTo>
                  <a:lnTo>
                    <a:pt x="412" y="895"/>
                  </a:lnTo>
                  <a:lnTo>
                    <a:pt x="407" y="895"/>
                  </a:lnTo>
                  <a:lnTo>
                    <a:pt x="402" y="890"/>
                  </a:lnTo>
                  <a:lnTo>
                    <a:pt x="397" y="886"/>
                  </a:lnTo>
                  <a:lnTo>
                    <a:pt x="393" y="881"/>
                  </a:lnTo>
                  <a:lnTo>
                    <a:pt x="388" y="876"/>
                  </a:lnTo>
                  <a:lnTo>
                    <a:pt x="383" y="866"/>
                  </a:lnTo>
                  <a:lnTo>
                    <a:pt x="383" y="857"/>
                  </a:lnTo>
                  <a:lnTo>
                    <a:pt x="378" y="847"/>
                  </a:lnTo>
                  <a:lnTo>
                    <a:pt x="373" y="833"/>
                  </a:lnTo>
                  <a:lnTo>
                    <a:pt x="369" y="819"/>
                  </a:lnTo>
                  <a:lnTo>
                    <a:pt x="364" y="804"/>
                  </a:lnTo>
                  <a:lnTo>
                    <a:pt x="354" y="790"/>
                  </a:lnTo>
                  <a:lnTo>
                    <a:pt x="345" y="775"/>
                  </a:lnTo>
                  <a:lnTo>
                    <a:pt x="335" y="756"/>
                  </a:lnTo>
                  <a:lnTo>
                    <a:pt x="326" y="737"/>
                  </a:lnTo>
                  <a:lnTo>
                    <a:pt x="306" y="723"/>
                  </a:lnTo>
                  <a:lnTo>
                    <a:pt x="292" y="704"/>
                  </a:lnTo>
                  <a:lnTo>
                    <a:pt x="282" y="694"/>
                  </a:lnTo>
                  <a:lnTo>
                    <a:pt x="273" y="680"/>
                  </a:lnTo>
                  <a:lnTo>
                    <a:pt x="268" y="670"/>
                  </a:lnTo>
                  <a:lnTo>
                    <a:pt x="263" y="661"/>
                  </a:lnTo>
                  <a:lnTo>
                    <a:pt x="263" y="656"/>
                  </a:lnTo>
                  <a:lnTo>
                    <a:pt x="263" y="651"/>
                  </a:lnTo>
                  <a:lnTo>
                    <a:pt x="263" y="646"/>
                  </a:lnTo>
                  <a:lnTo>
                    <a:pt x="268" y="646"/>
                  </a:lnTo>
                  <a:lnTo>
                    <a:pt x="273" y="646"/>
                  </a:lnTo>
                  <a:lnTo>
                    <a:pt x="278" y="651"/>
                  </a:lnTo>
                  <a:lnTo>
                    <a:pt x="287" y="651"/>
                  </a:lnTo>
                  <a:lnTo>
                    <a:pt x="297" y="656"/>
                  </a:lnTo>
                  <a:lnTo>
                    <a:pt x="306" y="665"/>
                  </a:lnTo>
                  <a:lnTo>
                    <a:pt x="321" y="670"/>
                  </a:lnTo>
                  <a:lnTo>
                    <a:pt x="335" y="680"/>
                  </a:lnTo>
                  <a:lnTo>
                    <a:pt x="345" y="689"/>
                  </a:lnTo>
                  <a:lnTo>
                    <a:pt x="359" y="694"/>
                  </a:lnTo>
                  <a:lnTo>
                    <a:pt x="369" y="699"/>
                  </a:lnTo>
                  <a:lnTo>
                    <a:pt x="378" y="704"/>
                  </a:lnTo>
                  <a:lnTo>
                    <a:pt x="388" y="708"/>
                  </a:lnTo>
                  <a:lnTo>
                    <a:pt x="397" y="708"/>
                  </a:lnTo>
                  <a:lnTo>
                    <a:pt x="407" y="708"/>
                  </a:lnTo>
                  <a:lnTo>
                    <a:pt x="412" y="70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5531400" y="2919960"/>
              <a:ext cx="388080" cy="219960"/>
            </a:xfrm>
            <a:custGeom>
              <a:avLst/>
              <a:gdLst/>
              <a:ahLst/>
              <a:rect l="l" t="t" r="r" b="b"/>
              <a:pathLst>
                <a:path w="321" h="182">
                  <a:moveTo>
                    <a:pt x="210" y="24"/>
                  </a:moveTo>
                  <a:lnTo>
                    <a:pt x="230" y="34"/>
                  </a:lnTo>
                  <a:lnTo>
                    <a:pt x="249" y="38"/>
                  </a:lnTo>
                  <a:lnTo>
                    <a:pt x="263" y="43"/>
                  </a:lnTo>
                  <a:lnTo>
                    <a:pt x="277" y="48"/>
                  </a:lnTo>
                  <a:lnTo>
                    <a:pt x="292" y="58"/>
                  </a:lnTo>
                  <a:lnTo>
                    <a:pt x="301" y="62"/>
                  </a:lnTo>
                  <a:lnTo>
                    <a:pt x="306" y="67"/>
                  </a:lnTo>
                  <a:lnTo>
                    <a:pt x="311" y="77"/>
                  </a:lnTo>
                  <a:lnTo>
                    <a:pt x="316" y="91"/>
                  </a:lnTo>
                  <a:lnTo>
                    <a:pt x="321" y="105"/>
                  </a:lnTo>
                  <a:lnTo>
                    <a:pt x="321" y="125"/>
                  </a:lnTo>
                  <a:lnTo>
                    <a:pt x="321" y="139"/>
                  </a:lnTo>
                  <a:lnTo>
                    <a:pt x="321" y="149"/>
                  </a:lnTo>
                  <a:lnTo>
                    <a:pt x="316" y="158"/>
                  </a:lnTo>
                  <a:lnTo>
                    <a:pt x="316" y="163"/>
                  </a:lnTo>
                  <a:lnTo>
                    <a:pt x="311" y="173"/>
                  </a:lnTo>
                  <a:lnTo>
                    <a:pt x="301" y="177"/>
                  </a:lnTo>
                  <a:lnTo>
                    <a:pt x="297" y="177"/>
                  </a:lnTo>
                  <a:lnTo>
                    <a:pt x="287" y="182"/>
                  </a:lnTo>
                  <a:lnTo>
                    <a:pt x="277" y="182"/>
                  </a:lnTo>
                  <a:lnTo>
                    <a:pt x="273" y="182"/>
                  </a:lnTo>
                  <a:lnTo>
                    <a:pt x="263" y="182"/>
                  </a:lnTo>
                  <a:lnTo>
                    <a:pt x="254" y="177"/>
                  </a:lnTo>
                  <a:lnTo>
                    <a:pt x="244" y="173"/>
                  </a:lnTo>
                  <a:lnTo>
                    <a:pt x="234" y="168"/>
                  </a:lnTo>
                  <a:lnTo>
                    <a:pt x="220" y="163"/>
                  </a:lnTo>
                  <a:lnTo>
                    <a:pt x="206" y="153"/>
                  </a:lnTo>
                  <a:lnTo>
                    <a:pt x="186" y="144"/>
                  </a:lnTo>
                  <a:lnTo>
                    <a:pt x="167" y="134"/>
                  </a:lnTo>
                  <a:lnTo>
                    <a:pt x="148" y="125"/>
                  </a:lnTo>
                  <a:lnTo>
                    <a:pt x="129" y="110"/>
                  </a:lnTo>
                  <a:lnTo>
                    <a:pt x="105" y="101"/>
                  </a:lnTo>
                  <a:lnTo>
                    <a:pt x="81" y="86"/>
                  </a:lnTo>
                  <a:lnTo>
                    <a:pt x="57" y="67"/>
                  </a:lnTo>
                  <a:lnTo>
                    <a:pt x="28" y="53"/>
                  </a:lnTo>
                  <a:lnTo>
                    <a:pt x="0" y="34"/>
                  </a:lnTo>
                  <a:lnTo>
                    <a:pt x="19" y="24"/>
                  </a:lnTo>
                  <a:lnTo>
                    <a:pt x="38" y="14"/>
                  </a:lnTo>
                  <a:lnTo>
                    <a:pt x="62" y="5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48" y="10"/>
                  </a:lnTo>
                  <a:lnTo>
                    <a:pt x="167" y="14"/>
                  </a:lnTo>
                  <a:lnTo>
                    <a:pt x="186" y="19"/>
                  </a:lnTo>
                  <a:lnTo>
                    <a:pt x="210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3909240" y="3592800"/>
              <a:ext cx="2120040" cy="288720"/>
            </a:xfrm>
            <a:custGeom>
              <a:avLst/>
              <a:gdLst/>
              <a:ahLst/>
              <a:rect l="l" t="t" r="r" b="b"/>
              <a:pathLst>
                <a:path w="1753" h="239">
                  <a:moveTo>
                    <a:pt x="1542" y="0"/>
                  </a:moveTo>
                  <a:lnTo>
                    <a:pt x="1575" y="0"/>
                  </a:lnTo>
                  <a:lnTo>
                    <a:pt x="1604" y="9"/>
                  </a:lnTo>
                  <a:lnTo>
                    <a:pt x="1623" y="9"/>
                  </a:lnTo>
                  <a:lnTo>
                    <a:pt x="1638" y="19"/>
                  </a:lnTo>
                  <a:lnTo>
                    <a:pt x="1652" y="24"/>
                  </a:lnTo>
                  <a:lnTo>
                    <a:pt x="1671" y="33"/>
                  </a:lnTo>
                  <a:lnTo>
                    <a:pt x="1686" y="43"/>
                  </a:lnTo>
                  <a:lnTo>
                    <a:pt x="1700" y="52"/>
                  </a:lnTo>
                  <a:lnTo>
                    <a:pt x="1709" y="57"/>
                  </a:lnTo>
                  <a:lnTo>
                    <a:pt x="1724" y="62"/>
                  </a:lnTo>
                  <a:lnTo>
                    <a:pt x="1729" y="72"/>
                  </a:lnTo>
                  <a:lnTo>
                    <a:pt x="1738" y="76"/>
                  </a:lnTo>
                  <a:lnTo>
                    <a:pt x="1743" y="81"/>
                  </a:lnTo>
                  <a:lnTo>
                    <a:pt x="1748" y="81"/>
                  </a:lnTo>
                  <a:lnTo>
                    <a:pt x="1753" y="96"/>
                  </a:lnTo>
                  <a:lnTo>
                    <a:pt x="1753" y="100"/>
                  </a:lnTo>
                  <a:lnTo>
                    <a:pt x="1753" y="110"/>
                  </a:lnTo>
                  <a:lnTo>
                    <a:pt x="1748" y="115"/>
                  </a:lnTo>
                  <a:lnTo>
                    <a:pt x="1743" y="119"/>
                  </a:lnTo>
                  <a:lnTo>
                    <a:pt x="1733" y="119"/>
                  </a:lnTo>
                  <a:lnTo>
                    <a:pt x="1729" y="124"/>
                  </a:lnTo>
                  <a:lnTo>
                    <a:pt x="1719" y="124"/>
                  </a:lnTo>
                  <a:lnTo>
                    <a:pt x="1705" y="124"/>
                  </a:lnTo>
                  <a:lnTo>
                    <a:pt x="1690" y="124"/>
                  </a:lnTo>
                  <a:lnTo>
                    <a:pt x="1676" y="124"/>
                  </a:lnTo>
                  <a:lnTo>
                    <a:pt x="1662" y="129"/>
                  </a:lnTo>
                  <a:lnTo>
                    <a:pt x="1642" y="129"/>
                  </a:lnTo>
                  <a:lnTo>
                    <a:pt x="1618" y="129"/>
                  </a:lnTo>
                  <a:lnTo>
                    <a:pt x="1599" y="129"/>
                  </a:lnTo>
                  <a:lnTo>
                    <a:pt x="1575" y="129"/>
                  </a:lnTo>
                  <a:lnTo>
                    <a:pt x="1547" y="124"/>
                  </a:lnTo>
                  <a:lnTo>
                    <a:pt x="1518" y="124"/>
                  </a:lnTo>
                  <a:lnTo>
                    <a:pt x="1489" y="124"/>
                  </a:lnTo>
                  <a:lnTo>
                    <a:pt x="1427" y="119"/>
                  </a:lnTo>
                  <a:lnTo>
                    <a:pt x="1365" y="119"/>
                  </a:lnTo>
                  <a:lnTo>
                    <a:pt x="1245" y="124"/>
                  </a:lnTo>
                  <a:lnTo>
                    <a:pt x="1125" y="124"/>
                  </a:lnTo>
                  <a:lnTo>
                    <a:pt x="1005" y="134"/>
                  </a:lnTo>
                  <a:lnTo>
                    <a:pt x="948" y="139"/>
                  </a:lnTo>
                  <a:lnTo>
                    <a:pt x="895" y="143"/>
                  </a:lnTo>
                  <a:lnTo>
                    <a:pt x="843" y="153"/>
                  </a:lnTo>
                  <a:lnTo>
                    <a:pt x="790" y="158"/>
                  </a:lnTo>
                  <a:lnTo>
                    <a:pt x="742" y="163"/>
                  </a:lnTo>
                  <a:lnTo>
                    <a:pt x="694" y="167"/>
                  </a:lnTo>
                  <a:lnTo>
                    <a:pt x="651" y="172"/>
                  </a:lnTo>
                  <a:lnTo>
                    <a:pt x="608" y="172"/>
                  </a:lnTo>
                  <a:lnTo>
                    <a:pt x="526" y="187"/>
                  </a:lnTo>
                  <a:lnTo>
                    <a:pt x="440" y="196"/>
                  </a:lnTo>
                  <a:lnTo>
                    <a:pt x="354" y="206"/>
                  </a:lnTo>
                  <a:lnTo>
                    <a:pt x="273" y="215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15" y="225"/>
                  </a:lnTo>
                  <a:lnTo>
                    <a:pt x="196" y="225"/>
                  </a:lnTo>
                  <a:lnTo>
                    <a:pt x="182" y="230"/>
                  </a:lnTo>
                  <a:lnTo>
                    <a:pt x="167" y="230"/>
                  </a:lnTo>
                  <a:lnTo>
                    <a:pt x="153" y="234"/>
                  </a:lnTo>
                  <a:lnTo>
                    <a:pt x="143" y="234"/>
                  </a:lnTo>
                  <a:lnTo>
                    <a:pt x="134" y="234"/>
                  </a:lnTo>
                  <a:lnTo>
                    <a:pt x="124" y="239"/>
                  </a:lnTo>
                  <a:lnTo>
                    <a:pt x="115" y="239"/>
                  </a:lnTo>
                  <a:lnTo>
                    <a:pt x="105" y="239"/>
                  </a:lnTo>
                  <a:lnTo>
                    <a:pt x="100" y="239"/>
                  </a:lnTo>
                  <a:lnTo>
                    <a:pt x="95" y="239"/>
                  </a:lnTo>
                  <a:lnTo>
                    <a:pt x="91" y="239"/>
                  </a:lnTo>
                  <a:lnTo>
                    <a:pt x="86" y="239"/>
                  </a:lnTo>
                  <a:lnTo>
                    <a:pt x="81" y="239"/>
                  </a:lnTo>
                  <a:lnTo>
                    <a:pt x="76" y="234"/>
                  </a:lnTo>
                  <a:lnTo>
                    <a:pt x="67" y="234"/>
                  </a:lnTo>
                  <a:lnTo>
                    <a:pt x="57" y="230"/>
                  </a:lnTo>
                  <a:lnTo>
                    <a:pt x="47" y="225"/>
                  </a:lnTo>
                  <a:lnTo>
                    <a:pt x="38" y="215"/>
                  </a:lnTo>
                  <a:lnTo>
                    <a:pt x="28" y="206"/>
                  </a:lnTo>
                  <a:lnTo>
                    <a:pt x="24" y="196"/>
                  </a:lnTo>
                  <a:lnTo>
                    <a:pt x="14" y="191"/>
                  </a:lnTo>
                  <a:lnTo>
                    <a:pt x="9" y="182"/>
                  </a:lnTo>
                  <a:lnTo>
                    <a:pt x="4" y="177"/>
                  </a:lnTo>
                  <a:lnTo>
                    <a:pt x="4" y="172"/>
                  </a:lnTo>
                  <a:lnTo>
                    <a:pt x="0" y="167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9" y="153"/>
                  </a:lnTo>
                  <a:lnTo>
                    <a:pt x="28" y="153"/>
                  </a:lnTo>
                  <a:lnTo>
                    <a:pt x="43" y="148"/>
                  </a:lnTo>
                  <a:lnTo>
                    <a:pt x="62" y="148"/>
                  </a:lnTo>
                  <a:lnTo>
                    <a:pt x="86" y="148"/>
                  </a:lnTo>
                  <a:lnTo>
                    <a:pt x="115" y="143"/>
                  </a:lnTo>
                  <a:lnTo>
                    <a:pt x="143" y="139"/>
                  </a:lnTo>
                  <a:lnTo>
                    <a:pt x="177" y="139"/>
                  </a:lnTo>
                  <a:lnTo>
                    <a:pt x="215" y="134"/>
                  </a:lnTo>
                  <a:lnTo>
                    <a:pt x="258" y="129"/>
                  </a:lnTo>
                  <a:lnTo>
                    <a:pt x="306" y="129"/>
                  </a:lnTo>
                  <a:lnTo>
                    <a:pt x="354" y="124"/>
                  </a:lnTo>
                  <a:lnTo>
                    <a:pt x="411" y="119"/>
                  </a:lnTo>
                  <a:lnTo>
                    <a:pt x="469" y="115"/>
                  </a:lnTo>
                  <a:lnTo>
                    <a:pt x="531" y="110"/>
                  </a:lnTo>
                  <a:lnTo>
                    <a:pt x="651" y="96"/>
                  </a:lnTo>
                  <a:lnTo>
                    <a:pt x="713" y="91"/>
                  </a:lnTo>
                  <a:lnTo>
                    <a:pt x="771" y="81"/>
                  </a:lnTo>
                  <a:lnTo>
                    <a:pt x="828" y="76"/>
                  </a:lnTo>
                  <a:lnTo>
                    <a:pt x="881" y="72"/>
                  </a:lnTo>
                  <a:lnTo>
                    <a:pt x="938" y="62"/>
                  </a:lnTo>
                  <a:lnTo>
                    <a:pt x="986" y="57"/>
                  </a:lnTo>
                  <a:lnTo>
                    <a:pt x="1039" y="52"/>
                  </a:lnTo>
                  <a:lnTo>
                    <a:pt x="1087" y="52"/>
                  </a:lnTo>
                  <a:lnTo>
                    <a:pt x="1135" y="48"/>
                  </a:lnTo>
                  <a:lnTo>
                    <a:pt x="1183" y="38"/>
                  </a:lnTo>
                  <a:lnTo>
                    <a:pt x="1226" y="33"/>
                  </a:lnTo>
                  <a:lnTo>
                    <a:pt x="1264" y="28"/>
                  </a:lnTo>
                  <a:lnTo>
                    <a:pt x="1307" y="24"/>
                  </a:lnTo>
                  <a:lnTo>
                    <a:pt x="1341" y="14"/>
                  </a:lnTo>
                  <a:lnTo>
                    <a:pt x="1379" y="14"/>
                  </a:lnTo>
                  <a:lnTo>
                    <a:pt x="1408" y="9"/>
                  </a:lnTo>
                  <a:lnTo>
                    <a:pt x="1436" y="9"/>
                  </a:lnTo>
                  <a:lnTo>
                    <a:pt x="1465" y="5"/>
                  </a:lnTo>
                  <a:lnTo>
                    <a:pt x="1489" y="5"/>
                  </a:lnTo>
                  <a:lnTo>
                    <a:pt x="1508" y="0"/>
                  </a:lnTo>
                  <a:lnTo>
                    <a:pt x="1527" y="0"/>
                  </a:lnTo>
                  <a:lnTo>
                    <a:pt x="1542" y="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4841640" y="3511440"/>
              <a:ext cx="191160" cy="1233720"/>
            </a:xfrm>
            <a:custGeom>
              <a:avLst/>
              <a:gdLst/>
              <a:ahLst/>
              <a:rect l="l" t="t" r="r" b="b"/>
              <a:pathLst>
                <a:path w="158" h="1020">
                  <a:moveTo>
                    <a:pt x="19" y="76"/>
                  </a:moveTo>
                  <a:lnTo>
                    <a:pt x="9" y="5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4"/>
                  </a:lnTo>
                  <a:lnTo>
                    <a:pt x="100" y="9"/>
                  </a:lnTo>
                  <a:lnTo>
                    <a:pt x="124" y="19"/>
                  </a:lnTo>
                  <a:lnTo>
                    <a:pt x="139" y="33"/>
                  </a:lnTo>
                  <a:lnTo>
                    <a:pt x="148" y="38"/>
                  </a:lnTo>
                  <a:lnTo>
                    <a:pt x="153" y="48"/>
                  </a:lnTo>
                  <a:lnTo>
                    <a:pt x="158" y="57"/>
                  </a:lnTo>
                  <a:lnTo>
                    <a:pt x="158" y="67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91"/>
                  </a:lnTo>
                  <a:lnTo>
                    <a:pt x="153" y="100"/>
                  </a:lnTo>
                  <a:lnTo>
                    <a:pt x="153" y="115"/>
                  </a:lnTo>
                  <a:lnTo>
                    <a:pt x="153" y="129"/>
                  </a:lnTo>
                  <a:lnTo>
                    <a:pt x="148" y="148"/>
                  </a:lnTo>
                  <a:lnTo>
                    <a:pt x="148" y="172"/>
                  </a:lnTo>
                  <a:lnTo>
                    <a:pt x="148" y="191"/>
                  </a:lnTo>
                  <a:lnTo>
                    <a:pt x="143" y="220"/>
                  </a:lnTo>
                  <a:lnTo>
                    <a:pt x="143" y="249"/>
                  </a:lnTo>
                  <a:lnTo>
                    <a:pt x="143" y="282"/>
                  </a:lnTo>
                  <a:lnTo>
                    <a:pt x="143" y="316"/>
                  </a:lnTo>
                  <a:lnTo>
                    <a:pt x="143" y="354"/>
                  </a:lnTo>
                  <a:lnTo>
                    <a:pt x="139" y="392"/>
                  </a:lnTo>
                  <a:lnTo>
                    <a:pt x="139" y="436"/>
                  </a:lnTo>
                  <a:lnTo>
                    <a:pt x="139" y="483"/>
                  </a:lnTo>
                  <a:lnTo>
                    <a:pt x="139" y="531"/>
                  </a:lnTo>
                  <a:lnTo>
                    <a:pt x="139" y="579"/>
                  </a:lnTo>
                  <a:lnTo>
                    <a:pt x="139" y="627"/>
                  </a:lnTo>
                  <a:lnTo>
                    <a:pt x="139" y="670"/>
                  </a:lnTo>
                  <a:lnTo>
                    <a:pt x="139" y="709"/>
                  </a:lnTo>
                  <a:lnTo>
                    <a:pt x="139" y="747"/>
                  </a:lnTo>
                  <a:lnTo>
                    <a:pt x="139" y="780"/>
                  </a:lnTo>
                  <a:lnTo>
                    <a:pt x="134" y="814"/>
                  </a:lnTo>
                  <a:lnTo>
                    <a:pt x="134" y="843"/>
                  </a:lnTo>
                  <a:lnTo>
                    <a:pt x="134" y="867"/>
                  </a:lnTo>
                  <a:lnTo>
                    <a:pt x="134" y="891"/>
                  </a:lnTo>
                  <a:lnTo>
                    <a:pt x="129" y="914"/>
                  </a:lnTo>
                  <a:lnTo>
                    <a:pt x="129" y="934"/>
                  </a:lnTo>
                  <a:lnTo>
                    <a:pt x="129" y="948"/>
                  </a:lnTo>
                  <a:lnTo>
                    <a:pt x="124" y="962"/>
                  </a:lnTo>
                  <a:lnTo>
                    <a:pt x="124" y="972"/>
                  </a:lnTo>
                  <a:lnTo>
                    <a:pt x="124" y="977"/>
                  </a:lnTo>
                  <a:lnTo>
                    <a:pt x="110" y="996"/>
                  </a:lnTo>
                  <a:lnTo>
                    <a:pt x="100" y="1010"/>
                  </a:lnTo>
                  <a:lnTo>
                    <a:pt x="91" y="1015"/>
                  </a:lnTo>
                  <a:lnTo>
                    <a:pt x="86" y="1020"/>
                  </a:lnTo>
                  <a:lnTo>
                    <a:pt x="81" y="1020"/>
                  </a:lnTo>
                  <a:lnTo>
                    <a:pt x="76" y="1020"/>
                  </a:lnTo>
                  <a:lnTo>
                    <a:pt x="72" y="1015"/>
                  </a:lnTo>
                  <a:lnTo>
                    <a:pt x="67" y="1010"/>
                  </a:lnTo>
                  <a:lnTo>
                    <a:pt x="62" y="1001"/>
                  </a:lnTo>
                  <a:lnTo>
                    <a:pt x="57" y="991"/>
                  </a:lnTo>
                  <a:lnTo>
                    <a:pt x="48" y="977"/>
                  </a:lnTo>
                  <a:lnTo>
                    <a:pt x="43" y="958"/>
                  </a:lnTo>
                  <a:lnTo>
                    <a:pt x="38" y="938"/>
                  </a:lnTo>
                  <a:lnTo>
                    <a:pt x="28" y="914"/>
                  </a:lnTo>
                  <a:lnTo>
                    <a:pt x="24" y="895"/>
                  </a:lnTo>
                  <a:lnTo>
                    <a:pt x="19" y="876"/>
                  </a:lnTo>
                  <a:lnTo>
                    <a:pt x="14" y="857"/>
                  </a:lnTo>
                  <a:lnTo>
                    <a:pt x="14" y="838"/>
                  </a:lnTo>
                  <a:lnTo>
                    <a:pt x="14" y="819"/>
                  </a:lnTo>
                  <a:lnTo>
                    <a:pt x="14" y="800"/>
                  </a:lnTo>
                  <a:lnTo>
                    <a:pt x="19" y="780"/>
                  </a:lnTo>
                  <a:lnTo>
                    <a:pt x="24" y="761"/>
                  </a:lnTo>
                  <a:lnTo>
                    <a:pt x="28" y="742"/>
                  </a:lnTo>
                  <a:lnTo>
                    <a:pt x="33" y="723"/>
                  </a:lnTo>
                  <a:lnTo>
                    <a:pt x="38" y="699"/>
                  </a:lnTo>
                  <a:lnTo>
                    <a:pt x="43" y="670"/>
                  </a:lnTo>
                  <a:lnTo>
                    <a:pt x="48" y="637"/>
                  </a:lnTo>
                  <a:lnTo>
                    <a:pt x="48" y="603"/>
                  </a:lnTo>
                  <a:lnTo>
                    <a:pt x="52" y="565"/>
                  </a:lnTo>
                  <a:lnTo>
                    <a:pt x="57" y="488"/>
                  </a:lnTo>
                  <a:lnTo>
                    <a:pt x="62" y="416"/>
                  </a:lnTo>
                  <a:lnTo>
                    <a:pt x="62" y="335"/>
                  </a:lnTo>
                  <a:lnTo>
                    <a:pt x="62" y="258"/>
                  </a:lnTo>
                  <a:lnTo>
                    <a:pt x="57" y="220"/>
                  </a:lnTo>
                  <a:lnTo>
                    <a:pt x="57" y="191"/>
                  </a:lnTo>
                  <a:lnTo>
                    <a:pt x="52" y="163"/>
                  </a:lnTo>
                  <a:lnTo>
                    <a:pt x="48" y="139"/>
                  </a:lnTo>
                  <a:lnTo>
                    <a:pt x="43" y="119"/>
                  </a:lnTo>
                  <a:lnTo>
                    <a:pt x="33" y="100"/>
                  </a:lnTo>
                  <a:lnTo>
                    <a:pt x="28" y="86"/>
                  </a:lnTo>
                  <a:lnTo>
                    <a:pt x="19" y="76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966120" y="3754440"/>
              <a:ext cx="990360" cy="793440"/>
            </a:xfrm>
            <a:custGeom>
              <a:avLst/>
              <a:gdLst/>
              <a:ahLst/>
              <a:rect l="l" t="t" r="r" b="b"/>
              <a:pathLst>
                <a:path w="819" h="656">
                  <a:moveTo>
                    <a:pt x="374" y="469"/>
                  </a:moveTo>
                  <a:lnTo>
                    <a:pt x="312" y="508"/>
                  </a:lnTo>
                  <a:lnTo>
                    <a:pt x="250" y="541"/>
                  </a:lnTo>
                  <a:lnTo>
                    <a:pt x="192" y="575"/>
                  </a:lnTo>
                  <a:lnTo>
                    <a:pt x="130" y="613"/>
                  </a:lnTo>
                  <a:lnTo>
                    <a:pt x="101" y="627"/>
                  </a:lnTo>
                  <a:lnTo>
                    <a:pt x="77" y="637"/>
                  </a:lnTo>
                  <a:lnTo>
                    <a:pt x="58" y="646"/>
                  </a:lnTo>
                  <a:lnTo>
                    <a:pt x="39" y="651"/>
                  </a:lnTo>
                  <a:lnTo>
                    <a:pt x="24" y="656"/>
                  </a:lnTo>
                  <a:lnTo>
                    <a:pt x="15" y="656"/>
                  </a:lnTo>
                  <a:lnTo>
                    <a:pt x="5" y="656"/>
                  </a:lnTo>
                  <a:lnTo>
                    <a:pt x="0" y="656"/>
                  </a:lnTo>
                  <a:lnTo>
                    <a:pt x="0" y="651"/>
                  </a:lnTo>
                  <a:lnTo>
                    <a:pt x="0" y="642"/>
                  </a:lnTo>
                  <a:lnTo>
                    <a:pt x="5" y="637"/>
                  </a:lnTo>
                  <a:lnTo>
                    <a:pt x="15" y="627"/>
                  </a:lnTo>
                  <a:lnTo>
                    <a:pt x="29" y="613"/>
                  </a:lnTo>
                  <a:lnTo>
                    <a:pt x="48" y="599"/>
                  </a:lnTo>
                  <a:lnTo>
                    <a:pt x="68" y="584"/>
                  </a:lnTo>
                  <a:lnTo>
                    <a:pt x="96" y="570"/>
                  </a:lnTo>
                  <a:lnTo>
                    <a:pt x="149" y="536"/>
                  </a:lnTo>
                  <a:lnTo>
                    <a:pt x="197" y="503"/>
                  </a:lnTo>
                  <a:lnTo>
                    <a:pt x="250" y="464"/>
                  </a:lnTo>
                  <a:lnTo>
                    <a:pt x="293" y="421"/>
                  </a:lnTo>
                  <a:lnTo>
                    <a:pt x="307" y="412"/>
                  </a:lnTo>
                  <a:lnTo>
                    <a:pt x="321" y="397"/>
                  </a:lnTo>
                  <a:lnTo>
                    <a:pt x="336" y="383"/>
                  </a:lnTo>
                  <a:lnTo>
                    <a:pt x="355" y="369"/>
                  </a:lnTo>
                  <a:lnTo>
                    <a:pt x="374" y="349"/>
                  </a:lnTo>
                  <a:lnTo>
                    <a:pt x="393" y="326"/>
                  </a:lnTo>
                  <a:lnTo>
                    <a:pt x="412" y="306"/>
                  </a:lnTo>
                  <a:lnTo>
                    <a:pt x="436" y="278"/>
                  </a:lnTo>
                  <a:lnTo>
                    <a:pt x="465" y="254"/>
                  </a:lnTo>
                  <a:lnTo>
                    <a:pt x="494" y="220"/>
                  </a:lnTo>
                  <a:lnTo>
                    <a:pt x="523" y="191"/>
                  </a:lnTo>
                  <a:lnTo>
                    <a:pt x="551" y="158"/>
                  </a:lnTo>
                  <a:lnTo>
                    <a:pt x="585" y="120"/>
                  </a:lnTo>
                  <a:lnTo>
                    <a:pt x="618" y="81"/>
                  </a:lnTo>
                  <a:lnTo>
                    <a:pt x="652" y="43"/>
                  </a:lnTo>
                  <a:lnTo>
                    <a:pt x="690" y="0"/>
                  </a:lnTo>
                  <a:lnTo>
                    <a:pt x="757" y="14"/>
                  </a:lnTo>
                  <a:lnTo>
                    <a:pt x="819" y="33"/>
                  </a:lnTo>
                  <a:lnTo>
                    <a:pt x="781" y="76"/>
                  </a:lnTo>
                  <a:lnTo>
                    <a:pt x="743" y="120"/>
                  </a:lnTo>
                  <a:lnTo>
                    <a:pt x="705" y="158"/>
                  </a:lnTo>
                  <a:lnTo>
                    <a:pt x="671" y="196"/>
                  </a:lnTo>
                  <a:lnTo>
                    <a:pt x="637" y="230"/>
                  </a:lnTo>
                  <a:lnTo>
                    <a:pt x="604" y="263"/>
                  </a:lnTo>
                  <a:lnTo>
                    <a:pt x="575" y="292"/>
                  </a:lnTo>
                  <a:lnTo>
                    <a:pt x="546" y="321"/>
                  </a:lnTo>
                  <a:lnTo>
                    <a:pt x="518" y="345"/>
                  </a:lnTo>
                  <a:lnTo>
                    <a:pt x="494" y="369"/>
                  </a:lnTo>
                  <a:lnTo>
                    <a:pt x="465" y="393"/>
                  </a:lnTo>
                  <a:lnTo>
                    <a:pt x="446" y="412"/>
                  </a:lnTo>
                  <a:lnTo>
                    <a:pt x="422" y="431"/>
                  </a:lnTo>
                  <a:lnTo>
                    <a:pt x="403" y="445"/>
                  </a:lnTo>
                  <a:lnTo>
                    <a:pt x="388" y="460"/>
                  </a:lnTo>
                  <a:lnTo>
                    <a:pt x="374" y="46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"/>
            <p:cNvSpPr/>
            <p:nvPr/>
          </p:nvSpPr>
          <p:spPr>
            <a:xfrm>
              <a:off x="4939560" y="3742560"/>
              <a:ext cx="1268640" cy="759600"/>
            </a:xfrm>
            <a:custGeom>
              <a:avLst/>
              <a:gdLst/>
              <a:ahLst/>
              <a:rect l="l" t="t" r="r" b="b"/>
              <a:pathLst>
                <a:path w="1049" h="628">
                  <a:moveTo>
                    <a:pt x="24" y="0"/>
                  </a:moveTo>
                  <a:lnTo>
                    <a:pt x="53" y="29"/>
                  </a:lnTo>
                  <a:lnTo>
                    <a:pt x="86" y="58"/>
                  </a:lnTo>
                  <a:lnTo>
                    <a:pt x="125" y="86"/>
                  </a:lnTo>
                  <a:lnTo>
                    <a:pt x="158" y="115"/>
                  </a:lnTo>
                  <a:lnTo>
                    <a:pt x="201" y="144"/>
                  </a:lnTo>
                  <a:lnTo>
                    <a:pt x="244" y="173"/>
                  </a:lnTo>
                  <a:lnTo>
                    <a:pt x="288" y="201"/>
                  </a:lnTo>
                  <a:lnTo>
                    <a:pt x="335" y="230"/>
                  </a:lnTo>
                  <a:lnTo>
                    <a:pt x="383" y="268"/>
                  </a:lnTo>
                  <a:lnTo>
                    <a:pt x="431" y="297"/>
                  </a:lnTo>
                  <a:lnTo>
                    <a:pt x="484" y="326"/>
                  </a:lnTo>
                  <a:lnTo>
                    <a:pt x="537" y="355"/>
                  </a:lnTo>
                  <a:lnTo>
                    <a:pt x="594" y="383"/>
                  </a:lnTo>
                  <a:lnTo>
                    <a:pt x="656" y="407"/>
                  </a:lnTo>
                  <a:lnTo>
                    <a:pt x="719" y="431"/>
                  </a:lnTo>
                  <a:lnTo>
                    <a:pt x="786" y="455"/>
                  </a:lnTo>
                  <a:lnTo>
                    <a:pt x="814" y="470"/>
                  </a:lnTo>
                  <a:lnTo>
                    <a:pt x="848" y="479"/>
                  </a:lnTo>
                  <a:lnTo>
                    <a:pt x="877" y="489"/>
                  </a:lnTo>
                  <a:lnTo>
                    <a:pt x="901" y="498"/>
                  </a:lnTo>
                  <a:lnTo>
                    <a:pt x="925" y="508"/>
                  </a:lnTo>
                  <a:lnTo>
                    <a:pt x="948" y="518"/>
                  </a:lnTo>
                  <a:lnTo>
                    <a:pt x="968" y="527"/>
                  </a:lnTo>
                  <a:lnTo>
                    <a:pt x="987" y="532"/>
                  </a:lnTo>
                  <a:lnTo>
                    <a:pt x="1001" y="537"/>
                  </a:lnTo>
                  <a:lnTo>
                    <a:pt x="1016" y="546"/>
                  </a:lnTo>
                  <a:lnTo>
                    <a:pt x="1025" y="551"/>
                  </a:lnTo>
                  <a:lnTo>
                    <a:pt x="1035" y="551"/>
                  </a:lnTo>
                  <a:lnTo>
                    <a:pt x="1044" y="556"/>
                  </a:lnTo>
                  <a:lnTo>
                    <a:pt x="1049" y="561"/>
                  </a:lnTo>
                  <a:lnTo>
                    <a:pt x="1049" y="565"/>
                  </a:lnTo>
                  <a:lnTo>
                    <a:pt x="1044" y="570"/>
                  </a:lnTo>
                  <a:lnTo>
                    <a:pt x="1039" y="570"/>
                  </a:lnTo>
                  <a:lnTo>
                    <a:pt x="1035" y="575"/>
                  </a:lnTo>
                  <a:lnTo>
                    <a:pt x="1030" y="575"/>
                  </a:lnTo>
                  <a:lnTo>
                    <a:pt x="1020" y="580"/>
                  </a:lnTo>
                  <a:lnTo>
                    <a:pt x="1011" y="580"/>
                  </a:lnTo>
                  <a:lnTo>
                    <a:pt x="1001" y="585"/>
                  </a:lnTo>
                  <a:lnTo>
                    <a:pt x="992" y="589"/>
                  </a:lnTo>
                  <a:lnTo>
                    <a:pt x="977" y="589"/>
                  </a:lnTo>
                  <a:lnTo>
                    <a:pt x="963" y="594"/>
                  </a:lnTo>
                  <a:lnTo>
                    <a:pt x="948" y="594"/>
                  </a:lnTo>
                  <a:lnTo>
                    <a:pt x="934" y="599"/>
                  </a:lnTo>
                  <a:lnTo>
                    <a:pt x="915" y="604"/>
                  </a:lnTo>
                  <a:lnTo>
                    <a:pt x="896" y="604"/>
                  </a:lnTo>
                  <a:lnTo>
                    <a:pt x="857" y="613"/>
                  </a:lnTo>
                  <a:lnTo>
                    <a:pt x="819" y="618"/>
                  </a:lnTo>
                  <a:lnTo>
                    <a:pt x="786" y="623"/>
                  </a:lnTo>
                  <a:lnTo>
                    <a:pt x="752" y="623"/>
                  </a:lnTo>
                  <a:lnTo>
                    <a:pt x="723" y="623"/>
                  </a:lnTo>
                  <a:lnTo>
                    <a:pt x="699" y="628"/>
                  </a:lnTo>
                  <a:lnTo>
                    <a:pt x="675" y="623"/>
                  </a:lnTo>
                  <a:lnTo>
                    <a:pt x="656" y="623"/>
                  </a:lnTo>
                  <a:lnTo>
                    <a:pt x="632" y="618"/>
                  </a:lnTo>
                  <a:lnTo>
                    <a:pt x="604" y="609"/>
                  </a:lnTo>
                  <a:lnTo>
                    <a:pt x="580" y="594"/>
                  </a:lnTo>
                  <a:lnTo>
                    <a:pt x="551" y="575"/>
                  </a:lnTo>
                  <a:lnTo>
                    <a:pt x="522" y="551"/>
                  </a:lnTo>
                  <a:lnTo>
                    <a:pt x="489" y="522"/>
                  </a:lnTo>
                  <a:lnTo>
                    <a:pt x="474" y="503"/>
                  </a:lnTo>
                  <a:lnTo>
                    <a:pt x="455" y="489"/>
                  </a:lnTo>
                  <a:lnTo>
                    <a:pt x="441" y="470"/>
                  </a:lnTo>
                  <a:lnTo>
                    <a:pt x="422" y="450"/>
                  </a:lnTo>
                  <a:lnTo>
                    <a:pt x="383" y="412"/>
                  </a:lnTo>
                  <a:lnTo>
                    <a:pt x="350" y="379"/>
                  </a:lnTo>
                  <a:lnTo>
                    <a:pt x="321" y="350"/>
                  </a:lnTo>
                  <a:lnTo>
                    <a:pt x="292" y="326"/>
                  </a:lnTo>
                  <a:lnTo>
                    <a:pt x="264" y="302"/>
                  </a:lnTo>
                  <a:lnTo>
                    <a:pt x="244" y="278"/>
                  </a:lnTo>
                  <a:lnTo>
                    <a:pt x="225" y="264"/>
                  </a:lnTo>
                  <a:lnTo>
                    <a:pt x="206" y="249"/>
                  </a:lnTo>
                  <a:lnTo>
                    <a:pt x="187" y="235"/>
                  </a:lnTo>
                  <a:lnTo>
                    <a:pt x="168" y="216"/>
                  </a:lnTo>
                  <a:lnTo>
                    <a:pt x="144" y="197"/>
                  </a:lnTo>
                  <a:lnTo>
                    <a:pt x="120" y="173"/>
                  </a:lnTo>
                  <a:lnTo>
                    <a:pt x="96" y="149"/>
                  </a:lnTo>
                  <a:lnTo>
                    <a:pt x="62" y="120"/>
                  </a:lnTo>
                  <a:lnTo>
                    <a:pt x="34" y="86"/>
                  </a:lnTo>
                  <a:lnTo>
                    <a:pt x="0" y="48"/>
                  </a:lnTo>
                  <a:lnTo>
                    <a:pt x="24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"/>
            <p:cNvSpPr/>
            <p:nvPr/>
          </p:nvSpPr>
          <p:spPr>
            <a:xfrm>
              <a:off x="4528440" y="2606760"/>
              <a:ext cx="701280" cy="956880"/>
            </a:xfrm>
            <a:custGeom>
              <a:avLst/>
              <a:gdLst/>
              <a:ahLst/>
              <a:rect l="l" t="t" r="r" b="b"/>
              <a:pathLst>
                <a:path w="580" h="791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5" y="772"/>
                  </a:lnTo>
                  <a:lnTo>
                    <a:pt x="14" y="762"/>
                  </a:lnTo>
                  <a:lnTo>
                    <a:pt x="29" y="748"/>
                  </a:lnTo>
                  <a:lnTo>
                    <a:pt x="43" y="733"/>
                  </a:lnTo>
                  <a:lnTo>
                    <a:pt x="58" y="719"/>
                  </a:lnTo>
                  <a:lnTo>
                    <a:pt x="81" y="700"/>
                  </a:lnTo>
                  <a:lnTo>
                    <a:pt x="101" y="681"/>
                  </a:lnTo>
                  <a:lnTo>
                    <a:pt x="125" y="661"/>
                  </a:lnTo>
                  <a:lnTo>
                    <a:pt x="149" y="637"/>
                  </a:lnTo>
                  <a:lnTo>
                    <a:pt x="172" y="614"/>
                  </a:lnTo>
                  <a:lnTo>
                    <a:pt x="196" y="585"/>
                  </a:lnTo>
                  <a:lnTo>
                    <a:pt x="220" y="556"/>
                  </a:lnTo>
                  <a:lnTo>
                    <a:pt x="244" y="523"/>
                  </a:lnTo>
                  <a:lnTo>
                    <a:pt x="268" y="489"/>
                  </a:lnTo>
                  <a:lnTo>
                    <a:pt x="292" y="455"/>
                  </a:lnTo>
                  <a:lnTo>
                    <a:pt x="316" y="422"/>
                  </a:lnTo>
                  <a:lnTo>
                    <a:pt x="340" y="393"/>
                  </a:lnTo>
                  <a:lnTo>
                    <a:pt x="359" y="360"/>
                  </a:lnTo>
                  <a:lnTo>
                    <a:pt x="378" y="326"/>
                  </a:lnTo>
                  <a:lnTo>
                    <a:pt x="393" y="293"/>
                  </a:lnTo>
                  <a:lnTo>
                    <a:pt x="407" y="259"/>
                  </a:lnTo>
                  <a:lnTo>
                    <a:pt x="417" y="226"/>
                  </a:lnTo>
                  <a:lnTo>
                    <a:pt x="426" y="192"/>
                  </a:lnTo>
                  <a:lnTo>
                    <a:pt x="431" y="159"/>
                  </a:lnTo>
                  <a:lnTo>
                    <a:pt x="436" y="130"/>
                  </a:lnTo>
                  <a:lnTo>
                    <a:pt x="441" y="101"/>
                  </a:lnTo>
                  <a:lnTo>
                    <a:pt x="446" y="72"/>
                  </a:lnTo>
                  <a:lnTo>
                    <a:pt x="446" y="48"/>
                  </a:lnTo>
                  <a:lnTo>
                    <a:pt x="446" y="24"/>
                  </a:lnTo>
                  <a:lnTo>
                    <a:pt x="441" y="0"/>
                  </a:lnTo>
                  <a:lnTo>
                    <a:pt x="474" y="20"/>
                  </a:lnTo>
                  <a:lnTo>
                    <a:pt x="503" y="34"/>
                  </a:lnTo>
                  <a:lnTo>
                    <a:pt x="527" y="44"/>
                  </a:lnTo>
                  <a:lnTo>
                    <a:pt x="546" y="58"/>
                  </a:lnTo>
                  <a:lnTo>
                    <a:pt x="560" y="72"/>
                  </a:lnTo>
                  <a:lnTo>
                    <a:pt x="570" y="82"/>
                  </a:lnTo>
                  <a:lnTo>
                    <a:pt x="580" y="91"/>
                  </a:lnTo>
                  <a:lnTo>
                    <a:pt x="580" y="101"/>
                  </a:lnTo>
                  <a:lnTo>
                    <a:pt x="580" y="111"/>
                  </a:lnTo>
                  <a:lnTo>
                    <a:pt x="575" y="125"/>
                  </a:lnTo>
                  <a:lnTo>
                    <a:pt x="575" y="139"/>
                  </a:lnTo>
                  <a:lnTo>
                    <a:pt x="565" y="159"/>
                  </a:lnTo>
                  <a:lnTo>
                    <a:pt x="560" y="182"/>
                  </a:lnTo>
                  <a:lnTo>
                    <a:pt x="551" y="206"/>
                  </a:lnTo>
                  <a:lnTo>
                    <a:pt x="541" y="235"/>
                  </a:lnTo>
                  <a:lnTo>
                    <a:pt x="527" y="269"/>
                  </a:lnTo>
                  <a:lnTo>
                    <a:pt x="513" y="302"/>
                  </a:lnTo>
                  <a:lnTo>
                    <a:pt x="493" y="336"/>
                  </a:lnTo>
                  <a:lnTo>
                    <a:pt x="474" y="369"/>
                  </a:lnTo>
                  <a:lnTo>
                    <a:pt x="455" y="403"/>
                  </a:lnTo>
                  <a:lnTo>
                    <a:pt x="431" y="436"/>
                  </a:lnTo>
                  <a:lnTo>
                    <a:pt x="407" y="470"/>
                  </a:lnTo>
                  <a:lnTo>
                    <a:pt x="383" y="503"/>
                  </a:lnTo>
                  <a:lnTo>
                    <a:pt x="354" y="532"/>
                  </a:lnTo>
                  <a:lnTo>
                    <a:pt x="326" y="566"/>
                  </a:lnTo>
                  <a:lnTo>
                    <a:pt x="297" y="594"/>
                  </a:lnTo>
                  <a:lnTo>
                    <a:pt x="273" y="618"/>
                  </a:lnTo>
                  <a:lnTo>
                    <a:pt x="244" y="647"/>
                  </a:lnTo>
                  <a:lnTo>
                    <a:pt x="216" y="671"/>
                  </a:lnTo>
                  <a:lnTo>
                    <a:pt x="187" y="690"/>
                  </a:lnTo>
                  <a:lnTo>
                    <a:pt x="158" y="714"/>
                  </a:lnTo>
                  <a:lnTo>
                    <a:pt x="129" y="733"/>
                  </a:lnTo>
                  <a:lnTo>
                    <a:pt x="105" y="748"/>
                  </a:lnTo>
                  <a:lnTo>
                    <a:pt x="81" y="762"/>
                  </a:lnTo>
                  <a:lnTo>
                    <a:pt x="58" y="776"/>
                  </a:lnTo>
                  <a:lnTo>
                    <a:pt x="43" y="781"/>
                  </a:lnTo>
                  <a:lnTo>
                    <a:pt x="24" y="791"/>
                  </a:lnTo>
                  <a:lnTo>
                    <a:pt x="14" y="791"/>
                  </a:lnTo>
                  <a:lnTo>
                    <a:pt x="5" y="791"/>
                  </a:lnTo>
                  <a:lnTo>
                    <a:pt x="0" y="791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6"/>
            <p:cNvSpPr/>
            <p:nvPr/>
          </p:nvSpPr>
          <p:spPr>
            <a:xfrm>
              <a:off x="4227480" y="2450520"/>
              <a:ext cx="307080" cy="23184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86" y="115"/>
                  </a:moveTo>
                  <a:lnTo>
                    <a:pt x="67" y="96"/>
                  </a:lnTo>
                  <a:lnTo>
                    <a:pt x="48" y="77"/>
                  </a:lnTo>
                  <a:lnTo>
                    <a:pt x="34" y="62"/>
                  </a:lnTo>
                  <a:lnTo>
                    <a:pt x="19" y="48"/>
                  </a:lnTo>
                  <a:lnTo>
                    <a:pt x="14" y="3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" y="0"/>
                  </a:lnTo>
                  <a:lnTo>
                    <a:pt x="72" y="5"/>
                  </a:lnTo>
                  <a:lnTo>
                    <a:pt x="110" y="10"/>
                  </a:lnTo>
                  <a:lnTo>
                    <a:pt x="148" y="15"/>
                  </a:lnTo>
                  <a:lnTo>
                    <a:pt x="177" y="24"/>
                  </a:lnTo>
                  <a:lnTo>
                    <a:pt x="192" y="29"/>
                  </a:lnTo>
                  <a:lnTo>
                    <a:pt x="206" y="34"/>
                  </a:lnTo>
                  <a:lnTo>
                    <a:pt x="216" y="38"/>
                  </a:lnTo>
                  <a:lnTo>
                    <a:pt x="225" y="48"/>
                  </a:lnTo>
                  <a:lnTo>
                    <a:pt x="235" y="58"/>
                  </a:lnTo>
                  <a:lnTo>
                    <a:pt x="244" y="62"/>
                  </a:lnTo>
                  <a:lnTo>
                    <a:pt x="249" y="77"/>
                  </a:lnTo>
                  <a:lnTo>
                    <a:pt x="254" y="86"/>
                  </a:lnTo>
                  <a:lnTo>
                    <a:pt x="254" y="96"/>
                  </a:lnTo>
                  <a:lnTo>
                    <a:pt x="254" y="106"/>
                  </a:lnTo>
                  <a:lnTo>
                    <a:pt x="254" y="129"/>
                  </a:lnTo>
                  <a:lnTo>
                    <a:pt x="249" y="149"/>
                  </a:lnTo>
                  <a:lnTo>
                    <a:pt x="244" y="158"/>
                  </a:lnTo>
                  <a:lnTo>
                    <a:pt x="239" y="168"/>
                  </a:lnTo>
                  <a:lnTo>
                    <a:pt x="230" y="177"/>
                  </a:lnTo>
                  <a:lnTo>
                    <a:pt x="225" y="182"/>
                  </a:lnTo>
                  <a:lnTo>
                    <a:pt x="220" y="187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87"/>
                  </a:lnTo>
                  <a:lnTo>
                    <a:pt x="192" y="187"/>
                  </a:lnTo>
                  <a:lnTo>
                    <a:pt x="182" y="187"/>
                  </a:lnTo>
                  <a:lnTo>
                    <a:pt x="172" y="177"/>
                  </a:lnTo>
                  <a:lnTo>
                    <a:pt x="158" y="173"/>
                  </a:lnTo>
                  <a:lnTo>
                    <a:pt x="144" y="158"/>
                  </a:lnTo>
                  <a:lnTo>
                    <a:pt x="129" y="149"/>
                  </a:lnTo>
                  <a:lnTo>
                    <a:pt x="110" y="134"/>
                  </a:lnTo>
                  <a:lnTo>
                    <a:pt x="86" y="115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7"/>
            <p:cNvSpPr/>
            <p:nvPr/>
          </p:nvSpPr>
          <p:spPr>
            <a:xfrm>
              <a:off x="4094280" y="2781000"/>
              <a:ext cx="271800" cy="219960"/>
            </a:xfrm>
            <a:custGeom>
              <a:avLst/>
              <a:gdLst/>
              <a:ahLst/>
              <a:rect l="l" t="t" r="r" b="b"/>
              <a:pathLst>
                <a:path w="225" h="182">
                  <a:moveTo>
                    <a:pt x="144" y="24"/>
                  </a:moveTo>
                  <a:lnTo>
                    <a:pt x="163" y="29"/>
                  </a:lnTo>
                  <a:lnTo>
                    <a:pt x="172" y="38"/>
                  </a:lnTo>
                  <a:lnTo>
                    <a:pt x="187" y="48"/>
                  </a:lnTo>
                  <a:lnTo>
                    <a:pt x="196" y="53"/>
                  </a:lnTo>
                  <a:lnTo>
                    <a:pt x="206" y="62"/>
                  </a:lnTo>
                  <a:lnTo>
                    <a:pt x="215" y="72"/>
                  </a:lnTo>
                  <a:lnTo>
                    <a:pt x="220" y="82"/>
                  </a:lnTo>
                  <a:lnTo>
                    <a:pt x="225" y="91"/>
                  </a:lnTo>
                  <a:lnTo>
                    <a:pt x="225" y="101"/>
                  </a:lnTo>
                  <a:lnTo>
                    <a:pt x="225" y="115"/>
                  </a:lnTo>
                  <a:lnTo>
                    <a:pt x="225" y="134"/>
                  </a:lnTo>
                  <a:lnTo>
                    <a:pt x="225" y="139"/>
                  </a:lnTo>
                  <a:lnTo>
                    <a:pt x="220" y="149"/>
                  </a:lnTo>
                  <a:lnTo>
                    <a:pt x="215" y="153"/>
                  </a:lnTo>
                  <a:lnTo>
                    <a:pt x="215" y="158"/>
                  </a:lnTo>
                  <a:lnTo>
                    <a:pt x="201" y="168"/>
                  </a:lnTo>
                  <a:lnTo>
                    <a:pt x="191" y="177"/>
                  </a:lnTo>
                  <a:lnTo>
                    <a:pt x="177" y="182"/>
                  </a:lnTo>
                  <a:lnTo>
                    <a:pt x="172" y="182"/>
                  </a:lnTo>
                  <a:lnTo>
                    <a:pt x="167" y="182"/>
                  </a:lnTo>
                  <a:lnTo>
                    <a:pt x="158" y="177"/>
                  </a:lnTo>
                  <a:lnTo>
                    <a:pt x="148" y="173"/>
                  </a:lnTo>
                  <a:lnTo>
                    <a:pt x="139" y="163"/>
                  </a:lnTo>
                  <a:lnTo>
                    <a:pt x="124" y="153"/>
                  </a:lnTo>
                  <a:lnTo>
                    <a:pt x="110" y="144"/>
                  </a:lnTo>
                  <a:lnTo>
                    <a:pt x="96" y="129"/>
                  </a:lnTo>
                  <a:lnTo>
                    <a:pt x="76" y="115"/>
                  </a:lnTo>
                  <a:lnTo>
                    <a:pt x="57" y="101"/>
                  </a:lnTo>
                  <a:lnTo>
                    <a:pt x="43" y="86"/>
                  </a:lnTo>
                  <a:lnTo>
                    <a:pt x="29" y="67"/>
                  </a:lnTo>
                  <a:lnTo>
                    <a:pt x="19" y="53"/>
                  </a:lnTo>
                  <a:lnTo>
                    <a:pt x="9" y="38"/>
                  </a:lnTo>
                  <a:lnTo>
                    <a:pt x="5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81" y="5"/>
                  </a:lnTo>
                  <a:lnTo>
                    <a:pt x="100" y="10"/>
                  </a:lnTo>
                  <a:lnTo>
                    <a:pt x="115" y="15"/>
                  </a:lnTo>
                  <a:lnTo>
                    <a:pt x="129" y="19"/>
                  </a:lnTo>
                  <a:lnTo>
                    <a:pt x="144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4667760" y="2787120"/>
              <a:ext cx="185040" cy="352800"/>
            </a:xfrm>
            <a:custGeom>
              <a:avLst/>
              <a:gdLst/>
              <a:ahLst/>
              <a:rect l="l" t="t" r="r" b="b"/>
              <a:pathLst>
                <a:path w="153" h="292">
                  <a:moveTo>
                    <a:pt x="110" y="0"/>
                  </a:moveTo>
                  <a:lnTo>
                    <a:pt x="129" y="24"/>
                  </a:lnTo>
                  <a:lnTo>
                    <a:pt x="134" y="33"/>
                  </a:lnTo>
                  <a:lnTo>
                    <a:pt x="144" y="43"/>
                  </a:lnTo>
                  <a:lnTo>
                    <a:pt x="148" y="57"/>
                  </a:lnTo>
                  <a:lnTo>
                    <a:pt x="153" y="67"/>
                  </a:lnTo>
                  <a:lnTo>
                    <a:pt x="153" y="81"/>
                  </a:lnTo>
                  <a:lnTo>
                    <a:pt x="153" y="96"/>
                  </a:lnTo>
                  <a:lnTo>
                    <a:pt x="153" y="105"/>
                  </a:lnTo>
                  <a:lnTo>
                    <a:pt x="153" y="120"/>
                  </a:lnTo>
                  <a:lnTo>
                    <a:pt x="148" y="134"/>
                  </a:lnTo>
                  <a:lnTo>
                    <a:pt x="144" y="148"/>
                  </a:lnTo>
                  <a:lnTo>
                    <a:pt x="129" y="182"/>
                  </a:lnTo>
                  <a:lnTo>
                    <a:pt x="110" y="220"/>
                  </a:lnTo>
                  <a:lnTo>
                    <a:pt x="101" y="235"/>
                  </a:lnTo>
                  <a:lnTo>
                    <a:pt x="91" y="249"/>
                  </a:lnTo>
                  <a:lnTo>
                    <a:pt x="81" y="263"/>
                  </a:lnTo>
                  <a:lnTo>
                    <a:pt x="77" y="273"/>
                  </a:lnTo>
                  <a:lnTo>
                    <a:pt x="67" y="283"/>
                  </a:lnTo>
                  <a:lnTo>
                    <a:pt x="62" y="287"/>
                  </a:lnTo>
                  <a:lnTo>
                    <a:pt x="53" y="292"/>
                  </a:lnTo>
                  <a:lnTo>
                    <a:pt x="43" y="292"/>
                  </a:lnTo>
                  <a:lnTo>
                    <a:pt x="38" y="287"/>
                  </a:lnTo>
                  <a:lnTo>
                    <a:pt x="34" y="287"/>
                  </a:lnTo>
                  <a:lnTo>
                    <a:pt x="29" y="283"/>
                  </a:lnTo>
                  <a:lnTo>
                    <a:pt x="24" y="268"/>
                  </a:lnTo>
                  <a:lnTo>
                    <a:pt x="14" y="249"/>
                  </a:lnTo>
                  <a:lnTo>
                    <a:pt x="10" y="235"/>
                  </a:lnTo>
                  <a:lnTo>
                    <a:pt x="5" y="215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10" y="172"/>
                  </a:lnTo>
                  <a:lnTo>
                    <a:pt x="19" y="168"/>
                  </a:lnTo>
                  <a:lnTo>
                    <a:pt x="24" y="158"/>
                  </a:lnTo>
                  <a:lnTo>
                    <a:pt x="34" y="153"/>
                  </a:lnTo>
                  <a:lnTo>
                    <a:pt x="38" y="144"/>
                  </a:lnTo>
                  <a:lnTo>
                    <a:pt x="48" y="134"/>
                  </a:lnTo>
                  <a:lnTo>
                    <a:pt x="57" y="120"/>
                  </a:lnTo>
                  <a:lnTo>
                    <a:pt x="67" y="101"/>
                  </a:lnTo>
                  <a:lnTo>
                    <a:pt x="77" y="81"/>
                  </a:lnTo>
                  <a:lnTo>
                    <a:pt x="86" y="57"/>
                  </a:lnTo>
                  <a:lnTo>
                    <a:pt x="101" y="33"/>
                  </a:lnTo>
                  <a:lnTo>
                    <a:pt x="110" y="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"/>
            <p:cNvSpPr/>
            <p:nvPr/>
          </p:nvSpPr>
          <p:spPr>
            <a:xfrm>
              <a:off x="4117320" y="2990160"/>
              <a:ext cx="469080" cy="583920"/>
            </a:xfrm>
            <a:custGeom>
              <a:avLst/>
              <a:gdLst/>
              <a:ahLst/>
              <a:rect l="l" t="t" r="r" b="b"/>
              <a:pathLst>
                <a:path w="388" h="483">
                  <a:moveTo>
                    <a:pt x="91" y="483"/>
                  </a:moveTo>
                  <a:lnTo>
                    <a:pt x="86" y="483"/>
                  </a:lnTo>
                  <a:lnTo>
                    <a:pt x="77" y="479"/>
                  </a:lnTo>
                  <a:lnTo>
                    <a:pt x="72" y="474"/>
                  </a:lnTo>
                  <a:lnTo>
                    <a:pt x="62" y="464"/>
                  </a:lnTo>
                  <a:lnTo>
                    <a:pt x="57" y="455"/>
                  </a:lnTo>
                  <a:lnTo>
                    <a:pt x="48" y="435"/>
                  </a:lnTo>
                  <a:lnTo>
                    <a:pt x="38" y="421"/>
                  </a:lnTo>
                  <a:lnTo>
                    <a:pt x="34" y="397"/>
                  </a:lnTo>
                  <a:lnTo>
                    <a:pt x="24" y="378"/>
                  </a:lnTo>
                  <a:lnTo>
                    <a:pt x="14" y="359"/>
                  </a:lnTo>
                  <a:lnTo>
                    <a:pt x="10" y="344"/>
                  </a:lnTo>
                  <a:lnTo>
                    <a:pt x="5" y="330"/>
                  </a:lnTo>
                  <a:lnTo>
                    <a:pt x="5" y="316"/>
                  </a:lnTo>
                  <a:lnTo>
                    <a:pt x="0" y="306"/>
                  </a:lnTo>
                  <a:lnTo>
                    <a:pt x="5" y="297"/>
                  </a:lnTo>
                  <a:lnTo>
                    <a:pt x="5" y="292"/>
                  </a:lnTo>
                  <a:lnTo>
                    <a:pt x="10" y="282"/>
                  </a:lnTo>
                  <a:lnTo>
                    <a:pt x="19" y="277"/>
                  </a:lnTo>
                  <a:lnTo>
                    <a:pt x="29" y="277"/>
                  </a:lnTo>
                  <a:lnTo>
                    <a:pt x="38" y="273"/>
                  </a:lnTo>
                  <a:lnTo>
                    <a:pt x="48" y="277"/>
                  </a:lnTo>
                  <a:lnTo>
                    <a:pt x="53" y="277"/>
                  </a:lnTo>
                  <a:lnTo>
                    <a:pt x="67" y="277"/>
                  </a:lnTo>
                  <a:lnTo>
                    <a:pt x="77" y="273"/>
                  </a:lnTo>
                  <a:lnTo>
                    <a:pt x="91" y="268"/>
                  </a:lnTo>
                  <a:lnTo>
                    <a:pt x="96" y="263"/>
                  </a:lnTo>
                  <a:lnTo>
                    <a:pt x="105" y="253"/>
                  </a:lnTo>
                  <a:lnTo>
                    <a:pt x="120" y="244"/>
                  </a:lnTo>
                  <a:lnTo>
                    <a:pt x="134" y="225"/>
                  </a:lnTo>
                  <a:lnTo>
                    <a:pt x="158" y="206"/>
                  </a:lnTo>
                  <a:lnTo>
                    <a:pt x="182" y="186"/>
                  </a:lnTo>
                  <a:lnTo>
                    <a:pt x="206" y="158"/>
                  </a:lnTo>
                  <a:lnTo>
                    <a:pt x="220" y="143"/>
                  </a:lnTo>
                  <a:lnTo>
                    <a:pt x="239" y="124"/>
                  </a:lnTo>
                  <a:lnTo>
                    <a:pt x="254" y="110"/>
                  </a:lnTo>
                  <a:lnTo>
                    <a:pt x="268" y="91"/>
                  </a:lnTo>
                  <a:lnTo>
                    <a:pt x="297" y="67"/>
                  </a:lnTo>
                  <a:lnTo>
                    <a:pt x="321" y="43"/>
                  </a:lnTo>
                  <a:lnTo>
                    <a:pt x="340" y="24"/>
                  </a:lnTo>
                  <a:lnTo>
                    <a:pt x="359" y="14"/>
                  </a:lnTo>
                  <a:lnTo>
                    <a:pt x="369" y="4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4"/>
                  </a:lnTo>
                  <a:lnTo>
                    <a:pt x="388" y="9"/>
                  </a:lnTo>
                  <a:lnTo>
                    <a:pt x="383" y="14"/>
                  </a:lnTo>
                  <a:lnTo>
                    <a:pt x="383" y="19"/>
                  </a:lnTo>
                  <a:lnTo>
                    <a:pt x="378" y="28"/>
                  </a:lnTo>
                  <a:lnTo>
                    <a:pt x="374" y="43"/>
                  </a:lnTo>
                  <a:lnTo>
                    <a:pt x="369" y="52"/>
                  </a:lnTo>
                  <a:lnTo>
                    <a:pt x="364" y="67"/>
                  </a:lnTo>
                  <a:lnTo>
                    <a:pt x="354" y="81"/>
                  </a:lnTo>
                  <a:lnTo>
                    <a:pt x="345" y="100"/>
                  </a:lnTo>
                  <a:lnTo>
                    <a:pt x="335" y="119"/>
                  </a:lnTo>
                  <a:lnTo>
                    <a:pt x="326" y="143"/>
                  </a:lnTo>
                  <a:lnTo>
                    <a:pt x="311" y="162"/>
                  </a:lnTo>
                  <a:lnTo>
                    <a:pt x="297" y="186"/>
                  </a:lnTo>
                  <a:lnTo>
                    <a:pt x="283" y="215"/>
                  </a:lnTo>
                  <a:lnTo>
                    <a:pt x="263" y="239"/>
                  </a:lnTo>
                  <a:lnTo>
                    <a:pt x="249" y="268"/>
                  </a:lnTo>
                  <a:lnTo>
                    <a:pt x="230" y="297"/>
                  </a:lnTo>
                  <a:lnTo>
                    <a:pt x="216" y="320"/>
                  </a:lnTo>
                  <a:lnTo>
                    <a:pt x="201" y="344"/>
                  </a:lnTo>
                  <a:lnTo>
                    <a:pt x="187" y="364"/>
                  </a:lnTo>
                  <a:lnTo>
                    <a:pt x="172" y="383"/>
                  </a:lnTo>
                  <a:lnTo>
                    <a:pt x="163" y="402"/>
                  </a:lnTo>
                  <a:lnTo>
                    <a:pt x="148" y="416"/>
                  </a:lnTo>
                  <a:lnTo>
                    <a:pt x="139" y="431"/>
                  </a:lnTo>
                  <a:lnTo>
                    <a:pt x="129" y="445"/>
                  </a:lnTo>
                  <a:lnTo>
                    <a:pt x="120" y="455"/>
                  </a:lnTo>
                  <a:lnTo>
                    <a:pt x="115" y="464"/>
                  </a:lnTo>
                  <a:lnTo>
                    <a:pt x="105" y="469"/>
                  </a:lnTo>
                  <a:lnTo>
                    <a:pt x="101" y="474"/>
                  </a:lnTo>
                  <a:lnTo>
                    <a:pt x="96" y="479"/>
                  </a:lnTo>
                  <a:lnTo>
                    <a:pt x="91" y="483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"/>
          <p:cNvGraphicFramePr/>
          <p:nvPr/>
        </p:nvGraphicFramePr>
        <p:xfrm>
          <a:off x="3276720" y="2286000"/>
          <a:ext cx="3124080" cy="266688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 rot="5400000">
            <a:off x="-457560" y="2514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2590920" y="1295280"/>
            <a:ext cx="4952880" cy="4605480"/>
            <a:chOff x="2590920" y="1295280"/>
            <a:chExt cx="4952880" cy="4605480"/>
          </a:xfrm>
        </p:grpSpPr>
        <p:sp>
          <p:nvSpPr>
            <p:cNvPr id="247" name="AutoShape 6"/>
            <p:cNvSpPr/>
            <p:nvPr/>
          </p:nvSpPr>
          <p:spPr>
            <a:xfrm>
              <a:off x="2590920" y="1295280"/>
              <a:ext cx="4952880" cy="46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3890880" y="2466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3909240" y="2439720"/>
              <a:ext cx="2298960" cy="2305800"/>
            </a:xfrm>
            <a:custGeom>
              <a:avLst/>
              <a:gdLst/>
              <a:ahLst/>
              <a:rect l="l" t="t" r="r" b="b"/>
              <a:pathLst>
                <a:path w="1901" h="1906">
                  <a:moveTo>
                    <a:pt x="1135" y="704"/>
                  </a:moveTo>
                  <a:lnTo>
                    <a:pt x="1140" y="704"/>
                  </a:lnTo>
                  <a:lnTo>
                    <a:pt x="1144" y="699"/>
                  </a:lnTo>
                  <a:lnTo>
                    <a:pt x="1149" y="694"/>
                  </a:lnTo>
                  <a:lnTo>
                    <a:pt x="1154" y="689"/>
                  </a:lnTo>
                  <a:lnTo>
                    <a:pt x="1159" y="680"/>
                  </a:lnTo>
                  <a:lnTo>
                    <a:pt x="1163" y="670"/>
                  </a:lnTo>
                  <a:lnTo>
                    <a:pt x="1173" y="661"/>
                  </a:lnTo>
                  <a:lnTo>
                    <a:pt x="1178" y="651"/>
                  </a:lnTo>
                  <a:lnTo>
                    <a:pt x="1183" y="637"/>
                  </a:lnTo>
                  <a:lnTo>
                    <a:pt x="1187" y="622"/>
                  </a:lnTo>
                  <a:lnTo>
                    <a:pt x="1197" y="608"/>
                  </a:lnTo>
                  <a:lnTo>
                    <a:pt x="1202" y="589"/>
                  </a:lnTo>
                  <a:lnTo>
                    <a:pt x="1207" y="574"/>
                  </a:lnTo>
                  <a:lnTo>
                    <a:pt x="1216" y="555"/>
                  </a:lnTo>
                  <a:lnTo>
                    <a:pt x="1231" y="512"/>
                  </a:lnTo>
                  <a:lnTo>
                    <a:pt x="1245" y="474"/>
                  </a:lnTo>
                  <a:lnTo>
                    <a:pt x="1259" y="435"/>
                  </a:lnTo>
                  <a:lnTo>
                    <a:pt x="1269" y="397"/>
                  </a:lnTo>
                  <a:lnTo>
                    <a:pt x="1278" y="364"/>
                  </a:lnTo>
                  <a:lnTo>
                    <a:pt x="1283" y="335"/>
                  </a:lnTo>
                  <a:lnTo>
                    <a:pt x="1293" y="301"/>
                  </a:lnTo>
                  <a:lnTo>
                    <a:pt x="1298" y="273"/>
                  </a:lnTo>
                  <a:lnTo>
                    <a:pt x="1298" y="249"/>
                  </a:lnTo>
                  <a:lnTo>
                    <a:pt x="1302" y="225"/>
                  </a:lnTo>
                  <a:lnTo>
                    <a:pt x="1302" y="206"/>
                  </a:lnTo>
                  <a:lnTo>
                    <a:pt x="1302" y="191"/>
                  </a:lnTo>
                  <a:lnTo>
                    <a:pt x="1302" y="172"/>
                  </a:lnTo>
                  <a:lnTo>
                    <a:pt x="1298" y="162"/>
                  </a:lnTo>
                  <a:lnTo>
                    <a:pt x="1298" y="148"/>
                  </a:lnTo>
                  <a:lnTo>
                    <a:pt x="1293" y="138"/>
                  </a:lnTo>
                  <a:lnTo>
                    <a:pt x="1293" y="134"/>
                  </a:lnTo>
                  <a:lnTo>
                    <a:pt x="1283" y="124"/>
                  </a:lnTo>
                  <a:lnTo>
                    <a:pt x="1274" y="119"/>
                  </a:lnTo>
                  <a:lnTo>
                    <a:pt x="1254" y="115"/>
                  </a:lnTo>
                  <a:lnTo>
                    <a:pt x="1240" y="115"/>
                  </a:lnTo>
                  <a:lnTo>
                    <a:pt x="1231" y="115"/>
                  </a:lnTo>
                  <a:lnTo>
                    <a:pt x="1216" y="115"/>
                  </a:lnTo>
                  <a:lnTo>
                    <a:pt x="1202" y="119"/>
                  </a:lnTo>
                  <a:lnTo>
                    <a:pt x="1183" y="119"/>
                  </a:lnTo>
                  <a:lnTo>
                    <a:pt x="1163" y="124"/>
                  </a:lnTo>
                  <a:lnTo>
                    <a:pt x="1144" y="129"/>
                  </a:lnTo>
                  <a:lnTo>
                    <a:pt x="1120" y="134"/>
                  </a:lnTo>
                  <a:lnTo>
                    <a:pt x="1092" y="138"/>
                  </a:lnTo>
                  <a:lnTo>
                    <a:pt x="1034" y="153"/>
                  </a:lnTo>
                  <a:lnTo>
                    <a:pt x="1010" y="158"/>
                  </a:lnTo>
                  <a:lnTo>
                    <a:pt x="981" y="162"/>
                  </a:lnTo>
                  <a:lnTo>
                    <a:pt x="958" y="167"/>
                  </a:lnTo>
                  <a:lnTo>
                    <a:pt x="934" y="172"/>
                  </a:lnTo>
                  <a:lnTo>
                    <a:pt x="914" y="177"/>
                  </a:lnTo>
                  <a:lnTo>
                    <a:pt x="895" y="182"/>
                  </a:lnTo>
                  <a:lnTo>
                    <a:pt x="876" y="186"/>
                  </a:lnTo>
                  <a:lnTo>
                    <a:pt x="857" y="191"/>
                  </a:lnTo>
                  <a:lnTo>
                    <a:pt x="838" y="191"/>
                  </a:lnTo>
                  <a:lnTo>
                    <a:pt x="823" y="196"/>
                  </a:lnTo>
                  <a:lnTo>
                    <a:pt x="809" y="191"/>
                  </a:lnTo>
                  <a:lnTo>
                    <a:pt x="795" y="191"/>
                  </a:lnTo>
                  <a:lnTo>
                    <a:pt x="785" y="186"/>
                  </a:lnTo>
                  <a:lnTo>
                    <a:pt x="771" y="182"/>
                  </a:lnTo>
                  <a:lnTo>
                    <a:pt x="761" y="177"/>
                  </a:lnTo>
                  <a:lnTo>
                    <a:pt x="752" y="172"/>
                  </a:lnTo>
                  <a:lnTo>
                    <a:pt x="742" y="167"/>
                  </a:lnTo>
                  <a:lnTo>
                    <a:pt x="732" y="162"/>
                  </a:lnTo>
                  <a:lnTo>
                    <a:pt x="728" y="158"/>
                  </a:lnTo>
                  <a:lnTo>
                    <a:pt x="723" y="153"/>
                  </a:lnTo>
                  <a:lnTo>
                    <a:pt x="723" y="148"/>
                  </a:lnTo>
                  <a:lnTo>
                    <a:pt x="723" y="138"/>
                  </a:lnTo>
                  <a:lnTo>
                    <a:pt x="728" y="138"/>
                  </a:lnTo>
                  <a:lnTo>
                    <a:pt x="732" y="138"/>
                  </a:lnTo>
                  <a:lnTo>
                    <a:pt x="742" y="138"/>
                  </a:lnTo>
                  <a:lnTo>
                    <a:pt x="756" y="138"/>
                  </a:lnTo>
                  <a:lnTo>
                    <a:pt x="766" y="134"/>
                  </a:lnTo>
                  <a:lnTo>
                    <a:pt x="780" y="134"/>
                  </a:lnTo>
                  <a:lnTo>
                    <a:pt x="799" y="129"/>
                  </a:lnTo>
                  <a:lnTo>
                    <a:pt x="814" y="129"/>
                  </a:lnTo>
                  <a:lnTo>
                    <a:pt x="833" y="124"/>
                  </a:lnTo>
                  <a:lnTo>
                    <a:pt x="857" y="119"/>
                  </a:lnTo>
                  <a:lnTo>
                    <a:pt x="881" y="115"/>
                  </a:lnTo>
                  <a:lnTo>
                    <a:pt x="905" y="110"/>
                  </a:lnTo>
                  <a:lnTo>
                    <a:pt x="929" y="105"/>
                  </a:lnTo>
                  <a:lnTo>
                    <a:pt x="958" y="95"/>
                  </a:lnTo>
                  <a:lnTo>
                    <a:pt x="986" y="91"/>
                  </a:lnTo>
                  <a:lnTo>
                    <a:pt x="1015" y="81"/>
                  </a:lnTo>
                  <a:lnTo>
                    <a:pt x="1044" y="76"/>
                  </a:lnTo>
                  <a:lnTo>
                    <a:pt x="1072" y="71"/>
                  </a:lnTo>
                  <a:lnTo>
                    <a:pt x="1096" y="62"/>
                  </a:lnTo>
                  <a:lnTo>
                    <a:pt x="1125" y="57"/>
                  </a:lnTo>
                  <a:lnTo>
                    <a:pt x="1144" y="52"/>
                  </a:lnTo>
                  <a:lnTo>
                    <a:pt x="1168" y="47"/>
                  </a:lnTo>
                  <a:lnTo>
                    <a:pt x="1187" y="43"/>
                  </a:lnTo>
                  <a:lnTo>
                    <a:pt x="1202" y="38"/>
                  </a:lnTo>
                  <a:lnTo>
                    <a:pt x="1216" y="33"/>
                  </a:lnTo>
                  <a:lnTo>
                    <a:pt x="1231" y="33"/>
                  </a:lnTo>
                  <a:lnTo>
                    <a:pt x="1240" y="28"/>
                  </a:lnTo>
                  <a:lnTo>
                    <a:pt x="1254" y="24"/>
                  </a:lnTo>
                  <a:lnTo>
                    <a:pt x="1259" y="24"/>
                  </a:lnTo>
                  <a:lnTo>
                    <a:pt x="1264" y="19"/>
                  </a:lnTo>
                  <a:lnTo>
                    <a:pt x="1269" y="19"/>
                  </a:lnTo>
                  <a:lnTo>
                    <a:pt x="1274" y="14"/>
                  </a:lnTo>
                  <a:lnTo>
                    <a:pt x="1283" y="9"/>
                  </a:lnTo>
                  <a:lnTo>
                    <a:pt x="1293" y="4"/>
                  </a:lnTo>
                  <a:lnTo>
                    <a:pt x="1302" y="0"/>
                  </a:lnTo>
                  <a:lnTo>
                    <a:pt x="1317" y="0"/>
                  </a:lnTo>
                  <a:lnTo>
                    <a:pt x="1322" y="0"/>
                  </a:lnTo>
                  <a:lnTo>
                    <a:pt x="1326" y="4"/>
                  </a:lnTo>
                  <a:lnTo>
                    <a:pt x="1336" y="4"/>
                  </a:lnTo>
                  <a:lnTo>
                    <a:pt x="1350" y="9"/>
                  </a:lnTo>
                  <a:lnTo>
                    <a:pt x="1365" y="19"/>
                  </a:lnTo>
                  <a:lnTo>
                    <a:pt x="1379" y="28"/>
                  </a:lnTo>
                  <a:lnTo>
                    <a:pt x="1398" y="38"/>
                  </a:lnTo>
                  <a:lnTo>
                    <a:pt x="1422" y="47"/>
                  </a:lnTo>
                  <a:lnTo>
                    <a:pt x="1436" y="62"/>
                  </a:lnTo>
                  <a:lnTo>
                    <a:pt x="1456" y="71"/>
                  </a:lnTo>
                  <a:lnTo>
                    <a:pt x="1465" y="81"/>
                  </a:lnTo>
                  <a:lnTo>
                    <a:pt x="1480" y="91"/>
                  </a:lnTo>
                  <a:lnTo>
                    <a:pt x="1484" y="100"/>
                  </a:lnTo>
                  <a:lnTo>
                    <a:pt x="1494" y="105"/>
                  </a:lnTo>
                  <a:lnTo>
                    <a:pt x="1499" y="110"/>
                  </a:lnTo>
                  <a:lnTo>
                    <a:pt x="1499" y="115"/>
                  </a:lnTo>
                  <a:lnTo>
                    <a:pt x="1494" y="124"/>
                  </a:lnTo>
                  <a:lnTo>
                    <a:pt x="1489" y="134"/>
                  </a:lnTo>
                  <a:lnTo>
                    <a:pt x="1484" y="143"/>
                  </a:lnTo>
                  <a:lnTo>
                    <a:pt x="1470" y="148"/>
                  </a:lnTo>
                  <a:lnTo>
                    <a:pt x="1460" y="153"/>
                  </a:lnTo>
                  <a:lnTo>
                    <a:pt x="1456" y="162"/>
                  </a:lnTo>
                  <a:lnTo>
                    <a:pt x="1451" y="172"/>
                  </a:lnTo>
                  <a:lnTo>
                    <a:pt x="1446" y="186"/>
                  </a:lnTo>
                  <a:lnTo>
                    <a:pt x="1441" y="201"/>
                  </a:lnTo>
                  <a:lnTo>
                    <a:pt x="1436" y="220"/>
                  </a:lnTo>
                  <a:lnTo>
                    <a:pt x="1432" y="239"/>
                  </a:lnTo>
                  <a:lnTo>
                    <a:pt x="1427" y="263"/>
                  </a:lnTo>
                  <a:lnTo>
                    <a:pt x="1422" y="292"/>
                  </a:lnTo>
                  <a:lnTo>
                    <a:pt x="1417" y="320"/>
                  </a:lnTo>
                  <a:lnTo>
                    <a:pt x="1408" y="354"/>
                  </a:lnTo>
                  <a:lnTo>
                    <a:pt x="1398" y="388"/>
                  </a:lnTo>
                  <a:lnTo>
                    <a:pt x="1384" y="431"/>
                  </a:lnTo>
                  <a:lnTo>
                    <a:pt x="1374" y="474"/>
                  </a:lnTo>
                  <a:lnTo>
                    <a:pt x="1360" y="522"/>
                  </a:lnTo>
                  <a:lnTo>
                    <a:pt x="1341" y="570"/>
                  </a:lnTo>
                  <a:lnTo>
                    <a:pt x="1336" y="598"/>
                  </a:lnTo>
                  <a:lnTo>
                    <a:pt x="1326" y="622"/>
                  </a:lnTo>
                  <a:lnTo>
                    <a:pt x="1317" y="646"/>
                  </a:lnTo>
                  <a:lnTo>
                    <a:pt x="1312" y="665"/>
                  </a:lnTo>
                  <a:lnTo>
                    <a:pt x="1302" y="689"/>
                  </a:lnTo>
                  <a:lnTo>
                    <a:pt x="1293" y="708"/>
                  </a:lnTo>
                  <a:lnTo>
                    <a:pt x="1288" y="728"/>
                  </a:lnTo>
                  <a:lnTo>
                    <a:pt x="1278" y="747"/>
                  </a:lnTo>
                  <a:lnTo>
                    <a:pt x="1269" y="761"/>
                  </a:lnTo>
                  <a:lnTo>
                    <a:pt x="1264" y="775"/>
                  </a:lnTo>
                  <a:lnTo>
                    <a:pt x="1254" y="790"/>
                  </a:lnTo>
                  <a:lnTo>
                    <a:pt x="1250" y="799"/>
                  </a:lnTo>
                  <a:lnTo>
                    <a:pt x="1240" y="814"/>
                  </a:lnTo>
                  <a:lnTo>
                    <a:pt x="1235" y="823"/>
                  </a:lnTo>
                  <a:lnTo>
                    <a:pt x="1226" y="828"/>
                  </a:lnTo>
                  <a:lnTo>
                    <a:pt x="1221" y="838"/>
                  </a:lnTo>
                  <a:lnTo>
                    <a:pt x="1207" y="852"/>
                  </a:lnTo>
                  <a:lnTo>
                    <a:pt x="1192" y="862"/>
                  </a:lnTo>
                  <a:lnTo>
                    <a:pt x="1178" y="871"/>
                  </a:lnTo>
                  <a:lnTo>
                    <a:pt x="1168" y="881"/>
                  </a:lnTo>
                  <a:lnTo>
                    <a:pt x="1159" y="886"/>
                  </a:lnTo>
                  <a:lnTo>
                    <a:pt x="1149" y="890"/>
                  </a:lnTo>
                  <a:lnTo>
                    <a:pt x="1144" y="895"/>
                  </a:lnTo>
                  <a:lnTo>
                    <a:pt x="1135" y="895"/>
                  </a:lnTo>
                  <a:lnTo>
                    <a:pt x="1130" y="895"/>
                  </a:lnTo>
                  <a:lnTo>
                    <a:pt x="1125" y="890"/>
                  </a:lnTo>
                  <a:lnTo>
                    <a:pt x="1120" y="886"/>
                  </a:lnTo>
                  <a:lnTo>
                    <a:pt x="1116" y="881"/>
                  </a:lnTo>
                  <a:lnTo>
                    <a:pt x="1111" y="876"/>
                  </a:lnTo>
                  <a:lnTo>
                    <a:pt x="1106" y="866"/>
                  </a:lnTo>
                  <a:lnTo>
                    <a:pt x="1106" y="857"/>
                  </a:lnTo>
                  <a:lnTo>
                    <a:pt x="1101" y="847"/>
                  </a:lnTo>
                  <a:lnTo>
                    <a:pt x="1096" y="833"/>
                  </a:lnTo>
                  <a:lnTo>
                    <a:pt x="1092" y="819"/>
                  </a:lnTo>
                  <a:lnTo>
                    <a:pt x="1087" y="804"/>
                  </a:lnTo>
                  <a:lnTo>
                    <a:pt x="1077" y="790"/>
                  </a:lnTo>
                  <a:lnTo>
                    <a:pt x="1068" y="775"/>
                  </a:lnTo>
                  <a:lnTo>
                    <a:pt x="1058" y="756"/>
                  </a:lnTo>
                  <a:lnTo>
                    <a:pt x="1049" y="737"/>
                  </a:lnTo>
                  <a:lnTo>
                    <a:pt x="1029" y="723"/>
                  </a:lnTo>
                  <a:lnTo>
                    <a:pt x="1015" y="704"/>
                  </a:lnTo>
                  <a:lnTo>
                    <a:pt x="1005" y="694"/>
                  </a:lnTo>
                  <a:lnTo>
                    <a:pt x="996" y="680"/>
                  </a:lnTo>
                  <a:lnTo>
                    <a:pt x="991" y="670"/>
                  </a:lnTo>
                  <a:lnTo>
                    <a:pt x="986" y="661"/>
                  </a:lnTo>
                  <a:lnTo>
                    <a:pt x="986" y="656"/>
                  </a:lnTo>
                  <a:lnTo>
                    <a:pt x="986" y="651"/>
                  </a:lnTo>
                  <a:lnTo>
                    <a:pt x="986" y="646"/>
                  </a:lnTo>
                  <a:lnTo>
                    <a:pt x="991" y="646"/>
                  </a:lnTo>
                  <a:lnTo>
                    <a:pt x="996" y="646"/>
                  </a:lnTo>
                  <a:lnTo>
                    <a:pt x="1001" y="651"/>
                  </a:lnTo>
                  <a:lnTo>
                    <a:pt x="1010" y="651"/>
                  </a:lnTo>
                  <a:lnTo>
                    <a:pt x="1020" y="656"/>
                  </a:lnTo>
                  <a:lnTo>
                    <a:pt x="1029" y="665"/>
                  </a:lnTo>
                  <a:lnTo>
                    <a:pt x="1044" y="670"/>
                  </a:lnTo>
                  <a:lnTo>
                    <a:pt x="1058" y="680"/>
                  </a:lnTo>
                  <a:lnTo>
                    <a:pt x="1068" y="689"/>
                  </a:lnTo>
                  <a:lnTo>
                    <a:pt x="1082" y="694"/>
                  </a:lnTo>
                  <a:lnTo>
                    <a:pt x="1092" y="699"/>
                  </a:lnTo>
                  <a:lnTo>
                    <a:pt x="1101" y="704"/>
                  </a:lnTo>
                  <a:lnTo>
                    <a:pt x="1111" y="708"/>
                  </a:lnTo>
                  <a:lnTo>
                    <a:pt x="1120" y="708"/>
                  </a:lnTo>
                  <a:lnTo>
                    <a:pt x="1130" y="708"/>
                  </a:lnTo>
                  <a:lnTo>
                    <a:pt x="1135" y="704"/>
                  </a:lnTo>
                  <a:close/>
                  <a:moveTo>
                    <a:pt x="1551" y="421"/>
                  </a:moveTo>
                  <a:lnTo>
                    <a:pt x="1571" y="431"/>
                  </a:lnTo>
                  <a:lnTo>
                    <a:pt x="1590" y="435"/>
                  </a:lnTo>
                  <a:lnTo>
                    <a:pt x="1604" y="440"/>
                  </a:lnTo>
                  <a:lnTo>
                    <a:pt x="1618" y="445"/>
                  </a:lnTo>
                  <a:lnTo>
                    <a:pt x="1633" y="455"/>
                  </a:lnTo>
                  <a:lnTo>
                    <a:pt x="1642" y="459"/>
                  </a:lnTo>
                  <a:lnTo>
                    <a:pt x="1647" y="464"/>
                  </a:lnTo>
                  <a:lnTo>
                    <a:pt x="1652" y="474"/>
                  </a:lnTo>
                  <a:lnTo>
                    <a:pt x="1657" y="488"/>
                  </a:lnTo>
                  <a:lnTo>
                    <a:pt x="1662" y="502"/>
                  </a:lnTo>
                  <a:lnTo>
                    <a:pt x="1662" y="522"/>
                  </a:lnTo>
                  <a:lnTo>
                    <a:pt x="1662" y="536"/>
                  </a:lnTo>
                  <a:lnTo>
                    <a:pt x="1662" y="546"/>
                  </a:lnTo>
                  <a:lnTo>
                    <a:pt x="1657" y="555"/>
                  </a:lnTo>
                  <a:lnTo>
                    <a:pt x="1657" y="560"/>
                  </a:lnTo>
                  <a:lnTo>
                    <a:pt x="1652" y="570"/>
                  </a:lnTo>
                  <a:lnTo>
                    <a:pt x="1642" y="574"/>
                  </a:lnTo>
                  <a:lnTo>
                    <a:pt x="1638" y="574"/>
                  </a:lnTo>
                  <a:lnTo>
                    <a:pt x="1628" y="579"/>
                  </a:lnTo>
                  <a:lnTo>
                    <a:pt x="1618" y="579"/>
                  </a:lnTo>
                  <a:lnTo>
                    <a:pt x="1614" y="579"/>
                  </a:lnTo>
                  <a:lnTo>
                    <a:pt x="1604" y="579"/>
                  </a:lnTo>
                  <a:lnTo>
                    <a:pt x="1595" y="574"/>
                  </a:lnTo>
                  <a:lnTo>
                    <a:pt x="1585" y="570"/>
                  </a:lnTo>
                  <a:lnTo>
                    <a:pt x="1575" y="565"/>
                  </a:lnTo>
                  <a:lnTo>
                    <a:pt x="1561" y="560"/>
                  </a:lnTo>
                  <a:lnTo>
                    <a:pt x="1547" y="550"/>
                  </a:lnTo>
                  <a:lnTo>
                    <a:pt x="1527" y="541"/>
                  </a:lnTo>
                  <a:lnTo>
                    <a:pt x="1508" y="531"/>
                  </a:lnTo>
                  <a:lnTo>
                    <a:pt x="1489" y="522"/>
                  </a:lnTo>
                  <a:lnTo>
                    <a:pt x="1470" y="507"/>
                  </a:lnTo>
                  <a:lnTo>
                    <a:pt x="1446" y="498"/>
                  </a:lnTo>
                  <a:lnTo>
                    <a:pt x="1422" y="483"/>
                  </a:lnTo>
                  <a:lnTo>
                    <a:pt x="1398" y="464"/>
                  </a:lnTo>
                  <a:lnTo>
                    <a:pt x="1369" y="450"/>
                  </a:lnTo>
                  <a:lnTo>
                    <a:pt x="1341" y="431"/>
                  </a:lnTo>
                  <a:lnTo>
                    <a:pt x="1360" y="421"/>
                  </a:lnTo>
                  <a:lnTo>
                    <a:pt x="1379" y="411"/>
                  </a:lnTo>
                  <a:lnTo>
                    <a:pt x="1403" y="402"/>
                  </a:lnTo>
                  <a:lnTo>
                    <a:pt x="1422" y="397"/>
                  </a:lnTo>
                  <a:lnTo>
                    <a:pt x="1432" y="397"/>
                  </a:lnTo>
                  <a:lnTo>
                    <a:pt x="1441" y="397"/>
                  </a:lnTo>
                  <a:lnTo>
                    <a:pt x="1456" y="402"/>
                  </a:lnTo>
                  <a:lnTo>
                    <a:pt x="1470" y="402"/>
                  </a:lnTo>
                  <a:lnTo>
                    <a:pt x="1489" y="407"/>
                  </a:lnTo>
                  <a:lnTo>
                    <a:pt x="1508" y="411"/>
                  </a:lnTo>
                  <a:lnTo>
                    <a:pt x="1527" y="416"/>
                  </a:lnTo>
                  <a:lnTo>
                    <a:pt x="1551" y="421"/>
                  </a:lnTo>
                  <a:close/>
                  <a:moveTo>
                    <a:pt x="1542" y="953"/>
                  </a:moveTo>
                  <a:lnTo>
                    <a:pt x="1575" y="953"/>
                  </a:lnTo>
                  <a:lnTo>
                    <a:pt x="1604" y="962"/>
                  </a:lnTo>
                  <a:lnTo>
                    <a:pt x="1623" y="962"/>
                  </a:lnTo>
                  <a:lnTo>
                    <a:pt x="1638" y="972"/>
                  </a:lnTo>
                  <a:lnTo>
                    <a:pt x="1652" y="977"/>
                  </a:lnTo>
                  <a:lnTo>
                    <a:pt x="1671" y="986"/>
                  </a:lnTo>
                  <a:lnTo>
                    <a:pt x="1686" y="996"/>
                  </a:lnTo>
                  <a:lnTo>
                    <a:pt x="1700" y="1005"/>
                  </a:lnTo>
                  <a:lnTo>
                    <a:pt x="1709" y="1010"/>
                  </a:lnTo>
                  <a:lnTo>
                    <a:pt x="1724" y="1015"/>
                  </a:lnTo>
                  <a:lnTo>
                    <a:pt x="1729" y="1025"/>
                  </a:lnTo>
                  <a:lnTo>
                    <a:pt x="1738" y="1029"/>
                  </a:lnTo>
                  <a:lnTo>
                    <a:pt x="1743" y="1034"/>
                  </a:lnTo>
                  <a:lnTo>
                    <a:pt x="1748" y="1034"/>
                  </a:lnTo>
                  <a:lnTo>
                    <a:pt x="1753" y="1049"/>
                  </a:lnTo>
                  <a:lnTo>
                    <a:pt x="1753" y="1053"/>
                  </a:lnTo>
                  <a:lnTo>
                    <a:pt x="1753" y="1063"/>
                  </a:lnTo>
                  <a:lnTo>
                    <a:pt x="1748" y="1068"/>
                  </a:lnTo>
                  <a:lnTo>
                    <a:pt x="1743" y="1072"/>
                  </a:lnTo>
                  <a:lnTo>
                    <a:pt x="1733" y="1072"/>
                  </a:lnTo>
                  <a:lnTo>
                    <a:pt x="1729" y="1077"/>
                  </a:lnTo>
                  <a:lnTo>
                    <a:pt x="1719" y="1077"/>
                  </a:lnTo>
                  <a:lnTo>
                    <a:pt x="1705" y="1077"/>
                  </a:lnTo>
                  <a:lnTo>
                    <a:pt x="1690" y="1077"/>
                  </a:lnTo>
                  <a:lnTo>
                    <a:pt x="1676" y="1077"/>
                  </a:lnTo>
                  <a:lnTo>
                    <a:pt x="1662" y="1082"/>
                  </a:lnTo>
                  <a:lnTo>
                    <a:pt x="1642" y="1082"/>
                  </a:lnTo>
                  <a:lnTo>
                    <a:pt x="1618" y="1082"/>
                  </a:lnTo>
                  <a:lnTo>
                    <a:pt x="1599" y="1082"/>
                  </a:lnTo>
                  <a:lnTo>
                    <a:pt x="1575" y="1082"/>
                  </a:lnTo>
                  <a:lnTo>
                    <a:pt x="1547" y="1077"/>
                  </a:lnTo>
                  <a:lnTo>
                    <a:pt x="1518" y="1077"/>
                  </a:lnTo>
                  <a:lnTo>
                    <a:pt x="1489" y="1077"/>
                  </a:lnTo>
                  <a:lnTo>
                    <a:pt x="1427" y="1072"/>
                  </a:lnTo>
                  <a:lnTo>
                    <a:pt x="1365" y="1072"/>
                  </a:lnTo>
                  <a:lnTo>
                    <a:pt x="1245" y="1077"/>
                  </a:lnTo>
                  <a:lnTo>
                    <a:pt x="1125" y="1077"/>
                  </a:lnTo>
                  <a:lnTo>
                    <a:pt x="1005" y="1087"/>
                  </a:lnTo>
                  <a:lnTo>
                    <a:pt x="948" y="1092"/>
                  </a:lnTo>
                  <a:lnTo>
                    <a:pt x="895" y="1096"/>
                  </a:lnTo>
                  <a:lnTo>
                    <a:pt x="843" y="1106"/>
                  </a:lnTo>
                  <a:lnTo>
                    <a:pt x="790" y="1111"/>
                  </a:lnTo>
                  <a:lnTo>
                    <a:pt x="742" y="1116"/>
                  </a:lnTo>
                  <a:lnTo>
                    <a:pt x="694" y="1120"/>
                  </a:lnTo>
                  <a:lnTo>
                    <a:pt x="651" y="1125"/>
                  </a:lnTo>
                  <a:lnTo>
                    <a:pt x="608" y="1125"/>
                  </a:lnTo>
                  <a:lnTo>
                    <a:pt x="526" y="1140"/>
                  </a:lnTo>
                  <a:lnTo>
                    <a:pt x="440" y="1149"/>
                  </a:lnTo>
                  <a:lnTo>
                    <a:pt x="354" y="1159"/>
                  </a:lnTo>
                  <a:lnTo>
                    <a:pt x="273" y="1168"/>
                  </a:lnTo>
                  <a:lnTo>
                    <a:pt x="253" y="1173"/>
                  </a:lnTo>
                  <a:lnTo>
                    <a:pt x="234" y="1173"/>
                  </a:lnTo>
                  <a:lnTo>
                    <a:pt x="215" y="1178"/>
                  </a:lnTo>
                  <a:lnTo>
                    <a:pt x="196" y="1178"/>
                  </a:lnTo>
                  <a:lnTo>
                    <a:pt x="182" y="1183"/>
                  </a:lnTo>
                  <a:lnTo>
                    <a:pt x="167" y="1183"/>
                  </a:lnTo>
                  <a:lnTo>
                    <a:pt x="153" y="1187"/>
                  </a:lnTo>
                  <a:lnTo>
                    <a:pt x="143" y="1187"/>
                  </a:lnTo>
                  <a:lnTo>
                    <a:pt x="134" y="1187"/>
                  </a:lnTo>
                  <a:lnTo>
                    <a:pt x="124" y="1192"/>
                  </a:lnTo>
                  <a:lnTo>
                    <a:pt x="115" y="1192"/>
                  </a:lnTo>
                  <a:lnTo>
                    <a:pt x="105" y="1192"/>
                  </a:lnTo>
                  <a:lnTo>
                    <a:pt x="100" y="1192"/>
                  </a:lnTo>
                  <a:lnTo>
                    <a:pt x="95" y="1192"/>
                  </a:lnTo>
                  <a:lnTo>
                    <a:pt x="91" y="1192"/>
                  </a:lnTo>
                  <a:lnTo>
                    <a:pt x="86" y="1192"/>
                  </a:lnTo>
                  <a:lnTo>
                    <a:pt x="81" y="1192"/>
                  </a:lnTo>
                  <a:lnTo>
                    <a:pt x="76" y="1187"/>
                  </a:lnTo>
                  <a:lnTo>
                    <a:pt x="67" y="1187"/>
                  </a:lnTo>
                  <a:lnTo>
                    <a:pt x="57" y="1183"/>
                  </a:lnTo>
                  <a:lnTo>
                    <a:pt x="47" y="1178"/>
                  </a:lnTo>
                  <a:lnTo>
                    <a:pt x="38" y="1168"/>
                  </a:lnTo>
                  <a:lnTo>
                    <a:pt x="28" y="1159"/>
                  </a:lnTo>
                  <a:lnTo>
                    <a:pt x="24" y="1149"/>
                  </a:lnTo>
                  <a:lnTo>
                    <a:pt x="14" y="1144"/>
                  </a:lnTo>
                  <a:lnTo>
                    <a:pt x="9" y="1135"/>
                  </a:lnTo>
                  <a:lnTo>
                    <a:pt x="4" y="1130"/>
                  </a:lnTo>
                  <a:lnTo>
                    <a:pt x="4" y="1125"/>
                  </a:lnTo>
                  <a:lnTo>
                    <a:pt x="0" y="1120"/>
                  </a:lnTo>
                  <a:lnTo>
                    <a:pt x="4" y="1116"/>
                  </a:lnTo>
                  <a:lnTo>
                    <a:pt x="4" y="1111"/>
                  </a:lnTo>
                  <a:lnTo>
                    <a:pt x="9" y="1106"/>
                  </a:lnTo>
                  <a:lnTo>
                    <a:pt x="19" y="1106"/>
                  </a:lnTo>
                  <a:lnTo>
                    <a:pt x="28" y="1106"/>
                  </a:lnTo>
                  <a:lnTo>
                    <a:pt x="43" y="1101"/>
                  </a:lnTo>
                  <a:lnTo>
                    <a:pt x="62" y="1101"/>
                  </a:lnTo>
                  <a:lnTo>
                    <a:pt x="86" y="1101"/>
                  </a:lnTo>
                  <a:lnTo>
                    <a:pt x="115" y="1096"/>
                  </a:lnTo>
                  <a:lnTo>
                    <a:pt x="143" y="1092"/>
                  </a:lnTo>
                  <a:lnTo>
                    <a:pt x="177" y="1092"/>
                  </a:lnTo>
                  <a:lnTo>
                    <a:pt x="215" y="1087"/>
                  </a:lnTo>
                  <a:lnTo>
                    <a:pt x="258" y="1082"/>
                  </a:lnTo>
                  <a:lnTo>
                    <a:pt x="306" y="1082"/>
                  </a:lnTo>
                  <a:lnTo>
                    <a:pt x="354" y="1077"/>
                  </a:lnTo>
                  <a:lnTo>
                    <a:pt x="411" y="1072"/>
                  </a:lnTo>
                  <a:lnTo>
                    <a:pt x="469" y="1068"/>
                  </a:lnTo>
                  <a:lnTo>
                    <a:pt x="531" y="1063"/>
                  </a:lnTo>
                  <a:lnTo>
                    <a:pt x="651" y="1049"/>
                  </a:lnTo>
                  <a:lnTo>
                    <a:pt x="713" y="1044"/>
                  </a:lnTo>
                  <a:lnTo>
                    <a:pt x="771" y="1034"/>
                  </a:lnTo>
                  <a:lnTo>
                    <a:pt x="828" y="1029"/>
                  </a:lnTo>
                  <a:lnTo>
                    <a:pt x="881" y="1025"/>
                  </a:lnTo>
                  <a:lnTo>
                    <a:pt x="938" y="1015"/>
                  </a:lnTo>
                  <a:lnTo>
                    <a:pt x="986" y="1010"/>
                  </a:lnTo>
                  <a:lnTo>
                    <a:pt x="1039" y="1005"/>
                  </a:lnTo>
                  <a:lnTo>
                    <a:pt x="1087" y="1005"/>
                  </a:lnTo>
                  <a:lnTo>
                    <a:pt x="1135" y="1001"/>
                  </a:lnTo>
                  <a:lnTo>
                    <a:pt x="1183" y="991"/>
                  </a:lnTo>
                  <a:lnTo>
                    <a:pt x="1226" y="986"/>
                  </a:lnTo>
                  <a:lnTo>
                    <a:pt x="1264" y="981"/>
                  </a:lnTo>
                  <a:lnTo>
                    <a:pt x="1307" y="977"/>
                  </a:lnTo>
                  <a:lnTo>
                    <a:pt x="1341" y="967"/>
                  </a:lnTo>
                  <a:lnTo>
                    <a:pt x="1379" y="967"/>
                  </a:lnTo>
                  <a:lnTo>
                    <a:pt x="1408" y="962"/>
                  </a:lnTo>
                  <a:lnTo>
                    <a:pt x="1436" y="962"/>
                  </a:lnTo>
                  <a:lnTo>
                    <a:pt x="1465" y="958"/>
                  </a:lnTo>
                  <a:lnTo>
                    <a:pt x="1489" y="958"/>
                  </a:lnTo>
                  <a:lnTo>
                    <a:pt x="1508" y="953"/>
                  </a:lnTo>
                  <a:lnTo>
                    <a:pt x="1527" y="953"/>
                  </a:lnTo>
                  <a:lnTo>
                    <a:pt x="1542" y="953"/>
                  </a:lnTo>
                  <a:close/>
                  <a:moveTo>
                    <a:pt x="790" y="962"/>
                  </a:moveTo>
                  <a:lnTo>
                    <a:pt x="780" y="943"/>
                  </a:lnTo>
                  <a:lnTo>
                    <a:pt x="771" y="929"/>
                  </a:lnTo>
                  <a:lnTo>
                    <a:pt x="771" y="924"/>
                  </a:lnTo>
                  <a:lnTo>
                    <a:pt x="771" y="914"/>
                  </a:lnTo>
                  <a:lnTo>
                    <a:pt x="771" y="910"/>
                  </a:lnTo>
                  <a:lnTo>
                    <a:pt x="771" y="905"/>
                  </a:lnTo>
                  <a:lnTo>
                    <a:pt x="775" y="895"/>
                  </a:lnTo>
                  <a:lnTo>
                    <a:pt x="780" y="890"/>
                  </a:lnTo>
                  <a:lnTo>
                    <a:pt x="785" y="890"/>
                  </a:lnTo>
                  <a:lnTo>
                    <a:pt x="790" y="886"/>
                  </a:lnTo>
                  <a:lnTo>
                    <a:pt x="799" y="886"/>
                  </a:lnTo>
                  <a:lnTo>
                    <a:pt x="809" y="886"/>
                  </a:lnTo>
                  <a:lnTo>
                    <a:pt x="828" y="886"/>
                  </a:lnTo>
                  <a:lnTo>
                    <a:pt x="847" y="890"/>
                  </a:lnTo>
                  <a:lnTo>
                    <a:pt x="871" y="895"/>
                  </a:lnTo>
                  <a:lnTo>
                    <a:pt x="895" y="905"/>
                  </a:lnTo>
                  <a:lnTo>
                    <a:pt x="910" y="919"/>
                  </a:lnTo>
                  <a:lnTo>
                    <a:pt x="919" y="924"/>
                  </a:lnTo>
                  <a:lnTo>
                    <a:pt x="924" y="934"/>
                  </a:lnTo>
                  <a:lnTo>
                    <a:pt x="929" y="943"/>
                  </a:lnTo>
                  <a:lnTo>
                    <a:pt x="929" y="953"/>
                  </a:lnTo>
                  <a:lnTo>
                    <a:pt x="929" y="962"/>
                  </a:lnTo>
                  <a:lnTo>
                    <a:pt x="929" y="967"/>
                  </a:lnTo>
                  <a:lnTo>
                    <a:pt x="929" y="977"/>
                  </a:lnTo>
                  <a:lnTo>
                    <a:pt x="924" y="986"/>
                  </a:lnTo>
                  <a:lnTo>
                    <a:pt x="924" y="1001"/>
                  </a:lnTo>
                  <a:lnTo>
                    <a:pt x="924" y="1015"/>
                  </a:lnTo>
                  <a:lnTo>
                    <a:pt x="919" y="1034"/>
                  </a:lnTo>
                  <a:lnTo>
                    <a:pt x="919" y="1058"/>
                  </a:lnTo>
                  <a:lnTo>
                    <a:pt x="919" y="1077"/>
                  </a:lnTo>
                  <a:lnTo>
                    <a:pt x="914" y="1106"/>
                  </a:lnTo>
                  <a:lnTo>
                    <a:pt x="914" y="1135"/>
                  </a:lnTo>
                  <a:lnTo>
                    <a:pt x="914" y="1168"/>
                  </a:lnTo>
                  <a:lnTo>
                    <a:pt x="914" y="1202"/>
                  </a:lnTo>
                  <a:lnTo>
                    <a:pt x="914" y="1240"/>
                  </a:lnTo>
                  <a:lnTo>
                    <a:pt x="910" y="1278"/>
                  </a:lnTo>
                  <a:lnTo>
                    <a:pt x="910" y="1322"/>
                  </a:lnTo>
                  <a:lnTo>
                    <a:pt x="910" y="1369"/>
                  </a:lnTo>
                  <a:lnTo>
                    <a:pt x="910" y="1417"/>
                  </a:lnTo>
                  <a:lnTo>
                    <a:pt x="910" y="1465"/>
                  </a:lnTo>
                  <a:lnTo>
                    <a:pt x="910" y="1513"/>
                  </a:lnTo>
                  <a:lnTo>
                    <a:pt x="910" y="1556"/>
                  </a:lnTo>
                  <a:lnTo>
                    <a:pt x="910" y="1595"/>
                  </a:lnTo>
                  <a:lnTo>
                    <a:pt x="910" y="1633"/>
                  </a:lnTo>
                  <a:lnTo>
                    <a:pt x="910" y="1666"/>
                  </a:lnTo>
                  <a:lnTo>
                    <a:pt x="905" y="1700"/>
                  </a:lnTo>
                  <a:lnTo>
                    <a:pt x="905" y="1729"/>
                  </a:lnTo>
                  <a:lnTo>
                    <a:pt x="905" y="1753"/>
                  </a:lnTo>
                  <a:lnTo>
                    <a:pt x="905" y="1777"/>
                  </a:lnTo>
                  <a:lnTo>
                    <a:pt x="900" y="1800"/>
                  </a:lnTo>
                  <a:lnTo>
                    <a:pt x="900" y="1820"/>
                  </a:lnTo>
                  <a:lnTo>
                    <a:pt x="900" y="1834"/>
                  </a:lnTo>
                  <a:lnTo>
                    <a:pt x="895" y="1848"/>
                  </a:lnTo>
                  <a:lnTo>
                    <a:pt x="895" y="1858"/>
                  </a:lnTo>
                  <a:lnTo>
                    <a:pt x="895" y="1863"/>
                  </a:lnTo>
                  <a:lnTo>
                    <a:pt x="881" y="1882"/>
                  </a:lnTo>
                  <a:lnTo>
                    <a:pt x="871" y="1896"/>
                  </a:lnTo>
                  <a:lnTo>
                    <a:pt x="862" y="1901"/>
                  </a:lnTo>
                  <a:lnTo>
                    <a:pt x="857" y="1906"/>
                  </a:lnTo>
                  <a:lnTo>
                    <a:pt x="852" y="1906"/>
                  </a:lnTo>
                  <a:lnTo>
                    <a:pt x="847" y="1906"/>
                  </a:lnTo>
                  <a:lnTo>
                    <a:pt x="843" y="1901"/>
                  </a:lnTo>
                  <a:lnTo>
                    <a:pt x="838" y="1896"/>
                  </a:lnTo>
                  <a:lnTo>
                    <a:pt x="833" y="1887"/>
                  </a:lnTo>
                  <a:lnTo>
                    <a:pt x="828" y="1877"/>
                  </a:lnTo>
                  <a:lnTo>
                    <a:pt x="819" y="1863"/>
                  </a:lnTo>
                  <a:lnTo>
                    <a:pt x="814" y="1844"/>
                  </a:lnTo>
                  <a:lnTo>
                    <a:pt x="809" y="1824"/>
                  </a:lnTo>
                  <a:lnTo>
                    <a:pt x="799" y="1800"/>
                  </a:lnTo>
                  <a:lnTo>
                    <a:pt x="795" y="1781"/>
                  </a:lnTo>
                  <a:lnTo>
                    <a:pt x="790" y="1762"/>
                  </a:lnTo>
                  <a:lnTo>
                    <a:pt x="785" y="1743"/>
                  </a:lnTo>
                  <a:lnTo>
                    <a:pt x="785" y="1724"/>
                  </a:lnTo>
                  <a:lnTo>
                    <a:pt x="785" y="1705"/>
                  </a:lnTo>
                  <a:lnTo>
                    <a:pt x="785" y="1686"/>
                  </a:lnTo>
                  <a:lnTo>
                    <a:pt x="790" y="1666"/>
                  </a:lnTo>
                  <a:lnTo>
                    <a:pt x="795" y="1647"/>
                  </a:lnTo>
                  <a:lnTo>
                    <a:pt x="799" y="1628"/>
                  </a:lnTo>
                  <a:lnTo>
                    <a:pt x="804" y="1609"/>
                  </a:lnTo>
                  <a:lnTo>
                    <a:pt x="809" y="1585"/>
                  </a:lnTo>
                  <a:lnTo>
                    <a:pt x="814" y="1556"/>
                  </a:lnTo>
                  <a:lnTo>
                    <a:pt x="819" y="1523"/>
                  </a:lnTo>
                  <a:lnTo>
                    <a:pt x="819" y="1489"/>
                  </a:lnTo>
                  <a:lnTo>
                    <a:pt x="823" y="1451"/>
                  </a:lnTo>
                  <a:lnTo>
                    <a:pt x="828" y="1374"/>
                  </a:lnTo>
                  <a:lnTo>
                    <a:pt x="833" y="1302"/>
                  </a:lnTo>
                  <a:lnTo>
                    <a:pt x="833" y="1221"/>
                  </a:lnTo>
                  <a:lnTo>
                    <a:pt x="833" y="1144"/>
                  </a:lnTo>
                  <a:lnTo>
                    <a:pt x="828" y="1106"/>
                  </a:lnTo>
                  <a:lnTo>
                    <a:pt x="828" y="1077"/>
                  </a:lnTo>
                  <a:lnTo>
                    <a:pt x="823" y="1049"/>
                  </a:lnTo>
                  <a:lnTo>
                    <a:pt x="819" y="1025"/>
                  </a:lnTo>
                  <a:lnTo>
                    <a:pt x="814" y="1005"/>
                  </a:lnTo>
                  <a:lnTo>
                    <a:pt x="804" y="986"/>
                  </a:lnTo>
                  <a:lnTo>
                    <a:pt x="799" y="972"/>
                  </a:lnTo>
                  <a:lnTo>
                    <a:pt x="790" y="962"/>
                  </a:lnTo>
                  <a:close/>
                  <a:moveTo>
                    <a:pt x="421" y="1556"/>
                  </a:moveTo>
                  <a:lnTo>
                    <a:pt x="359" y="1595"/>
                  </a:lnTo>
                  <a:lnTo>
                    <a:pt x="297" y="1628"/>
                  </a:lnTo>
                  <a:lnTo>
                    <a:pt x="239" y="1662"/>
                  </a:lnTo>
                  <a:lnTo>
                    <a:pt x="177" y="1700"/>
                  </a:lnTo>
                  <a:lnTo>
                    <a:pt x="148" y="1714"/>
                  </a:lnTo>
                  <a:lnTo>
                    <a:pt x="124" y="1724"/>
                  </a:lnTo>
                  <a:lnTo>
                    <a:pt x="105" y="1733"/>
                  </a:lnTo>
                  <a:lnTo>
                    <a:pt x="86" y="1738"/>
                  </a:lnTo>
                  <a:lnTo>
                    <a:pt x="71" y="1743"/>
                  </a:lnTo>
                  <a:lnTo>
                    <a:pt x="62" y="1743"/>
                  </a:lnTo>
                  <a:lnTo>
                    <a:pt x="52" y="1743"/>
                  </a:lnTo>
                  <a:lnTo>
                    <a:pt x="47" y="1743"/>
                  </a:lnTo>
                  <a:lnTo>
                    <a:pt x="47" y="1738"/>
                  </a:lnTo>
                  <a:lnTo>
                    <a:pt x="47" y="1729"/>
                  </a:lnTo>
                  <a:lnTo>
                    <a:pt x="52" y="1724"/>
                  </a:lnTo>
                  <a:lnTo>
                    <a:pt x="62" y="1714"/>
                  </a:lnTo>
                  <a:lnTo>
                    <a:pt x="76" y="1700"/>
                  </a:lnTo>
                  <a:lnTo>
                    <a:pt x="95" y="1686"/>
                  </a:lnTo>
                  <a:lnTo>
                    <a:pt x="115" y="1671"/>
                  </a:lnTo>
                  <a:lnTo>
                    <a:pt x="143" y="1657"/>
                  </a:lnTo>
                  <a:lnTo>
                    <a:pt x="196" y="1623"/>
                  </a:lnTo>
                  <a:lnTo>
                    <a:pt x="244" y="1590"/>
                  </a:lnTo>
                  <a:lnTo>
                    <a:pt x="297" y="1551"/>
                  </a:lnTo>
                  <a:lnTo>
                    <a:pt x="340" y="1508"/>
                  </a:lnTo>
                  <a:lnTo>
                    <a:pt x="354" y="1499"/>
                  </a:lnTo>
                  <a:lnTo>
                    <a:pt x="368" y="1484"/>
                  </a:lnTo>
                  <a:lnTo>
                    <a:pt x="383" y="1470"/>
                  </a:lnTo>
                  <a:lnTo>
                    <a:pt x="402" y="1456"/>
                  </a:lnTo>
                  <a:lnTo>
                    <a:pt x="421" y="1436"/>
                  </a:lnTo>
                  <a:lnTo>
                    <a:pt x="440" y="1413"/>
                  </a:lnTo>
                  <a:lnTo>
                    <a:pt x="459" y="1393"/>
                  </a:lnTo>
                  <a:lnTo>
                    <a:pt x="483" y="1365"/>
                  </a:lnTo>
                  <a:lnTo>
                    <a:pt x="512" y="1341"/>
                  </a:lnTo>
                  <a:lnTo>
                    <a:pt x="541" y="1307"/>
                  </a:lnTo>
                  <a:lnTo>
                    <a:pt x="570" y="1278"/>
                  </a:lnTo>
                  <a:lnTo>
                    <a:pt x="598" y="1245"/>
                  </a:lnTo>
                  <a:lnTo>
                    <a:pt x="632" y="1207"/>
                  </a:lnTo>
                  <a:lnTo>
                    <a:pt x="665" y="1168"/>
                  </a:lnTo>
                  <a:lnTo>
                    <a:pt x="699" y="1130"/>
                  </a:lnTo>
                  <a:lnTo>
                    <a:pt x="737" y="1087"/>
                  </a:lnTo>
                  <a:lnTo>
                    <a:pt x="804" y="1101"/>
                  </a:lnTo>
                  <a:lnTo>
                    <a:pt x="866" y="1120"/>
                  </a:lnTo>
                  <a:lnTo>
                    <a:pt x="828" y="1163"/>
                  </a:lnTo>
                  <a:lnTo>
                    <a:pt x="790" y="1207"/>
                  </a:lnTo>
                  <a:lnTo>
                    <a:pt x="752" y="1245"/>
                  </a:lnTo>
                  <a:lnTo>
                    <a:pt x="718" y="1283"/>
                  </a:lnTo>
                  <a:lnTo>
                    <a:pt x="684" y="1317"/>
                  </a:lnTo>
                  <a:lnTo>
                    <a:pt x="651" y="1350"/>
                  </a:lnTo>
                  <a:lnTo>
                    <a:pt x="622" y="1379"/>
                  </a:lnTo>
                  <a:lnTo>
                    <a:pt x="593" y="1408"/>
                  </a:lnTo>
                  <a:lnTo>
                    <a:pt x="565" y="1432"/>
                  </a:lnTo>
                  <a:lnTo>
                    <a:pt x="541" y="1456"/>
                  </a:lnTo>
                  <a:lnTo>
                    <a:pt x="512" y="1480"/>
                  </a:lnTo>
                  <a:lnTo>
                    <a:pt x="493" y="1499"/>
                  </a:lnTo>
                  <a:lnTo>
                    <a:pt x="469" y="1518"/>
                  </a:lnTo>
                  <a:lnTo>
                    <a:pt x="450" y="1532"/>
                  </a:lnTo>
                  <a:lnTo>
                    <a:pt x="435" y="1547"/>
                  </a:lnTo>
                  <a:lnTo>
                    <a:pt x="421" y="1556"/>
                  </a:lnTo>
                  <a:close/>
                  <a:moveTo>
                    <a:pt x="876" y="1077"/>
                  </a:moveTo>
                  <a:lnTo>
                    <a:pt x="905" y="1106"/>
                  </a:lnTo>
                  <a:lnTo>
                    <a:pt x="938" y="1135"/>
                  </a:lnTo>
                  <a:lnTo>
                    <a:pt x="977" y="1163"/>
                  </a:lnTo>
                  <a:lnTo>
                    <a:pt x="1010" y="1192"/>
                  </a:lnTo>
                  <a:lnTo>
                    <a:pt x="1053" y="1221"/>
                  </a:lnTo>
                  <a:lnTo>
                    <a:pt x="1096" y="1250"/>
                  </a:lnTo>
                  <a:lnTo>
                    <a:pt x="1140" y="1278"/>
                  </a:lnTo>
                  <a:lnTo>
                    <a:pt x="1187" y="1307"/>
                  </a:lnTo>
                  <a:lnTo>
                    <a:pt x="1235" y="1345"/>
                  </a:lnTo>
                  <a:lnTo>
                    <a:pt x="1283" y="1374"/>
                  </a:lnTo>
                  <a:lnTo>
                    <a:pt x="1336" y="1403"/>
                  </a:lnTo>
                  <a:lnTo>
                    <a:pt x="1389" y="1432"/>
                  </a:lnTo>
                  <a:lnTo>
                    <a:pt x="1446" y="1460"/>
                  </a:lnTo>
                  <a:lnTo>
                    <a:pt x="1508" y="1484"/>
                  </a:lnTo>
                  <a:lnTo>
                    <a:pt x="1571" y="1508"/>
                  </a:lnTo>
                  <a:lnTo>
                    <a:pt x="1638" y="1532"/>
                  </a:lnTo>
                  <a:lnTo>
                    <a:pt x="1666" y="1547"/>
                  </a:lnTo>
                  <a:lnTo>
                    <a:pt x="1700" y="1556"/>
                  </a:lnTo>
                  <a:lnTo>
                    <a:pt x="1729" y="1566"/>
                  </a:lnTo>
                  <a:lnTo>
                    <a:pt x="1753" y="1575"/>
                  </a:lnTo>
                  <a:lnTo>
                    <a:pt x="1777" y="1585"/>
                  </a:lnTo>
                  <a:lnTo>
                    <a:pt x="1800" y="1595"/>
                  </a:lnTo>
                  <a:lnTo>
                    <a:pt x="1820" y="1604"/>
                  </a:lnTo>
                  <a:lnTo>
                    <a:pt x="1839" y="1609"/>
                  </a:lnTo>
                  <a:lnTo>
                    <a:pt x="1853" y="1614"/>
                  </a:lnTo>
                  <a:lnTo>
                    <a:pt x="1868" y="1623"/>
                  </a:lnTo>
                  <a:lnTo>
                    <a:pt x="1877" y="1628"/>
                  </a:lnTo>
                  <a:lnTo>
                    <a:pt x="1887" y="1628"/>
                  </a:lnTo>
                  <a:lnTo>
                    <a:pt x="1896" y="1633"/>
                  </a:lnTo>
                  <a:lnTo>
                    <a:pt x="1901" y="1638"/>
                  </a:lnTo>
                  <a:lnTo>
                    <a:pt x="1901" y="1642"/>
                  </a:lnTo>
                  <a:lnTo>
                    <a:pt x="1896" y="1647"/>
                  </a:lnTo>
                  <a:lnTo>
                    <a:pt x="1891" y="1647"/>
                  </a:lnTo>
                  <a:lnTo>
                    <a:pt x="1887" y="1652"/>
                  </a:lnTo>
                  <a:lnTo>
                    <a:pt x="1882" y="1652"/>
                  </a:lnTo>
                  <a:lnTo>
                    <a:pt x="1872" y="1657"/>
                  </a:lnTo>
                  <a:lnTo>
                    <a:pt x="1863" y="1657"/>
                  </a:lnTo>
                  <a:lnTo>
                    <a:pt x="1853" y="1662"/>
                  </a:lnTo>
                  <a:lnTo>
                    <a:pt x="1844" y="1666"/>
                  </a:lnTo>
                  <a:lnTo>
                    <a:pt x="1829" y="1666"/>
                  </a:lnTo>
                  <a:lnTo>
                    <a:pt x="1815" y="1671"/>
                  </a:lnTo>
                  <a:lnTo>
                    <a:pt x="1800" y="1671"/>
                  </a:lnTo>
                  <a:lnTo>
                    <a:pt x="1786" y="1676"/>
                  </a:lnTo>
                  <a:lnTo>
                    <a:pt x="1767" y="1681"/>
                  </a:lnTo>
                  <a:lnTo>
                    <a:pt x="1748" y="1681"/>
                  </a:lnTo>
                  <a:lnTo>
                    <a:pt x="1709" y="1690"/>
                  </a:lnTo>
                  <a:lnTo>
                    <a:pt x="1671" y="1695"/>
                  </a:lnTo>
                  <a:lnTo>
                    <a:pt x="1638" y="1700"/>
                  </a:lnTo>
                  <a:lnTo>
                    <a:pt x="1604" y="1700"/>
                  </a:lnTo>
                  <a:lnTo>
                    <a:pt x="1575" y="1700"/>
                  </a:lnTo>
                  <a:lnTo>
                    <a:pt x="1551" y="1705"/>
                  </a:lnTo>
                  <a:lnTo>
                    <a:pt x="1527" y="1700"/>
                  </a:lnTo>
                  <a:lnTo>
                    <a:pt x="1508" y="1700"/>
                  </a:lnTo>
                  <a:lnTo>
                    <a:pt x="1484" y="1695"/>
                  </a:lnTo>
                  <a:lnTo>
                    <a:pt x="1456" y="1686"/>
                  </a:lnTo>
                  <a:lnTo>
                    <a:pt x="1432" y="1671"/>
                  </a:lnTo>
                  <a:lnTo>
                    <a:pt x="1403" y="1652"/>
                  </a:lnTo>
                  <a:lnTo>
                    <a:pt x="1374" y="1628"/>
                  </a:lnTo>
                  <a:lnTo>
                    <a:pt x="1341" y="1599"/>
                  </a:lnTo>
                  <a:lnTo>
                    <a:pt x="1326" y="1580"/>
                  </a:lnTo>
                  <a:lnTo>
                    <a:pt x="1307" y="1566"/>
                  </a:lnTo>
                  <a:lnTo>
                    <a:pt x="1293" y="1547"/>
                  </a:lnTo>
                  <a:lnTo>
                    <a:pt x="1274" y="1527"/>
                  </a:lnTo>
                  <a:lnTo>
                    <a:pt x="1235" y="1489"/>
                  </a:lnTo>
                  <a:lnTo>
                    <a:pt x="1202" y="1456"/>
                  </a:lnTo>
                  <a:lnTo>
                    <a:pt x="1173" y="1427"/>
                  </a:lnTo>
                  <a:lnTo>
                    <a:pt x="1144" y="1403"/>
                  </a:lnTo>
                  <a:lnTo>
                    <a:pt x="1116" y="1379"/>
                  </a:lnTo>
                  <a:lnTo>
                    <a:pt x="1096" y="1355"/>
                  </a:lnTo>
                  <a:lnTo>
                    <a:pt x="1077" y="1341"/>
                  </a:lnTo>
                  <a:lnTo>
                    <a:pt x="1058" y="1326"/>
                  </a:lnTo>
                  <a:lnTo>
                    <a:pt x="1039" y="1312"/>
                  </a:lnTo>
                  <a:lnTo>
                    <a:pt x="1020" y="1293"/>
                  </a:lnTo>
                  <a:lnTo>
                    <a:pt x="996" y="1274"/>
                  </a:lnTo>
                  <a:lnTo>
                    <a:pt x="972" y="1250"/>
                  </a:lnTo>
                  <a:lnTo>
                    <a:pt x="948" y="1226"/>
                  </a:lnTo>
                  <a:lnTo>
                    <a:pt x="914" y="1197"/>
                  </a:lnTo>
                  <a:lnTo>
                    <a:pt x="886" y="1163"/>
                  </a:lnTo>
                  <a:lnTo>
                    <a:pt x="852" y="1125"/>
                  </a:lnTo>
                  <a:lnTo>
                    <a:pt x="876" y="1077"/>
                  </a:lnTo>
                  <a:close/>
                  <a:moveTo>
                    <a:pt x="512" y="929"/>
                  </a:moveTo>
                  <a:lnTo>
                    <a:pt x="512" y="924"/>
                  </a:lnTo>
                  <a:lnTo>
                    <a:pt x="512" y="919"/>
                  </a:lnTo>
                  <a:lnTo>
                    <a:pt x="517" y="910"/>
                  </a:lnTo>
                  <a:lnTo>
                    <a:pt x="526" y="900"/>
                  </a:lnTo>
                  <a:lnTo>
                    <a:pt x="541" y="886"/>
                  </a:lnTo>
                  <a:lnTo>
                    <a:pt x="555" y="871"/>
                  </a:lnTo>
                  <a:lnTo>
                    <a:pt x="570" y="857"/>
                  </a:lnTo>
                  <a:lnTo>
                    <a:pt x="593" y="838"/>
                  </a:lnTo>
                  <a:lnTo>
                    <a:pt x="613" y="819"/>
                  </a:lnTo>
                  <a:lnTo>
                    <a:pt x="637" y="799"/>
                  </a:lnTo>
                  <a:lnTo>
                    <a:pt x="661" y="775"/>
                  </a:lnTo>
                  <a:lnTo>
                    <a:pt x="684" y="752"/>
                  </a:lnTo>
                  <a:lnTo>
                    <a:pt x="708" y="723"/>
                  </a:lnTo>
                  <a:lnTo>
                    <a:pt x="732" y="694"/>
                  </a:lnTo>
                  <a:lnTo>
                    <a:pt x="756" y="661"/>
                  </a:lnTo>
                  <a:lnTo>
                    <a:pt x="780" y="627"/>
                  </a:lnTo>
                  <a:lnTo>
                    <a:pt x="804" y="593"/>
                  </a:lnTo>
                  <a:lnTo>
                    <a:pt x="828" y="560"/>
                  </a:lnTo>
                  <a:lnTo>
                    <a:pt x="852" y="531"/>
                  </a:lnTo>
                  <a:lnTo>
                    <a:pt x="871" y="498"/>
                  </a:lnTo>
                  <a:lnTo>
                    <a:pt x="890" y="464"/>
                  </a:lnTo>
                  <a:lnTo>
                    <a:pt x="905" y="431"/>
                  </a:lnTo>
                  <a:lnTo>
                    <a:pt x="919" y="397"/>
                  </a:lnTo>
                  <a:lnTo>
                    <a:pt x="929" y="364"/>
                  </a:lnTo>
                  <a:lnTo>
                    <a:pt x="938" y="330"/>
                  </a:lnTo>
                  <a:lnTo>
                    <a:pt x="943" y="297"/>
                  </a:lnTo>
                  <a:lnTo>
                    <a:pt x="948" y="268"/>
                  </a:lnTo>
                  <a:lnTo>
                    <a:pt x="953" y="239"/>
                  </a:lnTo>
                  <a:lnTo>
                    <a:pt x="958" y="210"/>
                  </a:lnTo>
                  <a:lnTo>
                    <a:pt x="958" y="186"/>
                  </a:lnTo>
                  <a:lnTo>
                    <a:pt x="958" y="162"/>
                  </a:lnTo>
                  <a:lnTo>
                    <a:pt x="953" y="138"/>
                  </a:lnTo>
                  <a:lnTo>
                    <a:pt x="986" y="158"/>
                  </a:lnTo>
                  <a:lnTo>
                    <a:pt x="1015" y="172"/>
                  </a:lnTo>
                  <a:lnTo>
                    <a:pt x="1039" y="182"/>
                  </a:lnTo>
                  <a:lnTo>
                    <a:pt x="1058" y="196"/>
                  </a:lnTo>
                  <a:lnTo>
                    <a:pt x="1072" y="210"/>
                  </a:lnTo>
                  <a:lnTo>
                    <a:pt x="1082" y="220"/>
                  </a:lnTo>
                  <a:lnTo>
                    <a:pt x="1092" y="229"/>
                  </a:lnTo>
                  <a:lnTo>
                    <a:pt x="1092" y="239"/>
                  </a:lnTo>
                  <a:lnTo>
                    <a:pt x="1092" y="249"/>
                  </a:lnTo>
                  <a:lnTo>
                    <a:pt x="1087" y="263"/>
                  </a:lnTo>
                  <a:lnTo>
                    <a:pt x="1087" y="277"/>
                  </a:lnTo>
                  <a:lnTo>
                    <a:pt x="1077" y="297"/>
                  </a:lnTo>
                  <a:lnTo>
                    <a:pt x="1072" y="320"/>
                  </a:lnTo>
                  <a:lnTo>
                    <a:pt x="1063" y="344"/>
                  </a:lnTo>
                  <a:lnTo>
                    <a:pt x="1053" y="373"/>
                  </a:lnTo>
                  <a:lnTo>
                    <a:pt x="1039" y="407"/>
                  </a:lnTo>
                  <a:lnTo>
                    <a:pt x="1025" y="440"/>
                  </a:lnTo>
                  <a:lnTo>
                    <a:pt x="1005" y="474"/>
                  </a:lnTo>
                  <a:lnTo>
                    <a:pt x="986" y="507"/>
                  </a:lnTo>
                  <a:lnTo>
                    <a:pt x="967" y="541"/>
                  </a:lnTo>
                  <a:lnTo>
                    <a:pt x="943" y="574"/>
                  </a:lnTo>
                  <a:lnTo>
                    <a:pt x="919" y="608"/>
                  </a:lnTo>
                  <a:lnTo>
                    <a:pt x="895" y="641"/>
                  </a:lnTo>
                  <a:lnTo>
                    <a:pt x="866" y="670"/>
                  </a:lnTo>
                  <a:lnTo>
                    <a:pt x="838" y="704"/>
                  </a:lnTo>
                  <a:lnTo>
                    <a:pt x="809" y="732"/>
                  </a:lnTo>
                  <a:lnTo>
                    <a:pt x="785" y="756"/>
                  </a:lnTo>
                  <a:lnTo>
                    <a:pt x="756" y="785"/>
                  </a:lnTo>
                  <a:lnTo>
                    <a:pt x="728" y="809"/>
                  </a:lnTo>
                  <a:lnTo>
                    <a:pt x="699" y="828"/>
                  </a:lnTo>
                  <a:lnTo>
                    <a:pt x="670" y="852"/>
                  </a:lnTo>
                  <a:lnTo>
                    <a:pt x="641" y="871"/>
                  </a:lnTo>
                  <a:lnTo>
                    <a:pt x="617" y="886"/>
                  </a:lnTo>
                  <a:lnTo>
                    <a:pt x="593" y="900"/>
                  </a:lnTo>
                  <a:lnTo>
                    <a:pt x="570" y="914"/>
                  </a:lnTo>
                  <a:lnTo>
                    <a:pt x="555" y="919"/>
                  </a:lnTo>
                  <a:lnTo>
                    <a:pt x="536" y="929"/>
                  </a:lnTo>
                  <a:lnTo>
                    <a:pt x="526" y="929"/>
                  </a:lnTo>
                  <a:lnTo>
                    <a:pt x="517" y="929"/>
                  </a:lnTo>
                  <a:lnTo>
                    <a:pt x="512" y="929"/>
                  </a:lnTo>
                  <a:close/>
                  <a:moveTo>
                    <a:pt x="349" y="124"/>
                  </a:moveTo>
                  <a:lnTo>
                    <a:pt x="330" y="105"/>
                  </a:lnTo>
                  <a:lnTo>
                    <a:pt x="311" y="86"/>
                  </a:lnTo>
                  <a:lnTo>
                    <a:pt x="297" y="71"/>
                  </a:lnTo>
                  <a:lnTo>
                    <a:pt x="282" y="57"/>
                  </a:lnTo>
                  <a:lnTo>
                    <a:pt x="277" y="43"/>
                  </a:lnTo>
                  <a:lnTo>
                    <a:pt x="268" y="28"/>
                  </a:lnTo>
                  <a:lnTo>
                    <a:pt x="263" y="19"/>
                  </a:lnTo>
                  <a:lnTo>
                    <a:pt x="263" y="9"/>
                  </a:lnTo>
                  <a:lnTo>
                    <a:pt x="297" y="9"/>
                  </a:lnTo>
                  <a:lnTo>
                    <a:pt x="335" y="14"/>
                  </a:lnTo>
                  <a:lnTo>
                    <a:pt x="373" y="19"/>
                  </a:lnTo>
                  <a:lnTo>
                    <a:pt x="411" y="24"/>
                  </a:lnTo>
                  <a:lnTo>
                    <a:pt x="440" y="33"/>
                  </a:lnTo>
                  <a:lnTo>
                    <a:pt x="455" y="38"/>
                  </a:lnTo>
                  <a:lnTo>
                    <a:pt x="469" y="43"/>
                  </a:lnTo>
                  <a:lnTo>
                    <a:pt x="479" y="47"/>
                  </a:lnTo>
                  <a:lnTo>
                    <a:pt x="488" y="57"/>
                  </a:lnTo>
                  <a:lnTo>
                    <a:pt x="498" y="67"/>
                  </a:lnTo>
                  <a:lnTo>
                    <a:pt x="507" y="71"/>
                  </a:lnTo>
                  <a:lnTo>
                    <a:pt x="512" y="86"/>
                  </a:lnTo>
                  <a:lnTo>
                    <a:pt x="517" y="95"/>
                  </a:lnTo>
                  <a:lnTo>
                    <a:pt x="517" y="105"/>
                  </a:lnTo>
                  <a:lnTo>
                    <a:pt x="517" y="115"/>
                  </a:lnTo>
                  <a:lnTo>
                    <a:pt x="517" y="138"/>
                  </a:lnTo>
                  <a:lnTo>
                    <a:pt x="512" y="158"/>
                  </a:lnTo>
                  <a:lnTo>
                    <a:pt x="507" y="167"/>
                  </a:lnTo>
                  <a:lnTo>
                    <a:pt x="502" y="177"/>
                  </a:lnTo>
                  <a:lnTo>
                    <a:pt x="493" y="186"/>
                  </a:lnTo>
                  <a:lnTo>
                    <a:pt x="488" y="191"/>
                  </a:lnTo>
                  <a:lnTo>
                    <a:pt x="483" y="196"/>
                  </a:lnTo>
                  <a:lnTo>
                    <a:pt x="474" y="201"/>
                  </a:lnTo>
                  <a:lnTo>
                    <a:pt x="469" y="201"/>
                  </a:lnTo>
                  <a:lnTo>
                    <a:pt x="464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5" y="186"/>
                  </a:lnTo>
                  <a:lnTo>
                    <a:pt x="421" y="182"/>
                  </a:lnTo>
                  <a:lnTo>
                    <a:pt x="407" y="167"/>
                  </a:lnTo>
                  <a:lnTo>
                    <a:pt x="392" y="158"/>
                  </a:lnTo>
                  <a:lnTo>
                    <a:pt x="373" y="143"/>
                  </a:lnTo>
                  <a:lnTo>
                    <a:pt x="349" y="124"/>
                  </a:lnTo>
                  <a:close/>
                  <a:moveTo>
                    <a:pt x="297" y="306"/>
                  </a:moveTo>
                  <a:lnTo>
                    <a:pt x="316" y="311"/>
                  </a:lnTo>
                  <a:lnTo>
                    <a:pt x="325" y="320"/>
                  </a:lnTo>
                  <a:lnTo>
                    <a:pt x="340" y="330"/>
                  </a:lnTo>
                  <a:lnTo>
                    <a:pt x="349" y="335"/>
                  </a:lnTo>
                  <a:lnTo>
                    <a:pt x="359" y="344"/>
                  </a:lnTo>
                  <a:lnTo>
                    <a:pt x="368" y="354"/>
                  </a:lnTo>
                  <a:lnTo>
                    <a:pt x="373" y="364"/>
                  </a:lnTo>
                  <a:lnTo>
                    <a:pt x="378" y="373"/>
                  </a:lnTo>
                  <a:lnTo>
                    <a:pt x="378" y="383"/>
                  </a:lnTo>
                  <a:lnTo>
                    <a:pt x="378" y="397"/>
                  </a:lnTo>
                  <a:lnTo>
                    <a:pt x="378" y="416"/>
                  </a:lnTo>
                  <a:lnTo>
                    <a:pt x="378" y="421"/>
                  </a:lnTo>
                  <a:lnTo>
                    <a:pt x="373" y="431"/>
                  </a:lnTo>
                  <a:lnTo>
                    <a:pt x="368" y="435"/>
                  </a:lnTo>
                  <a:lnTo>
                    <a:pt x="368" y="440"/>
                  </a:lnTo>
                  <a:lnTo>
                    <a:pt x="354" y="450"/>
                  </a:lnTo>
                  <a:lnTo>
                    <a:pt x="344" y="459"/>
                  </a:lnTo>
                  <a:lnTo>
                    <a:pt x="330" y="464"/>
                  </a:lnTo>
                  <a:lnTo>
                    <a:pt x="325" y="464"/>
                  </a:lnTo>
                  <a:lnTo>
                    <a:pt x="320" y="464"/>
                  </a:lnTo>
                  <a:lnTo>
                    <a:pt x="311" y="459"/>
                  </a:lnTo>
                  <a:lnTo>
                    <a:pt x="301" y="455"/>
                  </a:lnTo>
                  <a:lnTo>
                    <a:pt x="292" y="445"/>
                  </a:lnTo>
                  <a:lnTo>
                    <a:pt x="277" y="435"/>
                  </a:lnTo>
                  <a:lnTo>
                    <a:pt x="263" y="426"/>
                  </a:lnTo>
                  <a:lnTo>
                    <a:pt x="249" y="411"/>
                  </a:lnTo>
                  <a:lnTo>
                    <a:pt x="229" y="397"/>
                  </a:lnTo>
                  <a:lnTo>
                    <a:pt x="210" y="383"/>
                  </a:lnTo>
                  <a:lnTo>
                    <a:pt x="196" y="368"/>
                  </a:lnTo>
                  <a:lnTo>
                    <a:pt x="182" y="349"/>
                  </a:lnTo>
                  <a:lnTo>
                    <a:pt x="172" y="335"/>
                  </a:lnTo>
                  <a:lnTo>
                    <a:pt x="162" y="320"/>
                  </a:lnTo>
                  <a:lnTo>
                    <a:pt x="158" y="306"/>
                  </a:lnTo>
                  <a:lnTo>
                    <a:pt x="153" y="292"/>
                  </a:lnTo>
                  <a:lnTo>
                    <a:pt x="153" y="282"/>
                  </a:lnTo>
                  <a:lnTo>
                    <a:pt x="196" y="282"/>
                  </a:lnTo>
                  <a:lnTo>
                    <a:pt x="215" y="282"/>
                  </a:lnTo>
                  <a:lnTo>
                    <a:pt x="234" y="287"/>
                  </a:lnTo>
                  <a:lnTo>
                    <a:pt x="253" y="292"/>
                  </a:lnTo>
                  <a:lnTo>
                    <a:pt x="268" y="297"/>
                  </a:lnTo>
                  <a:lnTo>
                    <a:pt x="282" y="301"/>
                  </a:lnTo>
                  <a:lnTo>
                    <a:pt x="297" y="306"/>
                  </a:lnTo>
                  <a:close/>
                  <a:moveTo>
                    <a:pt x="737" y="287"/>
                  </a:moveTo>
                  <a:lnTo>
                    <a:pt x="756" y="311"/>
                  </a:lnTo>
                  <a:lnTo>
                    <a:pt x="761" y="320"/>
                  </a:lnTo>
                  <a:lnTo>
                    <a:pt x="771" y="330"/>
                  </a:lnTo>
                  <a:lnTo>
                    <a:pt x="775" y="344"/>
                  </a:lnTo>
                  <a:lnTo>
                    <a:pt x="780" y="354"/>
                  </a:lnTo>
                  <a:lnTo>
                    <a:pt x="780" y="368"/>
                  </a:lnTo>
                  <a:lnTo>
                    <a:pt x="780" y="383"/>
                  </a:lnTo>
                  <a:lnTo>
                    <a:pt x="780" y="392"/>
                  </a:lnTo>
                  <a:lnTo>
                    <a:pt x="780" y="407"/>
                  </a:lnTo>
                  <a:lnTo>
                    <a:pt x="775" y="421"/>
                  </a:lnTo>
                  <a:lnTo>
                    <a:pt x="771" y="435"/>
                  </a:lnTo>
                  <a:lnTo>
                    <a:pt x="756" y="469"/>
                  </a:lnTo>
                  <a:lnTo>
                    <a:pt x="737" y="507"/>
                  </a:lnTo>
                  <a:lnTo>
                    <a:pt x="728" y="522"/>
                  </a:lnTo>
                  <a:lnTo>
                    <a:pt x="718" y="536"/>
                  </a:lnTo>
                  <a:lnTo>
                    <a:pt x="708" y="550"/>
                  </a:lnTo>
                  <a:lnTo>
                    <a:pt x="704" y="560"/>
                  </a:lnTo>
                  <a:lnTo>
                    <a:pt x="694" y="570"/>
                  </a:lnTo>
                  <a:lnTo>
                    <a:pt x="689" y="574"/>
                  </a:lnTo>
                  <a:lnTo>
                    <a:pt x="680" y="579"/>
                  </a:lnTo>
                  <a:lnTo>
                    <a:pt x="670" y="579"/>
                  </a:lnTo>
                  <a:lnTo>
                    <a:pt x="665" y="574"/>
                  </a:lnTo>
                  <a:lnTo>
                    <a:pt x="661" y="574"/>
                  </a:lnTo>
                  <a:lnTo>
                    <a:pt x="656" y="570"/>
                  </a:lnTo>
                  <a:lnTo>
                    <a:pt x="651" y="555"/>
                  </a:lnTo>
                  <a:lnTo>
                    <a:pt x="641" y="536"/>
                  </a:lnTo>
                  <a:lnTo>
                    <a:pt x="637" y="522"/>
                  </a:lnTo>
                  <a:lnTo>
                    <a:pt x="632" y="502"/>
                  </a:lnTo>
                  <a:lnTo>
                    <a:pt x="627" y="488"/>
                  </a:lnTo>
                  <a:lnTo>
                    <a:pt x="627" y="483"/>
                  </a:lnTo>
                  <a:lnTo>
                    <a:pt x="627" y="479"/>
                  </a:lnTo>
                  <a:lnTo>
                    <a:pt x="627" y="474"/>
                  </a:lnTo>
                  <a:lnTo>
                    <a:pt x="632" y="469"/>
                  </a:lnTo>
                  <a:lnTo>
                    <a:pt x="632" y="464"/>
                  </a:lnTo>
                  <a:lnTo>
                    <a:pt x="637" y="459"/>
                  </a:lnTo>
                  <a:lnTo>
                    <a:pt x="646" y="455"/>
                  </a:lnTo>
                  <a:lnTo>
                    <a:pt x="651" y="445"/>
                  </a:lnTo>
                  <a:lnTo>
                    <a:pt x="661" y="440"/>
                  </a:lnTo>
                  <a:lnTo>
                    <a:pt x="665" y="431"/>
                  </a:lnTo>
                  <a:lnTo>
                    <a:pt x="675" y="421"/>
                  </a:lnTo>
                  <a:lnTo>
                    <a:pt x="684" y="407"/>
                  </a:lnTo>
                  <a:lnTo>
                    <a:pt x="694" y="388"/>
                  </a:lnTo>
                  <a:lnTo>
                    <a:pt x="704" y="368"/>
                  </a:lnTo>
                  <a:lnTo>
                    <a:pt x="713" y="344"/>
                  </a:lnTo>
                  <a:lnTo>
                    <a:pt x="728" y="320"/>
                  </a:lnTo>
                  <a:lnTo>
                    <a:pt x="737" y="287"/>
                  </a:lnTo>
                  <a:close/>
                  <a:moveTo>
                    <a:pt x="263" y="938"/>
                  </a:moveTo>
                  <a:lnTo>
                    <a:pt x="258" y="938"/>
                  </a:lnTo>
                  <a:lnTo>
                    <a:pt x="249" y="934"/>
                  </a:lnTo>
                  <a:lnTo>
                    <a:pt x="244" y="929"/>
                  </a:lnTo>
                  <a:lnTo>
                    <a:pt x="234" y="919"/>
                  </a:lnTo>
                  <a:lnTo>
                    <a:pt x="229" y="910"/>
                  </a:lnTo>
                  <a:lnTo>
                    <a:pt x="220" y="890"/>
                  </a:lnTo>
                  <a:lnTo>
                    <a:pt x="210" y="876"/>
                  </a:lnTo>
                  <a:lnTo>
                    <a:pt x="206" y="852"/>
                  </a:lnTo>
                  <a:lnTo>
                    <a:pt x="196" y="833"/>
                  </a:lnTo>
                  <a:lnTo>
                    <a:pt x="186" y="814"/>
                  </a:lnTo>
                  <a:lnTo>
                    <a:pt x="182" y="799"/>
                  </a:lnTo>
                  <a:lnTo>
                    <a:pt x="177" y="785"/>
                  </a:lnTo>
                  <a:lnTo>
                    <a:pt x="177" y="771"/>
                  </a:lnTo>
                  <a:lnTo>
                    <a:pt x="172" y="761"/>
                  </a:lnTo>
                  <a:lnTo>
                    <a:pt x="177" y="752"/>
                  </a:lnTo>
                  <a:lnTo>
                    <a:pt x="177" y="747"/>
                  </a:lnTo>
                  <a:lnTo>
                    <a:pt x="182" y="737"/>
                  </a:lnTo>
                  <a:lnTo>
                    <a:pt x="191" y="732"/>
                  </a:lnTo>
                  <a:lnTo>
                    <a:pt x="201" y="732"/>
                  </a:lnTo>
                  <a:lnTo>
                    <a:pt x="210" y="728"/>
                  </a:lnTo>
                  <a:lnTo>
                    <a:pt x="220" y="732"/>
                  </a:lnTo>
                  <a:lnTo>
                    <a:pt x="225" y="732"/>
                  </a:lnTo>
                  <a:lnTo>
                    <a:pt x="239" y="732"/>
                  </a:lnTo>
                  <a:lnTo>
                    <a:pt x="249" y="728"/>
                  </a:lnTo>
                  <a:lnTo>
                    <a:pt x="263" y="723"/>
                  </a:lnTo>
                  <a:lnTo>
                    <a:pt x="268" y="718"/>
                  </a:lnTo>
                  <a:lnTo>
                    <a:pt x="277" y="708"/>
                  </a:lnTo>
                  <a:lnTo>
                    <a:pt x="292" y="699"/>
                  </a:lnTo>
                  <a:lnTo>
                    <a:pt x="306" y="680"/>
                  </a:lnTo>
                  <a:lnTo>
                    <a:pt x="330" y="661"/>
                  </a:lnTo>
                  <a:lnTo>
                    <a:pt x="354" y="641"/>
                  </a:lnTo>
                  <a:lnTo>
                    <a:pt x="378" y="613"/>
                  </a:lnTo>
                  <a:lnTo>
                    <a:pt x="392" y="598"/>
                  </a:lnTo>
                  <a:lnTo>
                    <a:pt x="411" y="579"/>
                  </a:lnTo>
                  <a:lnTo>
                    <a:pt x="426" y="565"/>
                  </a:lnTo>
                  <a:lnTo>
                    <a:pt x="440" y="546"/>
                  </a:lnTo>
                  <a:lnTo>
                    <a:pt x="469" y="522"/>
                  </a:lnTo>
                  <a:lnTo>
                    <a:pt x="493" y="498"/>
                  </a:lnTo>
                  <a:lnTo>
                    <a:pt x="512" y="479"/>
                  </a:lnTo>
                  <a:lnTo>
                    <a:pt x="531" y="469"/>
                  </a:lnTo>
                  <a:lnTo>
                    <a:pt x="541" y="459"/>
                  </a:lnTo>
                  <a:lnTo>
                    <a:pt x="550" y="455"/>
                  </a:lnTo>
                  <a:lnTo>
                    <a:pt x="555" y="455"/>
                  </a:lnTo>
                  <a:lnTo>
                    <a:pt x="560" y="459"/>
                  </a:lnTo>
                  <a:lnTo>
                    <a:pt x="560" y="464"/>
                  </a:lnTo>
                  <a:lnTo>
                    <a:pt x="555" y="469"/>
                  </a:lnTo>
                  <a:lnTo>
                    <a:pt x="555" y="474"/>
                  </a:lnTo>
                  <a:lnTo>
                    <a:pt x="550" y="483"/>
                  </a:lnTo>
                  <a:lnTo>
                    <a:pt x="546" y="498"/>
                  </a:lnTo>
                  <a:lnTo>
                    <a:pt x="541" y="507"/>
                  </a:lnTo>
                  <a:lnTo>
                    <a:pt x="536" y="522"/>
                  </a:lnTo>
                  <a:lnTo>
                    <a:pt x="526" y="536"/>
                  </a:lnTo>
                  <a:lnTo>
                    <a:pt x="517" y="555"/>
                  </a:lnTo>
                  <a:lnTo>
                    <a:pt x="507" y="574"/>
                  </a:lnTo>
                  <a:lnTo>
                    <a:pt x="498" y="598"/>
                  </a:lnTo>
                  <a:lnTo>
                    <a:pt x="483" y="617"/>
                  </a:lnTo>
                  <a:lnTo>
                    <a:pt x="469" y="641"/>
                  </a:lnTo>
                  <a:lnTo>
                    <a:pt x="455" y="670"/>
                  </a:lnTo>
                  <a:lnTo>
                    <a:pt x="435" y="694"/>
                  </a:lnTo>
                  <a:lnTo>
                    <a:pt x="421" y="723"/>
                  </a:lnTo>
                  <a:lnTo>
                    <a:pt x="402" y="752"/>
                  </a:lnTo>
                  <a:lnTo>
                    <a:pt x="388" y="775"/>
                  </a:lnTo>
                  <a:lnTo>
                    <a:pt x="373" y="799"/>
                  </a:lnTo>
                  <a:lnTo>
                    <a:pt x="359" y="819"/>
                  </a:lnTo>
                  <a:lnTo>
                    <a:pt x="344" y="838"/>
                  </a:lnTo>
                  <a:lnTo>
                    <a:pt x="335" y="857"/>
                  </a:lnTo>
                  <a:lnTo>
                    <a:pt x="320" y="871"/>
                  </a:lnTo>
                  <a:lnTo>
                    <a:pt x="311" y="886"/>
                  </a:lnTo>
                  <a:lnTo>
                    <a:pt x="301" y="900"/>
                  </a:lnTo>
                  <a:lnTo>
                    <a:pt x="292" y="910"/>
                  </a:lnTo>
                  <a:lnTo>
                    <a:pt x="287" y="919"/>
                  </a:lnTo>
                  <a:lnTo>
                    <a:pt x="277" y="924"/>
                  </a:lnTo>
                  <a:lnTo>
                    <a:pt x="273" y="929"/>
                  </a:lnTo>
                  <a:lnTo>
                    <a:pt x="268" y="934"/>
                  </a:lnTo>
                  <a:lnTo>
                    <a:pt x="263" y="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4783680" y="2439720"/>
              <a:ext cx="938520" cy="1082520"/>
            </a:xfrm>
            <a:custGeom>
              <a:avLst/>
              <a:gdLst/>
              <a:ahLst/>
              <a:rect l="l" t="t" r="r" b="b"/>
              <a:pathLst>
                <a:path w="776" h="895">
                  <a:moveTo>
                    <a:pt x="412" y="704"/>
                  </a:moveTo>
                  <a:lnTo>
                    <a:pt x="417" y="704"/>
                  </a:lnTo>
                  <a:lnTo>
                    <a:pt x="421" y="699"/>
                  </a:lnTo>
                  <a:lnTo>
                    <a:pt x="426" y="694"/>
                  </a:lnTo>
                  <a:lnTo>
                    <a:pt x="431" y="689"/>
                  </a:lnTo>
                  <a:lnTo>
                    <a:pt x="436" y="680"/>
                  </a:lnTo>
                  <a:lnTo>
                    <a:pt x="440" y="670"/>
                  </a:lnTo>
                  <a:lnTo>
                    <a:pt x="450" y="661"/>
                  </a:lnTo>
                  <a:lnTo>
                    <a:pt x="455" y="651"/>
                  </a:lnTo>
                  <a:lnTo>
                    <a:pt x="460" y="637"/>
                  </a:lnTo>
                  <a:lnTo>
                    <a:pt x="464" y="622"/>
                  </a:lnTo>
                  <a:lnTo>
                    <a:pt x="474" y="608"/>
                  </a:lnTo>
                  <a:lnTo>
                    <a:pt x="479" y="589"/>
                  </a:lnTo>
                  <a:lnTo>
                    <a:pt x="484" y="574"/>
                  </a:lnTo>
                  <a:lnTo>
                    <a:pt x="493" y="555"/>
                  </a:lnTo>
                  <a:lnTo>
                    <a:pt x="508" y="512"/>
                  </a:lnTo>
                  <a:lnTo>
                    <a:pt x="522" y="474"/>
                  </a:lnTo>
                  <a:lnTo>
                    <a:pt x="536" y="435"/>
                  </a:lnTo>
                  <a:lnTo>
                    <a:pt x="546" y="397"/>
                  </a:lnTo>
                  <a:lnTo>
                    <a:pt x="555" y="364"/>
                  </a:lnTo>
                  <a:lnTo>
                    <a:pt x="560" y="335"/>
                  </a:lnTo>
                  <a:lnTo>
                    <a:pt x="570" y="301"/>
                  </a:lnTo>
                  <a:lnTo>
                    <a:pt x="575" y="273"/>
                  </a:lnTo>
                  <a:lnTo>
                    <a:pt x="575" y="249"/>
                  </a:lnTo>
                  <a:lnTo>
                    <a:pt x="579" y="225"/>
                  </a:lnTo>
                  <a:lnTo>
                    <a:pt x="579" y="206"/>
                  </a:lnTo>
                  <a:lnTo>
                    <a:pt x="579" y="191"/>
                  </a:lnTo>
                  <a:lnTo>
                    <a:pt x="579" y="172"/>
                  </a:lnTo>
                  <a:lnTo>
                    <a:pt x="575" y="162"/>
                  </a:lnTo>
                  <a:lnTo>
                    <a:pt x="575" y="148"/>
                  </a:lnTo>
                  <a:lnTo>
                    <a:pt x="570" y="138"/>
                  </a:lnTo>
                  <a:lnTo>
                    <a:pt x="570" y="134"/>
                  </a:lnTo>
                  <a:lnTo>
                    <a:pt x="560" y="124"/>
                  </a:lnTo>
                  <a:lnTo>
                    <a:pt x="551" y="119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8" y="115"/>
                  </a:lnTo>
                  <a:lnTo>
                    <a:pt x="493" y="115"/>
                  </a:lnTo>
                  <a:lnTo>
                    <a:pt x="479" y="119"/>
                  </a:lnTo>
                  <a:lnTo>
                    <a:pt x="460" y="119"/>
                  </a:lnTo>
                  <a:lnTo>
                    <a:pt x="440" y="124"/>
                  </a:lnTo>
                  <a:lnTo>
                    <a:pt x="421" y="129"/>
                  </a:lnTo>
                  <a:lnTo>
                    <a:pt x="397" y="134"/>
                  </a:lnTo>
                  <a:lnTo>
                    <a:pt x="369" y="138"/>
                  </a:lnTo>
                  <a:lnTo>
                    <a:pt x="311" y="153"/>
                  </a:lnTo>
                  <a:lnTo>
                    <a:pt x="287" y="158"/>
                  </a:lnTo>
                  <a:lnTo>
                    <a:pt x="258" y="162"/>
                  </a:lnTo>
                  <a:lnTo>
                    <a:pt x="235" y="167"/>
                  </a:lnTo>
                  <a:lnTo>
                    <a:pt x="211" y="172"/>
                  </a:lnTo>
                  <a:lnTo>
                    <a:pt x="191" y="177"/>
                  </a:lnTo>
                  <a:lnTo>
                    <a:pt x="172" y="182"/>
                  </a:lnTo>
                  <a:lnTo>
                    <a:pt x="153" y="186"/>
                  </a:lnTo>
                  <a:lnTo>
                    <a:pt x="134" y="191"/>
                  </a:lnTo>
                  <a:lnTo>
                    <a:pt x="115" y="191"/>
                  </a:lnTo>
                  <a:lnTo>
                    <a:pt x="100" y="196"/>
                  </a:lnTo>
                  <a:lnTo>
                    <a:pt x="86" y="191"/>
                  </a:lnTo>
                  <a:lnTo>
                    <a:pt x="72" y="191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7"/>
                  </a:lnTo>
                  <a:lnTo>
                    <a:pt x="29" y="172"/>
                  </a:lnTo>
                  <a:lnTo>
                    <a:pt x="19" y="167"/>
                  </a:lnTo>
                  <a:lnTo>
                    <a:pt x="9" y="162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9" y="138"/>
                  </a:lnTo>
                  <a:lnTo>
                    <a:pt x="19" y="138"/>
                  </a:lnTo>
                  <a:lnTo>
                    <a:pt x="33" y="138"/>
                  </a:lnTo>
                  <a:lnTo>
                    <a:pt x="43" y="134"/>
                  </a:lnTo>
                  <a:lnTo>
                    <a:pt x="57" y="134"/>
                  </a:lnTo>
                  <a:lnTo>
                    <a:pt x="76" y="129"/>
                  </a:lnTo>
                  <a:lnTo>
                    <a:pt x="91" y="129"/>
                  </a:lnTo>
                  <a:lnTo>
                    <a:pt x="110" y="124"/>
                  </a:lnTo>
                  <a:lnTo>
                    <a:pt x="134" y="119"/>
                  </a:lnTo>
                  <a:lnTo>
                    <a:pt x="158" y="115"/>
                  </a:lnTo>
                  <a:lnTo>
                    <a:pt x="182" y="110"/>
                  </a:lnTo>
                  <a:lnTo>
                    <a:pt x="206" y="105"/>
                  </a:lnTo>
                  <a:lnTo>
                    <a:pt x="235" y="95"/>
                  </a:lnTo>
                  <a:lnTo>
                    <a:pt x="263" y="91"/>
                  </a:lnTo>
                  <a:lnTo>
                    <a:pt x="292" y="81"/>
                  </a:lnTo>
                  <a:lnTo>
                    <a:pt x="321" y="76"/>
                  </a:lnTo>
                  <a:lnTo>
                    <a:pt x="349" y="71"/>
                  </a:lnTo>
                  <a:lnTo>
                    <a:pt x="373" y="62"/>
                  </a:lnTo>
                  <a:lnTo>
                    <a:pt x="402" y="57"/>
                  </a:lnTo>
                  <a:lnTo>
                    <a:pt x="421" y="52"/>
                  </a:lnTo>
                  <a:lnTo>
                    <a:pt x="445" y="47"/>
                  </a:lnTo>
                  <a:lnTo>
                    <a:pt x="464" y="43"/>
                  </a:lnTo>
                  <a:lnTo>
                    <a:pt x="479" y="38"/>
                  </a:lnTo>
                  <a:lnTo>
                    <a:pt x="493" y="33"/>
                  </a:lnTo>
                  <a:lnTo>
                    <a:pt x="508" y="33"/>
                  </a:lnTo>
                  <a:lnTo>
                    <a:pt x="517" y="28"/>
                  </a:lnTo>
                  <a:lnTo>
                    <a:pt x="531" y="24"/>
                  </a:lnTo>
                  <a:lnTo>
                    <a:pt x="536" y="24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1" y="14"/>
                  </a:lnTo>
                  <a:lnTo>
                    <a:pt x="560" y="9"/>
                  </a:lnTo>
                  <a:lnTo>
                    <a:pt x="570" y="4"/>
                  </a:lnTo>
                  <a:lnTo>
                    <a:pt x="579" y="0"/>
                  </a:lnTo>
                  <a:lnTo>
                    <a:pt x="594" y="0"/>
                  </a:lnTo>
                  <a:lnTo>
                    <a:pt x="599" y="0"/>
                  </a:lnTo>
                  <a:lnTo>
                    <a:pt x="603" y="4"/>
                  </a:lnTo>
                  <a:lnTo>
                    <a:pt x="613" y="4"/>
                  </a:lnTo>
                  <a:lnTo>
                    <a:pt x="627" y="9"/>
                  </a:lnTo>
                  <a:lnTo>
                    <a:pt x="642" y="19"/>
                  </a:lnTo>
                  <a:lnTo>
                    <a:pt x="656" y="28"/>
                  </a:lnTo>
                  <a:lnTo>
                    <a:pt x="675" y="38"/>
                  </a:lnTo>
                  <a:lnTo>
                    <a:pt x="699" y="47"/>
                  </a:lnTo>
                  <a:lnTo>
                    <a:pt x="713" y="62"/>
                  </a:lnTo>
                  <a:lnTo>
                    <a:pt x="733" y="71"/>
                  </a:lnTo>
                  <a:lnTo>
                    <a:pt x="742" y="81"/>
                  </a:lnTo>
                  <a:lnTo>
                    <a:pt x="757" y="91"/>
                  </a:lnTo>
                  <a:lnTo>
                    <a:pt x="761" y="100"/>
                  </a:lnTo>
                  <a:lnTo>
                    <a:pt x="771" y="105"/>
                  </a:lnTo>
                  <a:lnTo>
                    <a:pt x="776" y="110"/>
                  </a:lnTo>
                  <a:lnTo>
                    <a:pt x="776" y="115"/>
                  </a:lnTo>
                  <a:lnTo>
                    <a:pt x="771" y="124"/>
                  </a:lnTo>
                  <a:lnTo>
                    <a:pt x="766" y="134"/>
                  </a:lnTo>
                  <a:lnTo>
                    <a:pt x="761" y="143"/>
                  </a:lnTo>
                  <a:lnTo>
                    <a:pt x="747" y="148"/>
                  </a:lnTo>
                  <a:lnTo>
                    <a:pt x="737" y="153"/>
                  </a:lnTo>
                  <a:lnTo>
                    <a:pt x="733" y="162"/>
                  </a:lnTo>
                  <a:lnTo>
                    <a:pt x="728" y="172"/>
                  </a:lnTo>
                  <a:lnTo>
                    <a:pt x="723" y="186"/>
                  </a:lnTo>
                  <a:lnTo>
                    <a:pt x="718" y="201"/>
                  </a:lnTo>
                  <a:lnTo>
                    <a:pt x="713" y="220"/>
                  </a:lnTo>
                  <a:lnTo>
                    <a:pt x="709" y="239"/>
                  </a:lnTo>
                  <a:lnTo>
                    <a:pt x="704" y="263"/>
                  </a:lnTo>
                  <a:lnTo>
                    <a:pt x="699" y="292"/>
                  </a:lnTo>
                  <a:lnTo>
                    <a:pt x="694" y="320"/>
                  </a:lnTo>
                  <a:lnTo>
                    <a:pt x="685" y="354"/>
                  </a:lnTo>
                  <a:lnTo>
                    <a:pt x="675" y="388"/>
                  </a:lnTo>
                  <a:lnTo>
                    <a:pt x="661" y="431"/>
                  </a:lnTo>
                  <a:lnTo>
                    <a:pt x="651" y="474"/>
                  </a:lnTo>
                  <a:lnTo>
                    <a:pt x="637" y="522"/>
                  </a:lnTo>
                  <a:lnTo>
                    <a:pt x="618" y="570"/>
                  </a:lnTo>
                  <a:lnTo>
                    <a:pt x="613" y="598"/>
                  </a:lnTo>
                  <a:lnTo>
                    <a:pt x="603" y="622"/>
                  </a:lnTo>
                  <a:lnTo>
                    <a:pt x="594" y="646"/>
                  </a:lnTo>
                  <a:lnTo>
                    <a:pt x="589" y="665"/>
                  </a:lnTo>
                  <a:lnTo>
                    <a:pt x="579" y="689"/>
                  </a:lnTo>
                  <a:lnTo>
                    <a:pt x="570" y="708"/>
                  </a:lnTo>
                  <a:lnTo>
                    <a:pt x="565" y="728"/>
                  </a:lnTo>
                  <a:lnTo>
                    <a:pt x="555" y="747"/>
                  </a:lnTo>
                  <a:lnTo>
                    <a:pt x="546" y="761"/>
                  </a:lnTo>
                  <a:lnTo>
                    <a:pt x="541" y="775"/>
                  </a:lnTo>
                  <a:lnTo>
                    <a:pt x="531" y="790"/>
                  </a:lnTo>
                  <a:lnTo>
                    <a:pt x="527" y="799"/>
                  </a:lnTo>
                  <a:lnTo>
                    <a:pt x="517" y="814"/>
                  </a:lnTo>
                  <a:lnTo>
                    <a:pt x="512" y="823"/>
                  </a:lnTo>
                  <a:lnTo>
                    <a:pt x="503" y="828"/>
                  </a:lnTo>
                  <a:lnTo>
                    <a:pt x="498" y="838"/>
                  </a:lnTo>
                  <a:lnTo>
                    <a:pt x="484" y="852"/>
                  </a:lnTo>
                  <a:lnTo>
                    <a:pt x="469" y="862"/>
                  </a:lnTo>
                  <a:lnTo>
                    <a:pt x="455" y="871"/>
                  </a:lnTo>
                  <a:lnTo>
                    <a:pt x="445" y="881"/>
                  </a:lnTo>
                  <a:lnTo>
                    <a:pt x="436" y="886"/>
                  </a:lnTo>
                  <a:lnTo>
                    <a:pt x="426" y="890"/>
                  </a:lnTo>
                  <a:lnTo>
                    <a:pt x="421" y="895"/>
                  </a:lnTo>
                  <a:lnTo>
                    <a:pt x="412" y="895"/>
                  </a:lnTo>
                  <a:lnTo>
                    <a:pt x="407" y="895"/>
                  </a:lnTo>
                  <a:lnTo>
                    <a:pt x="402" y="890"/>
                  </a:lnTo>
                  <a:lnTo>
                    <a:pt x="397" y="886"/>
                  </a:lnTo>
                  <a:lnTo>
                    <a:pt x="393" y="881"/>
                  </a:lnTo>
                  <a:lnTo>
                    <a:pt x="388" y="876"/>
                  </a:lnTo>
                  <a:lnTo>
                    <a:pt x="383" y="866"/>
                  </a:lnTo>
                  <a:lnTo>
                    <a:pt x="383" y="857"/>
                  </a:lnTo>
                  <a:lnTo>
                    <a:pt x="378" y="847"/>
                  </a:lnTo>
                  <a:lnTo>
                    <a:pt x="373" y="833"/>
                  </a:lnTo>
                  <a:lnTo>
                    <a:pt x="369" y="819"/>
                  </a:lnTo>
                  <a:lnTo>
                    <a:pt x="364" y="804"/>
                  </a:lnTo>
                  <a:lnTo>
                    <a:pt x="354" y="790"/>
                  </a:lnTo>
                  <a:lnTo>
                    <a:pt x="345" y="775"/>
                  </a:lnTo>
                  <a:lnTo>
                    <a:pt x="335" y="756"/>
                  </a:lnTo>
                  <a:lnTo>
                    <a:pt x="326" y="737"/>
                  </a:lnTo>
                  <a:lnTo>
                    <a:pt x="306" y="723"/>
                  </a:lnTo>
                  <a:lnTo>
                    <a:pt x="292" y="704"/>
                  </a:lnTo>
                  <a:lnTo>
                    <a:pt x="282" y="694"/>
                  </a:lnTo>
                  <a:lnTo>
                    <a:pt x="273" y="680"/>
                  </a:lnTo>
                  <a:lnTo>
                    <a:pt x="268" y="670"/>
                  </a:lnTo>
                  <a:lnTo>
                    <a:pt x="263" y="661"/>
                  </a:lnTo>
                  <a:lnTo>
                    <a:pt x="263" y="656"/>
                  </a:lnTo>
                  <a:lnTo>
                    <a:pt x="263" y="651"/>
                  </a:lnTo>
                  <a:lnTo>
                    <a:pt x="263" y="646"/>
                  </a:lnTo>
                  <a:lnTo>
                    <a:pt x="268" y="646"/>
                  </a:lnTo>
                  <a:lnTo>
                    <a:pt x="273" y="646"/>
                  </a:lnTo>
                  <a:lnTo>
                    <a:pt x="278" y="651"/>
                  </a:lnTo>
                  <a:lnTo>
                    <a:pt x="287" y="651"/>
                  </a:lnTo>
                  <a:lnTo>
                    <a:pt x="297" y="656"/>
                  </a:lnTo>
                  <a:lnTo>
                    <a:pt x="306" y="665"/>
                  </a:lnTo>
                  <a:lnTo>
                    <a:pt x="321" y="670"/>
                  </a:lnTo>
                  <a:lnTo>
                    <a:pt x="335" y="680"/>
                  </a:lnTo>
                  <a:lnTo>
                    <a:pt x="345" y="689"/>
                  </a:lnTo>
                  <a:lnTo>
                    <a:pt x="359" y="694"/>
                  </a:lnTo>
                  <a:lnTo>
                    <a:pt x="369" y="699"/>
                  </a:lnTo>
                  <a:lnTo>
                    <a:pt x="378" y="704"/>
                  </a:lnTo>
                  <a:lnTo>
                    <a:pt x="388" y="708"/>
                  </a:lnTo>
                  <a:lnTo>
                    <a:pt x="397" y="708"/>
                  </a:lnTo>
                  <a:lnTo>
                    <a:pt x="407" y="708"/>
                  </a:lnTo>
                  <a:lnTo>
                    <a:pt x="412" y="70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5531400" y="2919960"/>
              <a:ext cx="388080" cy="219960"/>
            </a:xfrm>
            <a:custGeom>
              <a:avLst/>
              <a:gdLst/>
              <a:ahLst/>
              <a:rect l="l" t="t" r="r" b="b"/>
              <a:pathLst>
                <a:path w="321" h="182">
                  <a:moveTo>
                    <a:pt x="210" y="24"/>
                  </a:moveTo>
                  <a:lnTo>
                    <a:pt x="230" y="34"/>
                  </a:lnTo>
                  <a:lnTo>
                    <a:pt x="249" y="38"/>
                  </a:lnTo>
                  <a:lnTo>
                    <a:pt x="263" y="43"/>
                  </a:lnTo>
                  <a:lnTo>
                    <a:pt x="277" y="48"/>
                  </a:lnTo>
                  <a:lnTo>
                    <a:pt x="292" y="58"/>
                  </a:lnTo>
                  <a:lnTo>
                    <a:pt x="301" y="62"/>
                  </a:lnTo>
                  <a:lnTo>
                    <a:pt x="306" y="67"/>
                  </a:lnTo>
                  <a:lnTo>
                    <a:pt x="311" y="77"/>
                  </a:lnTo>
                  <a:lnTo>
                    <a:pt x="316" y="91"/>
                  </a:lnTo>
                  <a:lnTo>
                    <a:pt x="321" y="105"/>
                  </a:lnTo>
                  <a:lnTo>
                    <a:pt x="321" y="125"/>
                  </a:lnTo>
                  <a:lnTo>
                    <a:pt x="321" y="139"/>
                  </a:lnTo>
                  <a:lnTo>
                    <a:pt x="321" y="149"/>
                  </a:lnTo>
                  <a:lnTo>
                    <a:pt x="316" y="158"/>
                  </a:lnTo>
                  <a:lnTo>
                    <a:pt x="316" y="163"/>
                  </a:lnTo>
                  <a:lnTo>
                    <a:pt x="311" y="173"/>
                  </a:lnTo>
                  <a:lnTo>
                    <a:pt x="301" y="177"/>
                  </a:lnTo>
                  <a:lnTo>
                    <a:pt x="297" y="177"/>
                  </a:lnTo>
                  <a:lnTo>
                    <a:pt x="287" y="182"/>
                  </a:lnTo>
                  <a:lnTo>
                    <a:pt x="277" y="182"/>
                  </a:lnTo>
                  <a:lnTo>
                    <a:pt x="273" y="182"/>
                  </a:lnTo>
                  <a:lnTo>
                    <a:pt x="263" y="182"/>
                  </a:lnTo>
                  <a:lnTo>
                    <a:pt x="254" y="177"/>
                  </a:lnTo>
                  <a:lnTo>
                    <a:pt x="244" y="173"/>
                  </a:lnTo>
                  <a:lnTo>
                    <a:pt x="234" y="168"/>
                  </a:lnTo>
                  <a:lnTo>
                    <a:pt x="220" y="163"/>
                  </a:lnTo>
                  <a:lnTo>
                    <a:pt x="206" y="153"/>
                  </a:lnTo>
                  <a:lnTo>
                    <a:pt x="186" y="144"/>
                  </a:lnTo>
                  <a:lnTo>
                    <a:pt x="167" y="134"/>
                  </a:lnTo>
                  <a:lnTo>
                    <a:pt x="148" y="125"/>
                  </a:lnTo>
                  <a:lnTo>
                    <a:pt x="129" y="110"/>
                  </a:lnTo>
                  <a:lnTo>
                    <a:pt x="105" y="101"/>
                  </a:lnTo>
                  <a:lnTo>
                    <a:pt x="81" y="86"/>
                  </a:lnTo>
                  <a:lnTo>
                    <a:pt x="57" y="67"/>
                  </a:lnTo>
                  <a:lnTo>
                    <a:pt x="28" y="53"/>
                  </a:lnTo>
                  <a:lnTo>
                    <a:pt x="0" y="34"/>
                  </a:lnTo>
                  <a:lnTo>
                    <a:pt x="19" y="24"/>
                  </a:lnTo>
                  <a:lnTo>
                    <a:pt x="38" y="14"/>
                  </a:lnTo>
                  <a:lnTo>
                    <a:pt x="62" y="5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48" y="10"/>
                  </a:lnTo>
                  <a:lnTo>
                    <a:pt x="167" y="14"/>
                  </a:lnTo>
                  <a:lnTo>
                    <a:pt x="186" y="19"/>
                  </a:lnTo>
                  <a:lnTo>
                    <a:pt x="210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909240" y="3592800"/>
              <a:ext cx="2120040" cy="288720"/>
            </a:xfrm>
            <a:custGeom>
              <a:avLst/>
              <a:gdLst/>
              <a:ahLst/>
              <a:rect l="l" t="t" r="r" b="b"/>
              <a:pathLst>
                <a:path w="1753" h="239">
                  <a:moveTo>
                    <a:pt x="1542" y="0"/>
                  </a:moveTo>
                  <a:lnTo>
                    <a:pt x="1575" y="0"/>
                  </a:lnTo>
                  <a:lnTo>
                    <a:pt x="1604" y="9"/>
                  </a:lnTo>
                  <a:lnTo>
                    <a:pt x="1623" y="9"/>
                  </a:lnTo>
                  <a:lnTo>
                    <a:pt x="1638" y="19"/>
                  </a:lnTo>
                  <a:lnTo>
                    <a:pt x="1652" y="24"/>
                  </a:lnTo>
                  <a:lnTo>
                    <a:pt x="1671" y="33"/>
                  </a:lnTo>
                  <a:lnTo>
                    <a:pt x="1686" y="43"/>
                  </a:lnTo>
                  <a:lnTo>
                    <a:pt x="1700" y="52"/>
                  </a:lnTo>
                  <a:lnTo>
                    <a:pt x="1709" y="57"/>
                  </a:lnTo>
                  <a:lnTo>
                    <a:pt x="1724" y="62"/>
                  </a:lnTo>
                  <a:lnTo>
                    <a:pt x="1729" y="72"/>
                  </a:lnTo>
                  <a:lnTo>
                    <a:pt x="1738" y="76"/>
                  </a:lnTo>
                  <a:lnTo>
                    <a:pt x="1743" y="81"/>
                  </a:lnTo>
                  <a:lnTo>
                    <a:pt x="1748" y="81"/>
                  </a:lnTo>
                  <a:lnTo>
                    <a:pt x="1753" y="96"/>
                  </a:lnTo>
                  <a:lnTo>
                    <a:pt x="1753" y="100"/>
                  </a:lnTo>
                  <a:lnTo>
                    <a:pt x="1753" y="110"/>
                  </a:lnTo>
                  <a:lnTo>
                    <a:pt x="1748" y="115"/>
                  </a:lnTo>
                  <a:lnTo>
                    <a:pt x="1743" y="119"/>
                  </a:lnTo>
                  <a:lnTo>
                    <a:pt x="1733" y="119"/>
                  </a:lnTo>
                  <a:lnTo>
                    <a:pt x="1729" y="124"/>
                  </a:lnTo>
                  <a:lnTo>
                    <a:pt x="1719" y="124"/>
                  </a:lnTo>
                  <a:lnTo>
                    <a:pt x="1705" y="124"/>
                  </a:lnTo>
                  <a:lnTo>
                    <a:pt x="1690" y="124"/>
                  </a:lnTo>
                  <a:lnTo>
                    <a:pt x="1676" y="124"/>
                  </a:lnTo>
                  <a:lnTo>
                    <a:pt x="1662" y="129"/>
                  </a:lnTo>
                  <a:lnTo>
                    <a:pt x="1642" y="129"/>
                  </a:lnTo>
                  <a:lnTo>
                    <a:pt x="1618" y="129"/>
                  </a:lnTo>
                  <a:lnTo>
                    <a:pt x="1599" y="129"/>
                  </a:lnTo>
                  <a:lnTo>
                    <a:pt x="1575" y="129"/>
                  </a:lnTo>
                  <a:lnTo>
                    <a:pt x="1547" y="124"/>
                  </a:lnTo>
                  <a:lnTo>
                    <a:pt x="1518" y="124"/>
                  </a:lnTo>
                  <a:lnTo>
                    <a:pt x="1489" y="124"/>
                  </a:lnTo>
                  <a:lnTo>
                    <a:pt x="1427" y="119"/>
                  </a:lnTo>
                  <a:lnTo>
                    <a:pt x="1365" y="119"/>
                  </a:lnTo>
                  <a:lnTo>
                    <a:pt x="1245" y="124"/>
                  </a:lnTo>
                  <a:lnTo>
                    <a:pt x="1125" y="124"/>
                  </a:lnTo>
                  <a:lnTo>
                    <a:pt x="1005" y="134"/>
                  </a:lnTo>
                  <a:lnTo>
                    <a:pt x="948" y="139"/>
                  </a:lnTo>
                  <a:lnTo>
                    <a:pt x="895" y="143"/>
                  </a:lnTo>
                  <a:lnTo>
                    <a:pt x="843" y="153"/>
                  </a:lnTo>
                  <a:lnTo>
                    <a:pt x="790" y="158"/>
                  </a:lnTo>
                  <a:lnTo>
                    <a:pt x="742" y="163"/>
                  </a:lnTo>
                  <a:lnTo>
                    <a:pt x="694" y="167"/>
                  </a:lnTo>
                  <a:lnTo>
                    <a:pt x="651" y="172"/>
                  </a:lnTo>
                  <a:lnTo>
                    <a:pt x="608" y="172"/>
                  </a:lnTo>
                  <a:lnTo>
                    <a:pt x="526" y="187"/>
                  </a:lnTo>
                  <a:lnTo>
                    <a:pt x="440" y="196"/>
                  </a:lnTo>
                  <a:lnTo>
                    <a:pt x="354" y="206"/>
                  </a:lnTo>
                  <a:lnTo>
                    <a:pt x="273" y="215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15" y="225"/>
                  </a:lnTo>
                  <a:lnTo>
                    <a:pt x="196" y="225"/>
                  </a:lnTo>
                  <a:lnTo>
                    <a:pt x="182" y="230"/>
                  </a:lnTo>
                  <a:lnTo>
                    <a:pt x="167" y="230"/>
                  </a:lnTo>
                  <a:lnTo>
                    <a:pt x="153" y="234"/>
                  </a:lnTo>
                  <a:lnTo>
                    <a:pt x="143" y="234"/>
                  </a:lnTo>
                  <a:lnTo>
                    <a:pt x="134" y="234"/>
                  </a:lnTo>
                  <a:lnTo>
                    <a:pt x="124" y="239"/>
                  </a:lnTo>
                  <a:lnTo>
                    <a:pt x="115" y="239"/>
                  </a:lnTo>
                  <a:lnTo>
                    <a:pt x="105" y="239"/>
                  </a:lnTo>
                  <a:lnTo>
                    <a:pt x="100" y="239"/>
                  </a:lnTo>
                  <a:lnTo>
                    <a:pt x="95" y="239"/>
                  </a:lnTo>
                  <a:lnTo>
                    <a:pt x="91" y="239"/>
                  </a:lnTo>
                  <a:lnTo>
                    <a:pt x="86" y="239"/>
                  </a:lnTo>
                  <a:lnTo>
                    <a:pt x="81" y="239"/>
                  </a:lnTo>
                  <a:lnTo>
                    <a:pt x="76" y="234"/>
                  </a:lnTo>
                  <a:lnTo>
                    <a:pt x="67" y="234"/>
                  </a:lnTo>
                  <a:lnTo>
                    <a:pt x="57" y="230"/>
                  </a:lnTo>
                  <a:lnTo>
                    <a:pt x="47" y="225"/>
                  </a:lnTo>
                  <a:lnTo>
                    <a:pt x="38" y="215"/>
                  </a:lnTo>
                  <a:lnTo>
                    <a:pt x="28" y="206"/>
                  </a:lnTo>
                  <a:lnTo>
                    <a:pt x="24" y="196"/>
                  </a:lnTo>
                  <a:lnTo>
                    <a:pt x="14" y="191"/>
                  </a:lnTo>
                  <a:lnTo>
                    <a:pt x="9" y="182"/>
                  </a:lnTo>
                  <a:lnTo>
                    <a:pt x="4" y="177"/>
                  </a:lnTo>
                  <a:lnTo>
                    <a:pt x="4" y="172"/>
                  </a:lnTo>
                  <a:lnTo>
                    <a:pt x="0" y="167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9" y="153"/>
                  </a:lnTo>
                  <a:lnTo>
                    <a:pt x="28" y="153"/>
                  </a:lnTo>
                  <a:lnTo>
                    <a:pt x="43" y="148"/>
                  </a:lnTo>
                  <a:lnTo>
                    <a:pt x="62" y="148"/>
                  </a:lnTo>
                  <a:lnTo>
                    <a:pt x="86" y="148"/>
                  </a:lnTo>
                  <a:lnTo>
                    <a:pt x="115" y="143"/>
                  </a:lnTo>
                  <a:lnTo>
                    <a:pt x="143" y="139"/>
                  </a:lnTo>
                  <a:lnTo>
                    <a:pt x="177" y="139"/>
                  </a:lnTo>
                  <a:lnTo>
                    <a:pt x="215" y="134"/>
                  </a:lnTo>
                  <a:lnTo>
                    <a:pt x="258" y="129"/>
                  </a:lnTo>
                  <a:lnTo>
                    <a:pt x="306" y="129"/>
                  </a:lnTo>
                  <a:lnTo>
                    <a:pt x="354" y="124"/>
                  </a:lnTo>
                  <a:lnTo>
                    <a:pt x="411" y="119"/>
                  </a:lnTo>
                  <a:lnTo>
                    <a:pt x="469" y="115"/>
                  </a:lnTo>
                  <a:lnTo>
                    <a:pt x="531" y="110"/>
                  </a:lnTo>
                  <a:lnTo>
                    <a:pt x="651" y="96"/>
                  </a:lnTo>
                  <a:lnTo>
                    <a:pt x="713" y="91"/>
                  </a:lnTo>
                  <a:lnTo>
                    <a:pt x="771" y="81"/>
                  </a:lnTo>
                  <a:lnTo>
                    <a:pt x="828" y="76"/>
                  </a:lnTo>
                  <a:lnTo>
                    <a:pt x="881" y="72"/>
                  </a:lnTo>
                  <a:lnTo>
                    <a:pt x="938" y="62"/>
                  </a:lnTo>
                  <a:lnTo>
                    <a:pt x="986" y="57"/>
                  </a:lnTo>
                  <a:lnTo>
                    <a:pt x="1039" y="52"/>
                  </a:lnTo>
                  <a:lnTo>
                    <a:pt x="1087" y="52"/>
                  </a:lnTo>
                  <a:lnTo>
                    <a:pt x="1135" y="48"/>
                  </a:lnTo>
                  <a:lnTo>
                    <a:pt x="1183" y="38"/>
                  </a:lnTo>
                  <a:lnTo>
                    <a:pt x="1226" y="33"/>
                  </a:lnTo>
                  <a:lnTo>
                    <a:pt x="1264" y="28"/>
                  </a:lnTo>
                  <a:lnTo>
                    <a:pt x="1307" y="24"/>
                  </a:lnTo>
                  <a:lnTo>
                    <a:pt x="1341" y="14"/>
                  </a:lnTo>
                  <a:lnTo>
                    <a:pt x="1379" y="14"/>
                  </a:lnTo>
                  <a:lnTo>
                    <a:pt x="1408" y="9"/>
                  </a:lnTo>
                  <a:lnTo>
                    <a:pt x="1436" y="9"/>
                  </a:lnTo>
                  <a:lnTo>
                    <a:pt x="1465" y="5"/>
                  </a:lnTo>
                  <a:lnTo>
                    <a:pt x="1489" y="5"/>
                  </a:lnTo>
                  <a:lnTo>
                    <a:pt x="1508" y="0"/>
                  </a:lnTo>
                  <a:lnTo>
                    <a:pt x="1527" y="0"/>
                  </a:lnTo>
                  <a:lnTo>
                    <a:pt x="1542" y="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4841640" y="3511440"/>
              <a:ext cx="191160" cy="1233720"/>
            </a:xfrm>
            <a:custGeom>
              <a:avLst/>
              <a:gdLst/>
              <a:ahLst/>
              <a:rect l="l" t="t" r="r" b="b"/>
              <a:pathLst>
                <a:path w="158" h="1020">
                  <a:moveTo>
                    <a:pt x="19" y="76"/>
                  </a:moveTo>
                  <a:lnTo>
                    <a:pt x="9" y="5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4"/>
                  </a:lnTo>
                  <a:lnTo>
                    <a:pt x="100" y="9"/>
                  </a:lnTo>
                  <a:lnTo>
                    <a:pt x="124" y="19"/>
                  </a:lnTo>
                  <a:lnTo>
                    <a:pt x="139" y="33"/>
                  </a:lnTo>
                  <a:lnTo>
                    <a:pt x="148" y="38"/>
                  </a:lnTo>
                  <a:lnTo>
                    <a:pt x="153" y="48"/>
                  </a:lnTo>
                  <a:lnTo>
                    <a:pt x="158" y="57"/>
                  </a:lnTo>
                  <a:lnTo>
                    <a:pt x="158" y="67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91"/>
                  </a:lnTo>
                  <a:lnTo>
                    <a:pt x="153" y="100"/>
                  </a:lnTo>
                  <a:lnTo>
                    <a:pt x="153" y="115"/>
                  </a:lnTo>
                  <a:lnTo>
                    <a:pt x="153" y="129"/>
                  </a:lnTo>
                  <a:lnTo>
                    <a:pt x="148" y="148"/>
                  </a:lnTo>
                  <a:lnTo>
                    <a:pt x="148" y="172"/>
                  </a:lnTo>
                  <a:lnTo>
                    <a:pt x="148" y="191"/>
                  </a:lnTo>
                  <a:lnTo>
                    <a:pt x="143" y="220"/>
                  </a:lnTo>
                  <a:lnTo>
                    <a:pt x="143" y="249"/>
                  </a:lnTo>
                  <a:lnTo>
                    <a:pt x="143" y="282"/>
                  </a:lnTo>
                  <a:lnTo>
                    <a:pt x="143" y="316"/>
                  </a:lnTo>
                  <a:lnTo>
                    <a:pt x="143" y="354"/>
                  </a:lnTo>
                  <a:lnTo>
                    <a:pt x="139" y="392"/>
                  </a:lnTo>
                  <a:lnTo>
                    <a:pt x="139" y="436"/>
                  </a:lnTo>
                  <a:lnTo>
                    <a:pt x="139" y="483"/>
                  </a:lnTo>
                  <a:lnTo>
                    <a:pt x="139" y="531"/>
                  </a:lnTo>
                  <a:lnTo>
                    <a:pt x="139" y="579"/>
                  </a:lnTo>
                  <a:lnTo>
                    <a:pt x="139" y="627"/>
                  </a:lnTo>
                  <a:lnTo>
                    <a:pt x="139" y="670"/>
                  </a:lnTo>
                  <a:lnTo>
                    <a:pt x="139" y="709"/>
                  </a:lnTo>
                  <a:lnTo>
                    <a:pt x="139" y="747"/>
                  </a:lnTo>
                  <a:lnTo>
                    <a:pt x="139" y="780"/>
                  </a:lnTo>
                  <a:lnTo>
                    <a:pt x="134" y="814"/>
                  </a:lnTo>
                  <a:lnTo>
                    <a:pt x="134" y="843"/>
                  </a:lnTo>
                  <a:lnTo>
                    <a:pt x="134" y="867"/>
                  </a:lnTo>
                  <a:lnTo>
                    <a:pt x="134" y="891"/>
                  </a:lnTo>
                  <a:lnTo>
                    <a:pt x="129" y="914"/>
                  </a:lnTo>
                  <a:lnTo>
                    <a:pt x="129" y="934"/>
                  </a:lnTo>
                  <a:lnTo>
                    <a:pt x="129" y="948"/>
                  </a:lnTo>
                  <a:lnTo>
                    <a:pt x="124" y="962"/>
                  </a:lnTo>
                  <a:lnTo>
                    <a:pt x="124" y="972"/>
                  </a:lnTo>
                  <a:lnTo>
                    <a:pt x="124" y="977"/>
                  </a:lnTo>
                  <a:lnTo>
                    <a:pt x="110" y="996"/>
                  </a:lnTo>
                  <a:lnTo>
                    <a:pt x="100" y="1010"/>
                  </a:lnTo>
                  <a:lnTo>
                    <a:pt x="91" y="1015"/>
                  </a:lnTo>
                  <a:lnTo>
                    <a:pt x="86" y="1020"/>
                  </a:lnTo>
                  <a:lnTo>
                    <a:pt x="81" y="1020"/>
                  </a:lnTo>
                  <a:lnTo>
                    <a:pt x="76" y="1020"/>
                  </a:lnTo>
                  <a:lnTo>
                    <a:pt x="72" y="1015"/>
                  </a:lnTo>
                  <a:lnTo>
                    <a:pt x="67" y="1010"/>
                  </a:lnTo>
                  <a:lnTo>
                    <a:pt x="62" y="1001"/>
                  </a:lnTo>
                  <a:lnTo>
                    <a:pt x="57" y="991"/>
                  </a:lnTo>
                  <a:lnTo>
                    <a:pt x="48" y="977"/>
                  </a:lnTo>
                  <a:lnTo>
                    <a:pt x="43" y="958"/>
                  </a:lnTo>
                  <a:lnTo>
                    <a:pt x="38" y="938"/>
                  </a:lnTo>
                  <a:lnTo>
                    <a:pt x="28" y="914"/>
                  </a:lnTo>
                  <a:lnTo>
                    <a:pt x="24" y="895"/>
                  </a:lnTo>
                  <a:lnTo>
                    <a:pt x="19" y="876"/>
                  </a:lnTo>
                  <a:lnTo>
                    <a:pt x="14" y="857"/>
                  </a:lnTo>
                  <a:lnTo>
                    <a:pt x="14" y="838"/>
                  </a:lnTo>
                  <a:lnTo>
                    <a:pt x="14" y="819"/>
                  </a:lnTo>
                  <a:lnTo>
                    <a:pt x="14" y="800"/>
                  </a:lnTo>
                  <a:lnTo>
                    <a:pt x="19" y="780"/>
                  </a:lnTo>
                  <a:lnTo>
                    <a:pt x="24" y="761"/>
                  </a:lnTo>
                  <a:lnTo>
                    <a:pt x="28" y="742"/>
                  </a:lnTo>
                  <a:lnTo>
                    <a:pt x="33" y="723"/>
                  </a:lnTo>
                  <a:lnTo>
                    <a:pt x="38" y="699"/>
                  </a:lnTo>
                  <a:lnTo>
                    <a:pt x="43" y="670"/>
                  </a:lnTo>
                  <a:lnTo>
                    <a:pt x="48" y="637"/>
                  </a:lnTo>
                  <a:lnTo>
                    <a:pt x="48" y="603"/>
                  </a:lnTo>
                  <a:lnTo>
                    <a:pt x="52" y="565"/>
                  </a:lnTo>
                  <a:lnTo>
                    <a:pt x="57" y="488"/>
                  </a:lnTo>
                  <a:lnTo>
                    <a:pt x="62" y="416"/>
                  </a:lnTo>
                  <a:lnTo>
                    <a:pt x="62" y="335"/>
                  </a:lnTo>
                  <a:lnTo>
                    <a:pt x="62" y="258"/>
                  </a:lnTo>
                  <a:lnTo>
                    <a:pt x="57" y="220"/>
                  </a:lnTo>
                  <a:lnTo>
                    <a:pt x="57" y="191"/>
                  </a:lnTo>
                  <a:lnTo>
                    <a:pt x="52" y="163"/>
                  </a:lnTo>
                  <a:lnTo>
                    <a:pt x="48" y="139"/>
                  </a:lnTo>
                  <a:lnTo>
                    <a:pt x="43" y="119"/>
                  </a:lnTo>
                  <a:lnTo>
                    <a:pt x="33" y="100"/>
                  </a:lnTo>
                  <a:lnTo>
                    <a:pt x="28" y="86"/>
                  </a:lnTo>
                  <a:lnTo>
                    <a:pt x="19" y="76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3966120" y="3754440"/>
              <a:ext cx="990360" cy="793440"/>
            </a:xfrm>
            <a:custGeom>
              <a:avLst/>
              <a:gdLst/>
              <a:ahLst/>
              <a:rect l="l" t="t" r="r" b="b"/>
              <a:pathLst>
                <a:path w="819" h="656">
                  <a:moveTo>
                    <a:pt x="374" y="469"/>
                  </a:moveTo>
                  <a:lnTo>
                    <a:pt x="312" y="508"/>
                  </a:lnTo>
                  <a:lnTo>
                    <a:pt x="250" y="541"/>
                  </a:lnTo>
                  <a:lnTo>
                    <a:pt x="192" y="575"/>
                  </a:lnTo>
                  <a:lnTo>
                    <a:pt x="130" y="613"/>
                  </a:lnTo>
                  <a:lnTo>
                    <a:pt x="101" y="627"/>
                  </a:lnTo>
                  <a:lnTo>
                    <a:pt x="77" y="637"/>
                  </a:lnTo>
                  <a:lnTo>
                    <a:pt x="58" y="646"/>
                  </a:lnTo>
                  <a:lnTo>
                    <a:pt x="39" y="651"/>
                  </a:lnTo>
                  <a:lnTo>
                    <a:pt x="24" y="656"/>
                  </a:lnTo>
                  <a:lnTo>
                    <a:pt x="15" y="656"/>
                  </a:lnTo>
                  <a:lnTo>
                    <a:pt x="5" y="656"/>
                  </a:lnTo>
                  <a:lnTo>
                    <a:pt x="0" y="656"/>
                  </a:lnTo>
                  <a:lnTo>
                    <a:pt x="0" y="651"/>
                  </a:lnTo>
                  <a:lnTo>
                    <a:pt x="0" y="642"/>
                  </a:lnTo>
                  <a:lnTo>
                    <a:pt x="5" y="637"/>
                  </a:lnTo>
                  <a:lnTo>
                    <a:pt x="15" y="627"/>
                  </a:lnTo>
                  <a:lnTo>
                    <a:pt x="29" y="613"/>
                  </a:lnTo>
                  <a:lnTo>
                    <a:pt x="48" y="599"/>
                  </a:lnTo>
                  <a:lnTo>
                    <a:pt x="68" y="584"/>
                  </a:lnTo>
                  <a:lnTo>
                    <a:pt x="96" y="570"/>
                  </a:lnTo>
                  <a:lnTo>
                    <a:pt x="149" y="536"/>
                  </a:lnTo>
                  <a:lnTo>
                    <a:pt x="197" y="503"/>
                  </a:lnTo>
                  <a:lnTo>
                    <a:pt x="250" y="464"/>
                  </a:lnTo>
                  <a:lnTo>
                    <a:pt x="293" y="421"/>
                  </a:lnTo>
                  <a:lnTo>
                    <a:pt x="307" y="412"/>
                  </a:lnTo>
                  <a:lnTo>
                    <a:pt x="321" y="397"/>
                  </a:lnTo>
                  <a:lnTo>
                    <a:pt x="336" y="383"/>
                  </a:lnTo>
                  <a:lnTo>
                    <a:pt x="355" y="369"/>
                  </a:lnTo>
                  <a:lnTo>
                    <a:pt x="374" y="349"/>
                  </a:lnTo>
                  <a:lnTo>
                    <a:pt x="393" y="326"/>
                  </a:lnTo>
                  <a:lnTo>
                    <a:pt x="412" y="306"/>
                  </a:lnTo>
                  <a:lnTo>
                    <a:pt x="436" y="278"/>
                  </a:lnTo>
                  <a:lnTo>
                    <a:pt x="465" y="254"/>
                  </a:lnTo>
                  <a:lnTo>
                    <a:pt x="494" y="220"/>
                  </a:lnTo>
                  <a:lnTo>
                    <a:pt x="523" y="191"/>
                  </a:lnTo>
                  <a:lnTo>
                    <a:pt x="551" y="158"/>
                  </a:lnTo>
                  <a:lnTo>
                    <a:pt x="585" y="120"/>
                  </a:lnTo>
                  <a:lnTo>
                    <a:pt x="618" y="81"/>
                  </a:lnTo>
                  <a:lnTo>
                    <a:pt x="652" y="43"/>
                  </a:lnTo>
                  <a:lnTo>
                    <a:pt x="690" y="0"/>
                  </a:lnTo>
                  <a:lnTo>
                    <a:pt x="757" y="14"/>
                  </a:lnTo>
                  <a:lnTo>
                    <a:pt x="819" y="33"/>
                  </a:lnTo>
                  <a:lnTo>
                    <a:pt x="781" y="76"/>
                  </a:lnTo>
                  <a:lnTo>
                    <a:pt x="743" y="120"/>
                  </a:lnTo>
                  <a:lnTo>
                    <a:pt x="705" y="158"/>
                  </a:lnTo>
                  <a:lnTo>
                    <a:pt x="671" y="196"/>
                  </a:lnTo>
                  <a:lnTo>
                    <a:pt x="637" y="230"/>
                  </a:lnTo>
                  <a:lnTo>
                    <a:pt x="604" y="263"/>
                  </a:lnTo>
                  <a:lnTo>
                    <a:pt x="575" y="292"/>
                  </a:lnTo>
                  <a:lnTo>
                    <a:pt x="546" y="321"/>
                  </a:lnTo>
                  <a:lnTo>
                    <a:pt x="518" y="345"/>
                  </a:lnTo>
                  <a:lnTo>
                    <a:pt x="494" y="369"/>
                  </a:lnTo>
                  <a:lnTo>
                    <a:pt x="465" y="393"/>
                  </a:lnTo>
                  <a:lnTo>
                    <a:pt x="446" y="412"/>
                  </a:lnTo>
                  <a:lnTo>
                    <a:pt x="422" y="431"/>
                  </a:lnTo>
                  <a:lnTo>
                    <a:pt x="403" y="445"/>
                  </a:lnTo>
                  <a:lnTo>
                    <a:pt x="388" y="460"/>
                  </a:lnTo>
                  <a:lnTo>
                    <a:pt x="374" y="469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4939560" y="3742560"/>
              <a:ext cx="1268640" cy="759600"/>
            </a:xfrm>
            <a:custGeom>
              <a:avLst/>
              <a:gdLst/>
              <a:ahLst/>
              <a:rect l="l" t="t" r="r" b="b"/>
              <a:pathLst>
                <a:path w="1049" h="628">
                  <a:moveTo>
                    <a:pt x="24" y="0"/>
                  </a:moveTo>
                  <a:lnTo>
                    <a:pt x="53" y="29"/>
                  </a:lnTo>
                  <a:lnTo>
                    <a:pt x="86" y="58"/>
                  </a:lnTo>
                  <a:lnTo>
                    <a:pt x="125" y="86"/>
                  </a:lnTo>
                  <a:lnTo>
                    <a:pt x="158" y="115"/>
                  </a:lnTo>
                  <a:lnTo>
                    <a:pt x="201" y="144"/>
                  </a:lnTo>
                  <a:lnTo>
                    <a:pt x="244" y="173"/>
                  </a:lnTo>
                  <a:lnTo>
                    <a:pt x="288" y="201"/>
                  </a:lnTo>
                  <a:lnTo>
                    <a:pt x="335" y="230"/>
                  </a:lnTo>
                  <a:lnTo>
                    <a:pt x="383" y="268"/>
                  </a:lnTo>
                  <a:lnTo>
                    <a:pt x="431" y="297"/>
                  </a:lnTo>
                  <a:lnTo>
                    <a:pt x="484" y="326"/>
                  </a:lnTo>
                  <a:lnTo>
                    <a:pt x="537" y="355"/>
                  </a:lnTo>
                  <a:lnTo>
                    <a:pt x="594" y="383"/>
                  </a:lnTo>
                  <a:lnTo>
                    <a:pt x="656" y="407"/>
                  </a:lnTo>
                  <a:lnTo>
                    <a:pt x="719" y="431"/>
                  </a:lnTo>
                  <a:lnTo>
                    <a:pt x="786" y="455"/>
                  </a:lnTo>
                  <a:lnTo>
                    <a:pt x="814" y="470"/>
                  </a:lnTo>
                  <a:lnTo>
                    <a:pt x="848" y="479"/>
                  </a:lnTo>
                  <a:lnTo>
                    <a:pt x="877" y="489"/>
                  </a:lnTo>
                  <a:lnTo>
                    <a:pt x="901" y="498"/>
                  </a:lnTo>
                  <a:lnTo>
                    <a:pt x="925" y="508"/>
                  </a:lnTo>
                  <a:lnTo>
                    <a:pt x="948" y="518"/>
                  </a:lnTo>
                  <a:lnTo>
                    <a:pt x="968" y="527"/>
                  </a:lnTo>
                  <a:lnTo>
                    <a:pt x="987" y="532"/>
                  </a:lnTo>
                  <a:lnTo>
                    <a:pt x="1001" y="537"/>
                  </a:lnTo>
                  <a:lnTo>
                    <a:pt x="1016" y="546"/>
                  </a:lnTo>
                  <a:lnTo>
                    <a:pt x="1025" y="551"/>
                  </a:lnTo>
                  <a:lnTo>
                    <a:pt x="1035" y="551"/>
                  </a:lnTo>
                  <a:lnTo>
                    <a:pt x="1044" y="556"/>
                  </a:lnTo>
                  <a:lnTo>
                    <a:pt x="1049" y="561"/>
                  </a:lnTo>
                  <a:lnTo>
                    <a:pt x="1049" y="565"/>
                  </a:lnTo>
                  <a:lnTo>
                    <a:pt x="1044" y="570"/>
                  </a:lnTo>
                  <a:lnTo>
                    <a:pt x="1039" y="570"/>
                  </a:lnTo>
                  <a:lnTo>
                    <a:pt x="1035" y="575"/>
                  </a:lnTo>
                  <a:lnTo>
                    <a:pt x="1030" y="575"/>
                  </a:lnTo>
                  <a:lnTo>
                    <a:pt x="1020" y="580"/>
                  </a:lnTo>
                  <a:lnTo>
                    <a:pt x="1011" y="580"/>
                  </a:lnTo>
                  <a:lnTo>
                    <a:pt x="1001" y="585"/>
                  </a:lnTo>
                  <a:lnTo>
                    <a:pt x="992" y="589"/>
                  </a:lnTo>
                  <a:lnTo>
                    <a:pt x="977" y="589"/>
                  </a:lnTo>
                  <a:lnTo>
                    <a:pt x="963" y="594"/>
                  </a:lnTo>
                  <a:lnTo>
                    <a:pt x="948" y="594"/>
                  </a:lnTo>
                  <a:lnTo>
                    <a:pt x="934" y="599"/>
                  </a:lnTo>
                  <a:lnTo>
                    <a:pt x="915" y="604"/>
                  </a:lnTo>
                  <a:lnTo>
                    <a:pt x="896" y="604"/>
                  </a:lnTo>
                  <a:lnTo>
                    <a:pt x="857" y="613"/>
                  </a:lnTo>
                  <a:lnTo>
                    <a:pt x="819" y="618"/>
                  </a:lnTo>
                  <a:lnTo>
                    <a:pt x="786" y="623"/>
                  </a:lnTo>
                  <a:lnTo>
                    <a:pt x="752" y="623"/>
                  </a:lnTo>
                  <a:lnTo>
                    <a:pt x="723" y="623"/>
                  </a:lnTo>
                  <a:lnTo>
                    <a:pt x="699" y="628"/>
                  </a:lnTo>
                  <a:lnTo>
                    <a:pt x="675" y="623"/>
                  </a:lnTo>
                  <a:lnTo>
                    <a:pt x="656" y="623"/>
                  </a:lnTo>
                  <a:lnTo>
                    <a:pt x="632" y="618"/>
                  </a:lnTo>
                  <a:lnTo>
                    <a:pt x="604" y="609"/>
                  </a:lnTo>
                  <a:lnTo>
                    <a:pt x="580" y="594"/>
                  </a:lnTo>
                  <a:lnTo>
                    <a:pt x="551" y="575"/>
                  </a:lnTo>
                  <a:lnTo>
                    <a:pt x="522" y="551"/>
                  </a:lnTo>
                  <a:lnTo>
                    <a:pt x="489" y="522"/>
                  </a:lnTo>
                  <a:lnTo>
                    <a:pt x="474" y="503"/>
                  </a:lnTo>
                  <a:lnTo>
                    <a:pt x="455" y="489"/>
                  </a:lnTo>
                  <a:lnTo>
                    <a:pt x="441" y="470"/>
                  </a:lnTo>
                  <a:lnTo>
                    <a:pt x="422" y="450"/>
                  </a:lnTo>
                  <a:lnTo>
                    <a:pt x="383" y="412"/>
                  </a:lnTo>
                  <a:lnTo>
                    <a:pt x="350" y="379"/>
                  </a:lnTo>
                  <a:lnTo>
                    <a:pt x="321" y="350"/>
                  </a:lnTo>
                  <a:lnTo>
                    <a:pt x="292" y="326"/>
                  </a:lnTo>
                  <a:lnTo>
                    <a:pt x="264" y="302"/>
                  </a:lnTo>
                  <a:lnTo>
                    <a:pt x="244" y="278"/>
                  </a:lnTo>
                  <a:lnTo>
                    <a:pt x="225" y="264"/>
                  </a:lnTo>
                  <a:lnTo>
                    <a:pt x="206" y="249"/>
                  </a:lnTo>
                  <a:lnTo>
                    <a:pt x="187" y="235"/>
                  </a:lnTo>
                  <a:lnTo>
                    <a:pt x="168" y="216"/>
                  </a:lnTo>
                  <a:lnTo>
                    <a:pt x="144" y="197"/>
                  </a:lnTo>
                  <a:lnTo>
                    <a:pt x="120" y="173"/>
                  </a:lnTo>
                  <a:lnTo>
                    <a:pt x="96" y="149"/>
                  </a:lnTo>
                  <a:lnTo>
                    <a:pt x="62" y="120"/>
                  </a:lnTo>
                  <a:lnTo>
                    <a:pt x="34" y="86"/>
                  </a:lnTo>
                  <a:lnTo>
                    <a:pt x="0" y="48"/>
                  </a:lnTo>
                  <a:lnTo>
                    <a:pt x="24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4528440" y="2606760"/>
              <a:ext cx="701280" cy="956880"/>
            </a:xfrm>
            <a:custGeom>
              <a:avLst/>
              <a:gdLst/>
              <a:ahLst/>
              <a:rect l="l" t="t" r="r" b="b"/>
              <a:pathLst>
                <a:path w="580" h="791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5" y="772"/>
                  </a:lnTo>
                  <a:lnTo>
                    <a:pt x="14" y="762"/>
                  </a:lnTo>
                  <a:lnTo>
                    <a:pt x="29" y="748"/>
                  </a:lnTo>
                  <a:lnTo>
                    <a:pt x="43" y="733"/>
                  </a:lnTo>
                  <a:lnTo>
                    <a:pt x="58" y="719"/>
                  </a:lnTo>
                  <a:lnTo>
                    <a:pt x="81" y="700"/>
                  </a:lnTo>
                  <a:lnTo>
                    <a:pt x="101" y="681"/>
                  </a:lnTo>
                  <a:lnTo>
                    <a:pt x="125" y="661"/>
                  </a:lnTo>
                  <a:lnTo>
                    <a:pt x="149" y="637"/>
                  </a:lnTo>
                  <a:lnTo>
                    <a:pt x="172" y="614"/>
                  </a:lnTo>
                  <a:lnTo>
                    <a:pt x="196" y="585"/>
                  </a:lnTo>
                  <a:lnTo>
                    <a:pt x="220" y="556"/>
                  </a:lnTo>
                  <a:lnTo>
                    <a:pt x="244" y="523"/>
                  </a:lnTo>
                  <a:lnTo>
                    <a:pt x="268" y="489"/>
                  </a:lnTo>
                  <a:lnTo>
                    <a:pt x="292" y="455"/>
                  </a:lnTo>
                  <a:lnTo>
                    <a:pt x="316" y="422"/>
                  </a:lnTo>
                  <a:lnTo>
                    <a:pt x="340" y="393"/>
                  </a:lnTo>
                  <a:lnTo>
                    <a:pt x="359" y="360"/>
                  </a:lnTo>
                  <a:lnTo>
                    <a:pt x="378" y="326"/>
                  </a:lnTo>
                  <a:lnTo>
                    <a:pt x="393" y="293"/>
                  </a:lnTo>
                  <a:lnTo>
                    <a:pt x="407" y="259"/>
                  </a:lnTo>
                  <a:lnTo>
                    <a:pt x="417" y="226"/>
                  </a:lnTo>
                  <a:lnTo>
                    <a:pt x="426" y="192"/>
                  </a:lnTo>
                  <a:lnTo>
                    <a:pt x="431" y="159"/>
                  </a:lnTo>
                  <a:lnTo>
                    <a:pt x="436" y="130"/>
                  </a:lnTo>
                  <a:lnTo>
                    <a:pt x="441" y="101"/>
                  </a:lnTo>
                  <a:lnTo>
                    <a:pt x="446" y="72"/>
                  </a:lnTo>
                  <a:lnTo>
                    <a:pt x="446" y="48"/>
                  </a:lnTo>
                  <a:lnTo>
                    <a:pt x="446" y="24"/>
                  </a:lnTo>
                  <a:lnTo>
                    <a:pt x="441" y="0"/>
                  </a:lnTo>
                  <a:lnTo>
                    <a:pt x="474" y="20"/>
                  </a:lnTo>
                  <a:lnTo>
                    <a:pt x="503" y="34"/>
                  </a:lnTo>
                  <a:lnTo>
                    <a:pt x="527" y="44"/>
                  </a:lnTo>
                  <a:lnTo>
                    <a:pt x="546" y="58"/>
                  </a:lnTo>
                  <a:lnTo>
                    <a:pt x="560" y="72"/>
                  </a:lnTo>
                  <a:lnTo>
                    <a:pt x="570" y="82"/>
                  </a:lnTo>
                  <a:lnTo>
                    <a:pt x="580" y="91"/>
                  </a:lnTo>
                  <a:lnTo>
                    <a:pt x="580" y="101"/>
                  </a:lnTo>
                  <a:lnTo>
                    <a:pt x="580" y="111"/>
                  </a:lnTo>
                  <a:lnTo>
                    <a:pt x="575" y="125"/>
                  </a:lnTo>
                  <a:lnTo>
                    <a:pt x="575" y="139"/>
                  </a:lnTo>
                  <a:lnTo>
                    <a:pt x="565" y="159"/>
                  </a:lnTo>
                  <a:lnTo>
                    <a:pt x="560" y="182"/>
                  </a:lnTo>
                  <a:lnTo>
                    <a:pt x="551" y="206"/>
                  </a:lnTo>
                  <a:lnTo>
                    <a:pt x="541" y="235"/>
                  </a:lnTo>
                  <a:lnTo>
                    <a:pt x="527" y="269"/>
                  </a:lnTo>
                  <a:lnTo>
                    <a:pt x="513" y="302"/>
                  </a:lnTo>
                  <a:lnTo>
                    <a:pt x="493" y="336"/>
                  </a:lnTo>
                  <a:lnTo>
                    <a:pt x="474" y="369"/>
                  </a:lnTo>
                  <a:lnTo>
                    <a:pt x="455" y="403"/>
                  </a:lnTo>
                  <a:lnTo>
                    <a:pt x="431" y="436"/>
                  </a:lnTo>
                  <a:lnTo>
                    <a:pt x="407" y="470"/>
                  </a:lnTo>
                  <a:lnTo>
                    <a:pt x="383" y="503"/>
                  </a:lnTo>
                  <a:lnTo>
                    <a:pt x="354" y="532"/>
                  </a:lnTo>
                  <a:lnTo>
                    <a:pt x="326" y="566"/>
                  </a:lnTo>
                  <a:lnTo>
                    <a:pt x="297" y="594"/>
                  </a:lnTo>
                  <a:lnTo>
                    <a:pt x="273" y="618"/>
                  </a:lnTo>
                  <a:lnTo>
                    <a:pt x="244" y="647"/>
                  </a:lnTo>
                  <a:lnTo>
                    <a:pt x="216" y="671"/>
                  </a:lnTo>
                  <a:lnTo>
                    <a:pt x="187" y="690"/>
                  </a:lnTo>
                  <a:lnTo>
                    <a:pt x="158" y="714"/>
                  </a:lnTo>
                  <a:lnTo>
                    <a:pt x="129" y="733"/>
                  </a:lnTo>
                  <a:lnTo>
                    <a:pt x="105" y="748"/>
                  </a:lnTo>
                  <a:lnTo>
                    <a:pt x="81" y="762"/>
                  </a:lnTo>
                  <a:lnTo>
                    <a:pt x="58" y="776"/>
                  </a:lnTo>
                  <a:lnTo>
                    <a:pt x="43" y="781"/>
                  </a:lnTo>
                  <a:lnTo>
                    <a:pt x="24" y="791"/>
                  </a:lnTo>
                  <a:lnTo>
                    <a:pt x="14" y="791"/>
                  </a:lnTo>
                  <a:lnTo>
                    <a:pt x="5" y="791"/>
                  </a:lnTo>
                  <a:lnTo>
                    <a:pt x="0" y="791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4227480" y="2450520"/>
              <a:ext cx="307080" cy="23184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86" y="115"/>
                  </a:moveTo>
                  <a:lnTo>
                    <a:pt x="67" y="96"/>
                  </a:lnTo>
                  <a:lnTo>
                    <a:pt x="48" y="77"/>
                  </a:lnTo>
                  <a:lnTo>
                    <a:pt x="34" y="62"/>
                  </a:lnTo>
                  <a:lnTo>
                    <a:pt x="19" y="48"/>
                  </a:lnTo>
                  <a:lnTo>
                    <a:pt x="14" y="3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" y="0"/>
                  </a:lnTo>
                  <a:lnTo>
                    <a:pt x="72" y="5"/>
                  </a:lnTo>
                  <a:lnTo>
                    <a:pt x="110" y="10"/>
                  </a:lnTo>
                  <a:lnTo>
                    <a:pt x="148" y="15"/>
                  </a:lnTo>
                  <a:lnTo>
                    <a:pt x="177" y="24"/>
                  </a:lnTo>
                  <a:lnTo>
                    <a:pt x="192" y="29"/>
                  </a:lnTo>
                  <a:lnTo>
                    <a:pt x="206" y="34"/>
                  </a:lnTo>
                  <a:lnTo>
                    <a:pt x="216" y="38"/>
                  </a:lnTo>
                  <a:lnTo>
                    <a:pt x="225" y="48"/>
                  </a:lnTo>
                  <a:lnTo>
                    <a:pt x="235" y="58"/>
                  </a:lnTo>
                  <a:lnTo>
                    <a:pt x="244" y="62"/>
                  </a:lnTo>
                  <a:lnTo>
                    <a:pt x="249" y="77"/>
                  </a:lnTo>
                  <a:lnTo>
                    <a:pt x="254" y="86"/>
                  </a:lnTo>
                  <a:lnTo>
                    <a:pt x="254" y="96"/>
                  </a:lnTo>
                  <a:lnTo>
                    <a:pt x="254" y="106"/>
                  </a:lnTo>
                  <a:lnTo>
                    <a:pt x="254" y="129"/>
                  </a:lnTo>
                  <a:lnTo>
                    <a:pt x="249" y="149"/>
                  </a:lnTo>
                  <a:lnTo>
                    <a:pt x="244" y="158"/>
                  </a:lnTo>
                  <a:lnTo>
                    <a:pt x="239" y="168"/>
                  </a:lnTo>
                  <a:lnTo>
                    <a:pt x="230" y="177"/>
                  </a:lnTo>
                  <a:lnTo>
                    <a:pt x="225" y="182"/>
                  </a:lnTo>
                  <a:lnTo>
                    <a:pt x="220" y="187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87"/>
                  </a:lnTo>
                  <a:lnTo>
                    <a:pt x="192" y="187"/>
                  </a:lnTo>
                  <a:lnTo>
                    <a:pt x="182" y="187"/>
                  </a:lnTo>
                  <a:lnTo>
                    <a:pt x="172" y="177"/>
                  </a:lnTo>
                  <a:lnTo>
                    <a:pt x="158" y="173"/>
                  </a:lnTo>
                  <a:lnTo>
                    <a:pt x="144" y="158"/>
                  </a:lnTo>
                  <a:lnTo>
                    <a:pt x="129" y="149"/>
                  </a:lnTo>
                  <a:lnTo>
                    <a:pt x="110" y="134"/>
                  </a:lnTo>
                  <a:lnTo>
                    <a:pt x="86" y="115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4094280" y="2781000"/>
              <a:ext cx="271800" cy="219960"/>
            </a:xfrm>
            <a:custGeom>
              <a:avLst/>
              <a:gdLst/>
              <a:ahLst/>
              <a:rect l="l" t="t" r="r" b="b"/>
              <a:pathLst>
                <a:path w="225" h="182">
                  <a:moveTo>
                    <a:pt x="144" y="24"/>
                  </a:moveTo>
                  <a:lnTo>
                    <a:pt x="163" y="29"/>
                  </a:lnTo>
                  <a:lnTo>
                    <a:pt x="172" y="38"/>
                  </a:lnTo>
                  <a:lnTo>
                    <a:pt x="187" y="48"/>
                  </a:lnTo>
                  <a:lnTo>
                    <a:pt x="196" y="53"/>
                  </a:lnTo>
                  <a:lnTo>
                    <a:pt x="206" y="62"/>
                  </a:lnTo>
                  <a:lnTo>
                    <a:pt x="215" y="72"/>
                  </a:lnTo>
                  <a:lnTo>
                    <a:pt x="220" y="82"/>
                  </a:lnTo>
                  <a:lnTo>
                    <a:pt x="225" y="91"/>
                  </a:lnTo>
                  <a:lnTo>
                    <a:pt x="225" y="101"/>
                  </a:lnTo>
                  <a:lnTo>
                    <a:pt x="225" y="115"/>
                  </a:lnTo>
                  <a:lnTo>
                    <a:pt x="225" y="134"/>
                  </a:lnTo>
                  <a:lnTo>
                    <a:pt x="225" y="139"/>
                  </a:lnTo>
                  <a:lnTo>
                    <a:pt x="220" y="149"/>
                  </a:lnTo>
                  <a:lnTo>
                    <a:pt x="215" y="153"/>
                  </a:lnTo>
                  <a:lnTo>
                    <a:pt x="215" y="158"/>
                  </a:lnTo>
                  <a:lnTo>
                    <a:pt x="201" y="168"/>
                  </a:lnTo>
                  <a:lnTo>
                    <a:pt x="191" y="177"/>
                  </a:lnTo>
                  <a:lnTo>
                    <a:pt x="177" y="182"/>
                  </a:lnTo>
                  <a:lnTo>
                    <a:pt x="172" y="182"/>
                  </a:lnTo>
                  <a:lnTo>
                    <a:pt x="167" y="182"/>
                  </a:lnTo>
                  <a:lnTo>
                    <a:pt x="158" y="177"/>
                  </a:lnTo>
                  <a:lnTo>
                    <a:pt x="148" y="173"/>
                  </a:lnTo>
                  <a:lnTo>
                    <a:pt x="139" y="163"/>
                  </a:lnTo>
                  <a:lnTo>
                    <a:pt x="124" y="153"/>
                  </a:lnTo>
                  <a:lnTo>
                    <a:pt x="110" y="144"/>
                  </a:lnTo>
                  <a:lnTo>
                    <a:pt x="96" y="129"/>
                  </a:lnTo>
                  <a:lnTo>
                    <a:pt x="76" y="115"/>
                  </a:lnTo>
                  <a:lnTo>
                    <a:pt x="57" y="101"/>
                  </a:lnTo>
                  <a:lnTo>
                    <a:pt x="43" y="86"/>
                  </a:lnTo>
                  <a:lnTo>
                    <a:pt x="29" y="67"/>
                  </a:lnTo>
                  <a:lnTo>
                    <a:pt x="19" y="53"/>
                  </a:lnTo>
                  <a:lnTo>
                    <a:pt x="9" y="38"/>
                  </a:lnTo>
                  <a:lnTo>
                    <a:pt x="5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81" y="5"/>
                  </a:lnTo>
                  <a:lnTo>
                    <a:pt x="100" y="10"/>
                  </a:lnTo>
                  <a:lnTo>
                    <a:pt x="115" y="15"/>
                  </a:lnTo>
                  <a:lnTo>
                    <a:pt x="129" y="19"/>
                  </a:lnTo>
                  <a:lnTo>
                    <a:pt x="144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4667760" y="2787120"/>
              <a:ext cx="185040" cy="352800"/>
            </a:xfrm>
            <a:custGeom>
              <a:avLst/>
              <a:gdLst/>
              <a:ahLst/>
              <a:rect l="l" t="t" r="r" b="b"/>
              <a:pathLst>
                <a:path w="153" h="292">
                  <a:moveTo>
                    <a:pt x="110" y="0"/>
                  </a:moveTo>
                  <a:lnTo>
                    <a:pt x="129" y="24"/>
                  </a:lnTo>
                  <a:lnTo>
                    <a:pt x="134" y="33"/>
                  </a:lnTo>
                  <a:lnTo>
                    <a:pt x="144" y="43"/>
                  </a:lnTo>
                  <a:lnTo>
                    <a:pt x="148" y="57"/>
                  </a:lnTo>
                  <a:lnTo>
                    <a:pt x="153" y="67"/>
                  </a:lnTo>
                  <a:lnTo>
                    <a:pt x="153" y="81"/>
                  </a:lnTo>
                  <a:lnTo>
                    <a:pt x="153" y="96"/>
                  </a:lnTo>
                  <a:lnTo>
                    <a:pt x="153" y="105"/>
                  </a:lnTo>
                  <a:lnTo>
                    <a:pt x="153" y="120"/>
                  </a:lnTo>
                  <a:lnTo>
                    <a:pt x="148" y="134"/>
                  </a:lnTo>
                  <a:lnTo>
                    <a:pt x="144" y="148"/>
                  </a:lnTo>
                  <a:lnTo>
                    <a:pt x="129" y="182"/>
                  </a:lnTo>
                  <a:lnTo>
                    <a:pt x="110" y="220"/>
                  </a:lnTo>
                  <a:lnTo>
                    <a:pt x="101" y="235"/>
                  </a:lnTo>
                  <a:lnTo>
                    <a:pt x="91" y="249"/>
                  </a:lnTo>
                  <a:lnTo>
                    <a:pt x="81" y="263"/>
                  </a:lnTo>
                  <a:lnTo>
                    <a:pt x="77" y="273"/>
                  </a:lnTo>
                  <a:lnTo>
                    <a:pt x="67" y="283"/>
                  </a:lnTo>
                  <a:lnTo>
                    <a:pt x="62" y="287"/>
                  </a:lnTo>
                  <a:lnTo>
                    <a:pt x="53" y="292"/>
                  </a:lnTo>
                  <a:lnTo>
                    <a:pt x="43" y="292"/>
                  </a:lnTo>
                  <a:lnTo>
                    <a:pt x="38" y="287"/>
                  </a:lnTo>
                  <a:lnTo>
                    <a:pt x="34" y="287"/>
                  </a:lnTo>
                  <a:lnTo>
                    <a:pt x="29" y="283"/>
                  </a:lnTo>
                  <a:lnTo>
                    <a:pt x="24" y="268"/>
                  </a:lnTo>
                  <a:lnTo>
                    <a:pt x="14" y="249"/>
                  </a:lnTo>
                  <a:lnTo>
                    <a:pt x="10" y="235"/>
                  </a:lnTo>
                  <a:lnTo>
                    <a:pt x="5" y="215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10" y="172"/>
                  </a:lnTo>
                  <a:lnTo>
                    <a:pt x="19" y="168"/>
                  </a:lnTo>
                  <a:lnTo>
                    <a:pt x="24" y="158"/>
                  </a:lnTo>
                  <a:lnTo>
                    <a:pt x="34" y="153"/>
                  </a:lnTo>
                  <a:lnTo>
                    <a:pt x="38" y="144"/>
                  </a:lnTo>
                  <a:lnTo>
                    <a:pt x="48" y="134"/>
                  </a:lnTo>
                  <a:lnTo>
                    <a:pt x="57" y="120"/>
                  </a:lnTo>
                  <a:lnTo>
                    <a:pt x="67" y="101"/>
                  </a:lnTo>
                  <a:lnTo>
                    <a:pt x="77" y="81"/>
                  </a:lnTo>
                  <a:lnTo>
                    <a:pt x="86" y="57"/>
                  </a:lnTo>
                  <a:lnTo>
                    <a:pt x="101" y="33"/>
                  </a:lnTo>
                  <a:lnTo>
                    <a:pt x="110" y="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4117320" y="2990160"/>
              <a:ext cx="469080" cy="583920"/>
            </a:xfrm>
            <a:custGeom>
              <a:avLst/>
              <a:gdLst/>
              <a:ahLst/>
              <a:rect l="l" t="t" r="r" b="b"/>
              <a:pathLst>
                <a:path w="388" h="483">
                  <a:moveTo>
                    <a:pt x="91" y="483"/>
                  </a:moveTo>
                  <a:lnTo>
                    <a:pt x="86" y="483"/>
                  </a:lnTo>
                  <a:lnTo>
                    <a:pt x="77" y="479"/>
                  </a:lnTo>
                  <a:lnTo>
                    <a:pt x="72" y="474"/>
                  </a:lnTo>
                  <a:lnTo>
                    <a:pt x="62" y="464"/>
                  </a:lnTo>
                  <a:lnTo>
                    <a:pt x="57" y="455"/>
                  </a:lnTo>
                  <a:lnTo>
                    <a:pt x="48" y="435"/>
                  </a:lnTo>
                  <a:lnTo>
                    <a:pt x="38" y="421"/>
                  </a:lnTo>
                  <a:lnTo>
                    <a:pt x="34" y="397"/>
                  </a:lnTo>
                  <a:lnTo>
                    <a:pt x="24" y="378"/>
                  </a:lnTo>
                  <a:lnTo>
                    <a:pt x="14" y="359"/>
                  </a:lnTo>
                  <a:lnTo>
                    <a:pt x="10" y="344"/>
                  </a:lnTo>
                  <a:lnTo>
                    <a:pt x="5" y="330"/>
                  </a:lnTo>
                  <a:lnTo>
                    <a:pt x="5" y="316"/>
                  </a:lnTo>
                  <a:lnTo>
                    <a:pt x="0" y="306"/>
                  </a:lnTo>
                  <a:lnTo>
                    <a:pt x="5" y="297"/>
                  </a:lnTo>
                  <a:lnTo>
                    <a:pt x="5" y="292"/>
                  </a:lnTo>
                  <a:lnTo>
                    <a:pt x="10" y="282"/>
                  </a:lnTo>
                  <a:lnTo>
                    <a:pt x="19" y="277"/>
                  </a:lnTo>
                  <a:lnTo>
                    <a:pt x="29" y="277"/>
                  </a:lnTo>
                  <a:lnTo>
                    <a:pt x="38" y="273"/>
                  </a:lnTo>
                  <a:lnTo>
                    <a:pt x="48" y="277"/>
                  </a:lnTo>
                  <a:lnTo>
                    <a:pt x="53" y="277"/>
                  </a:lnTo>
                  <a:lnTo>
                    <a:pt x="67" y="277"/>
                  </a:lnTo>
                  <a:lnTo>
                    <a:pt x="77" y="273"/>
                  </a:lnTo>
                  <a:lnTo>
                    <a:pt x="91" y="268"/>
                  </a:lnTo>
                  <a:lnTo>
                    <a:pt x="96" y="263"/>
                  </a:lnTo>
                  <a:lnTo>
                    <a:pt x="105" y="253"/>
                  </a:lnTo>
                  <a:lnTo>
                    <a:pt x="120" y="244"/>
                  </a:lnTo>
                  <a:lnTo>
                    <a:pt x="134" y="225"/>
                  </a:lnTo>
                  <a:lnTo>
                    <a:pt x="158" y="206"/>
                  </a:lnTo>
                  <a:lnTo>
                    <a:pt x="182" y="186"/>
                  </a:lnTo>
                  <a:lnTo>
                    <a:pt x="206" y="158"/>
                  </a:lnTo>
                  <a:lnTo>
                    <a:pt x="220" y="143"/>
                  </a:lnTo>
                  <a:lnTo>
                    <a:pt x="239" y="124"/>
                  </a:lnTo>
                  <a:lnTo>
                    <a:pt x="254" y="110"/>
                  </a:lnTo>
                  <a:lnTo>
                    <a:pt x="268" y="91"/>
                  </a:lnTo>
                  <a:lnTo>
                    <a:pt x="297" y="67"/>
                  </a:lnTo>
                  <a:lnTo>
                    <a:pt x="321" y="43"/>
                  </a:lnTo>
                  <a:lnTo>
                    <a:pt x="340" y="24"/>
                  </a:lnTo>
                  <a:lnTo>
                    <a:pt x="359" y="14"/>
                  </a:lnTo>
                  <a:lnTo>
                    <a:pt x="369" y="4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4"/>
                  </a:lnTo>
                  <a:lnTo>
                    <a:pt x="388" y="9"/>
                  </a:lnTo>
                  <a:lnTo>
                    <a:pt x="383" y="14"/>
                  </a:lnTo>
                  <a:lnTo>
                    <a:pt x="383" y="19"/>
                  </a:lnTo>
                  <a:lnTo>
                    <a:pt x="378" y="28"/>
                  </a:lnTo>
                  <a:lnTo>
                    <a:pt x="374" y="43"/>
                  </a:lnTo>
                  <a:lnTo>
                    <a:pt x="369" y="52"/>
                  </a:lnTo>
                  <a:lnTo>
                    <a:pt x="364" y="67"/>
                  </a:lnTo>
                  <a:lnTo>
                    <a:pt x="354" y="81"/>
                  </a:lnTo>
                  <a:lnTo>
                    <a:pt x="345" y="100"/>
                  </a:lnTo>
                  <a:lnTo>
                    <a:pt x="335" y="119"/>
                  </a:lnTo>
                  <a:lnTo>
                    <a:pt x="326" y="143"/>
                  </a:lnTo>
                  <a:lnTo>
                    <a:pt x="311" y="162"/>
                  </a:lnTo>
                  <a:lnTo>
                    <a:pt x="297" y="186"/>
                  </a:lnTo>
                  <a:lnTo>
                    <a:pt x="283" y="215"/>
                  </a:lnTo>
                  <a:lnTo>
                    <a:pt x="263" y="239"/>
                  </a:lnTo>
                  <a:lnTo>
                    <a:pt x="249" y="268"/>
                  </a:lnTo>
                  <a:lnTo>
                    <a:pt x="230" y="297"/>
                  </a:lnTo>
                  <a:lnTo>
                    <a:pt x="216" y="320"/>
                  </a:lnTo>
                  <a:lnTo>
                    <a:pt x="201" y="344"/>
                  </a:lnTo>
                  <a:lnTo>
                    <a:pt x="187" y="364"/>
                  </a:lnTo>
                  <a:lnTo>
                    <a:pt x="172" y="383"/>
                  </a:lnTo>
                  <a:lnTo>
                    <a:pt x="163" y="402"/>
                  </a:lnTo>
                  <a:lnTo>
                    <a:pt x="148" y="416"/>
                  </a:lnTo>
                  <a:lnTo>
                    <a:pt x="139" y="431"/>
                  </a:lnTo>
                  <a:lnTo>
                    <a:pt x="129" y="445"/>
                  </a:lnTo>
                  <a:lnTo>
                    <a:pt x="120" y="455"/>
                  </a:lnTo>
                  <a:lnTo>
                    <a:pt x="115" y="464"/>
                  </a:lnTo>
                  <a:lnTo>
                    <a:pt x="105" y="469"/>
                  </a:lnTo>
                  <a:lnTo>
                    <a:pt x="101" y="474"/>
                  </a:lnTo>
                  <a:lnTo>
                    <a:pt x="96" y="479"/>
                  </a:lnTo>
                  <a:lnTo>
                    <a:pt x="91" y="483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3276720" y="2286000"/>
          <a:ext cx="3124080" cy="266688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 rot="5400000">
            <a:off x="-457560" y="2514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63" name="Group 5"/>
          <p:cNvGrpSpPr/>
          <p:nvPr/>
        </p:nvGrpSpPr>
        <p:grpSpPr>
          <a:xfrm>
            <a:off x="2590920" y="1295280"/>
            <a:ext cx="4952880" cy="4605480"/>
            <a:chOff x="2590920" y="1295280"/>
            <a:chExt cx="4952880" cy="4605480"/>
          </a:xfrm>
        </p:grpSpPr>
        <p:sp>
          <p:nvSpPr>
            <p:cNvPr id="264" name="AutoShape 6"/>
            <p:cNvSpPr/>
            <p:nvPr/>
          </p:nvSpPr>
          <p:spPr>
            <a:xfrm>
              <a:off x="2590920" y="1295280"/>
              <a:ext cx="4952880" cy="46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7"/>
            <p:cNvSpPr/>
            <p:nvPr/>
          </p:nvSpPr>
          <p:spPr>
            <a:xfrm>
              <a:off x="3890880" y="2466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>
              <a:off x="3909240" y="2439720"/>
              <a:ext cx="2298960" cy="2305800"/>
            </a:xfrm>
            <a:custGeom>
              <a:avLst/>
              <a:gdLst/>
              <a:ahLst/>
              <a:rect l="l" t="t" r="r" b="b"/>
              <a:pathLst>
                <a:path w="1901" h="1906">
                  <a:moveTo>
                    <a:pt x="1135" y="704"/>
                  </a:moveTo>
                  <a:lnTo>
                    <a:pt x="1140" y="704"/>
                  </a:lnTo>
                  <a:lnTo>
                    <a:pt x="1144" y="699"/>
                  </a:lnTo>
                  <a:lnTo>
                    <a:pt x="1149" y="694"/>
                  </a:lnTo>
                  <a:lnTo>
                    <a:pt x="1154" y="689"/>
                  </a:lnTo>
                  <a:lnTo>
                    <a:pt x="1159" y="680"/>
                  </a:lnTo>
                  <a:lnTo>
                    <a:pt x="1163" y="670"/>
                  </a:lnTo>
                  <a:lnTo>
                    <a:pt x="1173" y="661"/>
                  </a:lnTo>
                  <a:lnTo>
                    <a:pt x="1178" y="651"/>
                  </a:lnTo>
                  <a:lnTo>
                    <a:pt x="1183" y="637"/>
                  </a:lnTo>
                  <a:lnTo>
                    <a:pt x="1187" y="622"/>
                  </a:lnTo>
                  <a:lnTo>
                    <a:pt x="1197" y="608"/>
                  </a:lnTo>
                  <a:lnTo>
                    <a:pt x="1202" y="589"/>
                  </a:lnTo>
                  <a:lnTo>
                    <a:pt x="1207" y="574"/>
                  </a:lnTo>
                  <a:lnTo>
                    <a:pt x="1216" y="555"/>
                  </a:lnTo>
                  <a:lnTo>
                    <a:pt x="1231" y="512"/>
                  </a:lnTo>
                  <a:lnTo>
                    <a:pt x="1245" y="474"/>
                  </a:lnTo>
                  <a:lnTo>
                    <a:pt x="1259" y="435"/>
                  </a:lnTo>
                  <a:lnTo>
                    <a:pt x="1269" y="397"/>
                  </a:lnTo>
                  <a:lnTo>
                    <a:pt x="1278" y="364"/>
                  </a:lnTo>
                  <a:lnTo>
                    <a:pt x="1283" y="335"/>
                  </a:lnTo>
                  <a:lnTo>
                    <a:pt x="1293" y="301"/>
                  </a:lnTo>
                  <a:lnTo>
                    <a:pt x="1298" y="273"/>
                  </a:lnTo>
                  <a:lnTo>
                    <a:pt x="1298" y="249"/>
                  </a:lnTo>
                  <a:lnTo>
                    <a:pt x="1302" y="225"/>
                  </a:lnTo>
                  <a:lnTo>
                    <a:pt x="1302" y="206"/>
                  </a:lnTo>
                  <a:lnTo>
                    <a:pt x="1302" y="191"/>
                  </a:lnTo>
                  <a:lnTo>
                    <a:pt x="1302" y="172"/>
                  </a:lnTo>
                  <a:lnTo>
                    <a:pt x="1298" y="162"/>
                  </a:lnTo>
                  <a:lnTo>
                    <a:pt x="1298" y="148"/>
                  </a:lnTo>
                  <a:lnTo>
                    <a:pt x="1293" y="138"/>
                  </a:lnTo>
                  <a:lnTo>
                    <a:pt x="1293" y="134"/>
                  </a:lnTo>
                  <a:lnTo>
                    <a:pt x="1283" y="124"/>
                  </a:lnTo>
                  <a:lnTo>
                    <a:pt x="1274" y="119"/>
                  </a:lnTo>
                  <a:lnTo>
                    <a:pt x="1254" y="115"/>
                  </a:lnTo>
                  <a:lnTo>
                    <a:pt x="1240" y="115"/>
                  </a:lnTo>
                  <a:lnTo>
                    <a:pt x="1231" y="115"/>
                  </a:lnTo>
                  <a:lnTo>
                    <a:pt x="1216" y="115"/>
                  </a:lnTo>
                  <a:lnTo>
                    <a:pt x="1202" y="119"/>
                  </a:lnTo>
                  <a:lnTo>
                    <a:pt x="1183" y="119"/>
                  </a:lnTo>
                  <a:lnTo>
                    <a:pt x="1163" y="124"/>
                  </a:lnTo>
                  <a:lnTo>
                    <a:pt x="1144" y="129"/>
                  </a:lnTo>
                  <a:lnTo>
                    <a:pt x="1120" y="134"/>
                  </a:lnTo>
                  <a:lnTo>
                    <a:pt x="1092" y="138"/>
                  </a:lnTo>
                  <a:lnTo>
                    <a:pt x="1034" y="153"/>
                  </a:lnTo>
                  <a:lnTo>
                    <a:pt x="1010" y="158"/>
                  </a:lnTo>
                  <a:lnTo>
                    <a:pt x="981" y="162"/>
                  </a:lnTo>
                  <a:lnTo>
                    <a:pt x="958" y="167"/>
                  </a:lnTo>
                  <a:lnTo>
                    <a:pt x="934" y="172"/>
                  </a:lnTo>
                  <a:lnTo>
                    <a:pt x="914" y="177"/>
                  </a:lnTo>
                  <a:lnTo>
                    <a:pt x="895" y="182"/>
                  </a:lnTo>
                  <a:lnTo>
                    <a:pt x="876" y="186"/>
                  </a:lnTo>
                  <a:lnTo>
                    <a:pt x="857" y="191"/>
                  </a:lnTo>
                  <a:lnTo>
                    <a:pt x="838" y="191"/>
                  </a:lnTo>
                  <a:lnTo>
                    <a:pt x="823" y="196"/>
                  </a:lnTo>
                  <a:lnTo>
                    <a:pt x="809" y="191"/>
                  </a:lnTo>
                  <a:lnTo>
                    <a:pt x="795" y="191"/>
                  </a:lnTo>
                  <a:lnTo>
                    <a:pt x="785" y="186"/>
                  </a:lnTo>
                  <a:lnTo>
                    <a:pt x="771" y="182"/>
                  </a:lnTo>
                  <a:lnTo>
                    <a:pt x="761" y="177"/>
                  </a:lnTo>
                  <a:lnTo>
                    <a:pt x="752" y="172"/>
                  </a:lnTo>
                  <a:lnTo>
                    <a:pt x="742" y="167"/>
                  </a:lnTo>
                  <a:lnTo>
                    <a:pt x="732" y="162"/>
                  </a:lnTo>
                  <a:lnTo>
                    <a:pt x="728" y="158"/>
                  </a:lnTo>
                  <a:lnTo>
                    <a:pt x="723" y="153"/>
                  </a:lnTo>
                  <a:lnTo>
                    <a:pt x="723" y="148"/>
                  </a:lnTo>
                  <a:lnTo>
                    <a:pt x="723" y="138"/>
                  </a:lnTo>
                  <a:lnTo>
                    <a:pt x="728" y="138"/>
                  </a:lnTo>
                  <a:lnTo>
                    <a:pt x="732" y="138"/>
                  </a:lnTo>
                  <a:lnTo>
                    <a:pt x="742" y="138"/>
                  </a:lnTo>
                  <a:lnTo>
                    <a:pt x="756" y="138"/>
                  </a:lnTo>
                  <a:lnTo>
                    <a:pt x="766" y="134"/>
                  </a:lnTo>
                  <a:lnTo>
                    <a:pt x="780" y="134"/>
                  </a:lnTo>
                  <a:lnTo>
                    <a:pt x="799" y="129"/>
                  </a:lnTo>
                  <a:lnTo>
                    <a:pt x="814" y="129"/>
                  </a:lnTo>
                  <a:lnTo>
                    <a:pt x="833" y="124"/>
                  </a:lnTo>
                  <a:lnTo>
                    <a:pt x="857" y="119"/>
                  </a:lnTo>
                  <a:lnTo>
                    <a:pt x="881" y="115"/>
                  </a:lnTo>
                  <a:lnTo>
                    <a:pt x="905" y="110"/>
                  </a:lnTo>
                  <a:lnTo>
                    <a:pt x="929" y="105"/>
                  </a:lnTo>
                  <a:lnTo>
                    <a:pt x="958" y="95"/>
                  </a:lnTo>
                  <a:lnTo>
                    <a:pt x="986" y="91"/>
                  </a:lnTo>
                  <a:lnTo>
                    <a:pt x="1015" y="81"/>
                  </a:lnTo>
                  <a:lnTo>
                    <a:pt x="1044" y="76"/>
                  </a:lnTo>
                  <a:lnTo>
                    <a:pt x="1072" y="71"/>
                  </a:lnTo>
                  <a:lnTo>
                    <a:pt x="1096" y="62"/>
                  </a:lnTo>
                  <a:lnTo>
                    <a:pt x="1125" y="57"/>
                  </a:lnTo>
                  <a:lnTo>
                    <a:pt x="1144" y="52"/>
                  </a:lnTo>
                  <a:lnTo>
                    <a:pt x="1168" y="47"/>
                  </a:lnTo>
                  <a:lnTo>
                    <a:pt x="1187" y="43"/>
                  </a:lnTo>
                  <a:lnTo>
                    <a:pt x="1202" y="38"/>
                  </a:lnTo>
                  <a:lnTo>
                    <a:pt x="1216" y="33"/>
                  </a:lnTo>
                  <a:lnTo>
                    <a:pt x="1231" y="33"/>
                  </a:lnTo>
                  <a:lnTo>
                    <a:pt x="1240" y="28"/>
                  </a:lnTo>
                  <a:lnTo>
                    <a:pt x="1254" y="24"/>
                  </a:lnTo>
                  <a:lnTo>
                    <a:pt x="1259" y="24"/>
                  </a:lnTo>
                  <a:lnTo>
                    <a:pt x="1264" y="19"/>
                  </a:lnTo>
                  <a:lnTo>
                    <a:pt x="1269" y="19"/>
                  </a:lnTo>
                  <a:lnTo>
                    <a:pt x="1274" y="14"/>
                  </a:lnTo>
                  <a:lnTo>
                    <a:pt x="1283" y="9"/>
                  </a:lnTo>
                  <a:lnTo>
                    <a:pt x="1293" y="4"/>
                  </a:lnTo>
                  <a:lnTo>
                    <a:pt x="1302" y="0"/>
                  </a:lnTo>
                  <a:lnTo>
                    <a:pt x="1317" y="0"/>
                  </a:lnTo>
                  <a:lnTo>
                    <a:pt x="1322" y="0"/>
                  </a:lnTo>
                  <a:lnTo>
                    <a:pt x="1326" y="4"/>
                  </a:lnTo>
                  <a:lnTo>
                    <a:pt x="1336" y="4"/>
                  </a:lnTo>
                  <a:lnTo>
                    <a:pt x="1350" y="9"/>
                  </a:lnTo>
                  <a:lnTo>
                    <a:pt x="1365" y="19"/>
                  </a:lnTo>
                  <a:lnTo>
                    <a:pt x="1379" y="28"/>
                  </a:lnTo>
                  <a:lnTo>
                    <a:pt x="1398" y="38"/>
                  </a:lnTo>
                  <a:lnTo>
                    <a:pt x="1422" y="47"/>
                  </a:lnTo>
                  <a:lnTo>
                    <a:pt x="1436" y="62"/>
                  </a:lnTo>
                  <a:lnTo>
                    <a:pt x="1456" y="71"/>
                  </a:lnTo>
                  <a:lnTo>
                    <a:pt x="1465" y="81"/>
                  </a:lnTo>
                  <a:lnTo>
                    <a:pt x="1480" y="91"/>
                  </a:lnTo>
                  <a:lnTo>
                    <a:pt x="1484" y="100"/>
                  </a:lnTo>
                  <a:lnTo>
                    <a:pt x="1494" y="105"/>
                  </a:lnTo>
                  <a:lnTo>
                    <a:pt x="1499" y="110"/>
                  </a:lnTo>
                  <a:lnTo>
                    <a:pt x="1499" y="115"/>
                  </a:lnTo>
                  <a:lnTo>
                    <a:pt x="1494" y="124"/>
                  </a:lnTo>
                  <a:lnTo>
                    <a:pt x="1489" y="134"/>
                  </a:lnTo>
                  <a:lnTo>
                    <a:pt x="1484" y="143"/>
                  </a:lnTo>
                  <a:lnTo>
                    <a:pt x="1470" y="148"/>
                  </a:lnTo>
                  <a:lnTo>
                    <a:pt x="1460" y="153"/>
                  </a:lnTo>
                  <a:lnTo>
                    <a:pt x="1456" y="162"/>
                  </a:lnTo>
                  <a:lnTo>
                    <a:pt x="1451" y="172"/>
                  </a:lnTo>
                  <a:lnTo>
                    <a:pt x="1446" y="186"/>
                  </a:lnTo>
                  <a:lnTo>
                    <a:pt x="1441" y="201"/>
                  </a:lnTo>
                  <a:lnTo>
                    <a:pt x="1436" y="220"/>
                  </a:lnTo>
                  <a:lnTo>
                    <a:pt x="1432" y="239"/>
                  </a:lnTo>
                  <a:lnTo>
                    <a:pt x="1427" y="263"/>
                  </a:lnTo>
                  <a:lnTo>
                    <a:pt x="1422" y="292"/>
                  </a:lnTo>
                  <a:lnTo>
                    <a:pt x="1417" y="320"/>
                  </a:lnTo>
                  <a:lnTo>
                    <a:pt x="1408" y="354"/>
                  </a:lnTo>
                  <a:lnTo>
                    <a:pt x="1398" y="388"/>
                  </a:lnTo>
                  <a:lnTo>
                    <a:pt x="1384" y="431"/>
                  </a:lnTo>
                  <a:lnTo>
                    <a:pt x="1374" y="474"/>
                  </a:lnTo>
                  <a:lnTo>
                    <a:pt x="1360" y="522"/>
                  </a:lnTo>
                  <a:lnTo>
                    <a:pt x="1341" y="570"/>
                  </a:lnTo>
                  <a:lnTo>
                    <a:pt x="1336" y="598"/>
                  </a:lnTo>
                  <a:lnTo>
                    <a:pt x="1326" y="622"/>
                  </a:lnTo>
                  <a:lnTo>
                    <a:pt x="1317" y="646"/>
                  </a:lnTo>
                  <a:lnTo>
                    <a:pt x="1312" y="665"/>
                  </a:lnTo>
                  <a:lnTo>
                    <a:pt x="1302" y="689"/>
                  </a:lnTo>
                  <a:lnTo>
                    <a:pt x="1293" y="708"/>
                  </a:lnTo>
                  <a:lnTo>
                    <a:pt x="1288" y="728"/>
                  </a:lnTo>
                  <a:lnTo>
                    <a:pt x="1278" y="747"/>
                  </a:lnTo>
                  <a:lnTo>
                    <a:pt x="1269" y="761"/>
                  </a:lnTo>
                  <a:lnTo>
                    <a:pt x="1264" y="775"/>
                  </a:lnTo>
                  <a:lnTo>
                    <a:pt x="1254" y="790"/>
                  </a:lnTo>
                  <a:lnTo>
                    <a:pt x="1250" y="799"/>
                  </a:lnTo>
                  <a:lnTo>
                    <a:pt x="1240" y="814"/>
                  </a:lnTo>
                  <a:lnTo>
                    <a:pt x="1235" y="823"/>
                  </a:lnTo>
                  <a:lnTo>
                    <a:pt x="1226" y="828"/>
                  </a:lnTo>
                  <a:lnTo>
                    <a:pt x="1221" y="838"/>
                  </a:lnTo>
                  <a:lnTo>
                    <a:pt x="1207" y="852"/>
                  </a:lnTo>
                  <a:lnTo>
                    <a:pt x="1192" y="862"/>
                  </a:lnTo>
                  <a:lnTo>
                    <a:pt x="1178" y="871"/>
                  </a:lnTo>
                  <a:lnTo>
                    <a:pt x="1168" y="881"/>
                  </a:lnTo>
                  <a:lnTo>
                    <a:pt x="1159" y="886"/>
                  </a:lnTo>
                  <a:lnTo>
                    <a:pt x="1149" y="890"/>
                  </a:lnTo>
                  <a:lnTo>
                    <a:pt x="1144" y="895"/>
                  </a:lnTo>
                  <a:lnTo>
                    <a:pt x="1135" y="895"/>
                  </a:lnTo>
                  <a:lnTo>
                    <a:pt x="1130" y="895"/>
                  </a:lnTo>
                  <a:lnTo>
                    <a:pt x="1125" y="890"/>
                  </a:lnTo>
                  <a:lnTo>
                    <a:pt x="1120" y="886"/>
                  </a:lnTo>
                  <a:lnTo>
                    <a:pt x="1116" y="881"/>
                  </a:lnTo>
                  <a:lnTo>
                    <a:pt x="1111" y="876"/>
                  </a:lnTo>
                  <a:lnTo>
                    <a:pt x="1106" y="866"/>
                  </a:lnTo>
                  <a:lnTo>
                    <a:pt x="1106" y="857"/>
                  </a:lnTo>
                  <a:lnTo>
                    <a:pt x="1101" y="847"/>
                  </a:lnTo>
                  <a:lnTo>
                    <a:pt x="1096" y="833"/>
                  </a:lnTo>
                  <a:lnTo>
                    <a:pt x="1092" y="819"/>
                  </a:lnTo>
                  <a:lnTo>
                    <a:pt x="1087" y="804"/>
                  </a:lnTo>
                  <a:lnTo>
                    <a:pt x="1077" y="790"/>
                  </a:lnTo>
                  <a:lnTo>
                    <a:pt x="1068" y="775"/>
                  </a:lnTo>
                  <a:lnTo>
                    <a:pt x="1058" y="756"/>
                  </a:lnTo>
                  <a:lnTo>
                    <a:pt x="1049" y="737"/>
                  </a:lnTo>
                  <a:lnTo>
                    <a:pt x="1029" y="723"/>
                  </a:lnTo>
                  <a:lnTo>
                    <a:pt x="1015" y="704"/>
                  </a:lnTo>
                  <a:lnTo>
                    <a:pt x="1005" y="694"/>
                  </a:lnTo>
                  <a:lnTo>
                    <a:pt x="996" y="680"/>
                  </a:lnTo>
                  <a:lnTo>
                    <a:pt x="991" y="670"/>
                  </a:lnTo>
                  <a:lnTo>
                    <a:pt x="986" y="661"/>
                  </a:lnTo>
                  <a:lnTo>
                    <a:pt x="986" y="656"/>
                  </a:lnTo>
                  <a:lnTo>
                    <a:pt x="986" y="651"/>
                  </a:lnTo>
                  <a:lnTo>
                    <a:pt x="986" y="646"/>
                  </a:lnTo>
                  <a:lnTo>
                    <a:pt x="991" y="646"/>
                  </a:lnTo>
                  <a:lnTo>
                    <a:pt x="996" y="646"/>
                  </a:lnTo>
                  <a:lnTo>
                    <a:pt x="1001" y="651"/>
                  </a:lnTo>
                  <a:lnTo>
                    <a:pt x="1010" y="651"/>
                  </a:lnTo>
                  <a:lnTo>
                    <a:pt x="1020" y="656"/>
                  </a:lnTo>
                  <a:lnTo>
                    <a:pt x="1029" y="665"/>
                  </a:lnTo>
                  <a:lnTo>
                    <a:pt x="1044" y="670"/>
                  </a:lnTo>
                  <a:lnTo>
                    <a:pt x="1058" y="680"/>
                  </a:lnTo>
                  <a:lnTo>
                    <a:pt x="1068" y="689"/>
                  </a:lnTo>
                  <a:lnTo>
                    <a:pt x="1082" y="694"/>
                  </a:lnTo>
                  <a:lnTo>
                    <a:pt x="1092" y="699"/>
                  </a:lnTo>
                  <a:lnTo>
                    <a:pt x="1101" y="704"/>
                  </a:lnTo>
                  <a:lnTo>
                    <a:pt x="1111" y="708"/>
                  </a:lnTo>
                  <a:lnTo>
                    <a:pt x="1120" y="708"/>
                  </a:lnTo>
                  <a:lnTo>
                    <a:pt x="1130" y="708"/>
                  </a:lnTo>
                  <a:lnTo>
                    <a:pt x="1135" y="704"/>
                  </a:lnTo>
                  <a:close/>
                  <a:moveTo>
                    <a:pt x="1551" y="421"/>
                  </a:moveTo>
                  <a:lnTo>
                    <a:pt x="1571" y="431"/>
                  </a:lnTo>
                  <a:lnTo>
                    <a:pt x="1590" y="435"/>
                  </a:lnTo>
                  <a:lnTo>
                    <a:pt x="1604" y="440"/>
                  </a:lnTo>
                  <a:lnTo>
                    <a:pt x="1618" y="445"/>
                  </a:lnTo>
                  <a:lnTo>
                    <a:pt x="1633" y="455"/>
                  </a:lnTo>
                  <a:lnTo>
                    <a:pt x="1642" y="459"/>
                  </a:lnTo>
                  <a:lnTo>
                    <a:pt x="1647" y="464"/>
                  </a:lnTo>
                  <a:lnTo>
                    <a:pt x="1652" y="474"/>
                  </a:lnTo>
                  <a:lnTo>
                    <a:pt x="1657" y="488"/>
                  </a:lnTo>
                  <a:lnTo>
                    <a:pt x="1662" y="502"/>
                  </a:lnTo>
                  <a:lnTo>
                    <a:pt x="1662" y="522"/>
                  </a:lnTo>
                  <a:lnTo>
                    <a:pt x="1662" y="536"/>
                  </a:lnTo>
                  <a:lnTo>
                    <a:pt x="1662" y="546"/>
                  </a:lnTo>
                  <a:lnTo>
                    <a:pt x="1657" y="555"/>
                  </a:lnTo>
                  <a:lnTo>
                    <a:pt x="1657" y="560"/>
                  </a:lnTo>
                  <a:lnTo>
                    <a:pt x="1652" y="570"/>
                  </a:lnTo>
                  <a:lnTo>
                    <a:pt x="1642" y="574"/>
                  </a:lnTo>
                  <a:lnTo>
                    <a:pt x="1638" y="574"/>
                  </a:lnTo>
                  <a:lnTo>
                    <a:pt x="1628" y="579"/>
                  </a:lnTo>
                  <a:lnTo>
                    <a:pt x="1618" y="579"/>
                  </a:lnTo>
                  <a:lnTo>
                    <a:pt x="1614" y="579"/>
                  </a:lnTo>
                  <a:lnTo>
                    <a:pt x="1604" y="579"/>
                  </a:lnTo>
                  <a:lnTo>
                    <a:pt x="1595" y="574"/>
                  </a:lnTo>
                  <a:lnTo>
                    <a:pt x="1585" y="570"/>
                  </a:lnTo>
                  <a:lnTo>
                    <a:pt x="1575" y="565"/>
                  </a:lnTo>
                  <a:lnTo>
                    <a:pt x="1561" y="560"/>
                  </a:lnTo>
                  <a:lnTo>
                    <a:pt x="1547" y="550"/>
                  </a:lnTo>
                  <a:lnTo>
                    <a:pt x="1527" y="541"/>
                  </a:lnTo>
                  <a:lnTo>
                    <a:pt x="1508" y="531"/>
                  </a:lnTo>
                  <a:lnTo>
                    <a:pt x="1489" y="522"/>
                  </a:lnTo>
                  <a:lnTo>
                    <a:pt x="1470" y="507"/>
                  </a:lnTo>
                  <a:lnTo>
                    <a:pt x="1446" y="498"/>
                  </a:lnTo>
                  <a:lnTo>
                    <a:pt x="1422" y="483"/>
                  </a:lnTo>
                  <a:lnTo>
                    <a:pt x="1398" y="464"/>
                  </a:lnTo>
                  <a:lnTo>
                    <a:pt x="1369" y="450"/>
                  </a:lnTo>
                  <a:lnTo>
                    <a:pt x="1341" y="431"/>
                  </a:lnTo>
                  <a:lnTo>
                    <a:pt x="1360" y="421"/>
                  </a:lnTo>
                  <a:lnTo>
                    <a:pt x="1379" y="411"/>
                  </a:lnTo>
                  <a:lnTo>
                    <a:pt x="1403" y="402"/>
                  </a:lnTo>
                  <a:lnTo>
                    <a:pt x="1422" y="397"/>
                  </a:lnTo>
                  <a:lnTo>
                    <a:pt x="1432" y="397"/>
                  </a:lnTo>
                  <a:lnTo>
                    <a:pt x="1441" y="397"/>
                  </a:lnTo>
                  <a:lnTo>
                    <a:pt x="1456" y="402"/>
                  </a:lnTo>
                  <a:lnTo>
                    <a:pt x="1470" y="402"/>
                  </a:lnTo>
                  <a:lnTo>
                    <a:pt x="1489" y="407"/>
                  </a:lnTo>
                  <a:lnTo>
                    <a:pt x="1508" y="411"/>
                  </a:lnTo>
                  <a:lnTo>
                    <a:pt x="1527" y="416"/>
                  </a:lnTo>
                  <a:lnTo>
                    <a:pt x="1551" y="421"/>
                  </a:lnTo>
                  <a:close/>
                  <a:moveTo>
                    <a:pt x="1542" y="953"/>
                  </a:moveTo>
                  <a:lnTo>
                    <a:pt x="1575" y="953"/>
                  </a:lnTo>
                  <a:lnTo>
                    <a:pt x="1604" y="962"/>
                  </a:lnTo>
                  <a:lnTo>
                    <a:pt x="1623" y="962"/>
                  </a:lnTo>
                  <a:lnTo>
                    <a:pt x="1638" y="972"/>
                  </a:lnTo>
                  <a:lnTo>
                    <a:pt x="1652" y="977"/>
                  </a:lnTo>
                  <a:lnTo>
                    <a:pt x="1671" y="986"/>
                  </a:lnTo>
                  <a:lnTo>
                    <a:pt x="1686" y="996"/>
                  </a:lnTo>
                  <a:lnTo>
                    <a:pt x="1700" y="1005"/>
                  </a:lnTo>
                  <a:lnTo>
                    <a:pt x="1709" y="1010"/>
                  </a:lnTo>
                  <a:lnTo>
                    <a:pt x="1724" y="1015"/>
                  </a:lnTo>
                  <a:lnTo>
                    <a:pt x="1729" y="1025"/>
                  </a:lnTo>
                  <a:lnTo>
                    <a:pt x="1738" y="1029"/>
                  </a:lnTo>
                  <a:lnTo>
                    <a:pt x="1743" y="1034"/>
                  </a:lnTo>
                  <a:lnTo>
                    <a:pt x="1748" y="1034"/>
                  </a:lnTo>
                  <a:lnTo>
                    <a:pt x="1753" y="1049"/>
                  </a:lnTo>
                  <a:lnTo>
                    <a:pt x="1753" y="1053"/>
                  </a:lnTo>
                  <a:lnTo>
                    <a:pt x="1753" y="1063"/>
                  </a:lnTo>
                  <a:lnTo>
                    <a:pt x="1748" y="1068"/>
                  </a:lnTo>
                  <a:lnTo>
                    <a:pt x="1743" y="1072"/>
                  </a:lnTo>
                  <a:lnTo>
                    <a:pt x="1733" y="1072"/>
                  </a:lnTo>
                  <a:lnTo>
                    <a:pt x="1729" y="1077"/>
                  </a:lnTo>
                  <a:lnTo>
                    <a:pt x="1719" y="1077"/>
                  </a:lnTo>
                  <a:lnTo>
                    <a:pt x="1705" y="1077"/>
                  </a:lnTo>
                  <a:lnTo>
                    <a:pt x="1690" y="1077"/>
                  </a:lnTo>
                  <a:lnTo>
                    <a:pt x="1676" y="1077"/>
                  </a:lnTo>
                  <a:lnTo>
                    <a:pt x="1662" y="1082"/>
                  </a:lnTo>
                  <a:lnTo>
                    <a:pt x="1642" y="1082"/>
                  </a:lnTo>
                  <a:lnTo>
                    <a:pt x="1618" y="1082"/>
                  </a:lnTo>
                  <a:lnTo>
                    <a:pt x="1599" y="1082"/>
                  </a:lnTo>
                  <a:lnTo>
                    <a:pt x="1575" y="1082"/>
                  </a:lnTo>
                  <a:lnTo>
                    <a:pt x="1547" y="1077"/>
                  </a:lnTo>
                  <a:lnTo>
                    <a:pt x="1518" y="1077"/>
                  </a:lnTo>
                  <a:lnTo>
                    <a:pt x="1489" y="1077"/>
                  </a:lnTo>
                  <a:lnTo>
                    <a:pt x="1427" y="1072"/>
                  </a:lnTo>
                  <a:lnTo>
                    <a:pt x="1365" y="1072"/>
                  </a:lnTo>
                  <a:lnTo>
                    <a:pt x="1245" y="1077"/>
                  </a:lnTo>
                  <a:lnTo>
                    <a:pt x="1125" y="1077"/>
                  </a:lnTo>
                  <a:lnTo>
                    <a:pt x="1005" y="1087"/>
                  </a:lnTo>
                  <a:lnTo>
                    <a:pt x="948" y="1092"/>
                  </a:lnTo>
                  <a:lnTo>
                    <a:pt x="895" y="1096"/>
                  </a:lnTo>
                  <a:lnTo>
                    <a:pt x="843" y="1106"/>
                  </a:lnTo>
                  <a:lnTo>
                    <a:pt x="790" y="1111"/>
                  </a:lnTo>
                  <a:lnTo>
                    <a:pt x="742" y="1116"/>
                  </a:lnTo>
                  <a:lnTo>
                    <a:pt x="694" y="1120"/>
                  </a:lnTo>
                  <a:lnTo>
                    <a:pt x="651" y="1125"/>
                  </a:lnTo>
                  <a:lnTo>
                    <a:pt x="608" y="1125"/>
                  </a:lnTo>
                  <a:lnTo>
                    <a:pt x="526" y="1140"/>
                  </a:lnTo>
                  <a:lnTo>
                    <a:pt x="440" y="1149"/>
                  </a:lnTo>
                  <a:lnTo>
                    <a:pt x="354" y="1159"/>
                  </a:lnTo>
                  <a:lnTo>
                    <a:pt x="273" y="1168"/>
                  </a:lnTo>
                  <a:lnTo>
                    <a:pt x="253" y="1173"/>
                  </a:lnTo>
                  <a:lnTo>
                    <a:pt x="234" y="1173"/>
                  </a:lnTo>
                  <a:lnTo>
                    <a:pt x="215" y="1178"/>
                  </a:lnTo>
                  <a:lnTo>
                    <a:pt x="196" y="1178"/>
                  </a:lnTo>
                  <a:lnTo>
                    <a:pt x="182" y="1183"/>
                  </a:lnTo>
                  <a:lnTo>
                    <a:pt x="167" y="1183"/>
                  </a:lnTo>
                  <a:lnTo>
                    <a:pt x="153" y="1187"/>
                  </a:lnTo>
                  <a:lnTo>
                    <a:pt x="143" y="1187"/>
                  </a:lnTo>
                  <a:lnTo>
                    <a:pt x="134" y="1187"/>
                  </a:lnTo>
                  <a:lnTo>
                    <a:pt x="124" y="1192"/>
                  </a:lnTo>
                  <a:lnTo>
                    <a:pt x="115" y="1192"/>
                  </a:lnTo>
                  <a:lnTo>
                    <a:pt x="105" y="1192"/>
                  </a:lnTo>
                  <a:lnTo>
                    <a:pt x="100" y="1192"/>
                  </a:lnTo>
                  <a:lnTo>
                    <a:pt x="95" y="1192"/>
                  </a:lnTo>
                  <a:lnTo>
                    <a:pt x="91" y="1192"/>
                  </a:lnTo>
                  <a:lnTo>
                    <a:pt x="86" y="1192"/>
                  </a:lnTo>
                  <a:lnTo>
                    <a:pt x="81" y="1192"/>
                  </a:lnTo>
                  <a:lnTo>
                    <a:pt x="76" y="1187"/>
                  </a:lnTo>
                  <a:lnTo>
                    <a:pt x="67" y="1187"/>
                  </a:lnTo>
                  <a:lnTo>
                    <a:pt x="57" y="1183"/>
                  </a:lnTo>
                  <a:lnTo>
                    <a:pt x="47" y="1178"/>
                  </a:lnTo>
                  <a:lnTo>
                    <a:pt x="38" y="1168"/>
                  </a:lnTo>
                  <a:lnTo>
                    <a:pt x="28" y="1159"/>
                  </a:lnTo>
                  <a:lnTo>
                    <a:pt x="24" y="1149"/>
                  </a:lnTo>
                  <a:lnTo>
                    <a:pt x="14" y="1144"/>
                  </a:lnTo>
                  <a:lnTo>
                    <a:pt x="9" y="1135"/>
                  </a:lnTo>
                  <a:lnTo>
                    <a:pt x="4" y="1130"/>
                  </a:lnTo>
                  <a:lnTo>
                    <a:pt x="4" y="1125"/>
                  </a:lnTo>
                  <a:lnTo>
                    <a:pt x="0" y="1120"/>
                  </a:lnTo>
                  <a:lnTo>
                    <a:pt x="4" y="1116"/>
                  </a:lnTo>
                  <a:lnTo>
                    <a:pt x="4" y="1111"/>
                  </a:lnTo>
                  <a:lnTo>
                    <a:pt x="9" y="1106"/>
                  </a:lnTo>
                  <a:lnTo>
                    <a:pt x="19" y="1106"/>
                  </a:lnTo>
                  <a:lnTo>
                    <a:pt x="28" y="1106"/>
                  </a:lnTo>
                  <a:lnTo>
                    <a:pt x="43" y="1101"/>
                  </a:lnTo>
                  <a:lnTo>
                    <a:pt x="62" y="1101"/>
                  </a:lnTo>
                  <a:lnTo>
                    <a:pt x="86" y="1101"/>
                  </a:lnTo>
                  <a:lnTo>
                    <a:pt x="115" y="1096"/>
                  </a:lnTo>
                  <a:lnTo>
                    <a:pt x="143" y="1092"/>
                  </a:lnTo>
                  <a:lnTo>
                    <a:pt x="177" y="1092"/>
                  </a:lnTo>
                  <a:lnTo>
                    <a:pt x="215" y="1087"/>
                  </a:lnTo>
                  <a:lnTo>
                    <a:pt x="258" y="1082"/>
                  </a:lnTo>
                  <a:lnTo>
                    <a:pt x="306" y="1082"/>
                  </a:lnTo>
                  <a:lnTo>
                    <a:pt x="354" y="1077"/>
                  </a:lnTo>
                  <a:lnTo>
                    <a:pt x="411" y="1072"/>
                  </a:lnTo>
                  <a:lnTo>
                    <a:pt x="469" y="1068"/>
                  </a:lnTo>
                  <a:lnTo>
                    <a:pt x="531" y="1063"/>
                  </a:lnTo>
                  <a:lnTo>
                    <a:pt x="651" y="1049"/>
                  </a:lnTo>
                  <a:lnTo>
                    <a:pt x="713" y="1044"/>
                  </a:lnTo>
                  <a:lnTo>
                    <a:pt x="771" y="1034"/>
                  </a:lnTo>
                  <a:lnTo>
                    <a:pt x="828" y="1029"/>
                  </a:lnTo>
                  <a:lnTo>
                    <a:pt x="881" y="1025"/>
                  </a:lnTo>
                  <a:lnTo>
                    <a:pt x="938" y="1015"/>
                  </a:lnTo>
                  <a:lnTo>
                    <a:pt x="986" y="1010"/>
                  </a:lnTo>
                  <a:lnTo>
                    <a:pt x="1039" y="1005"/>
                  </a:lnTo>
                  <a:lnTo>
                    <a:pt x="1087" y="1005"/>
                  </a:lnTo>
                  <a:lnTo>
                    <a:pt x="1135" y="1001"/>
                  </a:lnTo>
                  <a:lnTo>
                    <a:pt x="1183" y="991"/>
                  </a:lnTo>
                  <a:lnTo>
                    <a:pt x="1226" y="986"/>
                  </a:lnTo>
                  <a:lnTo>
                    <a:pt x="1264" y="981"/>
                  </a:lnTo>
                  <a:lnTo>
                    <a:pt x="1307" y="977"/>
                  </a:lnTo>
                  <a:lnTo>
                    <a:pt x="1341" y="967"/>
                  </a:lnTo>
                  <a:lnTo>
                    <a:pt x="1379" y="967"/>
                  </a:lnTo>
                  <a:lnTo>
                    <a:pt x="1408" y="962"/>
                  </a:lnTo>
                  <a:lnTo>
                    <a:pt x="1436" y="962"/>
                  </a:lnTo>
                  <a:lnTo>
                    <a:pt x="1465" y="958"/>
                  </a:lnTo>
                  <a:lnTo>
                    <a:pt x="1489" y="958"/>
                  </a:lnTo>
                  <a:lnTo>
                    <a:pt x="1508" y="953"/>
                  </a:lnTo>
                  <a:lnTo>
                    <a:pt x="1527" y="953"/>
                  </a:lnTo>
                  <a:lnTo>
                    <a:pt x="1542" y="953"/>
                  </a:lnTo>
                  <a:close/>
                  <a:moveTo>
                    <a:pt x="790" y="962"/>
                  </a:moveTo>
                  <a:lnTo>
                    <a:pt x="780" y="943"/>
                  </a:lnTo>
                  <a:lnTo>
                    <a:pt x="771" y="929"/>
                  </a:lnTo>
                  <a:lnTo>
                    <a:pt x="771" y="924"/>
                  </a:lnTo>
                  <a:lnTo>
                    <a:pt x="771" y="914"/>
                  </a:lnTo>
                  <a:lnTo>
                    <a:pt x="771" y="910"/>
                  </a:lnTo>
                  <a:lnTo>
                    <a:pt x="771" y="905"/>
                  </a:lnTo>
                  <a:lnTo>
                    <a:pt x="775" y="895"/>
                  </a:lnTo>
                  <a:lnTo>
                    <a:pt x="780" y="890"/>
                  </a:lnTo>
                  <a:lnTo>
                    <a:pt x="785" y="890"/>
                  </a:lnTo>
                  <a:lnTo>
                    <a:pt x="790" y="886"/>
                  </a:lnTo>
                  <a:lnTo>
                    <a:pt x="799" y="886"/>
                  </a:lnTo>
                  <a:lnTo>
                    <a:pt x="809" y="886"/>
                  </a:lnTo>
                  <a:lnTo>
                    <a:pt x="828" y="886"/>
                  </a:lnTo>
                  <a:lnTo>
                    <a:pt x="847" y="890"/>
                  </a:lnTo>
                  <a:lnTo>
                    <a:pt x="871" y="895"/>
                  </a:lnTo>
                  <a:lnTo>
                    <a:pt x="895" y="905"/>
                  </a:lnTo>
                  <a:lnTo>
                    <a:pt x="910" y="919"/>
                  </a:lnTo>
                  <a:lnTo>
                    <a:pt x="919" y="924"/>
                  </a:lnTo>
                  <a:lnTo>
                    <a:pt x="924" y="934"/>
                  </a:lnTo>
                  <a:lnTo>
                    <a:pt x="929" y="943"/>
                  </a:lnTo>
                  <a:lnTo>
                    <a:pt x="929" y="953"/>
                  </a:lnTo>
                  <a:lnTo>
                    <a:pt x="929" y="962"/>
                  </a:lnTo>
                  <a:lnTo>
                    <a:pt x="929" y="967"/>
                  </a:lnTo>
                  <a:lnTo>
                    <a:pt x="929" y="977"/>
                  </a:lnTo>
                  <a:lnTo>
                    <a:pt x="924" y="986"/>
                  </a:lnTo>
                  <a:lnTo>
                    <a:pt x="924" y="1001"/>
                  </a:lnTo>
                  <a:lnTo>
                    <a:pt x="924" y="1015"/>
                  </a:lnTo>
                  <a:lnTo>
                    <a:pt x="919" y="1034"/>
                  </a:lnTo>
                  <a:lnTo>
                    <a:pt x="919" y="1058"/>
                  </a:lnTo>
                  <a:lnTo>
                    <a:pt x="919" y="1077"/>
                  </a:lnTo>
                  <a:lnTo>
                    <a:pt x="914" y="1106"/>
                  </a:lnTo>
                  <a:lnTo>
                    <a:pt x="914" y="1135"/>
                  </a:lnTo>
                  <a:lnTo>
                    <a:pt x="914" y="1168"/>
                  </a:lnTo>
                  <a:lnTo>
                    <a:pt x="914" y="1202"/>
                  </a:lnTo>
                  <a:lnTo>
                    <a:pt x="914" y="1240"/>
                  </a:lnTo>
                  <a:lnTo>
                    <a:pt x="910" y="1278"/>
                  </a:lnTo>
                  <a:lnTo>
                    <a:pt x="910" y="1322"/>
                  </a:lnTo>
                  <a:lnTo>
                    <a:pt x="910" y="1369"/>
                  </a:lnTo>
                  <a:lnTo>
                    <a:pt x="910" y="1417"/>
                  </a:lnTo>
                  <a:lnTo>
                    <a:pt x="910" y="1465"/>
                  </a:lnTo>
                  <a:lnTo>
                    <a:pt x="910" y="1513"/>
                  </a:lnTo>
                  <a:lnTo>
                    <a:pt x="910" y="1556"/>
                  </a:lnTo>
                  <a:lnTo>
                    <a:pt x="910" y="1595"/>
                  </a:lnTo>
                  <a:lnTo>
                    <a:pt x="910" y="1633"/>
                  </a:lnTo>
                  <a:lnTo>
                    <a:pt x="910" y="1666"/>
                  </a:lnTo>
                  <a:lnTo>
                    <a:pt x="905" y="1700"/>
                  </a:lnTo>
                  <a:lnTo>
                    <a:pt x="905" y="1729"/>
                  </a:lnTo>
                  <a:lnTo>
                    <a:pt x="905" y="1753"/>
                  </a:lnTo>
                  <a:lnTo>
                    <a:pt x="905" y="1777"/>
                  </a:lnTo>
                  <a:lnTo>
                    <a:pt x="900" y="1800"/>
                  </a:lnTo>
                  <a:lnTo>
                    <a:pt x="900" y="1820"/>
                  </a:lnTo>
                  <a:lnTo>
                    <a:pt x="900" y="1834"/>
                  </a:lnTo>
                  <a:lnTo>
                    <a:pt x="895" y="1848"/>
                  </a:lnTo>
                  <a:lnTo>
                    <a:pt x="895" y="1858"/>
                  </a:lnTo>
                  <a:lnTo>
                    <a:pt x="895" y="1863"/>
                  </a:lnTo>
                  <a:lnTo>
                    <a:pt x="881" y="1882"/>
                  </a:lnTo>
                  <a:lnTo>
                    <a:pt x="871" y="1896"/>
                  </a:lnTo>
                  <a:lnTo>
                    <a:pt x="862" y="1901"/>
                  </a:lnTo>
                  <a:lnTo>
                    <a:pt x="857" y="1906"/>
                  </a:lnTo>
                  <a:lnTo>
                    <a:pt x="852" y="1906"/>
                  </a:lnTo>
                  <a:lnTo>
                    <a:pt x="847" y="1906"/>
                  </a:lnTo>
                  <a:lnTo>
                    <a:pt x="843" y="1901"/>
                  </a:lnTo>
                  <a:lnTo>
                    <a:pt x="838" y="1896"/>
                  </a:lnTo>
                  <a:lnTo>
                    <a:pt x="833" y="1887"/>
                  </a:lnTo>
                  <a:lnTo>
                    <a:pt x="828" y="1877"/>
                  </a:lnTo>
                  <a:lnTo>
                    <a:pt x="819" y="1863"/>
                  </a:lnTo>
                  <a:lnTo>
                    <a:pt x="814" y="1844"/>
                  </a:lnTo>
                  <a:lnTo>
                    <a:pt x="809" y="1824"/>
                  </a:lnTo>
                  <a:lnTo>
                    <a:pt x="799" y="1800"/>
                  </a:lnTo>
                  <a:lnTo>
                    <a:pt x="795" y="1781"/>
                  </a:lnTo>
                  <a:lnTo>
                    <a:pt x="790" y="1762"/>
                  </a:lnTo>
                  <a:lnTo>
                    <a:pt x="785" y="1743"/>
                  </a:lnTo>
                  <a:lnTo>
                    <a:pt x="785" y="1724"/>
                  </a:lnTo>
                  <a:lnTo>
                    <a:pt x="785" y="1705"/>
                  </a:lnTo>
                  <a:lnTo>
                    <a:pt x="785" y="1686"/>
                  </a:lnTo>
                  <a:lnTo>
                    <a:pt x="790" y="1666"/>
                  </a:lnTo>
                  <a:lnTo>
                    <a:pt x="795" y="1647"/>
                  </a:lnTo>
                  <a:lnTo>
                    <a:pt x="799" y="1628"/>
                  </a:lnTo>
                  <a:lnTo>
                    <a:pt x="804" y="1609"/>
                  </a:lnTo>
                  <a:lnTo>
                    <a:pt x="809" y="1585"/>
                  </a:lnTo>
                  <a:lnTo>
                    <a:pt x="814" y="1556"/>
                  </a:lnTo>
                  <a:lnTo>
                    <a:pt x="819" y="1523"/>
                  </a:lnTo>
                  <a:lnTo>
                    <a:pt x="819" y="1489"/>
                  </a:lnTo>
                  <a:lnTo>
                    <a:pt x="823" y="1451"/>
                  </a:lnTo>
                  <a:lnTo>
                    <a:pt x="828" y="1374"/>
                  </a:lnTo>
                  <a:lnTo>
                    <a:pt x="833" y="1302"/>
                  </a:lnTo>
                  <a:lnTo>
                    <a:pt x="833" y="1221"/>
                  </a:lnTo>
                  <a:lnTo>
                    <a:pt x="833" y="1144"/>
                  </a:lnTo>
                  <a:lnTo>
                    <a:pt x="828" y="1106"/>
                  </a:lnTo>
                  <a:lnTo>
                    <a:pt x="828" y="1077"/>
                  </a:lnTo>
                  <a:lnTo>
                    <a:pt x="823" y="1049"/>
                  </a:lnTo>
                  <a:lnTo>
                    <a:pt x="819" y="1025"/>
                  </a:lnTo>
                  <a:lnTo>
                    <a:pt x="814" y="1005"/>
                  </a:lnTo>
                  <a:lnTo>
                    <a:pt x="804" y="986"/>
                  </a:lnTo>
                  <a:lnTo>
                    <a:pt x="799" y="972"/>
                  </a:lnTo>
                  <a:lnTo>
                    <a:pt x="790" y="962"/>
                  </a:lnTo>
                  <a:close/>
                  <a:moveTo>
                    <a:pt x="421" y="1556"/>
                  </a:moveTo>
                  <a:lnTo>
                    <a:pt x="359" y="1595"/>
                  </a:lnTo>
                  <a:lnTo>
                    <a:pt x="297" y="1628"/>
                  </a:lnTo>
                  <a:lnTo>
                    <a:pt x="239" y="1662"/>
                  </a:lnTo>
                  <a:lnTo>
                    <a:pt x="177" y="1700"/>
                  </a:lnTo>
                  <a:lnTo>
                    <a:pt x="148" y="1714"/>
                  </a:lnTo>
                  <a:lnTo>
                    <a:pt x="124" y="1724"/>
                  </a:lnTo>
                  <a:lnTo>
                    <a:pt x="105" y="1733"/>
                  </a:lnTo>
                  <a:lnTo>
                    <a:pt x="86" y="1738"/>
                  </a:lnTo>
                  <a:lnTo>
                    <a:pt x="71" y="1743"/>
                  </a:lnTo>
                  <a:lnTo>
                    <a:pt x="62" y="1743"/>
                  </a:lnTo>
                  <a:lnTo>
                    <a:pt x="52" y="1743"/>
                  </a:lnTo>
                  <a:lnTo>
                    <a:pt x="47" y="1743"/>
                  </a:lnTo>
                  <a:lnTo>
                    <a:pt x="47" y="1738"/>
                  </a:lnTo>
                  <a:lnTo>
                    <a:pt x="47" y="1729"/>
                  </a:lnTo>
                  <a:lnTo>
                    <a:pt x="52" y="1724"/>
                  </a:lnTo>
                  <a:lnTo>
                    <a:pt x="62" y="1714"/>
                  </a:lnTo>
                  <a:lnTo>
                    <a:pt x="76" y="1700"/>
                  </a:lnTo>
                  <a:lnTo>
                    <a:pt x="95" y="1686"/>
                  </a:lnTo>
                  <a:lnTo>
                    <a:pt x="115" y="1671"/>
                  </a:lnTo>
                  <a:lnTo>
                    <a:pt x="143" y="1657"/>
                  </a:lnTo>
                  <a:lnTo>
                    <a:pt x="196" y="1623"/>
                  </a:lnTo>
                  <a:lnTo>
                    <a:pt x="244" y="1590"/>
                  </a:lnTo>
                  <a:lnTo>
                    <a:pt x="297" y="1551"/>
                  </a:lnTo>
                  <a:lnTo>
                    <a:pt x="340" y="1508"/>
                  </a:lnTo>
                  <a:lnTo>
                    <a:pt x="354" y="1499"/>
                  </a:lnTo>
                  <a:lnTo>
                    <a:pt x="368" y="1484"/>
                  </a:lnTo>
                  <a:lnTo>
                    <a:pt x="383" y="1470"/>
                  </a:lnTo>
                  <a:lnTo>
                    <a:pt x="402" y="1456"/>
                  </a:lnTo>
                  <a:lnTo>
                    <a:pt x="421" y="1436"/>
                  </a:lnTo>
                  <a:lnTo>
                    <a:pt x="440" y="1413"/>
                  </a:lnTo>
                  <a:lnTo>
                    <a:pt x="459" y="1393"/>
                  </a:lnTo>
                  <a:lnTo>
                    <a:pt x="483" y="1365"/>
                  </a:lnTo>
                  <a:lnTo>
                    <a:pt x="512" y="1341"/>
                  </a:lnTo>
                  <a:lnTo>
                    <a:pt x="541" y="1307"/>
                  </a:lnTo>
                  <a:lnTo>
                    <a:pt x="570" y="1278"/>
                  </a:lnTo>
                  <a:lnTo>
                    <a:pt x="598" y="1245"/>
                  </a:lnTo>
                  <a:lnTo>
                    <a:pt x="632" y="1207"/>
                  </a:lnTo>
                  <a:lnTo>
                    <a:pt x="665" y="1168"/>
                  </a:lnTo>
                  <a:lnTo>
                    <a:pt x="699" y="1130"/>
                  </a:lnTo>
                  <a:lnTo>
                    <a:pt x="737" y="1087"/>
                  </a:lnTo>
                  <a:lnTo>
                    <a:pt x="804" y="1101"/>
                  </a:lnTo>
                  <a:lnTo>
                    <a:pt x="866" y="1120"/>
                  </a:lnTo>
                  <a:lnTo>
                    <a:pt x="828" y="1163"/>
                  </a:lnTo>
                  <a:lnTo>
                    <a:pt x="790" y="1207"/>
                  </a:lnTo>
                  <a:lnTo>
                    <a:pt x="752" y="1245"/>
                  </a:lnTo>
                  <a:lnTo>
                    <a:pt x="718" y="1283"/>
                  </a:lnTo>
                  <a:lnTo>
                    <a:pt x="684" y="1317"/>
                  </a:lnTo>
                  <a:lnTo>
                    <a:pt x="651" y="1350"/>
                  </a:lnTo>
                  <a:lnTo>
                    <a:pt x="622" y="1379"/>
                  </a:lnTo>
                  <a:lnTo>
                    <a:pt x="593" y="1408"/>
                  </a:lnTo>
                  <a:lnTo>
                    <a:pt x="565" y="1432"/>
                  </a:lnTo>
                  <a:lnTo>
                    <a:pt x="541" y="1456"/>
                  </a:lnTo>
                  <a:lnTo>
                    <a:pt x="512" y="1480"/>
                  </a:lnTo>
                  <a:lnTo>
                    <a:pt x="493" y="1499"/>
                  </a:lnTo>
                  <a:lnTo>
                    <a:pt x="469" y="1518"/>
                  </a:lnTo>
                  <a:lnTo>
                    <a:pt x="450" y="1532"/>
                  </a:lnTo>
                  <a:lnTo>
                    <a:pt x="435" y="1547"/>
                  </a:lnTo>
                  <a:lnTo>
                    <a:pt x="421" y="1556"/>
                  </a:lnTo>
                  <a:close/>
                  <a:moveTo>
                    <a:pt x="876" y="1077"/>
                  </a:moveTo>
                  <a:lnTo>
                    <a:pt x="905" y="1106"/>
                  </a:lnTo>
                  <a:lnTo>
                    <a:pt x="938" y="1135"/>
                  </a:lnTo>
                  <a:lnTo>
                    <a:pt x="977" y="1163"/>
                  </a:lnTo>
                  <a:lnTo>
                    <a:pt x="1010" y="1192"/>
                  </a:lnTo>
                  <a:lnTo>
                    <a:pt x="1053" y="1221"/>
                  </a:lnTo>
                  <a:lnTo>
                    <a:pt x="1096" y="1250"/>
                  </a:lnTo>
                  <a:lnTo>
                    <a:pt x="1140" y="1278"/>
                  </a:lnTo>
                  <a:lnTo>
                    <a:pt x="1187" y="1307"/>
                  </a:lnTo>
                  <a:lnTo>
                    <a:pt x="1235" y="1345"/>
                  </a:lnTo>
                  <a:lnTo>
                    <a:pt x="1283" y="1374"/>
                  </a:lnTo>
                  <a:lnTo>
                    <a:pt x="1336" y="1403"/>
                  </a:lnTo>
                  <a:lnTo>
                    <a:pt x="1389" y="1432"/>
                  </a:lnTo>
                  <a:lnTo>
                    <a:pt x="1446" y="1460"/>
                  </a:lnTo>
                  <a:lnTo>
                    <a:pt x="1508" y="1484"/>
                  </a:lnTo>
                  <a:lnTo>
                    <a:pt x="1571" y="1508"/>
                  </a:lnTo>
                  <a:lnTo>
                    <a:pt x="1638" y="1532"/>
                  </a:lnTo>
                  <a:lnTo>
                    <a:pt x="1666" y="1547"/>
                  </a:lnTo>
                  <a:lnTo>
                    <a:pt x="1700" y="1556"/>
                  </a:lnTo>
                  <a:lnTo>
                    <a:pt x="1729" y="1566"/>
                  </a:lnTo>
                  <a:lnTo>
                    <a:pt x="1753" y="1575"/>
                  </a:lnTo>
                  <a:lnTo>
                    <a:pt x="1777" y="1585"/>
                  </a:lnTo>
                  <a:lnTo>
                    <a:pt x="1800" y="1595"/>
                  </a:lnTo>
                  <a:lnTo>
                    <a:pt x="1820" y="1604"/>
                  </a:lnTo>
                  <a:lnTo>
                    <a:pt x="1839" y="1609"/>
                  </a:lnTo>
                  <a:lnTo>
                    <a:pt x="1853" y="1614"/>
                  </a:lnTo>
                  <a:lnTo>
                    <a:pt x="1868" y="1623"/>
                  </a:lnTo>
                  <a:lnTo>
                    <a:pt x="1877" y="1628"/>
                  </a:lnTo>
                  <a:lnTo>
                    <a:pt x="1887" y="1628"/>
                  </a:lnTo>
                  <a:lnTo>
                    <a:pt x="1896" y="1633"/>
                  </a:lnTo>
                  <a:lnTo>
                    <a:pt x="1901" y="1638"/>
                  </a:lnTo>
                  <a:lnTo>
                    <a:pt x="1901" y="1642"/>
                  </a:lnTo>
                  <a:lnTo>
                    <a:pt x="1896" y="1647"/>
                  </a:lnTo>
                  <a:lnTo>
                    <a:pt x="1891" y="1647"/>
                  </a:lnTo>
                  <a:lnTo>
                    <a:pt x="1887" y="1652"/>
                  </a:lnTo>
                  <a:lnTo>
                    <a:pt x="1882" y="1652"/>
                  </a:lnTo>
                  <a:lnTo>
                    <a:pt x="1872" y="1657"/>
                  </a:lnTo>
                  <a:lnTo>
                    <a:pt x="1863" y="1657"/>
                  </a:lnTo>
                  <a:lnTo>
                    <a:pt x="1853" y="1662"/>
                  </a:lnTo>
                  <a:lnTo>
                    <a:pt x="1844" y="1666"/>
                  </a:lnTo>
                  <a:lnTo>
                    <a:pt x="1829" y="1666"/>
                  </a:lnTo>
                  <a:lnTo>
                    <a:pt x="1815" y="1671"/>
                  </a:lnTo>
                  <a:lnTo>
                    <a:pt x="1800" y="1671"/>
                  </a:lnTo>
                  <a:lnTo>
                    <a:pt x="1786" y="1676"/>
                  </a:lnTo>
                  <a:lnTo>
                    <a:pt x="1767" y="1681"/>
                  </a:lnTo>
                  <a:lnTo>
                    <a:pt x="1748" y="1681"/>
                  </a:lnTo>
                  <a:lnTo>
                    <a:pt x="1709" y="1690"/>
                  </a:lnTo>
                  <a:lnTo>
                    <a:pt x="1671" y="1695"/>
                  </a:lnTo>
                  <a:lnTo>
                    <a:pt x="1638" y="1700"/>
                  </a:lnTo>
                  <a:lnTo>
                    <a:pt x="1604" y="1700"/>
                  </a:lnTo>
                  <a:lnTo>
                    <a:pt x="1575" y="1700"/>
                  </a:lnTo>
                  <a:lnTo>
                    <a:pt x="1551" y="1705"/>
                  </a:lnTo>
                  <a:lnTo>
                    <a:pt x="1527" y="1700"/>
                  </a:lnTo>
                  <a:lnTo>
                    <a:pt x="1508" y="1700"/>
                  </a:lnTo>
                  <a:lnTo>
                    <a:pt x="1484" y="1695"/>
                  </a:lnTo>
                  <a:lnTo>
                    <a:pt x="1456" y="1686"/>
                  </a:lnTo>
                  <a:lnTo>
                    <a:pt x="1432" y="1671"/>
                  </a:lnTo>
                  <a:lnTo>
                    <a:pt x="1403" y="1652"/>
                  </a:lnTo>
                  <a:lnTo>
                    <a:pt x="1374" y="1628"/>
                  </a:lnTo>
                  <a:lnTo>
                    <a:pt x="1341" y="1599"/>
                  </a:lnTo>
                  <a:lnTo>
                    <a:pt x="1326" y="1580"/>
                  </a:lnTo>
                  <a:lnTo>
                    <a:pt x="1307" y="1566"/>
                  </a:lnTo>
                  <a:lnTo>
                    <a:pt x="1293" y="1547"/>
                  </a:lnTo>
                  <a:lnTo>
                    <a:pt x="1274" y="1527"/>
                  </a:lnTo>
                  <a:lnTo>
                    <a:pt x="1235" y="1489"/>
                  </a:lnTo>
                  <a:lnTo>
                    <a:pt x="1202" y="1456"/>
                  </a:lnTo>
                  <a:lnTo>
                    <a:pt x="1173" y="1427"/>
                  </a:lnTo>
                  <a:lnTo>
                    <a:pt x="1144" y="1403"/>
                  </a:lnTo>
                  <a:lnTo>
                    <a:pt x="1116" y="1379"/>
                  </a:lnTo>
                  <a:lnTo>
                    <a:pt x="1096" y="1355"/>
                  </a:lnTo>
                  <a:lnTo>
                    <a:pt x="1077" y="1341"/>
                  </a:lnTo>
                  <a:lnTo>
                    <a:pt x="1058" y="1326"/>
                  </a:lnTo>
                  <a:lnTo>
                    <a:pt x="1039" y="1312"/>
                  </a:lnTo>
                  <a:lnTo>
                    <a:pt x="1020" y="1293"/>
                  </a:lnTo>
                  <a:lnTo>
                    <a:pt x="996" y="1274"/>
                  </a:lnTo>
                  <a:lnTo>
                    <a:pt x="972" y="1250"/>
                  </a:lnTo>
                  <a:lnTo>
                    <a:pt x="948" y="1226"/>
                  </a:lnTo>
                  <a:lnTo>
                    <a:pt x="914" y="1197"/>
                  </a:lnTo>
                  <a:lnTo>
                    <a:pt x="886" y="1163"/>
                  </a:lnTo>
                  <a:lnTo>
                    <a:pt x="852" y="1125"/>
                  </a:lnTo>
                  <a:lnTo>
                    <a:pt x="876" y="1077"/>
                  </a:lnTo>
                  <a:close/>
                  <a:moveTo>
                    <a:pt x="512" y="929"/>
                  </a:moveTo>
                  <a:lnTo>
                    <a:pt x="512" y="924"/>
                  </a:lnTo>
                  <a:lnTo>
                    <a:pt x="512" y="919"/>
                  </a:lnTo>
                  <a:lnTo>
                    <a:pt x="517" y="910"/>
                  </a:lnTo>
                  <a:lnTo>
                    <a:pt x="526" y="900"/>
                  </a:lnTo>
                  <a:lnTo>
                    <a:pt x="541" y="886"/>
                  </a:lnTo>
                  <a:lnTo>
                    <a:pt x="555" y="871"/>
                  </a:lnTo>
                  <a:lnTo>
                    <a:pt x="570" y="857"/>
                  </a:lnTo>
                  <a:lnTo>
                    <a:pt x="593" y="838"/>
                  </a:lnTo>
                  <a:lnTo>
                    <a:pt x="613" y="819"/>
                  </a:lnTo>
                  <a:lnTo>
                    <a:pt x="637" y="799"/>
                  </a:lnTo>
                  <a:lnTo>
                    <a:pt x="661" y="775"/>
                  </a:lnTo>
                  <a:lnTo>
                    <a:pt x="684" y="752"/>
                  </a:lnTo>
                  <a:lnTo>
                    <a:pt x="708" y="723"/>
                  </a:lnTo>
                  <a:lnTo>
                    <a:pt x="732" y="694"/>
                  </a:lnTo>
                  <a:lnTo>
                    <a:pt x="756" y="661"/>
                  </a:lnTo>
                  <a:lnTo>
                    <a:pt x="780" y="627"/>
                  </a:lnTo>
                  <a:lnTo>
                    <a:pt x="804" y="593"/>
                  </a:lnTo>
                  <a:lnTo>
                    <a:pt x="828" y="560"/>
                  </a:lnTo>
                  <a:lnTo>
                    <a:pt x="852" y="531"/>
                  </a:lnTo>
                  <a:lnTo>
                    <a:pt x="871" y="498"/>
                  </a:lnTo>
                  <a:lnTo>
                    <a:pt x="890" y="464"/>
                  </a:lnTo>
                  <a:lnTo>
                    <a:pt x="905" y="431"/>
                  </a:lnTo>
                  <a:lnTo>
                    <a:pt x="919" y="397"/>
                  </a:lnTo>
                  <a:lnTo>
                    <a:pt x="929" y="364"/>
                  </a:lnTo>
                  <a:lnTo>
                    <a:pt x="938" y="330"/>
                  </a:lnTo>
                  <a:lnTo>
                    <a:pt x="943" y="297"/>
                  </a:lnTo>
                  <a:lnTo>
                    <a:pt x="948" y="268"/>
                  </a:lnTo>
                  <a:lnTo>
                    <a:pt x="953" y="239"/>
                  </a:lnTo>
                  <a:lnTo>
                    <a:pt x="958" y="210"/>
                  </a:lnTo>
                  <a:lnTo>
                    <a:pt x="958" y="186"/>
                  </a:lnTo>
                  <a:lnTo>
                    <a:pt x="958" y="162"/>
                  </a:lnTo>
                  <a:lnTo>
                    <a:pt x="953" y="138"/>
                  </a:lnTo>
                  <a:lnTo>
                    <a:pt x="986" y="158"/>
                  </a:lnTo>
                  <a:lnTo>
                    <a:pt x="1015" y="172"/>
                  </a:lnTo>
                  <a:lnTo>
                    <a:pt x="1039" y="182"/>
                  </a:lnTo>
                  <a:lnTo>
                    <a:pt x="1058" y="196"/>
                  </a:lnTo>
                  <a:lnTo>
                    <a:pt x="1072" y="210"/>
                  </a:lnTo>
                  <a:lnTo>
                    <a:pt x="1082" y="220"/>
                  </a:lnTo>
                  <a:lnTo>
                    <a:pt x="1092" y="229"/>
                  </a:lnTo>
                  <a:lnTo>
                    <a:pt x="1092" y="239"/>
                  </a:lnTo>
                  <a:lnTo>
                    <a:pt x="1092" y="249"/>
                  </a:lnTo>
                  <a:lnTo>
                    <a:pt x="1087" y="263"/>
                  </a:lnTo>
                  <a:lnTo>
                    <a:pt x="1087" y="277"/>
                  </a:lnTo>
                  <a:lnTo>
                    <a:pt x="1077" y="297"/>
                  </a:lnTo>
                  <a:lnTo>
                    <a:pt x="1072" y="320"/>
                  </a:lnTo>
                  <a:lnTo>
                    <a:pt x="1063" y="344"/>
                  </a:lnTo>
                  <a:lnTo>
                    <a:pt x="1053" y="373"/>
                  </a:lnTo>
                  <a:lnTo>
                    <a:pt x="1039" y="407"/>
                  </a:lnTo>
                  <a:lnTo>
                    <a:pt x="1025" y="440"/>
                  </a:lnTo>
                  <a:lnTo>
                    <a:pt x="1005" y="474"/>
                  </a:lnTo>
                  <a:lnTo>
                    <a:pt x="986" y="507"/>
                  </a:lnTo>
                  <a:lnTo>
                    <a:pt x="967" y="541"/>
                  </a:lnTo>
                  <a:lnTo>
                    <a:pt x="943" y="574"/>
                  </a:lnTo>
                  <a:lnTo>
                    <a:pt x="919" y="608"/>
                  </a:lnTo>
                  <a:lnTo>
                    <a:pt x="895" y="641"/>
                  </a:lnTo>
                  <a:lnTo>
                    <a:pt x="866" y="670"/>
                  </a:lnTo>
                  <a:lnTo>
                    <a:pt x="838" y="704"/>
                  </a:lnTo>
                  <a:lnTo>
                    <a:pt x="809" y="732"/>
                  </a:lnTo>
                  <a:lnTo>
                    <a:pt x="785" y="756"/>
                  </a:lnTo>
                  <a:lnTo>
                    <a:pt x="756" y="785"/>
                  </a:lnTo>
                  <a:lnTo>
                    <a:pt x="728" y="809"/>
                  </a:lnTo>
                  <a:lnTo>
                    <a:pt x="699" y="828"/>
                  </a:lnTo>
                  <a:lnTo>
                    <a:pt x="670" y="852"/>
                  </a:lnTo>
                  <a:lnTo>
                    <a:pt x="641" y="871"/>
                  </a:lnTo>
                  <a:lnTo>
                    <a:pt x="617" y="886"/>
                  </a:lnTo>
                  <a:lnTo>
                    <a:pt x="593" y="900"/>
                  </a:lnTo>
                  <a:lnTo>
                    <a:pt x="570" y="914"/>
                  </a:lnTo>
                  <a:lnTo>
                    <a:pt x="555" y="919"/>
                  </a:lnTo>
                  <a:lnTo>
                    <a:pt x="536" y="929"/>
                  </a:lnTo>
                  <a:lnTo>
                    <a:pt x="526" y="929"/>
                  </a:lnTo>
                  <a:lnTo>
                    <a:pt x="517" y="929"/>
                  </a:lnTo>
                  <a:lnTo>
                    <a:pt x="512" y="929"/>
                  </a:lnTo>
                  <a:close/>
                  <a:moveTo>
                    <a:pt x="349" y="124"/>
                  </a:moveTo>
                  <a:lnTo>
                    <a:pt x="330" y="105"/>
                  </a:lnTo>
                  <a:lnTo>
                    <a:pt x="311" y="86"/>
                  </a:lnTo>
                  <a:lnTo>
                    <a:pt x="297" y="71"/>
                  </a:lnTo>
                  <a:lnTo>
                    <a:pt x="282" y="57"/>
                  </a:lnTo>
                  <a:lnTo>
                    <a:pt x="277" y="43"/>
                  </a:lnTo>
                  <a:lnTo>
                    <a:pt x="268" y="28"/>
                  </a:lnTo>
                  <a:lnTo>
                    <a:pt x="263" y="19"/>
                  </a:lnTo>
                  <a:lnTo>
                    <a:pt x="263" y="9"/>
                  </a:lnTo>
                  <a:lnTo>
                    <a:pt x="297" y="9"/>
                  </a:lnTo>
                  <a:lnTo>
                    <a:pt x="335" y="14"/>
                  </a:lnTo>
                  <a:lnTo>
                    <a:pt x="373" y="19"/>
                  </a:lnTo>
                  <a:lnTo>
                    <a:pt x="411" y="24"/>
                  </a:lnTo>
                  <a:lnTo>
                    <a:pt x="440" y="33"/>
                  </a:lnTo>
                  <a:lnTo>
                    <a:pt x="455" y="38"/>
                  </a:lnTo>
                  <a:lnTo>
                    <a:pt x="469" y="43"/>
                  </a:lnTo>
                  <a:lnTo>
                    <a:pt x="479" y="47"/>
                  </a:lnTo>
                  <a:lnTo>
                    <a:pt x="488" y="57"/>
                  </a:lnTo>
                  <a:lnTo>
                    <a:pt x="498" y="67"/>
                  </a:lnTo>
                  <a:lnTo>
                    <a:pt x="507" y="71"/>
                  </a:lnTo>
                  <a:lnTo>
                    <a:pt x="512" y="86"/>
                  </a:lnTo>
                  <a:lnTo>
                    <a:pt x="517" y="95"/>
                  </a:lnTo>
                  <a:lnTo>
                    <a:pt x="517" y="105"/>
                  </a:lnTo>
                  <a:lnTo>
                    <a:pt x="517" y="115"/>
                  </a:lnTo>
                  <a:lnTo>
                    <a:pt x="517" y="138"/>
                  </a:lnTo>
                  <a:lnTo>
                    <a:pt x="512" y="158"/>
                  </a:lnTo>
                  <a:lnTo>
                    <a:pt x="507" y="167"/>
                  </a:lnTo>
                  <a:lnTo>
                    <a:pt x="502" y="177"/>
                  </a:lnTo>
                  <a:lnTo>
                    <a:pt x="493" y="186"/>
                  </a:lnTo>
                  <a:lnTo>
                    <a:pt x="488" y="191"/>
                  </a:lnTo>
                  <a:lnTo>
                    <a:pt x="483" y="196"/>
                  </a:lnTo>
                  <a:lnTo>
                    <a:pt x="474" y="201"/>
                  </a:lnTo>
                  <a:lnTo>
                    <a:pt x="469" y="201"/>
                  </a:lnTo>
                  <a:lnTo>
                    <a:pt x="464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5" y="186"/>
                  </a:lnTo>
                  <a:lnTo>
                    <a:pt x="421" y="182"/>
                  </a:lnTo>
                  <a:lnTo>
                    <a:pt x="407" y="167"/>
                  </a:lnTo>
                  <a:lnTo>
                    <a:pt x="392" y="158"/>
                  </a:lnTo>
                  <a:lnTo>
                    <a:pt x="373" y="143"/>
                  </a:lnTo>
                  <a:lnTo>
                    <a:pt x="349" y="124"/>
                  </a:lnTo>
                  <a:close/>
                  <a:moveTo>
                    <a:pt x="297" y="306"/>
                  </a:moveTo>
                  <a:lnTo>
                    <a:pt x="316" y="311"/>
                  </a:lnTo>
                  <a:lnTo>
                    <a:pt x="325" y="320"/>
                  </a:lnTo>
                  <a:lnTo>
                    <a:pt x="340" y="330"/>
                  </a:lnTo>
                  <a:lnTo>
                    <a:pt x="349" y="335"/>
                  </a:lnTo>
                  <a:lnTo>
                    <a:pt x="359" y="344"/>
                  </a:lnTo>
                  <a:lnTo>
                    <a:pt x="368" y="354"/>
                  </a:lnTo>
                  <a:lnTo>
                    <a:pt x="373" y="364"/>
                  </a:lnTo>
                  <a:lnTo>
                    <a:pt x="378" y="373"/>
                  </a:lnTo>
                  <a:lnTo>
                    <a:pt x="378" y="383"/>
                  </a:lnTo>
                  <a:lnTo>
                    <a:pt x="378" y="397"/>
                  </a:lnTo>
                  <a:lnTo>
                    <a:pt x="378" y="416"/>
                  </a:lnTo>
                  <a:lnTo>
                    <a:pt x="378" y="421"/>
                  </a:lnTo>
                  <a:lnTo>
                    <a:pt x="373" y="431"/>
                  </a:lnTo>
                  <a:lnTo>
                    <a:pt x="368" y="435"/>
                  </a:lnTo>
                  <a:lnTo>
                    <a:pt x="368" y="440"/>
                  </a:lnTo>
                  <a:lnTo>
                    <a:pt x="354" y="450"/>
                  </a:lnTo>
                  <a:lnTo>
                    <a:pt x="344" y="459"/>
                  </a:lnTo>
                  <a:lnTo>
                    <a:pt x="330" y="464"/>
                  </a:lnTo>
                  <a:lnTo>
                    <a:pt x="325" y="464"/>
                  </a:lnTo>
                  <a:lnTo>
                    <a:pt x="320" y="464"/>
                  </a:lnTo>
                  <a:lnTo>
                    <a:pt x="311" y="459"/>
                  </a:lnTo>
                  <a:lnTo>
                    <a:pt x="301" y="455"/>
                  </a:lnTo>
                  <a:lnTo>
                    <a:pt x="292" y="445"/>
                  </a:lnTo>
                  <a:lnTo>
                    <a:pt x="277" y="435"/>
                  </a:lnTo>
                  <a:lnTo>
                    <a:pt x="263" y="426"/>
                  </a:lnTo>
                  <a:lnTo>
                    <a:pt x="249" y="411"/>
                  </a:lnTo>
                  <a:lnTo>
                    <a:pt x="229" y="397"/>
                  </a:lnTo>
                  <a:lnTo>
                    <a:pt x="210" y="383"/>
                  </a:lnTo>
                  <a:lnTo>
                    <a:pt x="196" y="368"/>
                  </a:lnTo>
                  <a:lnTo>
                    <a:pt x="182" y="349"/>
                  </a:lnTo>
                  <a:lnTo>
                    <a:pt x="172" y="335"/>
                  </a:lnTo>
                  <a:lnTo>
                    <a:pt x="162" y="320"/>
                  </a:lnTo>
                  <a:lnTo>
                    <a:pt x="158" y="306"/>
                  </a:lnTo>
                  <a:lnTo>
                    <a:pt x="153" y="292"/>
                  </a:lnTo>
                  <a:lnTo>
                    <a:pt x="153" y="282"/>
                  </a:lnTo>
                  <a:lnTo>
                    <a:pt x="196" y="282"/>
                  </a:lnTo>
                  <a:lnTo>
                    <a:pt x="215" y="282"/>
                  </a:lnTo>
                  <a:lnTo>
                    <a:pt x="234" y="287"/>
                  </a:lnTo>
                  <a:lnTo>
                    <a:pt x="253" y="292"/>
                  </a:lnTo>
                  <a:lnTo>
                    <a:pt x="268" y="297"/>
                  </a:lnTo>
                  <a:lnTo>
                    <a:pt x="282" y="301"/>
                  </a:lnTo>
                  <a:lnTo>
                    <a:pt x="297" y="306"/>
                  </a:lnTo>
                  <a:close/>
                  <a:moveTo>
                    <a:pt x="737" y="287"/>
                  </a:moveTo>
                  <a:lnTo>
                    <a:pt x="756" y="311"/>
                  </a:lnTo>
                  <a:lnTo>
                    <a:pt x="761" y="320"/>
                  </a:lnTo>
                  <a:lnTo>
                    <a:pt x="771" y="330"/>
                  </a:lnTo>
                  <a:lnTo>
                    <a:pt x="775" y="344"/>
                  </a:lnTo>
                  <a:lnTo>
                    <a:pt x="780" y="354"/>
                  </a:lnTo>
                  <a:lnTo>
                    <a:pt x="780" y="368"/>
                  </a:lnTo>
                  <a:lnTo>
                    <a:pt x="780" y="383"/>
                  </a:lnTo>
                  <a:lnTo>
                    <a:pt x="780" y="392"/>
                  </a:lnTo>
                  <a:lnTo>
                    <a:pt x="780" y="407"/>
                  </a:lnTo>
                  <a:lnTo>
                    <a:pt x="775" y="421"/>
                  </a:lnTo>
                  <a:lnTo>
                    <a:pt x="771" y="435"/>
                  </a:lnTo>
                  <a:lnTo>
                    <a:pt x="756" y="469"/>
                  </a:lnTo>
                  <a:lnTo>
                    <a:pt x="737" y="507"/>
                  </a:lnTo>
                  <a:lnTo>
                    <a:pt x="728" y="522"/>
                  </a:lnTo>
                  <a:lnTo>
                    <a:pt x="718" y="536"/>
                  </a:lnTo>
                  <a:lnTo>
                    <a:pt x="708" y="550"/>
                  </a:lnTo>
                  <a:lnTo>
                    <a:pt x="704" y="560"/>
                  </a:lnTo>
                  <a:lnTo>
                    <a:pt x="694" y="570"/>
                  </a:lnTo>
                  <a:lnTo>
                    <a:pt x="689" y="574"/>
                  </a:lnTo>
                  <a:lnTo>
                    <a:pt x="680" y="579"/>
                  </a:lnTo>
                  <a:lnTo>
                    <a:pt x="670" y="579"/>
                  </a:lnTo>
                  <a:lnTo>
                    <a:pt x="665" y="574"/>
                  </a:lnTo>
                  <a:lnTo>
                    <a:pt x="661" y="574"/>
                  </a:lnTo>
                  <a:lnTo>
                    <a:pt x="656" y="570"/>
                  </a:lnTo>
                  <a:lnTo>
                    <a:pt x="651" y="555"/>
                  </a:lnTo>
                  <a:lnTo>
                    <a:pt x="641" y="536"/>
                  </a:lnTo>
                  <a:lnTo>
                    <a:pt x="637" y="522"/>
                  </a:lnTo>
                  <a:lnTo>
                    <a:pt x="632" y="502"/>
                  </a:lnTo>
                  <a:lnTo>
                    <a:pt x="627" y="488"/>
                  </a:lnTo>
                  <a:lnTo>
                    <a:pt x="627" y="483"/>
                  </a:lnTo>
                  <a:lnTo>
                    <a:pt x="627" y="479"/>
                  </a:lnTo>
                  <a:lnTo>
                    <a:pt x="627" y="474"/>
                  </a:lnTo>
                  <a:lnTo>
                    <a:pt x="632" y="469"/>
                  </a:lnTo>
                  <a:lnTo>
                    <a:pt x="632" y="464"/>
                  </a:lnTo>
                  <a:lnTo>
                    <a:pt x="637" y="459"/>
                  </a:lnTo>
                  <a:lnTo>
                    <a:pt x="646" y="455"/>
                  </a:lnTo>
                  <a:lnTo>
                    <a:pt x="651" y="445"/>
                  </a:lnTo>
                  <a:lnTo>
                    <a:pt x="661" y="440"/>
                  </a:lnTo>
                  <a:lnTo>
                    <a:pt x="665" y="431"/>
                  </a:lnTo>
                  <a:lnTo>
                    <a:pt x="675" y="421"/>
                  </a:lnTo>
                  <a:lnTo>
                    <a:pt x="684" y="407"/>
                  </a:lnTo>
                  <a:lnTo>
                    <a:pt x="694" y="388"/>
                  </a:lnTo>
                  <a:lnTo>
                    <a:pt x="704" y="368"/>
                  </a:lnTo>
                  <a:lnTo>
                    <a:pt x="713" y="344"/>
                  </a:lnTo>
                  <a:lnTo>
                    <a:pt x="728" y="320"/>
                  </a:lnTo>
                  <a:lnTo>
                    <a:pt x="737" y="287"/>
                  </a:lnTo>
                  <a:close/>
                  <a:moveTo>
                    <a:pt x="263" y="938"/>
                  </a:moveTo>
                  <a:lnTo>
                    <a:pt x="258" y="938"/>
                  </a:lnTo>
                  <a:lnTo>
                    <a:pt x="249" y="934"/>
                  </a:lnTo>
                  <a:lnTo>
                    <a:pt x="244" y="929"/>
                  </a:lnTo>
                  <a:lnTo>
                    <a:pt x="234" y="919"/>
                  </a:lnTo>
                  <a:lnTo>
                    <a:pt x="229" y="910"/>
                  </a:lnTo>
                  <a:lnTo>
                    <a:pt x="220" y="890"/>
                  </a:lnTo>
                  <a:lnTo>
                    <a:pt x="210" y="876"/>
                  </a:lnTo>
                  <a:lnTo>
                    <a:pt x="206" y="852"/>
                  </a:lnTo>
                  <a:lnTo>
                    <a:pt x="196" y="833"/>
                  </a:lnTo>
                  <a:lnTo>
                    <a:pt x="186" y="814"/>
                  </a:lnTo>
                  <a:lnTo>
                    <a:pt x="182" y="799"/>
                  </a:lnTo>
                  <a:lnTo>
                    <a:pt x="177" y="785"/>
                  </a:lnTo>
                  <a:lnTo>
                    <a:pt x="177" y="771"/>
                  </a:lnTo>
                  <a:lnTo>
                    <a:pt x="172" y="761"/>
                  </a:lnTo>
                  <a:lnTo>
                    <a:pt x="177" y="752"/>
                  </a:lnTo>
                  <a:lnTo>
                    <a:pt x="177" y="747"/>
                  </a:lnTo>
                  <a:lnTo>
                    <a:pt x="182" y="737"/>
                  </a:lnTo>
                  <a:lnTo>
                    <a:pt x="191" y="732"/>
                  </a:lnTo>
                  <a:lnTo>
                    <a:pt x="201" y="732"/>
                  </a:lnTo>
                  <a:lnTo>
                    <a:pt x="210" y="728"/>
                  </a:lnTo>
                  <a:lnTo>
                    <a:pt x="220" y="732"/>
                  </a:lnTo>
                  <a:lnTo>
                    <a:pt x="225" y="732"/>
                  </a:lnTo>
                  <a:lnTo>
                    <a:pt x="239" y="732"/>
                  </a:lnTo>
                  <a:lnTo>
                    <a:pt x="249" y="728"/>
                  </a:lnTo>
                  <a:lnTo>
                    <a:pt x="263" y="723"/>
                  </a:lnTo>
                  <a:lnTo>
                    <a:pt x="268" y="718"/>
                  </a:lnTo>
                  <a:lnTo>
                    <a:pt x="277" y="708"/>
                  </a:lnTo>
                  <a:lnTo>
                    <a:pt x="292" y="699"/>
                  </a:lnTo>
                  <a:lnTo>
                    <a:pt x="306" y="680"/>
                  </a:lnTo>
                  <a:lnTo>
                    <a:pt x="330" y="661"/>
                  </a:lnTo>
                  <a:lnTo>
                    <a:pt x="354" y="641"/>
                  </a:lnTo>
                  <a:lnTo>
                    <a:pt x="378" y="613"/>
                  </a:lnTo>
                  <a:lnTo>
                    <a:pt x="392" y="598"/>
                  </a:lnTo>
                  <a:lnTo>
                    <a:pt x="411" y="579"/>
                  </a:lnTo>
                  <a:lnTo>
                    <a:pt x="426" y="565"/>
                  </a:lnTo>
                  <a:lnTo>
                    <a:pt x="440" y="546"/>
                  </a:lnTo>
                  <a:lnTo>
                    <a:pt x="469" y="522"/>
                  </a:lnTo>
                  <a:lnTo>
                    <a:pt x="493" y="498"/>
                  </a:lnTo>
                  <a:lnTo>
                    <a:pt x="512" y="479"/>
                  </a:lnTo>
                  <a:lnTo>
                    <a:pt x="531" y="469"/>
                  </a:lnTo>
                  <a:lnTo>
                    <a:pt x="541" y="459"/>
                  </a:lnTo>
                  <a:lnTo>
                    <a:pt x="550" y="455"/>
                  </a:lnTo>
                  <a:lnTo>
                    <a:pt x="555" y="455"/>
                  </a:lnTo>
                  <a:lnTo>
                    <a:pt x="560" y="459"/>
                  </a:lnTo>
                  <a:lnTo>
                    <a:pt x="560" y="464"/>
                  </a:lnTo>
                  <a:lnTo>
                    <a:pt x="555" y="469"/>
                  </a:lnTo>
                  <a:lnTo>
                    <a:pt x="555" y="474"/>
                  </a:lnTo>
                  <a:lnTo>
                    <a:pt x="550" y="483"/>
                  </a:lnTo>
                  <a:lnTo>
                    <a:pt x="546" y="498"/>
                  </a:lnTo>
                  <a:lnTo>
                    <a:pt x="541" y="507"/>
                  </a:lnTo>
                  <a:lnTo>
                    <a:pt x="536" y="522"/>
                  </a:lnTo>
                  <a:lnTo>
                    <a:pt x="526" y="536"/>
                  </a:lnTo>
                  <a:lnTo>
                    <a:pt x="517" y="555"/>
                  </a:lnTo>
                  <a:lnTo>
                    <a:pt x="507" y="574"/>
                  </a:lnTo>
                  <a:lnTo>
                    <a:pt x="498" y="598"/>
                  </a:lnTo>
                  <a:lnTo>
                    <a:pt x="483" y="617"/>
                  </a:lnTo>
                  <a:lnTo>
                    <a:pt x="469" y="641"/>
                  </a:lnTo>
                  <a:lnTo>
                    <a:pt x="455" y="670"/>
                  </a:lnTo>
                  <a:lnTo>
                    <a:pt x="435" y="694"/>
                  </a:lnTo>
                  <a:lnTo>
                    <a:pt x="421" y="723"/>
                  </a:lnTo>
                  <a:lnTo>
                    <a:pt x="402" y="752"/>
                  </a:lnTo>
                  <a:lnTo>
                    <a:pt x="388" y="775"/>
                  </a:lnTo>
                  <a:lnTo>
                    <a:pt x="373" y="799"/>
                  </a:lnTo>
                  <a:lnTo>
                    <a:pt x="359" y="819"/>
                  </a:lnTo>
                  <a:lnTo>
                    <a:pt x="344" y="838"/>
                  </a:lnTo>
                  <a:lnTo>
                    <a:pt x="335" y="857"/>
                  </a:lnTo>
                  <a:lnTo>
                    <a:pt x="320" y="871"/>
                  </a:lnTo>
                  <a:lnTo>
                    <a:pt x="311" y="886"/>
                  </a:lnTo>
                  <a:lnTo>
                    <a:pt x="301" y="900"/>
                  </a:lnTo>
                  <a:lnTo>
                    <a:pt x="292" y="910"/>
                  </a:lnTo>
                  <a:lnTo>
                    <a:pt x="287" y="919"/>
                  </a:lnTo>
                  <a:lnTo>
                    <a:pt x="277" y="924"/>
                  </a:lnTo>
                  <a:lnTo>
                    <a:pt x="273" y="929"/>
                  </a:lnTo>
                  <a:lnTo>
                    <a:pt x="268" y="934"/>
                  </a:lnTo>
                  <a:lnTo>
                    <a:pt x="263" y="9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"/>
            <p:cNvSpPr/>
            <p:nvPr/>
          </p:nvSpPr>
          <p:spPr>
            <a:xfrm>
              <a:off x="4783680" y="2439720"/>
              <a:ext cx="938520" cy="1082520"/>
            </a:xfrm>
            <a:custGeom>
              <a:avLst/>
              <a:gdLst/>
              <a:ahLst/>
              <a:rect l="l" t="t" r="r" b="b"/>
              <a:pathLst>
                <a:path w="776" h="895">
                  <a:moveTo>
                    <a:pt x="412" y="704"/>
                  </a:moveTo>
                  <a:lnTo>
                    <a:pt x="417" y="704"/>
                  </a:lnTo>
                  <a:lnTo>
                    <a:pt x="421" y="699"/>
                  </a:lnTo>
                  <a:lnTo>
                    <a:pt x="426" y="694"/>
                  </a:lnTo>
                  <a:lnTo>
                    <a:pt x="431" y="689"/>
                  </a:lnTo>
                  <a:lnTo>
                    <a:pt x="436" y="680"/>
                  </a:lnTo>
                  <a:lnTo>
                    <a:pt x="440" y="670"/>
                  </a:lnTo>
                  <a:lnTo>
                    <a:pt x="450" y="661"/>
                  </a:lnTo>
                  <a:lnTo>
                    <a:pt x="455" y="651"/>
                  </a:lnTo>
                  <a:lnTo>
                    <a:pt x="460" y="637"/>
                  </a:lnTo>
                  <a:lnTo>
                    <a:pt x="464" y="622"/>
                  </a:lnTo>
                  <a:lnTo>
                    <a:pt x="474" y="608"/>
                  </a:lnTo>
                  <a:lnTo>
                    <a:pt x="479" y="589"/>
                  </a:lnTo>
                  <a:lnTo>
                    <a:pt x="484" y="574"/>
                  </a:lnTo>
                  <a:lnTo>
                    <a:pt x="493" y="555"/>
                  </a:lnTo>
                  <a:lnTo>
                    <a:pt x="508" y="512"/>
                  </a:lnTo>
                  <a:lnTo>
                    <a:pt x="522" y="474"/>
                  </a:lnTo>
                  <a:lnTo>
                    <a:pt x="536" y="435"/>
                  </a:lnTo>
                  <a:lnTo>
                    <a:pt x="546" y="397"/>
                  </a:lnTo>
                  <a:lnTo>
                    <a:pt x="555" y="364"/>
                  </a:lnTo>
                  <a:lnTo>
                    <a:pt x="560" y="335"/>
                  </a:lnTo>
                  <a:lnTo>
                    <a:pt x="570" y="301"/>
                  </a:lnTo>
                  <a:lnTo>
                    <a:pt x="575" y="273"/>
                  </a:lnTo>
                  <a:lnTo>
                    <a:pt x="575" y="249"/>
                  </a:lnTo>
                  <a:lnTo>
                    <a:pt x="579" y="225"/>
                  </a:lnTo>
                  <a:lnTo>
                    <a:pt x="579" y="206"/>
                  </a:lnTo>
                  <a:lnTo>
                    <a:pt x="579" y="191"/>
                  </a:lnTo>
                  <a:lnTo>
                    <a:pt x="579" y="172"/>
                  </a:lnTo>
                  <a:lnTo>
                    <a:pt x="575" y="162"/>
                  </a:lnTo>
                  <a:lnTo>
                    <a:pt x="575" y="148"/>
                  </a:lnTo>
                  <a:lnTo>
                    <a:pt x="570" y="138"/>
                  </a:lnTo>
                  <a:lnTo>
                    <a:pt x="570" y="134"/>
                  </a:lnTo>
                  <a:lnTo>
                    <a:pt x="560" y="124"/>
                  </a:lnTo>
                  <a:lnTo>
                    <a:pt x="551" y="119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8" y="115"/>
                  </a:lnTo>
                  <a:lnTo>
                    <a:pt x="493" y="115"/>
                  </a:lnTo>
                  <a:lnTo>
                    <a:pt x="479" y="119"/>
                  </a:lnTo>
                  <a:lnTo>
                    <a:pt x="460" y="119"/>
                  </a:lnTo>
                  <a:lnTo>
                    <a:pt x="440" y="124"/>
                  </a:lnTo>
                  <a:lnTo>
                    <a:pt x="421" y="129"/>
                  </a:lnTo>
                  <a:lnTo>
                    <a:pt x="397" y="134"/>
                  </a:lnTo>
                  <a:lnTo>
                    <a:pt x="369" y="138"/>
                  </a:lnTo>
                  <a:lnTo>
                    <a:pt x="311" y="153"/>
                  </a:lnTo>
                  <a:lnTo>
                    <a:pt x="287" y="158"/>
                  </a:lnTo>
                  <a:lnTo>
                    <a:pt x="258" y="162"/>
                  </a:lnTo>
                  <a:lnTo>
                    <a:pt x="235" y="167"/>
                  </a:lnTo>
                  <a:lnTo>
                    <a:pt x="211" y="172"/>
                  </a:lnTo>
                  <a:lnTo>
                    <a:pt x="191" y="177"/>
                  </a:lnTo>
                  <a:lnTo>
                    <a:pt x="172" y="182"/>
                  </a:lnTo>
                  <a:lnTo>
                    <a:pt x="153" y="186"/>
                  </a:lnTo>
                  <a:lnTo>
                    <a:pt x="134" y="191"/>
                  </a:lnTo>
                  <a:lnTo>
                    <a:pt x="115" y="191"/>
                  </a:lnTo>
                  <a:lnTo>
                    <a:pt x="100" y="196"/>
                  </a:lnTo>
                  <a:lnTo>
                    <a:pt x="86" y="191"/>
                  </a:lnTo>
                  <a:lnTo>
                    <a:pt x="72" y="191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7"/>
                  </a:lnTo>
                  <a:lnTo>
                    <a:pt x="29" y="172"/>
                  </a:lnTo>
                  <a:lnTo>
                    <a:pt x="19" y="167"/>
                  </a:lnTo>
                  <a:lnTo>
                    <a:pt x="9" y="162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9" y="138"/>
                  </a:lnTo>
                  <a:lnTo>
                    <a:pt x="19" y="138"/>
                  </a:lnTo>
                  <a:lnTo>
                    <a:pt x="33" y="138"/>
                  </a:lnTo>
                  <a:lnTo>
                    <a:pt x="43" y="134"/>
                  </a:lnTo>
                  <a:lnTo>
                    <a:pt x="57" y="134"/>
                  </a:lnTo>
                  <a:lnTo>
                    <a:pt x="76" y="129"/>
                  </a:lnTo>
                  <a:lnTo>
                    <a:pt x="91" y="129"/>
                  </a:lnTo>
                  <a:lnTo>
                    <a:pt x="110" y="124"/>
                  </a:lnTo>
                  <a:lnTo>
                    <a:pt x="134" y="119"/>
                  </a:lnTo>
                  <a:lnTo>
                    <a:pt x="158" y="115"/>
                  </a:lnTo>
                  <a:lnTo>
                    <a:pt x="182" y="110"/>
                  </a:lnTo>
                  <a:lnTo>
                    <a:pt x="206" y="105"/>
                  </a:lnTo>
                  <a:lnTo>
                    <a:pt x="235" y="95"/>
                  </a:lnTo>
                  <a:lnTo>
                    <a:pt x="263" y="91"/>
                  </a:lnTo>
                  <a:lnTo>
                    <a:pt x="292" y="81"/>
                  </a:lnTo>
                  <a:lnTo>
                    <a:pt x="321" y="76"/>
                  </a:lnTo>
                  <a:lnTo>
                    <a:pt x="349" y="71"/>
                  </a:lnTo>
                  <a:lnTo>
                    <a:pt x="373" y="62"/>
                  </a:lnTo>
                  <a:lnTo>
                    <a:pt x="402" y="57"/>
                  </a:lnTo>
                  <a:lnTo>
                    <a:pt x="421" y="52"/>
                  </a:lnTo>
                  <a:lnTo>
                    <a:pt x="445" y="47"/>
                  </a:lnTo>
                  <a:lnTo>
                    <a:pt x="464" y="43"/>
                  </a:lnTo>
                  <a:lnTo>
                    <a:pt x="479" y="38"/>
                  </a:lnTo>
                  <a:lnTo>
                    <a:pt x="493" y="33"/>
                  </a:lnTo>
                  <a:lnTo>
                    <a:pt x="508" y="33"/>
                  </a:lnTo>
                  <a:lnTo>
                    <a:pt x="517" y="28"/>
                  </a:lnTo>
                  <a:lnTo>
                    <a:pt x="531" y="24"/>
                  </a:lnTo>
                  <a:lnTo>
                    <a:pt x="536" y="24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1" y="14"/>
                  </a:lnTo>
                  <a:lnTo>
                    <a:pt x="560" y="9"/>
                  </a:lnTo>
                  <a:lnTo>
                    <a:pt x="570" y="4"/>
                  </a:lnTo>
                  <a:lnTo>
                    <a:pt x="579" y="0"/>
                  </a:lnTo>
                  <a:lnTo>
                    <a:pt x="594" y="0"/>
                  </a:lnTo>
                  <a:lnTo>
                    <a:pt x="599" y="0"/>
                  </a:lnTo>
                  <a:lnTo>
                    <a:pt x="603" y="4"/>
                  </a:lnTo>
                  <a:lnTo>
                    <a:pt x="613" y="4"/>
                  </a:lnTo>
                  <a:lnTo>
                    <a:pt x="627" y="9"/>
                  </a:lnTo>
                  <a:lnTo>
                    <a:pt x="642" y="19"/>
                  </a:lnTo>
                  <a:lnTo>
                    <a:pt x="656" y="28"/>
                  </a:lnTo>
                  <a:lnTo>
                    <a:pt x="675" y="38"/>
                  </a:lnTo>
                  <a:lnTo>
                    <a:pt x="699" y="47"/>
                  </a:lnTo>
                  <a:lnTo>
                    <a:pt x="713" y="62"/>
                  </a:lnTo>
                  <a:lnTo>
                    <a:pt x="733" y="71"/>
                  </a:lnTo>
                  <a:lnTo>
                    <a:pt x="742" y="81"/>
                  </a:lnTo>
                  <a:lnTo>
                    <a:pt x="757" y="91"/>
                  </a:lnTo>
                  <a:lnTo>
                    <a:pt x="761" y="100"/>
                  </a:lnTo>
                  <a:lnTo>
                    <a:pt x="771" y="105"/>
                  </a:lnTo>
                  <a:lnTo>
                    <a:pt x="776" y="110"/>
                  </a:lnTo>
                  <a:lnTo>
                    <a:pt x="776" y="115"/>
                  </a:lnTo>
                  <a:lnTo>
                    <a:pt x="771" y="124"/>
                  </a:lnTo>
                  <a:lnTo>
                    <a:pt x="766" y="134"/>
                  </a:lnTo>
                  <a:lnTo>
                    <a:pt x="761" y="143"/>
                  </a:lnTo>
                  <a:lnTo>
                    <a:pt x="747" y="148"/>
                  </a:lnTo>
                  <a:lnTo>
                    <a:pt x="737" y="153"/>
                  </a:lnTo>
                  <a:lnTo>
                    <a:pt x="733" y="162"/>
                  </a:lnTo>
                  <a:lnTo>
                    <a:pt x="728" y="172"/>
                  </a:lnTo>
                  <a:lnTo>
                    <a:pt x="723" y="186"/>
                  </a:lnTo>
                  <a:lnTo>
                    <a:pt x="718" y="201"/>
                  </a:lnTo>
                  <a:lnTo>
                    <a:pt x="713" y="220"/>
                  </a:lnTo>
                  <a:lnTo>
                    <a:pt x="709" y="239"/>
                  </a:lnTo>
                  <a:lnTo>
                    <a:pt x="704" y="263"/>
                  </a:lnTo>
                  <a:lnTo>
                    <a:pt x="699" y="292"/>
                  </a:lnTo>
                  <a:lnTo>
                    <a:pt x="694" y="320"/>
                  </a:lnTo>
                  <a:lnTo>
                    <a:pt x="685" y="354"/>
                  </a:lnTo>
                  <a:lnTo>
                    <a:pt x="675" y="388"/>
                  </a:lnTo>
                  <a:lnTo>
                    <a:pt x="661" y="431"/>
                  </a:lnTo>
                  <a:lnTo>
                    <a:pt x="651" y="474"/>
                  </a:lnTo>
                  <a:lnTo>
                    <a:pt x="637" y="522"/>
                  </a:lnTo>
                  <a:lnTo>
                    <a:pt x="618" y="570"/>
                  </a:lnTo>
                  <a:lnTo>
                    <a:pt x="613" y="598"/>
                  </a:lnTo>
                  <a:lnTo>
                    <a:pt x="603" y="622"/>
                  </a:lnTo>
                  <a:lnTo>
                    <a:pt x="594" y="646"/>
                  </a:lnTo>
                  <a:lnTo>
                    <a:pt x="589" y="665"/>
                  </a:lnTo>
                  <a:lnTo>
                    <a:pt x="579" y="689"/>
                  </a:lnTo>
                  <a:lnTo>
                    <a:pt x="570" y="708"/>
                  </a:lnTo>
                  <a:lnTo>
                    <a:pt x="565" y="728"/>
                  </a:lnTo>
                  <a:lnTo>
                    <a:pt x="555" y="747"/>
                  </a:lnTo>
                  <a:lnTo>
                    <a:pt x="546" y="761"/>
                  </a:lnTo>
                  <a:lnTo>
                    <a:pt x="541" y="775"/>
                  </a:lnTo>
                  <a:lnTo>
                    <a:pt x="531" y="790"/>
                  </a:lnTo>
                  <a:lnTo>
                    <a:pt x="527" y="799"/>
                  </a:lnTo>
                  <a:lnTo>
                    <a:pt x="517" y="814"/>
                  </a:lnTo>
                  <a:lnTo>
                    <a:pt x="512" y="823"/>
                  </a:lnTo>
                  <a:lnTo>
                    <a:pt x="503" y="828"/>
                  </a:lnTo>
                  <a:lnTo>
                    <a:pt x="498" y="838"/>
                  </a:lnTo>
                  <a:lnTo>
                    <a:pt x="484" y="852"/>
                  </a:lnTo>
                  <a:lnTo>
                    <a:pt x="469" y="862"/>
                  </a:lnTo>
                  <a:lnTo>
                    <a:pt x="455" y="871"/>
                  </a:lnTo>
                  <a:lnTo>
                    <a:pt x="445" y="881"/>
                  </a:lnTo>
                  <a:lnTo>
                    <a:pt x="436" y="886"/>
                  </a:lnTo>
                  <a:lnTo>
                    <a:pt x="426" y="890"/>
                  </a:lnTo>
                  <a:lnTo>
                    <a:pt x="421" y="895"/>
                  </a:lnTo>
                  <a:lnTo>
                    <a:pt x="412" y="895"/>
                  </a:lnTo>
                  <a:lnTo>
                    <a:pt x="407" y="895"/>
                  </a:lnTo>
                  <a:lnTo>
                    <a:pt x="402" y="890"/>
                  </a:lnTo>
                  <a:lnTo>
                    <a:pt x="397" y="886"/>
                  </a:lnTo>
                  <a:lnTo>
                    <a:pt x="393" y="881"/>
                  </a:lnTo>
                  <a:lnTo>
                    <a:pt x="388" y="876"/>
                  </a:lnTo>
                  <a:lnTo>
                    <a:pt x="383" y="866"/>
                  </a:lnTo>
                  <a:lnTo>
                    <a:pt x="383" y="857"/>
                  </a:lnTo>
                  <a:lnTo>
                    <a:pt x="378" y="847"/>
                  </a:lnTo>
                  <a:lnTo>
                    <a:pt x="373" y="833"/>
                  </a:lnTo>
                  <a:lnTo>
                    <a:pt x="369" y="819"/>
                  </a:lnTo>
                  <a:lnTo>
                    <a:pt x="364" y="804"/>
                  </a:lnTo>
                  <a:lnTo>
                    <a:pt x="354" y="790"/>
                  </a:lnTo>
                  <a:lnTo>
                    <a:pt x="345" y="775"/>
                  </a:lnTo>
                  <a:lnTo>
                    <a:pt x="335" y="756"/>
                  </a:lnTo>
                  <a:lnTo>
                    <a:pt x="326" y="737"/>
                  </a:lnTo>
                  <a:lnTo>
                    <a:pt x="306" y="723"/>
                  </a:lnTo>
                  <a:lnTo>
                    <a:pt x="292" y="704"/>
                  </a:lnTo>
                  <a:lnTo>
                    <a:pt x="282" y="694"/>
                  </a:lnTo>
                  <a:lnTo>
                    <a:pt x="273" y="680"/>
                  </a:lnTo>
                  <a:lnTo>
                    <a:pt x="268" y="670"/>
                  </a:lnTo>
                  <a:lnTo>
                    <a:pt x="263" y="661"/>
                  </a:lnTo>
                  <a:lnTo>
                    <a:pt x="263" y="656"/>
                  </a:lnTo>
                  <a:lnTo>
                    <a:pt x="263" y="651"/>
                  </a:lnTo>
                  <a:lnTo>
                    <a:pt x="263" y="646"/>
                  </a:lnTo>
                  <a:lnTo>
                    <a:pt x="268" y="646"/>
                  </a:lnTo>
                  <a:lnTo>
                    <a:pt x="273" y="646"/>
                  </a:lnTo>
                  <a:lnTo>
                    <a:pt x="278" y="651"/>
                  </a:lnTo>
                  <a:lnTo>
                    <a:pt x="287" y="651"/>
                  </a:lnTo>
                  <a:lnTo>
                    <a:pt x="297" y="656"/>
                  </a:lnTo>
                  <a:lnTo>
                    <a:pt x="306" y="665"/>
                  </a:lnTo>
                  <a:lnTo>
                    <a:pt x="321" y="670"/>
                  </a:lnTo>
                  <a:lnTo>
                    <a:pt x="335" y="680"/>
                  </a:lnTo>
                  <a:lnTo>
                    <a:pt x="345" y="689"/>
                  </a:lnTo>
                  <a:lnTo>
                    <a:pt x="359" y="694"/>
                  </a:lnTo>
                  <a:lnTo>
                    <a:pt x="369" y="699"/>
                  </a:lnTo>
                  <a:lnTo>
                    <a:pt x="378" y="704"/>
                  </a:lnTo>
                  <a:lnTo>
                    <a:pt x="388" y="708"/>
                  </a:lnTo>
                  <a:lnTo>
                    <a:pt x="397" y="708"/>
                  </a:lnTo>
                  <a:lnTo>
                    <a:pt x="407" y="708"/>
                  </a:lnTo>
                  <a:lnTo>
                    <a:pt x="412" y="70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>
              <a:off x="5531400" y="2919960"/>
              <a:ext cx="388080" cy="219960"/>
            </a:xfrm>
            <a:custGeom>
              <a:avLst/>
              <a:gdLst/>
              <a:ahLst/>
              <a:rect l="l" t="t" r="r" b="b"/>
              <a:pathLst>
                <a:path w="321" h="182">
                  <a:moveTo>
                    <a:pt x="210" y="24"/>
                  </a:moveTo>
                  <a:lnTo>
                    <a:pt x="230" y="34"/>
                  </a:lnTo>
                  <a:lnTo>
                    <a:pt x="249" y="38"/>
                  </a:lnTo>
                  <a:lnTo>
                    <a:pt x="263" y="43"/>
                  </a:lnTo>
                  <a:lnTo>
                    <a:pt x="277" y="48"/>
                  </a:lnTo>
                  <a:lnTo>
                    <a:pt x="292" y="58"/>
                  </a:lnTo>
                  <a:lnTo>
                    <a:pt x="301" y="62"/>
                  </a:lnTo>
                  <a:lnTo>
                    <a:pt x="306" y="67"/>
                  </a:lnTo>
                  <a:lnTo>
                    <a:pt x="311" y="77"/>
                  </a:lnTo>
                  <a:lnTo>
                    <a:pt x="316" y="91"/>
                  </a:lnTo>
                  <a:lnTo>
                    <a:pt x="321" y="105"/>
                  </a:lnTo>
                  <a:lnTo>
                    <a:pt x="321" y="125"/>
                  </a:lnTo>
                  <a:lnTo>
                    <a:pt x="321" y="139"/>
                  </a:lnTo>
                  <a:lnTo>
                    <a:pt x="321" y="149"/>
                  </a:lnTo>
                  <a:lnTo>
                    <a:pt x="316" y="158"/>
                  </a:lnTo>
                  <a:lnTo>
                    <a:pt x="316" y="163"/>
                  </a:lnTo>
                  <a:lnTo>
                    <a:pt x="311" y="173"/>
                  </a:lnTo>
                  <a:lnTo>
                    <a:pt x="301" y="177"/>
                  </a:lnTo>
                  <a:lnTo>
                    <a:pt x="297" y="177"/>
                  </a:lnTo>
                  <a:lnTo>
                    <a:pt x="287" y="182"/>
                  </a:lnTo>
                  <a:lnTo>
                    <a:pt x="277" y="182"/>
                  </a:lnTo>
                  <a:lnTo>
                    <a:pt x="273" y="182"/>
                  </a:lnTo>
                  <a:lnTo>
                    <a:pt x="263" y="182"/>
                  </a:lnTo>
                  <a:lnTo>
                    <a:pt x="254" y="177"/>
                  </a:lnTo>
                  <a:lnTo>
                    <a:pt x="244" y="173"/>
                  </a:lnTo>
                  <a:lnTo>
                    <a:pt x="234" y="168"/>
                  </a:lnTo>
                  <a:lnTo>
                    <a:pt x="220" y="163"/>
                  </a:lnTo>
                  <a:lnTo>
                    <a:pt x="206" y="153"/>
                  </a:lnTo>
                  <a:lnTo>
                    <a:pt x="186" y="144"/>
                  </a:lnTo>
                  <a:lnTo>
                    <a:pt x="167" y="134"/>
                  </a:lnTo>
                  <a:lnTo>
                    <a:pt x="148" y="125"/>
                  </a:lnTo>
                  <a:lnTo>
                    <a:pt x="129" y="110"/>
                  </a:lnTo>
                  <a:lnTo>
                    <a:pt x="105" y="101"/>
                  </a:lnTo>
                  <a:lnTo>
                    <a:pt x="81" y="86"/>
                  </a:lnTo>
                  <a:lnTo>
                    <a:pt x="57" y="67"/>
                  </a:lnTo>
                  <a:lnTo>
                    <a:pt x="28" y="53"/>
                  </a:lnTo>
                  <a:lnTo>
                    <a:pt x="0" y="34"/>
                  </a:lnTo>
                  <a:lnTo>
                    <a:pt x="19" y="24"/>
                  </a:lnTo>
                  <a:lnTo>
                    <a:pt x="38" y="14"/>
                  </a:lnTo>
                  <a:lnTo>
                    <a:pt x="62" y="5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48" y="10"/>
                  </a:lnTo>
                  <a:lnTo>
                    <a:pt x="167" y="14"/>
                  </a:lnTo>
                  <a:lnTo>
                    <a:pt x="186" y="19"/>
                  </a:lnTo>
                  <a:lnTo>
                    <a:pt x="210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1"/>
            <p:cNvSpPr/>
            <p:nvPr/>
          </p:nvSpPr>
          <p:spPr>
            <a:xfrm>
              <a:off x="3909240" y="3592800"/>
              <a:ext cx="2120040" cy="288720"/>
            </a:xfrm>
            <a:custGeom>
              <a:avLst/>
              <a:gdLst/>
              <a:ahLst/>
              <a:rect l="l" t="t" r="r" b="b"/>
              <a:pathLst>
                <a:path w="1753" h="239">
                  <a:moveTo>
                    <a:pt x="1542" y="0"/>
                  </a:moveTo>
                  <a:lnTo>
                    <a:pt x="1575" y="0"/>
                  </a:lnTo>
                  <a:lnTo>
                    <a:pt x="1604" y="9"/>
                  </a:lnTo>
                  <a:lnTo>
                    <a:pt x="1623" y="9"/>
                  </a:lnTo>
                  <a:lnTo>
                    <a:pt x="1638" y="19"/>
                  </a:lnTo>
                  <a:lnTo>
                    <a:pt x="1652" y="24"/>
                  </a:lnTo>
                  <a:lnTo>
                    <a:pt x="1671" y="33"/>
                  </a:lnTo>
                  <a:lnTo>
                    <a:pt x="1686" y="43"/>
                  </a:lnTo>
                  <a:lnTo>
                    <a:pt x="1700" y="52"/>
                  </a:lnTo>
                  <a:lnTo>
                    <a:pt x="1709" y="57"/>
                  </a:lnTo>
                  <a:lnTo>
                    <a:pt x="1724" y="62"/>
                  </a:lnTo>
                  <a:lnTo>
                    <a:pt x="1729" y="72"/>
                  </a:lnTo>
                  <a:lnTo>
                    <a:pt x="1738" y="76"/>
                  </a:lnTo>
                  <a:lnTo>
                    <a:pt x="1743" y="81"/>
                  </a:lnTo>
                  <a:lnTo>
                    <a:pt x="1748" y="81"/>
                  </a:lnTo>
                  <a:lnTo>
                    <a:pt x="1753" y="96"/>
                  </a:lnTo>
                  <a:lnTo>
                    <a:pt x="1753" y="100"/>
                  </a:lnTo>
                  <a:lnTo>
                    <a:pt x="1753" y="110"/>
                  </a:lnTo>
                  <a:lnTo>
                    <a:pt x="1748" y="115"/>
                  </a:lnTo>
                  <a:lnTo>
                    <a:pt x="1743" y="119"/>
                  </a:lnTo>
                  <a:lnTo>
                    <a:pt x="1733" y="119"/>
                  </a:lnTo>
                  <a:lnTo>
                    <a:pt x="1729" y="124"/>
                  </a:lnTo>
                  <a:lnTo>
                    <a:pt x="1719" y="124"/>
                  </a:lnTo>
                  <a:lnTo>
                    <a:pt x="1705" y="124"/>
                  </a:lnTo>
                  <a:lnTo>
                    <a:pt x="1690" y="124"/>
                  </a:lnTo>
                  <a:lnTo>
                    <a:pt x="1676" y="124"/>
                  </a:lnTo>
                  <a:lnTo>
                    <a:pt x="1662" y="129"/>
                  </a:lnTo>
                  <a:lnTo>
                    <a:pt x="1642" y="129"/>
                  </a:lnTo>
                  <a:lnTo>
                    <a:pt x="1618" y="129"/>
                  </a:lnTo>
                  <a:lnTo>
                    <a:pt x="1599" y="129"/>
                  </a:lnTo>
                  <a:lnTo>
                    <a:pt x="1575" y="129"/>
                  </a:lnTo>
                  <a:lnTo>
                    <a:pt x="1547" y="124"/>
                  </a:lnTo>
                  <a:lnTo>
                    <a:pt x="1518" y="124"/>
                  </a:lnTo>
                  <a:lnTo>
                    <a:pt x="1489" y="124"/>
                  </a:lnTo>
                  <a:lnTo>
                    <a:pt x="1427" y="119"/>
                  </a:lnTo>
                  <a:lnTo>
                    <a:pt x="1365" y="119"/>
                  </a:lnTo>
                  <a:lnTo>
                    <a:pt x="1245" y="124"/>
                  </a:lnTo>
                  <a:lnTo>
                    <a:pt x="1125" y="124"/>
                  </a:lnTo>
                  <a:lnTo>
                    <a:pt x="1005" y="134"/>
                  </a:lnTo>
                  <a:lnTo>
                    <a:pt x="948" y="139"/>
                  </a:lnTo>
                  <a:lnTo>
                    <a:pt x="895" y="143"/>
                  </a:lnTo>
                  <a:lnTo>
                    <a:pt x="843" y="153"/>
                  </a:lnTo>
                  <a:lnTo>
                    <a:pt x="790" y="158"/>
                  </a:lnTo>
                  <a:lnTo>
                    <a:pt x="742" y="163"/>
                  </a:lnTo>
                  <a:lnTo>
                    <a:pt x="694" y="167"/>
                  </a:lnTo>
                  <a:lnTo>
                    <a:pt x="651" y="172"/>
                  </a:lnTo>
                  <a:lnTo>
                    <a:pt x="608" y="172"/>
                  </a:lnTo>
                  <a:lnTo>
                    <a:pt x="526" y="187"/>
                  </a:lnTo>
                  <a:lnTo>
                    <a:pt x="440" y="196"/>
                  </a:lnTo>
                  <a:lnTo>
                    <a:pt x="354" y="206"/>
                  </a:lnTo>
                  <a:lnTo>
                    <a:pt x="273" y="215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15" y="225"/>
                  </a:lnTo>
                  <a:lnTo>
                    <a:pt x="196" y="225"/>
                  </a:lnTo>
                  <a:lnTo>
                    <a:pt x="182" y="230"/>
                  </a:lnTo>
                  <a:lnTo>
                    <a:pt x="167" y="230"/>
                  </a:lnTo>
                  <a:lnTo>
                    <a:pt x="153" y="234"/>
                  </a:lnTo>
                  <a:lnTo>
                    <a:pt x="143" y="234"/>
                  </a:lnTo>
                  <a:lnTo>
                    <a:pt x="134" y="234"/>
                  </a:lnTo>
                  <a:lnTo>
                    <a:pt x="124" y="239"/>
                  </a:lnTo>
                  <a:lnTo>
                    <a:pt x="115" y="239"/>
                  </a:lnTo>
                  <a:lnTo>
                    <a:pt x="105" y="239"/>
                  </a:lnTo>
                  <a:lnTo>
                    <a:pt x="100" y="239"/>
                  </a:lnTo>
                  <a:lnTo>
                    <a:pt x="95" y="239"/>
                  </a:lnTo>
                  <a:lnTo>
                    <a:pt x="91" y="239"/>
                  </a:lnTo>
                  <a:lnTo>
                    <a:pt x="86" y="239"/>
                  </a:lnTo>
                  <a:lnTo>
                    <a:pt x="81" y="239"/>
                  </a:lnTo>
                  <a:lnTo>
                    <a:pt x="76" y="234"/>
                  </a:lnTo>
                  <a:lnTo>
                    <a:pt x="67" y="234"/>
                  </a:lnTo>
                  <a:lnTo>
                    <a:pt x="57" y="230"/>
                  </a:lnTo>
                  <a:lnTo>
                    <a:pt x="47" y="225"/>
                  </a:lnTo>
                  <a:lnTo>
                    <a:pt x="38" y="215"/>
                  </a:lnTo>
                  <a:lnTo>
                    <a:pt x="28" y="206"/>
                  </a:lnTo>
                  <a:lnTo>
                    <a:pt x="24" y="196"/>
                  </a:lnTo>
                  <a:lnTo>
                    <a:pt x="14" y="191"/>
                  </a:lnTo>
                  <a:lnTo>
                    <a:pt x="9" y="182"/>
                  </a:lnTo>
                  <a:lnTo>
                    <a:pt x="4" y="177"/>
                  </a:lnTo>
                  <a:lnTo>
                    <a:pt x="4" y="172"/>
                  </a:lnTo>
                  <a:lnTo>
                    <a:pt x="0" y="167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9" y="153"/>
                  </a:lnTo>
                  <a:lnTo>
                    <a:pt x="28" y="153"/>
                  </a:lnTo>
                  <a:lnTo>
                    <a:pt x="43" y="148"/>
                  </a:lnTo>
                  <a:lnTo>
                    <a:pt x="62" y="148"/>
                  </a:lnTo>
                  <a:lnTo>
                    <a:pt x="86" y="148"/>
                  </a:lnTo>
                  <a:lnTo>
                    <a:pt x="115" y="143"/>
                  </a:lnTo>
                  <a:lnTo>
                    <a:pt x="143" y="139"/>
                  </a:lnTo>
                  <a:lnTo>
                    <a:pt x="177" y="139"/>
                  </a:lnTo>
                  <a:lnTo>
                    <a:pt x="215" y="134"/>
                  </a:lnTo>
                  <a:lnTo>
                    <a:pt x="258" y="129"/>
                  </a:lnTo>
                  <a:lnTo>
                    <a:pt x="306" y="129"/>
                  </a:lnTo>
                  <a:lnTo>
                    <a:pt x="354" y="124"/>
                  </a:lnTo>
                  <a:lnTo>
                    <a:pt x="411" y="119"/>
                  </a:lnTo>
                  <a:lnTo>
                    <a:pt x="469" y="115"/>
                  </a:lnTo>
                  <a:lnTo>
                    <a:pt x="531" y="110"/>
                  </a:lnTo>
                  <a:lnTo>
                    <a:pt x="651" y="96"/>
                  </a:lnTo>
                  <a:lnTo>
                    <a:pt x="713" y="91"/>
                  </a:lnTo>
                  <a:lnTo>
                    <a:pt x="771" y="81"/>
                  </a:lnTo>
                  <a:lnTo>
                    <a:pt x="828" y="76"/>
                  </a:lnTo>
                  <a:lnTo>
                    <a:pt x="881" y="72"/>
                  </a:lnTo>
                  <a:lnTo>
                    <a:pt x="938" y="62"/>
                  </a:lnTo>
                  <a:lnTo>
                    <a:pt x="986" y="57"/>
                  </a:lnTo>
                  <a:lnTo>
                    <a:pt x="1039" y="52"/>
                  </a:lnTo>
                  <a:lnTo>
                    <a:pt x="1087" y="52"/>
                  </a:lnTo>
                  <a:lnTo>
                    <a:pt x="1135" y="48"/>
                  </a:lnTo>
                  <a:lnTo>
                    <a:pt x="1183" y="38"/>
                  </a:lnTo>
                  <a:lnTo>
                    <a:pt x="1226" y="33"/>
                  </a:lnTo>
                  <a:lnTo>
                    <a:pt x="1264" y="28"/>
                  </a:lnTo>
                  <a:lnTo>
                    <a:pt x="1307" y="24"/>
                  </a:lnTo>
                  <a:lnTo>
                    <a:pt x="1341" y="14"/>
                  </a:lnTo>
                  <a:lnTo>
                    <a:pt x="1379" y="14"/>
                  </a:lnTo>
                  <a:lnTo>
                    <a:pt x="1408" y="9"/>
                  </a:lnTo>
                  <a:lnTo>
                    <a:pt x="1436" y="9"/>
                  </a:lnTo>
                  <a:lnTo>
                    <a:pt x="1465" y="5"/>
                  </a:lnTo>
                  <a:lnTo>
                    <a:pt x="1489" y="5"/>
                  </a:lnTo>
                  <a:lnTo>
                    <a:pt x="1508" y="0"/>
                  </a:lnTo>
                  <a:lnTo>
                    <a:pt x="1527" y="0"/>
                  </a:lnTo>
                  <a:lnTo>
                    <a:pt x="1542" y="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"/>
            <p:cNvSpPr/>
            <p:nvPr/>
          </p:nvSpPr>
          <p:spPr>
            <a:xfrm>
              <a:off x="4841640" y="3511440"/>
              <a:ext cx="191160" cy="1233720"/>
            </a:xfrm>
            <a:custGeom>
              <a:avLst/>
              <a:gdLst/>
              <a:ahLst/>
              <a:rect l="l" t="t" r="r" b="b"/>
              <a:pathLst>
                <a:path w="158" h="1020">
                  <a:moveTo>
                    <a:pt x="19" y="76"/>
                  </a:moveTo>
                  <a:lnTo>
                    <a:pt x="9" y="5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4"/>
                  </a:lnTo>
                  <a:lnTo>
                    <a:pt x="100" y="9"/>
                  </a:lnTo>
                  <a:lnTo>
                    <a:pt x="124" y="19"/>
                  </a:lnTo>
                  <a:lnTo>
                    <a:pt x="139" y="33"/>
                  </a:lnTo>
                  <a:lnTo>
                    <a:pt x="148" y="38"/>
                  </a:lnTo>
                  <a:lnTo>
                    <a:pt x="153" y="48"/>
                  </a:lnTo>
                  <a:lnTo>
                    <a:pt x="158" y="57"/>
                  </a:lnTo>
                  <a:lnTo>
                    <a:pt x="158" y="67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91"/>
                  </a:lnTo>
                  <a:lnTo>
                    <a:pt x="153" y="100"/>
                  </a:lnTo>
                  <a:lnTo>
                    <a:pt x="153" y="115"/>
                  </a:lnTo>
                  <a:lnTo>
                    <a:pt x="153" y="129"/>
                  </a:lnTo>
                  <a:lnTo>
                    <a:pt x="148" y="148"/>
                  </a:lnTo>
                  <a:lnTo>
                    <a:pt x="148" y="172"/>
                  </a:lnTo>
                  <a:lnTo>
                    <a:pt x="148" y="191"/>
                  </a:lnTo>
                  <a:lnTo>
                    <a:pt x="143" y="220"/>
                  </a:lnTo>
                  <a:lnTo>
                    <a:pt x="143" y="249"/>
                  </a:lnTo>
                  <a:lnTo>
                    <a:pt x="143" y="282"/>
                  </a:lnTo>
                  <a:lnTo>
                    <a:pt x="143" y="316"/>
                  </a:lnTo>
                  <a:lnTo>
                    <a:pt x="143" y="354"/>
                  </a:lnTo>
                  <a:lnTo>
                    <a:pt x="139" y="392"/>
                  </a:lnTo>
                  <a:lnTo>
                    <a:pt x="139" y="436"/>
                  </a:lnTo>
                  <a:lnTo>
                    <a:pt x="139" y="483"/>
                  </a:lnTo>
                  <a:lnTo>
                    <a:pt x="139" y="531"/>
                  </a:lnTo>
                  <a:lnTo>
                    <a:pt x="139" y="579"/>
                  </a:lnTo>
                  <a:lnTo>
                    <a:pt x="139" y="627"/>
                  </a:lnTo>
                  <a:lnTo>
                    <a:pt x="139" y="670"/>
                  </a:lnTo>
                  <a:lnTo>
                    <a:pt x="139" y="709"/>
                  </a:lnTo>
                  <a:lnTo>
                    <a:pt x="139" y="747"/>
                  </a:lnTo>
                  <a:lnTo>
                    <a:pt x="139" y="780"/>
                  </a:lnTo>
                  <a:lnTo>
                    <a:pt x="134" y="814"/>
                  </a:lnTo>
                  <a:lnTo>
                    <a:pt x="134" y="843"/>
                  </a:lnTo>
                  <a:lnTo>
                    <a:pt x="134" y="867"/>
                  </a:lnTo>
                  <a:lnTo>
                    <a:pt x="134" y="891"/>
                  </a:lnTo>
                  <a:lnTo>
                    <a:pt x="129" y="914"/>
                  </a:lnTo>
                  <a:lnTo>
                    <a:pt x="129" y="934"/>
                  </a:lnTo>
                  <a:lnTo>
                    <a:pt x="129" y="948"/>
                  </a:lnTo>
                  <a:lnTo>
                    <a:pt x="124" y="962"/>
                  </a:lnTo>
                  <a:lnTo>
                    <a:pt x="124" y="972"/>
                  </a:lnTo>
                  <a:lnTo>
                    <a:pt x="124" y="977"/>
                  </a:lnTo>
                  <a:lnTo>
                    <a:pt x="110" y="996"/>
                  </a:lnTo>
                  <a:lnTo>
                    <a:pt x="100" y="1010"/>
                  </a:lnTo>
                  <a:lnTo>
                    <a:pt x="91" y="1015"/>
                  </a:lnTo>
                  <a:lnTo>
                    <a:pt x="86" y="1020"/>
                  </a:lnTo>
                  <a:lnTo>
                    <a:pt x="81" y="1020"/>
                  </a:lnTo>
                  <a:lnTo>
                    <a:pt x="76" y="1020"/>
                  </a:lnTo>
                  <a:lnTo>
                    <a:pt x="72" y="1015"/>
                  </a:lnTo>
                  <a:lnTo>
                    <a:pt x="67" y="1010"/>
                  </a:lnTo>
                  <a:lnTo>
                    <a:pt x="62" y="1001"/>
                  </a:lnTo>
                  <a:lnTo>
                    <a:pt x="57" y="991"/>
                  </a:lnTo>
                  <a:lnTo>
                    <a:pt x="48" y="977"/>
                  </a:lnTo>
                  <a:lnTo>
                    <a:pt x="43" y="958"/>
                  </a:lnTo>
                  <a:lnTo>
                    <a:pt x="38" y="938"/>
                  </a:lnTo>
                  <a:lnTo>
                    <a:pt x="28" y="914"/>
                  </a:lnTo>
                  <a:lnTo>
                    <a:pt x="24" y="895"/>
                  </a:lnTo>
                  <a:lnTo>
                    <a:pt x="19" y="876"/>
                  </a:lnTo>
                  <a:lnTo>
                    <a:pt x="14" y="857"/>
                  </a:lnTo>
                  <a:lnTo>
                    <a:pt x="14" y="838"/>
                  </a:lnTo>
                  <a:lnTo>
                    <a:pt x="14" y="819"/>
                  </a:lnTo>
                  <a:lnTo>
                    <a:pt x="14" y="800"/>
                  </a:lnTo>
                  <a:lnTo>
                    <a:pt x="19" y="780"/>
                  </a:lnTo>
                  <a:lnTo>
                    <a:pt x="24" y="761"/>
                  </a:lnTo>
                  <a:lnTo>
                    <a:pt x="28" y="742"/>
                  </a:lnTo>
                  <a:lnTo>
                    <a:pt x="33" y="723"/>
                  </a:lnTo>
                  <a:lnTo>
                    <a:pt x="38" y="699"/>
                  </a:lnTo>
                  <a:lnTo>
                    <a:pt x="43" y="670"/>
                  </a:lnTo>
                  <a:lnTo>
                    <a:pt x="48" y="637"/>
                  </a:lnTo>
                  <a:lnTo>
                    <a:pt x="48" y="603"/>
                  </a:lnTo>
                  <a:lnTo>
                    <a:pt x="52" y="565"/>
                  </a:lnTo>
                  <a:lnTo>
                    <a:pt x="57" y="488"/>
                  </a:lnTo>
                  <a:lnTo>
                    <a:pt x="62" y="416"/>
                  </a:lnTo>
                  <a:lnTo>
                    <a:pt x="62" y="335"/>
                  </a:lnTo>
                  <a:lnTo>
                    <a:pt x="62" y="258"/>
                  </a:lnTo>
                  <a:lnTo>
                    <a:pt x="57" y="220"/>
                  </a:lnTo>
                  <a:lnTo>
                    <a:pt x="57" y="191"/>
                  </a:lnTo>
                  <a:lnTo>
                    <a:pt x="52" y="163"/>
                  </a:lnTo>
                  <a:lnTo>
                    <a:pt x="48" y="139"/>
                  </a:lnTo>
                  <a:lnTo>
                    <a:pt x="43" y="119"/>
                  </a:lnTo>
                  <a:lnTo>
                    <a:pt x="33" y="100"/>
                  </a:lnTo>
                  <a:lnTo>
                    <a:pt x="28" y="86"/>
                  </a:lnTo>
                  <a:lnTo>
                    <a:pt x="19" y="76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3"/>
            <p:cNvSpPr/>
            <p:nvPr/>
          </p:nvSpPr>
          <p:spPr>
            <a:xfrm>
              <a:off x="3966120" y="3754440"/>
              <a:ext cx="990360" cy="793440"/>
            </a:xfrm>
            <a:custGeom>
              <a:avLst/>
              <a:gdLst/>
              <a:ahLst/>
              <a:rect l="l" t="t" r="r" b="b"/>
              <a:pathLst>
                <a:path w="819" h="656">
                  <a:moveTo>
                    <a:pt x="374" y="469"/>
                  </a:moveTo>
                  <a:lnTo>
                    <a:pt x="312" y="508"/>
                  </a:lnTo>
                  <a:lnTo>
                    <a:pt x="250" y="541"/>
                  </a:lnTo>
                  <a:lnTo>
                    <a:pt x="192" y="575"/>
                  </a:lnTo>
                  <a:lnTo>
                    <a:pt x="130" y="613"/>
                  </a:lnTo>
                  <a:lnTo>
                    <a:pt x="101" y="627"/>
                  </a:lnTo>
                  <a:lnTo>
                    <a:pt x="77" y="637"/>
                  </a:lnTo>
                  <a:lnTo>
                    <a:pt x="58" y="646"/>
                  </a:lnTo>
                  <a:lnTo>
                    <a:pt x="39" y="651"/>
                  </a:lnTo>
                  <a:lnTo>
                    <a:pt x="24" y="656"/>
                  </a:lnTo>
                  <a:lnTo>
                    <a:pt x="15" y="656"/>
                  </a:lnTo>
                  <a:lnTo>
                    <a:pt x="5" y="656"/>
                  </a:lnTo>
                  <a:lnTo>
                    <a:pt x="0" y="656"/>
                  </a:lnTo>
                  <a:lnTo>
                    <a:pt x="0" y="651"/>
                  </a:lnTo>
                  <a:lnTo>
                    <a:pt x="0" y="642"/>
                  </a:lnTo>
                  <a:lnTo>
                    <a:pt x="5" y="637"/>
                  </a:lnTo>
                  <a:lnTo>
                    <a:pt x="15" y="627"/>
                  </a:lnTo>
                  <a:lnTo>
                    <a:pt x="29" y="613"/>
                  </a:lnTo>
                  <a:lnTo>
                    <a:pt x="48" y="599"/>
                  </a:lnTo>
                  <a:lnTo>
                    <a:pt x="68" y="584"/>
                  </a:lnTo>
                  <a:lnTo>
                    <a:pt x="96" y="570"/>
                  </a:lnTo>
                  <a:lnTo>
                    <a:pt x="149" y="536"/>
                  </a:lnTo>
                  <a:lnTo>
                    <a:pt x="197" y="503"/>
                  </a:lnTo>
                  <a:lnTo>
                    <a:pt x="250" y="464"/>
                  </a:lnTo>
                  <a:lnTo>
                    <a:pt x="293" y="421"/>
                  </a:lnTo>
                  <a:lnTo>
                    <a:pt x="307" y="412"/>
                  </a:lnTo>
                  <a:lnTo>
                    <a:pt x="321" y="397"/>
                  </a:lnTo>
                  <a:lnTo>
                    <a:pt x="336" y="383"/>
                  </a:lnTo>
                  <a:lnTo>
                    <a:pt x="355" y="369"/>
                  </a:lnTo>
                  <a:lnTo>
                    <a:pt x="374" y="349"/>
                  </a:lnTo>
                  <a:lnTo>
                    <a:pt x="393" y="326"/>
                  </a:lnTo>
                  <a:lnTo>
                    <a:pt x="412" y="306"/>
                  </a:lnTo>
                  <a:lnTo>
                    <a:pt x="436" y="278"/>
                  </a:lnTo>
                  <a:lnTo>
                    <a:pt x="465" y="254"/>
                  </a:lnTo>
                  <a:lnTo>
                    <a:pt x="494" y="220"/>
                  </a:lnTo>
                  <a:lnTo>
                    <a:pt x="523" y="191"/>
                  </a:lnTo>
                  <a:lnTo>
                    <a:pt x="551" y="158"/>
                  </a:lnTo>
                  <a:lnTo>
                    <a:pt x="585" y="120"/>
                  </a:lnTo>
                  <a:lnTo>
                    <a:pt x="618" y="81"/>
                  </a:lnTo>
                  <a:lnTo>
                    <a:pt x="652" y="43"/>
                  </a:lnTo>
                  <a:lnTo>
                    <a:pt x="690" y="0"/>
                  </a:lnTo>
                  <a:lnTo>
                    <a:pt x="757" y="14"/>
                  </a:lnTo>
                  <a:lnTo>
                    <a:pt x="819" y="33"/>
                  </a:lnTo>
                  <a:lnTo>
                    <a:pt x="781" y="76"/>
                  </a:lnTo>
                  <a:lnTo>
                    <a:pt x="743" y="120"/>
                  </a:lnTo>
                  <a:lnTo>
                    <a:pt x="705" y="158"/>
                  </a:lnTo>
                  <a:lnTo>
                    <a:pt x="671" y="196"/>
                  </a:lnTo>
                  <a:lnTo>
                    <a:pt x="637" y="230"/>
                  </a:lnTo>
                  <a:lnTo>
                    <a:pt x="604" y="263"/>
                  </a:lnTo>
                  <a:lnTo>
                    <a:pt x="575" y="292"/>
                  </a:lnTo>
                  <a:lnTo>
                    <a:pt x="546" y="321"/>
                  </a:lnTo>
                  <a:lnTo>
                    <a:pt x="518" y="345"/>
                  </a:lnTo>
                  <a:lnTo>
                    <a:pt x="494" y="369"/>
                  </a:lnTo>
                  <a:lnTo>
                    <a:pt x="465" y="393"/>
                  </a:lnTo>
                  <a:lnTo>
                    <a:pt x="446" y="412"/>
                  </a:lnTo>
                  <a:lnTo>
                    <a:pt x="422" y="431"/>
                  </a:lnTo>
                  <a:lnTo>
                    <a:pt x="403" y="445"/>
                  </a:lnTo>
                  <a:lnTo>
                    <a:pt x="388" y="460"/>
                  </a:lnTo>
                  <a:lnTo>
                    <a:pt x="374" y="469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"/>
            <p:cNvSpPr/>
            <p:nvPr/>
          </p:nvSpPr>
          <p:spPr>
            <a:xfrm>
              <a:off x="4939560" y="3742560"/>
              <a:ext cx="1268640" cy="759600"/>
            </a:xfrm>
            <a:custGeom>
              <a:avLst/>
              <a:gdLst/>
              <a:ahLst/>
              <a:rect l="l" t="t" r="r" b="b"/>
              <a:pathLst>
                <a:path w="1049" h="628">
                  <a:moveTo>
                    <a:pt x="24" y="0"/>
                  </a:moveTo>
                  <a:lnTo>
                    <a:pt x="53" y="29"/>
                  </a:lnTo>
                  <a:lnTo>
                    <a:pt x="86" y="58"/>
                  </a:lnTo>
                  <a:lnTo>
                    <a:pt x="125" y="86"/>
                  </a:lnTo>
                  <a:lnTo>
                    <a:pt x="158" y="115"/>
                  </a:lnTo>
                  <a:lnTo>
                    <a:pt x="201" y="144"/>
                  </a:lnTo>
                  <a:lnTo>
                    <a:pt x="244" y="173"/>
                  </a:lnTo>
                  <a:lnTo>
                    <a:pt x="288" y="201"/>
                  </a:lnTo>
                  <a:lnTo>
                    <a:pt x="335" y="230"/>
                  </a:lnTo>
                  <a:lnTo>
                    <a:pt x="383" y="268"/>
                  </a:lnTo>
                  <a:lnTo>
                    <a:pt x="431" y="297"/>
                  </a:lnTo>
                  <a:lnTo>
                    <a:pt x="484" y="326"/>
                  </a:lnTo>
                  <a:lnTo>
                    <a:pt x="537" y="355"/>
                  </a:lnTo>
                  <a:lnTo>
                    <a:pt x="594" y="383"/>
                  </a:lnTo>
                  <a:lnTo>
                    <a:pt x="656" y="407"/>
                  </a:lnTo>
                  <a:lnTo>
                    <a:pt x="719" y="431"/>
                  </a:lnTo>
                  <a:lnTo>
                    <a:pt x="786" y="455"/>
                  </a:lnTo>
                  <a:lnTo>
                    <a:pt x="814" y="470"/>
                  </a:lnTo>
                  <a:lnTo>
                    <a:pt x="848" y="479"/>
                  </a:lnTo>
                  <a:lnTo>
                    <a:pt x="877" y="489"/>
                  </a:lnTo>
                  <a:lnTo>
                    <a:pt x="901" y="498"/>
                  </a:lnTo>
                  <a:lnTo>
                    <a:pt x="925" y="508"/>
                  </a:lnTo>
                  <a:lnTo>
                    <a:pt x="948" y="518"/>
                  </a:lnTo>
                  <a:lnTo>
                    <a:pt x="968" y="527"/>
                  </a:lnTo>
                  <a:lnTo>
                    <a:pt x="987" y="532"/>
                  </a:lnTo>
                  <a:lnTo>
                    <a:pt x="1001" y="537"/>
                  </a:lnTo>
                  <a:lnTo>
                    <a:pt x="1016" y="546"/>
                  </a:lnTo>
                  <a:lnTo>
                    <a:pt x="1025" y="551"/>
                  </a:lnTo>
                  <a:lnTo>
                    <a:pt x="1035" y="551"/>
                  </a:lnTo>
                  <a:lnTo>
                    <a:pt x="1044" y="556"/>
                  </a:lnTo>
                  <a:lnTo>
                    <a:pt x="1049" y="561"/>
                  </a:lnTo>
                  <a:lnTo>
                    <a:pt x="1049" y="565"/>
                  </a:lnTo>
                  <a:lnTo>
                    <a:pt x="1044" y="570"/>
                  </a:lnTo>
                  <a:lnTo>
                    <a:pt x="1039" y="570"/>
                  </a:lnTo>
                  <a:lnTo>
                    <a:pt x="1035" y="575"/>
                  </a:lnTo>
                  <a:lnTo>
                    <a:pt x="1030" y="575"/>
                  </a:lnTo>
                  <a:lnTo>
                    <a:pt x="1020" y="580"/>
                  </a:lnTo>
                  <a:lnTo>
                    <a:pt x="1011" y="580"/>
                  </a:lnTo>
                  <a:lnTo>
                    <a:pt x="1001" y="585"/>
                  </a:lnTo>
                  <a:lnTo>
                    <a:pt x="992" y="589"/>
                  </a:lnTo>
                  <a:lnTo>
                    <a:pt x="977" y="589"/>
                  </a:lnTo>
                  <a:lnTo>
                    <a:pt x="963" y="594"/>
                  </a:lnTo>
                  <a:lnTo>
                    <a:pt x="948" y="594"/>
                  </a:lnTo>
                  <a:lnTo>
                    <a:pt x="934" y="599"/>
                  </a:lnTo>
                  <a:lnTo>
                    <a:pt x="915" y="604"/>
                  </a:lnTo>
                  <a:lnTo>
                    <a:pt x="896" y="604"/>
                  </a:lnTo>
                  <a:lnTo>
                    <a:pt x="857" y="613"/>
                  </a:lnTo>
                  <a:lnTo>
                    <a:pt x="819" y="618"/>
                  </a:lnTo>
                  <a:lnTo>
                    <a:pt x="786" y="623"/>
                  </a:lnTo>
                  <a:lnTo>
                    <a:pt x="752" y="623"/>
                  </a:lnTo>
                  <a:lnTo>
                    <a:pt x="723" y="623"/>
                  </a:lnTo>
                  <a:lnTo>
                    <a:pt x="699" y="628"/>
                  </a:lnTo>
                  <a:lnTo>
                    <a:pt x="675" y="623"/>
                  </a:lnTo>
                  <a:lnTo>
                    <a:pt x="656" y="623"/>
                  </a:lnTo>
                  <a:lnTo>
                    <a:pt x="632" y="618"/>
                  </a:lnTo>
                  <a:lnTo>
                    <a:pt x="604" y="609"/>
                  </a:lnTo>
                  <a:lnTo>
                    <a:pt x="580" y="594"/>
                  </a:lnTo>
                  <a:lnTo>
                    <a:pt x="551" y="575"/>
                  </a:lnTo>
                  <a:lnTo>
                    <a:pt x="522" y="551"/>
                  </a:lnTo>
                  <a:lnTo>
                    <a:pt x="489" y="522"/>
                  </a:lnTo>
                  <a:lnTo>
                    <a:pt x="474" y="503"/>
                  </a:lnTo>
                  <a:lnTo>
                    <a:pt x="455" y="489"/>
                  </a:lnTo>
                  <a:lnTo>
                    <a:pt x="441" y="470"/>
                  </a:lnTo>
                  <a:lnTo>
                    <a:pt x="422" y="450"/>
                  </a:lnTo>
                  <a:lnTo>
                    <a:pt x="383" y="412"/>
                  </a:lnTo>
                  <a:lnTo>
                    <a:pt x="350" y="379"/>
                  </a:lnTo>
                  <a:lnTo>
                    <a:pt x="321" y="350"/>
                  </a:lnTo>
                  <a:lnTo>
                    <a:pt x="292" y="326"/>
                  </a:lnTo>
                  <a:lnTo>
                    <a:pt x="264" y="302"/>
                  </a:lnTo>
                  <a:lnTo>
                    <a:pt x="244" y="278"/>
                  </a:lnTo>
                  <a:lnTo>
                    <a:pt x="225" y="264"/>
                  </a:lnTo>
                  <a:lnTo>
                    <a:pt x="206" y="249"/>
                  </a:lnTo>
                  <a:lnTo>
                    <a:pt x="187" y="235"/>
                  </a:lnTo>
                  <a:lnTo>
                    <a:pt x="168" y="216"/>
                  </a:lnTo>
                  <a:lnTo>
                    <a:pt x="144" y="197"/>
                  </a:lnTo>
                  <a:lnTo>
                    <a:pt x="120" y="173"/>
                  </a:lnTo>
                  <a:lnTo>
                    <a:pt x="96" y="149"/>
                  </a:lnTo>
                  <a:lnTo>
                    <a:pt x="62" y="120"/>
                  </a:lnTo>
                  <a:lnTo>
                    <a:pt x="34" y="86"/>
                  </a:lnTo>
                  <a:lnTo>
                    <a:pt x="0" y="48"/>
                  </a:lnTo>
                  <a:lnTo>
                    <a:pt x="24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"/>
            <p:cNvSpPr/>
            <p:nvPr/>
          </p:nvSpPr>
          <p:spPr>
            <a:xfrm>
              <a:off x="4528440" y="2606760"/>
              <a:ext cx="701280" cy="956880"/>
            </a:xfrm>
            <a:custGeom>
              <a:avLst/>
              <a:gdLst/>
              <a:ahLst/>
              <a:rect l="l" t="t" r="r" b="b"/>
              <a:pathLst>
                <a:path w="580" h="791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5" y="772"/>
                  </a:lnTo>
                  <a:lnTo>
                    <a:pt x="14" y="762"/>
                  </a:lnTo>
                  <a:lnTo>
                    <a:pt x="29" y="748"/>
                  </a:lnTo>
                  <a:lnTo>
                    <a:pt x="43" y="733"/>
                  </a:lnTo>
                  <a:lnTo>
                    <a:pt x="58" y="719"/>
                  </a:lnTo>
                  <a:lnTo>
                    <a:pt x="81" y="700"/>
                  </a:lnTo>
                  <a:lnTo>
                    <a:pt x="101" y="681"/>
                  </a:lnTo>
                  <a:lnTo>
                    <a:pt x="125" y="661"/>
                  </a:lnTo>
                  <a:lnTo>
                    <a:pt x="149" y="637"/>
                  </a:lnTo>
                  <a:lnTo>
                    <a:pt x="172" y="614"/>
                  </a:lnTo>
                  <a:lnTo>
                    <a:pt x="196" y="585"/>
                  </a:lnTo>
                  <a:lnTo>
                    <a:pt x="220" y="556"/>
                  </a:lnTo>
                  <a:lnTo>
                    <a:pt x="244" y="523"/>
                  </a:lnTo>
                  <a:lnTo>
                    <a:pt x="268" y="489"/>
                  </a:lnTo>
                  <a:lnTo>
                    <a:pt x="292" y="455"/>
                  </a:lnTo>
                  <a:lnTo>
                    <a:pt x="316" y="422"/>
                  </a:lnTo>
                  <a:lnTo>
                    <a:pt x="340" y="393"/>
                  </a:lnTo>
                  <a:lnTo>
                    <a:pt x="359" y="360"/>
                  </a:lnTo>
                  <a:lnTo>
                    <a:pt x="378" y="326"/>
                  </a:lnTo>
                  <a:lnTo>
                    <a:pt x="393" y="293"/>
                  </a:lnTo>
                  <a:lnTo>
                    <a:pt x="407" y="259"/>
                  </a:lnTo>
                  <a:lnTo>
                    <a:pt x="417" y="226"/>
                  </a:lnTo>
                  <a:lnTo>
                    <a:pt x="426" y="192"/>
                  </a:lnTo>
                  <a:lnTo>
                    <a:pt x="431" y="159"/>
                  </a:lnTo>
                  <a:lnTo>
                    <a:pt x="436" y="130"/>
                  </a:lnTo>
                  <a:lnTo>
                    <a:pt x="441" y="101"/>
                  </a:lnTo>
                  <a:lnTo>
                    <a:pt x="446" y="72"/>
                  </a:lnTo>
                  <a:lnTo>
                    <a:pt x="446" y="48"/>
                  </a:lnTo>
                  <a:lnTo>
                    <a:pt x="446" y="24"/>
                  </a:lnTo>
                  <a:lnTo>
                    <a:pt x="441" y="0"/>
                  </a:lnTo>
                  <a:lnTo>
                    <a:pt x="474" y="20"/>
                  </a:lnTo>
                  <a:lnTo>
                    <a:pt x="503" y="34"/>
                  </a:lnTo>
                  <a:lnTo>
                    <a:pt x="527" y="44"/>
                  </a:lnTo>
                  <a:lnTo>
                    <a:pt x="546" y="58"/>
                  </a:lnTo>
                  <a:lnTo>
                    <a:pt x="560" y="72"/>
                  </a:lnTo>
                  <a:lnTo>
                    <a:pt x="570" y="82"/>
                  </a:lnTo>
                  <a:lnTo>
                    <a:pt x="580" y="91"/>
                  </a:lnTo>
                  <a:lnTo>
                    <a:pt x="580" y="101"/>
                  </a:lnTo>
                  <a:lnTo>
                    <a:pt x="580" y="111"/>
                  </a:lnTo>
                  <a:lnTo>
                    <a:pt x="575" y="125"/>
                  </a:lnTo>
                  <a:lnTo>
                    <a:pt x="575" y="139"/>
                  </a:lnTo>
                  <a:lnTo>
                    <a:pt x="565" y="159"/>
                  </a:lnTo>
                  <a:lnTo>
                    <a:pt x="560" y="182"/>
                  </a:lnTo>
                  <a:lnTo>
                    <a:pt x="551" y="206"/>
                  </a:lnTo>
                  <a:lnTo>
                    <a:pt x="541" y="235"/>
                  </a:lnTo>
                  <a:lnTo>
                    <a:pt x="527" y="269"/>
                  </a:lnTo>
                  <a:lnTo>
                    <a:pt x="513" y="302"/>
                  </a:lnTo>
                  <a:lnTo>
                    <a:pt x="493" y="336"/>
                  </a:lnTo>
                  <a:lnTo>
                    <a:pt x="474" y="369"/>
                  </a:lnTo>
                  <a:lnTo>
                    <a:pt x="455" y="403"/>
                  </a:lnTo>
                  <a:lnTo>
                    <a:pt x="431" y="436"/>
                  </a:lnTo>
                  <a:lnTo>
                    <a:pt x="407" y="470"/>
                  </a:lnTo>
                  <a:lnTo>
                    <a:pt x="383" y="503"/>
                  </a:lnTo>
                  <a:lnTo>
                    <a:pt x="354" y="532"/>
                  </a:lnTo>
                  <a:lnTo>
                    <a:pt x="326" y="566"/>
                  </a:lnTo>
                  <a:lnTo>
                    <a:pt x="297" y="594"/>
                  </a:lnTo>
                  <a:lnTo>
                    <a:pt x="273" y="618"/>
                  </a:lnTo>
                  <a:lnTo>
                    <a:pt x="244" y="647"/>
                  </a:lnTo>
                  <a:lnTo>
                    <a:pt x="216" y="671"/>
                  </a:lnTo>
                  <a:lnTo>
                    <a:pt x="187" y="690"/>
                  </a:lnTo>
                  <a:lnTo>
                    <a:pt x="158" y="714"/>
                  </a:lnTo>
                  <a:lnTo>
                    <a:pt x="129" y="733"/>
                  </a:lnTo>
                  <a:lnTo>
                    <a:pt x="105" y="748"/>
                  </a:lnTo>
                  <a:lnTo>
                    <a:pt x="81" y="762"/>
                  </a:lnTo>
                  <a:lnTo>
                    <a:pt x="58" y="776"/>
                  </a:lnTo>
                  <a:lnTo>
                    <a:pt x="43" y="781"/>
                  </a:lnTo>
                  <a:lnTo>
                    <a:pt x="24" y="791"/>
                  </a:lnTo>
                  <a:lnTo>
                    <a:pt x="14" y="791"/>
                  </a:lnTo>
                  <a:lnTo>
                    <a:pt x="5" y="791"/>
                  </a:lnTo>
                  <a:lnTo>
                    <a:pt x="0" y="791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"/>
            <p:cNvSpPr/>
            <p:nvPr/>
          </p:nvSpPr>
          <p:spPr>
            <a:xfrm>
              <a:off x="4227480" y="2450520"/>
              <a:ext cx="307080" cy="23184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86" y="115"/>
                  </a:moveTo>
                  <a:lnTo>
                    <a:pt x="67" y="96"/>
                  </a:lnTo>
                  <a:lnTo>
                    <a:pt x="48" y="77"/>
                  </a:lnTo>
                  <a:lnTo>
                    <a:pt x="34" y="62"/>
                  </a:lnTo>
                  <a:lnTo>
                    <a:pt x="19" y="48"/>
                  </a:lnTo>
                  <a:lnTo>
                    <a:pt x="14" y="3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" y="0"/>
                  </a:lnTo>
                  <a:lnTo>
                    <a:pt x="72" y="5"/>
                  </a:lnTo>
                  <a:lnTo>
                    <a:pt x="110" y="10"/>
                  </a:lnTo>
                  <a:lnTo>
                    <a:pt x="148" y="15"/>
                  </a:lnTo>
                  <a:lnTo>
                    <a:pt x="177" y="24"/>
                  </a:lnTo>
                  <a:lnTo>
                    <a:pt x="192" y="29"/>
                  </a:lnTo>
                  <a:lnTo>
                    <a:pt x="206" y="34"/>
                  </a:lnTo>
                  <a:lnTo>
                    <a:pt x="216" y="38"/>
                  </a:lnTo>
                  <a:lnTo>
                    <a:pt x="225" y="48"/>
                  </a:lnTo>
                  <a:lnTo>
                    <a:pt x="235" y="58"/>
                  </a:lnTo>
                  <a:lnTo>
                    <a:pt x="244" y="62"/>
                  </a:lnTo>
                  <a:lnTo>
                    <a:pt x="249" y="77"/>
                  </a:lnTo>
                  <a:lnTo>
                    <a:pt x="254" y="86"/>
                  </a:lnTo>
                  <a:lnTo>
                    <a:pt x="254" y="96"/>
                  </a:lnTo>
                  <a:lnTo>
                    <a:pt x="254" y="106"/>
                  </a:lnTo>
                  <a:lnTo>
                    <a:pt x="254" y="129"/>
                  </a:lnTo>
                  <a:lnTo>
                    <a:pt x="249" y="149"/>
                  </a:lnTo>
                  <a:lnTo>
                    <a:pt x="244" y="158"/>
                  </a:lnTo>
                  <a:lnTo>
                    <a:pt x="239" y="168"/>
                  </a:lnTo>
                  <a:lnTo>
                    <a:pt x="230" y="177"/>
                  </a:lnTo>
                  <a:lnTo>
                    <a:pt x="225" y="182"/>
                  </a:lnTo>
                  <a:lnTo>
                    <a:pt x="220" y="187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87"/>
                  </a:lnTo>
                  <a:lnTo>
                    <a:pt x="192" y="187"/>
                  </a:lnTo>
                  <a:lnTo>
                    <a:pt x="182" y="187"/>
                  </a:lnTo>
                  <a:lnTo>
                    <a:pt x="172" y="177"/>
                  </a:lnTo>
                  <a:lnTo>
                    <a:pt x="158" y="173"/>
                  </a:lnTo>
                  <a:lnTo>
                    <a:pt x="144" y="158"/>
                  </a:lnTo>
                  <a:lnTo>
                    <a:pt x="129" y="149"/>
                  </a:lnTo>
                  <a:lnTo>
                    <a:pt x="110" y="134"/>
                  </a:lnTo>
                  <a:lnTo>
                    <a:pt x="86" y="115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"/>
            <p:cNvSpPr/>
            <p:nvPr/>
          </p:nvSpPr>
          <p:spPr>
            <a:xfrm>
              <a:off x="4094280" y="2781000"/>
              <a:ext cx="271800" cy="219960"/>
            </a:xfrm>
            <a:custGeom>
              <a:avLst/>
              <a:gdLst/>
              <a:ahLst/>
              <a:rect l="l" t="t" r="r" b="b"/>
              <a:pathLst>
                <a:path w="225" h="182">
                  <a:moveTo>
                    <a:pt x="144" y="24"/>
                  </a:moveTo>
                  <a:lnTo>
                    <a:pt x="163" y="29"/>
                  </a:lnTo>
                  <a:lnTo>
                    <a:pt x="172" y="38"/>
                  </a:lnTo>
                  <a:lnTo>
                    <a:pt x="187" y="48"/>
                  </a:lnTo>
                  <a:lnTo>
                    <a:pt x="196" y="53"/>
                  </a:lnTo>
                  <a:lnTo>
                    <a:pt x="206" y="62"/>
                  </a:lnTo>
                  <a:lnTo>
                    <a:pt x="215" y="72"/>
                  </a:lnTo>
                  <a:lnTo>
                    <a:pt x="220" y="82"/>
                  </a:lnTo>
                  <a:lnTo>
                    <a:pt x="225" y="91"/>
                  </a:lnTo>
                  <a:lnTo>
                    <a:pt x="225" y="101"/>
                  </a:lnTo>
                  <a:lnTo>
                    <a:pt x="225" y="115"/>
                  </a:lnTo>
                  <a:lnTo>
                    <a:pt x="225" y="134"/>
                  </a:lnTo>
                  <a:lnTo>
                    <a:pt x="225" y="139"/>
                  </a:lnTo>
                  <a:lnTo>
                    <a:pt x="220" y="149"/>
                  </a:lnTo>
                  <a:lnTo>
                    <a:pt x="215" y="153"/>
                  </a:lnTo>
                  <a:lnTo>
                    <a:pt x="215" y="158"/>
                  </a:lnTo>
                  <a:lnTo>
                    <a:pt x="201" y="168"/>
                  </a:lnTo>
                  <a:lnTo>
                    <a:pt x="191" y="177"/>
                  </a:lnTo>
                  <a:lnTo>
                    <a:pt x="177" y="182"/>
                  </a:lnTo>
                  <a:lnTo>
                    <a:pt x="172" y="182"/>
                  </a:lnTo>
                  <a:lnTo>
                    <a:pt x="167" y="182"/>
                  </a:lnTo>
                  <a:lnTo>
                    <a:pt x="158" y="177"/>
                  </a:lnTo>
                  <a:lnTo>
                    <a:pt x="148" y="173"/>
                  </a:lnTo>
                  <a:lnTo>
                    <a:pt x="139" y="163"/>
                  </a:lnTo>
                  <a:lnTo>
                    <a:pt x="124" y="153"/>
                  </a:lnTo>
                  <a:lnTo>
                    <a:pt x="110" y="144"/>
                  </a:lnTo>
                  <a:lnTo>
                    <a:pt x="96" y="129"/>
                  </a:lnTo>
                  <a:lnTo>
                    <a:pt x="76" y="115"/>
                  </a:lnTo>
                  <a:lnTo>
                    <a:pt x="57" y="101"/>
                  </a:lnTo>
                  <a:lnTo>
                    <a:pt x="43" y="86"/>
                  </a:lnTo>
                  <a:lnTo>
                    <a:pt x="29" y="67"/>
                  </a:lnTo>
                  <a:lnTo>
                    <a:pt x="19" y="53"/>
                  </a:lnTo>
                  <a:lnTo>
                    <a:pt x="9" y="38"/>
                  </a:lnTo>
                  <a:lnTo>
                    <a:pt x="5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81" y="5"/>
                  </a:lnTo>
                  <a:lnTo>
                    <a:pt x="100" y="10"/>
                  </a:lnTo>
                  <a:lnTo>
                    <a:pt x="115" y="15"/>
                  </a:lnTo>
                  <a:lnTo>
                    <a:pt x="129" y="19"/>
                  </a:lnTo>
                  <a:lnTo>
                    <a:pt x="144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"/>
            <p:cNvSpPr/>
            <p:nvPr/>
          </p:nvSpPr>
          <p:spPr>
            <a:xfrm>
              <a:off x="4667760" y="2787120"/>
              <a:ext cx="185040" cy="352800"/>
            </a:xfrm>
            <a:custGeom>
              <a:avLst/>
              <a:gdLst/>
              <a:ahLst/>
              <a:rect l="l" t="t" r="r" b="b"/>
              <a:pathLst>
                <a:path w="153" h="292">
                  <a:moveTo>
                    <a:pt x="110" y="0"/>
                  </a:moveTo>
                  <a:lnTo>
                    <a:pt x="129" y="24"/>
                  </a:lnTo>
                  <a:lnTo>
                    <a:pt x="134" y="33"/>
                  </a:lnTo>
                  <a:lnTo>
                    <a:pt x="144" y="43"/>
                  </a:lnTo>
                  <a:lnTo>
                    <a:pt x="148" y="57"/>
                  </a:lnTo>
                  <a:lnTo>
                    <a:pt x="153" y="67"/>
                  </a:lnTo>
                  <a:lnTo>
                    <a:pt x="153" y="81"/>
                  </a:lnTo>
                  <a:lnTo>
                    <a:pt x="153" y="96"/>
                  </a:lnTo>
                  <a:lnTo>
                    <a:pt x="153" y="105"/>
                  </a:lnTo>
                  <a:lnTo>
                    <a:pt x="153" y="120"/>
                  </a:lnTo>
                  <a:lnTo>
                    <a:pt x="148" y="134"/>
                  </a:lnTo>
                  <a:lnTo>
                    <a:pt x="144" y="148"/>
                  </a:lnTo>
                  <a:lnTo>
                    <a:pt x="129" y="182"/>
                  </a:lnTo>
                  <a:lnTo>
                    <a:pt x="110" y="220"/>
                  </a:lnTo>
                  <a:lnTo>
                    <a:pt x="101" y="235"/>
                  </a:lnTo>
                  <a:lnTo>
                    <a:pt x="91" y="249"/>
                  </a:lnTo>
                  <a:lnTo>
                    <a:pt x="81" y="263"/>
                  </a:lnTo>
                  <a:lnTo>
                    <a:pt x="77" y="273"/>
                  </a:lnTo>
                  <a:lnTo>
                    <a:pt x="67" y="283"/>
                  </a:lnTo>
                  <a:lnTo>
                    <a:pt x="62" y="287"/>
                  </a:lnTo>
                  <a:lnTo>
                    <a:pt x="53" y="292"/>
                  </a:lnTo>
                  <a:lnTo>
                    <a:pt x="43" y="292"/>
                  </a:lnTo>
                  <a:lnTo>
                    <a:pt x="38" y="287"/>
                  </a:lnTo>
                  <a:lnTo>
                    <a:pt x="34" y="287"/>
                  </a:lnTo>
                  <a:lnTo>
                    <a:pt x="29" y="283"/>
                  </a:lnTo>
                  <a:lnTo>
                    <a:pt x="24" y="268"/>
                  </a:lnTo>
                  <a:lnTo>
                    <a:pt x="14" y="249"/>
                  </a:lnTo>
                  <a:lnTo>
                    <a:pt x="10" y="235"/>
                  </a:lnTo>
                  <a:lnTo>
                    <a:pt x="5" y="215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10" y="172"/>
                  </a:lnTo>
                  <a:lnTo>
                    <a:pt x="19" y="168"/>
                  </a:lnTo>
                  <a:lnTo>
                    <a:pt x="24" y="158"/>
                  </a:lnTo>
                  <a:lnTo>
                    <a:pt x="34" y="153"/>
                  </a:lnTo>
                  <a:lnTo>
                    <a:pt x="38" y="144"/>
                  </a:lnTo>
                  <a:lnTo>
                    <a:pt x="48" y="134"/>
                  </a:lnTo>
                  <a:lnTo>
                    <a:pt x="57" y="120"/>
                  </a:lnTo>
                  <a:lnTo>
                    <a:pt x="67" y="101"/>
                  </a:lnTo>
                  <a:lnTo>
                    <a:pt x="77" y="81"/>
                  </a:lnTo>
                  <a:lnTo>
                    <a:pt x="86" y="57"/>
                  </a:lnTo>
                  <a:lnTo>
                    <a:pt x="101" y="33"/>
                  </a:lnTo>
                  <a:lnTo>
                    <a:pt x="110" y="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9"/>
            <p:cNvSpPr/>
            <p:nvPr/>
          </p:nvSpPr>
          <p:spPr>
            <a:xfrm>
              <a:off x="4117320" y="2990160"/>
              <a:ext cx="469080" cy="583920"/>
            </a:xfrm>
            <a:custGeom>
              <a:avLst/>
              <a:gdLst/>
              <a:ahLst/>
              <a:rect l="l" t="t" r="r" b="b"/>
              <a:pathLst>
                <a:path w="388" h="483">
                  <a:moveTo>
                    <a:pt x="91" y="483"/>
                  </a:moveTo>
                  <a:lnTo>
                    <a:pt x="86" y="483"/>
                  </a:lnTo>
                  <a:lnTo>
                    <a:pt x="77" y="479"/>
                  </a:lnTo>
                  <a:lnTo>
                    <a:pt x="72" y="474"/>
                  </a:lnTo>
                  <a:lnTo>
                    <a:pt x="62" y="464"/>
                  </a:lnTo>
                  <a:lnTo>
                    <a:pt x="57" y="455"/>
                  </a:lnTo>
                  <a:lnTo>
                    <a:pt x="48" y="435"/>
                  </a:lnTo>
                  <a:lnTo>
                    <a:pt x="38" y="421"/>
                  </a:lnTo>
                  <a:lnTo>
                    <a:pt x="34" y="397"/>
                  </a:lnTo>
                  <a:lnTo>
                    <a:pt x="24" y="378"/>
                  </a:lnTo>
                  <a:lnTo>
                    <a:pt x="14" y="359"/>
                  </a:lnTo>
                  <a:lnTo>
                    <a:pt x="10" y="344"/>
                  </a:lnTo>
                  <a:lnTo>
                    <a:pt x="5" y="330"/>
                  </a:lnTo>
                  <a:lnTo>
                    <a:pt x="5" y="316"/>
                  </a:lnTo>
                  <a:lnTo>
                    <a:pt x="0" y="306"/>
                  </a:lnTo>
                  <a:lnTo>
                    <a:pt x="5" y="297"/>
                  </a:lnTo>
                  <a:lnTo>
                    <a:pt x="5" y="292"/>
                  </a:lnTo>
                  <a:lnTo>
                    <a:pt x="10" y="282"/>
                  </a:lnTo>
                  <a:lnTo>
                    <a:pt x="19" y="277"/>
                  </a:lnTo>
                  <a:lnTo>
                    <a:pt x="29" y="277"/>
                  </a:lnTo>
                  <a:lnTo>
                    <a:pt x="38" y="273"/>
                  </a:lnTo>
                  <a:lnTo>
                    <a:pt x="48" y="277"/>
                  </a:lnTo>
                  <a:lnTo>
                    <a:pt x="53" y="277"/>
                  </a:lnTo>
                  <a:lnTo>
                    <a:pt x="67" y="277"/>
                  </a:lnTo>
                  <a:lnTo>
                    <a:pt x="77" y="273"/>
                  </a:lnTo>
                  <a:lnTo>
                    <a:pt x="91" y="268"/>
                  </a:lnTo>
                  <a:lnTo>
                    <a:pt x="96" y="263"/>
                  </a:lnTo>
                  <a:lnTo>
                    <a:pt x="105" y="253"/>
                  </a:lnTo>
                  <a:lnTo>
                    <a:pt x="120" y="244"/>
                  </a:lnTo>
                  <a:lnTo>
                    <a:pt x="134" y="225"/>
                  </a:lnTo>
                  <a:lnTo>
                    <a:pt x="158" y="206"/>
                  </a:lnTo>
                  <a:lnTo>
                    <a:pt x="182" y="186"/>
                  </a:lnTo>
                  <a:lnTo>
                    <a:pt x="206" y="158"/>
                  </a:lnTo>
                  <a:lnTo>
                    <a:pt x="220" y="143"/>
                  </a:lnTo>
                  <a:lnTo>
                    <a:pt x="239" y="124"/>
                  </a:lnTo>
                  <a:lnTo>
                    <a:pt x="254" y="110"/>
                  </a:lnTo>
                  <a:lnTo>
                    <a:pt x="268" y="91"/>
                  </a:lnTo>
                  <a:lnTo>
                    <a:pt x="297" y="67"/>
                  </a:lnTo>
                  <a:lnTo>
                    <a:pt x="321" y="43"/>
                  </a:lnTo>
                  <a:lnTo>
                    <a:pt x="340" y="24"/>
                  </a:lnTo>
                  <a:lnTo>
                    <a:pt x="359" y="14"/>
                  </a:lnTo>
                  <a:lnTo>
                    <a:pt x="369" y="4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4"/>
                  </a:lnTo>
                  <a:lnTo>
                    <a:pt x="388" y="9"/>
                  </a:lnTo>
                  <a:lnTo>
                    <a:pt x="383" y="14"/>
                  </a:lnTo>
                  <a:lnTo>
                    <a:pt x="383" y="19"/>
                  </a:lnTo>
                  <a:lnTo>
                    <a:pt x="378" y="28"/>
                  </a:lnTo>
                  <a:lnTo>
                    <a:pt x="374" y="43"/>
                  </a:lnTo>
                  <a:lnTo>
                    <a:pt x="369" y="52"/>
                  </a:lnTo>
                  <a:lnTo>
                    <a:pt x="364" y="67"/>
                  </a:lnTo>
                  <a:lnTo>
                    <a:pt x="354" y="81"/>
                  </a:lnTo>
                  <a:lnTo>
                    <a:pt x="345" y="100"/>
                  </a:lnTo>
                  <a:lnTo>
                    <a:pt x="335" y="119"/>
                  </a:lnTo>
                  <a:lnTo>
                    <a:pt x="326" y="143"/>
                  </a:lnTo>
                  <a:lnTo>
                    <a:pt x="311" y="162"/>
                  </a:lnTo>
                  <a:lnTo>
                    <a:pt x="297" y="186"/>
                  </a:lnTo>
                  <a:lnTo>
                    <a:pt x="283" y="215"/>
                  </a:lnTo>
                  <a:lnTo>
                    <a:pt x="263" y="239"/>
                  </a:lnTo>
                  <a:lnTo>
                    <a:pt x="249" y="268"/>
                  </a:lnTo>
                  <a:lnTo>
                    <a:pt x="230" y="297"/>
                  </a:lnTo>
                  <a:lnTo>
                    <a:pt x="216" y="320"/>
                  </a:lnTo>
                  <a:lnTo>
                    <a:pt x="201" y="344"/>
                  </a:lnTo>
                  <a:lnTo>
                    <a:pt x="187" y="364"/>
                  </a:lnTo>
                  <a:lnTo>
                    <a:pt x="172" y="383"/>
                  </a:lnTo>
                  <a:lnTo>
                    <a:pt x="163" y="402"/>
                  </a:lnTo>
                  <a:lnTo>
                    <a:pt x="148" y="416"/>
                  </a:lnTo>
                  <a:lnTo>
                    <a:pt x="139" y="431"/>
                  </a:lnTo>
                  <a:lnTo>
                    <a:pt x="129" y="445"/>
                  </a:lnTo>
                  <a:lnTo>
                    <a:pt x="120" y="455"/>
                  </a:lnTo>
                  <a:lnTo>
                    <a:pt x="115" y="464"/>
                  </a:lnTo>
                  <a:lnTo>
                    <a:pt x="105" y="469"/>
                  </a:lnTo>
                  <a:lnTo>
                    <a:pt x="101" y="474"/>
                  </a:lnTo>
                  <a:lnTo>
                    <a:pt x="96" y="479"/>
                  </a:lnTo>
                  <a:lnTo>
                    <a:pt x="91" y="483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3276720" y="2286000"/>
          <a:ext cx="3124080" cy="266688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457200" y="40384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兰兰跟爷爷过了几种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你是从课文的哪个地方找到这个答案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第三十二课_兰兰过桥.mp3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10"/>
          <p:cNvSpPr/>
          <p:nvPr/>
        </p:nvSpPr>
        <p:spPr>
          <a:xfrm>
            <a:off x="228600" y="1371600"/>
            <a:ext cx="3886200" cy="2590920"/>
          </a:xfrm>
          <a:prstGeom prst="irregularSeal1">
            <a:avLst/>
          </a:prstGeom>
          <a:gradFill rotWithShape="0">
            <a:gsLst>
              <a:gs pos="0">
                <a:srgbClr val="96ab94"/>
              </a:gs>
              <a:gs pos="5000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请同学们跟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音乐齐读课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边读边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50775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图2"/>
          <p:cNvPicPr/>
          <p:nvPr/>
        </p:nvPicPr>
        <p:blipFill>
          <a:blip r:embed="rId1"/>
          <a:stretch/>
        </p:blipFill>
        <p:spPr>
          <a:xfrm>
            <a:off x="4419720" y="3405240"/>
            <a:ext cx="4724280" cy="3452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Picture 6" descr="图1"/>
          <p:cNvPicPr/>
          <p:nvPr/>
        </p:nvPicPr>
        <p:blipFill>
          <a:blip r:embed="rId2"/>
          <a:stretch/>
        </p:blipFill>
        <p:spPr>
          <a:xfrm>
            <a:off x="152280" y="152280"/>
            <a:ext cx="4953240" cy="3610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4" name="Rectangle 7"/>
          <p:cNvSpPr/>
          <p:nvPr/>
        </p:nvSpPr>
        <p:spPr>
          <a:xfrm>
            <a:off x="5688360" y="838080"/>
            <a:ext cx="1003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潜水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954800" y="4876920"/>
            <a:ext cx="1003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塑料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"/>
          <p:cNvSpPr/>
          <p:nvPr/>
        </p:nvSpPr>
        <p:spPr>
          <a:xfrm>
            <a:off x="5451120" y="251460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4"/>
          <p:cNvSpPr/>
          <p:nvPr/>
        </p:nvSpPr>
        <p:spPr>
          <a:xfrm>
            <a:off x="152280" y="228600"/>
            <a:ext cx="3657600" cy="1981080"/>
          </a:xfrm>
          <a:prstGeom prst="flowChartMagneticTape">
            <a:avLst/>
          </a:pr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潜水桥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样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3"/>
          <p:cNvGrpSpPr/>
          <p:nvPr/>
        </p:nvGrpSpPr>
        <p:grpSpPr>
          <a:xfrm>
            <a:off x="-360" y="2514600"/>
            <a:ext cx="4876920" cy="1447920"/>
            <a:chOff x="-360" y="2514600"/>
            <a:chExt cx="4876920" cy="1447920"/>
          </a:xfrm>
        </p:grpSpPr>
        <p:sp>
          <p:nvSpPr>
            <p:cNvPr id="289" name="AutoShape 5"/>
            <p:cNvSpPr/>
            <p:nvPr/>
          </p:nvSpPr>
          <p:spPr>
            <a:xfrm rot="10800000">
              <a:off x="-360" y="2514240"/>
              <a:ext cx="4876920" cy="1447920"/>
            </a:xfrm>
            <a:custGeom>
              <a:avLst/>
              <a:gdLst>
                <a:gd name="textAreaLeft" fmla="*/ 609120 w 4876920"/>
                <a:gd name="textAreaRight" fmla="*/ 4267800 w 4876920"/>
                <a:gd name="textAreaTop" fmla="*/ 361800 h 1447920"/>
                <a:gd name="textAreaBottom" fmla="*/ 10861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2" y="5400"/>
                  </a:ln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16202" y="16200"/>
                  </a:lnTo>
                  <a:lnTo>
                    <a:pt x="0" y="16200"/>
                  </a:lnTo>
                  <a:lnTo>
                    <a:pt x="2699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Arial"/>
                  <a:ea typeface="楷体_GB2312"/>
                </a:rPr>
                <a:t>架在水里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10"/>
            <p:cNvSpPr txBox="1"/>
            <p:nvPr/>
          </p:nvSpPr>
          <p:spPr>
            <a:xfrm>
              <a:off x="762120" y="289548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宋体"/>
                </a:rPr>
                <a:t>1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  <p:grpSp>
        <p:nvGrpSpPr>
          <p:cNvPr id="291" name="Group 14"/>
          <p:cNvGrpSpPr/>
          <p:nvPr/>
        </p:nvGrpSpPr>
        <p:grpSpPr>
          <a:xfrm>
            <a:off x="609120" y="3774960"/>
            <a:ext cx="6172200" cy="1447920"/>
            <a:chOff x="609120" y="3774960"/>
            <a:chExt cx="6172200" cy="1447920"/>
          </a:xfrm>
        </p:grpSpPr>
        <p:sp>
          <p:nvSpPr>
            <p:cNvPr id="292" name="AutoShape 9"/>
            <p:cNvSpPr/>
            <p:nvPr/>
          </p:nvSpPr>
          <p:spPr>
            <a:xfrm rot="10800000">
              <a:off x="609120" y="3774960"/>
              <a:ext cx="6172200" cy="1447920"/>
            </a:xfrm>
            <a:custGeom>
              <a:avLst/>
              <a:gdLst>
                <a:gd name="textAreaLeft" fmla="*/ 771120 w 6172200"/>
                <a:gd name="textAreaRight" fmla="*/ 5401080 w 6172200"/>
                <a:gd name="textAreaTop" fmla="*/ 361800 h 1447920"/>
                <a:gd name="textAreaBottom" fmla="*/ 10861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2" y="5400"/>
                  </a:ln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16202" y="16200"/>
                  </a:lnTo>
                  <a:lnTo>
                    <a:pt x="0" y="16200"/>
                  </a:lnTo>
                  <a:lnTo>
                    <a:pt x="2699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Arial"/>
                  <a:ea typeface="楷体_GB2312"/>
                </a:rPr>
                <a:t>用玻璃砖造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WordArt 11"/>
            <p:cNvSpPr txBox="1"/>
            <p:nvPr/>
          </p:nvSpPr>
          <p:spPr>
            <a:xfrm>
              <a:off x="1447920" y="4156200"/>
              <a:ext cx="38088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latin typeface="宋体"/>
                </a:rPr>
                <a:t>2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  <p:grpSp>
        <p:nvGrpSpPr>
          <p:cNvPr id="294" name="Group 15"/>
          <p:cNvGrpSpPr/>
          <p:nvPr/>
        </p:nvGrpSpPr>
        <p:grpSpPr>
          <a:xfrm>
            <a:off x="1295280" y="5105520"/>
            <a:ext cx="7315200" cy="1295280"/>
            <a:chOff x="1295280" y="5105520"/>
            <a:chExt cx="7315200" cy="1295280"/>
          </a:xfrm>
        </p:grpSpPr>
        <p:sp>
          <p:nvSpPr>
            <p:cNvPr id="295" name="AutoShape 8"/>
            <p:cNvSpPr/>
            <p:nvPr/>
          </p:nvSpPr>
          <p:spPr>
            <a:xfrm rot="10800000">
              <a:off x="1295280" y="5105160"/>
              <a:ext cx="7315200" cy="1295280"/>
            </a:xfrm>
            <a:custGeom>
              <a:avLst/>
              <a:gdLst>
                <a:gd name="textAreaLeft" fmla="*/ 914040 w 7315200"/>
                <a:gd name="textAreaRight" fmla="*/ 6401160 w 7315200"/>
                <a:gd name="textAreaTop" fmla="*/ 323640 h 1295280"/>
                <a:gd name="textAreaBottom" fmla="*/ 971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2" y="5400"/>
                  </a:ln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16202" y="16200"/>
                  </a:lnTo>
                  <a:lnTo>
                    <a:pt x="0" y="16200"/>
                  </a:lnTo>
                  <a:lnTo>
                    <a:pt x="2699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Arial"/>
                  <a:ea typeface="楷体_GB2312"/>
                </a:rPr>
                <a:t>像一幢长长的透明的房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WordArt 12"/>
            <p:cNvSpPr txBox="1"/>
            <p:nvPr/>
          </p:nvSpPr>
          <p:spPr>
            <a:xfrm>
              <a:off x="2362320" y="548640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宋体"/>
                </a:rPr>
                <a:t>3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4" descr="图片1"/>
          <p:cNvPicPr/>
          <p:nvPr/>
        </p:nvPicPr>
        <p:blipFill>
          <a:blip r:embed="rId2"/>
          <a:stretch/>
        </p:blipFill>
        <p:spPr>
          <a:xfrm rot="10800000">
            <a:off x="7010280" y="1828440"/>
            <a:ext cx="1330560" cy="1600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4" descr="图片4"/>
          <p:cNvPicPr/>
          <p:nvPr/>
        </p:nvPicPr>
        <p:blipFill>
          <a:blip r:embed="rId3"/>
          <a:stretch/>
        </p:blipFill>
        <p:spPr>
          <a:xfrm>
            <a:off x="-2708280" y="3657600"/>
            <a:ext cx="8229600" cy="1616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7" descr="图片6"/>
          <p:cNvPicPr/>
          <p:nvPr/>
        </p:nvPicPr>
        <p:blipFill>
          <a:blip r:embed="rId4"/>
          <a:stretch/>
        </p:blipFill>
        <p:spPr>
          <a:xfrm>
            <a:off x="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5" descr="图片2"/>
          <p:cNvPicPr/>
          <p:nvPr/>
        </p:nvPicPr>
        <p:blipFill>
          <a:blip r:embed="rId5"/>
          <a:stretch/>
        </p:blipFill>
        <p:spPr>
          <a:xfrm>
            <a:off x="-228600" y="57913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8" descr="图片6"/>
          <p:cNvPicPr/>
          <p:nvPr/>
        </p:nvPicPr>
        <p:blipFill>
          <a:blip r:embed="rId6"/>
          <a:stretch/>
        </p:blipFill>
        <p:spPr>
          <a:xfrm>
            <a:off x="3276720" y="5867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0" descr="图片6"/>
          <p:cNvPicPr/>
          <p:nvPr/>
        </p:nvPicPr>
        <p:blipFill>
          <a:blip r:embed="rId7"/>
          <a:stretch/>
        </p:blipFill>
        <p:spPr>
          <a:xfrm>
            <a:off x="990720" y="5867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1" descr="图片6"/>
          <p:cNvPicPr/>
          <p:nvPr/>
        </p:nvPicPr>
        <p:blipFill>
          <a:blip r:embed="rId8"/>
          <a:stretch/>
        </p:blipFill>
        <p:spPr>
          <a:xfrm>
            <a:off x="2362320" y="5791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3" descr="图片7"/>
          <p:cNvPicPr/>
          <p:nvPr/>
        </p:nvPicPr>
        <p:blipFill>
          <a:blip r:embed="rId9"/>
          <a:stretch/>
        </p:blipFill>
        <p:spPr>
          <a:xfrm>
            <a:off x="2133720" y="6262560"/>
            <a:ext cx="761760" cy="59544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58"/>
          <p:cNvGrpSpPr/>
          <p:nvPr/>
        </p:nvGrpSpPr>
        <p:grpSpPr>
          <a:xfrm>
            <a:off x="228600" y="1371600"/>
            <a:ext cx="5505480" cy="5257800"/>
            <a:chOff x="228600" y="1371600"/>
            <a:chExt cx="5505480" cy="5257800"/>
          </a:xfrm>
        </p:grpSpPr>
        <p:pic>
          <p:nvPicPr>
            <p:cNvPr id="306" name="Picture 5" descr=""/>
            <p:cNvPicPr/>
            <p:nvPr/>
          </p:nvPicPr>
          <p:blipFill>
            <a:blip r:embed="rId10"/>
            <a:stretch/>
          </p:blipFill>
          <p:spPr>
            <a:xfrm>
              <a:off x="3870360" y="5464080"/>
              <a:ext cx="16318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6" descr=""/>
            <p:cNvPicPr/>
            <p:nvPr/>
          </p:nvPicPr>
          <p:blipFill>
            <a:blip r:embed="rId11"/>
            <a:stretch/>
          </p:blipFill>
          <p:spPr>
            <a:xfrm>
              <a:off x="3870360" y="5464080"/>
              <a:ext cx="16318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23" descr=""/>
            <p:cNvPicPr/>
            <p:nvPr/>
          </p:nvPicPr>
          <p:blipFill>
            <a:blip r:embed="rId12"/>
            <a:stretch/>
          </p:blipFill>
          <p:spPr>
            <a:xfrm>
              <a:off x="3870360" y="5464080"/>
              <a:ext cx="16318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24" descr=""/>
            <p:cNvPicPr/>
            <p:nvPr/>
          </p:nvPicPr>
          <p:blipFill>
            <a:blip r:embed="rId13"/>
            <a:stretch/>
          </p:blipFill>
          <p:spPr>
            <a:xfrm>
              <a:off x="3870360" y="5464080"/>
              <a:ext cx="163188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0" name="Group 42"/>
            <p:cNvGrpSpPr/>
            <p:nvPr/>
          </p:nvGrpSpPr>
          <p:grpSpPr>
            <a:xfrm>
              <a:off x="2895480" y="4495680"/>
              <a:ext cx="2838600" cy="1657080"/>
              <a:chOff x="2895480" y="4495680"/>
              <a:chExt cx="2838600" cy="1657080"/>
            </a:xfrm>
          </p:grpSpPr>
          <p:pic>
            <p:nvPicPr>
              <p:cNvPr id="311" name="Picture 11" descr=""/>
              <p:cNvPicPr/>
              <p:nvPr/>
            </p:nvPicPr>
            <p:blipFill>
              <a:blip r:embed="rId14"/>
              <a:stretch/>
            </p:blipFill>
            <p:spPr>
              <a:xfrm>
                <a:off x="2895480" y="5391000"/>
                <a:ext cx="1225800" cy="76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95480" y="5391000"/>
                <a:ext cx="1225800" cy="76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20" descr=""/>
              <p:cNvPicPr/>
              <p:nvPr/>
            </p:nvPicPr>
            <p:blipFill>
              <a:blip r:embed="rId16"/>
              <a:stretch/>
            </p:blipFill>
            <p:spPr>
              <a:xfrm>
                <a:off x="4226040" y="4495680"/>
                <a:ext cx="1508040" cy="95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21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26040" y="4495680"/>
                <a:ext cx="1508040" cy="95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29" descr=""/>
              <p:cNvPicPr/>
              <p:nvPr/>
            </p:nvPicPr>
            <p:blipFill>
              <a:blip r:embed="rId18"/>
              <a:stretch/>
            </p:blipFill>
            <p:spPr>
              <a:xfrm>
                <a:off x="2895480" y="5391000"/>
                <a:ext cx="1225800" cy="76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30" descr=""/>
              <p:cNvPicPr/>
              <p:nvPr/>
            </p:nvPicPr>
            <p:blipFill>
              <a:blip r:embed="rId19"/>
              <a:stretch/>
            </p:blipFill>
            <p:spPr>
              <a:xfrm>
                <a:off x="2895480" y="5391000"/>
                <a:ext cx="1225800" cy="76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38" descr=""/>
              <p:cNvPicPr/>
              <p:nvPr/>
            </p:nvPicPr>
            <p:blipFill>
              <a:blip r:embed="rId20"/>
              <a:stretch/>
            </p:blipFill>
            <p:spPr>
              <a:xfrm>
                <a:off x="4226040" y="4495680"/>
                <a:ext cx="1508040" cy="95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39" descr=""/>
              <p:cNvPicPr/>
              <p:nvPr/>
            </p:nvPicPr>
            <p:blipFill>
              <a:blip r:embed="rId21"/>
              <a:stretch/>
            </p:blipFill>
            <p:spPr>
              <a:xfrm>
                <a:off x="4226040" y="4495680"/>
                <a:ext cx="1508040" cy="955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9" name="Picture 46" descr="图片2"/>
            <p:cNvPicPr/>
            <p:nvPr/>
          </p:nvPicPr>
          <p:blipFill>
            <a:blip r:embed="rId22"/>
            <a:stretch/>
          </p:blipFill>
          <p:spPr>
            <a:xfrm>
              <a:off x="533520" y="5334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9" descr="图片6"/>
            <p:cNvPicPr/>
            <p:nvPr/>
          </p:nvPicPr>
          <p:blipFill>
            <a:blip r:embed="rId23"/>
            <a:stretch/>
          </p:blipFill>
          <p:spPr>
            <a:xfrm>
              <a:off x="1600200" y="57913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56" descr="图片5"/>
            <p:cNvPicPr/>
            <p:nvPr/>
          </p:nvPicPr>
          <p:blipFill>
            <a:blip r:embed="rId24"/>
            <a:stretch/>
          </p:blipFill>
          <p:spPr>
            <a:xfrm>
              <a:off x="228600" y="1371600"/>
              <a:ext cx="3505320" cy="350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Rectangle 61"/>
          <p:cNvSpPr/>
          <p:nvPr/>
        </p:nvSpPr>
        <p:spPr>
          <a:xfrm>
            <a:off x="0" y="228600"/>
            <a:ext cx="579132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兰兰在潜水桥里看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图片1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4441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24" name="AutoShape 4"/>
          <p:cNvSpPr/>
          <p:nvPr/>
        </p:nvSpPr>
        <p:spPr>
          <a:xfrm>
            <a:off x="2438280" y="5105520"/>
            <a:ext cx="3048120" cy="1371600"/>
          </a:xfrm>
          <a:prstGeom prst="upArrowCallout">
            <a:avLst>
              <a:gd name="adj1" fmla="val 51858"/>
              <a:gd name="adj2" fmla="val 111115"/>
              <a:gd name="adj3" fmla="val 18509"/>
              <a:gd name="adj4" fmla="val 51843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a061d"/>
                </a:solidFill>
                <a:latin typeface="Arial"/>
                <a:ea typeface="楷体_GB2312"/>
              </a:rPr>
              <a:t>生活中的潜水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图片3"/>
          <p:cNvPicPr/>
          <p:nvPr/>
        </p:nvPicPr>
        <p:blipFill>
          <a:blip r:embed="rId2"/>
          <a:stretch/>
        </p:blipFill>
        <p:spPr>
          <a:xfrm>
            <a:off x="7667640" y="6019920"/>
            <a:ext cx="147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4"/>
          <p:cNvSpPr/>
          <p:nvPr/>
        </p:nvSpPr>
        <p:spPr>
          <a:xfrm>
            <a:off x="152280" y="228600"/>
            <a:ext cx="4038840" cy="1676520"/>
          </a:xfrm>
          <a:prstGeom prst="flowChartPunchedTap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塑料桥有何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228600" y="2590920"/>
            <a:ext cx="5715000" cy="36576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、架在小河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、用塑料管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、像雨衣一样大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8" descr="图片3"/>
          <p:cNvPicPr/>
          <p:nvPr/>
        </p:nvPicPr>
        <p:blipFill>
          <a:blip r:embed="rId2"/>
          <a:stretch/>
        </p:blipFill>
        <p:spPr>
          <a:xfrm>
            <a:off x="7467480" y="6000840"/>
            <a:ext cx="147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80880" y="121932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án   liánɡ  chénɡ   b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33520" y="20574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061d"/>
                </a:solidFill>
                <a:latin typeface="楷体_GB2312"/>
                <a:ea typeface="楷体_GB2312"/>
              </a:rPr>
              <a:t>兰   梁    程    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30481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jià   Zhuān  huá    báo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架   砖    划    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04920" y="480060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iǎo   tè    wě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 flipH="1">
            <a:off x="532800" y="571500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   特   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2819520" y="609480"/>
            <a:ext cx="320040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我会读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兰的爷爷是桥梁工程师。有一天，他开着小汽车带兰兰去玩。在路上，他们遇见一条波浪滚滚的大河。爷爷没有停车，一直向大河里开去。兰兰吓得闭上了眼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图片3"/>
          <p:cNvPicPr/>
          <p:nvPr/>
        </p:nvPicPr>
        <p:blipFill>
          <a:blip r:embed="rId2"/>
          <a:stretch/>
        </p:blipFill>
        <p:spPr>
          <a:xfrm>
            <a:off x="7467480" y="6080040"/>
            <a:ext cx="1676520" cy="7779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9"/>
          <p:cNvSpPr/>
          <p:nvPr/>
        </p:nvSpPr>
        <p:spPr>
          <a:xfrm>
            <a:off x="457200" y="3124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兰，下车看看大桥吧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见爷爷的喊声，兰兰才敢睁开眼睛。她一看：原来是一座架在水里的桥，很像一幢长长的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533520" y="4800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爷爷告诉她，这种桥叫潜水桥，是用特别结实的玻璃砖造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500" autoRev="1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29,6,-6)"/>
                                      </p:to>
                                    </p:set>
                                    <p:set>
                                      <p:cBhvr>
                                        <p:cTn id="282" dur="500" autoRev="1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9,6,-6)"/>
                                      </p:to>
                                    </p:set>
                                    <p:set>
                                      <p:cBhvr>
                                        <p:cTn id="283" dur="500" autoRev="1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500" autoRev="1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29,6,-6)"/>
                                      </p:to>
                                    </p:set>
                                    <p:set>
                                      <p:cBhvr>
                                        <p:cTn id="288" dur="500" autoRev="1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9,6,-6)"/>
                                      </p:to>
                                    </p:set>
                                    <p:set>
                                      <p:cBhvr>
                                        <p:cTn id="289" dur="500" autoRev="1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160" y="-152640"/>
            <a:ext cx="335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3657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兰兰看了一会儿，跟爷爷坐上汽车，来到鲜花盛开的原野上。兰兰下了车，一边采野花一边往前走，又遇到了一条小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3809880" y="0"/>
            <a:ext cx="5334120" cy="6858000"/>
            <a:chOff x="3809880" y="0"/>
            <a:chExt cx="5334120" cy="6858000"/>
          </a:xfrm>
        </p:grpSpPr>
        <p:pic>
          <p:nvPicPr>
            <p:cNvPr id="337" name="Picture 5" descr="图片1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338" name="Picture 6" descr="图片2"/>
            <p:cNvPicPr/>
            <p:nvPr/>
          </p:nvPicPr>
          <p:blipFill>
            <a:blip r:embed="rId3"/>
            <a:stretch/>
          </p:blipFill>
          <p:spPr>
            <a:xfrm>
              <a:off x="4952880" y="1295280"/>
              <a:ext cx="2578320" cy="376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Rectangle 8"/>
          <p:cNvSpPr/>
          <p:nvPr/>
        </p:nvSpPr>
        <p:spPr>
          <a:xfrm>
            <a:off x="0" y="1066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兰兰惊奇的站在潜水桥上，透过玻璃看见大大小小的鱼游来游去，各种各样的船只从桥顶上驶过来划过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图片3"/>
          <p:cNvPicPr/>
          <p:nvPr/>
        </p:nvPicPr>
        <p:blipFill>
          <a:blip r:embed="rId4"/>
          <a:stretch/>
        </p:blipFill>
        <p:spPr>
          <a:xfrm>
            <a:off x="7848720" y="6256440"/>
            <a:ext cx="129528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500" autoRev="1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29,6,-6)"/>
                                      </p:to>
                                    </p:set>
                                    <p:set>
                                      <p:cBhvr>
                                        <p:cTn id="333" dur="500" autoRev="1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9,6,-6)"/>
                                      </p:to>
                                    </p:set>
                                    <p:set>
                                      <p:cBhvr>
                                        <p:cTn id="334" dur="500" autoRev="1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-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38080" y="11426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兰兰说：“我想去河对岸玩，可是怎么过去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别急，我带着桥呢！”爷爷打开皮包，取出一包塑料管子，说，“这又薄又结实的塑料管子，打进空气就成了一座轻巧的桥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兰兰跟着爷爷走上塑料桥。这桥又平又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过了桥，爷爷打开放气孔。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塑料桥跑完气变软了，又自动折叠起来。爷爷把像雨衣一样大小的塑料桥放回提包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图片3"/>
          <p:cNvPicPr/>
          <p:nvPr/>
        </p:nvPicPr>
        <p:blipFill>
          <a:blip r:embed="rId2"/>
          <a:stretch/>
        </p:blipFill>
        <p:spPr>
          <a:xfrm>
            <a:off x="7819920" y="6242040"/>
            <a:ext cx="13240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500" autoRev="1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29,6,-6)"/>
                                      </p:to>
                                    </p:set>
                                    <p:set>
                                      <p:cBhvr>
                                        <p:cTn id="379" dur="500" autoRev="1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9,6,-6)"/>
                                      </p:to>
                                    </p:set>
                                    <p:set>
                                      <p:cBhvr>
                                        <p:cTn id="380" dur="500" autoRev="1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500" autoRev="1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29,6,-6)"/>
                                      </p:to>
                                    </p:set>
                                    <p:set>
                                      <p:cBhvr>
                                        <p:cTn id="385" dur="500" autoRev="1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9,6,-6)"/>
                                      </p:to>
                                    </p:set>
                                    <p:set>
                                      <p:cBhvr>
                                        <p:cTn id="386" dur="500" autoRev="1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5238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爷爷真是一位会变魔术的桥梁专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图片2"/>
          <p:cNvPicPr/>
          <p:nvPr/>
        </p:nvPicPr>
        <p:blipFill>
          <a:blip r:embed="rId2"/>
          <a:stretch/>
        </p:blipFill>
        <p:spPr>
          <a:xfrm>
            <a:off x="4419720" y="3505320"/>
            <a:ext cx="1162080" cy="914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图片2"/>
          <p:cNvPicPr/>
          <p:nvPr/>
        </p:nvPicPr>
        <p:blipFill>
          <a:blip r:embed="rId3"/>
          <a:stretch/>
        </p:blipFill>
        <p:spPr>
          <a:xfrm>
            <a:off x="2514600" y="2743200"/>
            <a:ext cx="1162080" cy="914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图片2"/>
          <p:cNvPicPr/>
          <p:nvPr/>
        </p:nvPicPr>
        <p:blipFill>
          <a:blip r:embed="rId4"/>
          <a:stretch/>
        </p:blipFill>
        <p:spPr>
          <a:xfrm>
            <a:off x="1143000" y="3809880"/>
            <a:ext cx="1162080" cy="914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图片2"/>
          <p:cNvPicPr/>
          <p:nvPr/>
        </p:nvPicPr>
        <p:blipFill>
          <a:blip r:embed="rId5"/>
          <a:stretch/>
        </p:blipFill>
        <p:spPr>
          <a:xfrm>
            <a:off x="0" y="457200"/>
            <a:ext cx="1162080" cy="914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图片2"/>
          <p:cNvPicPr/>
          <p:nvPr/>
        </p:nvPicPr>
        <p:blipFill>
          <a:blip r:embed="rId6"/>
          <a:stretch/>
        </p:blipFill>
        <p:spPr>
          <a:xfrm>
            <a:off x="5791320" y="2362320"/>
            <a:ext cx="1162080" cy="914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图片2"/>
          <p:cNvPicPr/>
          <p:nvPr/>
        </p:nvPicPr>
        <p:blipFill>
          <a:blip r:embed="rId7"/>
          <a:stretch/>
        </p:blipFill>
        <p:spPr>
          <a:xfrm>
            <a:off x="7772400" y="2819520"/>
            <a:ext cx="1162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4"/>
          <p:cNvSpPr/>
          <p:nvPr/>
        </p:nvSpPr>
        <p:spPr>
          <a:xfrm>
            <a:off x="762120" y="838080"/>
            <a:ext cx="36576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爷爷是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5" descr="图片37"/>
          <p:cNvPicPr/>
          <p:nvPr/>
        </p:nvPicPr>
        <p:blipFill>
          <a:blip r:embed="rId2"/>
          <a:stretch/>
        </p:blipFill>
        <p:spPr>
          <a:xfrm>
            <a:off x="609480" y="2362320"/>
            <a:ext cx="2094120" cy="40687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6"/>
          <p:cNvSpPr/>
          <p:nvPr/>
        </p:nvSpPr>
        <p:spPr>
          <a:xfrm>
            <a:off x="2362320" y="2895480"/>
            <a:ext cx="373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爷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真是一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会变魔术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桥梁专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AutoShape 4"/>
          <p:cNvSpPr/>
          <p:nvPr/>
        </p:nvSpPr>
        <p:spPr>
          <a:xfrm>
            <a:off x="4343400" y="380880"/>
            <a:ext cx="4495680" cy="2057400"/>
          </a:xfrm>
          <a:prstGeom prst="cloudCallout">
            <a:avLst>
              <a:gd name="adj1" fmla="val -61615"/>
              <a:gd name="adj2" fmla="val 67671"/>
            </a:avLst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061d"/>
                </a:solidFill>
                <a:latin typeface="Arial"/>
                <a:ea typeface="楷体_GB2312"/>
              </a:rPr>
              <a:t>爷爷真的会变魔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876920" y="3505320"/>
            <a:ext cx="3733560" cy="25146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是科技的力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"/>
          <p:cNvSpPr/>
          <p:nvPr/>
        </p:nvSpPr>
        <p:spPr>
          <a:xfrm>
            <a:off x="2813400" y="324648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230400" y="2590920"/>
            <a:ext cx="658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过一条波浪滚滚的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，可以用（      ）桥，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桥是用（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造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457200" y="228600"/>
            <a:ext cx="7315200" cy="1371600"/>
          </a:xfrm>
          <a:custGeom>
            <a:avLst/>
            <a:gdLst>
              <a:gd name="textAreaLeft" fmla="*/ 1079640 w 7315200"/>
              <a:gd name="textAreaRight" fmla="*/ 6235560 w 7315200"/>
              <a:gd name="textAreaTop" fmla="*/ 342720 h 1371600"/>
              <a:gd name="textAreaBottom" fmla="*/ 1320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12689" stAng="8070183" swAng="-710558"/>
                <a:lnTo>
                  <a:pt x="3188" y="20786"/>
                </a:lnTo>
                <a:arcTo wR="21600" hR="12689" stAng="7359625" swAng="-3919249"/>
                <a:lnTo>
                  <a:pt x="18412" y="17086"/>
                </a:lnTo>
                <a:arcTo wR="21600" hR="12689" stAng="3440375" swAng="-710558"/>
                <a:lnTo>
                  <a:pt x="18900" y="8874"/>
                </a:lnTo>
                <a:lnTo>
                  <a:pt x="21600" y="0"/>
                </a:lnTo>
                <a:lnTo>
                  <a:pt x="21600" y="0"/>
                </a:lnTo>
                <a:arcTo wR="21600" hR="12689" stAng="2729817" swAng="1369447"/>
                <a:lnTo>
                  <a:pt x="15712" y="5068"/>
                </a:lnTo>
                <a:arcTo wR="21600" hR="12689" stAng="4099264" swAng="2601472"/>
                <a:lnTo>
                  <a:pt x="5888" y="1368"/>
                </a:lnTo>
                <a:arcTo wR="21600" hR="12689" stAng="6700736" swAng="1369447"/>
                <a:lnTo>
                  <a:pt x="2700" y="8874"/>
                </a:lnTo>
                <a:close/>
              </a:path>
              <a:path fill="none" w="21600" h="21600">
                <a:moveTo>
                  <a:pt x="5888" y="5068"/>
                </a:moveTo>
                <a:arcTo wR="21600" hR="12689" stAng="6700736" swAng="658889"/>
                <a:lnTo>
                  <a:pt x="5888" y="1368"/>
                </a:lnTo>
              </a:path>
              <a:path fill="none" w="21600" h="21600">
                <a:moveTo>
                  <a:pt x="15712" y="5068"/>
                </a:moveTo>
                <a:arcTo wR="21600" hR="12689" stAng="4099264" swAng="-658889"/>
                <a:lnTo>
                  <a:pt x="15712" y="1368"/>
                </a:lnTo>
              </a:path>
              <a:path fill="none" w="21600" h="21600">
                <a:moveTo>
                  <a:pt x="3188" y="17086"/>
                </a:moveTo>
                <a:lnTo>
                  <a:pt x="3188" y="4586"/>
                </a:lnTo>
              </a:path>
              <a:path fill="none" w="21600" h="21600">
                <a:moveTo>
                  <a:pt x="18412" y="17086"/>
                </a:moveTo>
                <a:lnTo>
                  <a:pt x="18412" y="4586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学了课文，我懂得了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3200400" y="34290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潜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52960" y="44956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特别结实的玻璃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05CC-8D26-4002-8A6C-D77417ACF9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228600" y="1295280"/>
            <a:ext cx="769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过一条小河，可以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桥，这种桥是用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造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838080" y="182880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塑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533520" y="25909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又薄又结实的塑料管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39"/>
          <p:cNvSpPr/>
          <p:nvPr/>
        </p:nvSpPr>
        <p:spPr>
          <a:xfrm>
            <a:off x="3890880" y="29592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 rot="5400000">
            <a:off x="-457560" y="2514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2" name="Group 25"/>
          <p:cNvGrpSpPr/>
          <p:nvPr/>
        </p:nvGrpSpPr>
        <p:grpSpPr>
          <a:xfrm>
            <a:off x="2590920" y="1295280"/>
            <a:ext cx="4952880" cy="4605480"/>
            <a:chOff x="2590920" y="1295280"/>
            <a:chExt cx="4952880" cy="4605480"/>
          </a:xfrm>
        </p:grpSpPr>
        <p:sp>
          <p:nvSpPr>
            <p:cNvPr id="93" name="AutoShape 39"/>
            <p:cNvSpPr/>
            <p:nvPr/>
          </p:nvSpPr>
          <p:spPr>
            <a:xfrm>
              <a:off x="2590920" y="1295280"/>
              <a:ext cx="4952880" cy="46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"/>
            <p:cNvSpPr/>
            <p:nvPr/>
          </p:nvSpPr>
          <p:spPr>
            <a:xfrm>
              <a:off x="3890880" y="2466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7"/>
            <p:cNvSpPr/>
            <p:nvPr/>
          </p:nvSpPr>
          <p:spPr>
            <a:xfrm>
              <a:off x="3909240" y="2439720"/>
              <a:ext cx="2298960" cy="2305800"/>
            </a:xfrm>
            <a:custGeom>
              <a:avLst/>
              <a:gdLst/>
              <a:ahLst/>
              <a:rect l="l" t="t" r="r" b="b"/>
              <a:pathLst>
                <a:path w="1901" h="1906">
                  <a:moveTo>
                    <a:pt x="1135" y="704"/>
                  </a:moveTo>
                  <a:lnTo>
                    <a:pt x="1140" y="704"/>
                  </a:lnTo>
                  <a:lnTo>
                    <a:pt x="1144" y="699"/>
                  </a:lnTo>
                  <a:lnTo>
                    <a:pt x="1149" y="694"/>
                  </a:lnTo>
                  <a:lnTo>
                    <a:pt x="1154" y="689"/>
                  </a:lnTo>
                  <a:lnTo>
                    <a:pt x="1159" y="680"/>
                  </a:lnTo>
                  <a:lnTo>
                    <a:pt x="1163" y="670"/>
                  </a:lnTo>
                  <a:lnTo>
                    <a:pt x="1173" y="661"/>
                  </a:lnTo>
                  <a:lnTo>
                    <a:pt x="1178" y="651"/>
                  </a:lnTo>
                  <a:lnTo>
                    <a:pt x="1183" y="637"/>
                  </a:lnTo>
                  <a:lnTo>
                    <a:pt x="1187" y="622"/>
                  </a:lnTo>
                  <a:lnTo>
                    <a:pt x="1197" y="608"/>
                  </a:lnTo>
                  <a:lnTo>
                    <a:pt x="1202" y="589"/>
                  </a:lnTo>
                  <a:lnTo>
                    <a:pt x="1207" y="574"/>
                  </a:lnTo>
                  <a:lnTo>
                    <a:pt x="1216" y="555"/>
                  </a:lnTo>
                  <a:lnTo>
                    <a:pt x="1231" y="512"/>
                  </a:lnTo>
                  <a:lnTo>
                    <a:pt x="1245" y="474"/>
                  </a:lnTo>
                  <a:lnTo>
                    <a:pt x="1259" y="435"/>
                  </a:lnTo>
                  <a:lnTo>
                    <a:pt x="1269" y="397"/>
                  </a:lnTo>
                  <a:lnTo>
                    <a:pt x="1278" y="364"/>
                  </a:lnTo>
                  <a:lnTo>
                    <a:pt x="1283" y="335"/>
                  </a:lnTo>
                  <a:lnTo>
                    <a:pt x="1293" y="301"/>
                  </a:lnTo>
                  <a:lnTo>
                    <a:pt x="1298" y="273"/>
                  </a:lnTo>
                  <a:lnTo>
                    <a:pt x="1298" y="249"/>
                  </a:lnTo>
                  <a:lnTo>
                    <a:pt x="1302" y="225"/>
                  </a:lnTo>
                  <a:lnTo>
                    <a:pt x="1302" y="206"/>
                  </a:lnTo>
                  <a:lnTo>
                    <a:pt x="1302" y="191"/>
                  </a:lnTo>
                  <a:lnTo>
                    <a:pt x="1302" y="172"/>
                  </a:lnTo>
                  <a:lnTo>
                    <a:pt x="1298" y="162"/>
                  </a:lnTo>
                  <a:lnTo>
                    <a:pt x="1298" y="148"/>
                  </a:lnTo>
                  <a:lnTo>
                    <a:pt x="1293" y="138"/>
                  </a:lnTo>
                  <a:lnTo>
                    <a:pt x="1293" y="134"/>
                  </a:lnTo>
                  <a:lnTo>
                    <a:pt x="1283" y="124"/>
                  </a:lnTo>
                  <a:lnTo>
                    <a:pt x="1274" y="119"/>
                  </a:lnTo>
                  <a:lnTo>
                    <a:pt x="1254" y="115"/>
                  </a:lnTo>
                  <a:lnTo>
                    <a:pt x="1240" y="115"/>
                  </a:lnTo>
                  <a:lnTo>
                    <a:pt x="1231" y="115"/>
                  </a:lnTo>
                  <a:lnTo>
                    <a:pt x="1216" y="115"/>
                  </a:lnTo>
                  <a:lnTo>
                    <a:pt x="1202" y="119"/>
                  </a:lnTo>
                  <a:lnTo>
                    <a:pt x="1183" y="119"/>
                  </a:lnTo>
                  <a:lnTo>
                    <a:pt x="1163" y="124"/>
                  </a:lnTo>
                  <a:lnTo>
                    <a:pt x="1144" y="129"/>
                  </a:lnTo>
                  <a:lnTo>
                    <a:pt x="1120" y="134"/>
                  </a:lnTo>
                  <a:lnTo>
                    <a:pt x="1092" y="138"/>
                  </a:lnTo>
                  <a:lnTo>
                    <a:pt x="1034" y="153"/>
                  </a:lnTo>
                  <a:lnTo>
                    <a:pt x="1010" y="158"/>
                  </a:lnTo>
                  <a:lnTo>
                    <a:pt x="981" y="162"/>
                  </a:lnTo>
                  <a:lnTo>
                    <a:pt x="958" y="167"/>
                  </a:lnTo>
                  <a:lnTo>
                    <a:pt x="934" y="172"/>
                  </a:lnTo>
                  <a:lnTo>
                    <a:pt x="914" y="177"/>
                  </a:lnTo>
                  <a:lnTo>
                    <a:pt x="895" y="182"/>
                  </a:lnTo>
                  <a:lnTo>
                    <a:pt x="876" y="186"/>
                  </a:lnTo>
                  <a:lnTo>
                    <a:pt x="857" y="191"/>
                  </a:lnTo>
                  <a:lnTo>
                    <a:pt x="838" y="191"/>
                  </a:lnTo>
                  <a:lnTo>
                    <a:pt x="823" y="196"/>
                  </a:lnTo>
                  <a:lnTo>
                    <a:pt x="809" y="191"/>
                  </a:lnTo>
                  <a:lnTo>
                    <a:pt x="795" y="191"/>
                  </a:lnTo>
                  <a:lnTo>
                    <a:pt x="785" y="186"/>
                  </a:lnTo>
                  <a:lnTo>
                    <a:pt x="771" y="182"/>
                  </a:lnTo>
                  <a:lnTo>
                    <a:pt x="761" y="177"/>
                  </a:lnTo>
                  <a:lnTo>
                    <a:pt x="752" y="172"/>
                  </a:lnTo>
                  <a:lnTo>
                    <a:pt x="742" y="167"/>
                  </a:lnTo>
                  <a:lnTo>
                    <a:pt x="732" y="162"/>
                  </a:lnTo>
                  <a:lnTo>
                    <a:pt x="728" y="158"/>
                  </a:lnTo>
                  <a:lnTo>
                    <a:pt x="723" y="153"/>
                  </a:lnTo>
                  <a:lnTo>
                    <a:pt x="723" y="148"/>
                  </a:lnTo>
                  <a:lnTo>
                    <a:pt x="723" y="138"/>
                  </a:lnTo>
                  <a:lnTo>
                    <a:pt x="728" y="138"/>
                  </a:lnTo>
                  <a:lnTo>
                    <a:pt x="732" y="138"/>
                  </a:lnTo>
                  <a:lnTo>
                    <a:pt x="742" y="138"/>
                  </a:lnTo>
                  <a:lnTo>
                    <a:pt x="756" y="138"/>
                  </a:lnTo>
                  <a:lnTo>
                    <a:pt x="766" y="134"/>
                  </a:lnTo>
                  <a:lnTo>
                    <a:pt x="780" y="134"/>
                  </a:lnTo>
                  <a:lnTo>
                    <a:pt x="799" y="129"/>
                  </a:lnTo>
                  <a:lnTo>
                    <a:pt x="814" y="129"/>
                  </a:lnTo>
                  <a:lnTo>
                    <a:pt x="833" y="124"/>
                  </a:lnTo>
                  <a:lnTo>
                    <a:pt x="857" y="119"/>
                  </a:lnTo>
                  <a:lnTo>
                    <a:pt x="881" y="115"/>
                  </a:lnTo>
                  <a:lnTo>
                    <a:pt x="905" y="110"/>
                  </a:lnTo>
                  <a:lnTo>
                    <a:pt x="929" y="105"/>
                  </a:lnTo>
                  <a:lnTo>
                    <a:pt x="958" y="95"/>
                  </a:lnTo>
                  <a:lnTo>
                    <a:pt x="986" y="91"/>
                  </a:lnTo>
                  <a:lnTo>
                    <a:pt x="1015" y="81"/>
                  </a:lnTo>
                  <a:lnTo>
                    <a:pt x="1044" y="76"/>
                  </a:lnTo>
                  <a:lnTo>
                    <a:pt x="1072" y="71"/>
                  </a:lnTo>
                  <a:lnTo>
                    <a:pt x="1096" y="62"/>
                  </a:lnTo>
                  <a:lnTo>
                    <a:pt x="1125" y="57"/>
                  </a:lnTo>
                  <a:lnTo>
                    <a:pt x="1144" y="52"/>
                  </a:lnTo>
                  <a:lnTo>
                    <a:pt x="1168" y="47"/>
                  </a:lnTo>
                  <a:lnTo>
                    <a:pt x="1187" y="43"/>
                  </a:lnTo>
                  <a:lnTo>
                    <a:pt x="1202" y="38"/>
                  </a:lnTo>
                  <a:lnTo>
                    <a:pt x="1216" y="33"/>
                  </a:lnTo>
                  <a:lnTo>
                    <a:pt x="1231" y="33"/>
                  </a:lnTo>
                  <a:lnTo>
                    <a:pt x="1240" y="28"/>
                  </a:lnTo>
                  <a:lnTo>
                    <a:pt x="1254" y="24"/>
                  </a:lnTo>
                  <a:lnTo>
                    <a:pt x="1259" y="24"/>
                  </a:lnTo>
                  <a:lnTo>
                    <a:pt x="1264" y="19"/>
                  </a:lnTo>
                  <a:lnTo>
                    <a:pt x="1269" y="19"/>
                  </a:lnTo>
                  <a:lnTo>
                    <a:pt x="1274" y="14"/>
                  </a:lnTo>
                  <a:lnTo>
                    <a:pt x="1283" y="9"/>
                  </a:lnTo>
                  <a:lnTo>
                    <a:pt x="1293" y="4"/>
                  </a:lnTo>
                  <a:lnTo>
                    <a:pt x="1302" y="0"/>
                  </a:lnTo>
                  <a:lnTo>
                    <a:pt x="1317" y="0"/>
                  </a:lnTo>
                  <a:lnTo>
                    <a:pt x="1322" y="0"/>
                  </a:lnTo>
                  <a:lnTo>
                    <a:pt x="1326" y="4"/>
                  </a:lnTo>
                  <a:lnTo>
                    <a:pt x="1336" y="4"/>
                  </a:lnTo>
                  <a:lnTo>
                    <a:pt x="1350" y="9"/>
                  </a:lnTo>
                  <a:lnTo>
                    <a:pt x="1365" y="19"/>
                  </a:lnTo>
                  <a:lnTo>
                    <a:pt x="1379" y="28"/>
                  </a:lnTo>
                  <a:lnTo>
                    <a:pt x="1398" y="38"/>
                  </a:lnTo>
                  <a:lnTo>
                    <a:pt x="1422" y="47"/>
                  </a:lnTo>
                  <a:lnTo>
                    <a:pt x="1436" y="62"/>
                  </a:lnTo>
                  <a:lnTo>
                    <a:pt x="1456" y="71"/>
                  </a:lnTo>
                  <a:lnTo>
                    <a:pt x="1465" y="81"/>
                  </a:lnTo>
                  <a:lnTo>
                    <a:pt x="1480" y="91"/>
                  </a:lnTo>
                  <a:lnTo>
                    <a:pt x="1484" y="100"/>
                  </a:lnTo>
                  <a:lnTo>
                    <a:pt x="1494" y="105"/>
                  </a:lnTo>
                  <a:lnTo>
                    <a:pt x="1499" y="110"/>
                  </a:lnTo>
                  <a:lnTo>
                    <a:pt x="1499" y="115"/>
                  </a:lnTo>
                  <a:lnTo>
                    <a:pt x="1494" y="124"/>
                  </a:lnTo>
                  <a:lnTo>
                    <a:pt x="1489" y="134"/>
                  </a:lnTo>
                  <a:lnTo>
                    <a:pt x="1484" y="143"/>
                  </a:lnTo>
                  <a:lnTo>
                    <a:pt x="1470" y="148"/>
                  </a:lnTo>
                  <a:lnTo>
                    <a:pt x="1460" y="153"/>
                  </a:lnTo>
                  <a:lnTo>
                    <a:pt x="1456" y="162"/>
                  </a:lnTo>
                  <a:lnTo>
                    <a:pt x="1451" y="172"/>
                  </a:lnTo>
                  <a:lnTo>
                    <a:pt x="1446" y="186"/>
                  </a:lnTo>
                  <a:lnTo>
                    <a:pt x="1441" y="201"/>
                  </a:lnTo>
                  <a:lnTo>
                    <a:pt x="1436" y="220"/>
                  </a:lnTo>
                  <a:lnTo>
                    <a:pt x="1432" y="239"/>
                  </a:lnTo>
                  <a:lnTo>
                    <a:pt x="1427" y="263"/>
                  </a:lnTo>
                  <a:lnTo>
                    <a:pt x="1422" y="292"/>
                  </a:lnTo>
                  <a:lnTo>
                    <a:pt x="1417" y="320"/>
                  </a:lnTo>
                  <a:lnTo>
                    <a:pt x="1408" y="354"/>
                  </a:lnTo>
                  <a:lnTo>
                    <a:pt x="1398" y="388"/>
                  </a:lnTo>
                  <a:lnTo>
                    <a:pt x="1384" y="431"/>
                  </a:lnTo>
                  <a:lnTo>
                    <a:pt x="1374" y="474"/>
                  </a:lnTo>
                  <a:lnTo>
                    <a:pt x="1360" y="522"/>
                  </a:lnTo>
                  <a:lnTo>
                    <a:pt x="1341" y="570"/>
                  </a:lnTo>
                  <a:lnTo>
                    <a:pt x="1336" y="598"/>
                  </a:lnTo>
                  <a:lnTo>
                    <a:pt x="1326" y="622"/>
                  </a:lnTo>
                  <a:lnTo>
                    <a:pt x="1317" y="646"/>
                  </a:lnTo>
                  <a:lnTo>
                    <a:pt x="1312" y="665"/>
                  </a:lnTo>
                  <a:lnTo>
                    <a:pt x="1302" y="689"/>
                  </a:lnTo>
                  <a:lnTo>
                    <a:pt x="1293" y="708"/>
                  </a:lnTo>
                  <a:lnTo>
                    <a:pt x="1288" y="728"/>
                  </a:lnTo>
                  <a:lnTo>
                    <a:pt x="1278" y="747"/>
                  </a:lnTo>
                  <a:lnTo>
                    <a:pt x="1269" y="761"/>
                  </a:lnTo>
                  <a:lnTo>
                    <a:pt x="1264" y="775"/>
                  </a:lnTo>
                  <a:lnTo>
                    <a:pt x="1254" y="790"/>
                  </a:lnTo>
                  <a:lnTo>
                    <a:pt x="1250" y="799"/>
                  </a:lnTo>
                  <a:lnTo>
                    <a:pt x="1240" y="814"/>
                  </a:lnTo>
                  <a:lnTo>
                    <a:pt x="1235" y="823"/>
                  </a:lnTo>
                  <a:lnTo>
                    <a:pt x="1226" y="828"/>
                  </a:lnTo>
                  <a:lnTo>
                    <a:pt x="1221" y="838"/>
                  </a:lnTo>
                  <a:lnTo>
                    <a:pt x="1207" y="852"/>
                  </a:lnTo>
                  <a:lnTo>
                    <a:pt x="1192" y="862"/>
                  </a:lnTo>
                  <a:lnTo>
                    <a:pt x="1178" y="871"/>
                  </a:lnTo>
                  <a:lnTo>
                    <a:pt x="1168" y="881"/>
                  </a:lnTo>
                  <a:lnTo>
                    <a:pt x="1159" y="886"/>
                  </a:lnTo>
                  <a:lnTo>
                    <a:pt x="1149" y="890"/>
                  </a:lnTo>
                  <a:lnTo>
                    <a:pt x="1144" y="895"/>
                  </a:lnTo>
                  <a:lnTo>
                    <a:pt x="1135" y="895"/>
                  </a:lnTo>
                  <a:lnTo>
                    <a:pt x="1130" y="895"/>
                  </a:lnTo>
                  <a:lnTo>
                    <a:pt x="1125" y="890"/>
                  </a:lnTo>
                  <a:lnTo>
                    <a:pt x="1120" y="886"/>
                  </a:lnTo>
                  <a:lnTo>
                    <a:pt x="1116" y="881"/>
                  </a:lnTo>
                  <a:lnTo>
                    <a:pt x="1111" y="876"/>
                  </a:lnTo>
                  <a:lnTo>
                    <a:pt x="1106" y="866"/>
                  </a:lnTo>
                  <a:lnTo>
                    <a:pt x="1106" y="857"/>
                  </a:lnTo>
                  <a:lnTo>
                    <a:pt x="1101" y="847"/>
                  </a:lnTo>
                  <a:lnTo>
                    <a:pt x="1096" y="833"/>
                  </a:lnTo>
                  <a:lnTo>
                    <a:pt x="1092" y="819"/>
                  </a:lnTo>
                  <a:lnTo>
                    <a:pt x="1087" y="804"/>
                  </a:lnTo>
                  <a:lnTo>
                    <a:pt x="1077" y="790"/>
                  </a:lnTo>
                  <a:lnTo>
                    <a:pt x="1068" y="775"/>
                  </a:lnTo>
                  <a:lnTo>
                    <a:pt x="1058" y="756"/>
                  </a:lnTo>
                  <a:lnTo>
                    <a:pt x="1049" y="737"/>
                  </a:lnTo>
                  <a:lnTo>
                    <a:pt x="1029" y="723"/>
                  </a:lnTo>
                  <a:lnTo>
                    <a:pt x="1015" y="704"/>
                  </a:lnTo>
                  <a:lnTo>
                    <a:pt x="1005" y="694"/>
                  </a:lnTo>
                  <a:lnTo>
                    <a:pt x="996" y="680"/>
                  </a:lnTo>
                  <a:lnTo>
                    <a:pt x="991" y="670"/>
                  </a:lnTo>
                  <a:lnTo>
                    <a:pt x="986" y="661"/>
                  </a:lnTo>
                  <a:lnTo>
                    <a:pt x="986" y="656"/>
                  </a:lnTo>
                  <a:lnTo>
                    <a:pt x="986" y="651"/>
                  </a:lnTo>
                  <a:lnTo>
                    <a:pt x="986" y="646"/>
                  </a:lnTo>
                  <a:lnTo>
                    <a:pt x="991" y="646"/>
                  </a:lnTo>
                  <a:lnTo>
                    <a:pt x="996" y="646"/>
                  </a:lnTo>
                  <a:lnTo>
                    <a:pt x="1001" y="651"/>
                  </a:lnTo>
                  <a:lnTo>
                    <a:pt x="1010" y="651"/>
                  </a:lnTo>
                  <a:lnTo>
                    <a:pt x="1020" y="656"/>
                  </a:lnTo>
                  <a:lnTo>
                    <a:pt x="1029" y="665"/>
                  </a:lnTo>
                  <a:lnTo>
                    <a:pt x="1044" y="670"/>
                  </a:lnTo>
                  <a:lnTo>
                    <a:pt x="1058" y="680"/>
                  </a:lnTo>
                  <a:lnTo>
                    <a:pt x="1068" y="689"/>
                  </a:lnTo>
                  <a:lnTo>
                    <a:pt x="1082" y="694"/>
                  </a:lnTo>
                  <a:lnTo>
                    <a:pt x="1092" y="699"/>
                  </a:lnTo>
                  <a:lnTo>
                    <a:pt x="1101" y="704"/>
                  </a:lnTo>
                  <a:lnTo>
                    <a:pt x="1111" y="708"/>
                  </a:lnTo>
                  <a:lnTo>
                    <a:pt x="1120" y="708"/>
                  </a:lnTo>
                  <a:lnTo>
                    <a:pt x="1130" y="708"/>
                  </a:lnTo>
                  <a:lnTo>
                    <a:pt x="1135" y="704"/>
                  </a:lnTo>
                  <a:close/>
                  <a:moveTo>
                    <a:pt x="1551" y="421"/>
                  </a:moveTo>
                  <a:lnTo>
                    <a:pt x="1571" y="431"/>
                  </a:lnTo>
                  <a:lnTo>
                    <a:pt x="1590" y="435"/>
                  </a:lnTo>
                  <a:lnTo>
                    <a:pt x="1604" y="440"/>
                  </a:lnTo>
                  <a:lnTo>
                    <a:pt x="1618" y="445"/>
                  </a:lnTo>
                  <a:lnTo>
                    <a:pt x="1633" y="455"/>
                  </a:lnTo>
                  <a:lnTo>
                    <a:pt x="1642" y="459"/>
                  </a:lnTo>
                  <a:lnTo>
                    <a:pt x="1647" y="464"/>
                  </a:lnTo>
                  <a:lnTo>
                    <a:pt x="1652" y="474"/>
                  </a:lnTo>
                  <a:lnTo>
                    <a:pt x="1657" y="488"/>
                  </a:lnTo>
                  <a:lnTo>
                    <a:pt x="1662" y="502"/>
                  </a:lnTo>
                  <a:lnTo>
                    <a:pt x="1662" y="522"/>
                  </a:lnTo>
                  <a:lnTo>
                    <a:pt x="1662" y="536"/>
                  </a:lnTo>
                  <a:lnTo>
                    <a:pt x="1662" y="546"/>
                  </a:lnTo>
                  <a:lnTo>
                    <a:pt x="1657" y="555"/>
                  </a:lnTo>
                  <a:lnTo>
                    <a:pt x="1657" y="560"/>
                  </a:lnTo>
                  <a:lnTo>
                    <a:pt x="1652" y="570"/>
                  </a:lnTo>
                  <a:lnTo>
                    <a:pt x="1642" y="574"/>
                  </a:lnTo>
                  <a:lnTo>
                    <a:pt x="1638" y="574"/>
                  </a:lnTo>
                  <a:lnTo>
                    <a:pt x="1628" y="579"/>
                  </a:lnTo>
                  <a:lnTo>
                    <a:pt x="1618" y="579"/>
                  </a:lnTo>
                  <a:lnTo>
                    <a:pt x="1614" y="579"/>
                  </a:lnTo>
                  <a:lnTo>
                    <a:pt x="1604" y="579"/>
                  </a:lnTo>
                  <a:lnTo>
                    <a:pt x="1595" y="574"/>
                  </a:lnTo>
                  <a:lnTo>
                    <a:pt x="1585" y="570"/>
                  </a:lnTo>
                  <a:lnTo>
                    <a:pt x="1575" y="565"/>
                  </a:lnTo>
                  <a:lnTo>
                    <a:pt x="1561" y="560"/>
                  </a:lnTo>
                  <a:lnTo>
                    <a:pt x="1547" y="550"/>
                  </a:lnTo>
                  <a:lnTo>
                    <a:pt x="1527" y="541"/>
                  </a:lnTo>
                  <a:lnTo>
                    <a:pt x="1508" y="531"/>
                  </a:lnTo>
                  <a:lnTo>
                    <a:pt x="1489" y="522"/>
                  </a:lnTo>
                  <a:lnTo>
                    <a:pt x="1470" y="507"/>
                  </a:lnTo>
                  <a:lnTo>
                    <a:pt x="1446" y="498"/>
                  </a:lnTo>
                  <a:lnTo>
                    <a:pt x="1422" y="483"/>
                  </a:lnTo>
                  <a:lnTo>
                    <a:pt x="1398" y="464"/>
                  </a:lnTo>
                  <a:lnTo>
                    <a:pt x="1369" y="450"/>
                  </a:lnTo>
                  <a:lnTo>
                    <a:pt x="1341" y="431"/>
                  </a:lnTo>
                  <a:lnTo>
                    <a:pt x="1360" y="421"/>
                  </a:lnTo>
                  <a:lnTo>
                    <a:pt x="1379" y="411"/>
                  </a:lnTo>
                  <a:lnTo>
                    <a:pt x="1403" y="402"/>
                  </a:lnTo>
                  <a:lnTo>
                    <a:pt x="1422" y="397"/>
                  </a:lnTo>
                  <a:lnTo>
                    <a:pt x="1432" y="397"/>
                  </a:lnTo>
                  <a:lnTo>
                    <a:pt x="1441" y="397"/>
                  </a:lnTo>
                  <a:lnTo>
                    <a:pt x="1456" y="402"/>
                  </a:lnTo>
                  <a:lnTo>
                    <a:pt x="1470" y="402"/>
                  </a:lnTo>
                  <a:lnTo>
                    <a:pt x="1489" y="407"/>
                  </a:lnTo>
                  <a:lnTo>
                    <a:pt x="1508" y="411"/>
                  </a:lnTo>
                  <a:lnTo>
                    <a:pt x="1527" y="416"/>
                  </a:lnTo>
                  <a:lnTo>
                    <a:pt x="1551" y="421"/>
                  </a:lnTo>
                  <a:close/>
                  <a:moveTo>
                    <a:pt x="1542" y="953"/>
                  </a:moveTo>
                  <a:lnTo>
                    <a:pt x="1575" y="953"/>
                  </a:lnTo>
                  <a:lnTo>
                    <a:pt x="1604" y="962"/>
                  </a:lnTo>
                  <a:lnTo>
                    <a:pt x="1623" y="962"/>
                  </a:lnTo>
                  <a:lnTo>
                    <a:pt x="1638" y="972"/>
                  </a:lnTo>
                  <a:lnTo>
                    <a:pt x="1652" y="977"/>
                  </a:lnTo>
                  <a:lnTo>
                    <a:pt x="1671" y="986"/>
                  </a:lnTo>
                  <a:lnTo>
                    <a:pt x="1686" y="996"/>
                  </a:lnTo>
                  <a:lnTo>
                    <a:pt x="1700" y="1005"/>
                  </a:lnTo>
                  <a:lnTo>
                    <a:pt x="1709" y="1010"/>
                  </a:lnTo>
                  <a:lnTo>
                    <a:pt x="1724" y="1015"/>
                  </a:lnTo>
                  <a:lnTo>
                    <a:pt x="1729" y="1025"/>
                  </a:lnTo>
                  <a:lnTo>
                    <a:pt x="1738" y="1029"/>
                  </a:lnTo>
                  <a:lnTo>
                    <a:pt x="1743" y="1034"/>
                  </a:lnTo>
                  <a:lnTo>
                    <a:pt x="1748" y="1034"/>
                  </a:lnTo>
                  <a:lnTo>
                    <a:pt x="1753" y="1049"/>
                  </a:lnTo>
                  <a:lnTo>
                    <a:pt x="1753" y="1053"/>
                  </a:lnTo>
                  <a:lnTo>
                    <a:pt x="1753" y="1063"/>
                  </a:lnTo>
                  <a:lnTo>
                    <a:pt x="1748" y="1068"/>
                  </a:lnTo>
                  <a:lnTo>
                    <a:pt x="1743" y="1072"/>
                  </a:lnTo>
                  <a:lnTo>
                    <a:pt x="1733" y="1072"/>
                  </a:lnTo>
                  <a:lnTo>
                    <a:pt x="1729" y="1077"/>
                  </a:lnTo>
                  <a:lnTo>
                    <a:pt x="1719" y="1077"/>
                  </a:lnTo>
                  <a:lnTo>
                    <a:pt x="1705" y="1077"/>
                  </a:lnTo>
                  <a:lnTo>
                    <a:pt x="1690" y="1077"/>
                  </a:lnTo>
                  <a:lnTo>
                    <a:pt x="1676" y="1077"/>
                  </a:lnTo>
                  <a:lnTo>
                    <a:pt x="1662" y="1082"/>
                  </a:lnTo>
                  <a:lnTo>
                    <a:pt x="1642" y="1082"/>
                  </a:lnTo>
                  <a:lnTo>
                    <a:pt x="1618" y="1082"/>
                  </a:lnTo>
                  <a:lnTo>
                    <a:pt x="1599" y="1082"/>
                  </a:lnTo>
                  <a:lnTo>
                    <a:pt x="1575" y="1082"/>
                  </a:lnTo>
                  <a:lnTo>
                    <a:pt x="1547" y="1077"/>
                  </a:lnTo>
                  <a:lnTo>
                    <a:pt x="1518" y="1077"/>
                  </a:lnTo>
                  <a:lnTo>
                    <a:pt x="1489" y="1077"/>
                  </a:lnTo>
                  <a:lnTo>
                    <a:pt x="1427" y="1072"/>
                  </a:lnTo>
                  <a:lnTo>
                    <a:pt x="1365" y="1072"/>
                  </a:lnTo>
                  <a:lnTo>
                    <a:pt x="1245" y="1077"/>
                  </a:lnTo>
                  <a:lnTo>
                    <a:pt x="1125" y="1077"/>
                  </a:lnTo>
                  <a:lnTo>
                    <a:pt x="1005" y="1087"/>
                  </a:lnTo>
                  <a:lnTo>
                    <a:pt x="948" y="1092"/>
                  </a:lnTo>
                  <a:lnTo>
                    <a:pt x="895" y="1096"/>
                  </a:lnTo>
                  <a:lnTo>
                    <a:pt x="843" y="1106"/>
                  </a:lnTo>
                  <a:lnTo>
                    <a:pt x="790" y="1111"/>
                  </a:lnTo>
                  <a:lnTo>
                    <a:pt x="742" y="1116"/>
                  </a:lnTo>
                  <a:lnTo>
                    <a:pt x="694" y="1120"/>
                  </a:lnTo>
                  <a:lnTo>
                    <a:pt x="651" y="1125"/>
                  </a:lnTo>
                  <a:lnTo>
                    <a:pt x="608" y="1125"/>
                  </a:lnTo>
                  <a:lnTo>
                    <a:pt x="526" y="1140"/>
                  </a:lnTo>
                  <a:lnTo>
                    <a:pt x="440" y="1149"/>
                  </a:lnTo>
                  <a:lnTo>
                    <a:pt x="354" y="1159"/>
                  </a:lnTo>
                  <a:lnTo>
                    <a:pt x="273" y="1168"/>
                  </a:lnTo>
                  <a:lnTo>
                    <a:pt x="253" y="1173"/>
                  </a:lnTo>
                  <a:lnTo>
                    <a:pt x="234" y="1173"/>
                  </a:lnTo>
                  <a:lnTo>
                    <a:pt x="215" y="1178"/>
                  </a:lnTo>
                  <a:lnTo>
                    <a:pt x="196" y="1178"/>
                  </a:lnTo>
                  <a:lnTo>
                    <a:pt x="182" y="1183"/>
                  </a:lnTo>
                  <a:lnTo>
                    <a:pt x="167" y="1183"/>
                  </a:lnTo>
                  <a:lnTo>
                    <a:pt x="153" y="1187"/>
                  </a:lnTo>
                  <a:lnTo>
                    <a:pt x="143" y="1187"/>
                  </a:lnTo>
                  <a:lnTo>
                    <a:pt x="134" y="1187"/>
                  </a:lnTo>
                  <a:lnTo>
                    <a:pt x="124" y="1192"/>
                  </a:lnTo>
                  <a:lnTo>
                    <a:pt x="115" y="1192"/>
                  </a:lnTo>
                  <a:lnTo>
                    <a:pt x="105" y="1192"/>
                  </a:lnTo>
                  <a:lnTo>
                    <a:pt x="100" y="1192"/>
                  </a:lnTo>
                  <a:lnTo>
                    <a:pt x="95" y="1192"/>
                  </a:lnTo>
                  <a:lnTo>
                    <a:pt x="91" y="1192"/>
                  </a:lnTo>
                  <a:lnTo>
                    <a:pt x="86" y="1192"/>
                  </a:lnTo>
                  <a:lnTo>
                    <a:pt x="81" y="1192"/>
                  </a:lnTo>
                  <a:lnTo>
                    <a:pt x="76" y="1187"/>
                  </a:lnTo>
                  <a:lnTo>
                    <a:pt x="67" y="1187"/>
                  </a:lnTo>
                  <a:lnTo>
                    <a:pt x="57" y="1183"/>
                  </a:lnTo>
                  <a:lnTo>
                    <a:pt x="47" y="1178"/>
                  </a:lnTo>
                  <a:lnTo>
                    <a:pt x="38" y="1168"/>
                  </a:lnTo>
                  <a:lnTo>
                    <a:pt x="28" y="1159"/>
                  </a:lnTo>
                  <a:lnTo>
                    <a:pt x="24" y="1149"/>
                  </a:lnTo>
                  <a:lnTo>
                    <a:pt x="14" y="1144"/>
                  </a:lnTo>
                  <a:lnTo>
                    <a:pt x="9" y="1135"/>
                  </a:lnTo>
                  <a:lnTo>
                    <a:pt x="4" y="1130"/>
                  </a:lnTo>
                  <a:lnTo>
                    <a:pt x="4" y="1125"/>
                  </a:lnTo>
                  <a:lnTo>
                    <a:pt x="0" y="1120"/>
                  </a:lnTo>
                  <a:lnTo>
                    <a:pt x="4" y="1116"/>
                  </a:lnTo>
                  <a:lnTo>
                    <a:pt x="4" y="1111"/>
                  </a:lnTo>
                  <a:lnTo>
                    <a:pt x="9" y="1106"/>
                  </a:lnTo>
                  <a:lnTo>
                    <a:pt x="19" y="1106"/>
                  </a:lnTo>
                  <a:lnTo>
                    <a:pt x="28" y="1106"/>
                  </a:lnTo>
                  <a:lnTo>
                    <a:pt x="43" y="1101"/>
                  </a:lnTo>
                  <a:lnTo>
                    <a:pt x="62" y="1101"/>
                  </a:lnTo>
                  <a:lnTo>
                    <a:pt x="86" y="1101"/>
                  </a:lnTo>
                  <a:lnTo>
                    <a:pt x="115" y="1096"/>
                  </a:lnTo>
                  <a:lnTo>
                    <a:pt x="143" y="1092"/>
                  </a:lnTo>
                  <a:lnTo>
                    <a:pt x="177" y="1092"/>
                  </a:lnTo>
                  <a:lnTo>
                    <a:pt x="215" y="1087"/>
                  </a:lnTo>
                  <a:lnTo>
                    <a:pt x="258" y="1082"/>
                  </a:lnTo>
                  <a:lnTo>
                    <a:pt x="306" y="1082"/>
                  </a:lnTo>
                  <a:lnTo>
                    <a:pt x="354" y="1077"/>
                  </a:lnTo>
                  <a:lnTo>
                    <a:pt x="411" y="1072"/>
                  </a:lnTo>
                  <a:lnTo>
                    <a:pt x="469" y="1068"/>
                  </a:lnTo>
                  <a:lnTo>
                    <a:pt x="531" y="1063"/>
                  </a:lnTo>
                  <a:lnTo>
                    <a:pt x="651" y="1049"/>
                  </a:lnTo>
                  <a:lnTo>
                    <a:pt x="713" y="1044"/>
                  </a:lnTo>
                  <a:lnTo>
                    <a:pt x="771" y="1034"/>
                  </a:lnTo>
                  <a:lnTo>
                    <a:pt x="828" y="1029"/>
                  </a:lnTo>
                  <a:lnTo>
                    <a:pt x="881" y="1025"/>
                  </a:lnTo>
                  <a:lnTo>
                    <a:pt x="938" y="1015"/>
                  </a:lnTo>
                  <a:lnTo>
                    <a:pt x="986" y="1010"/>
                  </a:lnTo>
                  <a:lnTo>
                    <a:pt x="1039" y="1005"/>
                  </a:lnTo>
                  <a:lnTo>
                    <a:pt x="1087" y="1005"/>
                  </a:lnTo>
                  <a:lnTo>
                    <a:pt x="1135" y="1001"/>
                  </a:lnTo>
                  <a:lnTo>
                    <a:pt x="1183" y="991"/>
                  </a:lnTo>
                  <a:lnTo>
                    <a:pt x="1226" y="986"/>
                  </a:lnTo>
                  <a:lnTo>
                    <a:pt x="1264" y="981"/>
                  </a:lnTo>
                  <a:lnTo>
                    <a:pt x="1307" y="977"/>
                  </a:lnTo>
                  <a:lnTo>
                    <a:pt x="1341" y="967"/>
                  </a:lnTo>
                  <a:lnTo>
                    <a:pt x="1379" y="967"/>
                  </a:lnTo>
                  <a:lnTo>
                    <a:pt x="1408" y="962"/>
                  </a:lnTo>
                  <a:lnTo>
                    <a:pt x="1436" y="962"/>
                  </a:lnTo>
                  <a:lnTo>
                    <a:pt x="1465" y="958"/>
                  </a:lnTo>
                  <a:lnTo>
                    <a:pt x="1489" y="958"/>
                  </a:lnTo>
                  <a:lnTo>
                    <a:pt x="1508" y="953"/>
                  </a:lnTo>
                  <a:lnTo>
                    <a:pt x="1527" y="953"/>
                  </a:lnTo>
                  <a:lnTo>
                    <a:pt x="1542" y="953"/>
                  </a:lnTo>
                  <a:close/>
                  <a:moveTo>
                    <a:pt x="790" y="962"/>
                  </a:moveTo>
                  <a:lnTo>
                    <a:pt x="780" y="943"/>
                  </a:lnTo>
                  <a:lnTo>
                    <a:pt x="771" y="929"/>
                  </a:lnTo>
                  <a:lnTo>
                    <a:pt x="771" y="924"/>
                  </a:lnTo>
                  <a:lnTo>
                    <a:pt x="771" y="914"/>
                  </a:lnTo>
                  <a:lnTo>
                    <a:pt x="771" y="910"/>
                  </a:lnTo>
                  <a:lnTo>
                    <a:pt x="771" y="905"/>
                  </a:lnTo>
                  <a:lnTo>
                    <a:pt x="775" y="895"/>
                  </a:lnTo>
                  <a:lnTo>
                    <a:pt x="780" y="890"/>
                  </a:lnTo>
                  <a:lnTo>
                    <a:pt x="785" y="890"/>
                  </a:lnTo>
                  <a:lnTo>
                    <a:pt x="790" y="886"/>
                  </a:lnTo>
                  <a:lnTo>
                    <a:pt x="799" y="886"/>
                  </a:lnTo>
                  <a:lnTo>
                    <a:pt x="809" y="886"/>
                  </a:lnTo>
                  <a:lnTo>
                    <a:pt x="828" y="886"/>
                  </a:lnTo>
                  <a:lnTo>
                    <a:pt x="847" y="890"/>
                  </a:lnTo>
                  <a:lnTo>
                    <a:pt x="871" y="895"/>
                  </a:lnTo>
                  <a:lnTo>
                    <a:pt x="895" y="905"/>
                  </a:lnTo>
                  <a:lnTo>
                    <a:pt x="910" y="919"/>
                  </a:lnTo>
                  <a:lnTo>
                    <a:pt x="919" y="924"/>
                  </a:lnTo>
                  <a:lnTo>
                    <a:pt x="924" y="934"/>
                  </a:lnTo>
                  <a:lnTo>
                    <a:pt x="929" y="943"/>
                  </a:lnTo>
                  <a:lnTo>
                    <a:pt x="929" y="953"/>
                  </a:lnTo>
                  <a:lnTo>
                    <a:pt x="929" y="962"/>
                  </a:lnTo>
                  <a:lnTo>
                    <a:pt x="929" y="967"/>
                  </a:lnTo>
                  <a:lnTo>
                    <a:pt x="929" y="977"/>
                  </a:lnTo>
                  <a:lnTo>
                    <a:pt x="924" y="986"/>
                  </a:lnTo>
                  <a:lnTo>
                    <a:pt x="924" y="1001"/>
                  </a:lnTo>
                  <a:lnTo>
                    <a:pt x="924" y="1015"/>
                  </a:lnTo>
                  <a:lnTo>
                    <a:pt x="919" y="1034"/>
                  </a:lnTo>
                  <a:lnTo>
                    <a:pt x="919" y="1058"/>
                  </a:lnTo>
                  <a:lnTo>
                    <a:pt x="919" y="1077"/>
                  </a:lnTo>
                  <a:lnTo>
                    <a:pt x="914" y="1106"/>
                  </a:lnTo>
                  <a:lnTo>
                    <a:pt x="914" y="1135"/>
                  </a:lnTo>
                  <a:lnTo>
                    <a:pt x="914" y="1168"/>
                  </a:lnTo>
                  <a:lnTo>
                    <a:pt x="914" y="1202"/>
                  </a:lnTo>
                  <a:lnTo>
                    <a:pt x="914" y="1240"/>
                  </a:lnTo>
                  <a:lnTo>
                    <a:pt x="910" y="1278"/>
                  </a:lnTo>
                  <a:lnTo>
                    <a:pt x="910" y="1322"/>
                  </a:lnTo>
                  <a:lnTo>
                    <a:pt x="910" y="1369"/>
                  </a:lnTo>
                  <a:lnTo>
                    <a:pt x="910" y="1417"/>
                  </a:lnTo>
                  <a:lnTo>
                    <a:pt x="910" y="1465"/>
                  </a:lnTo>
                  <a:lnTo>
                    <a:pt x="910" y="1513"/>
                  </a:lnTo>
                  <a:lnTo>
                    <a:pt x="910" y="1556"/>
                  </a:lnTo>
                  <a:lnTo>
                    <a:pt x="910" y="1595"/>
                  </a:lnTo>
                  <a:lnTo>
                    <a:pt x="910" y="1633"/>
                  </a:lnTo>
                  <a:lnTo>
                    <a:pt x="910" y="1666"/>
                  </a:lnTo>
                  <a:lnTo>
                    <a:pt x="905" y="1700"/>
                  </a:lnTo>
                  <a:lnTo>
                    <a:pt x="905" y="1729"/>
                  </a:lnTo>
                  <a:lnTo>
                    <a:pt x="905" y="1753"/>
                  </a:lnTo>
                  <a:lnTo>
                    <a:pt x="905" y="1777"/>
                  </a:lnTo>
                  <a:lnTo>
                    <a:pt x="900" y="1800"/>
                  </a:lnTo>
                  <a:lnTo>
                    <a:pt x="900" y="1820"/>
                  </a:lnTo>
                  <a:lnTo>
                    <a:pt x="900" y="1834"/>
                  </a:lnTo>
                  <a:lnTo>
                    <a:pt x="895" y="1848"/>
                  </a:lnTo>
                  <a:lnTo>
                    <a:pt x="895" y="1858"/>
                  </a:lnTo>
                  <a:lnTo>
                    <a:pt x="895" y="1863"/>
                  </a:lnTo>
                  <a:lnTo>
                    <a:pt x="881" y="1882"/>
                  </a:lnTo>
                  <a:lnTo>
                    <a:pt x="871" y="1896"/>
                  </a:lnTo>
                  <a:lnTo>
                    <a:pt x="862" y="1901"/>
                  </a:lnTo>
                  <a:lnTo>
                    <a:pt x="857" y="1906"/>
                  </a:lnTo>
                  <a:lnTo>
                    <a:pt x="852" y="1906"/>
                  </a:lnTo>
                  <a:lnTo>
                    <a:pt x="847" y="1906"/>
                  </a:lnTo>
                  <a:lnTo>
                    <a:pt x="843" y="1901"/>
                  </a:lnTo>
                  <a:lnTo>
                    <a:pt x="838" y="1896"/>
                  </a:lnTo>
                  <a:lnTo>
                    <a:pt x="833" y="1887"/>
                  </a:lnTo>
                  <a:lnTo>
                    <a:pt x="828" y="1877"/>
                  </a:lnTo>
                  <a:lnTo>
                    <a:pt x="819" y="1863"/>
                  </a:lnTo>
                  <a:lnTo>
                    <a:pt x="814" y="1844"/>
                  </a:lnTo>
                  <a:lnTo>
                    <a:pt x="809" y="1824"/>
                  </a:lnTo>
                  <a:lnTo>
                    <a:pt x="799" y="1800"/>
                  </a:lnTo>
                  <a:lnTo>
                    <a:pt x="795" y="1781"/>
                  </a:lnTo>
                  <a:lnTo>
                    <a:pt x="790" y="1762"/>
                  </a:lnTo>
                  <a:lnTo>
                    <a:pt x="785" y="1743"/>
                  </a:lnTo>
                  <a:lnTo>
                    <a:pt x="785" y="1724"/>
                  </a:lnTo>
                  <a:lnTo>
                    <a:pt x="785" y="1705"/>
                  </a:lnTo>
                  <a:lnTo>
                    <a:pt x="785" y="1686"/>
                  </a:lnTo>
                  <a:lnTo>
                    <a:pt x="790" y="1666"/>
                  </a:lnTo>
                  <a:lnTo>
                    <a:pt x="795" y="1647"/>
                  </a:lnTo>
                  <a:lnTo>
                    <a:pt x="799" y="1628"/>
                  </a:lnTo>
                  <a:lnTo>
                    <a:pt x="804" y="1609"/>
                  </a:lnTo>
                  <a:lnTo>
                    <a:pt x="809" y="1585"/>
                  </a:lnTo>
                  <a:lnTo>
                    <a:pt x="814" y="1556"/>
                  </a:lnTo>
                  <a:lnTo>
                    <a:pt x="819" y="1523"/>
                  </a:lnTo>
                  <a:lnTo>
                    <a:pt x="819" y="1489"/>
                  </a:lnTo>
                  <a:lnTo>
                    <a:pt x="823" y="1451"/>
                  </a:lnTo>
                  <a:lnTo>
                    <a:pt x="828" y="1374"/>
                  </a:lnTo>
                  <a:lnTo>
                    <a:pt x="833" y="1302"/>
                  </a:lnTo>
                  <a:lnTo>
                    <a:pt x="833" y="1221"/>
                  </a:lnTo>
                  <a:lnTo>
                    <a:pt x="833" y="1144"/>
                  </a:lnTo>
                  <a:lnTo>
                    <a:pt x="828" y="1106"/>
                  </a:lnTo>
                  <a:lnTo>
                    <a:pt x="828" y="1077"/>
                  </a:lnTo>
                  <a:lnTo>
                    <a:pt x="823" y="1049"/>
                  </a:lnTo>
                  <a:lnTo>
                    <a:pt x="819" y="1025"/>
                  </a:lnTo>
                  <a:lnTo>
                    <a:pt x="814" y="1005"/>
                  </a:lnTo>
                  <a:lnTo>
                    <a:pt x="804" y="986"/>
                  </a:lnTo>
                  <a:lnTo>
                    <a:pt x="799" y="972"/>
                  </a:lnTo>
                  <a:lnTo>
                    <a:pt x="790" y="962"/>
                  </a:lnTo>
                  <a:close/>
                  <a:moveTo>
                    <a:pt x="421" y="1556"/>
                  </a:moveTo>
                  <a:lnTo>
                    <a:pt x="359" y="1595"/>
                  </a:lnTo>
                  <a:lnTo>
                    <a:pt x="297" y="1628"/>
                  </a:lnTo>
                  <a:lnTo>
                    <a:pt x="239" y="1662"/>
                  </a:lnTo>
                  <a:lnTo>
                    <a:pt x="177" y="1700"/>
                  </a:lnTo>
                  <a:lnTo>
                    <a:pt x="148" y="1714"/>
                  </a:lnTo>
                  <a:lnTo>
                    <a:pt x="124" y="1724"/>
                  </a:lnTo>
                  <a:lnTo>
                    <a:pt x="105" y="1733"/>
                  </a:lnTo>
                  <a:lnTo>
                    <a:pt x="86" y="1738"/>
                  </a:lnTo>
                  <a:lnTo>
                    <a:pt x="71" y="1743"/>
                  </a:lnTo>
                  <a:lnTo>
                    <a:pt x="62" y="1743"/>
                  </a:lnTo>
                  <a:lnTo>
                    <a:pt x="52" y="1743"/>
                  </a:lnTo>
                  <a:lnTo>
                    <a:pt x="47" y="1743"/>
                  </a:lnTo>
                  <a:lnTo>
                    <a:pt x="47" y="1738"/>
                  </a:lnTo>
                  <a:lnTo>
                    <a:pt x="47" y="1729"/>
                  </a:lnTo>
                  <a:lnTo>
                    <a:pt x="52" y="1724"/>
                  </a:lnTo>
                  <a:lnTo>
                    <a:pt x="62" y="1714"/>
                  </a:lnTo>
                  <a:lnTo>
                    <a:pt x="76" y="1700"/>
                  </a:lnTo>
                  <a:lnTo>
                    <a:pt x="95" y="1686"/>
                  </a:lnTo>
                  <a:lnTo>
                    <a:pt x="115" y="1671"/>
                  </a:lnTo>
                  <a:lnTo>
                    <a:pt x="143" y="1657"/>
                  </a:lnTo>
                  <a:lnTo>
                    <a:pt x="196" y="1623"/>
                  </a:lnTo>
                  <a:lnTo>
                    <a:pt x="244" y="1590"/>
                  </a:lnTo>
                  <a:lnTo>
                    <a:pt x="297" y="1551"/>
                  </a:lnTo>
                  <a:lnTo>
                    <a:pt x="340" y="1508"/>
                  </a:lnTo>
                  <a:lnTo>
                    <a:pt x="354" y="1499"/>
                  </a:lnTo>
                  <a:lnTo>
                    <a:pt x="368" y="1484"/>
                  </a:lnTo>
                  <a:lnTo>
                    <a:pt x="383" y="1470"/>
                  </a:lnTo>
                  <a:lnTo>
                    <a:pt x="402" y="1456"/>
                  </a:lnTo>
                  <a:lnTo>
                    <a:pt x="421" y="1436"/>
                  </a:lnTo>
                  <a:lnTo>
                    <a:pt x="440" y="1413"/>
                  </a:lnTo>
                  <a:lnTo>
                    <a:pt x="459" y="1393"/>
                  </a:lnTo>
                  <a:lnTo>
                    <a:pt x="483" y="1365"/>
                  </a:lnTo>
                  <a:lnTo>
                    <a:pt x="512" y="1341"/>
                  </a:lnTo>
                  <a:lnTo>
                    <a:pt x="541" y="1307"/>
                  </a:lnTo>
                  <a:lnTo>
                    <a:pt x="570" y="1278"/>
                  </a:lnTo>
                  <a:lnTo>
                    <a:pt x="598" y="1245"/>
                  </a:lnTo>
                  <a:lnTo>
                    <a:pt x="632" y="1207"/>
                  </a:lnTo>
                  <a:lnTo>
                    <a:pt x="665" y="1168"/>
                  </a:lnTo>
                  <a:lnTo>
                    <a:pt x="699" y="1130"/>
                  </a:lnTo>
                  <a:lnTo>
                    <a:pt x="737" y="1087"/>
                  </a:lnTo>
                  <a:lnTo>
                    <a:pt x="804" y="1101"/>
                  </a:lnTo>
                  <a:lnTo>
                    <a:pt x="866" y="1120"/>
                  </a:lnTo>
                  <a:lnTo>
                    <a:pt x="828" y="1163"/>
                  </a:lnTo>
                  <a:lnTo>
                    <a:pt x="790" y="1207"/>
                  </a:lnTo>
                  <a:lnTo>
                    <a:pt x="752" y="1245"/>
                  </a:lnTo>
                  <a:lnTo>
                    <a:pt x="718" y="1283"/>
                  </a:lnTo>
                  <a:lnTo>
                    <a:pt x="684" y="1317"/>
                  </a:lnTo>
                  <a:lnTo>
                    <a:pt x="651" y="1350"/>
                  </a:lnTo>
                  <a:lnTo>
                    <a:pt x="622" y="1379"/>
                  </a:lnTo>
                  <a:lnTo>
                    <a:pt x="593" y="1408"/>
                  </a:lnTo>
                  <a:lnTo>
                    <a:pt x="565" y="1432"/>
                  </a:lnTo>
                  <a:lnTo>
                    <a:pt x="541" y="1456"/>
                  </a:lnTo>
                  <a:lnTo>
                    <a:pt x="512" y="1480"/>
                  </a:lnTo>
                  <a:lnTo>
                    <a:pt x="493" y="1499"/>
                  </a:lnTo>
                  <a:lnTo>
                    <a:pt x="469" y="1518"/>
                  </a:lnTo>
                  <a:lnTo>
                    <a:pt x="450" y="1532"/>
                  </a:lnTo>
                  <a:lnTo>
                    <a:pt x="435" y="1547"/>
                  </a:lnTo>
                  <a:lnTo>
                    <a:pt x="421" y="1556"/>
                  </a:lnTo>
                  <a:close/>
                  <a:moveTo>
                    <a:pt x="876" y="1077"/>
                  </a:moveTo>
                  <a:lnTo>
                    <a:pt x="905" y="1106"/>
                  </a:lnTo>
                  <a:lnTo>
                    <a:pt x="938" y="1135"/>
                  </a:lnTo>
                  <a:lnTo>
                    <a:pt x="977" y="1163"/>
                  </a:lnTo>
                  <a:lnTo>
                    <a:pt x="1010" y="1192"/>
                  </a:lnTo>
                  <a:lnTo>
                    <a:pt x="1053" y="1221"/>
                  </a:lnTo>
                  <a:lnTo>
                    <a:pt x="1096" y="1250"/>
                  </a:lnTo>
                  <a:lnTo>
                    <a:pt x="1140" y="1278"/>
                  </a:lnTo>
                  <a:lnTo>
                    <a:pt x="1187" y="1307"/>
                  </a:lnTo>
                  <a:lnTo>
                    <a:pt x="1235" y="1345"/>
                  </a:lnTo>
                  <a:lnTo>
                    <a:pt x="1283" y="1374"/>
                  </a:lnTo>
                  <a:lnTo>
                    <a:pt x="1336" y="1403"/>
                  </a:lnTo>
                  <a:lnTo>
                    <a:pt x="1389" y="1432"/>
                  </a:lnTo>
                  <a:lnTo>
                    <a:pt x="1446" y="1460"/>
                  </a:lnTo>
                  <a:lnTo>
                    <a:pt x="1508" y="1484"/>
                  </a:lnTo>
                  <a:lnTo>
                    <a:pt x="1571" y="1508"/>
                  </a:lnTo>
                  <a:lnTo>
                    <a:pt x="1638" y="1532"/>
                  </a:lnTo>
                  <a:lnTo>
                    <a:pt x="1666" y="1547"/>
                  </a:lnTo>
                  <a:lnTo>
                    <a:pt x="1700" y="1556"/>
                  </a:lnTo>
                  <a:lnTo>
                    <a:pt x="1729" y="1566"/>
                  </a:lnTo>
                  <a:lnTo>
                    <a:pt x="1753" y="1575"/>
                  </a:lnTo>
                  <a:lnTo>
                    <a:pt x="1777" y="1585"/>
                  </a:lnTo>
                  <a:lnTo>
                    <a:pt x="1800" y="1595"/>
                  </a:lnTo>
                  <a:lnTo>
                    <a:pt x="1820" y="1604"/>
                  </a:lnTo>
                  <a:lnTo>
                    <a:pt x="1839" y="1609"/>
                  </a:lnTo>
                  <a:lnTo>
                    <a:pt x="1853" y="1614"/>
                  </a:lnTo>
                  <a:lnTo>
                    <a:pt x="1868" y="1623"/>
                  </a:lnTo>
                  <a:lnTo>
                    <a:pt x="1877" y="1628"/>
                  </a:lnTo>
                  <a:lnTo>
                    <a:pt x="1887" y="1628"/>
                  </a:lnTo>
                  <a:lnTo>
                    <a:pt x="1896" y="1633"/>
                  </a:lnTo>
                  <a:lnTo>
                    <a:pt x="1901" y="1638"/>
                  </a:lnTo>
                  <a:lnTo>
                    <a:pt x="1901" y="1642"/>
                  </a:lnTo>
                  <a:lnTo>
                    <a:pt x="1896" y="1647"/>
                  </a:lnTo>
                  <a:lnTo>
                    <a:pt x="1891" y="1647"/>
                  </a:lnTo>
                  <a:lnTo>
                    <a:pt x="1887" y="1652"/>
                  </a:lnTo>
                  <a:lnTo>
                    <a:pt x="1882" y="1652"/>
                  </a:lnTo>
                  <a:lnTo>
                    <a:pt x="1872" y="1657"/>
                  </a:lnTo>
                  <a:lnTo>
                    <a:pt x="1863" y="1657"/>
                  </a:lnTo>
                  <a:lnTo>
                    <a:pt x="1853" y="1662"/>
                  </a:lnTo>
                  <a:lnTo>
                    <a:pt x="1844" y="1666"/>
                  </a:lnTo>
                  <a:lnTo>
                    <a:pt x="1829" y="1666"/>
                  </a:lnTo>
                  <a:lnTo>
                    <a:pt x="1815" y="1671"/>
                  </a:lnTo>
                  <a:lnTo>
                    <a:pt x="1800" y="1671"/>
                  </a:lnTo>
                  <a:lnTo>
                    <a:pt x="1786" y="1676"/>
                  </a:lnTo>
                  <a:lnTo>
                    <a:pt x="1767" y="1681"/>
                  </a:lnTo>
                  <a:lnTo>
                    <a:pt x="1748" y="1681"/>
                  </a:lnTo>
                  <a:lnTo>
                    <a:pt x="1709" y="1690"/>
                  </a:lnTo>
                  <a:lnTo>
                    <a:pt x="1671" y="1695"/>
                  </a:lnTo>
                  <a:lnTo>
                    <a:pt x="1638" y="1700"/>
                  </a:lnTo>
                  <a:lnTo>
                    <a:pt x="1604" y="1700"/>
                  </a:lnTo>
                  <a:lnTo>
                    <a:pt x="1575" y="1700"/>
                  </a:lnTo>
                  <a:lnTo>
                    <a:pt x="1551" y="1705"/>
                  </a:lnTo>
                  <a:lnTo>
                    <a:pt x="1527" y="1700"/>
                  </a:lnTo>
                  <a:lnTo>
                    <a:pt x="1508" y="1700"/>
                  </a:lnTo>
                  <a:lnTo>
                    <a:pt x="1484" y="1695"/>
                  </a:lnTo>
                  <a:lnTo>
                    <a:pt x="1456" y="1686"/>
                  </a:lnTo>
                  <a:lnTo>
                    <a:pt x="1432" y="1671"/>
                  </a:lnTo>
                  <a:lnTo>
                    <a:pt x="1403" y="1652"/>
                  </a:lnTo>
                  <a:lnTo>
                    <a:pt x="1374" y="1628"/>
                  </a:lnTo>
                  <a:lnTo>
                    <a:pt x="1341" y="1599"/>
                  </a:lnTo>
                  <a:lnTo>
                    <a:pt x="1326" y="1580"/>
                  </a:lnTo>
                  <a:lnTo>
                    <a:pt x="1307" y="1566"/>
                  </a:lnTo>
                  <a:lnTo>
                    <a:pt x="1293" y="1547"/>
                  </a:lnTo>
                  <a:lnTo>
                    <a:pt x="1274" y="1527"/>
                  </a:lnTo>
                  <a:lnTo>
                    <a:pt x="1235" y="1489"/>
                  </a:lnTo>
                  <a:lnTo>
                    <a:pt x="1202" y="1456"/>
                  </a:lnTo>
                  <a:lnTo>
                    <a:pt x="1173" y="1427"/>
                  </a:lnTo>
                  <a:lnTo>
                    <a:pt x="1144" y="1403"/>
                  </a:lnTo>
                  <a:lnTo>
                    <a:pt x="1116" y="1379"/>
                  </a:lnTo>
                  <a:lnTo>
                    <a:pt x="1096" y="1355"/>
                  </a:lnTo>
                  <a:lnTo>
                    <a:pt x="1077" y="1341"/>
                  </a:lnTo>
                  <a:lnTo>
                    <a:pt x="1058" y="1326"/>
                  </a:lnTo>
                  <a:lnTo>
                    <a:pt x="1039" y="1312"/>
                  </a:lnTo>
                  <a:lnTo>
                    <a:pt x="1020" y="1293"/>
                  </a:lnTo>
                  <a:lnTo>
                    <a:pt x="996" y="1274"/>
                  </a:lnTo>
                  <a:lnTo>
                    <a:pt x="972" y="1250"/>
                  </a:lnTo>
                  <a:lnTo>
                    <a:pt x="948" y="1226"/>
                  </a:lnTo>
                  <a:lnTo>
                    <a:pt x="914" y="1197"/>
                  </a:lnTo>
                  <a:lnTo>
                    <a:pt x="886" y="1163"/>
                  </a:lnTo>
                  <a:lnTo>
                    <a:pt x="852" y="1125"/>
                  </a:lnTo>
                  <a:lnTo>
                    <a:pt x="876" y="1077"/>
                  </a:lnTo>
                  <a:close/>
                  <a:moveTo>
                    <a:pt x="512" y="929"/>
                  </a:moveTo>
                  <a:lnTo>
                    <a:pt x="512" y="924"/>
                  </a:lnTo>
                  <a:lnTo>
                    <a:pt x="512" y="919"/>
                  </a:lnTo>
                  <a:lnTo>
                    <a:pt x="517" y="910"/>
                  </a:lnTo>
                  <a:lnTo>
                    <a:pt x="526" y="900"/>
                  </a:lnTo>
                  <a:lnTo>
                    <a:pt x="541" y="886"/>
                  </a:lnTo>
                  <a:lnTo>
                    <a:pt x="555" y="871"/>
                  </a:lnTo>
                  <a:lnTo>
                    <a:pt x="570" y="857"/>
                  </a:lnTo>
                  <a:lnTo>
                    <a:pt x="593" y="838"/>
                  </a:lnTo>
                  <a:lnTo>
                    <a:pt x="613" y="819"/>
                  </a:lnTo>
                  <a:lnTo>
                    <a:pt x="637" y="799"/>
                  </a:lnTo>
                  <a:lnTo>
                    <a:pt x="661" y="775"/>
                  </a:lnTo>
                  <a:lnTo>
                    <a:pt x="684" y="752"/>
                  </a:lnTo>
                  <a:lnTo>
                    <a:pt x="708" y="723"/>
                  </a:lnTo>
                  <a:lnTo>
                    <a:pt x="732" y="694"/>
                  </a:lnTo>
                  <a:lnTo>
                    <a:pt x="756" y="661"/>
                  </a:lnTo>
                  <a:lnTo>
                    <a:pt x="780" y="627"/>
                  </a:lnTo>
                  <a:lnTo>
                    <a:pt x="804" y="593"/>
                  </a:lnTo>
                  <a:lnTo>
                    <a:pt x="828" y="560"/>
                  </a:lnTo>
                  <a:lnTo>
                    <a:pt x="852" y="531"/>
                  </a:lnTo>
                  <a:lnTo>
                    <a:pt x="871" y="498"/>
                  </a:lnTo>
                  <a:lnTo>
                    <a:pt x="890" y="464"/>
                  </a:lnTo>
                  <a:lnTo>
                    <a:pt x="905" y="431"/>
                  </a:lnTo>
                  <a:lnTo>
                    <a:pt x="919" y="397"/>
                  </a:lnTo>
                  <a:lnTo>
                    <a:pt x="929" y="364"/>
                  </a:lnTo>
                  <a:lnTo>
                    <a:pt x="938" y="330"/>
                  </a:lnTo>
                  <a:lnTo>
                    <a:pt x="943" y="297"/>
                  </a:lnTo>
                  <a:lnTo>
                    <a:pt x="948" y="268"/>
                  </a:lnTo>
                  <a:lnTo>
                    <a:pt x="953" y="239"/>
                  </a:lnTo>
                  <a:lnTo>
                    <a:pt x="958" y="210"/>
                  </a:lnTo>
                  <a:lnTo>
                    <a:pt x="958" y="186"/>
                  </a:lnTo>
                  <a:lnTo>
                    <a:pt x="958" y="162"/>
                  </a:lnTo>
                  <a:lnTo>
                    <a:pt x="953" y="138"/>
                  </a:lnTo>
                  <a:lnTo>
                    <a:pt x="986" y="158"/>
                  </a:lnTo>
                  <a:lnTo>
                    <a:pt x="1015" y="172"/>
                  </a:lnTo>
                  <a:lnTo>
                    <a:pt x="1039" y="182"/>
                  </a:lnTo>
                  <a:lnTo>
                    <a:pt x="1058" y="196"/>
                  </a:lnTo>
                  <a:lnTo>
                    <a:pt x="1072" y="210"/>
                  </a:lnTo>
                  <a:lnTo>
                    <a:pt x="1082" y="220"/>
                  </a:lnTo>
                  <a:lnTo>
                    <a:pt x="1092" y="229"/>
                  </a:lnTo>
                  <a:lnTo>
                    <a:pt x="1092" y="239"/>
                  </a:lnTo>
                  <a:lnTo>
                    <a:pt x="1092" y="249"/>
                  </a:lnTo>
                  <a:lnTo>
                    <a:pt x="1087" y="263"/>
                  </a:lnTo>
                  <a:lnTo>
                    <a:pt x="1087" y="277"/>
                  </a:lnTo>
                  <a:lnTo>
                    <a:pt x="1077" y="297"/>
                  </a:lnTo>
                  <a:lnTo>
                    <a:pt x="1072" y="320"/>
                  </a:lnTo>
                  <a:lnTo>
                    <a:pt x="1063" y="344"/>
                  </a:lnTo>
                  <a:lnTo>
                    <a:pt x="1053" y="373"/>
                  </a:lnTo>
                  <a:lnTo>
                    <a:pt x="1039" y="407"/>
                  </a:lnTo>
                  <a:lnTo>
                    <a:pt x="1025" y="440"/>
                  </a:lnTo>
                  <a:lnTo>
                    <a:pt x="1005" y="474"/>
                  </a:lnTo>
                  <a:lnTo>
                    <a:pt x="986" y="507"/>
                  </a:lnTo>
                  <a:lnTo>
                    <a:pt x="967" y="541"/>
                  </a:lnTo>
                  <a:lnTo>
                    <a:pt x="943" y="574"/>
                  </a:lnTo>
                  <a:lnTo>
                    <a:pt x="919" y="608"/>
                  </a:lnTo>
                  <a:lnTo>
                    <a:pt x="895" y="641"/>
                  </a:lnTo>
                  <a:lnTo>
                    <a:pt x="866" y="670"/>
                  </a:lnTo>
                  <a:lnTo>
                    <a:pt x="838" y="704"/>
                  </a:lnTo>
                  <a:lnTo>
                    <a:pt x="809" y="732"/>
                  </a:lnTo>
                  <a:lnTo>
                    <a:pt x="785" y="756"/>
                  </a:lnTo>
                  <a:lnTo>
                    <a:pt x="756" y="785"/>
                  </a:lnTo>
                  <a:lnTo>
                    <a:pt x="728" y="809"/>
                  </a:lnTo>
                  <a:lnTo>
                    <a:pt x="699" y="828"/>
                  </a:lnTo>
                  <a:lnTo>
                    <a:pt x="670" y="852"/>
                  </a:lnTo>
                  <a:lnTo>
                    <a:pt x="641" y="871"/>
                  </a:lnTo>
                  <a:lnTo>
                    <a:pt x="617" y="886"/>
                  </a:lnTo>
                  <a:lnTo>
                    <a:pt x="593" y="900"/>
                  </a:lnTo>
                  <a:lnTo>
                    <a:pt x="570" y="914"/>
                  </a:lnTo>
                  <a:lnTo>
                    <a:pt x="555" y="919"/>
                  </a:lnTo>
                  <a:lnTo>
                    <a:pt x="536" y="929"/>
                  </a:lnTo>
                  <a:lnTo>
                    <a:pt x="526" y="929"/>
                  </a:lnTo>
                  <a:lnTo>
                    <a:pt x="517" y="929"/>
                  </a:lnTo>
                  <a:lnTo>
                    <a:pt x="512" y="929"/>
                  </a:lnTo>
                  <a:close/>
                  <a:moveTo>
                    <a:pt x="349" y="124"/>
                  </a:moveTo>
                  <a:lnTo>
                    <a:pt x="330" y="105"/>
                  </a:lnTo>
                  <a:lnTo>
                    <a:pt x="311" y="86"/>
                  </a:lnTo>
                  <a:lnTo>
                    <a:pt x="297" y="71"/>
                  </a:lnTo>
                  <a:lnTo>
                    <a:pt x="282" y="57"/>
                  </a:lnTo>
                  <a:lnTo>
                    <a:pt x="277" y="43"/>
                  </a:lnTo>
                  <a:lnTo>
                    <a:pt x="268" y="28"/>
                  </a:lnTo>
                  <a:lnTo>
                    <a:pt x="263" y="19"/>
                  </a:lnTo>
                  <a:lnTo>
                    <a:pt x="263" y="9"/>
                  </a:lnTo>
                  <a:lnTo>
                    <a:pt x="297" y="9"/>
                  </a:lnTo>
                  <a:lnTo>
                    <a:pt x="335" y="14"/>
                  </a:lnTo>
                  <a:lnTo>
                    <a:pt x="373" y="19"/>
                  </a:lnTo>
                  <a:lnTo>
                    <a:pt x="411" y="24"/>
                  </a:lnTo>
                  <a:lnTo>
                    <a:pt x="440" y="33"/>
                  </a:lnTo>
                  <a:lnTo>
                    <a:pt x="455" y="38"/>
                  </a:lnTo>
                  <a:lnTo>
                    <a:pt x="469" y="43"/>
                  </a:lnTo>
                  <a:lnTo>
                    <a:pt x="479" y="47"/>
                  </a:lnTo>
                  <a:lnTo>
                    <a:pt x="488" y="57"/>
                  </a:lnTo>
                  <a:lnTo>
                    <a:pt x="498" y="67"/>
                  </a:lnTo>
                  <a:lnTo>
                    <a:pt x="507" y="71"/>
                  </a:lnTo>
                  <a:lnTo>
                    <a:pt x="512" y="86"/>
                  </a:lnTo>
                  <a:lnTo>
                    <a:pt x="517" y="95"/>
                  </a:lnTo>
                  <a:lnTo>
                    <a:pt x="517" y="105"/>
                  </a:lnTo>
                  <a:lnTo>
                    <a:pt x="517" y="115"/>
                  </a:lnTo>
                  <a:lnTo>
                    <a:pt x="517" y="138"/>
                  </a:lnTo>
                  <a:lnTo>
                    <a:pt x="512" y="158"/>
                  </a:lnTo>
                  <a:lnTo>
                    <a:pt x="507" y="167"/>
                  </a:lnTo>
                  <a:lnTo>
                    <a:pt x="502" y="177"/>
                  </a:lnTo>
                  <a:lnTo>
                    <a:pt x="493" y="186"/>
                  </a:lnTo>
                  <a:lnTo>
                    <a:pt x="488" y="191"/>
                  </a:lnTo>
                  <a:lnTo>
                    <a:pt x="483" y="196"/>
                  </a:lnTo>
                  <a:lnTo>
                    <a:pt x="474" y="201"/>
                  </a:lnTo>
                  <a:lnTo>
                    <a:pt x="469" y="201"/>
                  </a:lnTo>
                  <a:lnTo>
                    <a:pt x="464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5" y="186"/>
                  </a:lnTo>
                  <a:lnTo>
                    <a:pt x="421" y="182"/>
                  </a:lnTo>
                  <a:lnTo>
                    <a:pt x="407" y="167"/>
                  </a:lnTo>
                  <a:lnTo>
                    <a:pt x="392" y="158"/>
                  </a:lnTo>
                  <a:lnTo>
                    <a:pt x="373" y="143"/>
                  </a:lnTo>
                  <a:lnTo>
                    <a:pt x="349" y="124"/>
                  </a:lnTo>
                  <a:close/>
                  <a:moveTo>
                    <a:pt x="297" y="306"/>
                  </a:moveTo>
                  <a:lnTo>
                    <a:pt x="316" y="311"/>
                  </a:lnTo>
                  <a:lnTo>
                    <a:pt x="325" y="320"/>
                  </a:lnTo>
                  <a:lnTo>
                    <a:pt x="340" y="330"/>
                  </a:lnTo>
                  <a:lnTo>
                    <a:pt x="349" y="335"/>
                  </a:lnTo>
                  <a:lnTo>
                    <a:pt x="359" y="344"/>
                  </a:lnTo>
                  <a:lnTo>
                    <a:pt x="368" y="354"/>
                  </a:lnTo>
                  <a:lnTo>
                    <a:pt x="373" y="364"/>
                  </a:lnTo>
                  <a:lnTo>
                    <a:pt x="378" y="373"/>
                  </a:lnTo>
                  <a:lnTo>
                    <a:pt x="378" y="383"/>
                  </a:lnTo>
                  <a:lnTo>
                    <a:pt x="378" y="397"/>
                  </a:lnTo>
                  <a:lnTo>
                    <a:pt x="378" y="416"/>
                  </a:lnTo>
                  <a:lnTo>
                    <a:pt x="378" y="421"/>
                  </a:lnTo>
                  <a:lnTo>
                    <a:pt x="373" y="431"/>
                  </a:lnTo>
                  <a:lnTo>
                    <a:pt x="368" y="435"/>
                  </a:lnTo>
                  <a:lnTo>
                    <a:pt x="368" y="440"/>
                  </a:lnTo>
                  <a:lnTo>
                    <a:pt x="354" y="450"/>
                  </a:lnTo>
                  <a:lnTo>
                    <a:pt x="344" y="459"/>
                  </a:lnTo>
                  <a:lnTo>
                    <a:pt x="330" y="464"/>
                  </a:lnTo>
                  <a:lnTo>
                    <a:pt x="325" y="464"/>
                  </a:lnTo>
                  <a:lnTo>
                    <a:pt x="320" y="464"/>
                  </a:lnTo>
                  <a:lnTo>
                    <a:pt x="311" y="459"/>
                  </a:lnTo>
                  <a:lnTo>
                    <a:pt x="301" y="455"/>
                  </a:lnTo>
                  <a:lnTo>
                    <a:pt x="292" y="445"/>
                  </a:lnTo>
                  <a:lnTo>
                    <a:pt x="277" y="435"/>
                  </a:lnTo>
                  <a:lnTo>
                    <a:pt x="263" y="426"/>
                  </a:lnTo>
                  <a:lnTo>
                    <a:pt x="249" y="411"/>
                  </a:lnTo>
                  <a:lnTo>
                    <a:pt x="229" y="397"/>
                  </a:lnTo>
                  <a:lnTo>
                    <a:pt x="210" y="383"/>
                  </a:lnTo>
                  <a:lnTo>
                    <a:pt x="196" y="368"/>
                  </a:lnTo>
                  <a:lnTo>
                    <a:pt x="182" y="349"/>
                  </a:lnTo>
                  <a:lnTo>
                    <a:pt x="172" y="335"/>
                  </a:lnTo>
                  <a:lnTo>
                    <a:pt x="162" y="320"/>
                  </a:lnTo>
                  <a:lnTo>
                    <a:pt x="158" y="306"/>
                  </a:lnTo>
                  <a:lnTo>
                    <a:pt x="153" y="292"/>
                  </a:lnTo>
                  <a:lnTo>
                    <a:pt x="153" y="282"/>
                  </a:lnTo>
                  <a:lnTo>
                    <a:pt x="196" y="282"/>
                  </a:lnTo>
                  <a:lnTo>
                    <a:pt x="215" y="282"/>
                  </a:lnTo>
                  <a:lnTo>
                    <a:pt x="234" y="287"/>
                  </a:lnTo>
                  <a:lnTo>
                    <a:pt x="253" y="292"/>
                  </a:lnTo>
                  <a:lnTo>
                    <a:pt x="268" y="297"/>
                  </a:lnTo>
                  <a:lnTo>
                    <a:pt x="282" y="301"/>
                  </a:lnTo>
                  <a:lnTo>
                    <a:pt x="297" y="306"/>
                  </a:lnTo>
                  <a:close/>
                  <a:moveTo>
                    <a:pt x="737" y="287"/>
                  </a:moveTo>
                  <a:lnTo>
                    <a:pt x="756" y="311"/>
                  </a:lnTo>
                  <a:lnTo>
                    <a:pt x="761" y="320"/>
                  </a:lnTo>
                  <a:lnTo>
                    <a:pt x="771" y="330"/>
                  </a:lnTo>
                  <a:lnTo>
                    <a:pt x="775" y="344"/>
                  </a:lnTo>
                  <a:lnTo>
                    <a:pt x="780" y="354"/>
                  </a:lnTo>
                  <a:lnTo>
                    <a:pt x="780" y="368"/>
                  </a:lnTo>
                  <a:lnTo>
                    <a:pt x="780" y="383"/>
                  </a:lnTo>
                  <a:lnTo>
                    <a:pt x="780" y="392"/>
                  </a:lnTo>
                  <a:lnTo>
                    <a:pt x="780" y="407"/>
                  </a:lnTo>
                  <a:lnTo>
                    <a:pt x="775" y="421"/>
                  </a:lnTo>
                  <a:lnTo>
                    <a:pt x="771" y="435"/>
                  </a:lnTo>
                  <a:lnTo>
                    <a:pt x="756" y="469"/>
                  </a:lnTo>
                  <a:lnTo>
                    <a:pt x="737" y="507"/>
                  </a:lnTo>
                  <a:lnTo>
                    <a:pt x="728" y="522"/>
                  </a:lnTo>
                  <a:lnTo>
                    <a:pt x="718" y="536"/>
                  </a:lnTo>
                  <a:lnTo>
                    <a:pt x="708" y="550"/>
                  </a:lnTo>
                  <a:lnTo>
                    <a:pt x="704" y="560"/>
                  </a:lnTo>
                  <a:lnTo>
                    <a:pt x="694" y="570"/>
                  </a:lnTo>
                  <a:lnTo>
                    <a:pt x="689" y="574"/>
                  </a:lnTo>
                  <a:lnTo>
                    <a:pt x="680" y="579"/>
                  </a:lnTo>
                  <a:lnTo>
                    <a:pt x="670" y="579"/>
                  </a:lnTo>
                  <a:lnTo>
                    <a:pt x="665" y="574"/>
                  </a:lnTo>
                  <a:lnTo>
                    <a:pt x="661" y="574"/>
                  </a:lnTo>
                  <a:lnTo>
                    <a:pt x="656" y="570"/>
                  </a:lnTo>
                  <a:lnTo>
                    <a:pt x="651" y="555"/>
                  </a:lnTo>
                  <a:lnTo>
                    <a:pt x="641" y="536"/>
                  </a:lnTo>
                  <a:lnTo>
                    <a:pt x="637" y="522"/>
                  </a:lnTo>
                  <a:lnTo>
                    <a:pt x="632" y="502"/>
                  </a:lnTo>
                  <a:lnTo>
                    <a:pt x="627" y="488"/>
                  </a:lnTo>
                  <a:lnTo>
                    <a:pt x="627" y="483"/>
                  </a:lnTo>
                  <a:lnTo>
                    <a:pt x="627" y="479"/>
                  </a:lnTo>
                  <a:lnTo>
                    <a:pt x="627" y="474"/>
                  </a:lnTo>
                  <a:lnTo>
                    <a:pt x="632" y="469"/>
                  </a:lnTo>
                  <a:lnTo>
                    <a:pt x="632" y="464"/>
                  </a:lnTo>
                  <a:lnTo>
                    <a:pt x="637" y="459"/>
                  </a:lnTo>
                  <a:lnTo>
                    <a:pt x="646" y="455"/>
                  </a:lnTo>
                  <a:lnTo>
                    <a:pt x="651" y="445"/>
                  </a:lnTo>
                  <a:lnTo>
                    <a:pt x="661" y="440"/>
                  </a:lnTo>
                  <a:lnTo>
                    <a:pt x="665" y="431"/>
                  </a:lnTo>
                  <a:lnTo>
                    <a:pt x="675" y="421"/>
                  </a:lnTo>
                  <a:lnTo>
                    <a:pt x="684" y="407"/>
                  </a:lnTo>
                  <a:lnTo>
                    <a:pt x="694" y="388"/>
                  </a:lnTo>
                  <a:lnTo>
                    <a:pt x="704" y="368"/>
                  </a:lnTo>
                  <a:lnTo>
                    <a:pt x="713" y="344"/>
                  </a:lnTo>
                  <a:lnTo>
                    <a:pt x="728" y="320"/>
                  </a:lnTo>
                  <a:lnTo>
                    <a:pt x="737" y="287"/>
                  </a:lnTo>
                  <a:close/>
                  <a:moveTo>
                    <a:pt x="263" y="938"/>
                  </a:moveTo>
                  <a:lnTo>
                    <a:pt x="258" y="938"/>
                  </a:lnTo>
                  <a:lnTo>
                    <a:pt x="249" y="934"/>
                  </a:lnTo>
                  <a:lnTo>
                    <a:pt x="244" y="929"/>
                  </a:lnTo>
                  <a:lnTo>
                    <a:pt x="234" y="919"/>
                  </a:lnTo>
                  <a:lnTo>
                    <a:pt x="229" y="910"/>
                  </a:lnTo>
                  <a:lnTo>
                    <a:pt x="220" y="890"/>
                  </a:lnTo>
                  <a:lnTo>
                    <a:pt x="210" y="876"/>
                  </a:lnTo>
                  <a:lnTo>
                    <a:pt x="206" y="852"/>
                  </a:lnTo>
                  <a:lnTo>
                    <a:pt x="196" y="833"/>
                  </a:lnTo>
                  <a:lnTo>
                    <a:pt x="186" y="814"/>
                  </a:lnTo>
                  <a:lnTo>
                    <a:pt x="182" y="799"/>
                  </a:lnTo>
                  <a:lnTo>
                    <a:pt x="177" y="785"/>
                  </a:lnTo>
                  <a:lnTo>
                    <a:pt x="177" y="771"/>
                  </a:lnTo>
                  <a:lnTo>
                    <a:pt x="172" y="761"/>
                  </a:lnTo>
                  <a:lnTo>
                    <a:pt x="177" y="752"/>
                  </a:lnTo>
                  <a:lnTo>
                    <a:pt x="177" y="747"/>
                  </a:lnTo>
                  <a:lnTo>
                    <a:pt x="182" y="737"/>
                  </a:lnTo>
                  <a:lnTo>
                    <a:pt x="191" y="732"/>
                  </a:lnTo>
                  <a:lnTo>
                    <a:pt x="201" y="732"/>
                  </a:lnTo>
                  <a:lnTo>
                    <a:pt x="210" y="728"/>
                  </a:lnTo>
                  <a:lnTo>
                    <a:pt x="220" y="732"/>
                  </a:lnTo>
                  <a:lnTo>
                    <a:pt x="225" y="732"/>
                  </a:lnTo>
                  <a:lnTo>
                    <a:pt x="239" y="732"/>
                  </a:lnTo>
                  <a:lnTo>
                    <a:pt x="249" y="728"/>
                  </a:lnTo>
                  <a:lnTo>
                    <a:pt x="263" y="723"/>
                  </a:lnTo>
                  <a:lnTo>
                    <a:pt x="268" y="718"/>
                  </a:lnTo>
                  <a:lnTo>
                    <a:pt x="277" y="708"/>
                  </a:lnTo>
                  <a:lnTo>
                    <a:pt x="292" y="699"/>
                  </a:lnTo>
                  <a:lnTo>
                    <a:pt x="306" y="680"/>
                  </a:lnTo>
                  <a:lnTo>
                    <a:pt x="330" y="661"/>
                  </a:lnTo>
                  <a:lnTo>
                    <a:pt x="354" y="641"/>
                  </a:lnTo>
                  <a:lnTo>
                    <a:pt x="378" y="613"/>
                  </a:lnTo>
                  <a:lnTo>
                    <a:pt x="392" y="598"/>
                  </a:lnTo>
                  <a:lnTo>
                    <a:pt x="411" y="579"/>
                  </a:lnTo>
                  <a:lnTo>
                    <a:pt x="426" y="565"/>
                  </a:lnTo>
                  <a:lnTo>
                    <a:pt x="440" y="546"/>
                  </a:lnTo>
                  <a:lnTo>
                    <a:pt x="469" y="522"/>
                  </a:lnTo>
                  <a:lnTo>
                    <a:pt x="493" y="498"/>
                  </a:lnTo>
                  <a:lnTo>
                    <a:pt x="512" y="479"/>
                  </a:lnTo>
                  <a:lnTo>
                    <a:pt x="531" y="469"/>
                  </a:lnTo>
                  <a:lnTo>
                    <a:pt x="541" y="459"/>
                  </a:lnTo>
                  <a:lnTo>
                    <a:pt x="550" y="455"/>
                  </a:lnTo>
                  <a:lnTo>
                    <a:pt x="555" y="455"/>
                  </a:lnTo>
                  <a:lnTo>
                    <a:pt x="560" y="459"/>
                  </a:lnTo>
                  <a:lnTo>
                    <a:pt x="560" y="464"/>
                  </a:lnTo>
                  <a:lnTo>
                    <a:pt x="555" y="469"/>
                  </a:lnTo>
                  <a:lnTo>
                    <a:pt x="555" y="474"/>
                  </a:lnTo>
                  <a:lnTo>
                    <a:pt x="550" y="483"/>
                  </a:lnTo>
                  <a:lnTo>
                    <a:pt x="546" y="498"/>
                  </a:lnTo>
                  <a:lnTo>
                    <a:pt x="541" y="507"/>
                  </a:lnTo>
                  <a:lnTo>
                    <a:pt x="536" y="522"/>
                  </a:lnTo>
                  <a:lnTo>
                    <a:pt x="526" y="536"/>
                  </a:lnTo>
                  <a:lnTo>
                    <a:pt x="517" y="555"/>
                  </a:lnTo>
                  <a:lnTo>
                    <a:pt x="507" y="574"/>
                  </a:lnTo>
                  <a:lnTo>
                    <a:pt x="498" y="598"/>
                  </a:lnTo>
                  <a:lnTo>
                    <a:pt x="483" y="617"/>
                  </a:lnTo>
                  <a:lnTo>
                    <a:pt x="469" y="641"/>
                  </a:lnTo>
                  <a:lnTo>
                    <a:pt x="455" y="670"/>
                  </a:lnTo>
                  <a:lnTo>
                    <a:pt x="435" y="694"/>
                  </a:lnTo>
                  <a:lnTo>
                    <a:pt x="421" y="723"/>
                  </a:lnTo>
                  <a:lnTo>
                    <a:pt x="402" y="752"/>
                  </a:lnTo>
                  <a:lnTo>
                    <a:pt x="388" y="775"/>
                  </a:lnTo>
                  <a:lnTo>
                    <a:pt x="373" y="799"/>
                  </a:lnTo>
                  <a:lnTo>
                    <a:pt x="359" y="819"/>
                  </a:lnTo>
                  <a:lnTo>
                    <a:pt x="344" y="838"/>
                  </a:lnTo>
                  <a:lnTo>
                    <a:pt x="335" y="857"/>
                  </a:lnTo>
                  <a:lnTo>
                    <a:pt x="320" y="871"/>
                  </a:lnTo>
                  <a:lnTo>
                    <a:pt x="311" y="886"/>
                  </a:lnTo>
                  <a:lnTo>
                    <a:pt x="301" y="900"/>
                  </a:lnTo>
                  <a:lnTo>
                    <a:pt x="292" y="910"/>
                  </a:lnTo>
                  <a:lnTo>
                    <a:pt x="287" y="919"/>
                  </a:lnTo>
                  <a:lnTo>
                    <a:pt x="277" y="924"/>
                  </a:lnTo>
                  <a:lnTo>
                    <a:pt x="273" y="929"/>
                  </a:lnTo>
                  <a:lnTo>
                    <a:pt x="268" y="934"/>
                  </a:lnTo>
                  <a:lnTo>
                    <a:pt x="263" y="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4783680" y="2439720"/>
              <a:ext cx="938520" cy="1082520"/>
            </a:xfrm>
            <a:custGeom>
              <a:avLst/>
              <a:gdLst/>
              <a:ahLst/>
              <a:rect l="l" t="t" r="r" b="b"/>
              <a:pathLst>
                <a:path w="776" h="895">
                  <a:moveTo>
                    <a:pt x="412" y="704"/>
                  </a:moveTo>
                  <a:lnTo>
                    <a:pt x="417" y="704"/>
                  </a:lnTo>
                  <a:lnTo>
                    <a:pt x="421" y="699"/>
                  </a:lnTo>
                  <a:lnTo>
                    <a:pt x="426" y="694"/>
                  </a:lnTo>
                  <a:lnTo>
                    <a:pt x="431" y="689"/>
                  </a:lnTo>
                  <a:lnTo>
                    <a:pt x="436" y="680"/>
                  </a:lnTo>
                  <a:lnTo>
                    <a:pt x="440" y="670"/>
                  </a:lnTo>
                  <a:lnTo>
                    <a:pt x="450" y="661"/>
                  </a:lnTo>
                  <a:lnTo>
                    <a:pt x="455" y="651"/>
                  </a:lnTo>
                  <a:lnTo>
                    <a:pt x="460" y="637"/>
                  </a:lnTo>
                  <a:lnTo>
                    <a:pt x="464" y="622"/>
                  </a:lnTo>
                  <a:lnTo>
                    <a:pt x="474" y="608"/>
                  </a:lnTo>
                  <a:lnTo>
                    <a:pt x="479" y="589"/>
                  </a:lnTo>
                  <a:lnTo>
                    <a:pt x="484" y="574"/>
                  </a:lnTo>
                  <a:lnTo>
                    <a:pt x="493" y="555"/>
                  </a:lnTo>
                  <a:lnTo>
                    <a:pt x="508" y="512"/>
                  </a:lnTo>
                  <a:lnTo>
                    <a:pt x="522" y="474"/>
                  </a:lnTo>
                  <a:lnTo>
                    <a:pt x="536" y="435"/>
                  </a:lnTo>
                  <a:lnTo>
                    <a:pt x="546" y="397"/>
                  </a:lnTo>
                  <a:lnTo>
                    <a:pt x="555" y="364"/>
                  </a:lnTo>
                  <a:lnTo>
                    <a:pt x="560" y="335"/>
                  </a:lnTo>
                  <a:lnTo>
                    <a:pt x="570" y="301"/>
                  </a:lnTo>
                  <a:lnTo>
                    <a:pt x="575" y="273"/>
                  </a:lnTo>
                  <a:lnTo>
                    <a:pt x="575" y="249"/>
                  </a:lnTo>
                  <a:lnTo>
                    <a:pt x="579" y="225"/>
                  </a:lnTo>
                  <a:lnTo>
                    <a:pt x="579" y="206"/>
                  </a:lnTo>
                  <a:lnTo>
                    <a:pt x="579" y="191"/>
                  </a:lnTo>
                  <a:lnTo>
                    <a:pt x="579" y="172"/>
                  </a:lnTo>
                  <a:lnTo>
                    <a:pt x="575" y="162"/>
                  </a:lnTo>
                  <a:lnTo>
                    <a:pt x="575" y="148"/>
                  </a:lnTo>
                  <a:lnTo>
                    <a:pt x="570" y="138"/>
                  </a:lnTo>
                  <a:lnTo>
                    <a:pt x="570" y="134"/>
                  </a:lnTo>
                  <a:lnTo>
                    <a:pt x="560" y="124"/>
                  </a:lnTo>
                  <a:lnTo>
                    <a:pt x="551" y="119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8" y="115"/>
                  </a:lnTo>
                  <a:lnTo>
                    <a:pt x="493" y="115"/>
                  </a:lnTo>
                  <a:lnTo>
                    <a:pt x="479" y="119"/>
                  </a:lnTo>
                  <a:lnTo>
                    <a:pt x="460" y="119"/>
                  </a:lnTo>
                  <a:lnTo>
                    <a:pt x="440" y="124"/>
                  </a:lnTo>
                  <a:lnTo>
                    <a:pt x="421" y="129"/>
                  </a:lnTo>
                  <a:lnTo>
                    <a:pt x="397" y="134"/>
                  </a:lnTo>
                  <a:lnTo>
                    <a:pt x="369" y="138"/>
                  </a:lnTo>
                  <a:lnTo>
                    <a:pt x="311" y="153"/>
                  </a:lnTo>
                  <a:lnTo>
                    <a:pt x="287" y="158"/>
                  </a:lnTo>
                  <a:lnTo>
                    <a:pt x="258" y="162"/>
                  </a:lnTo>
                  <a:lnTo>
                    <a:pt x="235" y="167"/>
                  </a:lnTo>
                  <a:lnTo>
                    <a:pt x="211" y="172"/>
                  </a:lnTo>
                  <a:lnTo>
                    <a:pt x="191" y="177"/>
                  </a:lnTo>
                  <a:lnTo>
                    <a:pt x="172" y="182"/>
                  </a:lnTo>
                  <a:lnTo>
                    <a:pt x="153" y="186"/>
                  </a:lnTo>
                  <a:lnTo>
                    <a:pt x="134" y="191"/>
                  </a:lnTo>
                  <a:lnTo>
                    <a:pt x="115" y="191"/>
                  </a:lnTo>
                  <a:lnTo>
                    <a:pt x="100" y="196"/>
                  </a:lnTo>
                  <a:lnTo>
                    <a:pt x="86" y="191"/>
                  </a:lnTo>
                  <a:lnTo>
                    <a:pt x="72" y="191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7"/>
                  </a:lnTo>
                  <a:lnTo>
                    <a:pt x="29" y="172"/>
                  </a:lnTo>
                  <a:lnTo>
                    <a:pt x="19" y="167"/>
                  </a:lnTo>
                  <a:lnTo>
                    <a:pt x="9" y="162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9" y="138"/>
                  </a:lnTo>
                  <a:lnTo>
                    <a:pt x="19" y="138"/>
                  </a:lnTo>
                  <a:lnTo>
                    <a:pt x="33" y="138"/>
                  </a:lnTo>
                  <a:lnTo>
                    <a:pt x="43" y="134"/>
                  </a:lnTo>
                  <a:lnTo>
                    <a:pt x="57" y="134"/>
                  </a:lnTo>
                  <a:lnTo>
                    <a:pt x="76" y="129"/>
                  </a:lnTo>
                  <a:lnTo>
                    <a:pt x="91" y="129"/>
                  </a:lnTo>
                  <a:lnTo>
                    <a:pt x="110" y="124"/>
                  </a:lnTo>
                  <a:lnTo>
                    <a:pt x="134" y="119"/>
                  </a:lnTo>
                  <a:lnTo>
                    <a:pt x="158" y="115"/>
                  </a:lnTo>
                  <a:lnTo>
                    <a:pt x="182" y="110"/>
                  </a:lnTo>
                  <a:lnTo>
                    <a:pt x="206" y="105"/>
                  </a:lnTo>
                  <a:lnTo>
                    <a:pt x="235" y="95"/>
                  </a:lnTo>
                  <a:lnTo>
                    <a:pt x="263" y="91"/>
                  </a:lnTo>
                  <a:lnTo>
                    <a:pt x="292" y="81"/>
                  </a:lnTo>
                  <a:lnTo>
                    <a:pt x="321" y="76"/>
                  </a:lnTo>
                  <a:lnTo>
                    <a:pt x="349" y="71"/>
                  </a:lnTo>
                  <a:lnTo>
                    <a:pt x="373" y="62"/>
                  </a:lnTo>
                  <a:lnTo>
                    <a:pt x="402" y="57"/>
                  </a:lnTo>
                  <a:lnTo>
                    <a:pt x="421" y="52"/>
                  </a:lnTo>
                  <a:lnTo>
                    <a:pt x="445" y="47"/>
                  </a:lnTo>
                  <a:lnTo>
                    <a:pt x="464" y="43"/>
                  </a:lnTo>
                  <a:lnTo>
                    <a:pt x="479" y="38"/>
                  </a:lnTo>
                  <a:lnTo>
                    <a:pt x="493" y="33"/>
                  </a:lnTo>
                  <a:lnTo>
                    <a:pt x="508" y="33"/>
                  </a:lnTo>
                  <a:lnTo>
                    <a:pt x="517" y="28"/>
                  </a:lnTo>
                  <a:lnTo>
                    <a:pt x="531" y="24"/>
                  </a:lnTo>
                  <a:lnTo>
                    <a:pt x="536" y="24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1" y="14"/>
                  </a:lnTo>
                  <a:lnTo>
                    <a:pt x="560" y="9"/>
                  </a:lnTo>
                  <a:lnTo>
                    <a:pt x="570" y="4"/>
                  </a:lnTo>
                  <a:lnTo>
                    <a:pt x="579" y="0"/>
                  </a:lnTo>
                  <a:lnTo>
                    <a:pt x="594" y="0"/>
                  </a:lnTo>
                  <a:lnTo>
                    <a:pt x="599" y="0"/>
                  </a:lnTo>
                  <a:lnTo>
                    <a:pt x="603" y="4"/>
                  </a:lnTo>
                  <a:lnTo>
                    <a:pt x="613" y="4"/>
                  </a:lnTo>
                  <a:lnTo>
                    <a:pt x="627" y="9"/>
                  </a:lnTo>
                  <a:lnTo>
                    <a:pt x="642" y="19"/>
                  </a:lnTo>
                  <a:lnTo>
                    <a:pt x="656" y="28"/>
                  </a:lnTo>
                  <a:lnTo>
                    <a:pt x="675" y="38"/>
                  </a:lnTo>
                  <a:lnTo>
                    <a:pt x="699" y="47"/>
                  </a:lnTo>
                  <a:lnTo>
                    <a:pt x="713" y="62"/>
                  </a:lnTo>
                  <a:lnTo>
                    <a:pt x="733" y="71"/>
                  </a:lnTo>
                  <a:lnTo>
                    <a:pt x="742" y="81"/>
                  </a:lnTo>
                  <a:lnTo>
                    <a:pt x="757" y="91"/>
                  </a:lnTo>
                  <a:lnTo>
                    <a:pt x="761" y="100"/>
                  </a:lnTo>
                  <a:lnTo>
                    <a:pt x="771" y="105"/>
                  </a:lnTo>
                  <a:lnTo>
                    <a:pt x="776" y="110"/>
                  </a:lnTo>
                  <a:lnTo>
                    <a:pt x="776" y="115"/>
                  </a:lnTo>
                  <a:lnTo>
                    <a:pt x="771" y="124"/>
                  </a:lnTo>
                  <a:lnTo>
                    <a:pt x="766" y="134"/>
                  </a:lnTo>
                  <a:lnTo>
                    <a:pt x="761" y="143"/>
                  </a:lnTo>
                  <a:lnTo>
                    <a:pt x="747" y="148"/>
                  </a:lnTo>
                  <a:lnTo>
                    <a:pt x="737" y="153"/>
                  </a:lnTo>
                  <a:lnTo>
                    <a:pt x="733" y="162"/>
                  </a:lnTo>
                  <a:lnTo>
                    <a:pt x="728" y="172"/>
                  </a:lnTo>
                  <a:lnTo>
                    <a:pt x="723" y="186"/>
                  </a:lnTo>
                  <a:lnTo>
                    <a:pt x="718" y="201"/>
                  </a:lnTo>
                  <a:lnTo>
                    <a:pt x="713" y="220"/>
                  </a:lnTo>
                  <a:lnTo>
                    <a:pt x="709" y="239"/>
                  </a:lnTo>
                  <a:lnTo>
                    <a:pt x="704" y="263"/>
                  </a:lnTo>
                  <a:lnTo>
                    <a:pt x="699" y="292"/>
                  </a:lnTo>
                  <a:lnTo>
                    <a:pt x="694" y="320"/>
                  </a:lnTo>
                  <a:lnTo>
                    <a:pt x="685" y="354"/>
                  </a:lnTo>
                  <a:lnTo>
                    <a:pt x="675" y="388"/>
                  </a:lnTo>
                  <a:lnTo>
                    <a:pt x="661" y="431"/>
                  </a:lnTo>
                  <a:lnTo>
                    <a:pt x="651" y="474"/>
                  </a:lnTo>
                  <a:lnTo>
                    <a:pt x="637" y="522"/>
                  </a:lnTo>
                  <a:lnTo>
                    <a:pt x="618" y="570"/>
                  </a:lnTo>
                  <a:lnTo>
                    <a:pt x="613" y="598"/>
                  </a:lnTo>
                  <a:lnTo>
                    <a:pt x="603" y="622"/>
                  </a:lnTo>
                  <a:lnTo>
                    <a:pt x="594" y="646"/>
                  </a:lnTo>
                  <a:lnTo>
                    <a:pt x="589" y="665"/>
                  </a:lnTo>
                  <a:lnTo>
                    <a:pt x="579" y="689"/>
                  </a:lnTo>
                  <a:lnTo>
                    <a:pt x="570" y="708"/>
                  </a:lnTo>
                  <a:lnTo>
                    <a:pt x="565" y="728"/>
                  </a:lnTo>
                  <a:lnTo>
                    <a:pt x="555" y="747"/>
                  </a:lnTo>
                  <a:lnTo>
                    <a:pt x="546" y="761"/>
                  </a:lnTo>
                  <a:lnTo>
                    <a:pt x="541" y="775"/>
                  </a:lnTo>
                  <a:lnTo>
                    <a:pt x="531" y="790"/>
                  </a:lnTo>
                  <a:lnTo>
                    <a:pt x="527" y="799"/>
                  </a:lnTo>
                  <a:lnTo>
                    <a:pt x="517" y="814"/>
                  </a:lnTo>
                  <a:lnTo>
                    <a:pt x="512" y="823"/>
                  </a:lnTo>
                  <a:lnTo>
                    <a:pt x="503" y="828"/>
                  </a:lnTo>
                  <a:lnTo>
                    <a:pt x="498" y="838"/>
                  </a:lnTo>
                  <a:lnTo>
                    <a:pt x="484" y="852"/>
                  </a:lnTo>
                  <a:lnTo>
                    <a:pt x="469" y="862"/>
                  </a:lnTo>
                  <a:lnTo>
                    <a:pt x="455" y="871"/>
                  </a:lnTo>
                  <a:lnTo>
                    <a:pt x="445" y="881"/>
                  </a:lnTo>
                  <a:lnTo>
                    <a:pt x="436" y="886"/>
                  </a:lnTo>
                  <a:lnTo>
                    <a:pt x="426" y="890"/>
                  </a:lnTo>
                  <a:lnTo>
                    <a:pt x="421" y="895"/>
                  </a:lnTo>
                  <a:lnTo>
                    <a:pt x="412" y="895"/>
                  </a:lnTo>
                  <a:lnTo>
                    <a:pt x="407" y="895"/>
                  </a:lnTo>
                  <a:lnTo>
                    <a:pt x="402" y="890"/>
                  </a:lnTo>
                  <a:lnTo>
                    <a:pt x="397" y="886"/>
                  </a:lnTo>
                  <a:lnTo>
                    <a:pt x="393" y="881"/>
                  </a:lnTo>
                  <a:lnTo>
                    <a:pt x="388" y="876"/>
                  </a:lnTo>
                  <a:lnTo>
                    <a:pt x="383" y="866"/>
                  </a:lnTo>
                  <a:lnTo>
                    <a:pt x="383" y="857"/>
                  </a:lnTo>
                  <a:lnTo>
                    <a:pt x="378" y="847"/>
                  </a:lnTo>
                  <a:lnTo>
                    <a:pt x="373" y="833"/>
                  </a:lnTo>
                  <a:lnTo>
                    <a:pt x="369" y="819"/>
                  </a:lnTo>
                  <a:lnTo>
                    <a:pt x="364" y="804"/>
                  </a:lnTo>
                  <a:lnTo>
                    <a:pt x="354" y="790"/>
                  </a:lnTo>
                  <a:lnTo>
                    <a:pt x="345" y="775"/>
                  </a:lnTo>
                  <a:lnTo>
                    <a:pt x="335" y="756"/>
                  </a:lnTo>
                  <a:lnTo>
                    <a:pt x="326" y="737"/>
                  </a:lnTo>
                  <a:lnTo>
                    <a:pt x="306" y="723"/>
                  </a:lnTo>
                  <a:lnTo>
                    <a:pt x="292" y="704"/>
                  </a:lnTo>
                  <a:lnTo>
                    <a:pt x="282" y="694"/>
                  </a:lnTo>
                  <a:lnTo>
                    <a:pt x="273" y="680"/>
                  </a:lnTo>
                  <a:lnTo>
                    <a:pt x="268" y="670"/>
                  </a:lnTo>
                  <a:lnTo>
                    <a:pt x="263" y="661"/>
                  </a:lnTo>
                  <a:lnTo>
                    <a:pt x="263" y="656"/>
                  </a:lnTo>
                  <a:lnTo>
                    <a:pt x="263" y="651"/>
                  </a:lnTo>
                  <a:lnTo>
                    <a:pt x="263" y="646"/>
                  </a:lnTo>
                  <a:lnTo>
                    <a:pt x="268" y="646"/>
                  </a:lnTo>
                  <a:lnTo>
                    <a:pt x="273" y="646"/>
                  </a:lnTo>
                  <a:lnTo>
                    <a:pt x="278" y="651"/>
                  </a:lnTo>
                  <a:lnTo>
                    <a:pt x="287" y="651"/>
                  </a:lnTo>
                  <a:lnTo>
                    <a:pt x="297" y="656"/>
                  </a:lnTo>
                  <a:lnTo>
                    <a:pt x="306" y="665"/>
                  </a:lnTo>
                  <a:lnTo>
                    <a:pt x="321" y="670"/>
                  </a:lnTo>
                  <a:lnTo>
                    <a:pt x="335" y="680"/>
                  </a:lnTo>
                  <a:lnTo>
                    <a:pt x="345" y="689"/>
                  </a:lnTo>
                  <a:lnTo>
                    <a:pt x="359" y="694"/>
                  </a:lnTo>
                  <a:lnTo>
                    <a:pt x="369" y="699"/>
                  </a:lnTo>
                  <a:lnTo>
                    <a:pt x="378" y="704"/>
                  </a:lnTo>
                  <a:lnTo>
                    <a:pt x="388" y="708"/>
                  </a:lnTo>
                  <a:lnTo>
                    <a:pt x="397" y="708"/>
                  </a:lnTo>
                  <a:lnTo>
                    <a:pt x="407" y="708"/>
                  </a:lnTo>
                  <a:lnTo>
                    <a:pt x="412" y="70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5"/>
            <p:cNvSpPr/>
            <p:nvPr/>
          </p:nvSpPr>
          <p:spPr>
            <a:xfrm>
              <a:off x="5531400" y="2919960"/>
              <a:ext cx="388080" cy="219960"/>
            </a:xfrm>
            <a:custGeom>
              <a:avLst/>
              <a:gdLst/>
              <a:ahLst/>
              <a:rect l="l" t="t" r="r" b="b"/>
              <a:pathLst>
                <a:path w="321" h="182">
                  <a:moveTo>
                    <a:pt x="210" y="24"/>
                  </a:moveTo>
                  <a:lnTo>
                    <a:pt x="230" y="34"/>
                  </a:lnTo>
                  <a:lnTo>
                    <a:pt x="249" y="38"/>
                  </a:lnTo>
                  <a:lnTo>
                    <a:pt x="263" y="43"/>
                  </a:lnTo>
                  <a:lnTo>
                    <a:pt x="277" y="48"/>
                  </a:lnTo>
                  <a:lnTo>
                    <a:pt x="292" y="58"/>
                  </a:lnTo>
                  <a:lnTo>
                    <a:pt x="301" y="62"/>
                  </a:lnTo>
                  <a:lnTo>
                    <a:pt x="306" y="67"/>
                  </a:lnTo>
                  <a:lnTo>
                    <a:pt x="311" y="77"/>
                  </a:lnTo>
                  <a:lnTo>
                    <a:pt x="316" y="91"/>
                  </a:lnTo>
                  <a:lnTo>
                    <a:pt x="321" y="105"/>
                  </a:lnTo>
                  <a:lnTo>
                    <a:pt x="321" y="125"/>
                  </a:lnTo>
                  <a:lnTo>
                    <a:pt x="321" y="139"/>
                  </a:lnTo>
                  <a:lnTo>
                    <a:pt x="321" y="149"/>
                  </a:lnTo>
                  <a:lnTo>
                    <a:pt x="316" y="158"/>
                  </a:lnTo>
                  <a:lnTo>
                    <a:pt x="316" y="163"/>
                  </a:lnTo>
                  <a:lnTo>
                    <a:pt x="311" y="173"/>
                  </a:lnTo>
                  <a:lnTo>
                    <a:pt x="301" y="177"/>
                  </a:lnTo>
                  <a:lnTo>
                    <a:pt x="297" y="177"/>
                  </a:lnTo>
                  <a:lnTo>
                    <a:pt x="287" y="182"/>
                  </a:lnTo>
                  <a:lnTo>
                    <a:pt x="277" y="182"/>
                  </a:lnTo>
                  <a:lnTo>
                    <a:pt x="273" y="182"/>
                  </a:lnTo>
                  <a:lnTo>
                    <a:pt x="263" y="182"/>
                  </a:lnTo>
                  <a:lnTo>
                    <a:pt x="254" y="177"/>
                  </a:lnTo>
                  <a:lnTo>
                    <a:pt x="244" y="173"/>
                  </a:lnTo>
                  <a:lnTo>
                    <a:pt x="234" y="168"/>
                  </a:lnTo>
                  <a:lnTo>
                    <a:pt x="220" y="163"/>
                  </a:lnTo>
                  <a:lnTo>
                    <a:pt x="206" y="153"/>
                  </a:lnTo>
                  <a:lnTo>
                    <a:pt x="186" y="144"/>
                  </a:lnTo>
                  <a:lnTo>
                    <a:pt x="167" y="134"/>
                  </a:lnTo>
                  <a:lnTo>
                    <a:pt x="148" y="125"/>
                  </a:lnTo>
                  <a:lnTo>
                    <a:pt x="129" y="110"/>
                  </a:lnTo>
                  <a:lnTo>
                    <a:pt x="105" y="101"/>
                  </a:lnTo>
                  <a:lnTo>
                    <a:pt x="81" y="86"/>
                  </a:lnTo>
                  <a:lnTo>
                    <a:pt x="57" y="67"/>
                  </a:lnTo>
                  <a:lnTo>
                    <a:pt x="28" y="53"/>
                  </a:lnTo>
                  <a:lnTo>
                    <a:pt x="0" y="34"/>
                  </a:lnTo>
                  <a:lnTo>
                    <a:pt x="19" y="24"/>
                  </a:lnTo>
                  <a:lnTo>
                    <a:pt x="38" y="14"/>
                  </a:lnTo>
                  <a:lnTo>
                    <a:pt x="62" y="5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48" y="10"/>
                  </a:lnTo>
                  <a:lnTo>
                    <a:pt x="167" y="14"/>
                  </a:lnTo>
                  <a:lnTo>
                    <a:pt x="186" y="19"/>
                  </a:lnTo>
                  <a:lnTo>
                    <a:pt x="210" y="2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4"/>
            <p:cNvSpPr/>
            <p:nvPr/>
          </p:nvSpPr>
          <p:spPr>
            <a:xfrm>
              <a:off x="3909240" y="3592800"/>
              <a:ext cx="2120040" cy="288720"/>
            </a:xfrm>
            <a:custGeom>
              <a:avLst/>
              <a:gdLst/>
              <a:ahLst/>
              <a:rect l="l" t="t" r="r" b="b"/>
              <a:pathLst>
                <a:path w="1753" h="239">
                  <a:moveTo>
                    <a:pt x="1542" y="0"/>
                  </a:moveTo>
                  <a:lnTo>
                    <a:pt x="1575" y="0"/>
                  </a:lnTo>
                  <a:lnTo>
                    <a:pt x="1604" y="9"/>
                  </a:lnTo>
                  <a:lnTo>
                    <a:pt x="1623" y="9"/>
                  </a:lnTo>
                  <a:lnTo>
                    <a:pt x="1638" y="19"/>
                  </a:lnTo>
                  <a:lnTo>
                    <a:pt x="1652" y="24"/>
                  </a:lnTo>
                  <a:lnTo>
                    <a:pt x="1671" y="33"/>
                  </a:lnTo>
                  <a:lnTo>
                    <a:pt x="1686" y="43"/>
                  </a:lnTo>
                  <a:lnTo>
                    <a:pt x="1700" y="52"/>
                  </a:lnTo>
                  <a:lnTo>
                    <a:pt x="1709" y="57"/>
                  </a:lnTo>
                  <a:lnTo>
                    <a:pt x="1724" y="62"/>
                  </a:lnTo>
                  <a:lnTo>
                    <a:pt x="1729" y="72"/>
                  </a:lnTo>
                  <a:lnTo>
                    <a:pt x="1738" y="76"/>
                  </a:lnTo>
                  <a:lnTo>
                    <a:pt x="1743" y="81"/>
                  </a:lnTo>
                  <a:lnTo>
                    <a:pt x="1748" y="81"/>
                  </a:lnTo>
                  <a:lnTo>
                    <a:pt x="1753" y="96"/>
                  </a:lnTo>
                  <a:lnTo>
                    <a:pt x="1753" y="100"/>
                  </a:lnTo>
                  <a:lnTo>
                    <a:pt x="1753" y="110"/>
                  </a:lnTo>
                  <a:lnTo>
                    <a:pt x="1748" y="115"/>
                  </a:lnTo>
                  <a:lnTo>
                    <a:pt x="1743" y="119"/>
                  </a:lnTo>
                  <a:lnTo>
                    <a:pt x="1733" y="119"/>
                  </a:lnTo>
                  <a:lnTo>
                    <a:pt x="1729" y="124"/>
                  </a:lnTo>
                  <a:lnTo>
                    <a:pt x="1719" y="124"/>
                  </a:lnTo>
                  <a:lnTo>
                    <a:pt x="1705" y="124"/>
                  </a:lnTo>
                  <a:lnTo>
                    <a:pt x="1690" y="124"/>
                  </a:lnTo>
                  <a:lnTo>
                    <a:pt x="1676" y="124"/>
                  </a:lnTo>
                  <a:lnTo>
                    <a:pt x="1662" y="129"/>
                  </a:lnTo>
                  <a:lnTo>
                    <a:pt x="1642" y="129"/>
                  </a:lnTo>
                  <a:lnTo>
                    <a:pt x="1618" y="129"/>
                  </a:lnTo>
                  <a:lnTo>
                    <a:pt x="1599" y="129"/>
                  </a:lnTo>
                  <a:lnTo>
                    <a:pt x="1575" y="129"/>
                  </a:lnTo>
                  <a:lnTo>
                    <a:pt x="1547" y="124"/>
                  </a:lnTo>
                  <a:lnTo>
                    <a:pt x="1518" y="124"/>
                  </a:lnTo>
                  <a:lnTo>
                    <a:pt x="1489" y="124"/>
                  </a:lnTo>
                  <a:lnTo>
                    <a:pt x="1427" y="119"/>
                  </a:lnTo>
                  <a:lnTo>
                    <a:pt x="1365" y="119"/>
                  </a:lnTo>
                  <a:lnTo>
                    <a:pt x="1245" y="124"/>
                  </a:lnTo>
                  <a:lnTo>
                    <a:pt x="1125" y="124"/>
                  </a:lnTo>
                  <a:lnTo>
                    <a:pt x="1005" y="134"/>
                  </a:lnTo>
                  <a:lnTo>
                    <a:pt x="948" y="139"/>
                  </a:lnTo>
                  <a:lnTo>
                    <a:pt x="895" y="143"/>
                  </a:lnTo>
                  <a:lnTo>
                    <a:pt x="843" y="153"/>
                  </a:lnTo>
                  <a:lnTo>
                    <a:pt x="790" y="158"/>
                  </a:lnTo>
                  <a:lnTo>
                    <a:pt x="742" y="163"/>
                  </a:lnTo>
                  <a:lnTo>
                    <a:pt x="694" y="167"/>
                  </a:lnTo>
                  <a:lnTo>
                    <a:pt x="651" y="172"/>
                  </a:lnTo>
                  <a:lnTo>
                    <a:pt x="608" y="172"/>
                  </a:lnTo>
                  <a:lnTo>
                    <a:pt x="526" y="187"/>
                  </a:lnTo>
                  <a:lnTo>
                    <a:pt x="440" y="196"/>
                  </a:lnTo>
                  <a:lnTo>
                    <a:pt x="354" y="206"/>
                  </a:lnTo>
                  <a:lnTo>
                    <a:pt x="273" y="215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15" y="225"/>
                  </a:lnTo>
                  <a:lnTo>
                    <a:pt x="196" y="225"/>
                  </a:lnTo>
                  <a:lnTo>
                    <a:pt x="182" y="230"/>
                  </a:lnTo>
                  <a:lnTo>
                    <a:pt x="167" y="230"/>
                  </a:lnTo>
                  <a:lnTo>
                    <a:pt x="153" y="234"/>
                  </a:lnTo>
                  <a:lnTo>
                    <a:pt x="143" y="234"/>
                  </a:lnTo>
                  <a:lnTo>
                    <a:pt x="134" y="234"/>
                  </a:lnTo>
                  <a:lnTo>
                    <a:pt x="124" y="239"/>
                  </a:lnTo>
                  <a:lnTo>
                    <a:pt x="115" y="239"/>
                  </a:lnTo>
                  <a:lnTo>
                    <a:pt x="105" y="239"/>
                  </a:lnTo>
                  <a:lnTo>
                    <a:pt x="100" y="239"/>
                  </a:lnTo>
                  <a:lnTo>
                    <a:pt x="95" y="239"/>
                  </a:lnTo>
                  <a:lnTo>
                    <a:pt x="91" y="239"/>
                  </a:lnTo>
                  <a:lnTo>
                    <a:pt x="86" y="239"/>
                  </a:lnTo>
                  <a:lnTo>
                    <a:pt x="81" y="239"/>
                  </a:lnTo>
                  <a:lnTo>
                    <a:pt x="76" y="234"/>
                  </a:lnTo>
                  <a:lnTo>
                    <a:pt x="67" y="234"/>
                  </a:lnTo>
                  <a:lnTo>
                    <a:pt x="57" y="230"/>
                  </a:lnTo>
                  <a:lnTo>
                    <a:pt x="47" y="225"/>
                  </a:lnTo>
                  <a:lnTo>
                    <a:pt x="38" y="215"/>
                  </a:lnTo>
                  <a:lnTo>
                    <a:pt x="28" y="206"/>
                  </a:lnTo>
                  <a:lnTo>
                    <a:pt x="24" y="196"/>
                  </a:lnTo>
                  <a:lnTo>
                    <a:pt x="14" y="191"/>
                  </a:lnTo>
                  <a:lnTo>
                    <a:pt x="9" y="182"/>
                  </a:lnTo>
                  <a:lnTo>
                    <a:pt x="4" y="177"/>
                  </a:lnTo>
                  <a:lnTo>
                    <a:pt x="4" y="172"/>
                  </a:lnTo>
                  <a:lnTo>
                    <a:pt x="0" y="167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9" y="153"/>
                  </a:lnTo>
                  <a:lnTo>
                    <a:pt x="28" y="153"/>
                  </a:lnTo>
                  <a:lnTo>
                    <a:pt x="43" y="148"/>
                  </a:lnTo>
                  <a:lnTo>
                    <a:pt x="62" y="148"/>
                  </a:lnTo>
                  <a:lnTo>
                    <a:pt x="86" y="148"/>
                  </a:lnTo>
                  <a:lnTo>
                    <a:pt x="115" y="143"/>
                  </a:lnTo>
                  <a:lnTo>
                    <a:pt x="143" y="139"/>
                  </a:lnTo>
                  <a:lnTo>
                    <a:pt x="177" y="139"/>
                  </a:lnTo>
                  <a:lnTo>
                    <a:pt x="215" y="134"/>
                  </a:lnTo>
                  <a:lnTo>
                    <a:pt x="258" y="129"/>
                  </a:lnTo>
                  <a:lnTo>
                    <a:pt x="306" y="129"/>
                  </a:lnTo>
                  <a:lnTo>
                    <a:pt x="354" y="124"/>
                  </a:lnTo>
                  <a:lnTo>
                    <a:pt x="411" y="119"/>
                  </a:lnTo>
                  <a:lnTo>
                    <a:pt x="469" y="115"/>
                  </a:lnTo>
                  <a:lnTo>
                    <a:pt x="531" y="110"/>
                  </a:lnTo>
                  <a:lnTo>
                    <a:pt x="651" y="96"/>
                  </a:lnTo>
                  <a:lnTo>
                    <a:pt x="713" y="91"/>
                  </a:lnTo>
                  <a:lnTo>
                    <a:pt x="771" y="81"/>
                  </a:lnTo>
                  <a:lnTo>
                    <a:pt x="828" y="76"/>
                  </a:lnTo>
                  <a:lnTo>
                    <a:pt x="881" y="72"/>
                  </a:lnTo>
                  <a:lnTo>
                    <a:pt x="938" y="62"/>
                  </a:lnTo>
                  <a:lnTo>
                    <a:pt x="986" y="57"/>
                  </a:lnTo>
                  <a:lnTo>
                    <a:pt x="1039" y="52"/>
                  </a:lnTo>
                  <a:lnTo>
                    <a:pt x="1087" y="52"/>
                  </a:lnTo>
                  <a:lnTo>
                    <a:pt x="1135" y="48"/>
                  </a:lnTo>
                  <a:lnTo>
                    <a:pt x="1183" y="38"/>
                  </a:lnTo>
                  <a:lnTo>
                    <a:pt x="1226" y="33"/>
                  </a:lnTo>
                  <a:lnTo>
                    <a:pt x="1264" y="28"/>
                  </a:lnTo>
                  <a:lnTo>
                    <a:pt x="1307" y="24"/>
                  </a:lnTo>
                  <a:lnTo>
                    <a:pt x="1341" y="14"/>
                  </a:lnTo>
                  <a:lnTo>
                    <a:pt x="1379" y="14"/>
                  </a:lnTo>
                  <a:lnTo>
                    <a:pt x="1408" y="9"/>
                  </a:lnTo>
                  <a:lnTo>
                    <a:pt x="1436" y="9"/>
                  </a:lnTo>
                  <a:lnTo>
                    <a:pt x="1465" y="5"/>
                  </a:lnTo>
                  <a:lnTo>
                    <a:pt x="1489" y="5"/>
                  </a:lnTo>
                  <a:lnTo>
                    <a:pt x="1508" y="0"/>
                  </a:lnTo>
                  <a:lnTo>
                    <a:pt x="1527" y="0"/>
                  </a:lnTo>
                  <a:lnTo>
                    <a:pt x="1542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3"/>
            <p:cNvSpPr/>
            <p:nvPr/>
          </p:nvSpPr>
          <p:spPr>
            <a:xfrm>
              <a:off x="4841640" y="3511440"/>
              <a:ext cx="191160" cy="1233720"/>
            </a:xfrm>
            <a:custGeom>
              <a:avLst/>
              <a:gdLst/>
              <a:ahLst/>
              <a:rect l="l" t="t" r="r" b="b"/>
              <a:pathLst>
                <a:path w="158" h="1020">
                  <a:moveTo>
                    <a:pt x="19" y="76"/>
                  </a:moveTo>
                  <a:lnTo>
                    <a:pt x="9" y="5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4"/>
                  </a:lnTo>
                  <a:lnTo>
                    <a:pt x="100" y="9"/>
                  </a:lnTo>
                  <a:lnTo>
                    <a:pt x="124" y="19"/>
                  </a:lnTo>
                  <a:lnTo>
                    <a:pt x="139" y="33"/>
                  </a:lnTo>
                  <a:lnTo>
                    <a:pt x="148" y="38"/>
                  </a:lnTo>
                  <a:lnTo>
                    <a:pt x="153" y="48"/>
                  </a:lnTo>
                  <a:lnTo>
                    <a:pt x="158" y="57"/>
                  </a:lnTo>
                  <a:lnTo>
                    <a:pt x="158" y="67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91"/>
                  </a:lnTo>
                  <a:lnTo>
                    <a:pt x="153" y="100"/>
                  </a:lnTo>
                  <a:lnTo>
                    <a:pt x="153" y="115"/>
                  </a:lnTo>
                  <a:lnTo>
                    <a:pt x="153" y="129"/>
                  </a:lnTo>
                  <a:lnTo>
                    <a:pt x="148" y="148"/>
                  </a:lnTo>
                  <a:lnTo>
                    <a:pt x="148" y="172"/>
                  </a:lnTo>
                  <a:lnTo>
                    <a:pt x="148" y="191"/>
                  </a:lnTo>
                  <a:lnTo>
                    <a:pt x="143" y="220"/>
                  </a:lnTo>
                  <a:lnTo>
                    <a:pt x="143" y="249"/>
                  </a:lnTo>
                  <a:lnTo>
                    <a:pt x="143" y="282"/>
                  </a:lnTo>
                  <a:lnTo>
                    <a:pt x="143" y="316"/>
                  </a:lnTo>
                  <a:lnTo>
                    <a:pt x="143" y="354"/>
                  </a:lnTo>
                  <a:lnTo>
                    <a:pt x="139" y="392"/>
                  </a:lnTo>
                  <a:lnTo>
                    <a:pt x="139" y="436"/>
                  </a:lnTo>
                  <a:lnTo>
                    <a:pt x="139" y="483"/>
                  </a:lnTo>
                  <a:lnTo>
                    <a:pt x="139" y="531"/>
                  </a:lnTo>
                  <a:lnTo>
                    <a:pt x="139" y="579"/>
                  </a:lnTo>
                  <a:lnTo>
                    <a:pt x="139" y="627"/>
                  </a:lnTo>
                  <a:lnTo>
                    <a:pt x="139" y="670"/>
                  </a:lnTo>
                  <a:lnTo>
                    <a:pt x="139" y="709"/>
                  </a:lnTo>
                  <a:lnTo>
                    <a:pt x="139" y="747"/>
                  </a:lnTo>
                  <a:lnTo>
                    <a:pt x="139" y="780"/>
                  </a:lnTo>
                  <a:lnTo>
                    <a:pt x="134" y="814"/>
                  </a:lnTo>
                  <a:lnTo>
                    <a:pt x="134" y="843"/>
                  </a:lnTo>
                  <a:lnTo>
                    <a:pt x="134" y="867"/>
                  </a:lnTo>
                  <a:lnTo>
                    <a:pt x="134" y="891"/>
                  </a:lnTo>
                  <a:lnTo>
                    <a:pt x="129" y="914"/>
                  </a:lnTo>
                  <a:lnTo>
                    <a:pt x="129" y="934"/>
                  </a:lnTo>
                  <a:lnTo>
                    <a:pt x="129" y="948"/>
                  </a:lnTo>
                  <a:lnTo>
                    <a:pt x="124" y="962"/>
                  </a:lnTo>
                  <a:lnTo>
                    <a:pt x="124" y="972"/>
                  </a:lnTo>
                  <a:lnTo>
                    <a:pt x="124" y="977"/>
                  </a:lnTo>
                  <a:lnTo>
                    <a:pt x="110" y="996"/>
                  </a:lnTo>
                  <a:lnTo>
                    <a:pt x="100" y="1010"/>
                  </a:lnTo>
                  <a:lnTo>
                    <a:pt x="91" y="1015"/>
                  </a:lnTo>
                  <a:lnTo>
                    <a:pt x="86" y="1020"/>
                  </a:lnTo>
                  <a:lnTo>
                    <a:pt x="81" y="1020"/>
                  </a:lnTo>
                  <a:lnTo>
                    <a:pt x="76" y="1020"/>
                  </a:lnTo>
                  <a:lnTo>
                    <a:pt x="72" y="1015"/>
                  </a:lnTo>
                  <a:lnTo>
                    <a:pt x="67" y="1010"/>
                  </a:lnTo>
                  <a:lnTo>
                    <a:pt x="62" y="1001"/>
                  </a:lnTo>
                  <a:lnTo>
                    <a:pt x="57" y="991"/>
                  </a:lnTo>
                  <a:lnTo>
                    <a:pt x="48" y="977"/>
                  </a:lnTo>
                  <a:lnTo>
                    <a:pt x="43" y="958"/>
                  </a:lnTo>
                  <a:lnTo>
                    <a:pt x="38" y="938"/>
                  </a:lnTo>
                  <a:lnTo>
                    <a:pt x="28" y="914"/>
                  </a:lnTo>
                  <a:lnTo>
                    <a:pt x="24" y="895"/>
                  </a:lnTo>
                  <a:lnTo>
                    <a:pt x="19" y="876"/>
                  </a:lnTo>
                  <a:lnTo>
                    <a:pt x="14" y="857"/>
                  </a:lnTo>
                  <a:lnTo>
                    <a:pt x="14" y="838"/>
                  </a:lnTo>
                  <a:lnTo>
                    <a:pt x="14" y="819"/>
                  </a:lnTo>
                  <a:lnTo>
                    <a:pt x="14" y="800"/>
                  </a:lnTo>
                  <a:lnTo>
                    <a:pt x="19" y="780"/>
                  </a:lnTo>
                  <a:lnTo>
                    <a:pt x="24" y="761"/>
                  </a:lnTo>
                  <a:lnTo>
                    <a:pt x="28" y="742"/>
                  </a:lnTo>
                  <a:lnTo>
                    <a:pt x="33" y="723"/>
                  </a:lnTo>
                  <a:lnTo>
                    <a:pt x="38" y="699"/>
                  </a:lnTo>
                  <a:lnTo>
                    <a:pt x="43" y="670"/>
                  </a:lnTo>
                  <a:lnTo>
                    <a:pt x="48" y="637"/>
                  </a:lnTo>
                  <a:lnTo>
                    <a:pt x="48" y="603"/>
                  </a:lnTo>
                  <a:lnTo>
                    <a:pt x="52" y="565"/>
                  </a:lnTo>
                  <a:lnTo>
                    <a:pt x="57" y="488"/>
                  </a:lnTo>
                  <a:lnTo>
                    <a:pt x="62" y="416"/>
                  </a:lnTo>
                  <a:lnTo>
                    <a:pt x="62" y="335"/>
                  </a:lnTo>
                  <a:lnTo>
                    <a:pt x="62" y="258"/>
                  </a:lnTo>
                  <a:lnTo>
                    <a:pt x="57" y="220"/>
                  </a:lnTo>
                  <a:lnTo>
                    <a:pt x="57" y="191"/>
                  </a:lnTo>
                  <a:lnTo>
                    <a:pt x="52" y="163"/>
                  </a:lnTo>
                  <a:lnTo>
                    <a:pt x="48" y="139"/>
                  </a:lnTo>
                  <a:lnTo>
                    <a:pt x="43" y="119"/>
                  </a:lnTo>
                  <a:lnTo>
                    <a:pt x="33" y="100"/>
                  </a:lnTo>
                  <a:lnTo>
                    <a:pt x="28" y="86"/>
                  </a:lnTo>
                  <a:lnTo>
                    <a:pt x="19" y="7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3966120" y="3754440"/>
              <a:ext cx="990360" cy="793440"/>
            </a:xfrm>
            <a:custGeom>
              <a:avLst/>
              <a:gdLst/>
              <a:ahLst/>
              <a:rect l="l" t="t" r="r" b="b"/>
              <a:pathLst>
                <a:path w="819" h="656">
                  <a:moveTo>
                    <a:pt x="374" y="469"/>
                  </a:moveTo>
                  <a:lnTo>
                    <a:pt x="312" y="508"/>
                  </a:lnTo>
                  <a:lnTo>
                    <a:pt x="250" y="541"/>
                  </a:lnTo>
                  <a:lnTo>
                    <a:pt x="192" y="575"/>
                  </a:lnTo>
                  <a:lnTo>
                    <a:pt x="130" y="613"/>
                  </a:lnTo>
                  <a:lnTo>
                    <a:pt x="101" y="627"/>
                  </a:lnTo>
                  <a:lnTo>
                    <a:pt x="77" y="637"/>
                  </a:lnTo>
                  <a:lnTo>
                    <a:pt x="58" y="646"/>
                  </a:lnTo>
                  <a:lnTo>
                    <a:pt x="39" y="651"/>
                  </a:lnTo>
                  <a:lnTo>
                    <a:pt x="24" y="656"/>
                  </a:lnTo>
                  <a:lnTo>
                    <a:pt x="15" y="656"/>
                  </a:lnTo>
                  <a:lnTo>
                    <a:pt x="5" y="656"/>
                  </a:lnTo>
                  <a:lnTo>
                    <a:pt x="0" y="656"/>
                  </a:lnTo>
                  <a:lnTo>
                    <a:pt x="0" y="651"/>
                  </a:lnTo>
                  <a:lnTo>
                    <a:pt x="0" y="642"/>
                  </a:lnTo>
                  <a:lnTo>
                    <a:pt x="5" y="637"/>
                  </a:lnTo>
                  <a:lnTo>
                    <a:pt x="15" y="627"/>
                  </a:lnTo>
                  <a:lnTo>
                    <a:pt x="29" y="613"/>
                  </a:lnTo>
                  <a:lnTo>
                    <a:pt x="48" y="599"/>
                  </a:lnTo>
                  <a:lnTo>
                    <a:pt x="68" y="584"/>
                  </a:lnTo>
                  <a:lnTo>
                    <a:pt x="96" y="570"/>
                  </a:lnTo>
                  <a:lnTo>
                    <a:pt x="149" y="536"/>
                  </a:lnTo>
                  <a:lnTo>
                    <a:pt x="197" y="503"/>
                  </a:lnTo>
                  <a:lnTo>
                    <a:pt x="250" y="464"/>
                  </a:lnTo>
                  <a:lnTo>
                    <a:pt x="293" y="421"/>
                  </a:lnTo>
                  <a:lnTo>
                    <a:pt x="307" y="412"/>
                  </a:lnTo>
                  <a:lnTo>
                    <a:pt x="321" y="397"/>
                  </a:lnTo>
                  <a:lnTo>
                    <a:pt x="336" y="383"/>
                  </a:lnTo>
                  <a:lnTo>
                    <a:pt x="355" y="369"/>
                  </a:lnTo>
                  <a:lnTo>
                    <a:pt x="374" y="349"/>
                  </a:lnTo>
                  <a:lnTo>
                    <a:pt x="393" y="326"/>
                  </a:lnTo>
                  <a:lnTo>
                    <a:pt x="412" y="306"/>
                  </a:lnTo>
                  <a:lnTo>
                    <a:pt x="436" y="278"/>
                  </a:lnTo>
                  <a:lnTo>
                    <a:pt x="465" y="254"/>
                  </a:lnTo>
                  <a:lnTo>
                    <a:pt x="494" y="220"/>
                  </a:lnTo>
                  <a:lnTo>
                    <a:pt x="523" y="191"/>
                  </a:lnTo>
                  <a:lnTo>
                    <a:pt x="551" y="158"/>
                  </a:lnTo>
                  <a:lnTo>
                    <a:pt x="585" y="120"/>
                  </a:lnTo>
                  <a:lnTo>
                    <a:pt x="618" y="81"/>
                  </a:lnTo>
                  <a:lnTo>
                    <a:pt x="652" y="43"/>
                  </a:lnTo>
                  <a:lnTo>
                    <a:pt x="690" y="0"/>
                  </a:lnTo>
                  <a:lnTo>
                    <a:pt x="757" y="14"/>
                  </a:lnTo>
                  <a:lnTo>
                    <a:pt x="819" y="33"/>
                  </a:lnTo>
                  <a:lnTo>
                    <a:pt x="781" y="76"/>
                  </a:lnTo>
                  <a:lnTo>
                    <a:pt x="743" y="120"/>
                  </a:lnTo>
                  <a:lnTo>
                    <a:pt x="705" y="158"/>
                  </a:lnTo>
                  <a:lnTo>
                    <a:pt x="671" y="196"/>
                  </a:lnTo>
                  <a:lnTo>
                    <a:pt x="637" y="230"/>
                  </a:lnTo>
                  <a:lnTo>
                    <a:pt x="604" y="263"/>
                  </a:lnTo>
                  <a:lnTo>
                    <a:pt x="575" y="292"/>
                  </a:lnTo>
                  <a:lnTo>
                    <a:pt x="546" y="321"/>
                  </a:lnTo>
                  <a:lnTo>
                    <a:pt x="518" y="345"/>
                  </a:lnTo>
                  <a:lnTo>
                    <a:pt x="494" y="369"/>
                  </a:lnTo>
                  <a:lnTo>
                    <a:pt x="465" y="393"/>
                  </a:lnTo>
                  <a:lnTo>
                    <a:pt x="446" y="412"/>
                  </a:lnTo>
                  <a:lnTo>
                    <a:pt x="422" y="431"/>
                  </a:lnTo>
                  <a:lnTo>
                    <a:pt x="403" y="445"/>
                  </a:lnTo>
                  <a:lnTo>
                    <a:pt x="388" y="460"/>
                  </a:lnTo>
                  <a:lnTo>
                    <a:pt x="374" y="46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1"/>
            <p:cNvSpPr/>
            <p:nvPr/>
          </p:nvSpPr>
          <p:spPr>
            <a:xfrm>
              <a:off x="4939560" y="3742560"/>
              <a:ext cx="1268640" cy="759600"/>
            </a:xfrm>
            <a:custGeom>
              <a:avLst/>
              <a:gdLst/>
              <a:ahLst/>
              <a:rect l="l" t="t" r="r" b="b"/>
              <a:pathLst>
                <a:path w="1049" h="628">
                  <a:moveTo>
                    <a:pt x="24" y="0"/>
                  </a:moveTo>
                  <a:lnTo>
                    <a:pt x="53" y="29"/>
                  </a:lnTo>
                  <a:lnTo>
                    <a:pt x="86" y="58"/>
                  </a:lnTo>
                  <a:lnTo>
                    <a:pt x="125" y="86"/>
                  </a:lnTo>
                  <a:lnTo>
                    <a:pt x="158" y="115"/>
                  </a:lnTo>
                  <a:lnTo>
                    <a:pt x="201" y="144"/>
                  </a:lnTo>
                  <a:lnTo>
                    <a:pt x="244" y="173"/>
                  </a:lnTo>
                  <a:lnTo>
                    <a:pt x="288" y="201"/>
                  </a:lnTo>
                  <a:lnTo>
                    <a:pt x="335" y="230"/>
                  </a:lnTo>
                  <a:lnTo>
                    <a:pt x="383" y="268"/>
                  </a:lnTo>
                  <a:lnTo>
                    <a:pt x="431" y="297"/>
                  </a:lnTo>
                  <a:lnTo>
                    <a:pt x="484" y="326"/>
                  </a:lnTo>
                  <a:lnTo>
                    <a:pt x="537" y="355"/>
                  </a:lnTo>
                  <a:lnTo>
                    <a:pt x="594" y="383"/>
                  </a:lnTo>
                  <a:lnTo>
                    <a:pt x="656" y="407"/>
                  </a:lnTo>
                  <a:lnTo>
                    <a:pt x="719" y="431"/>
                  </a:lnTo>
                  <a:lnTo>
                    <a:pt x="786" y="455"/>
                  </a:lnTo>
                  <a:lnTo>
                    <a:pt x="814" y="470"/>
                  </a:lnTo>
                  <a:lnTo>
                    <a:pt x="848" y="479"/>
                  </a:lnTo>
                  <a:lnTo>
                    <a:pt x="877" y="489"/>
                  </a:lnTo>
                  <a:lnTo>
                    <a:pt x="901" y="498"/>
                  </a:lnTo>
                  <a:lnTo>
                    <a:pt x="925" y="508"/>
                  </a:lnTo>
                  <a:lnTo>
                    <a:pt x="948" y="518"/>
                  </a:lnTo>
                  <a:lnTo>
                    <a:pt x="968" y="527"/>
                  </a:lnTo>
                  <a:lnTo>
                    <a:pt x="987" y="532"/>
                  </a:lnTo>
                  <a:lnTo>
                    <a:pt x="1001" y="537"/>
                  </a:lnTo>
                  <a:lnTo>
                    <a:pt x="1016" y="546"/>
                  </a:lnTo>
                  <a:lnTo>
                    <a:pt x="1025" y="551"/>
                  </a:lnTo>
                  <a:lnTo>
                    <a:pt x="1035" y="551"/>
                  </a:lnTo>
                  <a:lnTo>
                    <a:pt x="1044" y="556"/>
                  </a:lnTo>
                  <a:lnTo>
                    <a:pt x="1049" y="561"/>
                  </a:lnTo>
                  <a:lnTo>
                    <a:pt x="1049" y="565"/>
                  </a:lnTo>
                  <a:lnTo>
                    <a:pt x="1044" y="570"/>
                  </a:lnTo>
                  <a:lnTo>
                    <a:pt x="1039" y="570"/>
                  </a:lnTo>
                  <a:lnTo>
                    <a:pt x="1035" y="575"/>
                  </a:lnTo>
                  <a:lnTo>
                    <a:pt x="1030" y="575"/>
                  </a:lnTo>
                  <a:lnTo>
                    <a:pt x="1020" y="580"/>
                  </a:lnTo>
                  <a:lnTo>
                    <a:pt x="1011" y="580"/>
                  </a:lnTo>
                  <a:lnTo>
                    <a:pt x="1001" y="585"/>
                  </a:lnTo>
                  <a:lnTo>
                    <a:pt x="992" y="589"/>
                  </a:lnTo>
                  <a:lnTo>
                    <a:pt x="977" y="589"/>
                  </a:lnTo>
                  <a:lnTo>
                    <a:pt x="963" y="594"/>
                  </a:lnTo>
                  <a:lnTo>
                    <a:pt x="948" y="594"/>
                  </a:lnTo>
                  <a:lnTo>
                    <a:pt x="934" y="599"/>
                  </a:lnTo>
                  <a:lnTo>
                    <a:pt x="915" y="604"/>
                  </a:lnTo>
                  <a:lnTo>
                    <a:pt x="896" y="604"/>
                  </a:lnTo>
                  <a:lnTo>
                    <a:pt x="857" y="613"/>
                  </a:lnTo>
                  <a:lnTo>
                    <a:pt x="819" y="618"/>
                  </a:lnTo>
                  <a:lnTo>
                    <a:pt x="786" y="623"/>
                  </a:lnTo>
                  <a:lnTo>
                    <a:pt x="752" y="623"/>
                  </a:lnTo>
                  <a:lnTo>
                    <a:pt x="723" y="623"/>
                  </a:lnTo>
                  <a:lnTo>
                    <a:pt x="699" y="628"/>
                  </a:lnTo>
                  <a:lnTo>
                    <a:pt x="675" y="623"/>
                  </a:lnTo>
                  <a:lnTo>
                    <a:pt x="656" y="623"/>
                  </a:lnTo>
                  <a:lnTo>
                    <a:pt x="632" y="618"/>
                  </a:lnTo>
                  <a:lnTo>
                    <a:pt x="604" y="609"/>
                  </a:lnTo>
                  <a:lnTo>
                    <a:pt x="580" y="594"/>
                  </a:lnTo>
                  <a:lnTo>
                    <a:pt x="551" y="575"/>
                  </a:lnTo>
                  <a:lnTo>
                    <a:pt x="522" y="551"/>
                  </a:lnTo>
                  <a:lnTo>
                    <a:pt x="489" y="522"/>
                  </a:lnTo>
                  <a:lnTo>
                    <a:pt x="474" y="503"/>
                  </a:lnTo>
                  <a:lnTo>
                    <a:pt x="455" y="489"/>
                  </a:lnTo>
                  <a:lnTo>
                    <a:pt x="441" y="470"/>
                  </a:lnTo>
                  <a:lnTo>
                    <a:pt x="422" y="450"/>
                  </a:lnTo>
                  <a:lnTo>
                    <a:pt x="383" y="412"/>
                  </a:lnTo>
                  <a:lnTo>
                    <a:pt x="350" y="379"/>
                  </a:lnTo>
                  <a:lnTo>
                    <a:pt x="321" y="350"/>
                  </a:lnTo>
                  <a:lnTo>
                    <a:pt x="292" y="326"/>
                  </a:lnTo>
                  <a:lnTo>
                    <a:pt x="264" y="302"/>
                  </a:lnTo>
                  <a:lnTo>
                    <a:pt x="244" y="278"/>
                  </a:lnTo>
                  <a:lnTo>
                    <a:pt x="225" y="264"/>
                  </a:lnTo>
                  <a:lnTo>
                    <a:pt x="206" y="249"/>
                  </a:lnTo>
                  <a:lnTo>
                    <a:pt x="187" y="235"/>
                  </a:lnTo>
                  <a:lnTo>
                    <a:pt x="168" y="216"/>
                  </a:lnTo>
                  <a:lnTo>
                    <a:pt x="144" y="197"/>
                  </a:lnTo>
                  <a:lnTo>
                    <a:pt x="120" y="173"/>
                  </a:lnTo>
                  <a:lnTo>
                    <a:pt x="96" y="149"/>
                  </a:lnTo>
                  <a:lnTo>
                    <a:pt x="62" y="120"/>
                  </a:lnTo>
                  <a:lnTo>
                    <a:pt x="34" y="86"/>
                  </a:lnTo>
                  <a:lnTo>
                    <a:pt x="0" y="48"/>
                  </a:lnTo>
                  <a:lnTo>
                    <a:pt x="24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0"/>
            <p:cNvSpPr/>
            <p:nvPr/>
          </p:nvSpPr>
          <p:spPr>
            <a:xfrm>
              <a:off x="4528440" y="2606760"/>
              <a:ext cx="701280" cy="956880"/>
            </a:xfrm>
            <a:custGeom>
              <a:avLst/>
              <a:gdLst/>
              <a:ahLst/>
              <a:rect l="l" t="t" r="r" b="b"/>
              <a:pathLst>
                <a:path w="580" h="791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5" y="772"/>
                  </a:lnTo>
                  <a:lnTo>
                    <a:pt x="14" y="762"/>
                  </a:lnTo>
                  <a:lnTo>
                    <a:pt x="29" y="748"/>
                  </a:lnTo>
                  <a:lnTo>
                    <a:pt x="43" y="733"/>
                  </a:lnTo>
                  <a:lnTo>
                    <a:pt x="58" y="719"/>
                  </a:lnTo>
                  <a:lnTo>
                    <a:pt x="81" y="700"/>
                  </a:lnTo>
                  <a:lnTo>
                    <a:pt x="101" y="681"/>
                  </a:lnTo>
                  <a:lnTo>
                    <a:pt x="125" y="661"/>
                  </a:lnTo>
                  <a:lnTo>
                    <a:pt x="149" y="637"/>
                  </a:lnTo>
                  <a:lnTo>
                    <a:pt x="172" y="614"/>
                  </a:lnTo>
                  <a:lnTo>
                    <a:pt x="196" y="585"/>
                  </a:lnTo>
                  <a:lnTo>
                    <a:pt x="220" y="556"/>
                  </a:lnTo>
                  <a:lnTo>
                    <a:pt x="244" y="523"/>
                  </a:lnTo>
                  <a:lnTo>
                    <a:pt x="268" y="489"/>
                  </a:lnTo>
                  <a:lnTo>
                    <a:pt x="292" y="455"/>
                  </a:lnTo>
                  <a:lnTo>
                    <a:pt x="316" y="422"/>
                  </a:lnTo>
                  <a:lnTo>
                    <a:pt x="340" y="393"/>
                  </a:lnTo>
                  <a:lnTo>
                    <a:pt x="359" y="360"/>
                  </a:lnTo>
                  <a:lnTo>
                    <a:pt x="378" y="326"/>
                  </a:lnTo>
                  <a:lnTo>
                    <a:pt x="393" y="293"/>
                  </a:lnTo>
                  <a:lnTo>
                    <a:pt x="407" y="259"/>
                  </a:lnTo>
                  <a:lnTo>
                    <a:pt x="417" y="226"/>
                  </a:lnTo>
                  <a:lnTo>
                    <a:pt x="426" y="192"/>
                  </a:lnTo>
                  <a:lnTo>
                    <a:pt x="431" y="159"/>
                  </a:lnTo>
                  <a:lnTo>
                    <a:pt x="436" y="130"/>
                  </a:lnTo>
                  <a:lnTo>
                    <a:pt x="441" y="101"/>
                  </a:lnTo>
                  <a:lnTo>
                    <a:pt x="446" y="72"/>
                  </a:lnTo>
                  <a:lnTo>
                    <a:pt x="446" y="48"/>
                  </a:lnTo>
                  <a:lnTo>
                    <a:pt x="446" y="24"/>
                  </a:lnTo>
                  <a:lnTo>
                    <a:pt x="441" y="0"/>
                  </a:lnTo>
                  <a:lnTo>
                    <a:pt x="474" y="20"/>
                  </a:lnTo>
                  <a:lnTo>
                    <a:pt x="503" y="34"/>
                  </a:lnTo>
                  <a:lnTo>
                    <a:pt x="527" y="44"/>
                  </a:lnTo>
                  <a:lnTo>
                    <a:pt x="546" y="58"/>
                  </a:lnTo>
                  <a:lnTo>
                    <a:pt x="560" y="72"/>
                  </a:lnTo>
                  <a:lnTo>
                    <a:pt x="570" y="82"/>
                  </a:lnTo>
                  <a:lnTo>
                    <a:pt x="580" y="91"/>
                  </a:lnTo>
                  <a:lnTo>
                    <a:pt x="580" y="101"/>
                  </a:lnTo>
                  <a:lnTo>
                    <a:pt x="580" y="111"/>
                  </a:lnTo>
                  <a:lnTo>
                    <a:pt x="575" y="125"/>
                  </a:lnTo>
                  <a:lnTo>
                    <a:pt x="575" y="139"/>
                  </a:lnTo>
                  <a:lnTo>
                    <a:pt x="565" y="159"/>
                  </a:lnTo>
                  <a:lnTo>
                    <a:pt x="560" y="182"/>
                  </a:lnTo>
                  <a:lnTo>
                    <a:pt x="551" y="206"/>
                  </a:lnTo>
                  <a:lnTo>
                    <a:pt x="541" y="235"/>
                  </a:lnTo>
                  <a:lnTo>
                    <a:pt x="527" y="269"/>
                  </a:lnTo>
                  <a:lnTo>
                    <a:pt x="513" y="302"/>
                  </a:lnTo>
                  <a:lnTo>
                    <a:pt x="493" y="336"/>
                  </a:lnTo>
                  <a:lnTo>
                    <a:pt x="474" y="369"/>
                  </a:lnTo>
                  <a:lnTo>
                    <a:pt x="455" y="403"/>
                  </a:lnTo>
                  <a:lnTo>
                    <a:pt x="431" y="436"/>
                  </a:lnTo>
                  <a:lnTo>
                    <a:pt x="407" y="470"/>
                  </a:lnTo>
                  <a:lnTo>
                    <a:pt x="383" y="503"/>
                  </a:lnTo>
                  <a:lnTo>
                    <a:pt x="354" y="532"/>
                  </a:lnTo>
                  <a:lnTo>
                    <a:pt x="326" y="566"/>
                  </a:lnTo>
                  <a:lnTo>
                    <a:pt x="297" y="594"/>
                  </a:lnTo>
                  <a:lnTo>
                    <a:pt x="273" y="618"/>
                  </a:lnTo>
                  <a:lnTo>
                    <a:pt x="244" y="647"/>
                  </a:lnTo>
                  <a:lnTo>
                    <a:pt x="216" y="671"/>
                  </a:lnTo>
                  <a:lnTo>
                    <a:pt x="187" y="690"/>
                  </a:lnTo>
                  <a:lnTo>
                    <a:pt x="158" y="714"/>
                  </a:lnTo>
                  <a:lnTo>
                    <a:pt x="129" y="733"/>
                  </a:lnTo>
                  <a:lnTo>
                    <a:pt x="105" y="748"/>
                  </a:lnTo>
                  <a:lnTo>
                    <a:pt x="81" y="762"/>
                  </a:lnTo>
                  <a:lnTo>
                    <a:pt x="58" y="776"/>
                  </a:lnTo>
                  <a:lnTo>
                    <a:pt x="43" y="781"/>
                  </a:lnTo>
                  <a:lnTo>
                    <a:pt x="24" y="791"/>
                  </a:lnTo>
                  <a:lnTo>
                    <a:pt x="14" y="791"/>
                  </a:lnTo>
                  <a:lnTo>
                    <a:pt x="5" y="791"/>
                  </a:lnTo>
                  <a:lnTo>
                    <a:pt x="0" y="791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9"/>
            <p:cNvSpPr/>
            <p:nvPr/>
          </p:nvSpPr>
          <p:spPr>
            <a:xfrm>
              <a:off x="4227480" y="2450520"/>
              <a:ext cx="307080" cy="23184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86" y="115"/>
                  </a:moveTo>
                  <a:lnTo>
                    <a:pt x="67" y="96"/>
                  </a:lnTo>
                  <a:lnTo>
                    <a:pt x="48" y="77"/>
                  </a:lnTo>
                  <a:lnTo>
                    <a:pt x="34" y="62"/>
                  </a:lnTo>
                  <a:lnTo>
                    <a:pt x="19" y="48"/>
                  </a:lnTo>
                  <a:lnTo>
                    <a:pt x="14" y="3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" y="0"/>
                  </a:lnTo>
                  <a:lnTo>
                    <a:pt x="72" y="5"/>
                  </a:lnTo>
                  <a:lnTo>
                    <a:pt x="110" y="10"/>
                  </a:lnTo>
                  <a:lnTo>
                    <a:pt x="148" y="15"/>
                  </a:lnTo>
                  <a:lnTo>
                    <a:pt x="177" y="24"/>
                  </a:lnTo>
                  <a:lnTo>
                    <a:pt x="192" y="29"/>
                  </a:lnTo>
                  <a:lnTo>
                    <a:pt x="206" y="34"/>
                  </a:lnTo>
                  <a:lnTo>
                    <a:pt x="216" y="38"/>
                  </a:lnTo>
                  <a:lnTo>
                    <a:pt x="225" y="48"/>
                  </a:lnTo>
                  <a:lnTo>
                    <a:pt x="235" y="58"/>
                  </a:lnTo>
                  <a:lnTo>
                    <a:pt x="244" y="62"/>
                  </a:lnTo>
                  <a:lnTo>
                    <a:pt x="249" y="77"/>
                  </a:lnTo>
                  <a:lnTo>
                    <a:pt x="254" y="86"/>
                  </a:lnTo>
                  <a:lnTo>
                    <a:pt x="254" y="96"/>
                  </a:lnTo>
                  <a:lnTo>
                    <a:pt x="254" y="106"/>
                  </a:lnTo>
                  <a:lnTo>
                    <a:pt x="254" y="129"/>
                  </a:lnTo>
                  <a:lnTo>
                    <a:pt x="249" y="149"/>
                  </a:lnTo>
                  <a:lnTo>
                    <a:pt x="244" y="158"/>
                  </a:lnTo>
                  <a:lnTo>
                    <a:pt x="239" y="168"/>
                  </a:lnTo>
                  <a:lnTo>
                    <a:pt x="230" y="177"/>
                  </a:lnTo>
                  <a:lnTo>
                    <a:pt x="225" y="182"/>
                  </a:lnTo>
                  <a:lnTo>
                    <a:pt x="220" y="187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87"/>
                  </a:lnTo>
                  <a:lnTo>
                    <a:pt x="192" y="187"/>
                  </a:lnTo>
                  <a:lnTo>
                    <a:pt x="182" y="187"/>
                  </a:lnTo>
                  <a:lnTo>
                    <a:pt x="172" y="177"/>
                  </a:lnTo>
                  <a:lnTo>
                    <a:pt x="158" y="173"/>
                  </a:lnTo>
                  <a:lnTo>
                    <a:pt x="144" y="158"/>
                  </a:lnTo>
                  <a:lnTo>
                    <a:pt x="129" y="149"/>
                  </a:lnTo>
                  <a:lnTo>
                    <a:pt x="110" y="134"/>
                  </a:lnTo>
                  <a:lnTo>
                    <a:pt x="86" y="115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8"/>
            <p:cNvSpPr/>
            <p:nvPr/>
          </p:nvSpPr>
          <p:spPr>
            <a:xfrm>
              <a:off x="4094280" y="2781000"/>
              <a:ext cx="271800" cy="219960"/>
            </a:xfrm>
            <a:custGeom>
              <a:avLst/>
              <a:gdLst/>
              <a:ahLst/>
              <a:rect l="l" t="t" r="r" b="b"/>
              <a:pathLst>
                <a:path w="225" h="182">
                  <a:moveTo>
                    <a:pt x="144" y="24"/>
                  </a:moveTo>
                  <a:lnTo>
                    <a:pt x="163" y="29"/>
                  </a:lnTo>
                  <a:lnTo>
                    <a:pt x="172" y="38"/>
                  </a:lnTo>
                  <a:lnTo>
                    <a:pt x="187" y="48"/>
                  </a:lnTo>
                  <a:lnTo>
                    <a:pt x="196" y="53"/>
                  </a:lnTo>
                  <a:lnTo>
                    <a:pt x="206" y="62"/>
                  </a:lnTo>
                  <a:lnTo>
                    <a:pt x="215" y="72"/>
                  </a:lnTo>
                  <a:lnTo>
                    <a:pt x="220" y="82"/>
                  </a:lnTo>
                  <a:lnTo>
                    <a:pt x="225" y="91"/>
                  </a:lnTo>
                  <a:lnTo>
                    <a:pt x="225" y="101"/>
                  </a:lnTo>
                  <a:lnTo>
                    <a:pt x="225" y="115"/>
                  </a:lnTo>
                  <a:lnTo>
                    <a:pt x="225" y="134"/>
                  </a:lnTo>
                  <a:lnTo>
                    <a:pt x="225" y="139"/>
                  </a:lnTo>
                  <a:lnTo>
                    <a:pt x="220" y="149"/>
                  </a:lnTo>
                  <a:lnTo>
                    <a:pt x="215" y="153"/>
                  </a:lnTo>
                  <a:lnTo>
                    <a:pt x="215" y="158"/>
                  </a:lnTo>
                  <a:lnTo>
                    <a:pt x="201" y="168"/>
                  </a:lnTo>
                  <a:lnTo>
                    <a:pt x="191" y="177"/>
                  </a:lnTo>
                  <a:lnTo>
                    <a:pt x="177" y="182"/>
                  </a:lnTo>
                  <a:lnTo>
                    <a:pt x="172" y="182"/>
                  </a:lnTo>
                  <a:lnTo>
                    <a:pt x="167" y="182"/>
                  </a:lnTo>
                  <a:lnTo>
                    <a:pt x="158" y="177"/>
                  </a:lnTo>
                  <a:lnTo>
                    <a:pt x="148" y="173"/>
                  </a:lnTo>
                  <a:lnTo>
                    <a:pt x="139" y="163"/>
                  </a:lnTo>
                  <a:lnTo>
                    <a:pt x="124" y="153"/>
                  </a:lnTo>
                  <a:lnTo>
                    <a:pt x="110" y="144"/>
                  </a:lnTo>
                  <a:lnTo>
                    <a:pt x="96" y="129"/>
                  </a:lnTo>
                  <a:lnTo>
                    <a:pt x="76" y="115"/>
                  </a:lnTo>
                  <a:lnTo>
                    <a:pt x="57" y="101"/>
                  </a:lnTo>
                  <a:lnTo>
                    <a:pt x="43" y="86"/>
                  </a:lnTo>
                  <a:lnTo>
                    <a:pt x="29" y="67"/>
                  </a:lnTo>
                  <a:lnTo>
                    <a:pt x="19" y="53"/>
                  </a:lnTo>
                  <a:lnTo>
                    <a:pt x="9" y="38"/>
                  </a:lnTo>
                  <a:lnTo>
                    <a:pt x="5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81" y="5"/>
                  </a:lnTo>
                  <a:lnTo>
                    <a:pt x="100" y="10"/>
                  </a:lnTo>
                  <a:lnTo>
                    <a:pt x="115" y="15"/>
                  </a:lnTo>
                  <a:lnTo>
                    <a:pt x="129" y="19"/>
                  </a:lnTo>
                  <a:lnTo>
                    <a:pt x="144" y="2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7"/>
            <p:cNvSpPr/>
            <p:nvPr/>
          </p:nvSpPr>
          <p:spPr>
            <a:xfrm>
              <a:off x="4667760" y="2787120"/>
              <a:ext cx="185040" cy="352800"/>
            </a:xfrm>
            <a:custGeom>
              <a:avLst/>
              <a:gdLst/>
              <a:ahLst/>
              <a:rect l="l" t="t" r="r" b="b"/>
              <a:pathLst>
                <a:path w="153" h="292">
                  <a:moveTo>
                    <a:pt x="110" y="0"/>
                  </a:moveTo>
                  <a:lnTo>
                    <a:pt x="129" y="24"/>
                  </a:lnTo>
                  <a:lnTo>
                    <a:pt x="134" y="33"/>
                  </a:lnTo>
                  <a:lnTo>
                    <a:pt x="144" y="43"/>
                  </a:lnTo>
                  <a:lnTo>
                    <a:pt x="148" y="57"/>
                  </a:lnTo>
                  <a:lnTo>
                    <a:pt x="153" y="67"/>
                  </a:lnTo>
                  <a:lnTo>
                    <a:pt x="153" y="81"/>
                  </a:lnTo>
                  <a:lnTo>
                    <a:pt x="153" y="96"/>
                  </a:lnTo>
                  <a:lnTo>
                    <a:pt x="153" y="105"/>
                  </a:lnTo>
                  <a:lnTo>
                    <a:pt x="153" y="120"/>
                  </a:lnTo>
                  <a:lnTo>
                    <a:pt x="148" y="134"/>
                  </a:lnTo>
                  <a:lnTo>
                    <a:pt x="144" y="148"/>
                  </a:lnTo>
                  <a:lnTo>
                    <a:pt x="129" y="182"/>
                  </a:lnTo>
                  <a:lnTo>
                    <a:pt x="110" y="220"/>
                  </a:lnTo>
                  <a:lnTo>
                    <a:pt x="101" y="235"/>
                  </a:lnTo>
                  <a:lnTo>
                    <a:pt x="91" y="249"/>
                  </a:lnTo>
                  <a:lnTo>
                    <a:pt x="81" y="263"/>
                  </a:lnTo>
                  <a:lnTo>
                    <a:pt x="77" y="273"/>
                  </a:lnTo>
                  <a:lnTo>
                    <a:pt x="67" y="283"/>
                  </a:lnTo>
                  <a:lnTo>
                    <a:pt x="62" y="287"/>
                  </a:lnTo>
                  <a:lnTo>
                    <a:pt x="53" y="292"/>
                  </a:lnTo>
                  <a:lnTo>
                    <a:pt x="43" y="292"/>
                  </a:lnTo>
                  <a:lnTo>
                    <a:pt x="38" y="287"/>
                  </a:lnTo>
                  <a:lnTo>
                    <a:pt x="34" y="287"/>
                  </a:lnTo>
                  <a:lnTo>
                    <a:pt x="29" y="283"/>
                  </a:lnTo>
                  <a:lnTo>
                    <a:pt x="24" y="268"/>
                  </a:lnTo>
                  <a:lnTo>
                    <a:pt x="14" y="249"/>
                  </a:lnTo>
                  <a:lnTo>
                    <a:pt x="10" y="235"/>
                  </a:lnTo>
                  <a:lnTo>
                    <a:pt x="5" y="215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10" y="172"/>
                  </a:lnTo>
                  <a:lnTo>
                    <a:pt x="19" y="168"/>
                  </a:lnTo>
                  <a:lnTo>
                    <a:pt x="24" y="158"/>
                  </a:lnTo>
                  <a:lnTo>
                    <a:pt x="34" y="153"/>
                  </a:lnTo>
                  <a:lnTo>
                    <a:pt x="38" y="144"/>
                  </a:lnTo>
                  <a:lnTo>
                    <a:pt x="48" y="134"/>
                  </a:lnTo>
                  <a:lnTo>
                    <a:pt x="57" y="120"/>
                  </a:lnTo>
                  <a:lnTo>
                    <a:pt x="67" y="101"/>
                  </a:lnTo>
                  <a:lnTo>
                    <a:pt x="77" y="81"/>
                  </a:lnTo>
                  <a:lnTo>
                    <a:pt x="86" y="57"/>
                  </a:lnTo>
                  <a:lnTo>
                    <a:pt x="101" y="33"/>
                  </a:lnTo>
                  <a:lnTo>
                    <a:pt x="110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4117320" y="2990160"/>
              <a:ext cx="469080" cy="583920"/>
            </a:xfrm>
            <a:custGeom>
              <a:avLst/>
              <a:gdLst/>
              <a:ahLst/>
              <a:rect l="l" t="t" r="r" b="b"/>
              <a:pathLst>
                <a:path w="388" h="483">
                  <a:moveTo>
                    <a:pt x="91" y="483"/>
                  </a:moveTo>
                  <a:lnTo>
                    <a:pt x="86" y="483"/>
                  </a:lnTo>
                  <a:lnTo>
                    <a:pt x="77" y="479"/>
                  </a:lnTo>
                  <a:lnTo>
                    <a:pt x="72" y="474"/>
                  </a:lnTo>
                  <a:lnTo>
                    <a:pt x="62" y="464"/>
                  </a:lnTo>
                  <a:lnTo>
                    <a:pt x="57" y="455"/>
                  </a:lnTo>
                  <a:lnTo>
                    <a:pt x="48" y="435"/>
                  </a:lnTo>
                  <a:lnTo>
                    <a:pt x="38" y="421"/>
                  </a:lnTo>
                  <a:lnTo>
                    <a:pt x="34" y="397"/>
                  </a:lnTo>
                  <a:lnTo>
                    <a:pt x="24" y="378"/>
                  </a:lnTo>
                  <a:lnTo>
                    <a:pt x="14" y="359"/>
                  </a:lnTo>
                  <a:lnTo>
                    <a:pt x="10" y="344"/>
                  </a:lnTo>
                  <a:lnTo>
                    <a:pt x="5" y="330"/>
                  </a:lnTo>
                  <a:lnTo>
                    <a:pt x="5" y="316"/>
                  </a:lnTo>
                  <a:lnTo>
                    <a:pt x="0" y="306"/>
                  </a:lnTo>
                  <a:lnTo>
                    <a:pt x="5" y="297"/>
                  </a:lnTo>
                  <a:lnTo>
                    <a:pt x="5" y="292"/>
                  </a:lnTo>
                  <a:lnTo>
                    <a:pt x="10" y="282"/>
                  </a:lnTo>
                  <a:lnTo>
                    <a:pt x="19" y="277"/>
                  </a:lnTo>
                  <a:lnTo>
                    <a:pt x="29" y="277"/>
                  </a:lnTo>
                  <a:lnTo>
                    <a:pt x="38" y="273"/>
                  </a:lnTo>
                  <a:lnTo>
                    <a:pt x="48" y="277"/>
                  </a:lnTo>
                  <a:lnTo>
                    <a:pt x="53" y="277"/>
                  </a:lnTo>
                  <a:lnTo>
                    <a:pt x="67" y="277"/>
                  </a:lnTo>
                  <a:lnTo>
                    <a:pt x="77" y="273"/>
                  </a:lnTo>
                  <a:lnTo>
                    <a:pt x="91" y="268"/>
                  </a:lnTo>
                  <a:lnTo>
                    <a:pt x="96" y="263"/>
                  </a:lnTo>
                  <a:lnTo>
                    <a:pt x="105" y="253"/>
                  </a:lnTo>
                  <a:lnTo>
                    <a:pt x="120" y="244"/>
                  </a:lnTo>
                  <a:lnTo>
                    <a:pt x="134" y="225"/>
                  </a:lnTo>
                  <a:lnTo>
                    <a:pt x="158" y="206"/>
                  </a:lnTo>
                  <a:lnTo>
                    <a:pt x="182" y="186"/>
                  </a:lnTo>
                  <a:lnTo>
                    <a:pt x="206" y="158"/>
                  </a:lnTo>
                  <a:lnTo>
                    <a:pt x="220" y="143"/>
                  </a:lnTo>
                  <a:lnTo>
                    <a:pt x="239" y="124"/>
                  </a:lnTo>
                  <a:lnTo>
                    <a:pt x="254" y="110"/>
                  </a:lnTo>
                  <a:lnTo>
                    <a:pt x="268" y="91"/>
                  </a:lnTo>
                  <a:lnTo>
                    <a:pt x="297" y="67"/>
                  </a:lnTo>
                  <a:lnTo>
                    <a:pt x="321" y="43"/>
                  </a:lnTo>
                  <a:lnTo>
                    <a:pt x="340" y="24"/>
                  </a:lnTo>
                  <a:lnTo>
                    <a:pt x="359" y="14"/>
                  </a:lnTo>
                  <a:lnTo>
                    <a:pt x="369" y="4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4"/>
                  </a:lnTo>
                  <a:lnTo>
                    <a:pt x="388" y="9"/>
                  </a:lnTo>
                  <a:lnTo>
                    <a:pt x="383" y="14"/>
                  </a:lnTo>
                  <a:lnTo>
                    <a:pt x="383" y="19"/>
                  </a:lnTo>
                  <a:lnTo>
                    <a:pt x="378" y="28"/>
                  </a:lnTo>
                  <a:lnTo>
                    <a:pt x="374" y="43"/>
                  </a:lnTo>
                  <a:lnTo>
                    <a:pt x="369" y="52"/>
                  </a:lnTo>
                  <a:lnTo>
                    <a:pt x="364" y="67"/>
                  </a:lnTo>
                  <a:lnTo>
                    <a:pt x="354" y="81"/>
                  </a:lnTo>
                  <a:lnTo>
                    <a:pt x="345" y="100"/>
                  </a:lnTo>
                  <a:lnTo>
                    <a:pt x="335" y="119"/>
                  </a:lnTo>
                  <a:lnTo>
                    <a:pt x="326" y="143"/>
                  </a:lnTo>
                  <a:lnTo>
                    <a:pt x="311" y="162"/>
                  </a:lnTo>
                  <a:lnTo>
                    <a:pt x="297" y="186"/>
                  </a:lnTo>
                  <a:lnTo>
                    <a:pt x="283" y="215"/>
                  </a:lnTo>
                  <a:lnTo>
                    <a:pt x="263" y="239"/>
                  </a:lnTo>
                  <a:lnTo>
                    <a:pt x="249" y="268"/>
                  </a:lnTo>
                  <a:lnTo>
                    <a:pt x="230" y="297"/>
                  </a:lnTo>
                  <a:lnTo>
                    <a:pt x="216" y="320"/>
                  </a:lnTo>
                  <a:lnTo>
                    <a:pt x="201" y="344"/>
                  </a:lnTo>
                  <a:lnTo>
                    <a:pt x="187" y="364"/>
                  </a:lnTo>
                  <a:lnTo>
                    <a:pt x="172" y="383"/>
                  </a:lnTo>
                  <a:lnTo>
                    <a:pt x="163" y="402"/>
                  </a:lnTo>
                  <a:lnTo>
                    <a:pt x="148" y="416"/>
                  </a:lnTo>
                  <a:lnTo>
                    <a:pt x="139" y="431"/>
                  </a:lnTo>
                  <a:lnTo>
                    <a:pt x="129" y="445"/>
                  </a:lnTo>
                  <a:lnTo>
                    <a:pt x="120" y="455"/>
                  </a:lnTo>
                  <a:lnTo>
                    <a:pt x="115" y="464"/>
                  </a:lnTo>
                  <a:lnTo>
                    <a:pt x="105" y="469"/>
                  </a:lnTo>
                  <a:lnTo>
                    <a:pt x="101" y="474"/>
                  </a:lnTo>
                  <a:lnTo>
                    <a:pt x="96" y="479"/>
                  </a:lnTo>
                  <a:lnTo>
                    <a:pt x="91" y="483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3352680" y="2286000"/>
          <a:ext cx="3124080" cy="266688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 rot="5400000">
            <a:off x="-457560" y="2514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2590920" y="1295280"/>
            <a:ext cx="4952880" cy="4605480"/>
            <a:chOff x="2590920" y="1295280"/>
            <a:chExt cx="4952880" cy="4605480"/>
          </a:xfrm>
        </p:grpSpPr>
        <p:sp>
          <p:nvSpPr>
            <p:cNvPr id="110" name="AutoShape 6"/>
            <p:cNvSpPr/>
            <p:nvPr/>
          </p:nvSpPr>
          <p:spPr>
            <a:xfrm>
              <a:off x="2590920" y="1295280"/>
              <a:ext cx="4952880" cy="46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3890880" y="2466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3909240" y="2439720"/>
              <a:ext cx="2298960" cy="2305800"/>
            </a:xfrm>
            <a:custGeom>
              <a:avLst/>
              <a:gdLst/>
              <a:ahLst/>
              <a:rect l="l" t="t" r="r" b="b"/>
              <a:pathLst>
                <a:path w="1901" h="1906">
                  <a:moveTo>
                    <a:pt x="1135" y="704"/>
                  </a:moveTo>
                  <a:lnTo>
                    <a:pt x="1140" y="704"/>
                  </a:lnTo>
                  <a:lnTo>
                    <a:pt x="1144" y="699"/>
                  </a:lnTo>
                  <a:lnTo>
                    <a:pt x="1149" y="694"/>
                  </a:lnTo>
                  <a:lnTo>
                    <a:pt x="1154" y="689"/>
                  </a:lnTo>
                  <a:lnTo>
                    <a:pt x="1159" y="680"/>
                  </a:lnTo>
                  <a:lnTo>
                    <a:pt x="1163" y="670"/>
                  </a:lnTo>
                  <a:lnTo>
                    <a:pt x="1173" y="661"/>
                  </a:lnTo>
                  <a:lnTo>
                    <a:pt x="1178" y="651"/>
                  </a:lnTo>
                  <a:lnTo>
                    <a:pt x="1183" y="637"/>
                  </a:lnTo>
                  <a:lnTo>
                    <a:pt x="1187" y="622"/>
                  </a:lnTo>
                  <a:lnTo>
                    <a:pt x="1197" y="608"/>
                  </a:lnTo>
                  <a:lnTo>
                    <a:pt x="1202" y="589"/>
                  </a:lnTo>
                  <a:lnTo>
                    <a:pt x="1207" y="574"/>
                  </a:lnTo>
                  <a:lnTo>
                    <a:pt x="1216" y="555"/>
                  </a:lnTo>
                  <a:lnTo>
                    <a:pt x="1231" y="512"/>
                  </a:lnTo>
                  <a:lnTo>
                    <a:pt x="1245" y="474"/>
                  </a:lnTo>
                  <a:lnTo>
                    <a:pt x="1259" y="435"/>
                  </a:lnTo>
                  <a:lnTo>
                    <a:pt x="1269" y="397"/>
                  </a:lnTo>
                  <a:lnTo>
                    <a:pt x="1278" y="364"/>
                  </a:lnTo>
                  <a:lnTo>
                    <a:pt x="1283" y="335"/>
                  </a:lnTo>
                  <a:lnTo>
                    <a:pt x="1293" y="301"/>
                  </a:lnTo>
                  <a:lnTo>
                    <a:pt x="1298" y="273"/>
                  </a:lnTo>
                  <a:lnTo>
                    <a:pt x="1298" y="249"/>
                  </a:lnTo>
                  <a:lnTo>
                    <a:pt x="1302" y="225"/>
                  </a:lnTo>
                  <a:lnTo>
                    <a:pt x="1302" y="206"/>
                  </a:lnTo>
                  <a:lnTo>
                    <a:pt x="1302" y="191"/>
                  </a:lnTo>
                  <a:lnTo>
                    <a:pt x="1302" y="172"/>
                  </a:lnTo>
                  <a:lnTo>
                    <a:pt x="1298" y="162"/>
                  </a:lnTo>
                  <a:lnTo>
                    <a:pt x="1298" y="148"/>
                  </a:lnTo>
                  <a:lnTo>
                    <a:pt x="1293" y="138"/>
                  </a:lnTo>
                  <a:lnTo>
                    <a:pt x="1293" y="134"/>
                  </a:lnTo>
                  <a:lnTo>
                    <a:pt x="1283" y="124"/>
                  </a:lnTo>
                  <a:lnTo>
                    <a:pt x="1274" y="119"/>
                  </a:lnTo>
                  <a:lnTo>
                    <a:pt x="1254" y="115"/>
                  </a:lnTo>
                  <a:lnTo>
                    <a:pt x="1240" y="115"/>
                  </a:lnTo>
                  <a:lnTo>
                    <a:pt x="1231" y="115"/>
                  </a:lnTo>
                  <a:lnTo>
                    <a:pt x="1216" y="115"/>
                  </a:lnTo>
                  <a:lnTo>
                    <a:pt x="1202" y="119"/>
                  </a:lnTo>
                  <a:lnTo>
                    <a:pt x="1183" y="119"/>
                  </a:lnTo>
                  <a:lnTo>
                    <a:pt x="1163" y="124"/>
                  </a:lnTo>
                  <a:lnTo>
                    <a:pt x="1144" y="129"/>
                  </a:lnTo>
                  <a:lnTo>
                    <a:pt x="1120" y="134"/>
                  </a:lnTo>
                  <a:lnTo>
                    <a:pt x="1092" y="138"/>
                  </a:lnTo>
                  <a:lnTo>
                    <a:pt x="1034" y="153"/>
                  </a:lnTo>
                  <a:lnTo>
                    <a:pt x="1010" y="158"/>
                  </a:lnTo>
                  <a:lnTo>
                    <a:pt x="981" y="162"/>
                  </a:lnTo>
                  <a:lnTo>
                    <a:pt x="958" y="167"/>
                  </a:lnTo>
                  <a:lnTo>
                    <a:pt x="934" y="172"/>
                  </a:lnTo>
                  <a:lnTo>
                    <a:pt x="914" y="177"/>
                  </a:lnTo>
                  <a:lnTo>
                    <a:pt x="895" y="182"/>
                  </a:lnTo>
                  <a:lnTo>
                    <a:pt x="876" y="186"/>
                  </a:lnTo>
                  <a:lnTo>
                    <a:pt x="857" y="191"/>
                  </a:lnTo>
                  <a:lnTo>
                    <a:pt x="838" y="191"/>
                  </a:lnTo>
                  <a:lnTo>
                    <a:pt x="823" y="196"/>
                  </a:lnTo>
                  <a:lnTo>
                    <a:pt x="809" y="191"/>
                  </a:lnTo>
                  <a:lnTo>
                    <a:pt x="795" y="191"/>
                  </a:lnTo>
                  <a:lnTo>
                    <a:pt x="785" y="186"/>
                  </a:lnTo>
                  <a:lnTo>
                    <a:pt x="771" y="182"/>
                  </a:lnTo>
                  <a:lnTo>
                    <a:pt x="761" y="177"/>
                  </a:lnTo>
                  <a:lnTo>
                    <a:pt x="752" y="172"/>
                  </a:lnTo>
                  <a:lnTo>
                    <a:pt x="742" y="167"/>
                  </a:lnTo>
                  <a:lnTo>
                    <a:pt x="732" y="162"/>
                  </a:lnTo>
                  <a:lnTo>
                    <a:pt x="728" y="158"/>
                  </a:lnTo>
                  <a:lnTo>
                    <a:pt x="723" y="153"/>
                  </a:lnTo>
                  <a:lnTo>
                    <a:pt x="723" y="148"/>
                  </a:lnTo>
                  <a:lnTo>
                    <a:pt x="723" y="138"/>
                  </a:lnTo>
                  <a:lnTo>
                    <a:pt x="728" y="138"/>
                  </a:lnTo>
                  <a:lnTo>
                    <a:pt x="732" y="138"/>
                  </a:lnTo>
                  <a:lnTo>
                    <a:pt x="742" y="138"/>
                  </a:lnTo>
                  <a:lnTo>
                    <a:pt x="756" y="138"/>
                  </a:lnTo>
                  <a:lnTo>
                    <a:pt x="766" y="134"/>
                  </a:lnTo>
                  <a:lnTo>
                    <a:pt x="780" y="134"/>
                  </a:lnTo>
                  <a:lnTo>
                    <a:pt x="799" y="129"/>
                  </a:lnTo>
                  <a:lnTo>
                    <a:pt x="814" y="129"/>
                  </a:lnTo>
                  <a:lnTo>
                    <a:pt x="833" y="124"/>
                  </a:lnTo>
                  <a:lnTo>
                    <a:pt x="857" y="119"/>
                  </a:lnTo>
                  <a:lnTo>
                    <a:pt x="881" y="115"/>
                  </a:lnTo>
                  <a:lnTo>
                    <a:pt x="905" y="110"/>
                  </a:lnTo>
                  <a:lnTo>
                    <a:pt x="929" y="105"/>
                  </a:lnTo>
                  <a:lnTo>
                    <a:pt x="958" y="95"/>
                  </a:lnTo>
                  <a:lnTo>
                    <a:pt x="986" y="91"/>
                  </a:lnTo>
                  <a:lnTo>
                    <a:pt x="1015" y="81"/>
                  </a:lnTo>
                  <a:lnTo>
                    <a:pt x="1044" y="76"/>
                  </a:lnTo>
                  <a:lnTo>
                    <a:pt x="1072" y="71"/>
                  </a:lnTo>
                  <a:lnTo>
                    <a:pt x="1096" y="62"/>
                  </a:lnTo>
                  <a:lnTo>
                    <a:pt x="1125" y="57"/>
                  </a:lnTo>
                  <a:lnTo>
                    <a:pt x="1144" y="52"/>
                  </a:lnTo>
                  <a:lnTo>
                    <a:pt x="1168" y="47"/>
                  </a:lnTo>
                  <a:lnTo>
                    <a:pt x="1187" y="43"/>
                  </a:lnTo>
                  <a:lnTo>
                    <a:pt x="1202" y="38"/>
                  </a:lnTo>
                  <a:lnTo>
                    <a:pt x="1216" y="33"/>
                  </a:lnTo>
                  <a:lnTo>
                    <a:pt x="1231" y="33"/>
                  </a:lnTo>
                  <a:lnTo>
                    <a:pt x="1240" y="28"/>
                  </a:lnTo>
                  <a:lnTo>
                    <a:pt x="1254" y="24"/>
                  </a:lnTo>
                  <a:lnTo>
                    <a:pt x="1259" y="24"/>
                  </a:lnTo>
                  <a:lnTo>
                    <a:pt x="1264" y="19"/>
                  </a:lnTo>
                  <a:lnTo>
                    <a:pt x="1269" y="19"/>
                  </a:lnTo>
                  <a:lnTo>
                    <a:pt x="1274" y="14"/>
                  </a:lnTo>
                  <a:lnTo>
                    <a:pt x="1283" y="9"/>
                  </a:lnTo>
                  <a:lnTo>
                    <a:pt x="1293" y="4"/>
                  </a:lnTo>
                  <a:lnTo>
                    <a:pt x="1302" y="0"/>
                  </a:lnTo>
                  <a:lnTo>
                    <a:pt x="1317" y="0"/>
                  </a:lnTo>
                  <a:lnTo>
                    <a:pt x="1322" y="0"/>
                  </a:lnTo>
                  <a:lnTo>
                    <a:pt x="1326" y="4"/>
                  </a:lnTo>
                  <a:lnTo>
                    <a:pt x="1336" y="4"/>
                  </a:lnTo>
                  <a:lnTo>
                    <a:pt x="1350" y="9"/>
                  </a:lnTo>
                  <a:lnTo>
                    <a:pt x="1365" y="19"/>
                  </a:lnTo>
                  <a:lnTo>
                    <a:pt x="1379" y="28"/>
                  </a:lnTo>
                  <a:lnTo>
                    <a:pt x="1398" y="38"/>
                  </a:lnTo>
                  <a:lnTo>
                    <a:pt x="1422" y="47"/>
                  </a:lnTo>
                  <a:lnTo>
                    <a:pt x="1436" y="62"/>
                  </a:lnTo>
                  <a:lnTo>
                    <a:pt x="1456" y="71"/>
                  </a:lnTo>
                  <a:lnTo>
                    <a:pt x="1465" y="81"/>
                  </a:lnTo>
                  <a:lnTo>
                    <a:pt x="1480" y="91"/>
                  </a:lnTo>
                  <a:lnTo>
                    <a:pt x="1484" y="100"/>
                  </a:lnTo>
                  <a:lnTo>
                    <a:pt x="1494" y="105"/>
                  </a:lnTo>
                  <a:lnTo>
                    <a:pt x="1499" y="110"/>
                  </a:lnTo>
                  <a:lnTo>
                    <a:pt x="1499" y="115"/>
                  </a:lnTo>
                  <a:lnTo>
                    <a:pt x="1494" y="124"/>
                  </a:lnTo>
                  <a:lnTo>
                    <a:pt x="1489" y="134"/>
                  </a:lnTo>
                  <a:lnTo>
                    <a:pt x="1484" y="143"/>
                  </a:lnTo>
                  <a:lnTo>
                    <a:pt x="1470" y="148"/>
                  </a:lnTo>
                  <a:lnTo>
                    <a:pt x="1460" y="153"/>
                  </a:lnTo>
                  <a:lnTo>
                    <a:pt x="1456" y="162"/>
                  </a:lnTo>
                  <a:lnTo>
                    <a:pt x="1451" y="172"/>
                  </a:lnTo>
                  <a:lnTo>
                    <a:pt x="1446" y="186"/>
                  </a:lnTo>
                  <a:lnTo>
                    <a:pt x="1441" y="201"/>
                  </a:lnTo>
                  <a:lnTo>
                    <a:pt x="1436" y="220"/>
                  </a:lnTo>
                  <a:lnTo>
                    <a:pt x="1432" y="239"/>
                  </a:lnTo>
                  <a:lnTo>
                    <a:pt x="1427" y="263"/>
                  </a:lnTo>
                  <a:lnTo>
                    <a:pt x="1422" y="292"/>
                  </a:lnTo>
                  <a:lnTo>
                    <a:pt x="1417" y="320"/>
                  </a:lnTo>
                  <a:lnTo>
                    <a:pt x="1408" y="354"/>
                  </a:lnTo>
                  <a:lnTo>
                    <a:pt x="1398" y="388"/>
                  </a:lnTo>
                  <a:lnTo>
                    <a:pt x="1384" y="431"/>
                  </a:lnTo>
                  <a:lnTo>
                    <a:pt x="1374" y="474"/>
                  </a:lnTo>
                  <a:lnTo>
                    <a:pt x="1360" y="522"/>
                  </a:lnTo>
                  <a:lnTo>
                    <a:pt x="1341" y="570"/>
                  </a:lnTo>
                  <a:lnTo>
                    <a:pt x="1336" y="598"/>
                  </a:lnTo>
                  <a:lnTo>
                    <a:pt x="1326" y="622"/>
                  </a:lnTo>
                  <a:lnTo>
                    <a:pt x="1317" y="646"/>
                  </a:lnTo>
                  <a:lnTo>
                    <a:pt x="1312" y="665"/>
                  </a:lnTo>
                  <a:lnTo>
                    <a:pt x="1302" y="689"/>
                  </a:lnTo>
                  <a:lnTo>
                    <a:pt x="1293" y="708"/>
                  </a:lnTo>
                  <a:lnTo>
                    <a:pt x="1288" y="728"/>
                  </a:lnTo>
                  <a:lnTo>
                    <a:pt x="1278" y="747"/>
                  </a:lnTo>
                  <a:lnTo>
                    <a:pt x="1269" y="761"/>
                  </a:lnTo>
                  <a:lnTo>
                    <a:pt x="1264" y="775"/>
                  </a:lnTo>
                  <a:lnTo>
                    <a:pt x="1254" y="790"/>
                  </a:lnTo>
                  <a:lnTo>
                    <a:pt x="1250" y="799"/>
                  </a:lnTo>
                  <a:lnTo>
                    <a:pt x="1240" y="814"/>
                  </a:lnTo>
                  <a:lnTo>
                    <a:pt x="1235" y="823"/>
                  </a:lnTo>
                  <a:lnTo>
                    <a:pt x="1226" y="828"/>
                  </a:lnTo>
                  <a:lnTo>
                    <a:pt x="1221" y="838"/>
                  </a:lnTo>
                  <a:lnTo>
                    <a:pt x="1207" y="852"/>
                  </a:lnTo>
                  <a:lnTo>
                    <a:pt x="1192" y="862"/>
                  </a:lnTo>
                  <a:lnTo>
                    <a:pt x="1178" y="871"/>
                  </a:lnTo>
                  <a:lnTo>
                    <a:pt x="1168" y="881"/>
                  </a:lnTo>
                  <a:lnTo>
                    <a:pt x="1159" y="886"/>
                  </a:lnTo>
                  <a:lnTo>
                    <a:pt x="1149" y="890"/>
                  </a:lnTo>
                  <a:lnTo>
                    <a:pt x="1144" y="895"/>
                  </a:lnTo>
                  <a:lnTo>
                    <a:pt x="1135" y="895"/>
                  </a:lnTo>
                  <a:lnTo>
                    <a:pt x="1130" y="895"/>
                  </a:lnTo>
                  <a:lnTo>
                    <a:pt x="1125" y="890"/>
                  </a:lnTo>
                  <a:lnTo>
                    <a:pt x="1120" y="886"/>
                  </a:lnTo>
                  <a:lnTo>
                    <a:pt x="1116" y="881"/>
                  </a:lnTo>
                  <a:lnTo>
                    <a:pt x="1111" y="876"/>
                  </a:lnTo>
                  <a:lnTo>
                    <a:pt x="1106" y="866"/>
                  </a:lnTo>
                  <a:lnTo>
                    <a:pt x="1106" y="857"/>
                  </a:lnTo>
                  <a:lnTo>
                    <a:pt x="1101" y="847"/>
                  </a:lnTo>
                  <a:lnTo>
                    <a:pt x="1096" y="833"/>
                  </a:lnTo>
                  <a:lnTo>
                    <a:pt x="1092" y="819"/>
                  </a:lnTo>
                  <a:lnTo>
                    <a:pt x="1087" y="804"/>
                  </a:lnTo>
                  <a:lnTo>
                    <a:pt x="1077" y="790"/>
                  </a:lnTo>
                  <a:lnTo>
                    <a:pt x="1068" y="775"/>
                  </a:lnTo>
                  <a:lnTo>
                    <a:pt x="1058" y="756"/>
                  </a:lnTo>
                  <a:lnTo>
                    <a:pt x="1049" y="737"/>
                  </a:lnTo>
                  <a:lnTo>
                    <a:pt x="1029" y="723"/>
                  </a:lnTo>
                  <a:lnTo>
                    <a:pt x="1015" y="704"/>
                  </a:lnTo>
                  <a:lnTo>
                    <a:pt x="1005" y="694"/>
                  </a:lnTo>
                  <a:lnTo>
                    <a:pt x="996" y="680"/>
                  </a:lnTo>
                  <a:lnTo>
                    <a:pt x="991" y="670"/>
                  </a:lnTo>
                  <a:lnTo>
                    <a:pt x="986" y="661"/>
                  </a:lnTo>
                  <a:lnTo>
                    <a:pt x="986" y="656"/>
                  </a:lnTo>
                  <a:lnTo>
                    <a:pt x="986" y="651"/>
                  </a:lnTo>
                  <a:lnTo>
                    <a:pt x="986" y="646"/>
                  </a:lnTo>
                  <a:lnTo>
                    <a:pt x="991" y="646"/>
                  </a:lnTo>
                  <a:lnTo>
                    <a:pt x="996" y="646"/>
                  </a:lnTo>
                  <a:lnTo>
                    <a:pt x="1001" y="651"/>
                  </a:lnTo>
                  <a:lnTo>
                    <a:pt x="1010" y="651"/>
                  </a:lnTo>
                  <a:lnTo>
                    <a:pt x="1020" y="656"/>
                  </a:lnTo>
                  <a:lnTo>
                    <a:pt x="1029" y="665"/>
                  </a:lnTo>
                  <a:lnTo>
                    <a:pt x="1044" y="670"/>
                  </a:lnTo>
                  <a:lnTo>
                    <a:pt x="1058" y="680"/>
                  </a:lnTo>
                  <a:lnTo>
                    <a:pt x="1068" y="689"/>
                  </a:lnTo>
                  <a:lnTo>
                    <a:pt x="1082" y="694"/>
                  </a:lnTo>
                  <a:lnTo>
                    <a:pt x="1092" y="699"/>
                  </a:lnTo>
                  <a:lnTo>
                    <a:pt x="1101" y="704"/>
                  </a:lnTo>
                  <a:lnTo>
                    <a:pt x="1111" y="708"/>
                  </a:lnTo>
                  <a:lnTo>
                    <a:pt x="1120" y="708"/>
                  </a:lnTo>
                  <a:lnTo>
                    <a:pt x="1130" y="708"/>
                  </a:lnTo>
                  <a:lnTo>
                    <a:pt x="1135" y="704"/>
                  </a:lnTo>
                  <a:close/>
                  <a:moveTo>
                    <a:pt x="1551" y="421"/>
                  </a:moveTo>
                  <a:lnTo>
                    <a:pt x="1571" y="431"/>
                  </a:lnTo>
                  <a:lnTo>
                    <a:pt x="1590" y="435"/>
                  </a:lnTo>
                  <a:lnTo>
                    <a:pt x="1604" y="440"/>
                  </a:lnTo>
                  <a:lnTo>
                    <a:pt x="1618" y="445"/>
                  </a:lnTo>
                  <a:lnTo>
                    <a:pt x="1633" y="455"/>
                  </a:lnTo>
                  <a:lnTo>
                    <a:pt x="1642" y="459"/>
                  </a:lnTo>
                  <a:lnTo>
                    <a:pt x="1647" y="464"/>
                  </a:lnTo>
                  <a:lnTo>
                    <a:pt x="1652" y="474"/>
                  </a:lnTo>
                  <a:lnTo>
                    <a:pt x="1657" y="488"/>
                  </a:lnTo>
                  <a:lnTo>
                    <a:pt x="1662" y="502"/>
                  </a:lnTo>
                  <a:lnTo>
                    <a:pt x="1662" y="522"/>
                  </a:lnTo>
                  <a:lnTo>
                    <a:pt x="1662" y="536"/>
                  </a:lnTo>
                  <a:lnTo>
                    <a:pt x="1662" y="546"/>
                  </a:lnTo>
                  <a:lnTo>
                    <a:pt x="1657" y="555"/>
                  </a:lnTo>
                  <a:lnTo>
                    <a:pt x="1657" y="560"/>
                  </a:lnTo>
                  <a:lnTo>
                    <a:pt x="1652" y="570"/>
                  </a:lnTo>
                  <a:lnTo>
                    <a:pt x="1642" y="574"/>
                  </a:lnTo>
                  <a:lnTo>
                    <a:pt x="1638" y="574"/>
                  </a:lnTo>
                  <a:lnTo>
                    <a:pt x="1628" y="579"/>
                  </a:lnTo>
                  <a:lnTo>
                    <a:pt x="1618" y="579"/>
                  </a:lnTo>
                  <a:lnTo>
                    <a:pt x="1614" y="579"/>
                  </a:lnTo>
                  <a:lnTo>
                    <a:pt x="1604" y="579"/>
                  </a:lnTo>
                  <a:lnTo>
                    <a:pt x="1595" y="574"/>
                  </a:lnTo>
                  <a:lnTo>
                    <a:pt x="1585" y="570"/>
                  </a:lnTo>
                  <a:lnTo>
                    <a:pt x="1575" y="565"/>
                  </a:lnTo>
                  <a:lnTo>
                    <a:pt x="1561" y="560"/>
                  </a:lnTo>
                  <a:lnTo>
                    <a:pt x="1547" y="550"/>
                  </a:lnTo>
                  <a:lnTo>
                    <a:pt x="1527" y="541"/>
                  </a:lnTo>
                  <a:lnTo>
                    <a:pt x="1508" y="531"/>
                  </a:lnTo>
                  <a:lnTo>
                    <a:pt x="1489" y="522"/>
                  </a:lnTo>
                  <a:lnTo>
                    <a:pt x="1470" y="507"/>
                  </a:lnTo>
                  <a:lnTo>
                    <a:pt x="1446" y="498"/>
                  </a:lnTo>
                  <a:lnTo>
                    <a:pt x="1422" y="483"/>
                  </a:lnTo>
                  <a:lnTo>
                    <a:pt x="1398" y="464"/>
                  </a:lnTo>
                  <a:lnTo>
                    <a:pt x="1369" y="450"/>
                  </a:lnTo>
                  <a:lnTo>
                    <a:pt x="1341" y="431"/>
                  </a:lnTo>
                  <a:lnTo>
                    <a:pt x="1360" y="421"/>
                  </a:lnTo>
                  <a:lnTo>
                    <a:pt x="1379" y="411"/>
                  </a:lnTo>
                  <a:lnTo>
                    <a:pt x="1403" y="402"/>
                  </a:lnTo>
                  <a:lnTo>
                    <a:pt x="1422" y="397"/>
                  </a:lnTo>
                  <a:lnTo>
                    <a:pt x="1432" y="397"/>
                  </a:lnTo>
                  <a:lnTo>
                    <a:pt x="1441" y="397"/>
                  </a:lnTo>
                  <a:lnTo>
                    <a:pt x="1456" y="402"/>
                  </a:lnTo>
                  <a:lnTo>
                    <a:pt x="1470" y="402"/>
                  </a:lnTo>
                  <a:lnTo>
                    <a:pt x="1489" y="407"/>
                  </a:lnTo>
                  <a:lnTo>
                    <a:pt x="1508" y="411"/>
                  </a:lnTo>
                  <a:lnTo>
                    <a:pt x="1527" y="416"/>
                  </a:lnTo>
                  <a:lnTo>
                    <a:pt x="1551" y="421"/>
                  </a:lnTo>
                  <a:close/>
                  <a:moveTo>
                    <a:pt x="1542" y="953"/>
                  </a:moveTo>
                  <a:lnTo>
                    <a:pt x="1575" y="953"/>
                  </a:lnTo>
                  <a:lnTo>
                    <a:pt x="1604" y="962"/>
                  </a:lnTo>
                  <a:lnTo>
                    <a:pt x="1623" y="962"/>
                  </a:lnTo>
                  <a:lnTo>
                    <a:pt x="1638" y="972"/>
                  </a:lnTo>
                  <a:lnTo>
                    <a:pt x="1652" y="977"/>
                  </a:lnTo>
                  <a:lnTo>
                    <a:pt x="1671" y="986"/>
                  </a:lnTo>
                  <a:lnTo>
                    <a:pt x="1686" y="996"/>
                  </a:lnTo>
                  <a:lnTo>
                    <a:pt x="1700" y="1005"/>
                  </a:lnTo>
                  <a:lnTo>
                    <a:pt x="1709" y="1010"/>
                  </a:lnTo>
                  <a:lnTo>
                    <a:pt x="1724" y="1015"/>
                  </a:lnTo>
                  <a:lnTo>
                    <a:pt x="1729" y="1025"/>
                  </a:lnTo>
                  <a:lnTo>
                    <a:pt x="1738" y="1029"/>
                  </a:lnTo>
                  <a:lnTo>
                    <a:pt x="1743" y="1034"/>
                  </a:lnTo>
                  <a:lnTo>
                    <a:pt x="1748" y="1034"/>
                  </a:lnTo>
                  <a:lnTo>
                    <a:pt x="1753" y="1049"/>
                  </a:lnTo>
                  <a:lnTo>
                    <a:pt x="1753" y="1053"/>
                  </a:lnTo>
                  <a:lnTo>
                    <a:pt x="1753" y="1063"/>
                  </a:lnTo>
                  <a:lnTo>
                    <a:pt x="1748" y="1068"/>
                  </a:lnTo>
                  <a:lnTo>
                    <a:pt x="1743" y="1072"/>
                  </a:lnTo>
                  <a:lnTo>
                    <a:pt x="1733" y="1072"/>
                  </a:lnTo>
                  <a:lnTo>
                    <a:pt x="1729" y="1077"/>
                  </a:lnTo>
                  <a:lnTo>
                    <a:pt x="1719" y="1077"/>
                  </a:lnTo>
                  <a:lnTo>
                    <a:pt x="1705" y="1077"/>
                  </a:lnTo>
                  <a:lnTo>
                    <a:pt x="1690" y="1077"/>
                  </a:lnTo>
                  <a:lnTo>
                    <a:pt x="1676" y="1077"/>
                  </a:lnTo>
                  <a:lnTo>
                    <a:pt x="1662" y="1082"/>
                  </a:lnTo>
                  <a:lnTo>
                    <a:pt x="1642" y="1082"/>
                  </a:lnTo>
                  <a:lnTo>
                    <a:pt x="1618" y="1082"/>
                  </a:lnTo>
                  <a:lnTo>
                    <a:pt x="1599" y="1082"/>
                  </a:lnTo>
                  <a:lnTo>
                    <a:pt x="1575" y="1082"/>
                  </a:lnTo>
                  <a:lnTo>
                    <a:pt x="1547" y="1077"/>
                  </a:lnTo>
                  <a:lnTo>
                    <a:pt x="1518" y="1077"/>
                  </a:lnTo>
                  <a:lnTo>
                    <a:pt x="1489" y="1077"/>
                  </a:lnTo>
                  <a:lnTo>
                    <a:pt x="1427" y="1072"/>
                  </a:lnTo>
                  <a:lnTo>
                    <a:pt x="1365" y="1072"/>
                  </a:lnTo>
                  <a:lnTo>
                    <a:pt x="1245" y="1077"/>
                  </a:lnTo>
                  <a:lnTo>
                    <a:pt x="1125" y="1077"/>
                  </a:lnTo>
                  <a:lnTo>
                    <a:pt x="1005" y="1087"/>
                  </a:lnTo>
                  <a:lnTo>
                    <a:pt x="948" y="1092"/>
                  </a:lnTo>
                  <a:lnTo>
                    <a:pt x="895" y="1096"/>
                  </a:lnTo>
                  <a:lnTo>
                    <a:pt x="843" y="1106"/>
                  </a:lnTo>
                  <a:lnTo>
                    <a:pt x="790" y="1111"/>
                  </a:lnTo>
                  <a:lnTo>
                    <a:pt x="742" y="1116"/>
                  </a:lnTo>
                  <a:lnTo>
                    <a:pt x="694" y="1120"/>
                  </a:lnTo>
                  <a:lnTo>
                    <a:pt x="651" y="1125"/>
                  </a:lnTo>
                  <a:lnTo>
                    <a:pt x="608" y="1125"/>
                  </a:lnTo>
                  <a:lnTo>
                    <a:pt x="526" y="1140"/>
                  </a:lnTo>
                  <a:lnTo>
                    <a:pt x="440" y="1149"/>
                  </a:lnTo>
                  <a:lnTo>
                    <a:pt x="354" y="1159"/>
                  </a:lnTo>
                  <a:lnTo>
                    <a:pt x="273" y="1168"/>
                  </a:lnTo>
                  <a:lnTo>
                    <a:pt x="253" y="1173"/>
                  </a:lnTo>
                  <a:lnTo>
                    <a:pt x="234" y="1173"/>
                  </a:lnTo>
                  <a:lnTo>
                    <a:pt x="215" y="1178"/>
                  </a:lnTo>
                  <a:lnTo>
                    <a:pt x="196" y="1178"/>
                  </a:lnTo>
                  <a:lnTo>
                    <a:pt x="182" y="1183"/>
                  </a:lnTo>
                  <a:lnTo>
                    <a:pt x="167" y="1183"/>
                  </a:lnTo>
                  <a:lnTo>
                    <a:pt x="153" y="1187"/>
                  </a:lnTo>
                  <a:lnTo>
                    <a:pt x="143" y="1187"/>
                  </a:lnTo>
                  <a:lnTo>
                    <a:pt x="134" y="1187"/>
                  </a:lnTo>
                  <a:lnTo>
                    <a:pt x="124" y="1192"/>
                  </a:lnTo>
                  <a:lnTo>
                    <a:pt x="115" y="1192"/>
                  </a:lnTo>
                  <a:lnTo>
                    <a:pt x="105" y="1192"/>
                  </a:lnTo>
                  <a:lnTo>
                    <a:pt x="100" y="1192"/>
                  </a:lnTo>
                  <a:lnTo>
                    <a:pt x="95" y="1192"/>
                  </a:lnTo>
                  <a:lnTo>
                    <a:pt x="91" y="1192"/>
                  </a:lnTo>
                  <a:lnTo>
                    <a:pt x="86" y="1192"/>
                  </a:lnTo>
                  <a:lnTo>
                    <a:pt x="81" y="1192"/>
                  </a:lnTo>
                  <a:lnTo>
                    <a:pt x="76" y="1187"/>
                  </a:lnTo>
                  <a:lnTo>
                    <a:pt x="67" y="1187"/>
                  </a:lnTo>
                  <a:lnTo>
                    <a:pt x="57" y="1183"/>
                  </a:lnTo>
                  <a:lnTo>
                    <a:pt x="47" y="1178"/>
                  </a:lnTo>
                  <a:lnTo>
                    <a:pt x="38" y="1168"/>
                  </a:lnTo>
                  <a:lnTo>
                    <a:pt x="28" y="1159"/>
                  </a:lnTo>
                  <a:lnTo>
                    <a:pt x="24" y="1149"/>
                  </a:lnTo>
                  <a:lnTo>
                    <a:pt x="14" y="1144"/>
                  </a:lnTo>
                  <a:lnTo>
                    <a:pt x="9" y="1135"/>
                  </a:lnTo>
                  <a:lnTo>
                    <a:pt x="4" y="1130"/>
                  </a:lnTo>
                  <a:lnTo>
                    <a:pt x="4" y="1125"/>
                  </a:lnTo>
                  <a:lnTo>
                    <a:pt x="0" y="1120"/>
                  </a:lnTo>
                  <a:lnTo>
                    <a:pt x="4" y="1116"/>
                  </a:lnTo>
                  <a:lnTo>
                    <a:pt x="4" y="1111"/>
                  </a:lnTo>
                  <a:lnTo>
                    <a:pt x="9" y="1106"/>
                  </a:lnTo>
                  <a:lnTo>
                    <a:pt x="19" y="1106"/>
                  </a:lnTo>
                  <a:lnTo>
                    <a:pt x="28" y="1106"/>
                  </a:lnTo>
                  <a:lnTo>
                    <a:pt x="43" y="1101"/>
                  </a:lnTo>
                  <a:lnTo>
                    <a:pt x="62" y="1101"/>
                  </a:lnTo>
                  <a:lnTo>
                    <a:pt x="86" y="1101"/>
                  </a:lnTo>
                  <a:lnTo>
                    <a:pt x="115" y="1096"/>
                  </a:lnTo>
                  <a:lnTo>
                    <a:pt x="143" y="1092"/>
                  </a:lnTo>
                  <a:lnTo>
                    <a:pt x="177" y="1092"/>
                  </a:lnTo>
                  <a:lnTo>
                    <a:pt x="215" y="1087"/>
                  </a:lnTo>
                  <a:lnTo>
                    <a:pt x="258" y="1082"/>
                  </a:lnTo>
                  <a:lnTo>
                    <a:pt x="306" y="1082"/>
                  </a:lnTo>
                  <a:lnTo>
                    <a:pt x="354" y="1077"/>
                  </a:lnTo>
                  <a:lnTo>
                    <a:pt x="411" y="1072"/>
                  </a:lnTo>
                  <a:lnTo>
                    <a:pt x="469" y="1068"/>
                  </a:lnTo>
                  <a:lnTo>
                    <a:pt x="531" y="1063"/>
                  </a:lnTo>
                  <a:lnTo>
                    <a:pt x="651" y="1049"/>
                  </a:lnTo>
                  <a:lnTo>
                    <a:pt x="713" y="1044"/>
                  </a:lnTo>
                  <a:lnTo>
                    <a:pt x="771" y="1034"/>
                  </a:lnTo>
                  <a:lnTo>
                    <a:pt x="828" y="1029"/>
                  </a:lnTo>
                  <a:lnTo>
                    <a:pt x="881" y="1025"/>
                  </a:lnTo>
                  <a:lnTo>
                    <a:pt x="938" y="1015"/>
                  </a:lnTo>
                  <a:lnTo>
                    <a:pt x="986" y="1010"/>
                  </a:lnTo>
                  <a:lnTo>
                    <a:pt x="1039" y="1005"/>
                  </a:lnTo>
                  <a:lnTo>
                    <a:pt x="1087" y="1005"/>
                  </a:lnTo>
                  <a:lnTo>
                    <a:pt x="1135" y="1001"/>
                  </a:lnTo>
                  <a:lnTo>
                    <a:pt x="1183" y="991"/>
                  </a:lnTo>
                  <a:lnTo>
                    <a:pt x="1226" y="986"/>
                  </a:lnTo>
                  <a:lnTo>
                    <a:pt x="1264" y="981"/>
                  </a:lnTo>
                  <a:lnTo>
                    <a:pt x="1307" y="977"/>
                  </a:lnTo>
                  <a:lnTo>
                    <a:pt x="1341" y="967"/>
                  </a:lnTo>
                  <a:lnTo>
                    <a:pt x="1379" y="967"/>
                  </a:lnTo>
                  <a:lnTo>
                    <a:pt x="1408" y="962"/>
                  </a:lnTo>
                  <a:lnTo>
                    <a:pt x="1436" y="962"/>
                  </a:lnTo>
                  <a:lnTo>
                    <a:pt x="1465" y="958"/>
                  </a:lnTo>
                  <a:lnTo>
                    <a:pt x="1489" y="958"/>
                  </a:lnTo>
                  <a:lnTo>
                    <a:pt x="1508" y="953"/>
                  </a:lnTo>
                  <a:lnTo>
                    <a:pt x="1527" y="953"/>
                  </a:lnTo>
                  <a:lnTo>
                    <a:pt x="1542" y="953"/>
                  </a:lnTo>
                  <a:close/>
                  <a:moveTo>
                    <a:pt x="790" y="962"/>
                  </a:moveTo>
                  <a:lnTo>
                    <a:pt x="780" y="943"/>
                  </a:lnTo>
                  <a:lnTo>
                    <a:pt x="771" y="929"/>
                  </a:lnTo>
                  <a:lnTo>
                    <a:pt x="771" y="924"/>
                  </a:lnTo>
                  <a:lnTo>
                    <a:pt x="771" y="914"/>
                  </a:lnTo>
                  <a:lnTo>
                    <a:pt x="771" y="910"/>
                  </a:lnTo>
                  <a:lnTo>
                    <a:pt x="771" y="905"/>
                  </a:lnTo>
                  <a:lnTo>
                    <a:pt x="775" y="895"/>
                  </a:lnTo>
                  <a:lnTo>
                    <a:pt x="780" y="890"/>
                  </a:lnTo>
                  <a:lnTo>
                    <a:pt x="785" y="890"/>
                  </a:lnTo>
                  <a:lnTo>
                    <a:pt x="790" y="886"/>
                  </a:lnTo>
                  <a:lnTo>
                    <a:pt x="799" y="886"/>
                  </a:lnTo>
                  <a:lnTo>
                    <a:pt x="809" y="886"/>
                  </a:lnTo>
                  <a:lnTo>
                    <a:pt x="828" y="886"/>
                  </a:lnTo>
                  <a:lnTo>
                    <a:pt x="847" y="890"/>
                  </a:lnTo>
                  <a:lnTo>
                    <a:pt x="871" y="895"/>
                  </a:lnTo>
                  <a:lnTo>
                    <a:pt x="895" y="905"/>
                  </a:lnTo>
                  <a:lnTo>
                    <a:pt x="910" y="919"/>
                  </a:lnTo>
                  <a:lnTo>
                    <a:pt x="919" y="924"/>
                  </a:lnTo>
                  <a:lnTo>
                    <a:pt x="924" y="934"/>
                  </a:lnTo>
                  <a:lnTo>
                    <a:pt x="929" y="943"/>
                  </a:lnTo>
                  <a:lnTo>
                    <a:pt x="929" y="953"/>
                  </a:lnTo>
                  <a:lnTo>
                    <a:pt x="929" y="962"/>
                  </a:lnTo>
                  <a:lnTo>
                    <a:pt x="929" y="967"/>
                  </a:lnTo>
                  <a:lnTo>
                    <a:pt x="929" y="977"/>
                  </a:lnTo>
                  <a:lnTo>
                    <a:pt x="924" y="986"/>
                  </a:lnTo>
                  <a:lnTo>
                    <a:pt x="924" y="1001"/>
                  </a:lnTo>
                  <a:lnTo>
                    <a:pt x="924" y="1015"/>
                  </a:lnTo>
                  <a:lnTo>
                    <a:pt x="919" y="1034"/>
                  </a:lnTo>
                  <a:lnTo>
                    <a:pt x="919" y="1058"/>
                  </a:lnTo>
                  <a:lnTo>
                    <a:pt x="919" y="1077"/>
                  </a:lnTo>
                  <a:lnTo>
                    <a:pt x="914" y="1106"/>
                  </a:lnTo>
                  <a:lnTo>
                    <a:pt x="914" y="1135"/>
                  </a:lnTo>
                  <a:lnTo>
                    <a:pt x="914" y="1168"/>
                  </a:lnTo>
                  <a:lnTo>
                    <a:pt x="914" y="1202"/>
                  </a:lnTo>
                  <a:lnTo>
                    <a:pt x="914" y="1240"/>
                  </a:lnTo>
                  <a:lnTo>
                    <a:pt x="910" y="1278"/>
                  </a:lnTo>
                  <a:lnTo>
                    <a:pt x="910" y="1322"/>
                  </a:lnTo>
                  <a:lnTo>
                    <a:pt x="910" y="1369"/>
                  </a:lnTo>
                  <a:lnTo>
                    <a:pt x="910" y="1417"/>
                  </a:lnTo>
                  <a:lnTo>
                    <a:pt x="910" y="1465"/>
                  </a:lnTo>
                  <a:lnTo>
                    <a:pt x="910" y="1513"/>
                  </a:lnTo>
                  <a:lnTo>
                    <a:pt x="910" y="1556"/>
                  </a:lnTo>
                  <a:lnTo>
                    <a:pt x="910" y="1595"/>
                  </a:lnTo>
                  <a:lnTo>
                    <a:pt x="910" y="1633"/>
                  </a:lnTo>
                  <a:lnTo>
                    <a:pt x="910" y="1666"/>
                  </a:lnTo>
                  <a:lnTo>
                    <a:pt x="905" y="1700"/>
                  </a:lnTo>
                  <a:lnTo>
                    <a:pt x="905" y="1729"/>
                  </a:lnTo>
                  <a:lnTo>
                    <a:pt x="905" y="1753"/>
                  </a:lnTo>
                  <a:lnTo>
                    <a:pt x="905" y="1777"/>
                  </a:lnTo>
                  <a:lnTo>
                    <a:pt x="900" y="1800"/>
                  </a:lnTo>
                  <a:lnTo>
                    <a:pt x="900" y="1820"/>
                  </a:lnTo>
                  <a:lnTo>
                    <a:pt x="900" y="1834"/>
                  </a:lnTo>
                  <a:lnTo>
                    <a:pt x="895" y="1848"/>
                  </a:lnTo>
                  <a:lnTo>
                    <a:pt x="895" y="1858"/>
                  </a:lnTo>
                  <a:lnTo>
                    <a:pt x="895" y="1863"/>
                  </a:lnTo>
                  <a:lnTo>
                    <a:pt x="881" y="1882"/>
                  </a:lnTo>
                  <a:lnTo>
                    <a:pt x="871" y="1896"/>
                  </a:lnTo>
                  <a:lnTo>
                    <a:pt x="862" y="1901"/>
                  </a:lnTo>
                  <a:lnTo>
                    <a:pt x="857" y="1906"/>
                  </a:lnTo>
                  <a:lnTo>
                    <a:pt x="852" y="1906"/>
                  </a:lnTo>
                  <a:lnTo>
                    <a:pt x="847" y="1906"/>
                  </a:lnTo>
                  <a:lnTo>
                    <a:pt x="843" y="1901"/>
                  </a:lnTo>
                  <a:lnTo>
                    <a:pt x="838" y="1896"/>
                  </a:lnTo>
                  <a:lnTo>
                    <a:pt x="833" y="1887"/>
                  </a:lnTo>
                  <a:lnTo>
                    <a:pt x="828" y="1877"/>
                  </a:lnTo>
                  <a:lnTo>
                    <a:pt x="819" y="1863"/>
                  </a:lnTo>
                  <a:lnTo>
                    <a:pt x="814" y="1844"/>
                  </a:lnTo>
                  <a:lnTo>
                    <a:pt x="809" y="1824"/>
                  </a:lnTo>
                  <a:lnTo>
                    <a:pt x="799" y="1800"/>
                  </a:lnTo>
                  <a:lnTo>
                    <a:pt x="795" y="1781"/>
                  </a:lnTo>
                  <a:lnTo>
                    <a:pt x="790" y="1762"/>
                  </a:lnTo>
                  <a:lnTo>
                    <a:pt x="785" y="1743"/>
                  </a:lnTo>
                  <a:lnTo>
                    <a:pt x="785" y="1724"/>
                  </a:lnTo>
                  <a:lnTo>
                    <a:pt x="785" y="1705"/>
                  </a:lnTo>
                  <a:lnTo>
                    <a:pt x="785" y="1686"/>
                  </a:lnTo>
                  <a:lnTo>
                    <a:pt x="790" y="1666"/>
                  </a:lnTo>
                  <a:lnTo>
                    <a:pt x="795" y="1647"/>
                  </a:lnTo>
                  <a:lnTo>
                    <a:pt x="799" y="1628"/>
                  </a:lnTo>
                  <a:lnTo>
                    <a:pt x="804" y="1609"/>
                  </a:lnTo>
                  <a:lnTo>
                    <a:pt x="809" y="1585"/>
                  </a:lnTo>
                  <a:lnTo>
                    <a:pt x="814" y="1556"/>
                  </a:lnTo>
                  <a:lnTo>
                    <a:pt x="819" y="1523"/>
                  </a:lnTo>
                  <a:lnTo>
                    <a:pt x="819" y="1489"/>
                  </a:lnTo>
                  <a:lnTo>
                    <a:pt x="823" y="1451"/>
                  </a:lnTo>
                  <a:lnTo>
                    <a:pt x="828" y="1374"/>
                  </a:lnTo>
                  <a:lnTo>
                    <a:pt x="833" y="1302"/>
                  </a:lnTo>
                  <a:lnTo>
                    <a:pt x="833" y="1221"/>
                  </a:lnTo>
                  <a:lnTo>
                    <a:pt x="833" y="1144"/>
                  </a:lnTo>
                  <a:lnTo>
                    <a:pt x="828" y="1106"/>
                  </a:lnTo>
                  <a:lnTo>
                    <a:pt x="828" y="1077"/>
                  </a:lnTo>
                  <a:lnTo>
                    <a:pt x="823" y="1049"/>
                  </a:lnTo>
                  <a:lnTo>
                    <a:pt x="819" y="1025"/>
                  </a:lnTo>
                  <a:lnTo>
                    <a:pt x="814" y="1005"/>
                  </a:lnTo>
                  <a:lnTo>
                    <a:pt x="804" y="986"/>
                  </a:lnTo>
                  <a:lnTo>
                    <a:pt x="799" y="972"/>
                  </a:lnTo>
                  <a:lnTo>
                    <a:pt x="790" y="962"/>
                  </a:lnTo>
                  <a:close/>
                  <a:moveTo>
                    <a:pt x="421" y="1556"/>
                  </a:moveTo>
                  <a:lnTo>
                    <a:pt x="359" y="1595"/>
                  </a:lnTo>
                  <a:lnTo>
                    <a:pt x="297" y="1628"/>
                  </a:lnTo>
                  <a:lnTo>
                    <a:pt x="239" y="1662"/>
                  </a:lnTo>
                  <a:lnTo>
                    <a:pt x="177" y="1700"/>
                  </a:lnTo>
                  <a:lnTo>
                    <a:pt x="148" y="1714"/>
                  </a:lnTo>
                  <a:lnTo>
                    <a:pt x="124" y="1724"/>
                  </a:lnTo>
                  <a:lnTo>
                    <a:pt x="105" y="1733"/>
                  </a:lnTo>
                  <a:lnTo>
                    <a:pt x="86" y="1738"/>
                  </a:lnTo>
                  <a:lnTo>
                    <a:pt x="71" y="1743"/>
                  </a:lnTo>
                  <a:lnTo>
                    <a:pt x="62" y="1743"/>
                  </a:lnTo>
                  <a:lnTo>
                    <a:pt x="52" y="1743"/>
                  </a:lnTo>
                  <a:lnTo>
                    <a:pt x="47" y="1743"/>
                  </a:lnTo>
                  <a:lnTo>
                    <a:pt x="47" y="1738"/>
                  </a:lnTo>
                  <a:lnTo>
                    <a:pt x="47" y="1729"/>
                  </a:lnTo>
                  <a:lnTo>
                    <a:pt x="52" y="1724"/>
                  </a:lnTo>
                  <a:lnTo>
                    <a:pt x="62" y="1714"/>
                  </a:lnTo>
                  <a:lnTo>
                    <a:pt x="76" y="1700"/>
                  </a:lnTo>
                  <a:lnTo>
                    <a:pt x="95" y="1686"/>
                  </a:lnTo>
                  <a:lnTo>
                    <a:pt x="115" y="1671"/>
                  </a:lnTo>
                  <a:lnTo>
                    <a:pt x="143" y="1657"/>
                  </a:lnTo>
                  <a:lnTo>
                    <a:pt x="196" y="1623"/>
                  </a:lnTo>
                  <a:lnTo>
                    <a:pt x="244" y="1590"/>
                  </a:lnTo>
                  <a:lnTo>
                    <a:pt x="297" y="1551"/>
                  </a:lnTo>
                  <a:lnTo>
                    <a:pt x="340" y="1508"/>
                  </a:lnTo>
                  <a:lnTo>
                    <a:pt x="354" y="1499"/>
                  </a:lnTo>
                  <a:lnTo>
                    <a:pt x="368" y="1484"/>
                  </a:lnTo>
                  <a:lnTo>
                    <a:pt x="383" y="1470"/>
                  </a:lnTo>
                  <a:lnTo>
                    <a:pt x="402" y="1456"/>
                  </a:lnTo>
                  <a:lnTo>
                    <a:pt x="421" y="1436"/>
                  </a:lnTo>
                  <a:lnTo>
                    <a:pt x="440" y="1413"/>
                  </a:lnTo>
                  <a:lnTo>
                    <a:pt x="459" y="1393"/>
                  </a:lnTo>
                  <a:lnTo>
                    <a:pt x="483" y="1365"/>
                  </a:lnTo>
                  <a:lnTo>
                    <a:pt x="512" y="1341"/>
                  </a:lnTo>
                  <a:lnTo>
                    <a:pt x="541" y="1307"/>
                  </a:lnTo>
                  <a:lnTo>
                    <a:pt x="570" y="1278"/>
                  </a:lnTo>
                  <a:lnTo>
                    <a:pt x="598" y="1245"/>
                  </a:lnTo>
                  <a:lnTo>
                    <a:pt x="632" y="1207"/>
                  </a:lnTo>
                  <a:lnTo>
                    <a:pt x="665" y="1168"/>
                  </a:lnTo>
                  <a:lnTo>
                    <a:pt x="699" y="1130"/>
                  </a:lnTo>
                  <a:lnTo>
                    <a:pt x="737" y="1087"/>
                  </a:lnTo>
                  <a:lnTo>
                    <a:pt x="804" y="1101"/>
                  </a:lnTo>
                  <a:lnTo>
                    <a:pt x="866" y="1120"/>
                  </a:lnTo>
                  <a:lnTo>
                    <a:pt x="828" y="1163"/>
                  </a:lnTo>
                  <a:lnTo>
                    <a:pt x="790" y="1207"/>
                  </a:lnTo>
                  <a:lnTo>
                    <a:pt x="752" y="1245"/>
                  </a:lnTo>
                  <a:lnTo>
                    <a:pt x="718" y="1283"/>
                  </a:lnTo>
                  <a:lnTo>
                    <a:pt x="684" y="1317"/>
                  </a:lnTo>
                  <a:lnTo>
                    <a:pt x="651" y="1350"/>
                  </a:lnTo>
                  <a:lnTo>
                    <a:pt x="622" y="1379"/>
                  </a:lnTo>
                  <a:lnTo>
                    <a:pt x="593" y="1408"/>
                  </a:lnTo>
                  <a:lnTo>
                    <a:pt x="565" y="1432"/>
                  </a:lnTo>
                  <a:lnTo>
                    <a:pt x="541" y="1456"/>
                  </a:lnTo>
                  <a:lnTo>
                    <a:pt x="512" y="1480"/>
                  </a:lnTo>
                  <a:lnTo>
                    <a:pt x="493" y="1499"/>
                  </a:lnTo>
                  <a:lnTo>
                    <a:pt x="469" y="1518"/>
                  </a:lnTo>
                  <a:lnTo>
                    <a:pt x="450" y="1532"/>
                  </a:lnTo>
                  <a:lnTo>
                    <a:pt x="435" y="1547"/>
                  </a:lnTo>
                  <a:lnTo>
                    <a:pt x="421" y="1556"/>
                  </a:lnTo>
                  <a:close/>
                  <a:moveTo>
                    <a:pt x="876" y="1077"/>
                  </a:moveTo>
                  <a:lnTo>
                    <a:pt x="905" y="1106"/>
                  </a:lnTo>
                  <a:lnTo>
                    <a:pt x="938" y="1135"/>
                  </a:lnTo>
                  <a:lnTo>
                    <a:pt x="977" y="1163"/>
                  </a:lnTo>
                  <a:lnTo>
                    <a:pt x="1010" y="1192"/>
                  </a:lnTo>
                  <a:lnTo>
                    <a:pt x="1053" y="1221"/>
                  </a:lnTo>
                  <a:lnTo>
                    <a:pt x="1096" y="1250"/>
                  </a:lnTo>
                  <a:lnTo>
                    <a:pt x="1140" y="1278"/>
                  </a:lnTo>
                  <a:lnTo>
                    <a:pt x="1187" y="1307"/>
                  </a:lnTo>
                  <a:lnTo>
                    <a:pt x="1235" y="1345"/>
                  </a:lnTo>
                  <a:lnTo>
                    <a:pt x="1283" y="1374"/>
                  </a:lnTo>
                  <a:lnTo>
                    <a:pt x="1336" y="1403"/>
                  </a:lnTo>
                  <a:lnTo>
                    <a:pt x="1389" y="1432"/>
                  </a:lnTo>
                  <a:lnTo>
                    <a:pt x="1446" y="1460"/>
                  </a:lnTo>
                  <a:lnTo>
                    <a:pt x="1508" y="1484"/>
                  </a:lnTo>
                  <a:lnTo>
                    <a:pt x="1571" y="1508"/>
                  </a:lnTo>
                  <a:lnTo>
                    <a:pt x="1638" y="1532"/>
                  </a:lnTo>
                  <a:lnTo>
                    <a:pt x="1666" y="1547"/>
                  </a:lnTo>
                  <a:lnTo>
                    <a:pt x="1700" y="1556"/>
                  </a:lnTo>
                  <a:lnTo>
                    <a:pt x="1729" y="1566"/>
                  </a:lnTo>
                  <a:lnTo>
                    <a:pt x="1753" y="1575"/>
                  </a:lnTo>
                  <a:lnTo>
                    <a:pt x="1777" y="1585"/>
                  </a:lnTo>
                  <a:lnTo>
                    <a:pt x="1800" y="1595"/>
                  </a:lnTo>
                  <a:lnTo>
                    <a:pt x="1820" y="1604"/>
                  </a:lnTo>
                  <a:lnTo>
                    <a:pt x="1839" y="1609"/>
                  </a:lnTo>
                  <a:lnTo>
                    <a:pt x="1853" y="1614"/>
                  </a:lnTo>
                  <a:lnTo>
                    <a:pt x="1868" y="1623"/>
                  </a:lnTo>
                  <a:lnTo>
                    <a:pt x="1877" y="1628"/>
                  </a:lnTo>
                  <a:lnTo>
                    <a:pt x="1887" y="1628"/>
                  </a:lnTo>
                  <a:lnTo>
                    <a:pt x="1896" y="1633"/>
                  </a:lnTo>
                  <a:lnTo>
                    <a:pt x="1901" y="1638"/>
                  </a:lnTo>
                  <a:lnTo>
                    <a:pt x="1901" y="1642"/>
                  </a:lnTo>
                  <a:lnTo>
                    <a:pt x="1896" y="1647"/>
                  </a:lnTo>
                  <a:lnTo>
                    <a:pt x="1891" y="1647"/>
                  </a:lnTo>
                  <a:lnTo>
                    <a:pt x="1887" y="1652"/>
                  </a:lnTo>
                  <a:lnTo>
                    <a:pt x="1882" y="1652"/>
                  </a:lnTo>
                  <a:lnTo>
                    <a:pt x="1872" y="1657"/>
                  </a:lnTo>
                  <a:lnTo>
                    <a:pt x="1863" y="1657"/>
                  </a:lnTo>
                  <a:lnTo>
                    <a:pt x="1853" y="1662"/>
                  </a:lnTo>
                  <a:lnTo>
                    <a:pt x="1844" y="1666"/>
                  </a:lnTo>
                  <a:lnTo>
                    <a:pt x="1829" y="1666"/>
                  </a:lnTo>
                  <a:lnTo>
                    <a:pt x="1815" y="1671"/>
                  </a:lnTo>
                  <a:lnTo>
                    <a:pt x="1800" y="1671"/>
                  </a:lnTo>
                  <a:lnTo>
                    <a:pt x="1786" y="1676"/>
                  </a:lnTo>
                  <a:lnTo>
                    <a:pt x="1767" y="1681"/>
                  </a:lnTo>
                  <a:lnTo>
                    <a:pt x="1748" y="1681"/>
                  </a:lnTo>
                  <a:lnTo>
                    <a:pt x="1709" y="1690"/>
                  </a:lnTo>
                  <a:lnTo>
                    <a:pt x="1671" y="1695"/>
                  </a:lnTo>
                  <a:lnTo>
                    <a:pt x="1638" y="1700"/>
                  </a:lnTo>
                  <a:lnTo>
                    <a:pt x="1604" y="1700"/>
                  </a:lnTo>
                  <a:lnTo>
                    <a:pt x="1575" y="1700"/>
                  </a:lnTo>
                  <a:lnTo>
                    <a:pt x="1551" y="1705"/>
                  </a:lnTo>
                  <a:lnTo>
                    <a:pt x="1527" y="1700"/>
                  </a:lnTo>
                  <a:lnTo>
                    <a:pt x="1508" y="1700"/>
                  </a:lnTo>
                  <a:lnTo>
                    <a:pt x="1484" y="1695"/>
                  </a:lnTo>
                  <a:lnTo>
                    <a:pt x="1456" y="1686"/>
                  </a:lnTo>
                  <a:lnTo>
                    <a:pt x="1432" y="1671"/>
                  </a:lnTo>
                  <a:lnTo>
                    <a:pt x="1403" y="1652"/>
                  </a:lnTo>
                  <a:lnTo>
                    <a:pt x="1374" y="1628"/>
                  </a:lnTo>
                  <a:lnTo>
                    <a:pt x="1341" y="1599"/>
                  </a:lnTo>
                  <a:lnTo>
                    <a:pt x="1326" y="1580"/>
                  </a:lnTo>
                  <a:lnTo>
                    <a:pt x="1307" y="1566"/>
                  </a:lnTo>
                  <a:lnTo>
                    <a:pt x="1293" y="1547"/>
                  </a:lnTo>
                  <a:lnTo>
                    <a:pt x="1274" y="1527"/>
                  </a:lnTo>
                  <a:lnTo>
                    <a:pt x="1235" y="1489"/>
                  </a:lnTo>
                  <a:lnTo>
                    <a:pt x="1202" y="1456"/>
                  </a:lnTo>
                  <a:lnTo>
                    <a:pt x="1173" y="1427"/>
                  </a:lnTo>
                  <a:lnTo>
                    <a:pt x="1144" y="1403"/>
                  </a:lnTo>
                  <a:lnTo>
                    <a:pt x="1116" y="1379"/>
                  </a:lnTo>
                  <a:lnTo>
                    <a:pt x="1096" y="1355"/>
                  </a:lnTo>
                  <a:lnTo>
                    <a:pt x="1077" y="1341"/>
                  </a:lnTo>
                  <a:lnTo>
                    <a:pt x="1058" y="1326"/>
                  </a:lnTo>
                  <a:lnTo>
                    <a:pt x="1039" y="1312"/>
                  </a:lnTo>
                  <a:lnTo>
                    <a:pt x="1020" y="1293"/>
                  </a:lnTo>
                  <a:lnTo>
                    <a:pt x="996" y="1274"/>
                  </a:lnTo>
                  <a:lnTo>
                    <a:pt x="972" y="1250"/>
                  </a:lnTo>
                  <a:lnTo>
                    <a:pt x="948" y="1226"/>
                  </a:lnTo>
                  <a:lnTo>
                    <a:pt x="914" y="1197"/>
                  </a:lnTo>
                  <a:lnTo>
                    <a:pt x="886" y="1163"/>
                  </a:lnTo>
                  <a:lnTo>
                    <a:pt x="852" y="1125"/>
                  </a:lnTo>
                  <a:lnTo>
                    <a:pt x="876" y="1077"/>
                  </a:lnTo>
                  <a:close/>
                  <a:moveTo>
                    <a:pt x="512" y="929"/>
                  </a:moveTo>
                  <a:lnTo>
                    <a:pt x="512" y="924"/>
                  </a:lnTo>
                  <a:lnTo>
                    <a:pt x="512" y="919"/>
                  </a:lnTo>
                  <a:lnTo>
                    <a:pt x="517" y="910"/>
                  </a:lnTo>
                  <a:lnTo>
                    <a:pt x="526" y="900"/>
                  </a:lnTo>
                  <a:lnTo>
                    <a:pt x="541" y="886"/>
                  </a:lnTo>
                  <a:lnTo>
                    <a:pt x="555" y="871"/>
                  </a:lnTo>
                  <a:lnTo>
                    <a:pt x="570" y="857"/>
                  </a:lnTo>
                  <a:lnTo>
                    <a:pt x="593" y="838"/>
                  </a:lnTo>
                  <a:lnTo>
                    <a:pt x="613" y="819"/>
                  </a:lnTo>
                  <a:lnTo>
                    <a:pt x="637" y="799"/>
                  </a:lnTo>
                  <a:lnTo>
                    <a:pt x="661" y="775"/>
                  </a:lnTo>
                  <a:lnTo>
                    <a:pt x="684" y="752"/>
                  </a:lnTo>
                  <a:lnTo>
                    <a:pt x="708" y="723"/>
                  </a:lnTo>
                  <a:lnTo>
                    <a:pt x="732" y="694"/>
                  </a:lnTo>
                  <a:lnTo>
                    <a:pt x="756" y="661"/>
                  </a:lnTo>
                  <a:lnTo>
                    <a:pt x="780" y="627"/>
                  </a:lnTo>
                  <a:lnTo>
                    <a:pt x="804" y="593"/>
                  </a:lnTo>
                  <a:lnTo>
                    <a:pt x="828" y="560"/>
                  </a:lnTo>
                  <a:lnTo>
                    <a:pt x="852" y="531"/>
                  </a:lnTo>
                  <a:lnTo>
                    <a:pt x="871" y="498"/>
                  </a:lnTo>
                  <a:lnTo>
                    <a:pt x="890" y="464"/>
                  </a:lnTo>
                  <a:lnTo>
                    <a:pt x="905" y="431"/>
                  </a:lnTo>
                  <a:lnTo>
                    <a:pt x="919" y="397"/>
                  </a:lnTo>
                  <a:lnTo>
                    <a:pt x="929" y="364"/>
                  </a:lnTo>
                  <a:lnTo>
                    <a:pt x="938" y="330"/>
                  </a:lnTo>
                  <a:lnTo>
                    <a:pt x="943" y="297"/>
                  </a:lnTo>
                  <a:lnTo>
                    <a:pt x="948" y="268"/>
                  </a:lnTo>
                  <a:lnTo>
                    <a:pt x="953" y="239"/>
                  </a:lnTo>
                  <a:lnTo>
                    <a:pt x="958" y="210"/>
                  </a:lnTo>
                  <a:lnTo>
                    <a:pt x="958" y="186"/>
                  </a:lnTo>
                  <a:lnTo>
                    <a:pt x="958" y="162"/>
                  </a:lnTo>
                  <a:lnTo>
                    <a:pt x="953" y="138"/>
                  </a:lnTo>
                  <a:lnTo>
                    <a:pt x="986" y="158"/>
                  </a:lnTo>
                  <a:lnTo>
                    <a:pt x="1015" y="172"/>
                  </a:lnTo>
                  <a:lnTo>
                    <a:pt x="1039" y="182"/>
                  </a:lnTo>
                  <a:lnTo>
                    <a:pt x="1058" y="196"/>
                  </a:lnTo>
                  <a:lnTo>
                    <a:pt x="1072" y="210"/>
                  </a:lnTo>
                  <a:lnTo>
                    <a:pt x="1082" y="220"/>
                  </a:lnTo>
                  <a:lnTo>
                    <a:pt x="1092" y="229"/>
                  </a:lnTo>
                  <a:lnTo>
                    <a:pt x="1092" y="239"/>
                  </a:lnTo>
                  <a:lnTo>
                    <a:pt x="1092" y="249"/>
                  </a:lnTo>
                  <a:lnTo>
                    <a:pt x="1087" y="263"/>
                  </a:lnTo>
                  <a:lnTo>
                    <a:pt x="1087" y="277"/>
                  </a:lnTo>
                  <a:lnTo>
                    <a:pt x="1077" y="297"/>
                  </a:lnTo>
                  <a:lnTo>
                    <a:pt x="1072" y="320"/>
                  </a:lnTo>
                  <a:lnTo>
                    <a:pt x="1063" y="344"/>
                  </a:lnTo>
                  <a:lnTo>
                    <a:pt x="1053" y="373"/>
                  </a:lnTo>
                  <a:lnTo>
                    <a:pt x="1039" y="407"/>
                  </a:lnTo>
                  <a:lnTo>
                    <a:pt x="1025" y="440"/>
                  </a:lnTo>
                  <a:lnTo>
                    <a:pt x="1005" y="474"/>
                  </a:lnTo>
                  <a:lnTo>
                    <a:pt x="986" y="507"/>
                  </a:lnTo>
                  <a:lnTo>
                    <a:pt x="967" y="541"/>
                  </a:lnTo>
                  <a:lnTo>
                    <a:pt x="943" y="574"/>
                  </a:lnTo>
                  <a:lnTo>
                    <a:pt x="919" y="608"/>
                  </a:lnTo>
                  <a:lnTo>
                    <a:pt x="895" y="641"/>
                  </a:lnTo>
                  <a:lnTo>
                    <a:pt x="866" y="670"/>
                  </a:lnTo>
                  <a:lnTo>
                    <a:pt x="838" y="704"/>
                  </a:lnTo>
                  <a:lnTo>
                    <a:pt x="809" y="732"/>
                  </a:lnTo>
                  <a:lnTo>
                    <a:pt x="785" y="756"/>
                  </a:lnTo>
                  <a:lnTo>
                    <a:pt x="756" y="785"/>
                  </a:lnTo>
                  <a:lnTo>
                    <a:pt x="728" y="809"/>
                  </a:lnTo>
                  <a:lnTo>
                    <a:pt x="699" y="828"/>
                  </a:lnTo>
                  <a:lnTo>
                    <a:pt x="670" y="852"/>
                  </a:lnTo>
                  <a:lnTo>
                    <a:pt x="641" y="871"/>
                  </a:lnTo>
                  <a:lnTo>
                    <a:pt x="617" y="886"/>
                  </a:lnTo>
                  <a:lnTo>
                    <a:pt x="593" y="900"/>
                  </a:lnTo>
                  <a:lnTo>
                    <a:pt x="570" y="914"/>
                  </a:lnTo>
                  <a:lnTo>
                    <a:pt x="555" y="919"/>
                  </a:lnTo>
                  <a:lnTo>
                    <a:pt x="536" y="929"/>
                  </a:lnTo>
                  <a:lnTo>
                    <a:pt x="526" y="929"/>
                  </a:lnTo>
                  <a:lnTo>
                    <a:pt x="517" y="929"/>
                  </a:lnTo>
                  <a:lnTo>
                    <a:pt x="512" y="929"/>
                  </a:lnTo>
                  <a:close/>
                  <a:moveTo>
                    <a:pt x="349" y="124"/>
                  </a:moveTo>
                  <a:lnTo>
                    <a:pt x="330" y="105"/>
                  </a:lnTo>
                  <a:lnTo>
                    <a:pt x="311" y="86"/>
                  </a:lnTo>
                  <a:lnTo>
                    <a:pt x="297" y="71"/>
                  </a:lnTo>
                  <a:lnTo>
                    <a:pt x="282" y="57"/>
                  </a:lnTo>
                  <a:lnTo>
                    <a:pt x="277" y="43"/>
                  </a:lnTo>
                  <a:lnTo>
                    <a:pt x="268" y="28"/>
                  </a:lnTo>
                  <a:lnTo>
                    <a:pt x="263" y="19"/>
                  </a:lnTo>
                  <a:lnTo>
                    <a:pt x="263" y="9"/>
                  </a:lnTo>
                  <a:lnTo>
                    <a:pt x="297" y="9"/>
                  </a:lnTo>
                  <a:lnTo>
                    <a:pt x="335" y="14"/>
                  </a:lnTo>
                  <a:lnTo>
                    <a:pt x="373" y="19"/>
                  </a:lnTo>
                  <a:lnTo>
                    <a:pt x="411" y="24"/>
                  </a:lnTo>
                  <a:lnTo>
                    <a:pt x="440" y="33"/>
                  </a:lnTo>
                  <a:lnTo>
                    <a:pt x="455" y="38"/>
                  </a:lnTo>
                  <a:lnTo>
                    <a:pt x="469" y="43"/>
                  </a:lnTo>
                  <a:lnTo>
                    <a:pt x="479" y="47"/>
                  </a:lnTo>
                  <a:lnTo>
                    <a:pt x="488" y="57"/>
                  </a:lnTo>
                  <a:lnTo>
                    <a:pt x="498" y="67"/>
                  </a:lnTo>
                  <a:lnTo>
                    <a:pt x="507" y="71"/>
                  </a:lnTo>
                  <a:lnTo>
                    <a:pt x="512" y="86"/>
                  </a:lnTo>
                  <a:lnTo>
                    <a:pt x="517" y="95"/>
                  </a:lnTo>
                  <a:lnTo>
                    <a:pt x="517" y="105"/>
                  </a:lnTo>
                  <a:lnTo>
                    <a:pt x="517" y="115"/>
                  </a:lnTo>
                  <a:lnTo>
                    <a:pt x="517" y="138"/>
                  </a:lnTo>
                  <a:lnTo>
                    <a:pt x="512" y="158"/>
                  </a:lnTo>
                  <a:lnTo>
                    <a:pt x="507" y="167"/>
                  </a:lnTo>
                  <a:lnTo>
                    <a:pt x="502" y="177"/>
                  </a:lnTo>
                  <a:lnTo>
                    <a:pt x="493" y="186"/>
                  </a:lnTo>
                  <a:lnTo>
                    <a:pt x="488" y="191"/>
                  </a:lnTo>
                  <a:lnTo>
                    <a:pt x="483" y="196"/>
                  </a:lnTo>
                  <a:lnTo>
                    <a:pt x="474" y="201"/>
                  </a:lnTo>
                  <a:lnTo>
                    <a:pt x="469" y="201"/>
                  </a:lnTo>
                  <a:lnTo>
                    <a:pt x="464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5" y="186"/>
                  </a:lnTo>
                  <a:lnTo>
                    <a:pt x="421" y="182"/>
                  </a:lnTo>
                  <a:lnTo>
                    <a:pt x="407" y="167"/>
                  </a:lnTo>
                  <a:lnTo>
                    <a:pt x="392" y="158"/>
                  </a:lnTo>
                  <a:lnTo>
                    <a:pt x="373" y="143"/>
                  </a:lnTo>
                  <a:lnTo>
                    <a:pt x="349" y="124"/>
                  </a:lnTo>
                  <a:close/>
                  <a:moveTo>
                    <a:pt x="297" y="306"/>
                  </a:moveTo>
                  <a:lnTo>
                    <a:pt x="316" y="311"/>
                  </a:lnTo>
                  <a:lnTo>
                    <a:pt x="325" y="320"/>
                  </a:lnTo>
                  <a:lnTo>
                    <a:pt x="340" y="330"/>
                  </a:lnTo>
                  <a:lnTo>
                    <a:pt x="349" y="335"/>
                  </a:lnTo>
                  <a:lnTo>
                    <a:pt x="359" y="344"/>
                  </a:lnTo>
                  <a:lnTo>
                    <a:pt x="368" y="354"/>
                  </a:lnTo>
                  <a:lnTo>
                    <a:pt x="373" y="364"/>
                  </a:lnTo>
                  <a:lnTo>
                    <a:pt x="378" y="373"/>
                  </a:lnTo>
                  <a:lnTo>
                    <a:pt x="378" y="383"/>
                  </a:lnTo>
                  <a:lnTo>
                    <a:pt x="378" y="397"/>
                  </a:lnTo>
                  <a:lnTo>
                    <a:pt x="378" y="416"/>
                  </a:lnTo>
                  <a:lnTo>
                    <a:pt x="378" y="421"/>
                  </a:lnTo>
                  <a:lnTo>
                    <a:pt x="373" y="431"/>
                  </a:lnTo>
                  <a:lnTo>
                    <a:pt x="368" y="435"/>
                  </a:lnTo>
                  <a:lnTo>
                    <a:pt x="368" y="440"/>
                  </a:lnTo>
                  <a:lnTo>
                    <a:pt x="354" y="450"/>
                  </a:lnTo>
                  <a:lnTo>
                    <a:pt x="344" y="459"/>
                  </a:lnTo>
                  <a:lnTo>
                    <a:pt x="330" y="464"/>
                  </a:lnTo>
                  <a:lnTo>
                    <a:pt x="325" y="464"/>
                  </a:lnTo>
                  <a:lnTo>
                    <a:pt x="320" y="464"/>
                  </a:lnTo>
                  <a:lnTo>
                    <a:pt x="311" y="459"/>
                  </a:lnTo>
                  <a:lnTo>
                    <a:pt x="301" y="455"/>
                  </a:lnTo>
                  <a:lnTo>
                    <a:pt x="292" y="445"/>
                  </a:lnTo>
                  <a:lnTo>
                    <a:pt x="277" y="435"/>
                  </a:lnTo>
                  <a:lnTo>
                    <a:pt x="263" y="426"/>
                  </a:lnTo>
                  <a:lnTo>
                    <a:pt x="249" y="411"/>
                  </a:lnTo>
                  <a:lnTo>
                    <a:pt x="229" y="397"/>
                  </a:lnTo>
                  <a:lnTo>
                    <a:pt x="210" y="383"/>
                  </a:lnTo>
                  <a:lnTo>
                    <a:pt x="196" y="368"/>
                  </a:lnTo>
                  <a:lnTo>
                    <a:pt x="182" y="349"/>
                  </a:lnTo>
                  <a:lnTo>
                    <a:pt x="172" y="335"/>
                  </a:lnTo>
                  <a:lnTo>
                    <a:pt x="162" y="320"/>
                  </a:lnTo>
                  <a:lnTo>
                    <a:pt x="158" y="306"/>
                  </a:lnTo>
                  <a:lnTo>
                    <a:pt x="153" y="292"/>
                  </a:lnTo>
                  <a:lnTo>
                    <a:pt x="153" y="282"/>
                  </a:lnTo>
                  <a:lnTo>
                    <a:pt x="196" y="282"/>
                  </a:lnTo>
                  <a:lnTo>
                    <a:pt x="215" y="282"/>
                  </a:lnTo>
                  <a:lnTo>
                    <a:pt x="234" y="287"/>
                  </a:lnTo>
                  <a:lnTo>
                    <a:pt x="253" y="292"/>
                  </a:lnTo>
                  <a:lnTo>
                    <a:pt x="268" y="297"/>
                  </a:lnTo>
                  <a:lnTo>
                    <a:pt x="282" y="301"/>
                  </a:lnTo>
                  <a:lnTo>
                    <a:pt x="297" y="306"/>
                  </a:lnTo>
                  <a:close/>
                  <a:moveTo>
                    <a:pt x="737" y="287"/>
                  </a:moveTo>
                  <a:lnTo>
                    <a:pt x="756" y="311"/>
                  </a:lnTo>
                  <a:lnTo>
                    <a:pt x="761" y="320"/>
                  </a:lnTo>
                  <a:lnTo>
                    <a:pt x="771" y="330"/>
                  </a:lnTo>
                  <a:lnTo>
                    <a:pt x="775" y="344"/>
                  </a:lnTo>
                  <a:lnTo>
                    <a:pt x="780" y="354"/>
                  </a:lnTo>
                  <a:lnTo>
                    <a:pt x="780" y="368"/>
                  </a:lnTo>
                  <a:lnTo>
                    <a:pt x="780" y="383"/>
                  </a:lnTo>
                  <a:lnTo>
                    <a:pt x="780" y="392"/>
                  </a:lnTo>
                  <a:lnTo>
                    <a:pt x="780" y="407"/>
                  </a:lnTo>
                  <a:lnTo>
                    <a:pt x="775" y="421"/>
                  </a:lnTo>
                  <a:lnTo>
                    <a:pt x="771" y="435"/>
                  </a:lnTo>
                  <a:lnTo>
                    <a:pt x="756" y="469"/>
                  </a:lnTo>
                  <a:lnTo>
                    <a:pt x="737" y="507"/>
                  </a:lnTo>
                  <a:lnTo>
                    <a:pt x="728" y="522"/>
                  </a:lnTo>
                  <a:lnTo>
                    <a:pt x="718" y="536"/>
                  </a:lnTo>
                  <a:lnTo>
                    <a:pt x="708" y="550"/>
                  </a:lnTo>
                  <a:lnTo>
                    <a:pt x="704" y="560"/>
                  </a:lnTo>
                  <a:lnTo>
                    <a:pt x="694" y="570"/>
                  </a:lnTo>
                  <a:lnTo>
                    <a:pt x="689" y="574"/>
                  </a:lnTo>
                  <a:lnTo>
                    <a:pt x="680" y="579"/>
                  </a:lnTo>
                  <a:lnTo>
                    <a:pt x="670" y="579"/>
                  </a:lnTo>
                  <a:lnTo>
                    <a:pt x="665" y="574"/>
                  </a:lnTo>
                  <a:lnTo>
                    <a:pt x="661" y="574"/>
                  </a:lnTo>
                  <a:lnTo>
                    <a:pt x="656" y="570"/>
                  </a:lnTo>
                  <a:lnTo>
                    <a:pt x="651" y="555"/>
                  </a:lnTo>
                  <a:lnTo>
                    <a:pt x="641" y="536"/>
                  </a:lnTo>
                  <a:lnTo>
                    <a:pt x="637" y="522"/>
                  </a:lnTo>
                  <a:lnTo>
                    <a:pt x="632" y="502"/>
                  </a:lnTo>
                  <a:lnTo>
                    <a:pt x="627" y="488"/>
                  </a:lnTo>
                  <a:lnTo>
                    <a:pt x="627" y="483"/>
                  </a:lnTo>
                  <a:lnTo>
                    <a:pt x="627" y="479"/>
                  </a:lnTo>
                  <a:lnTo>
                    <a:pt x="627" y="474"/>
                  </a:lnTo>
                  <a:lnTo>
                    <a:pt x="632" y="469"/>
                  </a:lnTo>
                  <a:lnTo>
                    <a:pt x="632" y="464"/>
                  </a:lnTo>
                  <a:lnTo>
                    <a:pt x="637" y="459"/>
                  </a:lnTo>
                  <a:lnTo>
                    <a:pt x="646" y="455"/>
                  </a:lnTo>
                  <a:lnTo>
                    <a:pt x="651" y="445"/>
                  </a:lnTo>
                  <a:lnTo>
                    <a:pt x="661" y="440"/>
                  </a:lnTo>
                  <a:lnTo>
                    <a:pt x="665" y="431"/>
                  </a:lnTo>
                  <a:lnTo>
                    <a:pt x="675" y="421"/>
                  </a:lnTo>
                  <a:lnTo>
                    <a:pt x="684" y="407"/>
                  </a:lnTo>
                  <a:lnTo>
                    <a:pt x="694" y="388"/>
                  </a:lnTo>
                  <a:lnTo>
                    <a:pt x="704" y="368"/>
                  </a:lnTo>
                  <a:lnTo>
                    <a:pt x="713" y="344"/>
                  </a:lnTo>
                  <a:lnTo>
                    <a:pt x="728" y="320"/>
                  </a:lnTo>
                  <a:lnTo>
                    <a:pt x="737" y="287"/>
                  </a:lnTo>
                  <a:close/>
                  <a:moveTo>
                    <a:pt x="263" y="938"/>
                  </a:moveTo>
                  <a:lnTo>
                    <a:pt x="258" y="938"/>
                  </a:lnTo>
                  <a:lnTo>
                    <a:pt x="249" y="934"/>
                  </a:lnTo>
                  <a:lnTo>
                    <a:pt x="244" y="929"/>
                  </a:lnTo>
                  <a:lnTo>
                    <a:pt x="234" y="919"/>
                  </a:lnTo>
                  <a:lnTo>
                    <a:pt x="229" y="910"/>
                  </a:lnTo>
                  <a:lnTo>
                    <a:pt x="220" y="890"/>
                  </a:lnTo>
                  <a:lnTo>
                    <a:pt x="210" y="876"/>
                  </a:lnTo>
                  <a:lnTo>
                    <a:pt x="206" y="852"/>
                  </a:lnTo>
                  <a:lnTo>
                    <a:pt x="196" y="833"/>
                  </a:lnTo>
                  <a:lnTo>
                    <a:pt x="186" y="814"/>
                  </a:lnTo>
                  <a:lnTo>
                    <a:pt x="182" y="799"/>
                  </a:lnTo>
                  <a:lnTo>
                    <a:pt x="177" y="785"/>
                  </a:lnTo>
                  <a:lnTo>
                    <a:pt x="177" y="771"/>
                  </a:lnTo>
                  <a:lnTo>
                    <a:pt x="172" y="761"/>
                  </a:lnTo>
                  <a:lnTo>
                    <a:pt x="177" y="752"/>
                  </a:lnTo>
                  <a:lnTo>
                    <a:pt x="177" y="747"/>
                  </a:lnTo>
                  <a:lnTo>
                    <a:pt x="182" y="737"/>
                  </a:lnTo>
                  <a:lnTo>
                    <a:pt x="191" y="732"/>
                  </a:lnTo>
                  <a:lnTo>
                    <a:pt x="201" y="732"/>
                  </a:lnTo>
                  <a:lnTo>
                    <a:pt x="210" y="728"/>
                  </a:lnTo>
                  <a:lnTo>
                    <a:pt x="220" y="732"/>
                  </a:lnTo>
                  <a:lnTo>
                    <a:pt x="225" y="732"/>
                  </a:lnTo>
                  <a:lnTo>
                    <a:pt x="239" y="732"/>
                  </a:lnTo>
                  <a:lnTo>
                    <a:pt x="249" y="728"/>
                  </a:lnTo>
                  <a:lnTo>
                    <a:pt x="263" y="723"/>
                  </a:lnTo>
                  <a:lnTo>
                    <a:pt x="268" y="718"/>
                  </a:lnTo>
                  <a:lnTo>
                    <a:pt x="277" y="708"/>
                  </a:lnTo>
                  <a:lnTo>
                    <a:pt x="292" y="699"/>
                  </a:lnTo>
                  <a:lnTo>
                    <a:pt x="306" y="680"/>
                  </a:lnTo>
                  <a:lnTo>
                    <a:pt x="330" y="661"/>
                  </a:lnTo>
                  <a:lnTo>
                    <a:pt x="354" y="641"/>
                  </a:lnTo>
                  <a:lnTo>
                    <a:pt x="378" y="613"/>
                  </a:lnTo>
                  <a:lnTo>
                    <a:pt x="392" y="598"/>
                  </a:lnTo>
                  <a:lnTo>
                    <a:pt x="411" y="579"/>
                  </a:lnTo>
                  <a:lnTo>
                    <a:pt x="426" y="565"/>
                  </a:lnTo>
                  <a:lnTo>
                    <a:pt x="440" y="546"/>
                  </a:lnTo>
                  <a:lnTo>
                    <a:pt x="469" y="522"/>
                  </a:lnTo>
                  <a:lnTo>
                    <a:pt x="493" y="498"/>
                  </a:lnTo>
                  <a:lnTo>
                    <a:pt x="512" y="479"/>
                  </a:lnTo>
                  <a:lnTo>
                    <a:pt x="531" y="469"/>
                  </a:lnTo>
                  <a:lnTo>
                    <a:pt x="541" y="459"/>
                  </a:lnTo>
                  <a:lnTo>
                    <a:pt x="550" y="455"/>
                  </a:lnTo>
                  <a:lnTo>
                    <a:pt x="555" y="455"/>
                  </a:lnTo>
                  <a:lnTo>
                    <a:pt x="560" y="459"/>
                  </a:lnTo>
                  <a:lnTo>
                    <a:pt x="560" y="464"/>
                  </a:lnTo>
                  <a:lnTo>
                    <a:pt x="555" y="469"/>
                  </a:lnTo>
                  <a:lnTo>
                    <a:pt x="555" y="474"/>
                  </a:lnTo>
                  <a:lnTo>
                    <a:pt x="550" y="483"/>
                  </a:lnTo>
                  <a:lnTo>
                    <a:pt x="546" y="498"/>
                  </a:lnTo>
                  <a:lnTo>
                    <a:pt x="541" y="507"/>
                  </a:lnTo>
                  <a:lnTo>
                    <a:pt x="536" y="522"/>
                  </a:lnTo>
                  <a:lnTo>
                    <a:pt x="526" y="536"/>
                  </a:lnTo>
                  <a:lnTo>
                    <a:pt x="517" y="555"/>
                  </a:lnTo>
                  <a:lnTo>
                    <a:pt x="507" y="574"/>
                  </a:lnTo>
                  <a:lnTo>
                    <a:pt x="498" y="598"/>
                  </a:lnTo>
                  <a:lnTo>
                    <a:pt x="483" y="617"/>
                  </a:lnTo>
                  <a:lnTo>
                    <a:pt x="469" y="641"/>
                  </a:lnTo>
                  <a:lnTo>
                    <a:pt x="455" y="670"/>
                  </a:lnTo>
                  <a:lnTo>
                    <a:pt x="435" y="694"/>
                  </a:lnTo>
                  <a:lnTo>
                    <a:pt x="421" y="723"/>
                  </a:lnTo>
                  <a:lnTo>
                    <a:pt x="402" y="752"/>
                  </a:lnTo>
                  <a:lnTo>
                    <a:pt x="388" y="775"/>
                  </a:lnTo>
                  <a:lnTo>
                    <a:pt x="373" y="799"/>
                  </a:lnTo>
                  <a:lnTo>
                    <a:pt x="359" y="819"/>
                  </a:lnTo>
                  <a:lnTo>
                    <a:pt x="344" y="838"/>
                  </a:lnTo>
                  <a:lnTo>
                    <a:pt x="335" y="857"/>
                  </a:lnTo>
                  <a:lnTo>
                    <a:pt x="320" y="871"/>
                  </a:lnTo>
                  <a:lnTo>
                    <a:pt x="311" y="886"/>
                  </a:lnTo>
                  <a:lnTo>
                    <a:pt x="301" y="900"/>
                  </a:lnTo>
                  <a:lnTo>
                    <a:pt x="292" y="910"/>
                  </a:lnTo>
                  <a:lnTo>
                    <a:pt x="287" y="919"/>
                  </a:lnTo>
                  <a:lnTo>
                    <a:pt x="277" y="924"/>
                  </a:lnTo>
                  <a:lnTo>
                    <a:pt x="273" y="929"/>
                  </a:lnTo>
                  <a:lnTo>
                    <a:pt x="268" y="934"/>
                  </a:lnTo>
                  <a:lnTo>
                    <a:pt x="263" y="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4783680" y="2439720"/>
              <a:ext cx="938520" cy="1082520"/>
            </a:xfrm>
            <a:custGeom>
              <a:avLst/>
              <a:gdLst/>
              <a:ahLst/>
              <a:rect l="l" t="t" r="r" b="b"/>
              <a:pathLst>
                <a:path w="776" h="895">
                  <a:moveTo>
                    <a:pt x="412" y="704"/>
                  </a:moveTo>
                  <a:lnTo>
                    <a:pt x="417" y="704"/>
                  </a:lnTo>
                  <a:lnTo>
                    <a:pt x="421" y="699"/>
                  </a:lnTo>
                  <a:lnTo>
                    <a:pt x="426" y="694"/>
                  </a:lnTo>
                  <a:lnTo>
                    <a:pt x="431" y="689"/>
                  </a:lnTo>
                  <a:lnTo>
                    <a:pt x="436" y="680"/>
                  </a:lnTo>
                  <a:lnTo>
                    <a:pt x="440" y="670"/>
                  </a:lnTo>
                  <a:lnTo>
                    <a:pt x="450" y="661"/>
                  </a:lnTo>
                  <a:lnTo>
                    <a:pt x="455" y="651"/>
                  </a:lnTo>
                  <a:lnTo>
                    <a:pt x="460" y="637"/>
                  </a:lnTo>
                  <a:lnTo>
                    <a:pt x="464" y="622"/>
                  </a:lnTo>
                  <a:lnTo>
                    <a:pt x="474" y="608"/>
                  </a:lnTo>
                  <a:lnTo>
                    <a:pt x="479" y="589"/>
                  </a:lnTo>
                  <a:lnTo>
                    <a:pt x="484" y="574"/>
                  </a:lnTo>
                  <a:lnTo>
                    <a:pt x="493" y="555"/>
                  </a:lnTo>
                  <a:lnTo>
                    <a:pt x="508" y="512"/>
                  </a:lnTo>
                  <a:lnTo>
                    <a:pt x="522" y="474"/>
                  </a:lnTo>
                  <a:lnTo>
                    <a:pt x="536" y="435"/>
                  </a:lnTo>
                  <a:lnTo>
                    <a:pt x="546" y="397"/>
                  </a:lnTo>
                  <a:lnTo>
                    <a:pt x="555" y="364"/>
                  </a:lnTo>
                  <a:lnTo>
                    <a:pt x="560" y="335"/>
                  </a:lnTo>
                  <a:lnTo>
                    <a:pt x="570" y="301"/>
                  </a:lnTo>
                  <a:lnTo>
                    <a:pt x="575" y="273"/>
                  </a:lnTo>
                  <a:lnTo>
                    <a:pt x="575" y="249"/>
                  </a:lnTo>
                  <a:lnTo>
                    <a:pt x="579" y="225"/>
                  </a:lnTo>
                  <a:lnTo>
                    <a:pt x="579" y="206"/>
                  </a:lnTo>
                  <a:lnTo>
                    <a:pt x="579" y="191"/>
                  </a:lnTo>
                  <a:lnTo>
                    <a:pt x="579" y="172"/>
                  </a:lnTo>
                  <a:lnTo>
                    <a:pt x="575" y="162"/>
                  </a:lnTo>
                  <a:lnTo>
                    <a:pt x="575" y="148"/>
                  </a:lnTo>
                  <a:lnTo>
                    <a:pt x="570" y="138"/>
                  </a:lnTo>
                  <a:lnTo>
                    <a:pt x="570" y="134"/>
                  </a:lnTo>
                  <a:lnTo>
                    <a:pt x="560" y="124"/>
                  </a:lnTo>
                  <a:lnTo>
                    <a:pt x="551" y="119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8" y="115"/>
                  </a:lnTo>
                  <a:lnTo>
                    <a:pt x="493" y="115"/>
                  </a:lnTo>
                  <a:lnTo>
                    <a:pt x="479" y="119"/>
                  </a:lnTo>
                  <a:lnTo>
                    <a:pt x="460" y="119"/>
                  </a:lnTo>
                  <a:lnTo>
                    <a:pt x="440" y="124"/>
                  </a:lnTo>
                  <a:lnTo>
                    <a:pt x="421" y="129"/>
                  </a:lnTo>
                  <a:lnTo>
                    <a:pt x="397" y="134"/>
                  </a:lnTo>
                  <a:lnTo>
                    <a:pt x="369" y="138"/>
                  </a:lnTo>
                  <a:lnTo>
                    <a:pt x="311" y="153"/>
                  </a:lnTo>
                  <a:lnTo>
                    <a:pt x="287" y="158"/>
                  </a:lnTo>
                  <a:lnTo>
                    <a:pt x="258" y="162"/>
                  </a:lnTo>
                  <a:lnTo>
                    <a:pt x="235" y="167"/>
                  </a:lnTo>
                  <a:lnTo>
                    <a:pt x="211" y="172"/>
                  </a:lnTo>
                  <a:lnTo>
                    <a:pt x="191" y="177"/>
                  </a:lnTo>
                  <a:lnTo>
                    <a:pt x="172" y="182"/>
                  </a:lnTo>
                  <a:lnTo>
                    <a:pt x="153" y="186"/>
                  </a:lnTo>
                  <a:lnTo>
                    <a:pt x="134" y="191"/>
                  </a:lnTo>
                  <a:lnTo>
                    <a:pt x="115" y="191"/>
                  </a:lnTo>
                  <a:lnTo>
                    <a:pt x="100" y="196"/>
                  </a:lnTo>
                  <a:lnTo>
                    <a:pt x="86" y="191"/>
                  </a:lnTo>
                  <a:lnTo>
                    <a:pt x="72" y="191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7"/>
                  </a:lnTo>
                  <a:lnTo>
                    <a:pt x="29" y="172"/>
                  </a:lnTo>
                  <a:lnTo>
                    <a:pt x="19" y="167"/>
                  </a:lnTo>
                  <a:lnTo>
                    <a:pt x="9" y="162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9" y="138"/>
                  </a:lnTo>
                  <a:lnTo>
                    <a:pt x="19" y="138"/>
                  </a:lnTo>
                  <a:lnTo>
                    <a:pt x="33" y="138"/>
                  </a:lnTo>
                  <a:lnTo>
                    <a:pt x="43" y="134"/>
                  </a:lnTo>
                  <a:lnTo>
                    <a:pt x="57" y="134"/>
                  </a:lnTo>
                  <a:lnTo>
                    <a:pt x="76" y="129"/>
                  </a:lnTo>
                  <a:lnTo>
                    <a:pt x="91" y="129"/>
                  </a:lnTo>
                  <a:lnTo>
                    <a:pt x="110" y="124"/>
                  </a:lnTo>
                  <a:lnTo>
                    <a:pt x="134" y="119"/>
                  </a:lnTo>
                  <a:lnTo>
                    <a:pt x="158" y="115"/>
                  </a:lnTo>
                  <a:lnTo>
                    <a:pt x="182" y="110"/>
                  </a:lnTo>
                  <a:lnTo>
                    <a:pt x="206" y="105"/>
                  </a:lnTo>
                  <a:lnTo>
                    <a:pt x="235" y="95"/>
                  </a:lnTo>
                  <a:lnTo>
                    <a:pt x="263" y="91"/>
                  </a:lnTo>
                  <a:lnTo>
                    <a:pt x="292" y="81"/>
                  </a:lnTo>
                  <a:lnTo>
                    <a:pt x="321" y="76"/>
                  </a:lnTo>
                  <a:lnTo>
                    <a:pt x="349" y="71"/>
                  </a:lnTo>
                  <a:lnTo>
                    <a:pt x="373" y="62"/>
                  </a:lnTo>
                  <a:lnTo>
                    <a:pt x="402" y="57"/>
                  </a:lnTo>
                  <a:lnTo>
                    <a:pt x="421" y="52"/>
                  </a:lnTo>
                  <a:lnTo>
                    <a:pt x="445" y="47"/>
                  </a:lnTo>
                  <a:lnTo>
                    <a:pt x="464" y="43"/>
                  </a:lnTo>
                  <a:lnTo>
                    <a:pt x="479" y="38"/>
                  </a:lnTo>
                  <a:lnTo>
                    <a:pt x="493" y="33"/>
                  </a:lnTo>
                  <a:lnTo>
                    <a:pt x="508" y="33"/>
                  </a:lnTo>
                  <a:lnTo>
                    <a:pt x="517" y="28"/>
                  </a:lnTo>
                  <a:lnTo>
                    <a:pt x="531" y="24"/>
                  </a:lnTo>
                  <a:lnTo>
                    <a:pt x="536" y="24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1" y="14"/>
                  </a:lnTo>
                  <a:lnTo>
                    <a:pt x="560" y="9"/>
                  </a:lnTo>
                  <a:lnTo>
                    <a:pt x="570" y="4"/>
                  </a:lnTo>
                  <a:lnTo>
                    <a:pt x="579" y="0"/>
                  </a:lnTo>
                  <a:lnTo>
                    <a:pt x="594" y="0"/>
                  </a:lnTo>
                  <a:lnTo>
                    <a:pt x="599" y="0"/>
                  </a:lnTo>
                  <a:lnTo>
                    <a:pt x="603" y="4"/>
                  </a:lnTo>
                  <a:lnTo>
                    <a:pt x="613" y="4"/>
                  </a:lnTo>
                  <a:lnTo>
                    <a:pt x="627" y="9"/>
                  </a:lnTo>
                  <a:lnTo>
                    <a:pt x="642" y="19"/>
                  </a:lnTo>
                  <a:lnTo>
                    <a:pt x="656" y="28"/>
                  </a:lnTo>
                  <a:lnTo>
                    <a:pt x="675" y="38"/>
                  </a:lnTo>
                  <a:lnTo>
                    <a:pt x="699" y="47"/>
                  </a:lnTo>
                  <a:lnTo>
                    <a:pt x="713" y="62"/>
                  </a:lnTo>
                  <a:lnTo>
                    <a:pt x="733" y="71"/>
                  </a:lnTo>
                  <a:lnTo>
                    <a:pt x="742" y="81"/>
                  </a:lnTo>
                  <a:lnTo>
                    <a:pt x="757" y="91"/>
                  </a:lnTo>
                  <a:lnTo>
                    <a:pt x="761" y="100"/>
                  </a:lnTo>
                  <a:lnTo>
                    <a:pt x="771" y="105"/>
                  </a:lnTo>
                  <a:lnTo>
                    <a:pt x="776" y="110"/>
                  </a:lnTo>
                  <a:lnTo>
                    <a:pt x="776" y="115"/>
                  </a:lnTo>
                  <a:lnTo>
                    <a:pt x="771" y="124"/>
                  </a:lnTo>
                  <a:lnTo>
                    <a:pt x="766" y="134"/>
                  </a:lnTo>
                  <a:lnTo>
                    <a:pt x="761" y="143"/>
                  </a:lnTo>
                  <a:lnTo>
                    <a:pt x="747" y="148"/>
                  </a:lnTo>
                  <a:lnTo>
                    <a:pt x="737" y="153"/>
                  </a:lnTo>
                  <a:lnTo>
                    <a:pt x="733" y="162"/>
                  </a:lnTo>
                  <a:lnTo>
                    <a:pt x="728" y="172"/>
                  </a:lnTo>
                  <a:lnTo>
                    <a:pt x="723" y="186"/>
                  </a:lnTo>
                  <a:lnTo>
                    <a:pt x="718" y="201"/>
                  </a:lnTo>
                  <a:lnTo>
                    <a:pt x="713" y="220"/>
                  </a:lnTo>
                  <a:lnTo>
                    <a:pt x="709" y="239"/>
                  </a:lnTo>
                  <a:lnTo>
                    <a:pt x="704" y="263"/>
                  </a:lnTo>
                  <a:lnTo>
                    <a:pt x="699" y="292"/>
                  </a:lnTo>
                  <a:lnTo>
                    <a:pt x="694" y="320"/>
                  </a:lnTo>
                  <a:lnTo>
                    <a:pt x="685" y="354"/>
                  </a:lnTo>
                  <a:lnTo>
                    <a:pt x="675" y="388"/>
                  </a:lnTo>
                  <a:lnTo>
                    <a:pt x="661" y="431"/>
                  </a:lnTo>
                  <a:lnTo>
                    <a:pt x="651" y="474"/>
                  </a:lnTo>
                  <a:lnTo>
                    <a:pt x="637" y="522"/>
                  </a:lnTo>
                  <a:lnTo>
                    <a:pt x="618" y="570"/>
                  </a:lnTo>
                  <a:lnTo>
                    <a:pt x="613" y="598"/>
                  </a:lnTo>
                  <a:lnTo>
                    <a:pt x="603" y="622"/>
                  </a:lnTo>
                  <a:lnTo>
                    <a:pt x="594" y="646"/>
                  </a:lnTo>
                  <a:lnTo>
                    <a:pt x="589" y="665"/>
                  </a:lnTo>
                  <a:lnTo>
                    <a:pt x="579" y="689"/>
                  </a:lnTo>
                  <a:lnTo>
                    <a:pt x="570" y="708"/>
                  </a:lnTo>
                  <a:lnTo>
                    <a:pt x="565" y="728"/>
                  </a:lnTo>
                  <a:lnTo>
                    <a:pt x="555" y="747"/>
                  </a:lnTo>
                  <a:lnTo>
                    <a:pt x="546" y="761"/>
                  </a:lnTo>
                  <a:lnTo>
                    <a:pt x="541" y="775"/>
                  </a:lnTo>
                  <a:lnTo>
                    <a:pt x="531" y="790"/>
                  </a:lnTo>
                  <a:lnTo>
                    <a:pt x="527" y="799"/>
                  </a:lnTo>
                  <a:lnTo>
                    <a:pt x="517" y="814"/>
                  </a:lnTo>
                  <a:lnTo>
                    <a:pt x="512" y="823"/>
                  </a:lnTo>
                  <a:lnTo>
                    <a:pt x="503" y="828"/>
                  </a:lnTo>
                  <a:lnTo>
                    <a:pt x="498" y="838"/>
                  </a:lnTo>
                  <a:lnTo>
                    <a:pt x="484" y="852"/>
                  </a:lnTo>
                  <a:lnTo>
                    <a:pt x="469" y="862"/>
                  </a:lnTo>
                  <a:lnTo>
                    <a:pt x="455" y="871"/>
                  </a:lnTo>
                  <a:lnTo>
                    <a:pt x="445" y="881"/>
                  </a:lnTo>
                  <a:lnTo>
                    <a:pt x="436" y="886"/>
                  </a:lnTo>
                  <a:lnTo>
                    <a:pt x="426" y="890"/>
                  </a:lnTo>
                  <a:lnTo>
                    <a:pt x="421" y="895"/>
                  </a:lnTo>
                  <a:lnTo>
                    <a:pt x="412" y="895"/>
                  </a:lnTo>
                  <a:lnTo>
                    <a:pt x="407" y="895"/>
                  </a:lnTo>
                  <a:lnTo>
                    <a:pt x="402" y="890"/>
                  </a:lnTo>
                  <a:lnTo>
                    <a:pt x="397" y="886"/>
                  </a:lnTo>
                  <a:lnTo>
                    <a:pt x="393" y="881"/>
                  </a:lnTo>
                  <a:lnTo>
                    <a:pt x="388" y="876"/>
                  </a:lnTo>
                  <a:lnTo>
                    <a:pt x="383" y="866"/>
                  </a:lnTo>
                  <a:lnTo>
                    <a:pt x="383" y="857"/>
                  </a:lnTo>
                  <a:lnTo>
                    <a:pt x="378" y="847"/>
                  </a:lnTo>
                  <a:lnTo>
                    <a:pt x="373" y="833"/>
                  </a:lnTo>
                  <a:lnTo>
                    <a:pt x="369" y="819"/>
                  </a:lnTo>
                  <a:lnTo>
                    <a:pt x="364" y="804"/>
                  </a:lnTo>
                  <a:lnTo>
                    <a:pt x="354" y="790"/>
                  </a:lnTo>
                  <a:lnTo>
                    <a:pt x="345" y="775"/>
                  </a:lnTo>
                  <a:lnTo>
                    <a:pt x="335" y="756"/>
                  </a:lnTo>
                  <a:lnTo>
                    <a:pt x="326" y="737"/>
                  </a:lnTo>
                  <a:lnTo>
                    <a:pt x="306" y="723"/>
                  </a:lnTo>
                  <a:lnTo>
                    <a:pt x="292" y="704"/>
                  </a:lnTo>
                  <a:lnTo>
                    <a:pt x="282" y="694"/>
                  </a:lnTo>
                  <a:lnTo>
                    <a:pt x="273" y="680"/>
                  </a:lnTo>
                  <a:lnTo>
                    <a:pt x="268" y="670"/>
                  </a:lnTo>
                  <a:lnTo>
                    <a:pt x="263" y="661"/>
                  </a:lnTo>
                  <a:lnTo>
                    <a:pt x="263" y="656"/>
                  </a:lnTo>
                  <a:lnTo>
                    <a:pt x="263" y="651"/>
                  </a:lnTo>
                  <a:lnTo>
                    <a:pt x="263" y="646"/>
                  </a:lnTo>
                  <a:lnTo>
                    <a:pt x="268" y="646"/>
                  </a:lnTo>
                  <a:lnTo>
                    <a:pt x="273" y="646"/>
                  </a:lnTo>
                  <a:lnTo>
                    <a:pt x="278" y="651"/>
                  </a:lnTo>
                  <a:lnTo>
                    <a:pt x="287" y="651"/>
                  </a:lnTo>
                  <a:lnTo>
                    <a:pt x="297" y="656"/>
                  </a:lnTo>
                  <a:lnTo>
                    <a:pt x="306" y="665"/>
                  </a:lnTo>
                  <a:lnTo>
                    <a:pt x="321" y="670"/>
                  </a:lnTo>
                  <a:lnTo>
                    <a:pt x="335" y="680"/>
                  </a:lnTo>
                  <a:lnTo>
                    <a:pt x="345" y="689"/>
                  </a:lnTo>
                  <a:lnTo>
                    <a:pt x="359" y="694"/>
                  </a:lnTo>
                  <a:lnTo>
                    <a:pt x="369" y="699"/>
                  </a:lnTo>
                  <a:lnTo>
                    <a:pt x="378" y="704"/>
                  </a:lnTo>
                  <a:lnTo>
                    <a:pt x="388" y="708"/>
                  </a:lnTo>
                  <a:lnTo>
                    <a:pt x="397" y="708"/>
                  </a:lnTo>
                  <a:lnTo>
                    <a:pt x="407" y="708"/>
                  </a:lnTo>
                  <a:lnTo>
                    <a:pt x="412" y="70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5531400" y="2919960"/>
              <a:ext cx="388080" cy="219960"/>
            </a:xfrm>
            <a:custGeom>
              <a:avLst/>
              <a:gdLst/>
              <a:ahLst/>
              <a:rect l="l" t="t" r="r" b="b"/>
              <a:pathLst>
                <a:path w="321" h="182">
                  <a:moveTo>
                    <a:pt x="210" y="24"/>
                  </a:moveTo>
                  <a:lnTo>
                    <a:pt x="230" y="34"/>
                  </a:lnTo>
                  <a:lnTo>
                    <a:pt x="249" y="38"/>
                  </a:lnTo>
                  <a:lnTo>
                    <a:pt x="263" y="43"/>
                  </a:lnTo>
                  <a:lnTo>
                    <a:pt x="277" y="48"/>
                  </a:lnTo>
                  <a:lnTo>
                    <a:pt x="292" y="58"/>
                  </a:lnTo>
                  <a:lnTo>
                    <a:pt x="301" y="62"/>
                  </a:lnTo>
                  <a:lnTo>
                    <a:pt x="306" y="67"/>
                  </a:lnTo>
                  <a:lnTo>
                    <a:pt x="311" y="77"/>
                  </a:lnTo>
                  <a:lnTo>
                    <a:pt x="316" y="91"/>
                  </a:lnTo>
                  <a:lnTo>
                    <a:pt x="321" y="105"/>
                  </a:lnTo>
                  <a:lnTo>
                    <a:pt x="321" y="125"/>
                  </a:lnTo>
                  <a:lnTo>
                    <a:pt x="321" y="139"/>
                  </a:lnTo>
                  <a:lnTo>
                    <a:pt x="321" y="149"/>
                  </a:lnTo>
                  <a:lnTo>
                    <a:pt x="316" y="158"/>
                  </a:lnTo>
                  <a:lnTo>
                    <a:pt x="316" y="163"/>
                  </a:lnTo>
                  <a:lnTo>
                    <a:pt x="311" y="173"/>
                  </a:lnTo>
                  <a:lnTo>
                    <a:pt x="301" y="177"/>
                  </a:lnTo>
                  <a:lnTo>
                    <a:pt x="297" y="177"/>
                  </a:lnTo>
                  <a:lnTo>
                    <a:pt x="287" y="182"/>
                  </a:lnTo>
                  <a:lnTo>
                    <a:pt x="277" y="182"/>
                  </a:lnTo>
                  <a:lnTo>
                    <a:pt x="273" y="182"/>
                  </a:lnTo>
                  <a:lnTo>
                    <a:pt x="263" y="182"/>
                  </a:lnTo>
                  <a:lnTo>
                    <a:pt x="254" y="177"/>
                  </a:lnTo>
                  <a:lnTo>
                    <a:pt x="244" y="173"/>
                  </a:lnTo>
                  <a:lnTo>
                    <a:pt x="234" y="168"/>
                  </a:lnTo>
                  <a:lnTo>
                    <a:pt x="220" y="163"/>
                  </a:lnTo>
                  <a:lnTo>
                    <a:pt x="206" y="153"/>
                  </a:lnTo>
                  <a:lnTo>
                    <a:pt x="186" y="144"/>
                  </a:lnTo>
                  <a:lnTo>
                    <a:pt x="167" y="134"/>
                  </a:lnTo>
                  <a:lnTo>
                    <a:pt x="148" y="125"/>
                  </a:lnTo>
                  <a:lnTo>
                    <a:pt x="129" y="110"/>
                  </a:lnTo>
                  <a:lnTo>
                    <a:pt x="105" y="101"/>
                  </a:lnTo>
                  <a:lnTo>
                    <a:pt x="81" y="86"/>
                  </a:lnTo>
                  <a:lnTo>
                    <a:pt x="57" y="67"/>
                  </a:lnTo>
                  <a:lnTo>
                    <a:pt x="28" y="53"/>
                  </a:lnTo>
                  <a:lnTo>
                    <a:pt x="0" y="34"/>
                  </a:lnTo>
                  <a:lnTo>
                    <a:pt x="19" y="24"/>
                  </a:lnTo>
                  <a:lnTo>
                    <a:pt x="38" y="14"/>
                  </a:lnTo>
                  <a:lnTo>
                    <a:pt x="62" y="5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48" y="10"/>
                  </a:lnTo>
                  <a:lnTo>
                    <a:pt x="167" y="14"/>
                  </a:lnTo>
                  <a:lnTo>
                    <a:pt x="186" y="19"/>
                  </a:lnTo>
                  <a:lnTo>
                    <a:pt x="210" y="2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3909240" y="3592800"/>
              <a:ext cx="2120040" cy="288720"/>
            </a:xfrm>
            <a:custGeom>
              <a:avLst/>
              <a:gdLst/>
              <a:ahLst/>
              <a:rect l="l" t="t" r="r" b="b"/>
              <a:pathLst>
                <a:path w="1753" h="239">
                  <a:moveTo>
                    <a:pt x="1542" y="0"/>
                  </a:moveTo>
                  <a:lnTo>
                    <a:pt x="1575" y="0"/>
                  </a:lnTo>
                  <a:lnTo>
                    <a:pt x="1604" y="9"/>
                  </a:lnTo>
                  <a:lnTo>
                    <a:pt x="1623" y="9"/>
                  </a:lnTo>
                  <a:lnTo>
                    <a:pt x="1638" y="19"/>
                  </a:lnTo>
                  <a:lnTo>
                    <a:pt x="1652" y="24"/>
                  </a:lnTo>
                  <a:lnTo>
                    <a:pt x="1671" y="33"/>
                  </a:lnTo>
                  <a:lnTo>
                    <a:pt x="1686" y="43"/>
                  </a:lnTo>
                  <a:lnTo>
                    <a:pt x="1700" y="52"/>
                  </a:lnTo>
                  <a:lnTo>
                    <a:pt x="1709" y="57"/>
                  </a:lnTo>
                  <a:lnTo>
                    <a:pt x="1724" y="62"/>
                  </a:lnTo>
                  <a:lnTo>
                    <a:pt x="1729" y="72"/>
                  </a:lnTo>
                  <a:lnTo>
                    <a:pt x="1738" y="76"/>
                  </a:lnTo>
                  <a:lnTo>
                    <a:pt x="1743" y="81"/>
                  </a:lnTo>
                  <a:lnTo>
                    <a:pt x="1748" y="81"/>
                  </a:lnTo>
                  <a:lnTo>
                    <a:pt x="1753" y="96"/>
                  </a:lnTo>
                  <a:lnTo>
                    <a:pt x="1753" y="100"/>
                  </a:lnTo>
                  <a:lnTo>
                    <a:pt x="1753" y="110"/>
                  </a:lnTo>
                  <a:lnTo>
                    <a:pt x="1748" y="115"/>
                  </a:lnTo>
                  <a:lnTo>
                    <a:pt x="1743" y="119"/>
                  </a:lnTo>
                  <a:lnTo>
                    <a:pt x="1733" y="119"/>
                  </a:lnTo>
                  <a:lnTo>
                    <a:pt x="1729" y="124"/>
                  </a:lnTo>
                  <a:lnTo>
                    <a:pt x="1719" y="124"/>
                  </a:lnTo>
                  <a:lnTo>
                    <a:pt x="1705" y="124"/>
                  </a:lnTo>
                  <a:lnTo>
                    <a:pt x="1690" y="124"/>
                  </a:lnTo>
                  <a:lnTo>
                    <a:pt x="1676" y="124"/>
                  </a:lnTo>
                  <a:lnTo>
                    <a:pt x="1662" y="129"/>
                  </a:lnTo>
                  <a:lnTo>
                    <a:pt x="1642" y="129"/>
                  </a:lnTo>
                  <a:lnTo>
                    <a:pt x="1618" y="129"/>
                  </a:lnTo>
                  <a:lnTo>
                    <a:pt x="1599" y="129"/>
                  </a:lnTo>
                  <a:lnTo>
                    <a:pt x="1575" y="129"/>
                  </a:lnTo>
                  <a:lnTo>
                    <a:pt x="1547" y="124"/>
                  </a:lnTo>
                  <a:lnTo>
                    <a:pt x="1518" y="124"/>
                  </a:lnTo>
                  <a:lnTo>
                    <a:pt x="1489" y="124"/>
                  </a:lnTo>
                  <a:lnTo>
                    <a:pt x="1427" y="119"/>
                  </a:lnTo>
                  <a:lnTo>
                    <a:pt x="1365" y="119"/>
                  </a:lnTo>
                  <a:lnTo>
                    <a:pt x="1245" y="124"/>
                  </a:lnTo>
                  <a:lnTo>
                    <a:pt x="1125" y="124"/>
                  </a:lnTo>
                  <a:lnTo>
                    <a:pt x="1005" y="134"/>
                  </a:lnTo>
                  <a:lnTo>
                    <a:pt x="948" y="139"/>
                  </a:lnTo>
                  <a:lnTo>
                    <a:pt x="895" y="143"/>
                  </a:lnTo>
                  <a:lnTo>
                    <a:pt x="843" y="153"/>
                  </a:lnTo>
                  <a:lnTo>
                    <a:pt x="790" y="158"/>
                  </a:lnTo>
                  <a:lnTo>
                    <a:pt x="742" y="163"/>
                  </a:lnTo>
                  <a:lnTo>
                    <a:pt x="694" y="167"/>
                  </a:lnTo>
                  <a:lnTo>
                    <a:pt x="651" y="172"/>
                  </a:lnTo>
                  <a:lnTo>
                    <a:pt x="608" y="172"/>
                  </a:lnTo>
                  <a:lnTo>
                    <a:pt x="526" y="187"/>
                  </a:lnTo>
                  <a:lnTo>
                    <a:pt x="440" y="196"/>
                  </a:lnTo>
                  <a:lnTo>
                    <a:pt x="354" y="206"/>
                  </a:lnTo>
                  <a:lnTo>
                    <a:pt x="273" y="215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15" y="225"/>
                  </a:lnTo>
                  <a:lnTo>
                    <a:pt x="196" y="225"/>
                  </a:lnTo>
                  <a:lnTo>
                    <a:pt x="182" y="230"/>
                  </a:lnTo>
                  <a:lnTo>
                    <a:pt x="167" y="230"/>
                  </a:lnTo>
                  <a:lnTo>
                    <a:pt x="153" y="234"/>
                  </a:lnTo>
                  <a:lnTo>
                    <a:pt x="143" y="234"/>
                  </a:lnTo>
                  <a:lnTo>
                    <a:pt x="134" y="234"/>
                  </a:lnTo>
                  <a:lnTo>
                    <a:pt x="124" y="239"/>
                  </a:lnTo>
                  <a:lnTo>
                    <a:pt x="115" y="239"/>
                  </a:lnTo>
                  <a:lnTo>
                    <a:pt x="105" y="239"/>
                  </a:lnTo>
                  <a:lnTo>
                    <a:pt x="100" y="239"/>
                  </a:lnTo>
                  <a:lnTo>
                    <a:pt x="95" y="239"/>
                  </a:lnTo>
                  <a:lnTo>
                    <a:pt x="91" y="239"/>
                  </a:lnTo>
                  <a:lnTo>
                    <a:pt x="86" y="239"/>
                  </a:lnTo>
                  <a:lnTo>
                    <a:pt x="81" y="239"/>
                  </a:lnTo>
                  <a:lnTo>
                    <a:pt x="76" y="234"/>
                  </a:lnTo>
                  <a:lnTo>
                    <a:pt x="67" y="234"/>
                  </a:lnTo>
                  <a:lnTo>
                    <a:pt x="57" y="230"/>
                  </a:lnTo>
                  <a:lnTo>
                    <a:pt x="47" y="225"/>
                  </a:lnTo>
                  <a:lnTo>
                    <a:pt x="38" y="215"/>
                  </a:lnTo>
                  <a:lnTo>
                    <a:pt x="28" y="206"/>
                  </a:lnTo>
                  <a:lnTo>
                    <a:pt x="24" y="196"/>
                  </a:lnTo>
                  <a:lnTo>
                    <a:pt x="14" y="191"/>
                  </a:lnTo>
                  <a:lnTo>
                    <a:pt x="9" y="182"/>
                  </a:lnTo>
                  <a:lnTo>
                    <a:pt x="4" y="177"/>
                  </a:lnTo>
                  <a:lnTo>
                    <a:pt x="4" y="172"/>
                  </a:lnTo>
                  <a:lnTo>
                    <a:pt x="0" y="167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9" y="153"/>
                  </a:lnTo>
                  <a:lnTo>
                    <a:pt x="28" y="153"/>
                  </a:lnTo>
                  <a:lnTo>
                    <a:pt x="43" y="148"/>
                  </a:lnTo>
                  <a:lnTo>
                    <a:pt x="62" y="148"/>
                  </a:lnTo>
                  <a:lnTo>
                    <a:pt x="86" y="148"/>
                  </a:lnTo>
                  <a:lnTo>
                    <a:pt x="115" y="143"/>
                  </a:lnTo>
                  <a:lnTo>
                    <a:pt x="143" y="139"/>
                  </a:lnTo>
                  <a:lnTo>
                    <a:pt x="177" y="139"/>
                  </a:lnTo>
                  <a:lnTo>
                    <a:pt x="215" y="134"/>
                  </a:lnTo>
                  <a:lnTo>
                    <a:pt x="258" y="129"/>
                  </a:lnTo>
                  <a:lnTo>
                    <a:pt x="306" y="129"/>
                  </a:lnTo>
                  <a:lnTo>
                    <a:pt x="354" y="124"/>
                  </a:lnTo>
                  <a:lnTo>
                    <a:pt x="411" y="119"/>
                  </a:lnTo>
                  <a:lnTo>
                    <a:pt x="469" y="115"/>
                  </a:lnTo>
                  <a:lnTo>
                    <a:pt x="531" y="110"/>
                  </a:lnTo>
                  <a:lnTo>
                    <a:pt x="651" y="96"/>
                  </a:lnTo>
                  <a:lnTo>
                    <a:pt x="713" y="91"/>
                  </a:lnTo>
                  <a:lnTo>
                    <a:pt x="771" y="81"/>
                  </a:lnTo>
                  <a:lnTo>
                    <a:pt x="828" y="76"/>
                  </a:lnTo>
                  <a:lnTo>
                    <a:pt x="881" y="72"/>
                  </a:lnTo>
                  <a:lnTo>
                    <a:pt x="938" y="62"/>
                  </a:lnTo>
                  <a:lnTo>
                    <a:pt x="986" y="57"/>
                  </a:lnTo>
                  <a:lnTo>
                    <a:pt x="1039" y="52"/>
                  </a:lnTo>
                  <a:lnTo>
                    <a:pt x="1087" y="52"/>
                  </a:lnTo>
                  <a:lnTo>
                    <a:pt x="1135" y="48"/>
                  </a:lnTo>
                  <a:lnTo>
                    <a:pt x="1183" y="38"/>
                  </a:lnTo>
                  <a:lnTo>
                    <a:pt x="1226" y="33"/>
                  </a:lnTo>
                  <a:lnTo>
                    <a:pt x="1264" y="28"/>
                  </a:lnTo>
                  <a:lnTo>
                    <a:pt x="1307" y="24"/>
                  </a:lnTo>
                  <a:lnTo>
                    <a:pt x="1341" y="14"/>
                  </a:lnTo>
                  <a:lnTo>
                    <a:pt x="1379" y="14"/>
                  </a:lnTo>
                  <a:lnTo>
                    <a:pt x="1408" y="9"/>
                  </a:lnTo>
                  <a:lnTo>
                    <a:pt x="1436" y="9"/>
                  </a:lnTo>
                  <a:lnTo>
                    <a:pt x="1465" y="5"/>
                  </a:lnTo>
                  <a:lnTo>
                    <a:pt x="1489" y="5"/>
                  </a:lnTo>
                  <a:lnTo>
                    <a:pt x="1508" y="0"/>
                  </a:lnTo>
                  <a:lnTo>
                    <a:pt x="1527" y="0"/>
                  </a:lnTo>
                  <a:lnTo>
                    <a:pt x="1542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4841640" y="3511440"/>
              <a:ext cx="191160" cy="1233720"/>
            </a:xfrm>
            <a:custGeom>
              <a:avLst/>
              <a:gdLst/>
              <a:ahLst/>
              <a:rect l="l" t="t" r="r" b="b"/>
              <a:pathLst>
                <a:path w="158" h="1020">
                  <a:moveTo>
                    <a:pt x="19" y="76"/>
                  </a:moveTo>
                  <a:lnTo>
                    <a:pt x="9" y="5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4"/>
                  </a:lnTo>
                  <a:lnTo>
                    <a:pt x="100" y="9"/>
                  </a:lnTo>
                  <a:lnTo>
                    <a:pt x="124" y="19"/>
                  </a:lnTo>
                  <a:lnTo>
                    <a:pt x="139" y="33"/>
                  </a:lnTo>
                  <a:lnTo>
                    <a:pt x="148" y="38"/>
                  </a:lnTo>
                  <a:lnTo>
                    <a:pt x="153" y="48"/>
                  </a:lnTo>
                  <a:lnTo>
                    <a:pt x="158" y="57"/>
                  </a:lnTo>
                  <a:lnTo>
                    <a:pt x="158" y="67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91"/>
                  </a:lnTo>
                  <a:lnTo>
                    <a:pt x="153" y="100"/>
                  </a:lnTo>
                  <a:lnTo>
                    <a:pt x="153" y="115"/>
                  </a:lnTo>
                  <a:lnTo>
                    <a:pt x="153" y="129"/>
                  </a:lnTo>
                  <a:lnTo>
                    <a:pt x="148" y="148"/>
                  </a:lnTo>
                  <a:lnTo>
                    <a:pt x="148" y="172"/>
                  </a:lnTo>
                  <a:lnTo>
                    <a:pt x="148" y="191"/>
                  </a:lnTo>
                  <a:lnTo>
                    <a:pt x="143" y="220"/>
                  </a:lnTo>
                  <a:lnTo>
                    <a:pt x="143" y="249"/>
                  </a:lnTo>
                  <a:lnTo>
                    <a:pt x="143" y="282"/>
                  </a:lnTo>
                  <a:lnTo>
                    <a:pt x="143" y="316"/>
                  </a:lnTo>
                  <a:lnTo>
                    <a:pt x="143" y="354"/>
                  </a:lnTo>
                  <a:lnTo>
                    <a:pt x="139" y="392"/>
                  </a:lnTo>
                  <a:lnTo>
                    <a:pt x="139" y="436"/>
                  </a:lnTo>
                  <a:lnTo>
                    <a:pt x="139" y="483"/>
                  </a:lnTo>
                  <a:lnTo>
                    <a:pt x="139" y="531"/>
                  </a:lnTo>
                  <a:lnTo>
                    <a:pt x="139" y="579"/>
                  </a:lnTo>
                  <a:lnTo>
                    <a:pt x="139" y="627"/>
                  </a:lnTo>
                  <a:lnTo>
                    <a:pt x="139" y="670"/>
                  </a:lnTo>
                  <a:lnTo>
                    <a:pt x="139" y="709"/>
                  </a:lnTo>
                  <a:lnTo>
                    <a:pt x="139" y="747"/>
                  </a:lnTo>
                  <a:lnTo>
                    <a:pt x="139" y="780"/>
                  </a:lnTo>
                  <a:lnTo>
                    <a:pt x="134" y="814"/>
                  </a:lnTo>
                  <a:lnTo>
                    <a:pt x="134" y="843"/>
                  </a:lnTo>
                  <a:lnTo>
                    <a:pt x="134" y="867"/>
                  </a:lnTo>
                  <a:lnTo>
                    <a:pt x="134" y="891"/>
                  </a:lnTo>
                  <a:lnTo>
                    <a:pt x="129" y="914"/>
                  </a:lnTo>
                  <a:lnTo>
                    <a:pt x="129" y="934"/>
                  </a:lnTo>
                  <a:lnTo>
                    <a:pt x="129" y="948"/>
                  </a:lnTo>
                  <a:lnTo>
                    <a:pt x="124" y="962"/>
                  </a:lnTo>
                  <a:lnTo>
                    <a:pt x="124" y="972"/>
                  </a:lnTo>
                  <a:lnTo>
                    <a:pt x="124" y="977"/>
                  </a:lnTo>
                  <a:lnTo>
                    <a:pt x="110" y="996"/>
                  </a:lnTo>
                  <a:lnTo>
                    <a:pt x="100" y="1010"/>
                  </a:lnTo>
                  <a:lnTo>
                    <a:pt x="91" y="1015"/>
                  </a:lnTo>
                  <a:lnTo>
                    <a:pt x="86" y="1020"/>
                  </a:lnTo>
                  <a:lnTo>
                    <a:pt x="81" y="1020"/>
                  </a:lnTo>
                  <a:lnTo>
                    <a:pt x="76" y="1020"/>
                  </a:lnTo>
                  <a:lnTo>
                    <a:pt x="72" y="1015"/>
                  </a:lnTo>
                  <a:lnTo>
                    <a:pt x="67" y="1010"/>
                  </a:lnTo>
                  <a:lnTo>
                    <a:pt x="62" y="1001"/>
                  </a:lnTo>
                  <a:lnTo>
                    <a:pt x="57" y="991"/>
                  </a:lnTo>
                  <a:lnTo>
                    <a:pt x="48" y="977"/>
                  </a:lnTo>
                  <a:lnTo>
                    <a:pt x="43" y="958"/>
                  </a:lnTo>
                  <a:lnTo>
                    <a:pt x="38" y="938"/>
                  </a:lnTo>
                  <a:lnTo>
                    <a:pt x="28" y="914"/>
                  </a:lnTo>
                  <a:lnTo>
                    <a:pt x="24" y="895"/>
                  </a:lnTo>
                  <a:lnTo>
                    <a:pt x="19" y="876"/>
                  </a:lnTo>
                  <a:lnTo>
                    <a:pt x="14" y="857"/>
                  </a:lnTo>
                  <a:lnTo>
                    <a:pt x="14" y="838"/>
                  </a:lnTo>
                  <a:lnTo>
                    <a:pt x="14" y="819"/>
                  </a:lnTo>
                  <a:lnTo>
                    <a:pt x="14" y="800"/>
                  </a:lnTo>
                  <a:lnTo>
                    <a:pt x="19" y="780"/>
                  </a:lnTo>
                  <a:lnTo>
                    <a:pt x="24" y="761"/>
                  </a:lnTo>
                  <a:lnTo>
                    <a:pt x="28" y="742"/>
                  </a:lnTo>
                  <a:lnTo>
                    <a:pt x="33" y="723"/>
                  </a:lnTo>
                  <a:lnTo>
                    <a:pt x="38" y="699"/>
                  </a:lnTo>
                  <a:lnTo>
                    <a:pt x="43" y="670"/>
                  </a:lnTo>
                  <a:lnTo>
                    <a:pt x="48" y="637"/>
                  </a:lnTo>
                  <a:lnTo>
                    <a:pt x="48" y="603"/>
                  </a:lnTo>
                  <a:lnTo>
                    <a:pt x="52" y="565"/>
                  </a:lnTo>
                  <a:lnTo>
                    <a:pt x="57" y="488"/>
                  </a:lnTo>
                  <a:lnTo>
                    <a:pt x="62" y="416"/>
                  </a:lnTo>
                  <a:lnTo>
                    <a:pt x="62" y="335"/>
                  </a:lnTo>
                  <a:lnTo>
                    <a:pt x="62" y="258"/>
                  </a:lnTo>
                  <a:lnTo>
                    <a:pt x="57" y="220"/>
                  </a:lnTo>
                  <a:lnTo>
                    <a:pt x="57" y="191"/>
                  </a:lnTo>
                  <a:lnTo>
                    <a:pt x="52" y="163"/>
                  </a:lnTo>
                  <a:lnTo>
                    <a:pt x="48" y="139"/>
                  </a:lnTo>
                  <a:lnTo>
                    <a:pt x="43" y="119"/>
                  </a:lnTo>
                  <a:lnTo>
                    <a:pt x="33" y="100"/>
                  </a:lnTo>
                  <a:lnTo>
                    <a:pt x="28" y="86"/>
                  </a:lnTo>
                  <a:lnTo>
                    <a:pt x="19" y="7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3966120" y="3754440"/>
              <a:ext cx="990360" cy="793440"/>
            </a:xfrm>
            <a:custGeom>
              <a:avLst/>
              <a:gdLst/>
              <a:ahLst/>
              <a:rect l="l" t="t" r="r" b="b"/>
              <a:pathLst>
                <a:path w="819" h="656">
                  <a:moveTo>
                    <a:pt x="374" y="469"/>
                  </a:moveTo>
                  <a:lnTo>
                    <a:pt x="312" y="508"/>
                  </a:lnTo>
                  <a:lnTo>
                    <a:pt x="250" y="541"/>
                  </a:lnTo>
                  <a:lnTo>
                    <a:pt x="192" y="575"/>
                  </a:lnTo>
                  <a:lnTo>
                    <a:pt x="130" y="613"/>
                  </a:lnTo>
                  <a:lnTo>
                    <a:pt x="101" y="627"/>
                  </a:lnTo>
                  <a:lnTo>
                    <a:pt x="77" y="637"/>
                  </a:lnTo>
                  <a:lnTo>
                    <a:pt x="58" y="646"/>
                  </a:lnTo>
                  <a:lnTo>
                    <a:pt x="39" y="651"/>
                  </a:lnTo>
                  <a:lnTo>
                    <a:pt x="24" y="656"/>
                  </a:lnTo>
                  <a:lnTo>
                    <a:pt x="15" y="656"/>
                  </a:lnTo>
                  <a:lnTo>
                    <a:pt x="5" y="656"/>
                  </a:lnTo>
                  <a:lnTo>
                    <a:pt x="0" y="656"/>
                  </a:lnTo>
                  <a:lnTo>
                    <a:pt x="0" y="651"/>
                  </a:lnTo>
                  <a:lnTo>
                    <a:pt x="0" y="642"/>
                  </a:lnTo>
                  <a:lnTo>
                    <a:pt x="5" y="637"/>
                  </a:lnTo>
                  <a:lnTo>
                    <a:pt x="15" y="627"/>
                  </a:lnTo>
                  <a:lnTo>
                    <a:pt x="29" y="613"/>
                  </a:lnTo>
                  <a:lnTo>
                    <a:pt x="48" y="599"/>
                  </a:lnTo>
                  <a:lnTo>
                    <a:pt x="68" y="584"/>
                  </a:lnTo>
                  <a:lnTo>
                    <a:pt x="96" y="570"/>
                  </a:lnTo>
                  <a:lnTo>
                    <a:pt x="149" y="536"/>
                  </a:lnTo>
                  <a:lnTo>
                    <a:pt x="197" y="503"/>
                  </a:lnTo>
                  <a:lnTo>
                    <a:pt x="250" y="464"/>
                  </a:lnTo>
                  <a:lnTo>
                    <a:pt x="293" y="421"/>
                  </a:lnTo>
                  <a:lnTo>
                    <a:pt x="307" y="412"/>
                  </a:lnTo>
                  <a:lnTo>
                    <a:pt x="321" y="397"/>
                  </a:lnTo>
                  <a:lnTo>
                    <a:pt x="336" y="383"/>
                  </a:lnTo>
                  <a:lnTo>
                    <a:pt x="355" y="369"/>
                  </a:lnTo>
                  <a:lnTo>
                    <a:pt x="374" y="349"/>
                  </a:lnTo>
                  <a:lnTo>
                    <a:pt x="393" y="326"/>
                  </a:lnTo>
                  <a:lnTo>
                    <a:pt x="412" y="306"/>
                  </a:lnTo>
                  <a:lnTo>
                    <a:pt x="436" y="278"/>
                  </a:lnTo>
                  <a:lnTo>
                    <a:pt x="465" y="254"/>
                  </a:lnTo>
                  <a:lnTo>
                    <a:pt x="494" y="220"/>
                  </a:lnTo>
                  <a:lnTo>
                    <a:pt x="523" y="191"/>
                  </a:lnTo>
                  <a:lnTo>
                    <a:pt x="551" y="158"/>
                  </a:lnTo>
                  <a:lnTo>
                    <a:pt x="585" y="120"/>
                  </a:lnTo>
                  <a:lnTo>
                    <a:pt x="618" y="81"/>
                  </a:lnTo>
                  <a:lnTo>
                    <a:pt x="652" y="43"/>
                  </a:lnTo>
                  <a:lnTo>
                    <a:pt x="690" y="0"/>
                  </a:lnTo>
                  <a:lnTo>
                    <a:pt x="757" y="14"/>
                  </a:lnTo>
                  <a:lnTo>
                    <a:pt x="819" y="33"/>
                  </a:lnTo>
                  <a:lnTo>
                    <a:pt x="781" y="76"/>
                  </a:lnTo>
                  <a:lnTo>
                    <a:pt x="743" y="120"/>
                  </a:lnTo>
                  <a:lnTo>
                    <a:pt x="705" y="158"/>
                  </a:lnTo>
                  <a:lnTo>
                    <a:pt x="671" y="196"/>
                  </a:lnTo>
                  <a:lnTo>
                    <a:pt x="637" y="230"/>
                  </a:lnTo>
                  <a:lnTo>
                    <a:pt x="604" y="263"/>
                  </a:lnTo>
                  <a:lnTo>
                    <a:pt x="575" y="292"/>
                  </a:lnTo>
                  <a:lnTo>
                    <a:pt x="546" y="321"/>
                  </a:lnTo>
                  <a:lnTo>
                    <a:pt x="518" y="345"/>
                  </a:lnTo>
                  <a:lnTo>
                    <a:pt x="494" y="369"/>
                  </a:lnTo>
                  <a:lnTo>
                    <a:pt x="465" y="393"/>
                  </a:lnTo>
                  <a:lnTo>
                    <a:pt x="446" y="412"/>
                  </a:lnTo>
                  <a:lnTo>
                    <a:pt x="422" y="431"/>
                  </a:lnTo>
                  <a:lnTo>
                    <a:pt x="403" y="445"/>
                  </a:lnTo>
                  <a:lnTo>
                    <a:pt x="388" y="460"/>
                  </a:lnTo>
                  <a:lnTo>
                    <a:pt x="374" y="46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4939560" y="3742560"/>
              <a:ext cx="1268640" cy="759600"/>
            </a:xfrm>
            <a:custGeom>
              <a:avLst/>
              <a:gdLst/>
              <a:ahLst/>
              <a:rect l="l" t="t" r="r" b="b"/>
              <a:pathLst>
                <a:path w="1049" h="628">
                  <a:moveTo>
                    <a:pt x="24" y="0"/>
                  </a:moveTo>
                  <a:lnTo>
                    <a:pt x="53" y="29"/>
                  </a:lnTo>
                  <a:lnTo>
                    <a:pt x="86" y="58"/>
                  </a:lnTo>
                  <a:lnTo>
                    <a:pt x="125" y="86"/>
                  </a:lnTo>
                  <a:lnTo>
                    <a:pt x="158" y="115"/>
                  </a:lnTo>
                  <a:lnTo>
                    <a:pt x="201" y="144"/>
                  </a:lnTo>
                  <a:lnTo>
                    <a:pt x="244" y="173"/>
                  </a:lnTo>
                  <a:lnTo>
                    <a:pt x="288" y="201"/>
                  </a:lnTo>
                  <a:lnTo>
                    <a:pt x="335" y="230"/>
                  </a:lnTo>
                  <a:lnTo>
                    <a:pt x="383" y="268"/>
                  </a:lnTo>
                  <a:lnTo>
                    <a:pt x="431" y="297"/>
                  </a:lnTo>
                  <a:lnTo>
                    <a:pt x="484" y="326"/>
                  </a:lnTo>
                  <a:lnTo>
                    <a:pt x="537" y="355"/>
                  </a:lnTo>
                  <a:lnTo>
                    <a:pt x="594" y="383"/>
                  </a:lnTo>
                  <a:lnTo>
                    <a:pt x="656" y="407"/>
                  </a:lnTo>
                  <a:lnTo>
                    <a:pt x="719" y="431"/>
                  </a:lnTo>
                  <a:lnTo>
                    <a:pt x="786" y="455"/>
                  </a:lnTo>
                  <a:lnTo>
                    <a:pt x="814" y="470"/>
                  </a:lnTo>
                  <a:lnTo>
                    <a:pt x="848" y="479"/>
                  </a:lnTo>
                  <a:lnTo>
                    <a:pt x="877" y="489"/>
                  </a:lnTo>
                  <a:lnTo>
                    <a:pt x="901" y="498"/>
                  </a:lnTo>
                  <a:lnTo>
                    <a:pt x="925" y="508"/>
                  </a:lnTo>
                  <a:lnTo>
                    <a:pt x="948" y="518"/>
                  </a:lnTo>
                  <a:lnTo>
                    <a:pt x="968" y="527"/>
                  </a:lnTo>
                  <a:lnTo>
                    <a:pt x="987" y="532"/>
                  </a:lnTo>
                  <a:lnTo>
                    <a:pt x="1001" y="537"/>
                  </a:lnTo>
                  <a:lnTo>
                    <a:pt x="1016" y="546"/>
                  </a:lnTo>
                  <a:lnTo>
                    <a:pt x="1025" y="551"/>
                  </a:lnTo>
                  <a:lnTo>
                    <a:pt x="1035" y="551"/>
                  </a:lnTo>
                  <a:lnTo>
                    <a:pt x="1044" y="556"/>
                  </a:lnTo>
                  <a:lnTo>
                    <a:pt x="1049" y="561"/>
                  </a:lnTo>
                  <a:lnTo>
                    <a:pt x="1049" y="565"/>
                  </a:lnTo>
                  <a:lnTo>
                    <a:pt x="1044" y="570"/>
                  </a:lnTo>
                  <a:lnTo>
                    <a:pt x="1039" y="570"/>
                  </a:lnTo>
                  <a:lnTo>
                    <a:pt x="1035" y="575"/>
                  </a:lnTo>
                  <a:lnTo>
                    <a:pt x="1030" y="575"/>
                  </a:lnTo>
                  <a:lnTo>
                    <a:pt x="1020" y="580"/>
                  </a:lnTo>
                  <a:lnTo>
                    <a:pt x="1011" y="580"/>
                  </a:lnTo>
                  <a:lnTo>
                    <a:pt x="1001" y="585"/>
                  </a:lnTo>
                  <a:lnTo>
                    <a:pt x="992" y="589"/>
                  </a:lnTo>
                  <a:lnTo>
                    <a:pt x="977" y="589"/>
                  </a:lnTo>
                  <a:lnTo>
                    <a:pt x="963" y="594"/>
                  </a:lnTo>
                  <a:lnTo>
                    <a:pt x="948" y="594"/>
                  </a:lnTo>
                  <a:lnTo>
                    <a:pt x="934" y="599"/>
                  </a:lnTo>
                  <a:lnTo>
                    <a:pt x="915" y="604"/>
                  </a:lnTo>
                  <a:lnTo>
                    <a:pt x="896" y="604"/>
                  </a:lnTo>
                  <a:lnTo>
                    <a:pt x="857" y="613"/>
                  </a:lnTo>
                  <a:lnTo>
                    <a:pt x="819" y="618"/>
                  </a:lnTo>
                  <a:lnTo>
                    <a:pt x="786" y="623"/>
                  </a:lnTo>
                  <a:lnTo>
                    <a:pt x="752" y="623"/>
                  </a:lnTo>
                  <a:lnTo>
                    <a:pt x="723" y="623"/>
                  </a:lnTo>
                  <a:lnTo>
                    <a:pt x="699" y="628"/>
                  </a:lnTo>
                  <a:lnTo>
                    <a:pt x="675" y="623"/>
                  </a:lnTo>
                  <a:lnTo>
                    <a:pt x="656" y="623"/>
                  </a:lnTo>
                  <a:lnTo>
                    <a:pt x="632" y="618"/>
                  </a:lnTo>
                  <a:lnTo>
                    <a:pt x="604" y="609"/>
                  </a:lnTo>
                  <a:lnTo>
                    <a:pt x="580" y="594"/>
                  </a:lnTo>
                  <a:lnTo>
                    <a:pt x="551" y="575"/>
                  </a:lnTo>
                  <a:lnTo>
                    <a:pt x="522" y="551"/>
                  </a:lnTo>
                  <a:lnTo>
                    <a:pt x="489" y="522"/>
                  </a:lnTo>
                  <a:lnTo>
                    <a:pt x="474" y="503"/>
                  </a:lnTo>
                  <a:lnTo>
                    <a:pt x="455" y="489"/>
                  </a:lnTo>
                  <a:lnTo>
                    <a:pt x="441" y="470"/>
                  </a:lnTo>
                  <a:lnTo>
                    <a:pt x="422" y="450"/>
                  </a:lnTo>
                  <a:lnTo>
                    <a:pt x="383" y="412"/>
                  </a:lnTo>
                  <a:lnTo>
                    <a:pt x="350" y="379"/>
                  </a:lnTo>
                  <a:lnTo>
                    <a:pt x="321" y="350"/>
                  </a:lnTo>
                  <a:lnTo>
                    <a:pt x="292" y="326"/>
                  </a:lnTo>
                  <a:lnTo>
                    <a:pt x="264" y="302"/>
                  </a:lnTo>
                  <a:lnTo>
                    <a:pt x="244" y="278"/>
                  </a:lnTo>
                  <a:lnTo>
                    <a:pt x="225" y="264"/>
                  </a:lnTo>
                  <a:lnTo>
                    <a:pt x="206" y="249"/>
                  </a:lnTo>
                  <a:lnTo>
                    <a:pt x="187" y="235"/>
                  </a:lnTo>
                  <a:lnTo>
                    <a:pt x="168" y="216"/>
                  </a:lnTo>
                  <a:lnTo>
                    <a:pt x="144" y="197"/>
                  </a:lnTo>
                  <a:lnTo>
                    <a:pt x="120" y="173"/>
                  </a:lnTo>
                  <a:lnTo>
                    <a:pt x="96" y="149"/>
                  </a:lnTo>
                  <a:lnTo>
                    <a:pt x="62" y="120"/>
                  </a:lnTo>
                  <a:lnTo>
                    <a:pt x="34" y="86"/>
                  </a:lnTo>
                  <a:lnTo>
                    <a:pt x="0" y="48"/>
                  </a:lnTo>
                  <a:lnTo>
                    <a:pt x="24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4528440" y="2606760"/>
              <a:ext cx="701280" cy="956880"/>
            </a:xfrm>
            <a:custGeom>
              <a:avLst/>
              <a:gdLst/>
              <a:ahLst/>
              <a:rect l="l" t="t" r="r" b="b"/>
              <a:pathLst>
                <a:path w="580" h="791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5" y="772"/>
                  </a:lnTo>
                  <a:lnTo>
                    <a:pt x="14" y="762"/>
                  </a:lnTo>
                  <a:lnTo>
                    <a:pt x="29" y="748"/>
                  </a:lnTo>
                  <a:lnTo>
                    <a:pt x="43" y="733"/>
                  </a:lnTo>
                  <a:lnTo>
                    <a:pt x="58" y="719"/>
                  </a:lnTo>
                  <a:lnTo>
                    <a:pt x="81" y="700"/>
                  </a:lnTo>
                  <a:lnTo>
                    <a:pt x="101" y="681"/>
                  </a:lnTo>
                  <a:lnTo>
                    <a:pt x="125" y="661"/>
                  </a:lnTo>
                  <a:lnTo>
                    <a:pt x="149" y="637"/>
                  </a:lnTo>
                  <a:lnTo>
                    <a:pt x="172" y="614"/>
                  </a:lnTo>
                  <a:lnTo>
                    <a:pt x="196" y="585"/>
                  </a:lnTo>
                  <a:lnTo>
                    <a:pt x="220" y="556"/>
                  </a:lnTo>
                  <a:lnTo>
                    <a:pt x="244" y="523"/>
                  </a:lnTo>
                  <a:lnTo>
                    <a:pt x="268" y="489"/>
                  </a:lnTo>
                  <a:lnTo>
                    <a:pt x="292" y="455"/>
                  </a:lnTo>
                  <a:lnTo>
                    <a:pt x="316" y="422"/>
                  </a:lnTo>
                  <a:lnTo>
                    <a:pt x="340" y="393"/>
                  </a:lnTo>
                  <a:lnTo>
                    <a:pt x="359" y="360"/>
                  </a:lnTo>
                  <a:lnTo>
                    <a:pt x="378" y="326"/>
                  </a:lnTo>
                  <a:lnTo>
                    <a:pt x="393" y="293"/>
                  </a:lnTo>
                  <a:lnTo>
                    <a:pt x="407" y="259"/>
                  </a:lnTo>
                  <a:lnTo>
                    <a:pt x="417" y="226"/>
                  </a:lnTo>
                  <a:lnTo>
                    <a:pt x="426" y="192"/>
                  </a:lnTo>
                  <a:lnTo>
                    <a:pt x="431" y="159"/>
                  </a:lnTo>
                  <a:lnTo>
                    <a:pt x="436" y="130"/>
                  </a:lnTo>
                  <a:lnTo>
                    <a:pt x="441" y="101"/>
                  </a:lnTo>
                  <a:lnTo>
                    <a:pt x="446" y="72"/>
                  </a:lnTo>
                  <a:lnTo>
                    <a:pt x="446" y="48"/>
                  </a:lnTo>
                  <a:lnTo>
                    <a:pt x="446" y="24"/>
                  </a:lnTo>
                  <a:lnTo>
                    <a:pt x="441" y="0"/>
                  </a:lnTo>
                  <a:lnTo>
                    <a:pt x="474" y="20"/>
                  </a:lnTo>
                  <a:lnTo>
                    <a:pt x="503" y="34"/>
                  </a:lnTo>
                  <a:lnTo>
                    <a:pt x="527" y="44"/>
                  </a:lnTo>
                  <a:lnTo>
                    <a:pt x="546" y="58"/>
                  </a:lnTo>
                  <a:lnTo>
                    <a:pt x="560" y="72"/>
                  </a:lnTo>
                  <a:lnTo>
                    <a:pt x="570" y="82"/>
                  </a:lnTo>
                  <a:lnTo>
                    <a:pt x="580" y="91"/>
                  </a:lnTo>
                  <a:lnTo>
                    <a:pt x="580" y="101"/>
                  </a:lnTo>
                  <a:lnTo>
                    <a:pt x="580" y="111"/>
                  </a:lnTo>
                  <a:lnTo>
                    <a:pt x="575" y="125"/>
                  </a:lnTo>
                  <a:lnTo>
                    <a:pt x="575" y="139"/>
                  </a:lnTo>
                  <a:lnTo>
                    <a:pt x="565" y="159"/>
                  </a:lnTo>
                  <a:lnTo>
                    <a:pt x="560" y="182"/>
                  </a:lnTo>
                  <a:lnTo>
                    <a:pt x="551" y="206"/>
                  </a:lnTo>
                  <a:lnTo>
                    <a:pt x="541" y="235"/>
                  </a:lnTo>
                  <a:lnTo>
                    <a:pt x="527" y="269"/>
                  </a:lnTo>
                  <a:lnTo>
                    <a:pt x="513" y="302"/>
                  </a:lnTo>
                  <a:lnTo>
                    <a:pt x="493" y="336"/>
                  </a:lnTo>
                  <a:lnTo>
                    <a:pt x="474" y="369"/>
                  </a:lnTo>
                  <a:lnTo>
                    <a:pt x="455" y="403"/>
                  </a:lnTo>
                  <a:lnTo>
                    <a:pt x="431" y="436"/>
                  </a:lnTo>
                  <a:lnTo>
                    <a:pt x="407" y="470"/>
                  </a:lnTo>
                  <a:lnTo>
                    <a:pt x="383" y="503"/>
                  </a:lnTo>
                  <a:lnTo>
                    <a:pt x="354" y="532"/>
                  </a:lnTo>
                  <a:lnTo>
                    <a:pt x="326" y="566"/>
                  </a:lnTo>
                  <a:lnTo>
                    <a:pt x="297" y="594"/>
                  </a:lnTo>
                  <a:lnTo>
                    <a:pt x="273" y="618"/>
                  </a:lnTo>
                  <a:lnTo>
                    <a:pt x="244" y="647"/>
                  </a:lnTo>
                  <a:lnTo>
                    <a:pt x="216" y="671"/>
                  </a:lnTo>
                  <a:lnTo>
                    <a:pt x="187" y="690"/>
                  </a:lnTo>
                  <a:lnTo>
                    <a:pt x="158" y="714"/>
                  </a:lnTo>
                  <a:lnTo>
                    <a:pt x="129" y="733"/>
                  </a:lnTo>
                  <a:lnTo>
                    <a:pt x="105" y="748"/>
                  </a:lnTo>
                  <a:lnTo>
                    <a:pt x="81" y="762"/>
                  </a:lnTo>
                  <a:lnTo>
                    <a:pt x="58" y="776"/>
                  </a:lnTo>
                  <a:lnTo>
                    <a:pt x="43" y="781"/>
                  </a:lnTo>
                  <a:lnTo>
                    <a:pt x="24" y="791"/>
                  </a:lnTo>
                  <a:lnTo>
                    <a:pt x="14" y="791"/>
                  </a:lnTo>
                  <a:lnTo>
                    <a:pt x="5" y="791"/>
                  </a:lnTo>
                  <a:lnTo>
                    <a:pt x="0" y="791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4227480" y="2450520"/>
              <a:ext cx="307080" cy="23184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86" y="115"/>
                  </a:moveTo>
                  <a:lnTo>
                    <a:pt x="67" y="96"/>
                  </a:lnTo>
                  <a:lnTo>
                    <a:pt x="48" y="77"/>
                  </a:lnTo>
                  <a:lnTo>
                    <a:pt x="34" y="62"/>
                  </a:lnTo>
                  <a:lnTo>
                    <a:pt x="19" y="48"/>
                  </a:lnTo>
                  <a:lnTo>
                    <a:pt x="14" y="3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" y="0"/>
                  </a:lnTo>
                  <a:lnTo>
                    <a:pt x="72" y="5"/>
                  </a:lnTo>
                  <a:lnTo>
                    <a:pt x="110" y="10"/>
                  </a:lnTo>
                  <a:lnTo>
                    <a:pt x="148" y="15"/>
                  </a:lnTo>
                  <a:lnTo>
                    <a:pt x="177" y="24"/>
                  </a:lnTo>
                  <a:lnTo>
                    <a:pt x="192" y="29"/>
                  </a:lnTo>
                  <a:lnTo>
                    <a:pt x="206" y="34"/>
                  </a:lnTo>
                  <a:lnTo>
                    <a:pt x="216" y="38"/>
                  </a:lnTo>
                  <a:lnTo>
                    <a:pt x="225" y="48"/>
                  </a:lnTo>
                  <a:lnTo>
                    <a:pt x="235" y="58"/>
                  </a:lnTo>
                  <a:lnTo>
                    <a:pt x="244" y="62"/>
                  </a:lnTo>
                  <a:lnTo>
                    <a:pt x="249" y="77"/>
                  </a:lnTo>
                  <a:lnTo>
                    <a:pt x="254" y="86"/>
                  </a:lnTo>
                  <a:lnTo>
                    <a:pt x="254" y="96"/>
                  </a:lnTo>
                  <a:lnTo>
                    <a:pt x="254" y="106"/>
                  </a:lnTo>
                  <a:lnTo>
                    <a:pt x="254" y="129"/>
                  </a:lnTo>
                  <a:lnTo>
                    <a:pt x="249" y="149"/>
                  </a:lnTo>
                  <a:lnTo>
                    <a:pt x="244" y="158"/>
                  </a:lnTo>
                  <a:lnTo>
                    <a:pt x="239" y="168"/>
                  </a:lnTo>
                  <a:lnTo>
                    <a:pt x="230" y="177"/>
                  </a:lnTo>
                  <a:lnTo>
                    <a:pt x="225" y="182"/>
                  </a:lnTo>
                  <a:lnTo>
                    <a:pt x="220" y="187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87"/>
                  </a:lnTo>
                  <a:lnTo>
                    <a:pt x="192" y="187"/>
                  </a:lnTo>
                  <a:lnTo>
                    <a:pt x="182" y="187"/>
                  </a:lnTo>
                  <a:lnTo>
                    <a:pt x="172" y="177"/>
                  </a:lnTo>
                  <a:lnTo>
                    <a:pt x="158" y="173"/>
                  </a:lnTo>
                  <a:lnTo>
                    <a:pt x="144" y="158"/>
                  </a:lnTo>
                  <a:lnTo>
                    <a:pt x="129" y="149"/>
                  </a:lnTo>
                  <a:lnTo>
                    <a:pt x="110" y="134"/>
                  </a:lnTo>
                  <a:lnTo>
                    <a:pt x="86" y="115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4094280" y="2781000"/>
              <a:ext cx="271800" cy="219960"/>
            </a:xfrm>
            <a:custGeom>
              <a:avLst/>
              <a:gdLst/>
              <a:ahLst/>
              <a:rect l="l" t="t" r="r" b="b"/>
              <a:pathLst>
                <a:path w="225" h="182">
                  <a:moveTo>
                    <a:pt x="144" y="24"/>
                  </a:moveTo>
                  <a:lnTo>
                    <a:pt x="163" y="29"/>
                  </a:lnTo>
                  <a:lnTo>
                    <a:pt x="172" y="38"/>
                  </a:lnTo>
                  <a:lnTo>
                    <a:pt x="187" y="48"/>
                  </a:lnTo>
                  <a:lnTo>
                    <a:pt x="196" y="53"/>
                  </a:lnTo>
                  <a:lnTo>
                    <a:pt x="206" y="62"/>
                  </a:lnTo>
                  <a:lnTo>
                    <a:pt x="215" y="72"/>
                  </a:lnTo>
                  <a:lnTo>
                    <a:pt x="220" y="82"/>
                  </a:lnTo>
                  <a:lnTo>
                    <a:pt x="225" y="91"/>
                  </a:lnTo>
                  <a:lnTo>
                    <a:pt x="225" y="101"/>
                  </a:lnTo>
                  <a:lnTo>
                    <a:pt x="225" y="115"/>
                  </a:lnTo>
                  <a:lnTo>
                    <a:pt x="225" y="134"/>
                  </a:lnTo>
                  <a:lnTo>
                    <a:pt x="225" y="139"/>
                  </a:lnTo>
                  <a:lnTo>
                    <a:pt x="220" y="149"/>
                  </a:lnTo>
                  <a:lnTo>
                    <a:pt x="215" y="153"/>
                  </a:lnTo>
                  <a:lnTo>
                    <a:pt x="215" y="158"/>
                  </a:lnTo>
                  <a:lnTo>
                    <a:pt x="201" y="168"/>
                  </a:lnTo>
                  <a:lnTo>
                    <a:pt x="191" y="177"/>
                  </a:lnTo>
                  <a:lnTo>
                    <a:pt x="177" y="182"/>
                  </a:lnTo>
                  <a:lnTo>
                    <a:pt x="172" y="182"/>
                  </a:lnTo>
                  <a:lnTo>
                    <a:pt x="167" y="182"/>
                  </a:lnTo>
                  <a:lnTo>
                    <a:pt x="158" y="177"/>
                  </a:lnTo>
                  <a:lnTo>
                    <a:pt x="148" y="173"/>
                  </a:lnTo>
                  <a:lnTo>
                    <a:pt x="139" y="163"/>
                  </a:lnTo>
                  <a:lnTo>
                    <a:pt x="124" y="153"/>
                  </a:lnTo>
                  <a:lnTo>
                    <a:pt x="110" y="144"/>
                  </a:lnTo>
                  <a:lnTo>
                    <a:pt x="96" y="129"/>
                  </a:lnTo>
                  <a:lnTo>
                    <a:pt x="76" y="115"/>
                  </a:lnTo>
                  <a:lnTo>
                    <a:pt x="57" y="101"/>
                  </a:lnTo>
                  <a:lnTo>
                    <a:pt x="43" y="86"/>
                  </a:lnTo>
                  <a:lnTo>
                    <a:pt x="29" y="67"/>
                  </a:lnTo>
                  <a:lnTo>
                    <a:pt x="19" y="53"/>
                  </a:lnTo>
                  <a:lnTo>
                    <a:pt x="9" y="38"/>
                  </a:lnTo>
                  <a:lnTo>
                    <a:pt x="5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81" y="5"/>
                  </a:lnTo>
                  <a:lnTo>
                    <a:pt x="100" y="10"/>
                  </a:lnTo>
                  <a:lnTo>
                    <a:pt x="115" y="15"/>
                  </a:lnTo>
                  <a:lnTo>
                    <a:pt x="129" y="19"/>
                  </a:lnTo>
                  <a:lnTo>
                    <a:pt x="144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4667760" y="2787120"/>
              <a:ext cx="185040" cy="352800"/>
            </a:xfrm>
            <a:custGeom>
              <a:avLst/>
              <a:gdLst/>
              <a:ahLst/>
              <a:rect l="l" t="t" r="r" b="b"/>
              <a:pathLst>
                <a:path w="153" h="292">
                  <a:moveTo>
                    <a:pt x="110" y="0"/>
                  </a:moveTo>
                  <a:lnTo>
                    <a:pt x="129" y="24"/>
                  </a:lnTo>
                  <a:lnTo>
                    <a:pt x="134" y="33"/>
                  </a:lnTo>
                  <a:lnTo>
                    <a:pt x="144" y="43"/>
                  </a:lnTo>
                  <a:lnTo>
                    <a:pt x="148" y="57"/>
                  </a:lnTo>
                  <a:lnTo>
                    <a:pt x="153" y="67"/>
                  </a:lnTo>
                  <a:lnTo>
                    <a:pt x="153" y="81"/>
                  </a:lnTo>
                  <a:lnTo>
                    <a:pt x="153" y="96"/>
                  </a:lnTo>
                  <a:lnTo>
                    <a:pt x="153" y="105"/>
                  </a:lnTo>
                  <a:lnTo>
                    <a:pt x="153" y="120"/>
                  </a:lnTo>
                  <a:lnTo>
                    <a:pt x="148" y="134"/>
                  </a:lnTo>
                  <a:lnTo>
                    <a:pt x="144" y="148"/>
                  </a:lnTo>
                  <a:lnTo>
                    <a:pt x="129" y="182"/>
                  </a:lnTo>
                  <a:lnTo>
                    <a:pt x="110" y="220"/>
                  </a:lnTo>
                  <a:lnTo>
                    <a:pt x="101" y="235"/>
                  </a:lnTo>
                  <a:lnTo>
                    <a:pt x="91" y="249"/>
                  </a:lnTo>
                  <a:lnTo>
                    <a:pt x="81" y="263"/>
                  </a:lnTo>
                  <a:lnTo>
                    <a:pt x="77" y="273"/>
                  </a:lnTo>
                  <a:lnTo>
                    <a:pt x="67" y="283"/>
                  </a:lnTo>
                  <a:lnTo>
                    <a:pt x="62" y="287"/>
                  </a:lnTo>
                  <a:lnTo>
                    <a:pt x="53" y="292"/>
                  </a:lnTo>
                  <a:lnTo>
                    <a:pt x="43" y="292"/>
                  </a:lnTo>
                  <a:lnTo>
                    <a:pt x="38" y="287"/>
                  </a:lnTo>
                  <a:lnTo>
                    <a:pt x="34" y="287"/>
                  </a:lnTo>
                  <a:lnTo>
                    <a:pt x="29" y="283"/>
                  </a:lnTo>
                  <a:lnTo>
                    <a:pt x="24" y="268"/>
                  </a:lnTo>
                  <a:lnTo>
                    <a:pt x="14" y="249"/>
                  </a:lnTo>
                  <a:lnTo>
                    <a:pt x="10" y="235"/>
                  </a:lnTo>
                  <a:lnTo>
                    <a:pt x="5" y="215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10" y="172"/>
                  </a:lnTo>
                  <a:lnTo>
                    <a:pt x="19" y="168"/>
                  </a:lnTo>
                  <a:lnTo>
                    <a:pt x="24" y="158"/>
                  </a:lnTo>
                  <a:lnTo>
                    <a:pt x="34" y="153"/>
                  </a:lnTo>
                  <a:lnTo>
                    <a:pt x="38" y="144"/>
                  </a:lnTo>
                  <a:lnTo>
                    <a:pt x="48" y="134"/>
                  </a:lnTo>
                  <a:lnTo>
                    <a:pt x="57" y="120"/>
                  </a:lnTo>
                  <a:lnTo>
                    <a:pt x="67" y="101"/>
                  </a:lnTo>
                  <a:lnTo>
                    <a:pt x="77" y="81"/>
                  </a:lnTo>
                  <a:lnTo>
                    <a:pt x="86" y="57"/>
                  </a:lnTo>
                  <a:lnTo>
                    <a:pt x="101" y="33"/>
                  </a:lnTo>
                  <a:lnTo>
                    <a:pt x="110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4117320" y="2990160"/>
              <a:ext cx="469080" cy="583920"/>
            </a:xfrm>
            <a:custGeom>
              <a:avLst/>
              <a:gdLst/>
              <a:ahLst/>
              <a:rect l="l" t="t" r="r" b="b"/>
              <a:pathLst>
                <a:path w="388" h="483">
                  <a:moveTo>
                    <a:pt x="91" y="483"/>
                  </a:moveTo>
                  <a:lnTo>
                    <a:pt x="86" y="483"/>
                  </a:lnTo>
                  <a:lnTo>
                    <a:pt x="77" y="479"/>
                  </a:lnTo>
                  <a:lnTo>
                    <a:pt x="72" y="474"/>
                  </a:lnTo>
                  <a:lnTo>
                    <a:pt x="62" y="464"/>
                  </a:lnTo>
                  <a:lnTo>
                    <a:pt x="57" y="455"/>
                  </a:lnTo>
                  <a:lnTo>
                    <a:pt x="48" y="435"/>
                  </a:lnTo>
                  <a:lnTo>
                    <a:pt x="38" y="421"/>
                  </a:lnTo>
                  <a:lnTo>
                    <a:pt x="34" y="397"/>
                  </a:lnTo>
                  <a:lnTo>
                    <a:pt x="24" y="378"/>
                  </a:lnTo>
                  <a:lnTo>
                    <a:pt x="14" y="359"/>
                  </a:lnTo>
                  <a:lnTo>
                    <a:pt x="10" y="344"/>
                  </a:lnTo>
                  <a:lnTo>
                    <a:pt x="5" y="330"/>
                  </a:lnTo>
                  <a:lnTo>
                    <a:pt x="5" y="316"/>
                  </a:lnTo>
                  <a:lnTo>
                    <a:pt x="0" y="306"/>
                  </a:lnTo>
                  <a:lnTo>
                    <a:pt x="5" y="297"/>
                  </a:lnTo>
                  <a:lnTo>
                    <a:pt x="5" y="292"/>
                  </a:lnTo>
                  <a:lnTo>
                    <a:pt x="10" y="282"/>
                  </a:lnTo>
                  <a:lnTo>
                    <a:pt x="19" y="277"/>
                  </a:lnTo>
                  <a:lnTo>
                    <a:pt x="29" y="277"/>
                  </a:lnTo>
                  <a:lnTo>
                    <a:pt x="38" y="273"/>
                  </a:lnTo>
                  <a:lnTo>
                    <a:pt x="48" y="277"/>
                  </a:lnTo>
                  <a:lnTo>
                    <a:pt x="53" y="277"/>
                  </a:lnTo>
                  <a:lnTo>
                    <a:pt x="67" y="277"/>
                  </a:lnTo>
                  <a:lnTo>
                    <a:pt x="77" y="273"/>
                  </a:lnTo>
                  <a:lnTo>
                    <a:pt x="91" y="268"/>
                  </a:lnTo>
                  <a:lnTo>
                    <a:pt x="96" y="263"/>
                  </a:lnTo>
                  <a:lnTo>
                    <a:pt x="105" y="253"/>
                  </a:lnTo>
                  <a:lnTo>
                    <a:pt x="120" y="244"/>
                  </a:lnTo>
                  <a:lnTo>
                    <a:pt x="134" y="225"/>
                  </a:lnTo>
                  <a:lnTo>
                    <a:pt x="158" y="206"/>
                  </a:lnTo>
                  <a:lnTo>
                    <a:pt x="182" y="186"/>
                  </a:lnTo>
                  <a:lnTo>
                    <a:pt x="206" y="158"/>
                  </a:lnTo>
                  <a:lnTo>
                    <a:pt x="220" y="143"/>
                  </a:lnTo>
                  <a:lnTo>
                    <a:pt x="239" y="124"/>
                  </a:lnTo>
                  <a:lnTo>
                    <a:pt x="254" y="110"/>
                  </a:lnTo>
                  <a:lnTo>
                    <a:pt x="268" y="91"/>
                  </a:lnTo>
                  <a:lnTo>
                    <a:pt x="297" y="67"/>
                  </a:lnTo>
                  <a:lnTo>
                    <a:pt x="321" y="43"/>
                  </a:lnTo>
                  <a:lnTo>
                    <a:pt x="340" y="24"/>
                  </a:lnTo>
                  <a:lnTo>
                    <a:pt x="359" y="14"/>
                  </a:lnTo>
                  <a:lnTo>
                    <a:pt x="369" y="4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4"/>
                  </a:lnTo>
                  <a:lnTo>
                    <a:pt x="388" y="9"/>
                  </a:lnTo>
                  <a:lnTo>
                    <a:pt x="383" y="14"/>
                  </a:lnTo>
                  <a:lnTo>
                    <a:pt x="383" y="19"/>
                  </a:lnTo>
                  <a:lnTo>
                    <a:pt x="378" y="28"/>
                  </a:lnTo>
                  <a:lnTo>
                    <a:pt x="374" y="43"/>
                  </a:lnTo>
                  <a:lnTo>
                    <a:pt x="369" y="52"/>
                  </a:lnTo>
                  <a:lnTo>
                    <a:pt x="364" y="67"/>
                  </a:lnTo>
                  <a:lnTo>
                    <a:pt x="354" y="81"/>
                  </a:lnTo>
                  <a:lnTo>
                    <a:pt x="345" y="100"/>
                  </a:lnTo>
                  <a:lnTo>
                    <a:pt x="335" y="119"/>
                  </a:lnTo>
                  <a:lnTo>
                    <a:pt x="326" y="143"/>
                  </a:lnTo>
                  <a:lnTo>
                    <a:pt x="311" y="162"/>
                  </a:lnTo>
                  <a:lnTo>
                    <a:pt x="297" y="186"/>
                  </a:lnTo>
                  <a:lnTo>
                    <a:pt x="283" y="215"/>
                  </a:lnTo>
                  <a:lnTo>
                    <a:pt x="263" y="239"/>
                  </a:lnTo>
                  <a:lnTo>
                    <a:pt x="249" y="268"/>
                  </a:lnTo>
                  <a:lnTo>
                    <a:pt x="230" y="297"/>
                  </a:lnTo>
                  <a:lnTo>
                    <a:pt x="216" y="320"/>
                  </a:lnTo>
                  <a:lnTo>
                    <a:pt x="201" y="344"/>
                  </a:lnTo>
                  <a:lnTo>
                    <a:pt x="187" y="364"/>
                  </a:lnTo>
                  <a:lnTo>
                    <a:pt x="172" y="383"/>
                  </a:lnTo>
                  <a:lnTo>
                    <a:pt x="163" y="402"/>
                  </a:lnTo>
                  <a:lnTo>
                    <a:pt x="148" y="416"/>
                  </a:lnTo>
                  <a:lnTo>
                    <a:pt x="139" y="431"/>
                  </a:lnTo>
                  <a:lnTo>
                    <a:pt x="129" y="445"/>
                  </a:lnTo>
                  <a:lnTo>
                    <a:pt x="120" y="455"/>
                  </a:lnTo>
                  <a:lnTo>
                    <a:pt x="115" y="464"/>
                  </a:lnTo>
                  <a:lnTo>
                    <a:pt x="105" y="469"/>
                  </a:lnTo>
                  <a:lnTo>
                    <a:pt x="101" y="474"/>
                  </a:lnTo>
                  <a:lnTo>
                    <a:pt x="96" y="479"/>
                  </a:lnTo>
                  <a:lnTo>
                    <a:pt x="91" y="483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3276720" y="2286000"/>
          <a:ext cx="3124080" cy="2666880"/>
        </p:xfrm>
        <a:graphic>
          <a:graphicData uri="http://schemas.openxmlformats.org/drawingml/2006/table">
            <a:tbl>
              <a:tblPr/>
              <a:tblGrid>
                <a:gridCol w="1676520"/>
                <a:gridCol w="144756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 rot="5400000">
            <a:off x="-457560" y="2514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2590920" y="1295280"/>
            <a:ext cx="4952880" cy="4605480"/>
            <a:chOff x="2590920" y="1295280"/>
            <a:chExt cx="4952880" cy="4605480"/>
          </a:xfrm>
        </p:grpSpPr>
        <p:sp>
          <p:nvSpPr>
            <p:cNvPr id="127" name="AutoShape 6"/>
            <p:cNvSpPr/>
            <p:nvPr/>
          </p:nvSpPr>
          <p:spPr>
            <a:xfrm>
              <a:off x="2590920" y="1295280"/>
              <a:ext cx="4952880" cy="46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7"/>
            <p:cNvSpPr/>
            <p:nvPr/>
          </p:nvSpPr>
          <p:spPr>
            <a:xfrm>
              <a:off x="3890880" y="2466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3909240" y="2439720"/>
              <a:ext cx="2298960" cy="2305800"/>
            </a:xfrm>
            <a:custGeom>
              <a:avLst/>
              <a:gdLst/>
              <a:ahLst/>
              <a:rect l="l" t="t" r="r" b="b"/>
              <a:pathLst>
                <a:path w="1901" h="1906">
                  <a:moveTo>
                    <a:pt x="1135" y="704"/>
                  </a:moveTo>
                  <a:lnTo>
                    <a:pt x="1140" y="704"/>
                  </a:lnTo>
                  <a:lnTo>
                    <a:pt x="1144" y="699"/>
                  </a:lnTo>
                  <a:lnTo>
                    <a:pt x="1149" y="694"/>
                  </a:lnTo>
                  <a:lnTo>
                    <a:pt x="1154" y="689"/>
                  </a:lnTo>
                  <a:lnTo>
                    <a:pt x="1159" y="680"/>
                  </a:lnTo>
                  <a:lnTo>
                    <a:pt x="1163" y="670"/>
                  </a:lnTo>
                  <a:lnTo>
                    <a:pt x="1173" y="661"/>
                  </a:lnTo>
                  <a:lnTo>
                    <a:pt x="1178" y="651"/>
                  </a:lnTo>
                  <a:lnTo>
                    <a:pt x="1183" y="637"/>
                  </a:lnTo>
                  <a:lnTo>
                    <a:pt x="1187" y="622"/>
                  </a:lnTo>
                  <a:lnTo>
                    <a:pt x="1197" y="608"/>
                  </a:lnTo>
                  <a:lnTo>
                    <a:pt x="1202" y="589"/>
                  </a:lnTo>
                  <a:lnTo>
                    <a:pt x="1207" y="574"/>
                  </a:lnTo>
                  <a:lnTo>
                    <a:pt x="1216" y="555"/>
                  </a:lnTo>
                  <a:lnTo>
                    <a:pt x="1231" y="512"/>
                  </a:lnTo>
                  <a:lnTo>
                    <a:pt x="1245" y="474"/>
                  </a:lnTo>
                  <a:lnTo>
                    <a:pt x="1259" y="435"/>
                  </a:lnTo>
                  <a:lnTo>
                    <a:pt x="1269" y="397"/>
                  </a:lnTo>
                  <a:lnTo>
                    <a:pt x="1278" y="364"/>
                  </a:lnTo>
                  <a:lnTo>
                    <a:pt x="1283" y="335"/>
                  </a:lnTo>
                  <a:lnTo>
                    <a:pt x="1293" y="301"/>
                  </a:lnTo>
                  <a:lnTo>
                    <a:pt x="1298" y="273"/>
                  </a:lnTo>
                  <a:lnTo>
                    <a:pt x="1298" y="249"/>
                  </a:lnTo>
                  <a:lnTo>
                    <a:pt x="1302" y="225"/>
                  </a:lnTo>
                  <a:lnTo>
                    <a:pt x="1302" y="206"/>
                  </a:lnTo>
                  <a:lnTo>
                    <a:pt x="1302" y="191"/>
                  </a:lnTo>
                  <a:lnTo>
                    <a:pt x="1302" y="172"/>
                  </a:lnTo>
                  <a:lnTo>
                    <a:pt x="1298" y="162"/>
                  </a:lnTo>
                  <a:lnTo>
                    <a:pt x="1298" y="148"/>
                  </a:lnTo>
                  <a:lnTo>
                    <a:pt x="1293" y="138"/>
                  </a:lnTo>
                  <a:lnTo>
                    <a:pt x="1293" y="134"/>
                  </a:lnTo>
                  <a:lnTo>
                    <a:pt x="1283" y="124"/>
                  </a:lnTo>
                  <a:lnTo>
                    <a:pt x="1274" y="119"/>
                  </a:lnTo>
                  <a:lnTo>
                    <a:pt x="1254" y="115"/>
                  </a:lnTo>
                  <a:lnTo>
                    <a:pt x="1240" y="115"/>
                  </a:lnTo>
                  <a:lnTo>
                    <a:pt x="1231" y="115"/>
                  </a:lnTo>
                  <a:lnTo>
                    <a:pt x="1216" y="115"/>
                  </a:lnTo>
                  <a:lnTo>
                    <a:pt x="1202" y="119"/>
                  </a:lnTo>
                  <a:lnTo>
                    <a:pt x="1183" y="119"/>
                  </a:lnTo>
                  <a:lnTo>
                    <a:pt x="1163" y="124"/>
                  </a:lnTo>
                  <a:lnTo>
                    <a:pt x="1144" y="129"/>
                  </a:lnTo>
                  <a:lnTo>
                    <a:pt x="1120" y="134"/>
                  </a:lnTo>
                  <a:lnTo>
                    <a:pt x="1092" y="138"/>
                  </a:lnTo>
                  <a:lnTo>
                    <a:pt x="1034" y="153"/>
                  </a:lnTo>
                  <a:lnTo>
                    <a:pt x="1010" y="158"/>
                  </a:lnTo>
                  <a:lnTo>
                    <a:pt x="981" y="162"/>
                  </a:lnTo>
                  <a:lnTo>
                    <a:pt x="958" y="167"/>
                  </a:lnTo>
                  <a:lnTo>
                    <a:pt x="934" y="172"/>
                  </a:lnTo>
                  <a:lnTo>
                    <a:pt x="914" y="177"/>
                  </a:lnTo>
                  <a:lnTo>
                    <a:pt x="895" y="182"/>
                  </a:lnTo>
                  <a:lnTo>
                    <a:pt x="876" y="186"/>
                  </a:lnTo>
                  <a:lnTo>
                    <a:pt x="857" y="191"/>
                  </a:lnTo>
                  <a:lnTo>
                    <a:pt x="838" y="191"/>
                  </a:lnTo>
                  <a:lnTo>
                    <a:pt x="823" y="196"/>
                  </a:lnTo>
                  <a:lnTo>
                    <a:pt x="809" y="191"/>
                  </a:lnTo>
                  <a:lnTo>
                    <a:pt x="795" y="191"/>
                  </a:lnTo>
                  <a:lnTo>
                    <a:pt x="785" y="186"/>
                  </a:lnTo>
                  <a:lnTo>
                    <a:pt x="771" y="182"/>
                  </a:lnTo>
                  <a:lnTo>
                    <a:pt x="761" y="177"/>
                  </a:lnTo>
                  <a:lnTo>
                    <a:pt x="752" y="172"/>
                  </a:lnTo>
                  <a:lnTo>
                    <a:pt x="742" y="167"/>
                  </a:lnTo>
                  <a:lnTo>
                    <a:pt x="732" y="162"/>
                  </a:lnTo>
                  <a:lnTo>
                    <a:pt x="728" y="158"/>
                  </a:lnTo>
                  <a:lnTo>
                    <a:pt x="723" y="153"/>
                  </a:lnTo>
                  <a:lnTo>
                    <a:pt x="723" y="148"/>
                  </a:lnTo>
                  <a:lnTo>
                    <a:pt x="723" y="138"/>
                  </a:lnTo>
                  <a:lnTo>
                    <a:pt x="728" y="138"/>
                  </a:lnTo>
                  <a:lnTo>
                    <a:pt x="732" y="138"/>
                  </a:lnTo>
                  <a:lnTo>
                    <a:pt x="742" y="138"/>
                  </a:lnTo>
                  <a:lnTo>
                    <a:pt x="756" y="138"/>
                  </a:lnTo>
                  <a:lnTo>
                    <a:pt x="766" y="134"/>
                  </a:lnTo>
                  <a:lnTo>
                    <a:pt x="780" y="134"/>
                  </a:lnTo>
                  <a:lnTo>
                    <a:pt x="799" y="129"/>
                  </a:lnTo>
                  <a:lnTo>
                    <a:pt x="814" y="129"/>
                  </a:lnTo>
                  <a:lnTo>
                    <a:pt x="833" y="124"/>
                  </a:lnTo>
                  <a:lnTo>
                    <a:pt x="857" y="119"/>
                  </a:lnTo>
                  <a:lnTo>
                    <a:pt x="881" y="115"/>
                  </a:lnTo>
                  <a:lnTo>
                    <a:pt x="905" y="110"/>
                  </a:lnTo>
                  <a:lnTo>
                    <a:pt x="929" y="105"/>
                  </a:lnTo>
                  <a:lnTo>
                    <a:pt x="958" y="95"/>
                  </a:lnTo>
                  <a:lnTo>
                    <a:pt x="986" y="91"/>
                  </a:lnTo>
                  <a:lnTo>
                    <a:pt x="1015" y="81"/>
                  </a:lnTo>
                  <a:lnTo>
                    <a:pt x="1044" y="76"/>
                  </a:lnTo>
                  <a:lnTo>
                    <a:pt x="1072" y="71"/>
                  </a:lnTo>
                  <a:lnTo>
                    <a:pt x="1096" y="62"/>
                  </a:lnTo>
                  <a:lnTo>
                    <a:pt x="1125" y="57"/>
                  </a:lnTo>
                  <a:lnTo>
                    <a:pt x="1144" y="52"/>
                  </a:lnTo>
                  <a:lnTo>
                    <a:pt x="1168" y="47"/>
                  </a:lnTo>
                  <a:lnTo>
                    <a:pt x="1187" y="43"/>
                  </a:lnTo>
                  <a:lnTo>
                    <a:pt x="1202" y="38"/>
                  </a:lnTo>
                  <a:lnTo>
                    <a:pt x="1216" y="33"/>
                  </a:lnTo>
                  <a:lnTo>
                    <a:pt x="1231" y="33"/>
                  </a:lnTo>
                  <a:lnTo>
                    <a:pt x="1240" y="28"/>
                  </a:lnTo>
                  <a:lnTo>
                    <a:pt x="1254" y="24"/>
                  </a:lnTo>
                  <a:lnTo>
                    <a:pt x="1259" y="24"/>
                  </a:lnTo>
                  <a:lnTo>
                    <a:pt x="1264" y="19"/>
                  </a:lnTo>
                  <a:lnTo>
                    <a:pt x="1269" y="19"/>
                  </a:lnTo>
                  <a:lnTo>
                    <a:pt x="1274" y="14"/>
                  </a:lnTo>
                  <a:lnTo>
                    <a:pt x="1283" y="9"/>
                  </a:lnTo>
                  <a:lnTo>
                    <a:pt x="1293" y="4"/>
                  </a:lnTo>
                  <a:lnTo>
                    <a:pt x="1302" y="0"/>
                  </a:lnTo>
                  <a:lnTo>
                    <a:pt x="1317" y="0"/>
                  </a:lnTo>
                  <a:lnTo>
                    <a:pt x="1322" y="0"/>
                  </a:lnTo>
                  <a:lnTo>
                    <a:pt x="1326" y="4"/>
                  </a:lnTo>
                  <a:lnTo>
                    <a:pt x="1336" y="4"/>
                  </a:lnTo>
                  <a:lnTo>
                    <a:pt x="1350" y="9"/>
                  </a:lnTo>
                  <a:lnTo>
                    <a:pt x="1365" y="19"/>
                  </a:lnTo>
                  <a:lnTo>
                    <a:pt x="1379" y="28"/>
                  </a:lnTo>
                  <a:lnTo>
                    <a:pt x="1398" y="38"/>
                  </a:lnTo>
                  <a:lnTo>
                    <a:pt x="1422" y="47"/>
                  </a:lnTo>
                  <a:lnTo>
                    <a:pt x="1436" y="62"/>
                  </a:lnTo>
                  <a:lnTo>
                    <a:pt x="1456" y="71"/>
                  </a:lnTo>
                  <a:lnTo>
                    <a:pt x="1465" y="81"/>
                  </a:lnTo>
                  <a:lnTo>
                    <a:pt x="1480" y="91"/>
                  </a:lnTo>
                  <a:lnTo>
                    <a:pt x="1484" y="100"/>
                  </a:lnTo>
                  <a:lnTo>
                    <a:pt x="1494" y="105"/>
                  </a:lnTo>
                  <a:lnTo>
                    <a:pt x="1499" y="110"/>
                  </a:lnTo>
                  <a:lnTo>
                    <a:pt x="1499" y="115"/>
                  </a:lnTo>
                  <a:lnTo>
                    <a:pt x="1494" y="124"/>
                  </a:lnTo>
                  <a:lnTo>
                    <a:pt x="1489" y="134"/>
                  </a:lnTo>
                  <a:lnTo>
                    <a:pt x="1484" y="143"/>
                  </a:lnTo>
                  <a:lnTo>
                    <a:pt x="1470" y="148"/>
                  </a:lnTo>
                  <a:lnTo>
                    <a:pt x="1460" y="153"/>
                  </a:lnTo>
                  <a:lnTo>
                    <a:pt x="1456" y="162"/>
                  </a:lnTo>
                  <a:lnTo>
                    <a:pt x="1451" y="172"/>
                  </a:lnTo>
                  <a:lnTo>
                    <a:pt x="1446" y="186"/>
                  </a:lnTo>
                  <a:lnTo>
                    <a:pt x="1441" y="201"/>
                  </a:lnTo>
                  <a:lnTo>
                    <a:pt x="1436" y="220"/>
                  </a:lnTo>
                  <a:lnTo>
                    <a:pt x="1432" y="239"/>
                  </a:lnTo>
                  <a:lnTo>
                    <a:pt x="1427" y="263"/>
                  </a:lnTo>
                  <a:lnTo>
                    <a:pt x="1422" y="292"/>
                  </a:lnTo>
                  <a:lnTo>
                    <a:pt x="1417" y="320"/>
                  </a:lnTo>
                  <a:lnTo>
                    <a:pt x="1408" y="354"/>
                  </a:lnTo>
                  <a:lnTo>
                    <a:pt x="1398" y="388"/>
                  </a:lnTo>
                  <a:lnTo>
                    <a:pt x="1384" y="431"/>
                  </a:lnTo>
                  <a:lnTo>
                    <a:pt x="1374" y="474"/>
                  </a:lnTo>
                  <a:lnTo>
                    <a:pt x="1360" y="522"/>
                  </a:lnTo>
                  <a:lnTo>
                    <a:pt x="1341" y="570"/>
                  </a:lnTo>
                  <a:lnTo>
                    <a:pt x="1336" y="598"/>
                  </a:lnTo>
                  <a:lnTo>
                    <a:pt x="1326" y="622"/>
                  </a:lnTo>
                  <a:lnTo>
                    <a:pt x="1317" y="646"/>
                  </a:lnTo>
                  <a:lnTo>
                    <a:pt x="1312" y="665"/>
                  </a:lnTo>
                  <a:lnTo>
                    <a:pt x="1302" y="689"/>
                  </a:lnTo>
                  <a:lnTo>
                    <a:pt x="1293" y="708"/>
                  </a:lnTo>
                  <a:lnTo>
                    <a:pt x="1288" y="728"/>
                  </a:lnTo>
                  <a:lnTo>
                    <a:pt x="1278" y="747"/>
                  </a:lnTo>
                  <a:lnTo>
                    <a:pt x="1269" y="761"/>
                  </a:lnTo>
                  <a:lnTo>
                    <a:pt x="1264" y="775"/>
                  </a:lnTo>
                  <a:lnTo>
                    <a:pt x="1254" y="790"/>
                  </a:lnTo>
                  <a:lnTo>
                    <a:pt x="1250" y="799"/>
                  </a:lnTo>
                  <a:lnTo>
                    <a:pt x="1240" y="814"/>
                  </a:lnTo>
                  <a:lnTo>
                    <a:pt x="1235" y="823"/>
                  </a:lnTo>
                  <a:lnTo>
                    <a:pt x="1226" y="828"/>
                  </a:lnTo>
                  <a:lnTo>
                    <a:pt x="1221" y="838"/>
                  </a:lnTo>
                  <a:lnTo>
                    <a:pt x="1207" y="852"/>
                  </a:lnTo>
                  <a:lnTo>
                    <a:pt x="1192" y="862"/>
                  </a:lnTo>
                  <a:lnTo>
                    <a:pt x="1178" y="871"/>
                  </a:lnTo>
                  <a:lnTo>
                    <a:pt x="1168" y="881"/>
                  </a:lnTo>
                  <a:lnTo>
                    <a:pt x="1159" y="886"/>
                  </a:lnTo>
                  <a:lnTo>
                    <a:pt x="1149" y="890"/>
                  </a:lnTo>
                  <a:lnTo>
                    <a:pt x="1144" y="895"/>
                  </a:lnTo>
                  <a:lnTo>
                    <a:pt x="1135" y="895"/>
                  </a:lnTo>
                  <a:lnTo>
                    <a:pt x="1130" y="895"/>
                  </a:lnTo>
                  <a:lnTo>
                    <a:pt x="1125" y="890"/>
                  </a:lnTo>
                  <a:lnTo>
                    <a:pt x="1120" y="886"/>
                  </a:lnTo>
                  <a:lnTo>
                    <a:pt x="1116" y="881"/>
                  </a:lnTo>
                  <a:lnTo>
                    <a:pt x="1111" y="876"/>
                  </a:lnTo>
                  <a:lnTo>
                    <a:pt x="1106" y="866"/>
                  </a:lnTo>
                  <a:lnTo>
                    <a:pt x="1106" y="857"/>
                  </a:lnTo>
                  <a:lnTo>
                    <a:pt x="1101" y="847"/>
                  </a:lnTo>
                  <a:lnTo>
                    <a:pt x="1096" y="833"/>
                  </a:lnTo>
                  <a:lnTo>
                    <a:pt x="1092" y="819"/>
                  </a:lnTo>
                  <a:lnTo>
                    <a:pt x="1087" y="804"/>
                  </a:lnTo>
                  <a:lnTo>
                    <a:pt x="1077" y="790"/>
                  </a:lnTo>
                  <a:lnTo>
                    <a:pt x="1068" y="775"/>
                  </a:lnTo>
                  <a:lnTo>
                    <a:pt x="1058" y="756"/>
                  </a:lnTo>
                  <a:lnTo>
                    <a:pt x="1049" y="737"/>
                  </a:lnTo>
                  <a:lnTo>
                    <a:pt x="1029" y="723"/>
                  </a:lnTo>
                  <a:lnTo>
                    <a:pt x="1015" y="704"/>
                  </a:lnTo>
                  <a:lnTo>
                    <a:pt x="1005" y="694"/>
                  </a:lnTo>
                  <a:lnTo>
                    <a:pt x="996" y="680"/>
                  </a:lnTo>
                  <a:lnTo>
                    <a:pt x="991" y="670"/>
                  </a:lnTo>
                  <a:lnTo>
                    <a:pt x="986" y="661"/>
                  </a:lnTo>
                  <a:lnTo>
                    <a:pt x="986" y="656"/>
                  </a:lnTo>
                  <a:lnTo>
                    <a:pt x="986" y="651"/>
                  </a:lnTo>
                  <a:lnTo>
                    <a:pt x="986" y="646"/>
                  </a:lnTo>
                  <a:lnTo>
                    <a:pt x="991" y="646"/>
                  </a:lnTo>
                  <a:lnTo>
                    <a:pt x="996" y="646"/>
                  </a:lnTo>
                  <a:lnTo>
                    <a:pt x="1001" y="651"/>
                  </a:lnTo>
                  <a:lnTo>
                    <a:pt x="1010" y="651"/>
                  </a:lnTo>
                  <a:lnTo>
                    <a:pt x="1020" y="656"/>
                  </a:lnTo>
                  <a:lnTo>
                    <a:pt x="1029" y="665"/>
                  </a:lnTo>
                  <a:lnTo>
                    <a:pt x="1044" y="670"/>
                  </a:lnTo>
                  <a:lnTo>
                    <a:pt x="1058" y="680"/>
                  </a:lnTo>
                  <a:lnTo>
                    <a:pt x="1068" y="689"/>
                  </a:lnTo>
                  <a:lnTo>
                    <a:pt x="1082" y="694"/>
                  </a:lnTo>
                  <a:lnTo>
                    <a:pt x="1092" y="699"/>
                  </a:lnTo>
                  <a:lnTo>
                    <a:pt x="1101" y="704"/>
                  </a:lnTo>
                  <a:lnTo>
                    <a:pt x="1111" y="708"/>
                  </a:lnTo>
                  <a:lnTo>
                    <a:pt x="1120" y="708"/>
                  </a:lnTo>
                  <a:lnTo>
                    <a:pt x="1130" y="708"/>
                  </a:lnTo>
                  <a:lnTo>
                    <a:pt x="1135" y="704"/>
                  </a:lnTo>
                  <a:close/>
                  <a:moveTo>
                    <a:pt x="1551" y="421"/>
                  </a:moveTo>
                  <a:lnTo>
                    <a:pt x="1571" y="431"/>
                  </a:lnTo>
                  <a:lnTo>
                    <a:pt x="1590" y="435"/>
                  </a:lnTo>
                  <a:lnTo>
                    <a:pt x="1604" y="440"/>
                  </a:lnTo>
                  <a:lnTo>
                    <a:pt x="1618" y="445"/>
                  </a:lnTo>
                  <a:lnTo>
                    <a:pt x="1633" y="455"/>
                  </a:lnTo>
                  <a:lnTo>
                    <a:pt x="1642" y="459"/>
                  </a:lnTo>
                  <a:lnTo>
                    <a:pt x="1647" y="464"/>
                  </a:lnTo>
                  <a:lnTo>
                    <a:pt x="1652" y="474"/>
                  </a:lnTo>
                  <a:lnTo>
                    <a:pt x="1657" y="488"/>
                  </a:lnTo>
                  <a:lnTo>
                    <a:pt x="1662" y="502"/>
                  </a:lnTo>
                  <a:lnTo>
                    <a:pt x="1662" y="522"/>
                  </a:lnTo>
                  <a:lnTo>
                    <a:pt x="1662" y="536"/>
                  </a:lnTo>
                  <a:lnTo>
                    <a:pt x="1662" y="546"/>
                  </a:lnTo>
                  <a:lnTo>
                    <a:pt x="1657" y="555"/>
                  </a:lnTo>
                  <a:lnTo>
                    <a:pt x="1657" y="560"/>
                  </a:lnTo>
                  <a:lnTo>
                    <a:pt x="1652" y="570"/>
                  </a:lnTo>
                  <a:lnTo>
                    <a:pt x="1642" y="574"/>
                  </a:lnTo>
                  <a:lnTo>
                    <a:pt x="1638" y="574"/>
                  </a:lnTo>
                  <a:lnTo>
                    <a:pt x="1628" y="579"/>
                  </a:lnTo>
                  <a:lnTo>
                    <a:pt x="1618" y="579"/>
                  </a:lnTo>
                  <a:lnTo>
                    <a:pt x="1614" y="579"/>
                  </a:lnTo>
                  <a:lnTo>
                    <a:pt x="1604" y="579"/>
                  </a:lnTo>
                  <a:lnTo>
                    <a:pt x="1595" y="574"/>
                  </a:lnTo>
                  <a:lnTo>
                    <a:pt x="1585" y="570"/>
                  </a:lnTo>
                  <a:lnTo>
                    <a:pt x="1575" y="565"/>
                  </a:lnTo>
                  <a:lnTo>
                    <a:pt x="1561" y="560"/>
                  </a:lnTo>
                  <a:lnTo>
                    <a:pt x="1547" y="550"/>
                  </a:lnTo>
                  <a:lnTo>
                    <a:pt x="1527" y="541"/>
                  </a:lnTo>
                  <a:lnTo>
                    <a:pt x="1508" y="531"/>
                  </a:lnTo>
                  <a:lnTo>
                    <a:pt x="1489" y="522"/>
                  </a:lnTo>
                  <a:lnTo>
                    <a:pt x="1470" y="507"/>
                  </a:lnTo>
                  <a:lnTo>
                    <a:pt x="1446" y="498"/>
                  </a:lnTo>
                  <a:lnTo>
                    <a:pt x="1422" y="483"/>
                  </a:lnTo>
                  <a:lnTo>
                    <a:pt x="1398" y="464"/>
                  </a:lnTo>
                  <a:lnTo>
                    <a:pt x="1369" y="450"/>
                  </a:lnTo>
                  <a:lnTo>
                    <a:pt x="1341" y="431"/>
                  </a:lnTo>
                  <a:lnTo>
                    <a:pt x="1360" y="421"/>
                  </a:lnTo>
                  <a:lnTo>
                    <a:pt x="1379" y="411"/>
                  </a:lnTo>
                  <a:lnTo>
                    <a:pt x="1403" y="402"/>
                  </a:lnTo>
                  <a:lnTo>
                    <a:pt x="1422" y="397"/>
                  </a:lnTo>
                  <a:lnTo>
                    <a:pt x="1432" y="397"/>
                  </a:lnTo>
                  <a:lnTo>
                    <a:pt x="1441" y="397"/>
                  </a:lnTo>
                  <a:lnTo>
                    <a:pt x="1456" y="402"/>
                  </a:lnTo>
                  <a:lnTo>
                    <a:pt x="1470" y="402"/>
                  </a:lnTo>
                  <a:lnTo>
                    <a:pt x="1489" y="407"/>
                  </a:lnTo>
                  <a:lnTo>
                    <a:pt x="1508" y="411"/>
                  </a:lnTo>
                  <a:lnTo>
                    <a:pt x="1527" y="416"/>
                  </a:lnTo>
                  <a:lnTo>
                    <a:pt x="1551" y="421"/>
                  </a:lnTo>
                  <a:close/>
                  <a:moveTo>
                    <a:pt x="1542" y="953"/>
                  </a:moveTo>
                  <a:lnTo>
                    <a:pt x="1575" y="953"/>
                  </a:lnTo>
                  <a:lnTo>
                    <a:pt x="1604" y="962"/>
                  </a:lnTo>
                  <a:lnTo>
                    <a:pt x="1623" y="962"/>
                  </a:lnTo>
                  <a:lnTo>
                    <a:pt x="1638" y="972"/>
                  </a:lnTo>
                  <a:lnTo>
                    <a:pt x="1652" y="977"/>
                  </a:lnTo>
                  <a:lnTo>
                    <a:pt x="1671" y="986"/>
                  </a:lnTo>
                  <a:lnTo>
                    <a:pt x="1686" y="996"/>
                  </a:lnTo>
                  <a:lnTo>
                    <a:pt x="1700" y="1005"/>
                  </a:lnTo>
                  <a:lnTo>
                    <a:pt x="1709" y="1010"/>
                  </a:lnTo>
                  <a:lnTo>
                    <a:pt x="1724" y="1015"/>
                  </a:lnTo>
                  <a:lnTo>
                    <a:pt x="1729" y="1025"/>
                  </a:lnTo>
                  <a:lnTo>
                    <a:pt x="1738" y="1029"/>
                  </a:lnTo>
                  <a:lnTo>
                    <a:pt x="1743" y="1034"/>
                  </a:lnTo>
                  <a:lnTo>
                    <a:pt x="1748" y="1034"/>
                  </a:lnTo>
                  <a:lnTo>
                    <a:pt x="1753" y="1049"/>
                  </a:lnTo>
                  <a:lnTo>
                    <a:pt x="1753" y="1053"/>
                  </a:lnTo>
                  <a:lnTo>
                    <a:pt x="1753" y="1063"/>
                  </a:lnTo>
                  <a:lnTo>
                    <a:pt x="1748" y="1068"/>
                  </a:lnTo>
                  <a:lnTo>
                    <a:pt x="1743" y="1072"/>
                  </a:lnTo>
                  <a:lnTo>
                    <a:pt x="1733" y="1072"/>
                  </a:lnTo>
                  <a:lnTo>
                    <a:pt x="1729" y="1077"/>
                  </a:lnTo>
                  <a:lnTo>
                    <a:pt x="1719" y="1077"/>
                  </a:lnTo>
                  <a:lnTo>
                    <a:pt x="1705" y="1077"/>
                  </a:lnTo>
                  <a:lnTo>
                    <a:pt x="1690" y="1077"/>
                  </a:lnTo>
                  <a:lnTo>
                    <a:pt x="1676" y="1077"/>
                  </a:lnTo>
                  <a:lnTo>
                    <a:pt x="1662" y="1082"/>
                  </a:lnTo>
                  <a:lnTo>
                    <a:pt x="1642" y="1082"/>
                  </a:lnTo>
                  <a:lnTo>
                    <a:pt x="1618" y="1082"/>
                  </a:lnTo>
                  <a:lnTo>
                    <a:pt x="1599" y="1082"/>
                  </a:lnTo>
                  <a:lnTo>
                    <a:pt x="1575" y="1082"/>
                  </a:lnTo>
                  <a:lnTo>
                    <a:pt x="1547" y="1077"/>
                  </a:lnTo>
                  <a:lnTo>
                    <a:pt x="1518" y="1077"/>
                  </a:lnTo>
                  <a:lnTo>
                    <a:pt x="1489" y="1077"/>
                  </a:lnTo>
                  <a:lnTo>
                    <a:pt x="1427" y="1072"/>
                  </a:lnTo>
                  <a:lnTo>
                    <a:pt x="1365" y="1072"/>
                  </a:lnTo>
                  <a:lnTo>
                    <a:pt x="1245" y="1077"/>
                  </a:lnTo>
                  <a:lnTo>
                    <a:pt x="1125" y="1077"/>
                  </a:lnTo>
                  <a:lnTo>
                    <a:pt x="1005" y="1087"/>
                  </a:lnTo>
                  <a:lnTo>
                    <a:pt x="948" y="1092"/>
                  </a:lnTo>
                  <a:lnTo>
                    <a:pt x="895" y="1096"/>
                  </a:lnTo>
                  <a:lnTo>
                    <a:pt x="843" y="1106"/>
                  </a:lnTo>
                  <a:lnTo>
                    <a:pt x="790" y="1111"/>
                  </a:lnTo>
                  <a:lnTo>
                    <a:pt x="742" y="1116"/>
                  </a:lnTo>
                  <a:lnTo>
                    <a:pt x="694" y="1120"/>
                  </a:lnTo>
                  <a:lnTo>
                    <a:pt x="651" y="1125"/>
                  </a:lnTo>
                  <a:lnTo>
                    <a:pt x="608" y="1125"/>
                  </a:lnTo>
                  <a:lnTo>
                    <a:pt x="526" y="1140"/>
                  </a:lnTo>
                  <a:lnTo>
                    <a:pt x="440" y="1149"/>
                  </a:lnTo>
                  <a:lnTo>
                    <a:pt x="354" y="1159"/>
                  </a:lnTo>
                  <a:lnTo>
                    <a:pt x="273" y="1168"/>
                  </a:lnTo>
                  <a:lnTo>
                    <a:pt x="253" y="1173"/>
                  </a:lnTo>
                  <a:lnTo>
                    <a:pt x="234" y="1173"/>
                  </a:lnTo>
                  <a:lnTo>
                    <a:pt x="215" y="1178"/>
                  </a:lnTo>
                  <a:lnTo>
                    <a:pt x="196" y="1178"/>
                  </a:lnTo>
                  <a:lnTo>
                    <a:pt x="182" y="1183"/>
                  </a:lnTo>
                  <a:lnTo>
                    <a:pt x="167" y="1183"/>
                  </a:lnTo>
                  <a:lnTo>
                    <a:pt x="153" y="1187"/>
                  </a:lnTo>
                  <a:lnTo>
                    <a:pt x="143" y="1187"/>
                  </a:lnTo>
                  <a:lnTo>
                    <a:pt x="134" y="1187"/>
                  </a:lnTo>
                  <a:lnTo>
                    <a:pt x="124" y="1192"/>
                  </a:lnTo>
                  <a:lnTo>
                    <a:pt x="115" y="1192"/>
                  </a:lnTo>
                  <a:lnTo>
                    <a:pt x="105" y="1192"/>
                  </a:lnTo>
                  <a:lnTo>
                    <a:pt x="100" y="1192"/>
                  </a:lnTo>
                  <a:lnTo>
                    <a:pt x="95" y="1192"/>
                  </a:lnTo>
                  <a:lnTo>
                    <a:pt x="91" y="1192"/>
                  </a:lnTo>
                  <a:lnTo>
                    <a:pt x="86" y="1192"/>
                  </a:lnTo>
                  <a:lnTo>
                    <a:pt x="81" y="1192"/>
                  </a:lnTo>
                  <a:lnTo>
                    <a:pt x="76" y="1187"/>
                  </a:lnTo>
                  <a:lnTo>
                    <a:pt x="67" y="1187"/>
                  </a:lnTo>
                  <a:lnTo>
                    <a:pt x="57" y="1183"/>
                  </a:lnTo>
                  <a:lnTo>
                    <a:pt x="47" y="1178"/>
                  </a:lnTo>
                  <a:lnTo>
                    <a:pt x="38" y="1168"/>
                  </a:lnTo>
                  <a:lnTo>
                    <a:pt x="28" y="1159"/>
                  </a:lnTo>
                  <a:lnTo>
                    <a:pt x="24" y="1149"/>
                  </a:lnTo>
                  <a:lnTo>
                    <a:pt x="14" y="1144"/>
                  </a:lnTo>
                  <a:lnTo>
                    <a:pt x="9" y="1135"/>
                  </a:lnTo>
                  <a:lnTo>
                    <a:pt x="4" y="1130"/>
                  </a:lnTo>
                  <a:lnTo>
                    <a:pt x="4" y="1125"/>
                  </a:lnTo>
                  <a:lnTo>
                    <a:pt x="0" y="1120"/>
                  </a:lnTo>
                  <a:lnTo>
                    <a:pt x="4" y="1116"/>
                  </a:lnTo>
                  <a:lnTo>
                    <a:pt x="4" y="1111"/>
                  </a:lnTo>
                  <a:lnTo>
                    <a:pt x="9" y="1106"/>
                  </a:lnTo>
                  <a:lnTo>
                    <a:pt x="19" y="1106"/>
                  </a:lnTo>
                  <a:lnTo>
                    <a:pt x="28" y="1106"/>
                  </a:lnTo>
                  <a:lnTo>
                    <a:pt x="43" y="1101"/>
                  </a:lnTo>
                  <a:lnTo>
                    <a:pt x="62" y="1101"/>
                  </a:lnTo>
                  <a:lnTo>
                    <a:pt x="86" y="1101"/>
                  </a:lnTo>
                  <a:lnTo>
                    <a:pt x="115" y="1096"/>
                  </a:lnTo>
                  <a:lnTo>
                    <a:pt x="143" y="1092"/>
                  </a:lnTo>
                  <a:lnTo>
                    <a:pt x="177" y="1092"/>
                  </a:lnTo>
                  <a:lnTo>
                    <a:pt x="215" y="1087"/>
                  </a:lnTo>
                  <a:lnTo>
                    <a:pt x="258" y="1082"/>
                  </a:lnTo>
                  <a:lnTo>
                    <a:pt x="306" y="1082"/>
                  </a:lnTo>
                  <a:lnTo>
                    <a:pt x="354" y="1077"/>
                  </a:lnTo>
                  <a:lnTo>
                    <a:pt x="411" y="1072"/>
                  </a:lnTo>
                  <a:lnTo>
                    <a:pt x="469" y="1068"/>
                  </a:lnTo>
                  <a:lnTo>
                    <a:pt x="531" y="1063"/>
                  </a:lnTo>
                  <a:lnTo>
                    <a:pt x="651" y="1049"/>
                  </a:lnTo>
                  <a:lnTo>
                    <a:pt x="713" y="1044"/>
                  </a:lnTo>
                  <a:lnTo>
                    <a:pt x="771" y="1034"/>
                  </a:lnTo>
                  <a:lnTo>
                    <a:pt x="828" y="1029"/>
                  </a:lnTo>
                  <a:lnTo>
                    <a:pt x="881" y="1025"/>
                  </a:lnTo>
                  <a:lnTo>
                    <a:pt x="938" y="1015"/>
                  </a:lnTo>
                  <a:lnTo>
                    <a:pt x="986" y="1010"/>
                  </a:lnTo>
                  <a:lnTo>
                    <a:pt x="1039" y="1005"/>
                  </a:lnTo>
                  <a:lnTo>
                    <a:pt x="1087" y="1005"/>
                  </a:lnTo>
                  <a:lnTo>
                    <a:pt x="1135" y="1001"/>
                  </a:lnTo>
                  <a:lnTo>
                    <a:pt x="1183" y="991"/>
                  </a:lnTo>
                  <a:lnTo>
                    <a:pt x="1226" y="986"/>
                  </a:lnTo>
                  <a:lnTo>
                    <a:pt x="1264" y="981"/>
                  </a:lnTo>
                  <a:lnTo>
                    <a:pt x="1307" y="977"/>
                  </a:lnTo>
                  <a:lnTo>
                    <a:pt x="1341" y="967"/>
                  </a:lnTo>
                  <a:lnTo>
                    <a:pt x="1379" y="967"/>
                  </a:lnTo>
                  <a:lnTo>
                    <a:pt x="1408" y="962"/>
                  </a:lnTo>
                  <a:lnTo>
                    <a:pt x="1436" y="962"/>
                  </a:lnTo>
                  <a:lnTo>
                    <a:pt x="1465" y="958"/>
                  </a:lnTo>
                  <a:lnTo>
                    <a:pt x="1489" y="958"/>
                  </a:lnTo>
                  <a:lnTo>
                    <a:pt x="1508" y="953"/>
                  </a:lnTo>
                  <a:lnTo>
                    <a:pt x="1527" y="953"/>
                  </a:lnTo>
                  <a:lnTo>
                    <a:pt x="1542" y="953"/>
                  </a:lnTo>
                  <a:close/>
                  <a:moveTo>
                    <a:pt x="790" y="962"/>
                  </a:moveTo>
                  <a:lnTo>
                    <a:pt x="780" y="943"/>
                  </a:lnTo>
                  <a:lnTo>
                    <a:pt x="771" y="929"/>
                  </a:lnTo>
                  <a:lnTo>
                    <a:pt x="771" y="924"/>
                  </a:lnTo>
                  <a:lnTo>
                    <a:pt x="771" y="914"/>
                  </a:lnTo>
                  <a:lnTo>
                    <a:pt x="771" y="910"/>
                  </a:lnTo>
                  <a:lnTo>
                    <a:pt x="771" y="905"/>
                  </a:lnTo>
                  <a:lnTo>
                    <a:pt x="775" y="895"/>
                  </a:lnTo>
                  <a:lnTo>
                    <a:pt x="780" y="890"/>
                  </a:lnTo>
                  <a:lnTo>
                    <a:pt x="785" y="890"/>
                  </a:lnTo>
                  <a:lnTo>
                    <a:pt x="790" y="886"/>
                  </a:lnTo>
                  <a:lnTo>
                    <a:pt x="799" y="886"/>
                  </a:lnTo>
                  <a:lnTo>
                    <a:pt x="809" y="886"/>
                  </a:lnTo>
                  <a:lnTo>
                    <a:pt x="828" y="886"/>
                  </a:lnTo>
                  <a:lnTo>
                    <a:pt x="847" y="890"/>
                  </a:lnTo>
                  <a:lnTo>
                    <a:pt x="871" y="895"/>
                  </a:lnTo>
                  <a:lnTo>
                    <a:pt x="895" y="905"/>
                  </a:lnTo>
                  <a:lnTo>
                    <a:pt x="910" y="919"/>
                  </a:lnTo>
                  <a:lnTo>
                    <a:pt x="919" y="924"/>
                  </a:lnTo>
                  <a:lnTo>
                    <a:pt x="924" y="934"/>
                  </a:lnTo>
                  <a:lnTo>
                    <a:pt x="929" y="943"/>
                  </a:lnTo>
                  <a:lnTo>
                    <a:pt x="929" y="953"/>
                  </a:lnTo>
                  <a:lnTo>
                    <a:pt x="929" y="962"/>
                  </a:lnTo>
                  <a:lnTo>
                    <a:pt x="929" y="967"/>
                  </a:lnTo>
                  <a:lnTo>
                    <a:pt x="929" y="977"/>
                  </a:lnTo>
                  <a:lnTo>
                    <a:pt x="924" y="986"/>
                  </a:lnTo>
                  <a:lnTo>
                    <a:pt x="924" y="1001"/>
                  </a:lnTo>
                  <a:lnTo>
                    <a:pt x="924" y="1015"/>
                  </a:lnTo>
                  <a:lnTo>
                    <a:pt x="919" y="1034"/>
                  </a:lnTo>
                  <a:lnTo>
                    <a:pt x="919" y="1058"/>
                  </a:lnTo>
                  <a:lnTo>
                    <a:pt x="919" y="1077"/>
                  </a:lnTo>
                  <a:lnTo>
                    <a:pt x="914" y="1106"/>
                  </a:lnTo>
                  <a:lnTo>
                    <a:pt x="914" y="1135"/>
                  </a:lnTo>
                  <a:lnTo>
                    <a:pt x="914" y="1168"/>
                  </a:lnTo>
                  <a:lnTo>
                    <a:pt x="914" y="1202"/>
                  </a:lnTo>
                  <a:lnTo>
                    <a:pt x="914" y="1240"/>
                  </a:lnTo>
                  <a:lnTo>
                    <a:pt x="910" y="1278"/>
                  </a:lnTo>
                  <a:lnTo>
                    <a:pt x="910" y="1322"/>
                  </a:lnTo>
                  <a:lnTo>
                    <a:pt x="910" y="1369"/>
                  </a:lnTo>
                  <a:lnTo>
                    <a:pt x="910" y="1417"/>
                  </a:lnTo>
                  <a:lnTo>
                    <a:pt x="910" y="1465"/>
                  </a:lnTo>
                  <a:lnTo>
                    <a:pt x="910" y="1513"/>
                  </a:lnTo>
                  <a:lnTo>
                    <a:pt x="910" y="1556"/>
                  </a:lnTo>
                  <a:lnTo>
                    <a:pt x="910" y="1595"/>
                  </a:lnTo>
                  <a:lnTo>
                    <a:pt x="910" y="1633"/>
                  </a:lnTo>
                  <a:lnTo>
                    <a:pt x="910" y="1666"/>
                  </a:lnTo>
                  <a:lnTo>
                    <a:pt x="905" y="1700"/>
                  </a:lnTo>
                  <a:lnTo>
                    <a:pt x="905" y="1729"/>
                  </a:lnTo>
                  <a:lnTo>
                    <a:pt x="905" y="1753"/>
                  </a:lnTo>
                  <a:lnTo>
                    <a:pt x="905" y="1777"/>
                  </a:lnTo>
                  <a:lnTo>
                    <a:pt x="900" y="1800"/>
                  </a:lnTo>
                  <a:lnTo>
                    <a:pt x="900" y="1820"/>
                  </a:lnTo>
                  <a:lnTo>
                    <a:pt x="900" y="1834"/>
                  </a:lnTo>
                  <a:lnTo>
                    <a:pt x="895" y="1848"/>
                  </a:lnTo>
                  <a:lnTo>
                    <a:pt x="895" y="1858"/>
                  </a:lnTo>
                  <a:lnTo>
                    <a:pt x="895" y="1863"/>
                  </a:lnTo>
                  <a:lnTo>
                    <a:pt x="881" y="1882"/>
                  </a:lnTo>
                  <a:lnTo>
                    <a:pt x="871" y="1896"/>
                  </a:lnTo>
                  <a:lnTo>
                    <a:pt x="862" y="1901"/>
                  </a:lnTo>
                  <a:lnTo>
                    <a:pt x="857" y="1906"/>
                  </a:lnTo>
                  <a:lnTo>
                    <a:pt x="852" y="1906"/>
                  </a:lnTo>
                  <a:lnTo>
                    <a:pt x="847" y="1906"/>
                  </a:lnTo>
                  <a:lnTo>
                    <a:pt x="843" y="1901"/>
                  </a:lnTo>
                  <a:lnTo>
                    <a:pt x="838" y="1896"/>
                  </a:lnTo>
                  <a:lnTo>
                    <a:pt x="833" y="1887"/>
                  </a:lnTo>
                  <a:lnTo>
                    <a:pt x="828" y="1877"/>
                  </a:lnTo>
                  <a:lnTo>
                    <a:pt x="819" y="1863"/>
                  </a:lnTo>
                  <a:lnTo>
                    <a:pt x="814" y="1844"/>
                  </a:lnTo>
                  <a:lnTo>
                    <a:pt x="809" y="1824"/>
                  </a:lnTo>
                  <a:lnTo>
                    <a:pt x="799" y="1800"/>
                  </a:lnTo>
                  <a:lnTo>
                    <a:pt x="795" y="1781"/>
                  </a:lnTo>
                  <a:lnTo>
                    <a:pt x="790" y="1762"/>
                  </a:lnTo>
                  <a:lnTo>
                    <a:pt x="785" y="1743"/>
                  </a:lnTo>
                  <a:lnTo>
                    <a:pt x="785" y="1724"/>
                  </a:lnTo>
                  <a:lnTo>
                    <a:pt x="785" y="1705"/>
                  </a:lnTo>
                  <a:lnTo>
                    <a:pt x="785" y="1686"/>
                  </a:lnTo>
                  <a:lnTo>
                    <a:pt x="790" y="1666"/>
                  </a:lnTo>
                  <a:lnTo>
                    <a:pt x="795" y="1647"/>
                  </a:lnTo>
                  <a:lnTo>
                    <a:pt x="799" y="1628"/>
                  </a:lnTo>
                  <a:lnTo>
                    <a:pt x="804" y="1609"/>
                  </a:lnTo>
                  <a:lnTo>
                    <a:pt x="809" y="1585"/>
                  </a:lnTo>
                  <a:lnTo>
                    <a:pt x="814" y="1556"/>
                  </a:lnTo>
                  <a:lnTo>
                    <a:pt x="819" y="1523"/>
                  </a:lnTo>
                  <a:lnTo>
                    <a:pt x="819" y="1489"/>
                  </a:lnTo>
                  <a:lnTo>
                    <a:pt x="823" y="1451"/>
                  </a:lnTo>
                  <a:lnTo>
                    <a:pt x="828" y="1374"/>
                  </a:lnTo>
                  <a:lnTo>
                    <a:pt x="833" y="1302"/>
                  </a:lnTo>
                  <a:lnTo>
                    <a:pt x="833" y="1221"/>
                  </a:lnTo>
                  <a:lnTo>
                    <a:pt x="833" y="1144"/>
                  </a:lnTo>
                  <a:lnTo>
                    <a:pt x="828" y="1106"/>
                  </a:lnTo>
                  <a:lnTo>
                    <a:pt x="828" y="1077"/>
                  </a:lnTo>
                  <a:lnTo>
                    <a:pt x="823" y="1049"/>
                  </a:lnTo>
                  <a:lnTo>
                    <a:pt x="819" y="1025"/>
                  </a:lnTo>
                  <a:lnTo>
                    <a:pt x="814" y="1005"/>
                  </a:lnTo>
                  <a:lnTo>
                    <a:pt x="804" y="986"/>
                  </a:lnTo>
                  <a:lnTo>
                    <a:pt x="799" y="972"/>
                  </a:lnTo>
                  <a:lnTo>
                    <a:pt x="790" y="962"/>
                  </a:lnTo>
                  <a:close/>
                  <a:moveTo>
                    <a:pt x="421" y="1556"/>
                  </a:moveTo>
                  <a:lnTo>
                    <a:pt x="359" y="1595"/>
                  </a:lnTo>
                  <a:lnTo>
                    <a:pt x="297" y="1628"/>
                  </a:lnTo>
                  <a:lnTo>
                    <a:pt x="239" y="1662"/>
                  </a:lnTo>
                  <a:lnTo>
                    <a:pt x="177" y="1700"/>
                  </a:lnTo>
                  <a:lnTo>
                    <a:pt x="148" y="1714"/>
                  </a:lnTo>
                  <a:lnTo>
                    <a:pt x="124" y="1724"/>
                  </a:lnTo>
                  <a:lnTo>
                    <a:pt x="105" y="1733"/>
                  </a:lnTo>
                  <a:lnTo>
                    <a:pt x="86" y="1738"/>
                  </a:lnTo>
                  <a:lnTo>
                    <a:pt x="71" y="1743"/>
                  </a:lnTo>
                  <a:lnTo>
                    <a:pt x="62" y="1743"/>
                  </a:lnTo>
                  <a:lnTo>
                    <a:pt x="52" y="1743"/>
                  </a:lnTo>
                  <a:lnTo>
                    <a:pt x="47" y="1743"/>
                  </a:lnTo>
                  <a:lnTo>
                    <a:pt x="47" y="1738"/>
                  </a:lnTo>
                  <a:lnTo>
                    <a:pt x="47" y="1729"/>
                  </a:lnTo>
                  <a:lnTo>
                    <a:pt x="52" y="1724"/>
                  </a:lnTo>
                  <a:lnTo>
                    <a:pt x="62" y="1714"/>
                  </a:lnTo>
                  <a:lnTo>
                    <a:pt x="76" y="1700"/>
                  </a:lnTo>
                  <a:lnTo>
                    <a:pt x="95" y="1686"/>
                  </a:lnTo>
                  <a:lnTo>
                    <a:pt x="115" y="1671"/>
                  </a:lnTo>
                  <a:lnTo>
                    <a:pt x="143" y="1657"/>
                  </a:lnTo>
                  <a:lnTo>
                    <a:pt x="196" y="1623"/>
                  </a:lnTo>
                  <a:lnTo>
                    <a:pt x="244" y="1590"/>
                  </a:lnTo>
                  <a:lnTo>
                    <a:pt x="297" y="1551"/>
                  </a:lnTo>
                  <a:lnTo>
                    <a:pt x="340" y="1508"/>
                  </a:lnTo>
                  <a:lnTo>
                    <a:pt x="354" y="1499"/>
                  </a:lnTo>
                  <a:lnTo>
                    <a:pt x="368" y="1484"/>
                  </a:lnTo>
                  <a:lnTo>
                    <a:pt x="383" y="1470"/>
                  </a:lnTo>
                  <a:lnTo>
                    <a:pt x="402" y="1456"/>
                  </a:lnTo>
                  <a:lnTo>
                    <a:pt x="421" y="1436"/>
                  </a:lnTo>
                  <a:lnTo>
                    <a:pt x="440" y="1413"/>
                  </a:lnTo>
                  <a:lnTo>
                    <a:pt x="459" y="1393"/>
                  </a:lnTo>
                  <a:lnTo>
                    <a:pt x="483" y="1365"/>
                  </a:lnTo>
                  <a:lnTo>
                    <a:pt x="512" y="1341"/>
                  </a:lnTo>
                  <a:lnTo>
                    <a:pt x="541" y="1307"/>
                  </a:lnTo>
                  <a:lnTo>
                    <a:pt x="570" y="1278"/>
                  </a:lnTo>
                  <a:lnTo>
                    <a:pt x="598" y="1245"/>
                  </a:lnTo>
                  <a:lnTo>
                    <a:pt x="632" y="1207"/>
                  </a:lnTo>
                  <a:lnTo>
                    <a:pt x="665" y="1168"/>
                  </a:lnTo>
                  <a:lnTo>
                    <a:pt x="699" y="1130"/>
                  </a:lnTo>
                  <a:lnTo>
                    <a:pt x="737" y="1087"/>
                  </a:lnTo>
                  <a:lnTo>
                    <a:pt x="804" y="1101"/>
                  </a:lnTo>
                  <a:lnTo>
                    <a:pt x="866" y="1120"/>
                  </a:lnTo>
                  <a:lnTo>
                    <a:pt x="828" y="1163"/>
                  </a:lnTo>
                  <a:lnTo>
                    <a:pt x="790" y="1207"/>
                  </a:lnTo>
                  <a:lnTo>
                    <a:pt x="752" y="1245"/>
                  </a:lnTo>
                  <a:lnTo>
                    <a:pt x="718" y="1283"/>
                  </a:lnTo>
                  <a:lnTo>
                    <a:pt x="684" y="1317"/>
                  </a:lnTo>
                  <a:lnTo>
                    <a:pt x="651" y="1350"/>
                  </a:lnTo>
                  <a:lnTo>
                    <a:pt x="622" y="1379"/>
                  </a:lnTo>
                  <a:lnTo>
                    <a:pt x="593" y="1408"/>
                  </a:lnTo>
                  <a:lnTo>
                    <a:pt x="565" y="1432"/>
                  </a:lnTo>
                  <a:lnTo>
                    <a:pt x="541" y="1456"/>
                  </a:lnTo>
                  <a:lnTo>
                    <a:pt x="512" y="1480"/>
                  </a:lnTo>
                  <a:lnTo>
                    <a:pt x="493" y="1499"/>
                  </a:lnTo>
                  <a:lnTo>
                    <a:pt x="469" y="1518"/>
                  </a:lnTo>
                  <a:lnTo>
                    <a:pt x="450" y="1532"/>
                  </a:lnTo>
                  <a:lnTo>
                    <a:pt x="435" y="1547"/>
                  </a:lnTo>
                  <a:lnTo>
                    <a:pt x="421" y="1556"/>
                  </a:lnTo>
                  <a:close/>
                  <a:moveTo>
                    <a:pt x="876" y="1077"/>
                  </a:moveTo>
                  <a:lnTo>
                    <a:pt x="905" y="1106"/>
                  </a:lnTo>
                  <a:lnTo>
                    <a:pt x="938" y="1135"/>
                  </a:lnTo>
                  <a:lnTo>
                    <a:pt x="977" y="1163"/>
                  </a:lnTo>
                  <a:lnTo>
                    <a:pt x="1010" y="1192"/>
                  </a:lnTo>
                  <a:lnTo>
                    <a:pt x="1053" y="1221"/>
                  </a:lnTo>
                  <a:lnTo>
                    <a:pt x="1096" y="1250"/>
                  </a:lnTo>
                  <a:lnTo>
                    <a:pt x="1140" y="1278"/>
                  </a:lnTo>
                  <a:lnTo>
                    <a:pt x="1187" y="1307"/>
                  </a:lnTo>
                  <a:lnTo>
                    <a:pt x="1235" y="1345"/>
                  </a:lnTo>
                  <a:lnTo>
                    <a:pt x="1283" y="1374"/>
                  </a:lnTo>
                  <a:lnTo>
                    <a:pt x="1336" y="1403"/>
                  </a:lnTo>
                  <a:lnTo>
                    <a:pt x="1389" y="1432"/>
                  </a:lnTo>
                  <a:lnTo>
                    <a:pt x="1446" y="1460"/>
                  </a:lnTo>
                  <a:lnTo>
                    <a:pt x="1508" y="1484"/>
                  </a:lnTo>
                  <a:lnTo>
                    <a:pt x="1571" y="1508"/>
                  </a:lnTo>
                  <a:lnTo>
                    <a:pt x="1638" y="1532"/>
                  </a:lnTo>
                  <a:lnTo>
                    <a:pt x="1666" y="1547"/>
                  </a:lnTo>
                  <a:lnTo>
                    <a:pt x="1700" y="1556"/>
                  </a:lnTo>
                  <a:lnTo>
                    <a:pt x="1729" y="1566"/>
                  </a:lnTo>
                  <a:lnTo>
                    <a:pt x="1753" y="1575"/>
                  </a:lnTo>
                  <a:lnTo>
                    <a:pt x="1777" y="1585"/>
                  </a:lnTo>
                  <a:lnTo>
                    <a:pt x="1800" y="1595"/>
                  </a:lnTo>
                  <a:lnTo>
                    <a:pt x="1820" y="1604"/>
                  </a:lnTo>
                  <a:lnTo>
                    <a:pt x="1839" y="1609"/>
                  </a:lnTo>
                  <a:lnTo>
                    <a:pt x="1853" y="1614"/>
                  </a:lnTo>
                  <a:lnTo>
                    <a:pt x="1868" y="1623"/>
                  </a:lnTo>
                  <a:lnTo>
                    <a:pt x="1877" y="1628"/>
                  </a:lnTo>
                  <a:lnTo>
                    <a:pt x="1887" y="1628"/>
                  </a:lnTo>
                  <a:lnTo>
                    <a:pt x="1896" y="1633"/>
                  </a:lnTo>
                  <a:lnTo>
                    <a:pt x="1901" y="1638"/>
                  </a:lnTo>
                  <a:lnTo>
                    <a:pt x="1901" y="1642"/>
                  </a:lnTo>
                  <a:lnTo>
                    <a:pt x="1896" y="1647"/>
                  </a:lnTo>
                  <a:lnTo>
                    <a:pt x="1891" y="1647"/>
                  </a:lnTo>
                  <a:lnTo>
                    <a:pt x="1887" y="1652"/>
                  </a:lnTo>
                  <a:lnTo>
                    <a:pt x="1882" y="1652"/>
                  </a:lnTo>
                  <a:lnTo>
                    <a:pt x="1872" y="1657"/>
                  </a:lnTo>
                  <a:lnTo>
                    <a:pt x="1863" y="1657"/>
                  </a:lnTo>
                  <a:lnTo>
                    <a:pt x="1853" y="1662"/>
                  </a:lnTo>
                  <a:lnTo>
                    <a:pt x="1844" y="1666"/>
                  </a:lnTo>
                  <a:lnTo>
                    <a:pt x="1829" y="1666"/>
                  </a:lnTo>
                  <a:lnTo>
                    <a:pt x="1815" y="1671"/>
                  </a:lnTo>
                  <a:lnTo>
                    <a:pt x="1800" y="1671"/>
                  </a:lnTo>
                  <a:lnTo>
                    <a:pt x="1786" y="1676"/>
                  </a:lnTo>
                  <a:lnTo>
                    <a:pt x="1767" y="1681"/>
                  </a:lnTo>
                  <a:lnTo>
                    <a:pt x="1748" y="1681"/>
                  </a:lnTo>
                  <a:lnTo>
                    <a:pt x="1709" y="1690"/>
                  </a:lnTo>
                  <a:lnTo>
                    <a:pt x="1671" y="1695"/>
                  </a:lnTo>
                  <a:lnTo>
                    <a:pt x="1638" y="1700"/>
                  </a:lnTo>
                  <a:lnTo>
                    <a:pt x="1604" y="1700"/>
                  </a:lnTo>
                  <a:lnTo>
                    <a:pt x="1575" y="1700"/>
                  </a:lnTo>
                  <a:lnTo>
                    <a:pt x="1551" y="1705"/>
                  </a:lnTo>
                  <a:lnTo>
                    <a:pt x="1527" y="1700"/>
                  </a:lnTo>
                  <a:lnTo>
                    <a:pt x="1508" y="1700"/>
                  </a:lnTo>
                  <a:lnTo>
                    <a:pt x="1484" y="1695"/>
                  </a:lnTo>
                  <a:lnTo>
                    <a:pt x="1456" y="1686"/>
                  </a:lnTo>
                  <a:lnTo>
                    <a:pt x="1432" y="1671"/>
                  </a:lnTo>
                  <a:lnTo>
                    <a:pt x="1403" y="1652"/>
                  </a:lnTo>
                  <a:lnTo>
                    <a:pt x="1374" y="1628"/>
                  </a:lnTo>
                  <a:lnTo>
                    <a:pt x="1341" y="1599"/>
                  </a:lnTo>
                  <a:lnTo>
                    <a:pt x="1326" y="1580"/>
                  </a:lnTo>
                  <a:lnTo>
                    <a:pt x="1307" y="1566"/>
                  </a:lnTo>
                  <a:lnTo>
                    <a:pt x="1293" y="1547"/>
                  </a:lnTo>
                  <a:lnTo>
                    <a:pt x="1274" y="1527"/>
                  </a:lnTo>
                  <a:lnTo>
                    <a:pt x="1235" y="1489"/>
                  </a:lnTo>
                  <a:lnTo>
                    <a:pt x="1202" y="1456"/>
                  </a:lnTo>
                  <a:lnTo>
                    <a:pt x="1173" y="1427"/>
                  </a:lnTo>
                  <a:lnTo>
                    <a:pt x="1144" y="1403"/>
                  </a:lnTo>
                  <a:lnTo>
                    <a:pt x="1116" y="1379"/>
                  </a:lnTo>
                  <a:lnTo>
                    <a:pt x="1096" y="1355"/>
                  </a:lnTo>
                  <a:lnTo>
                    <a:pt x="1077" y="1341"/>
                  </a:lnTo>
                  <a:lnTo>
                    <a:pt x="1058" y="1326"/>
                  </a:lnTo>
                  <a:lnTo>
                    <a:pt x="1039" y="1312"/>
                  </a:lnTo>
                  <a:lnTo>
                    <a:pt x="1020" y="1293"/>
                  </a:lnTo>
                  <a:lnTo>
                    <a:pt x="996" y="1274"/>
                  </a:lnTo>
                  <a:lnTo>
                    <a:pt x="972" y="1250"/>
                  </a:lnTo>
                  <a:lnTo>
                    <a:pt x="948" y="1226"/>
                  </a:lnTo>
                  <a:lnTo>
                    <a:pt x="914" y="1197"/>
                  </a:lnTo>
                  <a:lnTo>
                    <a:pt x="886" y="1163"/>
                  </a:lnTo>
                  <a:lnTo>
                    <a:pt x="852" y="1125"/>
                  </a:lnTo>
                  <a:lnTo>
                    <a:pt x="876" y="1077"/>
                  </a:lnTo>
                  <a:close/>
                  <a:moveTo>
                    <a:pt x="512" y="929"/>
                  </a:moveTo>
                  <a:lnTo>
                    <a:pt x="512" y="924"/>
                  </a:lnTo>
                  <a:lnTo>
                    <a:pt x="512" y="919"/>
                  </a:lnTo>
                  <a:lnTo>
                    <a:pt x="517" y="910"/>
                  </a:lnTo>
                  <a:lnTo>
                    <a:pt x="526" y="900"/>
                  </a:lnTo>
                  <a:lnTo>
                    <a:pt x="541" y="886"/>
                  </a:lnTo>
                  <a:lnTo>
                    <a:pt x="555" y="871"/>
                  </a:lnTo>
                  <a:lnTo>
                    <a:pt x="570" y="857"/>
                  </a:lnTo>
                  <a:lnTo>
                    <a:pt x="593" y="838"/>
                  </a:lnTo>
                  <a:lnTo>
                    <a:pt x="613" y="819"/>
                  </a:lnTo>
                  <a:lnTo>
                    <a:pt x="637" y="799"/>
                  </a:lnTo>
                  <a:lnTo>
                    <a:pt x="661" y="775"/>
                  </a:lnTo>
                  <a:lnTo>
                    <a:pt x="684" y="752"/>
                  </a:lnTo>
                  <a:lnTo>
                    <a:pt x="708" y="723"/>
                  </a:lnTo>
                  <a:lnTo>
                    <a:pt x="732" y="694"/>
                  </a:lnTo>
                  <a:lnTo>
                    <a:pt x="756" y="661"/>
                  </a:lnTo>
                  <a:lnTo>
                    <a:pt x="780" y="627"/>
                  </a:lnTo>
                  <a:lnTo>
                    <a:pt x="804" y="593"/>
                  </a:lnTo>
                  <a:lnTo>
                    <a:pt x="828" y="560"/>
                  </a:lnTo>
                  <a:lnTo>
                    <a:pt x="852" y="531"/>
                  </a:lnTo>
                  <a:lnTo>
                    <a:pt x="871" y="498"/>
                  </a:lnTo>
                  <a:lnTo>
                    <a:pt x="890" y="464"/>
                  </a:lnTo>
                  <a:lnTo>
                    <a:pt x="905" y="431"/>
                  </a:lnTo>
                  <a:lnTo>
                    <a:pt x="919" y="397"/>
                  </a:lnTo>
                  <a:lnTo>
                    <a:pt x="929" y="364"/>
                  </a:lnTo>
                  <a:lnTo>
                    <a:pt x="938" y="330"/>
                  </a:lnTo>
                  <a:lnTo>
                    <a:pt x="943" y="297"/>
                  </a:lnTo>
                  <a:lnTo>
                    <a:pt x="948" y="268"/>
                  </a:lnTo>
                  <a:lnTo>
                    <a:pt x="953" y="239"/>
                  </a:lnTo>
                  <a:lnTo>
                    <a:pt x="958" y="210"/>
                  </a:lnTo>
                  <a:lnTo>
                    <a:pt x="958" y="186"/>
                  </a:lnTo>
                  <a:lnTo>
                    <a:pt x="958" y="162"/>
                  </a:lnTo>
                  <a:lnTo>
                    <a:pt x="953" y="138"/>
                  </a:lnTo>
                  <a:lnTo>
                    <a:pt x="986" y="158"/>
                  </a:lnTo>
                  <a:lnTo>
                    <a:pt x="1015" y="172"/>
                  </a:lnTo>
                  <a:lnTo>
                    <a:pt x="1039" y="182"/>
                  </a:lnTo>
                  <a:lnTo>
                    <a:pt x="1058" y="196"/>
                  </a:lnTo>
                  <a:lnTo>
                    <a:pt x="1072" y="210"/>
                  </a:lnTo>
                  <a:lnTo>
                    <a:pt x="1082" y="220"/>
                  </a:lnTo>
                  <a:lnTo>
                    <a:pt x="1092" y="229"/>
                  </a:lnTo>
                  <a:lnTo>
                    <a:pt x="1092" y="239"/>
                  </a:lnTo>
                  <a:lnTo>
                    <a:pt x="1092" y="249"/>
                  </a:lnTo>
                  <a:lnTo>
                    <a:pt x="1087" y="263"/>
                  </a:lnTo>
                  <a:lnTo>
                    <a:pt x="1087" y="277"/>
                  </a:lnTo>
                  <a:lnTo>
                    <a:pt x="1077" y="297"/>
                  </a:lnTo>
                  <a:lnTo>
                    <a:pt x="1072" y="320"/>
                  </a:lnTo>
                  <a:lnTo>
                    <a:pt x="1063" y="344"/>
                  </a:lnTo>
                  <a:lnTo>
                    <a:pt x="1053" y="373"/>
                  </a:lnTo>
                  <a:lnTo>
                    <a:pt x="1039" y="407"/>
                  </a:lnTo>
                  <a:lnTo>
                    <a:pt x="1025" y="440"/>
                  </a:lnTo>
                  <a:lnTo>
                    <a:pt x="1005" y="474"/>
                  </a:lnTo>
                  <a:lnTo>
                    <a:pt x="986" y="507"/>
                  </a:lnTo>
                  <a:lnTo>
                    <a:pt x="967" y="541"/>
                  </a:lnTo>
                  <a:lnTo>
                    <a:pt x="943" y="574"/>
                  </a:lnTo>
                  <a:lnTo>
                    <a:pt x="919" y="608"/>
                  </a:lnTo>
                  <a:lnTo>
                    <a:pt x="895" y="641"/>
                  </a:lnTo>
                  <a:lnTo>
                    <a:pt x="866" y="670"/>
                  </a:lnTo>
                  <a:lnTo>
                    <a:pt x="838" y="704"/>
                  </a:lnTo>
                  <a:lnTo>
                    <a:pt x="809" y="732"/>
                  </a:lnTo>
                  <a:lnTo>
                    <a:pt x="785" y="756"/>
                  </a:lnTo>
                  <a:lnTo>
                    <a:pt x="756" y="785"/>
                  </a:lnTo>
                  <a:lnTo>
                    <a:pt x="728" y="809"/>
                  </a:lnTo>
                  <a:lnTo>
                    <a:pt x="699" y="828"/>
                  </a:lnTo>
                  <a:lnTo>
                    <a:pt x="670" y="852"/>
                  </a:lnTo>
                  <a:lnTo>
                    <a:pt x="641" y="871"/>
                  </a:lnTo>
                  <a:lnTo>
                    <a:pt x="617" y="886"/>
                  </a:lnTo>
                  <a:lnTo>
                    <a:pt x="593" y="900"/>
                  </a:lnTo>
                  <a:lnTo>
                    <a:pt x="570" y="914"/>
                  </a:lnTo>
                  <a:lnTo>
                    <a:pt x="555" y="919"/>
                  </a:lnTo>
                  <a:lnTo>
                    <a:pt x="536" y="929"/>
                  </a:lnTo>
                  <a:lnTo>
                    <a:pt x="526" y="929"/>
                  </a:lnTo>
                  <a:lnTo>
                    <a:pt x="517" y="929"/>
                  </a:lnTo>
                  <a:lnTo>
                    <a:pt x="512" y="929"/>
                  </a:lnTo>
                  <a:close/>
                  <a:moveTo>
                    <a:pt x="349" y="124"/>
                  </a:moveTo>
                  <a:lnTo>
                    <a:pt x="330" y="105"/>
                  </a:lnTo>
                  <a:lnTo>
                    <a:pt x="311" y="86"/>
                  </a:lnTo>
                  <a:lnTo>
                    <a:pt x="297" y="71"/>
                  </a:lnTo>
                  <a:lnTo>
                    <a:pt x="282" y="57"/>
                  </a:lnTo>
                  <a:lnTo>
                    <a:pt x="277" y="43"/>
                  </a:lnTo>
                  <a:lnTo>
                    <a:pt x="268" y="28"/>
                  </a:lnTo>
                  <a:lnTo>
                    <a:pt x="263" y="19"/>
                  </a:lnTo>
                  <a:lnTo>
                    <a:pt x="263" y="9"/>
                  </a:lnTo>
                  <a:lnTo>
                    <a:pt x="297" y="9"/>
                  </a:lnTo>
                  <a:lnTo>
                    <a:pt x="335" y="14"/>
                  </a:lnTo>
                  <a:lnTo>
                    <a:pt x="373" y="19"/>
                  </a:lnTo>
                  <a:lnTo>
                    <a:pt x="411" y="24"/>
                  </a:lnTo>
                  <a:lnTo>
                    <a:pt x="440" y="33"/>
                  </a:lnTo>
                  <a:lnTo>
                    <a:pt x="455" y="38"/>
                  </a:lnTo>
                  <a:lnTo>
                    <a:pt x="469" y="43"/>
                  </a:lnTo>
                  <a:lnTo>
                    <a:pt x="479" y="47"/>
                  </a:lnTo>
                  <a:lnTo>
                    <a:pt x="488" y="57"/>
                  </a:lnTo>
                  <a:lnTo>
                    <a:pt x="498" y="67"/>
                  </a:lnTo>
                  <a:lnTo>
                    <a:pt x="507" y="71"/>
                  </a:lnTo>
                  <a:lnTo>
                    <a:pt x="512" y="86"/>
                  </a:lnTo>
                  <a:lnTo>
                    <a:pt x="517" y="95"/>
                  </a:lnTo>
                  <a:lnTo>
                    <a:pt x="517" y="105"/>
                  </a:lnTo>
                  <a:lnTo>
                    <a:pt x="517" y="115"/>
                  </a:lnTo>
                  <a:lnTo>
                    <a:pt x="517" y="138"/>
                  </a:lnTo>
                  <a:lnTo>
                    <a:pt x="512" y="158"/>
                  </a:lnTo>
                  <a:lnTo>
                    <a:pt x="507" y="167"/>
                  </a:lnTo>
                  <a:lnTo>
                    <a:pt x="502" y="177"/>
                  </a:lnTo>
                  <a:lnTo>
                    <a:pt x="493" y="186"/>
                  </a:lnTo>
                  <a:lnTo>
                    <a:pt x="488" y="191"/>
                  </a:lnTo>
                  <a:lnTo>
                    <a:pt x="483" y="196"/>
                  </a:lnTo>
                  <a:lnTo>
                    <a:pt x="474" y="201"/>
                  </a:lnTo>
                  <a:lnTo>
                    <a:pt x="469" y="201"/>
                  </a:lnTo>
                  <a:lnTo>
                    <a:pt x="464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5" y="186"/>
                  </a:lnTo>
                  <a:lnTo>
                    <a:pt x="421" y="182"/>
                  </a:lnTo>
                  <a:lnTo>
                    <a:pt x="407" y="167"/>
                  </a:lnTo>
                  <a:lnTo>
                    <a:pt x="392" y="158"/>
                  </a:lnTo>
                  <a:lnTo>
                    <a:pt x="373" y="143"/>
                  </a:lnTo>
                  <a:lnTo>
                    <a:pt x="349" y="124"/>
                  </a:lnTo>
                  <a:close/>
                  <a:moveTo>
                    <a:pt x="297" y="306"/>
                  </a:moveTo>
                  <a:lnTo>
                    <a:pt x="316" y="311"/>
                  </a:lnTo>
                  <a:lnTo>
                    <a:pt x="325" y="320"/>
                  </a:lnTo>
                  <a:lnTo>
                    <a:pt x="340" y="330"/>
                  </a:lnTo>
                  <a:lnTo>
                    <a:pt x="349" y="335"/>
                  </a:lnTo>
                  <a:lnTo>
                    <a:pt x="359" y="344"/>
                  </a:lnTo>
                  <a:lnTo>
                    <a:pt x="368" y="354"/>
                  </a:lnTo>
                  <a:lnTo>
                    <a:pt x="373" y="364"/>
                  </a:lnTo>
                  <a:lnTo>
                    <a:pt x="378" y="373"/>
                  </a:lnTo>
                  <a:lnTo>
                    <a:pt x="378" y="383"/>
                  </a:lnTo>
                  <a:lnTo>
                    <a:pt x="378" y="397"/>
                  </a:lnTo>
                  <a:lnTo>
                    <a:pt x="378" y="416"/>
                  </a:lnTo>
                  <a:lnTo>
                    <a:pt x="378" y="421"/>
                  </a:lnTo>
                  <a:lnTo>
                    <a:pt x="373" y="431"/>
                  </a:lnTo>
                  <a:lnTo>
                    <a:pt x="368" y="435"/>
                  </a:lnTo>
                  <a:lnTo>
                    <a:pt x="368" y="440"/>
                  </a:lnTo>
                  <a:lnTo>
                    <a:pt x="354" y="450"/>
                  </a:lnTo>
                  <a:lnTo>
                    <a:pt x="344" y="459"/>
                  </a:lnTo>
                  <a:lnTo>
                    <a:pt x="330" y="464"/>
                  </a:lnTo>
                  <a:lnTo>
                    <a:pt x="325" y="464"/>
                  </a:lnTo>
                  <a:lnTo>
                    <a:pt x="320" y="464"/>
                  </a:lnTo>
                  <a:lnTo>
                    <a:pt x="311" y="459"/>
                  </a:lnTo>
                  <a:lnTo>
                    <a:pt x="301" y="455"/>
                  </a:lnTo>
                  <a:lnTo>
                    <a:pt x="292" y="445"/>
                  </a:lnTo>
                  <a:lnTo>
                    <a:pt x="277" y="435"/>
                  </a:lnTo>
                  <a:lnTo>
                    <a:pt x="263" y="426"/>
                  </a:lnTo>
                  <a:lnTo>
                    <a:pt x="249" y="411"/>
                  </a:lnTo>
                  <a:lnTo>
                    <a:pt x="229" y="397"/>
                  </a:lnTo>
                  <a:lnTo>
                    <a:pt x="210" y="383"/>
                  </a:lnTo>
                  <a:lnTo>
                    <a:pt x="196" y="368"/>
                  </a:lnTo>
                  <a:lnTo>
                    <a:pt x="182" y="349"/>
                  </a:lnTo>
                  <a:lnTo>
                    <a:pt x="172" y="335"/>
                  </a:lnTo>
                  <a:lnTo>
                    <a:pt x="162" y="320"/>
                  </a:lnTo>
                  <a:lnTo>
                    <a:pt x="158" y="306"/>
                  </a:lnTo>
                  <a:lnTo>
                    <a:pt x="153" y="292"/>
                  </a:lnTo>
                  <a:lnTo>
                    <a:pt x="153" y="282"/>
                  </a:lnTo>
                  <a:lnTo>
                    <a:pt x="196" y="282"/>
                  </a:lnTo>
                  <a:lnTo>
                    <a:pt x="215" y="282"/>
                  </a:lnTo>
                  <a:lnTo>
                    <a:pt x="234" y="287"/>
                  </a:lnTo>
                  <a:lnTo>
                    <a:pt x="253" y="292"/>
                  </a:lnTo>
                  <a:lnTo>
                    <a:pt x="268" y="297"/>
                  </a:lnTo>
                  <a:lnTo>
                    <a:pt x="282" y="301"/>
                  </a:lnTo>
                  <a:lnTo>
                    <a:pt x="297" y="306"/>
                  </a:lnTo>
                  <a:close/>
                  <a:moveTo>
                    <a:pt x="737" y="287"/>
                  </a:moveTo>
                  <a:lnTo>
                    <a:pt x="756" y="311"/>
                  </a:lnTo>
                  <a:lnTo>
                    <a:pt x="761" y="320"/>
                  </a:lnTo>
                  <a:lnTo>
                    <a:pt x="771" y="330"/>
                  </a:lnTo>
                  <a:lnTo>
                    <a:pt x="775" y="344"/>
                  </a:lnTo>
                  <a:lnTo>
                    <a:pt x="780" y="354"/>
                  </a:lnTo>
                  <a:lnTo>
                    <a:pt x="780" y="368"/>
                  </a:lnTo>
                  <a:lnTo>
                    <a:pt x="780" y="383"/>
                  </a:lnTo>
                  <a:lnTo>
                    <a:pt x="780" y="392"/>
                  </a:lnTo>
                  <a:lnTo>
                    <a:pt x="780" y="407"/>
                  </a:lnTo>
                  <a:lnTo>
                    <a:pt x="775" y="421"/>
                  </a:lnTo>
                  <a:lnTo>
                    <a:pt x="771" y="435"/>
                  </a:lnTo>
                  <a:lnTo>
                    <a:pt x="756" y="469"/>
                  </a:lnTo>
                  <a:lnTo>
                    <a:pt x="737" y="507"/>
                  </a:lnTo>
                  <a:lnTo>
                    <a:pt x="728" y="522"/>
                  </a:lnTo>
                  <a:lnTo>
                    <a:pt x="718" y="536"/>
                  </a:lnTo>
                  <a:lnTo>
                    <a:pt x="708" y="550"/>
                  </a:lnTo>
                  <a:lnTo>
                    <a:pt x="704" y="560"/>
                  </a:lnTo>
                  <a:lnTo>
                    <a:pt x="694" y="570"/>
                  </a:lnTo>
                  <a:lnTo>
                    <a:pt x="689" y="574"/>
                  </a:lnTo>
                  <a:lnTo>
                    <a:pt x="680" y="579"/>
                  </a:lnTo>
                  <a:lnTo>
                    <a:pt x="670" y="579"/>
                  </a:lnTo>
                  <a:lnTo>
                    <a:pt x="665" y="574"/>
                  </a:lnTo>
                  <a:lnTo>
                    <a:pt x="661" y="574"/>
                  </a:lnTo>
                  <a:lnTo>
                    <a:pt x="656" y="570"/>
                  </a:lnTo>
                  <a:lnTo>
                    <a:pt x="651" y="555"/>
                  </a:lnTo>
                  <a:lnTo>
                    <a:pt x="641" y="536"/>
                  </a:lnTo>
                  <a:lnTo>
                    <a:pt x="637" y="522"/>
                  </a:lnTo>
                  <a:lnTo>
                    <a:pt x="632" y="502"/>
                  </a:lnTo>
                  <a:lnTo>
                    <a:pt x="627" y="488"/>
                  </a:lnTo>
                  <a:lnTo>
                    <a:pt x="627" y="483"/>
                  </a:lnTo>
                  <a:lnTo>
                    <a:pt x="627" y="479"/>
                  </a:lnTo>
                  <a:lnTo>
                    <a:pt x="627" y="474"/>
                  </a:lnTo>
                  <a:lnTo>
                    <a:pt x="632" y="469"/>
                  </a:lnTo>
                  <a:lnTo>
                    <a:pt x="632" y="464"/>
                  </a:lnTo>
                  <a:lnTo>
                    <a:pt x="637" y="459"/>
                  </a:lnTo>
                  <a:lnTo>
                    <a:pt x="646" y="455"/>
                  </a:lnTo>
                  <a:lnTo>
                    <a:pt x="651" y="445"/>
                  </a:lnTo>
                  <a:lnTo>
                    <a:pt x="661" y="440"/>
                  </a:lnTo>
                  <a:lnTo>
                    <a:pt x="665" y="431"/>
                  </a:lnTo>
                  <a:lnTo>
                    <a:pt x="675" y="421"/>
                  </a:lnTo>
                  <a:lnTo>
                    <a:pt x="684" y="407"/>
                  </a:lnTo>
                  <a:lnTo>
                    <a:pt x="694" y="388"/>
                  </a:lnTo>
                  <a:lnTo>
                    <a:pt x="704" y="368"/>
                  </a:lnTo>
                  <a:lnTo>
                    <a:pt x="713" y="344"/>
                  </a:lnTo>
                  <a:lnTo>
                    <a:pt x="728" y="320"/>
                  </a:lnTo>
                  <a:lnTo>
                    <a:pt x="737" y="287"/>
                  </a:lnTo>
                  <a:close/>
                  <a:moveTo>
                    <a:pt x="263" y="938"/>
                  </a:moveTo>
                  <a:lnTo>
                    <a:pt x="258" y="938"/>
                  </a:lnTo>
                  <a:lnTo>
                    <a:pt x="249" y="934"/>
                  </a:lnTo>
                  <a:lnTo>
                    <a:pt x="244" y="929"/>
                  </a:lnTo>
                  <a:lnTo>
                    <a:pt x="234" y="919"/>
                  </a:lnTo>
                  <a:lnTo>
                    <a:pt x="229" y="910"/>
                  </a:lnTo>
                  <a:lnTo>
                    <a:pt x="220" y="890"/>
                  </a:lnTo>
                  <a:lnTo>
                    <a:pt x="210" y="876"/>
                  </a:lnTo>
                  <a:lnTo>
                    <a:pt x="206" y="852"/>
                  </a:lnTo>
                  <a:lnTo>
                    <a:pt x="196" y="833"/>
                  </a:lnTo>
                  <a:lnTo>
                    <a:pt x="186" y="814"/>
                  </a:lnTo>
                  <a:lnTo>
                    <a:pt x="182" y="799"/>
                  </a:lnTo>
                  <a:lnTo>
                    <a:pt x="177" y="785"/>
                  </a:lnTo>
                  <a:lnTo>
                    <a:pt x="177" y="771"/>
                  </a:lnTo>
                  <a:lnTo>
                    <a:pt x="172" y="761"/>
                  </a:lnTo>
                  <a:lnTo>
                    <a:pt x="177" y="752"/>
                  </a:lnTo>
                  <a:lnTo>
                    <a:pt x="177" y="747"/>
                  </a:lnTo>
                  <a:lnTo>
                    <a:pt x="182" y="737"/>
                  </a:lnTo>
                  <a:lnTo>
                    <a:pt x="191" y="732"/>
                  </a:lnTo>
                  <a:lnTo>
                    <a:pt x="201" y="732"/>
                  </a:lnTo>
                  <a:lnTo>
                    <a:pt x="210" y="728"/>
                  </a:lnTo>
                  <a:lnTo>
                    <a:pt x="220" y="732"/>
                  </a:lnTo>
                  <a:lnTo>
                    <a:pt x="225" y="732"/>
                  </a:lnTo>
                  <a:lnTo>
                    <a:pt x="239" y="732"/>
                  </a:lnTo>
                  <a:lnTo>
                    <a:pt x="249" y="728"/>
                  </a:lnTo>
                  <a:lnTo>
                    <a:pt x="263" y="723"/>
                  </a:lnTo>
                  <a:lnTo>
                    <a:pt x="268" y="718"/>
                  </a:lnTo>
                  <a:lnTo>
                    <a:pt x="277" y="708"/>
                  </a:lnTo>
                  <a:lnTo>
                    <a:pt x="292" y="699"/>
                  </a:lnTo>
                  <a:lnTo>
                    <a:pt x="306" y="680"/>
                  </a:lnTo>
                  <a:lnTo>
                    <a:pt x="330" y="661"/>
                  </a:lnTo>
                  <a:lnTo>
                    <a:pt x="354" y="641"/>
                  </a:lnTo>
                  <a:lnTo>
                    <a:pt x="378" y="613"/>
                  </a:lnTo>
                  <a:lnTo>
                    <a:pt x="392" y="598"/>
                  </a:lnTo>
                  <a:lnTo>
                    <a:pt x="411" y="579"/>
                  </a:lnTo>
                  <a:lnTo>
                    <a:pt x="426" y="565"/>
                  </a:lnTo>
                  <a:lnTo>
                    <a:pt x="440" y="546"/>
                  </a:lnTo>
                  <a:lnTo>
                    <a:pt x="469" y="522"/>
                  </a:lnTo>
                  <a:lnTo>
                    <a:pt x="493" y="498"/>
                  </a:lnTo>
                  <a:lnTo>
                    <a:pt x="512" y="479"/>
                  </a:lnTo>
                  <a:lnTo>
                    <a:pt x="531" y="469"/>
                  </a:lnTo>
                  <a:lnTo>
                    <a:pt x="541" y="459"/>
                  </a:lnTo>
                  <a:lnTo>
                    <a:pt x="550" y="455"/>
                  </a:lnTo>
                  <a:lnTo>
                    <a:pt x="555" y="455"/>
                  </a:lnTo>
                  <a:lnTo>
                    <a:pt x="560" y="459"/>
                  </a:lnTo>
                  <a:lnTo>
                    <a:pt x="560" y="464"/>
                  </a:lnTo>
                  <a:lnTo>
                    <a:pt x="555" y="469"/>
                  </a:lnTo>
                  <a:lnTo>
                    <a:pt x="555" y="474"/>
                  </a:lnTo>
                  <a:lnTo>
                    <a:pt x="550" y="483"/>
                  </a:lnTo>
                  <a:lnTo>
                    <a:pt x="546" y="498"/>
                  </a:lnTo>
                  <a:lnTo>
                    <a:pt x="541" y="507"/>
                  </a:lnTo>
                  <a:lnTo>
                    <a:pt x="536" y="522"/>
                  </a:lnTo>
                  <a:lnTo>
                    <a:pt x="526" y="536"/>
                  </a:lnTo>
                  <a:lnTo>
                    <a:pt x="517" y="555"/>
                  </a:lnTo>
                  <a:lnTo>
                    <a:pt x="507" y="574"/>
                  </a:lnTo>
                  <a:lnTo>
                    <a:pt x="498" y="598"/>
                  </a:lnTo>
                  <a:lnTo>
                    <a:pt x="483" y="617"/>
                  </a:lnTo>
                  <a:lnTo>
                    <a:pt x="469" y="641"/>
                  </a:lnTo>
                  <a:lnTo>
                    <a:pt x="455" y="670"/>
                  </a:lnTo>
                  <a:lnTo>
                    <a:pt x="435" y="694"/>
                  </a:lnTo>
                  <a:lnTo>
                    <a:pt x="421" y="723"/>
                  </a:lnTo>
                  <a:lnTo>
                    <a:pt x="402" y="752"/>
                  </a:lnTo>
                  <a:lnTo>
                    <a:pt x="388" y="775"/>
                  </a:lnTo>
                  <a:lnTo>
                    <a:pt x="373" y="799"/>
                  </a:lnTo>
                  <a:lnTo>
                    <a:pt x="359" y="819"/>
                  </a:lnTo>
                  <a:lnTo>
                    <a:pt x="344" y="838"/>
                  </a:lnTo>
                  <a:lnTo>
                    <a:pt x="335" y="857"/>
                  </a:lnTo>
                  <a:lnTo>
                    <a:pt x="320" y="871"/>
                  </a:lnTo>
                  <a:lnTo>
                    <a:pt x="311" y="886"/>
                  </a:lnTo>
                  <a:lnTo>
                    <a:pt x="301" y="900"/>
                  </a:lnTo>
                  <a:lnTo>
                    <a:pt x="292" y="910"/>
                  </a:lnTo>
                  <a:lnTo>
                    <a:pt x="287" y="919"/>
                  </a:lnTo>
                  <a:lnTo>
                    <a:pt x="277" y="924"/>
                  </a:lnTo>
                  <a:lnTo>
                    <a:pt x="273" y="929"/>
                  </a:lnTo>
                  <a:lnTo>
                    <a:pt x="268" y="934"/>
                  </a:lnTo>
                  <a:lnTo>
                    <a:pt x="263" y="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"/>
            <p:cNvSpPr/>
            <p:nvPr/>
          </p:nvSpPr>
          <p:spPr>
            <a:xfrm>
              <a:off x="4783680" y="2439720"/>
              <a:ext cx="938520" cy="1082520"/>
            </a:xfrm>
            <a:custGeom>
              <a:avLst/>
              <a:gdLst/>
              <a:ahLst/>
              <a:rect l="l" t="t" r="r" b="b"/>
              <a:pathLst>
                <a:path w="776" h="895">
                  <a:moveTo>
                    <a:pt x="412" y="704"/>
                  </a:moveTo>
                  <a:lnTo>
                    <a:pt x="417" y="704"/>
                  </a:lnTo>
                  <a:lnTo>
                    <a:pt x="421" y="699"/>
                  </a:lnTo>
                  <a:lnTo>
                    <a:pt x="426" y="694"/>
                  </a:lnTo>
                  <a:lnTo>
                    <a:pt x="431" y="689"/>
                  </a:lnTo>
                  <a:lnTo>
                    <a:pt x="436" y="680"/>
                  </a:lnTo>
                  <a:lnTo>
                    <a:pt x="440" y="670"/>
                  </a:lnTo>
                  <a:lnTo>
                    <a:pt x="450" y="661"/>
                  </a:lnTo>
                  <a:lnTo>
                    <a:pt x="455" y="651"/>
                  </a:lnTo>
                  <a:lnTo>
                    <a:pt x="460" y="637"/>
                  </a:lnTo>
                  <a:lnTo>
                    <a:pt x="464" y="622"/>
                  </a:lnTo>
                  <a:lnTo>
                    <a:pt x="474" y="608"/>
                  </a:lnTo>
                  <a:lnTo>
                    <a:pt x="479" y="589"/>
                  </a:lnTo>
                  <a:lnTo>
                    <a:pt x="484" y="574"/>
                  </a:lnTo>
                  <a:lnTo>
                    <a:pt x="493" y="555"/>
                  </a:lnTo>
                  <a:lnTo>
                    <a:pt x="508" y="512"/>
                  </a:lnTo>
                  <a:lnTo>
                    <a:pt x="522" y="474"/>
                  </a:lnTo>
                  <a:lnTo>
                    <a:pt x="536" y="435"/>
                  </a:lnTo>
                  <a:lnTo>
                    <a:pt x="546" y="397"/>
                  </a:lnTo>
                  <a:lnTo>
                    <a:pt x="555" y="364"/>
                  </a:lnTo>
                  <a:lnTo>
                    <a:pt x="560" y="335"/>
                  </a:lnTo>
                  <a:lnTo>
                    <a:pt x="570" y="301"/>
                  </a:lnTo>
                  <a:lnTo>
                    <a:pt x="575" y="273"/>
                  </a:lnTo>
                  <a:lnTo>
                    <a:pt x="575" y="249"/>
                  </a:lnTo>
                  <a:lnTo>
                    <a:pt x="579" y="225"/>
                  </a:lnTo>
                  <a:lnTo>
                    <a:pt x="579" y="206"/>
                  </a:lnTo>
                  <a:lnTo>
                    <a:pt x="579" y="191"/>
                  </a:lnTo>
                  <a:lnTo>
                    <a:pt x="579" y="172"/>
                  </a:lnTo>
                  <a:lnTo>
                    <a:pt x="575" y="162"/>
                  </a:lnTo>
                  <a:lnTo>
                    <a:pt x="575" y="148"/>
                  </a:lnTo>
                  <a:lnTo>
                    <a:pt x="570" y="138"/>
                  </a:lnTo>
                  <a:lnTo>
                    <a:pt x="570" y="134"/>
                  </a:lnTo>
                  <a:lnTo>
                    <a:pt x="560" y="124"/>
                  </a:lnTo>
                  <a:lnTo>
                    <a:pt x="551" y="119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8" y="115"/>
                  </a:lnTo>
                  <a:lnTo>
                    <a:pt x="493" y="115"/>
                  </a:lnTo>
                  <a:lnTo>
                    <a:pt x="479" y="119"/>
                  </a:lnTo>
                  <a:lnTo>
                    <a:pt x="460" y="119"/>
                  </a:lnTo>
                  <a:lnTo>
                    <a:pt x="440" y="124"/>
                  </a:lnTo>
                  <a:lnTo>
                    <a:pt x="421" y="129"/>
                  </a:lnTo>
                  <a:lnTo>
                    <a:pt x="397" y="134"/>
                  </a:lnTo>
                  <a:lnTo>
                    <a:pt x="369" y="138"/>
                  </a:lnTo>
                  <a:lnTo>
                    <a:pt x="311" y="153"/>
                  </a:lnTo>
                  <a:lnTo>
                    <a:pt x="287" y="158"/>
                  </a:lnTo>
                  <a:lnTo>
                    <a:pt x="258" y="162"/>
                  </a:lnTo>
                  <a:lnTo>
                    <a:pt x="235" y="167"/>
                  </a:lnTo>
                  <a:lnTo>
                    <a:pt x="211" y="172"/>
                  </a:lnTo>
                  <a:lnTo>
                    <a:pt x="191" y="177"/>
                  </a:lnTo>
                  <a:lnTo>
                    <a:pt x="172" y="182"/>
                  </a:lnTo>
                  <a:lnTo>
                    <a:pt x="153" y="186"/>
                  </a:lnTo>
                  <a:lnTo>
                    <a:pt x="134" y="191"/>
                  </a:lnTo>
                  <a:lnTo>
                    <a:pt x="115" y="191"/>
                  </a:lnTo>
                  <a:lnTo>
                    <a:pt x="100" y="196"/>
                  </a:lnTo>
                  <a:lnTo>
                    <a:pt x="86" y="191"/>
                  </a:lnTo>
                  <a:lnTo>
                    <a:pt x="72" y="191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7"/>
                  </a:lnTo>
                  <a:lnTo>
                    <a:pt x="29" y="172"/>
                  </a:lnTo>
                  <a:lnTo>
                    <a:pt x="19" y="167"/>
                  </a:lnTo>
                  <a:lnTo>
                    <a:pt x="9" y="162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9" y="138"/>
                  </a:lnTo>
                  <a:lnTo>
                    <a:pt x="19" y="138"/>
                  </a:lnTo>
                  <a:lnTo>
                    <a:pt x="33" y="138"/>
                  </a:lnTo>
                  <a:lnTo>
                    <a:pt x="43" y="134"/>
                  </a:lnTo>
                  <a:lnTo>
                    <a:pt x="57" y="134"/>
                  </a:lnTo>
                  <a:lnTo>
                    <a:pt x="76" y="129"/>
                  </a:lnTo>
                  <a:lnTo>
                    <a:pt x="91" y="129"/>
                  </a:lnTo>
                  <a:lnTo>
                    <a:pt x="110" y="124"/>
                  </a:lnTo>
                  <a:lnTo>
                    <a:pt x="134" y="119"/>
                  </a:lnTo>
                  <a:lnTo>
                    <a:pt x="158" y="115"/>
                  </a:lnTo>
                  <a:lnTo>
                    <a:pt x="182" y="110"/>
                  </a:lnTo>
                  <a:lnTo>
                    <a:pt x="206" y="105"/>
                  </a:lnTo>
                  <a:lnTo>
                    <a:pt x="235" y="95"/>
                  </a:lnTo>
                  <a:lnTo>
                    <a:pt x="263" y="91"/>
                  </a:lnTo>
                  <a:lnTo>
                    <a:pt x="292" y="81"/>
                  </a:lnTo>
                  <a:lnTo>
                    <a:pt x="321" y="76"/>
                  </a:lnTo>
                  <a:lnTo>
                    <a:pt x="349" y="71"/>
                  </a:lnTo>
                  <a:lnTo>
                    <a:pt x="373" y="62"/>
                  </a:lnTo>
                  <a:lnTo>
                    <a:pt x="402" y="57"/>
                  </a:lnTo>
                  <a:lnTo>
                    <a:pt x="421" y="52"/>
                  </a:lnTo>
                  <a:lnTo>
                    <a:pt x="445" y="47"/>
                  </a:lnTo>
                  <a:lnTo>
                    <a:pt x="464" y="43"/>
                  </a:lnTo>
                  <a:lnTo>
                    <a:pt x="479" y="38"/>
                  </a:lnTo>
                  <a:lnTo>
                    <a:pt x="493" y="33"/>
                  </a:lnTo>
                  <a:lnTo>
                    <a:pt x="508" y="33"/>
                  </a:lnTo>
                  <a:lnTo>
                    <a:pt x="517" y="28"/>
                  </a:lnTo>
                  <a:lnTo>
                    <a:pt x="531" y="24"/>
                  </a:lnTo>
                  <a:lnTo>
                    <a:pt x="536" y="24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1" y="14"/>
                  </a:lnTo>
                  <a:lnTo>
                    <a:pt x="560" y="9"/>
                  </a:lnTo>
                  <a:lnTo>
                    <a:pt x="570" y="4"/>
                  </a:lnTo>
                  <a:lnTo>
                    <a:pt x="579" y="0"/>
                  </a:lnTo>
                  <a:lnTo>
                    <a:pt x="594" y="0"/>
                  </a:lnTo>
                  <a:lnTo>
                    <a:pt x="599" y="0"/>
                  </a:lnTo>
                  <a:lnTo>
                    <a:pt x="603" y="4"/>
                  </a:lnTo>
                  <a:lnTo>
                    <a:pt x="613" y="4"/>
                  </a:lnTo>
                  <a:lnTo>
                    <a:pt x="627" y="9"/>
                  </a:lnTo>
                  <a:lnTo>
                    <a:pt x="642" y="19"/>
                  </a:lnTo>
                  <a:lnTo>
                    <a:pt x="656" y="28"/>
                  </a:lnTo>
                  <a:lnTo>
                    <a:pt x="675" y="38"/>
                  </a:lnTo>
                  <a:lnTo>
                    <a:pt x="699" y="47"/>
                  </a:lnTo>
                  <a:lnTo>
                    <a:pt x="713" y="62"/>
                  </a:lnTo>
                  <a:lnTo>
                    <a:pt x="733" y="71"/>
                  </a:lnTo>
                  <a:lnTo>
                    <a:pt x="742" y="81"/>
                  </a:lnTo>
                  <a:lnTo>
                    <a:pt x="757" y="91"/>
                  </a:lnTo>
                  <a:lnTo>
                    <a:pt x="761" y="100"/>
                  </a:lnTo>
                  <a:lnTo>
                    <a:pt x="771" y="105"/>
                  </a:lnTo>
                  <a:lnTo>
                    <a:pt x="776" y="110"/>
                  </a:lnTo>
                  <a:lnTo>
                    <a:pt x="776" y="115"/>
                  </a:lnTo>
                  <a:lnTo>
                    <a:pt x="771" y="124"/>
                  </a:lnTo>
                  <a:lnTo>
                    <a:pt x="766" y="134"/>
                  </a:lnTo>
                  <a:lnTo>
                    <a:pt x="761" y="143"/>
                  </a:lnTo>
                  <a:lnTo>
                    <a:pt x="747" y="148"/>
                  </a:lnTo>
                  <a:lnTo>
                    <a:pt x="737" y="153"/>
                  </a:lnTo>
                  <a:lnTo>
                    <a:pt x="733" y="162"/>
                  </a:lnTo>
                  <a:lnTo>
                    <a:pt x="728" y="172"/>
                  </a:lnTo>
                  <a:lnTo>
                    <a:pt x="723" y="186"/>
                  </a:lnTo>
                  <a:lnTo>
                    <a:pt x="718" y="201"/>
                  </a:lnTo>
                  <a:lnTo>
                    <a:pt x="713" y="220"/>
                  </a:lnTo>
                  <a:lnTo>
                    <a:pt x="709" y="239"/>
                  </a:lnTo>
                  <a:lnTo>
                    <a:pt x="704" y="263"/>
                  </a:lnTo>
                  <a:lnTo>
                    <a:pt x="699" y="292"/>
                  </a:lnTo>
                  <a:lnTo>
                    <a:pt x="694" y="320"/>
                  </a:lnTo>
                  <a:lnTo>
                    <a:pt x="685" y="354"/>
                  </a:lnTo>
                  <a:lnTo>
                    <a:pt x="675" y="388"/>
                  </a:lnTo>
                  <a:lnTo>
                    <a:pt x="661" y="431"/>
                  </a:lnTo>
                  <a:lnTo>
                    <a:pt x="651" y="474"/>
                  </a:lnTo>
                  <a:lnTo>
                    <a:pt x="637" y="522"/>
                  </a:lnTo>
                  <a:lnTo>
                    <a:pt x="618" y="570"/>
                  </a:lnTo>
                  <a:lnTo>
                    <a:pt x="613" y="598"/>
                  </a:lnTo>
                  <a:lnTo>
                    <a:pt x="603" y="622"/>
                  </a:lnTo>
                  <a:lnTo>
                    <a:pt x="594" y="646"/>
                  </a:lnTo>
                  <a:lnTo>
                    <a:pt x="589" y="665"/>
                  </a:lnTo>
                  <a:lnTo>
                    <a:pt x="579" y="689"/>
                  </a:lnTo>
                  <a:lnTo>
                    <a:pt x="570" y="708"/>
                  </a:lnTo>
                  <a:lnTo>
                    <a:pt x="565" y="728"/>
                  </a:lnTo>
                  <a:lnTo>
                    <a:pt x="555" y="747"/>
                  </a:lnTo>
                  <a:lnTo>
                    <a:pt x="546" y="761"/>
                  </a:lnTo>
                  <a:lnTo>
                    <a:pt x="541" y="775"/>
                  </a:lnTo>
                  <a:lnTo>
                    <a:pt x="531" y="790"/>
                  </a:lnTo>
                  <a:lnTo>
                    <a:pt x="527" y="799"/>
                  </a:lnTo>
                  <a:lnTo>
                    <a:pt x="517" y="814"/>
                  </a:lnTo>
                  <a:lnTo>
                    <a:pt x="512" y="823"/>
                  </a:lnTo>
                  <a:lnTo>
                    <a:pt x="503" y="828"/>
                  </a:lnTo>
                  <a:lnTo>
                    <a:pt x="498" y="838"/>
                  </a:lnTo>
                  <a:lnTo>
                    <a:pt x="484" y="852"/>
                  </a:lnTo>
                  <a:lnTo>
                    <a:pt x="469" y="862"/>
                  </a:lnTo>
                  <a:lnTo>
                    <a:pt x="455" y="871"/>
                  </a:lnTo>
                  <a:lnTo>
                    <a:pt x="445" y="881"/>
                  </a:lnTo>
                  <a:lnTo>
                    <a:pt x="436" y="886"/>
                  </a:lnTo>
                  <a:lnTo>
                    <a:pt x="426" y="890"/>
                  </a:lnTo>
                  <a:lnTo>
                    <a:pt x="421" y="895"/>
                  </a:lnTo>
                  <a:lnTo>
                    <a:pt x="412" y="895"/>
                  </a:lnTo>
                  <a:lnTo>
                    <a:pt x="407" y="895"/>
                  </a:lnTo>
                  <a:lnTo>
                    <a:pt x="402" y="890"/>
                  </a:lnTo>
                  <a:lnTo>
                    <a:pt x="397" y="886"/>
                  </a:lnTo>
                  <a:lnTo>
                    <a:pt x="393" y="881"/>
                  </a:lnTo>
                  <a:lnTo>
                    <a:pt x="388" y="876"/>
                  </a:lnTo>
                  <a:lnTo>
                    <a:pt x="383" y="866"/>
                  </a:lnTo>
                  <a:lnTo>
                    <a:pt x="383" y="857"/>
                  </a:lnTo>
                  <a:lnTo>
                    <a:pt x="378" y="847"/>
                  </a:lnTo>
                  <a:lnTo>
                    <a:pt x="373" y="833"/>
                  </a:lnTo>
                  <a:lnTo>
                    <a:pt x="369" y="819"/>
                  </a:lnTo>
                  <a:lnTo>
                    <a:pt x="364" y="804"/>
                  </a:lnTo>
                  <a:lnTo>
                    <a:pt x="354" y="790"/>
                  </a:lnTo>
                  <a:lnTo>
                    <a:pt x="345" y="775"/>
                  </a:lnTo>
                  <a:lnTo>
                    <a:pt x="335" y="756"/>
                  </a:lnTo>
                  <a:lnTo>
                    <a:pt x="326" y="737"/>
                  </a:lnTo>
                  <a:lnTo>
                    <a:pt x="306" y="723"/>
                  </a:lnTo>
                  <a:lnTo>
                    <a:pt x="292" y="704"/>
                  </a:lnTo>
                  <a:lnTo>
                    <a:pt x="282" y="694"/>
                  </a:lnTo>
                  <a:lnTo>
                    <a:pt x="273" y="680"/>
                  </a:lnTo>
                  <a:lnTo>
                    <a:pt x="268" y="670"/>
                  </a:lnTo>
                  <a:lnTo>
                    <a:pt x="263" y="661"/>
                  </a:lnTo>
                  <a:lnTo>
                    <a:pt x="263" y="656"/>
                  </a:lnTo>
                  <a:lnTo>
                    <a:pt x="263" y="651"/>
                  </a:lnTo>
                  <a:lnTo>
                    <a:pt x="263" y="646"/>
                  </a:lnTo>
                  <a:lnTo>
                    <a:pt x="268" y="646"/>
                  </a:lnTo>
                  <a:lnTo>
                    <a:pt x="273" y="646"/>
                  </a:lnTo>
                  <a:lnTo>
                    <a:pt x="278" y="651"/>
                  </a:lnTo>
                  <a:lnTo>
                    <a:pt x="287" y="651"/>
                  </a:lnTo>
                  <a:lnTo>
                    <a:pt x="297" y="656"/>
                  </a:lnTo>
                  <a:lnTo>
                    <a:pt x="306" y="665"/>
                  </a:lnTo>
                  <a:lnTo>
                    <a:pt x="321" y="670"/>
                  </a:lnTo>
                  <a:lnTo>
                    <a:pt x="335" y="680"/>
                  </a:lnTo>
                  <a:lnTo>
                    <a:pt x="345" y="689"/>
                  </a:lnTo>
                  <a:lnTo>
                    <a:pt x="359" y="694"/>
                  </a:lnTo>
                  <a:lnTo>
                    <a:pt x="369" y="699"/>
                  </a:lnTo>
                  <a:lnTo>
                    <a:pt x="378" y="704"/>
                  </a:lnTo>
                  <a:lnTo>
                    <a:pt x="388" y="708"/>
                  </a:lnTo>
                  <a:lnTo>
                    <a:pt x="397" y="708"/>
                  </a:lnTo>
                  <a:lnTo>
                    <a:pt x="407" y="708"/>
                  </a:lnTo>
                  <a:lnTo>
                    <a:pt x="412" y="70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5531400" y="2919960"/>
              <a:ext cx="388080" cy="219960"/>
            </a:xfrm>
            <a:custGeom>
              <a:avLst/>
              <a:gdLst/>
              <a:ahLst/>
              <a:rect l="l" t="t" r="r" b="b"/>
              <a:pathLst>
                <a:path w="321" h="182">
                  <a:moveTo>
                    <a:pt x="210" y="24"/>
                  </a:moveTo>
                  <a:lnTo>
                    <a:pt x="230" y="34"/>
                  </a:lnTo>
                  <a:lnTo>
                    <a:pt x="249" y="38"/>
                  </a:lnTo>
                  <a:lnTo>
                    <a:pt x="263" y="43"/>
                  </a:lnTo>
                  <a:lnTo>
                    <a:pt x="277" y="48"/>
                  </a:lnTo>
                  <a:lnTo>
                    <a:pt x="292" y="58"/>
                  </a:lnTo>
                  <a:lnTo>
                    <a:pt x="301" y="62"/>
                  </a:lnTo>
                  <a:lnTo>
                    <a:pt x="306" y="67"/>
                  </a:lnTo>
                  <a:lnTo>
                    <a:pt x="311" y="77"/>
                  </a:lnTo>
                  <a:lnTo>
                    <a:pt x="316" y="91"/>
                  </a:lnTo>
                  <a:lnTo>
                    <a:pt x="321" y="105"/>
                  </a:lnTo>
                  <a:lnTo>
                    <a:pt x="321" y="125"/>
                  </a:lnTo>
                  <a:lnTo>
                    <a:pt x="321" y="139"/>
                  </a:lnTo>
                  <a:lnTo>
                    <a:pt x="321" y="149"/>
                  </a:lnTo>
                  <a:lnTo>
                    <a:pt x="316" y="158"/>
                  </a:lnTo>
                  <a:lnTo>
                    <a:pt x="316" y="163"/>
                  </a:lnTo>
                  <a:lnTo>
                    <a:pt x="311" y="173"/>
                  </a:lnTo>
                  <a:lnTo>
                    <a:pt x="301" y="177"/>
                  </a:lnTo>
                  <a:lnTo>
                    <a:pt x="297" y="177"/>
                  </a:lnTo>
                  <a:lnTo>
                    <a:pt x="287" y="182"/>
                  </a:lnTo>
                  <a:lnTo>
                    <a:pt x="277" y="182"/>
                  </a:lnTo>
                  <a:lnTo>
                    <a:pt x="273" y="182"/>
                  </a:lnTo>
                  <a:lnTo>
                    <a:pt x="263" y="182"/>
                  </a:lnTo>
                  <a:lnTo>
                    <a:pt x="254" y="177"/>
                  </a:lnTo>
                  <a:lnTo>
                    <a:pt x="244" y="173"/>
                  </a:lnTo>
                  <a:lnTo>
                    <a:pt x="234" y="168"/>
                  </a:lnTo>
                  <a:lnTo>
                    <a:pt x="220" y="163"/>
                  </a:lnTo>
                  <a:lnTo>
                    <a:pt x="206" y="153"/>
                  </a:lnTo>
                  <a:lnTo>
                    <a:pt x="186" y="144"/>
                  </a:lnTo>
                  <a:lnTo>
                    <a:pt x="167" y="134"/>
                  </a:lnTo>
                  <a:lnTo>
                    <a:pt x="148" y="125"/>
                  </a:lnTo>
                  <a:lnTo>
                    <a:pt x="129" y="110"/>
                  </a:lnTo>
                  <a:lnTo>
                    <a:pt x="105" y="101"/>
                  </a:lnTo>
                  <a:lnTo>
                    <a:pt x="81" y="86"/>
                  </a:lnTo>
                  <a:lnTo>
                    <a:pt x="57" y="67"/>
                  </a:lnTo>
                  <a:lnTo>
                    <a:pt x="28" y="53"/>
                  </a:lnTo>
                  <a:lnTo>
                    <a:pt x="0" y="34"/>
                  </a:lnTo>
                  <a:lnTo>
                    <a:pt x="19" y="24"/>
                  </a:lnTo>
                  <a:lnTo>
                    <a:pt x="38" y="14"/>
                  </a:lnTo>
                  <a:lnTo>
                    <a:pt x="62" y="5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48" y="10"/>
                  </a:lnTo>
                  <a:lnTo>
                    <a:pt x="167" y="14"/>
                  </a:lnTo>
                  <a:lnTo>
                    <a:pt x="186" y="19"/>
                  </a:lnTo>
                  <a:lnTo>
                    <a:pt x="210" y="2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3909240" y="3592800"/>
              <a:ext cx="2120040" cy="288720"/>
            </a:xfrm>
            <a:custGeom>
              <a:avLst/>
              <a:gdLst/>
              <a:ahLst/>
              <a:rect l="l" t="t" r="r" b="b"/>
              <a:pathLst>
                <a:path w="1753" h="239">
                  <a:moveTo>
                    <a:pt x="1542" y="0"/>
                  </a:moveTo>
                  <a:lnTo>
                    <a:pt x="1575" y="0"/>
                  </a:lnTo>
                  <a:lnTo>
                    <a:pt x="1604" y="9"/>
                  </a:lnTo>
                  <a:lnTo>
                    <a:pt x="1623" y="9"/>
                  </a:lnTo>
                  <a:lnTo>
                    <a:pt x="1638" y="19"/>
                  </a:lnTo>
                  <a:lnTo>
                    <a:pt x="1652" y="24"/>
                  </a:lnTo>
                  <a:lnTo>
                    <a:pt x="1671" y="33"/>
                  </a:lnTo>
                  <a:lnTo>
                    <a:pt x="1686" y="43"/>
                  </a:lnTo>
                  <a:lnTo>
                    <a:pt x="1700" y="52"/>
                  </a:lnTo>
                  <a:lnTo>
                    <a:pt x="1709" y="57"/>
                  </a:lnTo>
                  <a:lnTo>
                    <a:pt x="1724" y="62"/>
                  </a:lnTo>
                  <a:lnTo>
                    <a:pt x="1729" y="72"/>
                  </a:lnTo>
                  <a:lnTo>
                    <a:pt x="1738" y="76"/>
                  </a:lnTo>
                  <a:lnTo>
                    <a:pt x="1743" y="81"/>
                  </a:lnTo>
                  <a:lnTo>
                    <a:pt x="1748" y="81"/>
                  </a:lnTo>
                  <a:lnTo>
                    <a:pt x="1753" y="96"/>
                  </a:lnTo>
                  <a:lnTo>
                    <a:pt x="1753" y="100"/>
                  </a:lnTo>
                  <a:lnTo>
                    <a:pt x="1753" y="110"/>
                  </a:lnTo>
                  <a:lnTo>
                    <a:pt x="1748" y="115"/>
                  </a:lnTo>
                  <a:lnTo>
                    <a:pt x="1743" y="119"/>
                  </a:lnTo>
                  <a:lnTo>
                    <a:pt x="1733" y="119"/>
                  </a:lnTo>
                  <a:lnTo>
                    <a:pt x="1729" y="124"/>
                  </a:lnTo>
                  <a:lnTo>
                    <a:pt x="1719" y="124"/>
                  </a:lnTo>
                  <a:lnTo>
                    <a:pt x="1705" y="124"/>
                  </a:lnTo>
                  <a:lnTo>
                    <a:pt x="1690" y="124"/>
                  </a:lnTo>
                  <a:lnTo>
                    <a:pt x="1676" y="124"/>
                  </a:lnTo>
                  <a:lnTo>
                    <a:pt x="1662" y="129"/>
                  </a:lnTo>
                  <a:lnTo>
                    <a:pt x="1642" y="129"/>
                  </a:lnTo>
                  <a:lnTo>
                    <a:pt x="1618" y="129"/>
                  </a:lnTo>
                  <a:lnTo>
                    <a:pt x="1599" y="129"/>
                  </a:lnTo>
                  <a:lnTo>
                    <a:pt x="1575" y="129"/>
                  </a:lnTo>
                  <a:lnTo>
                    <a:pt x="1547" y="124"/>
                  </a:lnTo>
                  <a:lnTo>
                    <a:pt x="1518" y="124"/>
                  </a:lnTo>
                  <a:lnTo>
                    <a:pt x="1489" y="124"/>
                  </a:lnTo>
                  <a:lnTo>
                    <a:pt x="1427" y="119"/>
                  </a:lnTo>
                  <a:lnTo>
                    <a:pt x="1365" y="119"/>
                  </a:lnTo>
                  <a:lnTo>
                    <a:pt x="1245" y="124"/>
                  </a:lnTo>
                  <a:lnTo>
                    <a:pt x="1125" y="124"/>
                  </a:lnTo>
                  <a:lnTo>
                    <a:pt x="1005" y="134"/>
                  </a:lnTo>
                  <a:lnTo>
                    <a:pt x="948" y="139"/>
                  </a:lnTo>
                  <a:lnTo>
                    <a:pt x="895" y="143"/>
                  </a:lnTo>
                  <a:lnTo>
                    <a:pt x="843" y="153"/>
                  </a:lnTo>
                  <a:lnTo>
                    <a:pt x="790" y="158"/>
                  </a:lnTo>
                  <a:lnTo>
                    <a:pt x="742" y="163"/>
                  </a:lnTo>
                  <a:lnTo>
                    <a:pt x="694" y="167"/>
                  </a:lnTo>
                  <a:lnTo>
                    <a:pt x="651" y="172"/>
                  </a:lnTo>
                  <a:lnTo>
                    <a:pt x="608" y="172"/>
                  </a:lnTo>
                  <a:lnTo>
                    <a:pt x="526" y="187"/>
                  </a:lnTo>
                  <a:lnTo>
                    <a:pt x="440" y="196"/>
                  </a:lnTo>
                  <a:lnTo>
                    <a:pt x="354" y="206"/>
                  </a:lnTo>
                  <a:lnTo>
                    <a:pt x="273" y="215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15" y="225"/>
                  </a:lnTo>
                  <a:lnTo>
                    <a:pt x="196" y="225"/>
                  </a:lnTo>
                  <a:lnTo>
                    <a:pt x="182" y="230"/>
                  </a:lnTo>
                  <a:lnTo>
                    <a:pt x="167" y="230"/>
                  </a:lnTo>
                  <a:lnTo>
                    <a:pt x="153" y="234"/>
                  </a:lnTo>
                  <a:lnTo>
                    <a:pt x="143" y="234"/>
                  </a:lnTo>
                  <a:lnTo>
                    <a:pt x="134" y="234"/>
                  </a:lnTo>
                  <a:lnTo>
                    <a:pt x="124" y="239"/>
                  </a:lnTo>
                  <a:lnTo>
                    <a:pt x="115" y="239"/>
                  </a:lnTo>
                  <a:lnTo>
                    <a:pt x="105" y="239"/>
                  </a:lnTo>
                  <a:lnTo>
                    <a:pt x="100" y="239"/>
                  </a:lnTo>
                  <a:lnTo>
                    <a:pt x="95" y="239"/>
                  </a:lnTo>
                  <a:lnTo>
                    <a:pt x="91" y="239"/>
                  </a:lnTo>
                  <a:lnTo>
                    <a:pt x="86" y="239"/>
                  </a:lnTo>
                  <a:lnTo>
                    <a:pt x="81" y="239"/>
                  </a:lnTo>
                  <a:lnTo>
                    <a:pt x="76" y="234"/>
                  </a:lnTo>
                  <a:lnTo>
                    <a:pt x="67" y="234"/>
                  </a:lnTo>
                  <a:lnTo>
                    <a:pt x="57" y="230"/>
                  </a:lnTo>
                  <a:lnTo>
                    <a:pt x="47" y="225"/>
                  </a:lnTo>
                  <a:lnTo>
                    <a:pt x="38" y="215"/>
                  </a:lnTo>
                  <a:lnTo>
                    <a:pt x="28" y="206"/>
                  </a:lnTo>
                  <a:lnTo>
                    <a:pt x="24" y="196"/>
                  </a:lnTo>
                  <a:lnTo>
                    <a:pt x="14" y="191"/>
                  </a:lnTo>
                  <a:lnTo>
                    <a:pt x="9" y="182"/>
                  </a:lnTo>
                  <a:lnTo>
                    <a:pt x="4" y="177"/>
                  </a:lnTo>
                  <a:lnTo>
                    <a:pt x="4" y="172"/>
                  </a:lnTo>
                  <a:lnTo>
                    <a:pt x="0" y="167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9" y="153"/>
                  </a:lnTo>
                  <a:lnTo>
                    <a:pt x="28" y="153"/>
                  </a:lnTo>
                  <a:lnTo>
                    <a:pt x="43" y="148"/>
                  </a:lnTo>
                  <a:lnTo>
                    <a:pt x="62" y="148"/>
                  </a:lnTo>
                  <a:lnTo>
                    <a:pt x="86" y="148"/>
                  </a:lnTo>
                  <a:lnTo>
                    <a:pt x="115" y="143"/>
                  </a:lnTo>
                  <a:lnTo>
                    <a:pt x="143" y="139"/>
                  </a:lnTo>
                  <a:lnTo>
                    <a:pt x="177" y="139"/>
                  </a:lnTo>
                  <a:lnTo>
                    <a:pt x="215" y="134"/>
                  </a:lnTo>
                  <a:lnTo>
                    <a:pt x="258" y="129"/>
                  </a:lnTo>
                  <a:lnTo>
                    <a:pt x="306" y="129"/>
                  </a:lnTo>
                  <a:lnTo>
                    <a:pt x="354" y="124"/>
                  </a:lnTo>
                  <a:lnTo>
                    <a:pt x="411" y="119"/>
                  </a:lnTo>
                  <a:lnTo>
                    <a:pt x="469" y="115"/>
                  </a:lnTo>
                  <a:lnTo>
                    <a:pt x="531" y="110"/>
                  </a:lnTo>
                  <a:lnTo>
                    <a:pt x="651" y="96"/>
                  </a:lnTo>
                  <a:lnTo>
                    <a:pt x="713" y="91"/>
                  </a:lnTo>
                  <a:lnTo>
                    <a:pt x="771" y="81"/>
                  </a:lnTo>
                  <a:lnTo>
                    <a:pt x="828" y="76"/>
                  </a:lnTo>
                  <a:lnTo>
                    <a:pt x="881" y="72"/>
                  </a:lnTo>
                  <a:lnTo>
                    <a:pt x="938" y="62"/>
                  </a:lnTo>
                  <a:lnTo>
                    <a:pt x="986" y="57"/>
                  </a:lnTo>
                  <a:lnTo>
                    <a:pt x="1039" y="52"/>
                  </a:lnTo>
                  <a:lnTo>
                    <a:pt x="1087" y="52"/>
                  </a:lnTo>
                  <a:lnTo>
                    <a:pt x="1135" y="48"/>
                  </a:lnTo>
                  <a:lnTo>
                    <a:pt x="1183" y="38"/>
                  </a:lnTo>
                  <a:lnTo>
                    <a:pt x="1226" y="33"/>
                  </a:lnTo>
                  <a:lnTo>
                    <a:pt x="1264" y="28"/>
                  </a:lnTo>
                  <a:lnTo>
                    <a:pt x="1307" y="24"/>
                  </a:lnTo>
                  <a:lnTo>
                    <a:pt x="1341" y="14"/>
                  </a:lnTo>
                  <a:lnTo>
                    <a:pt x="1379" y="14"/>
                  </a:lnTo>
                  <a:lnTo>
                    <a:pt x="1408" y="9"/>
                  </a:lnTo>
                  <a:lnTo>
                    <a:pt x="1436" y="9"/>
                  </a:lnTo>
                  <a:lnTo>
                    <a:pt x="1465" y="5"/>
                  </a:lnTo>
                  <a:lnTo>
                    <a:pt x="1489" y="5"/>
                  </a:lnTo>
                  <a:lnTo>
                    <a:pt x="1508" y="0"/>
                  </a:lnTo>
                  <a:lnTo>
                    <a:pt x="1527" y="0"/>
                  </a:lnTo>
                  <a:lnTo>
                    <a:pt x="1542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"/>
            <p:cNvSpPr/>
            <p:nvPr/>
          </p:nvSpPr>
          <p:spPr>
            <a:xfrm>
              <a:off x="4841640" y="3511440"/>
              <a:ext cx="191160" cy="1233720"/>
            </a:xfrm>
            <a:custGeom>
              <a:avLst/>
              <a:gdLst/>
              <a:ahLst/>
              <a:rect l="l" t="t" r="r" b="b"/>
              <a:pathLst>
                <a:path w="158" h="1020">
                  <a:moveTo>
                    <a:pt x="19" y="76"/>
                  </a:moveTo>
                  <a:lnTo>
                    <a:pt x="9" y="5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4"/>
                  </a:lnTo>
                  <a:lnTo>
                    <a:pt x="100" y="9"/>
                  </a:lnTo>
                  <a:lnTo>
                    <a:pt x="124" y="19"/>
                  </a:lnTo>
                  <a:lnTo>
                    <a:pt x="139" y="33"/>
                  </a:lnTo>
                  <a:lnTo>
                    <a:pt x="148" y="38"/>
                  </a:lnTo>
                  <a:lnTo>
                    <a:pt x="153" y="48"/>
                  </a:lnTo>
                  <a:lnTo>
                    <a:pt x="158" y="57"/>
                  </a:lnTo>
                  <a:lnTo>
                    <a:pt x="158" y="67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91"/>
                  </a:lnTo>
                  <a:lnTo>
                    <a:pt x="153" y="100"/>
                  </a:lnTo>
                  <a:lnTo>
                    <a:pt x="153" y="115"/>
                  </a:lnTo>
                  <a:lnTo>
                    <a:pt x="153" y="129"/>
                  </a:lnTo>
                  <a:lnTo>
                    <a:pt x="148" y="148"/>
                  </a:lnTo>
                  <a:lnTo>
                    <a:pt x="148" y="172"/>
                  </a:lnTo>
                  <a:lnTo>
                    <a:pt x="148" y="191"/>
                  </a:lnTo>
                  <a:lnTo>
                    <a:pt x="143" y="220"/>
                  </a:lnTo>
                  <a:lnTo>
                    <a:pt x="143" y="249"/>
                  </a:lnTo>
                  <a:lnTo>
                    <a:pt x="143" y="282"/>
                  </a:lnTo>
                  <a:lnTo>
                    <a:pt x="143" y="316"/>
                  </a:lnTo>
                  <a:lnTo>
                    <a:pt x="143" y="354"/>
                  </a:lnTo>
                  <a:lnTo>
                    <a:pt x="139" y="392"/>
                  </a:lnTo>
                  <a:lnTo>
                    <a:pt x="139" y="436"/>
                  </a:lnTo>
                  <a:lnTo>
                    <a:pt x="139" y="483"/>
                  </a:lnTo>
                  <a:lnTo>
                    <a:pt x="139" y="531"/>
                  </a:lnTo>
                  <a:lnTo>
                    <a:pt x="139" y="579"/>
                  </a:lnTo>
                  <a:lnTo>
                    <a:pt x="139" y="627"/>
                  </a:lnTo>
                  <a:lnTo>
                    <a:pt x="139" y="670"/>
                  </a:lnTo>
                  <a:lnTo>
                    <a:pt x="139" y="709"/>
                  </a:lnTo>
                  <a:lnTo>
                    <a:pt x="139" y="747"/>
                  </a:lnTo>
                  <a:lnTo>
                    <a:pt x="139" y="780"/>
                  </a:lnTo>
                  <a:lnTo>
                    <a:pt x="134" y="814"/>
                  </a:lnTo>
                  <a:lnTo>
                    <a:pt x="134" y="843"/>
                  </a:lnTo>
                  <a:lnTo>
                    <a:pt x="134" y="867"/>
                  </a:lnTo>
                  <a:lnTo>
                    <a:pt x="134" y="891"/>
                  </a:lnTo>
                  <a:lnTo>
                    <a:pt x="129" y="914"/>
                  </a:lnTo>
                  <a:lnTo>
                    <a:pt x="129" y="934"/>
                  </a:lnTo>
                  <a:lnTo>
                    <a:pt x="129" y="948"/>
                  </a:lnTo>
                  <a:lnTo>
                    <a:pt x="124" y="962"/>
                  </a:lnTo>
                  <a:lnTo>
                    <a:pt x="124" y="972"/>
                  </a:lnTo>
                  <a:lnTo>
                    <a:pt x="124" y="977"/>
                  </a:lnTo>
                  <a:lnTo>
                    <a:pt x="110" y="996"/>
                  </a:lnTo>
                  <a:lnTo>
                    <a:pt x="100" y="1010"/>
                  </a:lnTo>
                  <a:lnTo>
                    <a:pt x="91" y="1015"/>
                  </a:lnTo>
                  <a:lnTo>
                    <a:pt x="86" y="1020"/>
                  </a:lnTo>
                  <a:lnTo>
                    <a:pt x="81" y="1020"/>
                  </a:lnTo>
                  <a:lnTo>
                    <a:pt x="76" y="1020"/>
                  </a:lnTo>
                  <a:lnTo>
                    <a:pt x="72" y="1015"/>
                  </a:lnTo>
                  <a:lnTo>
                    <a:pt x="67" y="1010"/>
                  </a:lnTo>
                  <a:lnTo>
                    <a:pt x="62" y="1001"/>
                  </a:lnTo>
                  <a:lnTo>
                    <a:pt x="57" y="991"/>
                  </a:lnTo>
                  <a:lnTo>
                    <a:pt x="48" y="977"/>
                  </a:lnTo>
                  <a:lnTo>
                    <a:pt x="43" y="958"/>
                  </a:lnTo>
                  <a:lnTo>
                    <a:pt x="38" y="938"/>
                  </a:lnTo>
                  <a:lnTo>
                    <a:pt x="28" y="914"/>
                  </a:lnTo>
                  <a:lnTo>
                    <a:pt x="24" y="895"/>
                  </a:lnTo>
                  <a:lnTo>
                    <a:pt x="19" y="876"/>
                  </a:lnTo>
                  <a:lnTo>
                    <a:pt x="14" y="857"/>
                  </a:lnTo>
                  <a:lnTo>
                    <a:pt x="14" y="838"/>
                  </a:lnTo>
                  <a:lnTo>
                    <a:pt x="14" y="819"/>
                  </a:lnTo>
                  <a:lnTo>
                    <a:pt x="14" y="800"/>
                  </a:lnTo>
                  <a:lnTo>
                    <a:pt x="19" y="780"/>
                  </a:lnTo>
                  <a:lnTo>
                    <a:pt x="24" y="761"/>
                  </a:lnTo>
                  <a:lnTo>
                    <a:pt x="28" y="742"/>
                  </a:lnTo>
                  <a:lnTo>
                    <a:pt x="33" y="723"/>
                  </a:lnTo>
                  <a:lnTo>
                    <a:pt x="38" y="699"/>
                  </a:lnTo>
                  <a:lnTo>
                    <a:pt x="43" y="670"/>
                  </a:lnTo>
                  <a:lnTo>
                    <a:pt x="48" y="637"/>
                  </a:lnTo>
                  <a:lnTo>
                    <a:pt x="48" y="603"/>
                  </a:lnTo>
                  <a:lnTo>
                    <a:pt x="52" y="565"/>
                  </a:lnTo>
                  <a:lnTo>
                    <a:pt x="57" y="488"/>
                  </a:lnTo>
                  <a:lnTo>
                    <a:pt x="62" y="416"/>
                  </a:lnTo>
                  <a:lnTo>
                    <a:pt x="62" y="335"/>
                  </a:lnTo>
                  <a:lnTo>
                    <a:pt x="62" y="258"/>
                  </a:lnTo>
                  <a:lnTo>
                    <a:pt x="57" y="220"/>
                  </a:lnTo>
                  <a:lnTo>
                    <a:pt x="57" y="191"/>
                  </a:lnTo>
                  <a:lnTo>
                    <a:pt x="52" y="163"/>
                  </a:lnTo>
                  <a:lnTo>
                    <a:pt x="48" y="139"/>
                  </a:lnTo>
                  <a:lnTo>
                    <a:pt x="43" y="119"/>
                  </a:lnTo>
                  <a:lnTo>
                    <a:pt x="33" y="100"/>
                  </a:lnTo>
                  <a:lnTo>
                    <a:pt x="28" y="86"/>
                  </a:lnTo>
                  <a:lnTo>
                    <a:pt x="19" y="7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"/>
            <p:cNvSpPr/>
            <p:nvPr/>
          </p:nvSpPr>
          <p:spPr>
            <a:xfrm>
              <a:off x="3966120" y="3754440"/>
              <a:ext cx="990360" cy="793440"/>
            </a:xfrm>
            <a:custGeom>
              <a:avLst/>
              <a:gdLst/>
              <a:ahLst/>
              <a:rect l="l" t="t" r="r" b="b"/>
              <a:pathLst>
                <a:path w="819" h="656">
                  <a:moveTo>
                    <a:pt x="374" y="469"/>
                  </a:moveTo>
                  <a:lnTo>
                    <a:pt x="312" y="508"/>
                  </a:lnTo>
                  <a:lnTo>
                    <a:pt x="250" y="541"/>
                  </a:lnTo>
                  <a:lnTo>
                    <a:pt x="192" y="575"/>
                  </a:lnTo>
                  <a:lnTo>
                    <a:pt x="130" y="613"/>
                  </a:lnTo>
                  <a:lnTo>
                    <a:pt x="101" y="627"/>
                  </a:lnTo>
                  <a:lnTo>
                    <a:pt x="77" y="637"/>
                  </a:lnTo>
                  <a:lnTo>
                    <a:pt x="58" y="646"/>
                  </a:lnTo>
                  <a:lnTo>
                    <a:pt x="39" y="651"/>
                  </a:lnTo>
                  <a:lnTo>
                    <a:pt x="24" y="656"/>
                  </a:lnTo>
                  <a:lnTo>
                    <a:pt x="15" y="656"/>
                  </a:lnTo>
                  <a:lnTo>
                    <a:pt x="5" y="656"/>
                  </a:lnTo>
                  <a:lnTo>
                    <a:pt x="0" y="656"/>
                  </a:lnTo>
                  <a:lnTo>
                    <a:pt x="0" y="651"/>
                  </a:lnTo>
                  <a:lnTo>
                    <a:pt x="0" y="642"/>
                  </a:lnTo>
                  <a:lnTo>
                    <a:pt x="5" y="637"/>
                  </a:lnTo>
                  <a:lnTo>
                    <a:pt x="15" y="627"/>
                  </a:lnTo>
                  <a:lnTo>
                    <a:pt x="29" y="613"/>
                  </a:lnTo>
                  <a:lnTo>
                    <a:pt x="48" y="599"/>
                  </a:lnTo>
                  <a:lnTo>
                    <a:pt x="68" y="584"/>
                  </a:lnTo>
                  <a:lnTo>
                    <a:pt x="96" y="570"/>
                  </a:lnTo>
                  <a:lnTo>
                    <a:pt x="149" y="536"/>
                  </a:lnTo>
                  <a:lnTo>
                    <a:pt x="197" y="503"/>
                  </a:lnTo>
                  <a:lnTo>
                    <a:pt x="250" y="464"/>
                  </a:lnTo>
                  <a:lnTo>
                    <a:pt x="293" y="421"/>
                  </a:lnTo>
                  <a:lnTo>
                    <a:pt x="307" y="412"/>
                  </a:lnTo>
                  <a:lnTo>
                    <a:pt x="321" y="397"/>
                  </a:lnTo>
                  <a:lnTo>
                    <a:pt x="336" y="383"/>
                  </a:lnTo>
                  <a:lnTo>
                    <a:pt x="355" y="369"/>
                  </a:lnTo>
                  <a:lnTo>
                    <a:pt x="374" y="349"/>
                  </a:lnTo>
                  <a:lnTo>
                    <a:pt x="393" y="326"/>
                  </a:lnTo>
                  <a:lnTo>
                    <a:pt x="412" y="306"/>
                  </a:lnTo>
                  <a:lnTo>
                    <a:pt x="436" y="278"/>
                  </a:lnTo>
                  <a:lnTo>
                    <a:pt x="465" y="254"/>
                  </a:lnTo>
                  <a:lnTo>
                    <a:pt x="494" y="220"/>
                  </a:lnTo>
                  <a:lnTo>
                    <a:pt x="523" y="191"/>
                  </a:lnTo>
                  <a:lnTo>
                    <a:pt x="551" y="158"/>
                  </a:lnTo>
                  <a:lnTo>
                    <a:pt x="585" y="120"/>
                  </a:lnTo>
                  <a:lnTo>
                    <a:pt x="618" y="81"/>
                  </a:lnTo>
                  <a:lnTo>
                    <a:pt x="652" y="43"/>
                  </a:lnTo>
                  <a:lnTo>
                    <a:pt x="690" y="0"/>
                  </a:lnTo>
                  <a:lnTo>
                    <a:pt x="757" y="14"/>
                  </a:lnTo>
                  <a:lnTo>
                    <a:pt x="819" y="33"/>
                  </a:lnTo>
                  <a:lnTo>
                    <a:pt x="781" y="76"/>
                  </a:lnTo>
                  <a:lnTo>
                    <a:pt x="743" y="120"/>
                  </a:lnTo>
                  <a:lnTo>
                    <a:pt x="705" y="158"/>
                  </a:lnTo>
                  <a:lnTo>
                    <a:pt x="671" y="196"/>
                  </a:lnTo>
                  <a:lnTo>
                    <a:pt x="637" y="230"/>
                  </a:lnTo>
                  <a:lnTo>
                    <a:pt x="604" y="263"/>
                  </a:lnTo>
                  <a:lnTo>
                    <a:pt x="575" y="292"/>
                  </a:lnTo>
                  <a:lnTo>
                    <a:pt x="546" y="321"/>
                  </a:lnTo>
                  <a:lnTo>
                    <a:pt x="518" y="345"/>
                  </a:lnTo>
                  <a:lnTo>
                    <a:pt x="494" y="369"/>
                  </a:lnTo>
                  <a:lnTo>
                    <a:pt x="465" y="393"/>
                  </a:lnTo>
                  <a:lnTo>
                    <a:pt x="446" y="412"/>
                  </a:lnTo>
                  <a:lnTo>
                    <a:pt x="422" y="431"/>
                  </a:lnTo>
                  <a:lnTo>
                    <a:pt x="403" y="445"/>
                  </a:lnTo>
                  <a:lnTo>
                    <a:pt x="388" y="460"/>
                  </a:lnTo>
                  <a:lnTo>
                    <a:pt x="374" y="46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>
              <a:off x="4939560" y="3742560"/>
              <a:ext cx="1268640" cy="759600"/>
            </a:xfrm>
            <a:custGeom>
              <a:avLst/>
              <a:gdLst/>
              <a:ahLst/>
              <a:rect l="l" t="t" r="r" b="b"/>
              <a:pathLst>
                <a:path w="1049" h="628">
                  <a:moveTo>
                    <a:pt x="24" y="0"/>
                  </a:moveTo>
                  <a:lnTo>
                    <a:pt x="53" y="29"/>
                  </a:lnTo>
                  <a:lnTo>
                    <a:pt x="86" y="58"/>
                  </a:lnTo>
                  <a:lnTo>
                    <a:pt x="125" y="86"/>
                  </a:lnTo>
                  <a:lnTo>
                    <a:pt x="158" y="115"/>
                  </a:lnTo>
                  <a:lnTo>
                    <a:pt x="201" y="144"/>
                  </a:lnTo>
                  <a:lnTo>
                    <a:pt x="244" y="173"/>
                  </a:lnTo>
                  <a:lnTo>
                    <a:pt x="288" y="201"/>
                  </a:lnTo>
                  <a:lnTo>
                    <a:pt x="335" y="230"/>
                  </a:lnTo>
                  <a:lnTo>
                    <a:pt x="383" y="268"/>
                  </a:lnTo>
                  <a:lnTo>
                    <a:pt x="431" y="297"/>
                  </a:lnTo>
                  <a:lnTo>
                    <a:pt x="484" y="326"/>
                  </a:lnTo>
                  <a:lnTo>
                    <a:pt x="537" y="355"/>
                  </a:lnTo>
                  <a:lnTo>
                    <a:pt x="594" y="383"/>
                  </a:lnTo>
                  <a:lnTo>
                    <a:pt x="656" y="407"/>
                  </a:lnTo>
                  <a:lnTo>
                    <a:pt x="719" y="431"/>
                  </a:lnTo>
                  <a:lnTo>
                    <a:pt x="786" y="455"/>
                  </a:lnTo>
                  <a:lnTo>
                    <a:pt x="814" y="470"/>
                  </a:lnTo>
                  <a:lnTo>
                    <a:pt x="848" y="479"/>
                  </a:lnTo>
                  <a:lnTo>
                    <a:pt x="877" y="489"/>
                  </a:lnTo>
                  <a:lnTo>
                    <a:pt x="901" y="498"/>
                  </a:lnTo>
                  <a:lnTo>
                    <a:pt x="925" y="508"/>
                  </a:lnTo>
                  <a:lnTo>
                    <a:pt x="948" y="518"/>
                  </a:lnTo>
                  <a:lnTo>
                    <a:pt x="968" y="527"/>
                  </a:lnTo>
                  <a:lnTo>
                    <a:pt x="987" y="532"/>
                  </a:lnTo>
                  <a:lnTo>
                    <a:pt x="1001" y="537"/>
                  </a:lnTo>
                  <a:lnTo>
                    <a:pt x="1016" y="546"/>
                  </a:lnTo>
                  <a:lnTo>
                    <a:pt x="1025" y="551"/>
                  </a:lnTo>
                  <a:lnTo>
                    <a:pt x="1035" y="551"/>
                  </a:lnTo>
                  <a:lnTo>
                    <a:pt x="1044" y="556"/>
                  </a:lnTo>
                  <a:lnTo>
                    <a:pt x="1049" y="561"/>
                  </a:lnTo>
                  <a:lnTo>
                    <a:pt x="1049" y="565"/>
                  </a:lnTo>
                  <a:lnTo>
                    <a:pt x="1044" y="570"/>
                  </a:lnTo>
                  <a:lnTo>
                    <a:pt x="1039" y="570"/>
                  </a:lnTo>
                  <a:lnTo>
                    <a:pt x="1035" y="575"/>
                  </a:lnTo>
                  <a:lnTo>
                    <a:pt x="1030" y="575"/>
                  </a:lnTo>
                  <a:lnTo>
                    <a:pt x="1020" y="580"/>
                  </a:lnTo>
                  <a:lnTo>
                    <a:pt x="1011" y="580"/>
                  </a:lnTo>
                  <a:lnTo>
                    <a:pt x="1001" y="585"/>
                  </a:lnTo>
                  <a:lnTo>
                    <a:pt x="992" y="589"/>
                  </a:lnTo>
                  <a:lnTo>
                    <a:pt x="977" y="589"/>
                  </a:lnTo>
                  <a:lnTo>
                    <a:pt x="963" y="594"/>
                  </a:lnTo>
                  <a:lnTo>
                    <a:pt x="948" y="594"/>
                  </a:lnTo>
                  <a:lnTo>
                    <a:pt x="934" y="599"/>
                  </a:lnTo>
                  <a:lnTo>
                    <a:pt x="915" y="604"/>
                  </a:lnTo>
                  <a:lnTo>
                    <a:pt x="896" y="604"/>
                  </a:lnTo>
                  <a:lnTo>
                    <a:pt x="857" y="613"/>
                  </a:lnTo>
                  <a:lnTo>
                    <a:pt x="819" y="618"/>
                  </a:lnTo>
                  <a:lnTo>
                    <a:pt x="786" y="623"/>
                  </a:lnTo>
                  <a:lnTo>
                    <a:pt x="752" y="623"/>
                  </a:lnTo>
                  <a:lnTo>
                    <a:pt x="723" y="623"/>
                  </a:lnTo>
                  <a:lnTo>
                    <a:pt x="699" y="628"/>
                  </a:lnTo>
                  <a:lnTo>
                    <a:pt x="675" y="623"/>
                  </a:lnTo>
                  <a:lnTo>
                    <a:pt x="656" y="623"/>
                  </a:lnTo>
                  <a:lnTo>
                    <a:pt x="632" y="618"/>
                  </a:lnTo>
                  <a:lnTo>
                    <a:pt x="604" y="609"/>
                  </a:lnTo>
                  <a:lnTo>
                    <a:pt x="580" y="594"/>
                  </a:lnTo>
                  <a:lnTo>
                    <a:pt x="551" y="575"/>
                  </a:lnTo>
                  <a:lnTo>
                    <a:pt x="522" y="551"/>
                  </a:lnTo>
                  <a:lnTo>
                    <a:pt x="489" y="522"/>
                  </a:lnTo>
                  <a:lnTo>
                    <a:pt x="474" y="503"/>
                  </a:lnTo>
                  <a:lnTo>
                    <a:pt x="455" y="489"/>
                  </a:lnTo>
                  <a:lnTo>
                    <a:pt x="441" y="470"/>
                  </a:lnTo>
                  <a:lnTo>
                    <a:pt x="422" y="450"/>
                  </a:lnTo>
                  <a:lnTo>
                    <a:pt x="383" y="412"/>
                  </a:lnTo>
                  <a:lnTo>
                    <a:pt x="350" y="379"/>
                  </a:lnTo>
                  <a:lnTo>
                    <a:pt x="321" y="350"/>
                  </a:lnTo>
                  <a:lnTo>
                    <a:pt x="292" y="326"/>
                  </a:lnTo>
                  <a:lnTo>
                    <a:pt x="264" y="302"/>
                  </a:lnTo>
                  <a:lnTo>
                    <a:pt x="244" y="278"/>
                  </a:lnTo>
                  <a:lnTo>
                    <a:pt x="225" y="264"/>
                  </a:lnTo>
                  <a:lnTo>
                    <a:pt x="206" y="249"/>
                  </a:lnTo>
                  <a:lnTo>
                    <a:pt x="187" y="235"/>
                  </a:lnTo>
                  <a:lnTo>
                    <a:pt x="168" y="216"/>
                  </a:lnTo>
                  <a:lnTo>
                    <a:pt x="144" y="197"/>
                  </a:lnTo>
                  <a:lnTo>
                    <a:pt x="120" y="173"/>
                  </a:lnTo>
                  <a:lnTo>
                    <a:pt x="96" y="149"/>
                  </a:lnTo>
                  <a:lnTo>
                    <a:pt x="62" y="120"/>
                  </a:lnTo>
                  <a:lnTo>
                    <a:pt x="34" y="86"/>
                  </a:lnTo>
                  <a:lnTo>
                    <a:pt x="0" y="48"/>
                  </a:lnTo>
                  <a:lnTo>
                    <a:pt x="24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>
              <a:off x="4528440" y="2606760"/>
              <a:ext cx="701280" cy="956880"/>
            </a:xfrm>
            <a:custGeom>
              <a:avLst/>
              <a:gdLst/>
              <a:ahLst/>
              <a:rect l="l" t="t" r="r" b="b"/>
              <a:pathLst>
                <a:path w="580" h="791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5" y="772"/>
                  </a:lnTo>
                  <a:lnTo>
                    <a:pt x="14" y="762"/>
                  </a:lnTo>
                  <a:lnTo>
                    <a:pt x="29" y="748"/>
                  </a:lnTo>
                  <a:lnTo>
                    <a:pt x="43" y="733"/>
                  </a:lnTo>
                  <a:lnTo>
                    <a:pt x="58" y="719"/>
                  </a:lnTo>
                  <a:lnTo>
                    <a:pt x="81" y="700"/>
                  </a:lnTo>
                  <a:lnTo>
                    <a:pt x="101" y="681"/>
                  </a:lnTo>
                  <a:lnTo>
                    <a:pt x="125" y="661"/>
                  </a:lnTo>
                  <a:lnTo>
                    <a:pt x="149" y="637"/>
                  </a:lnTo>
                  <a:lnTo>
                    <a:pt x="172" y="614"/>
                  </a:lnTo>
                  <a:lnTo>
                    <a:pt x="196" y="585"/>
                  </a:lnTo>
                  <a:lnTo>
                    <a:pt x="220" y="556"/>
                  </a:lnTo>
                  <a:lnTo>
                    <a:pt x="244" y="523"/>
                  </a:lnTo>
                  <a:lnTo>
                    <a:pt x="268" y="489"/>
                  </a:lnTo>
                  <a:lnTo>
                    <a:pt x="292" y="455"/>
                  </a:lnTo>
                  <a:lnTo>
                    <a:pt x="316" y="422"/>
                  </a:lnTo>
                  <a:lnTo>
                    <a:pt x="340" y="393"/>
                  </a:lnTo>
                  <a:lnTo>
                    <a:pt x="359" y="360"/>
                  </a:lnTo>
                  <a:lnTo>
                    <a:pt x="378" y="326"/>
                  </a:lnTo>
                  <a:lnTo>
                    <a:pt x="393" y="293"/>
                  </a:lnTo>
                  <a:lnTo>
                    <a:pt x="407" y="259"/>
                  </a:lnTo>
                  <a:lnTo>
                    <a:pt x="417" y="226"/>
                  </a:lnTo>
                  <a:lnTo>
                    <a:pt x="426" y="192"/>
                  </a:lnTo>
                  <a:lnTo>
                    <a:pt x="431" y="159"/>
                  </a:lnTo>
                  <a:lnTo>
                    <a:pt x="436" y="130"/>
                  </a:lnTo>
                  <a:lnTo>
                    <a:pt x="441" y="101"/>
                  </a:lnTo>
                  <a:lnTo>
                    <a:pt x="446" y="72"/>
                  </a:lnTo>
                  <a:lnTo>
                    <a:pt x="446" y="48"/>
                  </a:lnTo>
                  <a:lnTo>
                    <a:pt x="446" y="24"/>
                  </a:lnTo>
                  <a:lnTo>
                    <a:pt x="441" y="0"/>
                  </a:lnTo>
                  <a:lnTo>
                    <a:pt x="474" y="20"/>
                  </a:lnTo>
                  <a:lnTo>
                    <a:pt x="503" y="34"/>
                  </a:lnTo>
                  <a:lnTo>
                    <a:pt x="527" y="44"/>
                  </a:lnTo>
                  <a:lnTo>
                    <a:pt x="546" y="58"/>
                  </a:lnTo>
                  <a:lnTo>
                    <a:pt x="560" y="72"/>
                  </a:lnTo>
                  <a:lnTo>
                    <a:pt x="570" y="82"/>
                  </a:lnTo>
                  <a:lnTo>
                    <a:pt x="580" y="91"/>
                  </a:lnTo>
                  <a:lnTo>
                    <a:pt x="580" y="101"/>
                  </a:lnTo>
                  <a:lnTo>
                    <a:pt x="580" y="111"/>
                  </a:lnTo>
                  <a:lnTo>
                    <a:pt x="575" y="125"/>
                  </a:lnTo>
                  <a:lnTo>
                    <a:pt x="575" y="139"/>
                  </a:lnTo>
                  <a:lnTo>
                    <a:pt x="565" y="159"/>
                  </a:lnTo>
                  <a:lnTo>
                    <a:pt x="560" y="182"/>
                  </a:lnTo>
                  <a:lnTo>
                    <a:pt x="551" y="206"/>
                  </a:lnTo>
                  <a:lnTo>
                    <a:pt x="541" y="235"/>
                  </a:lnTo>
                  <a:lnTo>
                    <a:pt x="527" y="269"/>
                  </a:lnTo>
                  <a:lnTo>
                    <a:pt x="513" y="302"/>
                  </a:lnTo>
                  <a:lnTo>
                    <a:pt x="493" y="336"/>
                  </a:lnTo>
                  <a:lnTo>
                    <a:pt x="474" y="369"/>
                  </a:lnTo>
                  <a:lnTo>
                    <a:pt x="455" y="403"/>
                  </a:lnTo>
                  <a:lnTo>
                    <a:pt x="431" y="436"/>
                  </a:lnTo>
                  <a:lnTo>
                    <a:pt x="407" y="470"/>
                  </a:lnTo>
                  <a:lnTo>
                    <a:pt x="383" y="503"/>
                  </a:lnTo>
                  <a:lnTo>
                    <a:pt x="354" y="532"/>
                  </a:lnTo>
                  <a:lnTo>
                    <a:pt x="326" y="566"/>
                  </a:lnTo>
                  <a:lnTo>
                    <a:pt x="297" y="594"/>
                  </a:lnTo>
                  <a:lnTo>
                    <a:pt x="273" y="618"/>
                  </a:lnTo>
                  <a:lnTo>
                    <a:pt x="244" y="647"/>
                  </a:lnTo>
                  <a:lnTo>
                    <a:pt x="216" y="671"/>
                  </a:lnTo>
                  <a:lnTo>
                    <a:pt x="187" y="690"/>
                  </a:lnTo>
                  <a:lnTo>
                    <a:pt x="158" y="714"/>
                  </a:lnTo>
                  <a:lnTo>
                    <a:pt x="129" y="733"/>
                  </a:lnTo>
                  <a:lnTo>
                    <a:pt x="105" y="748"/>
                  </a:lnTo>
                  <a:lnTo>
                    <a:pt x="81" y="762"/>
                  </a:lnTo>
                  <a:lnTo>
                    <a:pt x="58" y="776"/>
                  </a:lnTo>
                  <a:lnTo>
                    <a:pt x="43" y="781"/>
                  </a:lnTo>
                  <a:lnTo>
                    <a:pt x="24" y="791"/>
                  </a:lnTo>
                  <a:lnTo>
                    <a:pt x="14" y="791"/>
                  </a:lnTo>
                  <a:lnTo>
                    <a:pt x="5" y="791"/>
                  </a:lnTo>
                  <a:lnTo>
                    <a:pt x="0" y="791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4227480" y="2450520"/>
              <a:ext cx="307080" cy="23184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86" y="115"/>
                  </a:moveTo>
                  <a:lnTo>
                    <a:pt x="67" y="96"/>
                  </a:lnTo>
                  <a:lnTo>
                    <a:pt x="48" y="77"/>
                  </a:lnTo>
                  <a:lnTo>
                    <a:pt x="34" y="62"/>
                  </a:lnTo>
                  <a:lnTo>
                    <a:pt x="19" y="48"/>
                  </a:lnTo>
                  <a:lnTo>
                    <a:pt x="14" y="3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" y="0"/>
                  </a:lnTo>
                  <a:lnTo>
                    <a:pt x="72" y="5"/>
                  </a:lnTo>
                  <a:lnTo>
                    <a:pt x="110" y="10"/>
                  </a:lnTo>
                  <a:lnTo>
                    <a:pt x="148" y="15"/>
                  </a:lnTo>
                  <a:lnTo>
                    <a:pt x="177" y="24"/>
                  </a:lnTo>
                  <a:lnTo>
                    <a:pt x="192" y="29"/>
                  </a:lnTo>
                  <a:lnTo>
                    <a:pt x="206" y="34"/>
                  </a:lnTo>
                  <a:lnTo>
                    <a:pt x="216" y="38"/>
                  </a:lnTo>
                  <a:lnTo>
                    <a:pt x="225" y="48"/>
                  </a:lnTo>
                  <a:lnTo>
                    <a:pt x="235" y="58"/>
                  </a:lnTo>
                  <a:lnTo>
                    <a:pt x="244" y="62"/>
                  </a:lnTo>
                  <a:lnTo>
                    <a:pt x="249" y="77"/>
                  </a:lnTo>
                  <a:lnTo>
                    <a:pt x="254" y="86"/>
                  </a:lnTo>
                  <a:lnTo>
                    <a:pt x="254" y="96"/>
                  </a:lnTo>
                  <a:lnTo>
                    <a:pt x="254" y="106"/>
                  </a:lnTo>
                  <a:lnTo>
                    <a:pt x="254" y="129"/>
                  </a:lnTo>
                  <a:lnTo>
                    <a:pt x="249" y="149"/>
                  </a:lnTo>
                  <a:lnTo>
                    <a:pt x="244" y="158"/>
                  </a:lnTo>
                  <a:lnTo>
                    <a:pt x="239" y="168"/>
                  </a:lnTo>
                  <a:lnTo>
                    <a:pt x="230" y="177"/>
                  </a:lnTo>
                  <a:lnTo>
                    <a:pt x="225" y="182"/>
                  </a:lnTo>
                  <a:lnTo>
                    <a:pt x="220" y="187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87"/>
                  </a:lnTo>
                  <a:lnTo>
                    <a:pt x="192" y="187"/>
                  </a:lnTo>
                  <a:lnTo>
                    <a:pt x="182" y="187"/>
                  </a:lnTo>
                  <a:lnTo>
                    <a:pt x="172" y="177"/>
                  </a:lnTo>
                  <a:lnTo>
                    <a:pt x="158" y="173"/>
                  </a:lnTo>
                  <a:lnTo>
                    <a:pt x="144" y="158"/>
                  </a:lnTo>
                  <a:lnTo>
                    <a:pt x="129" y="149"/>
                  </a:lnTo>
                  <a:lnTo>
                    <a:pt x="110" y="134"/>
                  </a:lnTo>
                  <a:lnTo>
                    <a:pt x="86" y="115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7"/>
            <p:cNvSpPr/>
            <p:nvPr/>
          </p:nvSpPr>
          <p:spPr>
            <a:xfrm>
              <a:off x="4094280" y="2781000"/>
              <a:ext cx="271800" cy="219960"/>
            </a:xfrm>
            <a:custGeom>
              <a:avLst/>
              <a:gdLst/>
              <a:ahLst/>
              <a:rect l="l" t="t" r="r" b="b"/>
              <a:pathLst>
                <a:path w="225" h="182">
                  <a:moveTo>
                    <a:pt x="144" y="24"/>
                  </a:moveTo>
                  <a:lnTo>
                    <a:pt x="163" y="29"/>
                  </a:lnTo>
                  <a:lnTo>
                    <a:pt x="172" y="38"/>
                  </a:lnTo>
                  <a:lnTo>
                    <a:pt x="187" y="48"/>
                  </a:lnTo>
                  <a:lnTo>
                    <a:pt x="196" y="53"/>
                  </a:lnTo>
                  <a:lnTo>
                    <a:pt x="206" y="62"/>
                  </a:lnTo>
                  <a:lnTo>
                    <a:pt x="215" y="72"/>
                  </a:lnTo>
                  <a:lnTo>
                    <a:pt x="220" y="82"/>
                  </a:lnTo>
                  <a:lnTo>
                    <a:pt x="225" y="91"/>
                  </a:lnTo>
                  <a:lnTo>
                    <a:pt x="225" y="101"/>
                  </a:lnTo>
                  <a:lnTo>
                    <a:pt x="225" y="115"/>
                  </a:lnTo>
                  <a:lnTo>
                    <a:pt x="225" y="134"/>
                  </a:lnTo>
                  <a:lnTo>
                    <a:pt x="225" y="139"/>
                  </a:lnTo>
                  <a:lnTo>
                    <a:pt x="220" y="149"/>
                  </a:lnTo>
                  <a:lnTo>
                    <a:pt x="215" y="153"/>
                  </a:lnTo>
                  <a:lnTo>
                    <a:pt x="215" y="158"/>
                  </a:lnTo>
                  <a:lnTo>
                    <a:pt x="201" y="168"/>
                  </a:lnTo>
                  <a:lnTo>
                    <a:pt x="191" y="177"/>
                  </a:lnTo>
                  <a:lnTo>
                    <a:pt x="177" y="182"/>
                  </a:lnTo>
                  <a:lnTo>
                    <a:pt x="172" y="182"/>
                  </a:lnTo>
                  <a:lnTo>
                    <a:pt x="167" y="182"/>
                  </a:lnTo>
                  <a:lnTo>
                    <a:pt x="158" y="177"/>
                  </a:lnTo>
                  <a:lnTo>
                    <a:pt x="148" y="173"/>
                  </a:lnTo>
                  <a:lnTo>
                    <a:pt x="139" y="163"/>
                  </a:lnTo>
                  <a:lnTo>
                    <a:pt x="124" y="153"/>
                  </a:lnTo>
                  <a:lnTo>
                    <a:pt x="110" y="144"/>
                  </a:lnTo>
                  <a:lnTo>
                    <a:pt x="96" y="129"/>
                  </a:lnTo>
                  <a:lnTo>
                    <a:pt x="76" y="115"/>
                  </a:lnTo>
                  <a:lnTo>
                    <a:pt x="57" y="101"/>
                  </a:lnTo>
                  <a:lnTo>
                    <a:pt x="43" y="86"/>
                  </a:lnTo>
                  <a:lnTo>
                    <a:pt x="29" y="67"/>
                  </a:lnTo>
                  <a:lnTo>
                    <a:pt x="19" y="53"/>
                  </a:lnTo>
                  <a:lnTo>
                    <a:pt x="9" y="38"/>
                  </a:lnTo>
                  <a:lnTo>
                    <a:pt x="5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81" y="5"/>
                  </a:lnTo>
                  <a:lnTo>
                    <a:pt x="100" y="10"/>
                  </a:lnTo>
                  <a:lnTo>
                    <a:pt x="115" y="15"/>
                  </a:lnTo>
                  <a:lnTo>
                    <a:pt x="129" y="19"/>
                  </a:lnTo>
                  <a:lnTo>
                    <a:pt x="144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4667760" y="2787120"/>
              <a:ext cx="185040" cy="352800"/>
            </a:xfrm>
            <a:custGeom>
              <a:avLst/>
              <a:gdLst/>
              <a:ahLst/>
              <a:rect l="l" t="t" r="r" b="b"/>
              <a:pathLst>
                <a:path w="153" h="292">
                  <a:moveTo>
                    <a:pt x="110" y="0"/>
                  </a:moveTo>
                  <a:lnTo>
                    <a:pt x="129" y="24"/>
                  </a:lnTo>
                  <a:lnTo>
                    <a:pt x="134" y="33"/>
                  </a:lnTo>
                  <a:lnTo>
                    <a:pt x="144" y="43"/>
                  </a:lnTo>
                  <a:lnTo>
                    <a:pt x="148" y="57"/>
                  </a:lnTo>
                  <a:lnTo>
                    <a:pt x="153" y="67"/>
                  </a:lnTo>
                  <a:lnTo>
                    <a:pt x="153" y="81"/>
                  </a:lnTo>
                  <a:lnTo>
                    <a:pt x="153" y="96"/>
                  </a:lnTo>
                  <a:lnTo>
                    <a:pt x="153" y="105"/>
                  </a:lnTo>
                  <a:lnTo>
                    <a:pt x="153" y="120"/>
                  </a:lnTo>
                  <a:lnTo>
                    <a:pt x="148" y="134"/>
                  </a:lnTo>
                  <a:lnTo>
                    <a:pt x="144" y="148"/>
                  </a:lnTo>
                  <a:lnTo>
                    <a:pt x="129" y="182"/>
                  </a:lnTo>
                  <a:lnTo>
                    <a:pt x="110" y="220"/>
                  </a:lnTo>
                  <a:lnTo>
                    <a:pt x="101" y="235"/>
                  </a:lnTo>
                  <a:lnTo>
                    <a:pt x="91" y="249"/>
                  </a:lnTo>
                  <a:lnTo>
                    <a:pt x="81" y="263"/>
                  </a:lnTo>
                  <a:lnTo>
                    <a:pt x="77" y="273"/>
                  </a:lnTo>
                  <a:lnTo>
                    <a:pt x="67" y="283"/>
                  </a:lnTo>
                  <a:lnTo>
                    <a:pt x="62" y="287"/>
                  </a:lnTo>
                  <a:lnTo>
                    <a:pt x="53" y="292"/>
                  </a:lnTo>
                  <a:lnTo>
                    <a:pt x="43" y="292"/>
                  </a:lnTo>
                  <a:lnTo>
                    <a:pt x="38" y="287"/>
                  </a:lnTo>
                  <a:lnTo>
                    <a:pt x="34" y="287"/>
                  </a:lnTo>
                  <a:lnTo>
                    <a:pt x="29" y="283"/>
                  </a:lnTo>
                  <a:lnTo>
                    <a:pt x="24" y="268"/>
                  </a:lnTo>
                  <a:lnTo>
                    <a:pt x="14" y="249"/>
                  </a:lnTo>
                  <a:lnTo>
                    <a:pt x="10" y="235"/>
                  </a:lnTo>
                  <a:lnTo>
                    <a:pt x="5" y="215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10" y="172"/>
                  </a:lnTo>
                  <a:lnTo>
                    <a:pt x="19" y="168"/>
                  </a:lnTo>
                  <a:lnTo>
                    <a:pt x="24" y="158"/>
                  </a:lnTo>
                  <a:lnTo>
                    <a:pt x="34" y="153"/>
                  </a:lnTo>
                  <a:lnTo>
                    <a:pt x="38" y="144"/>
                  </a:lnTo>
                  <a:lnTo>
                    <a:pt x="48" y="134"/>
                  </a:lnTo>
                  <a:lnTo>
                    <a:pt x="57" y="120"/>
                  </a:lnTo>
                  <a:lnTo>
                    <a:pt x="67" y="101"/>
                  </a:lnTo>
                  <a:lnTo>
                    <a:pt x="77" y="81"/>
                  </a:lnTo>
                  <a:lnTo>
                    <a:pt x="86" y="57"/>
                  </a:lnTo>
                  <a:lnTo>
                    <a:pt x="101" y="33"/>
                  </a:lnTo>
                  <a:lnTo>
                    <a:pt x="110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4117320" y="2990160"/>
              <a:ext cx="469080" cy="583920"/>
            </a:xfrm>
            <a:custGeom>
              <a:avLst/>
              <a:gdLst/>
              <a:ahLst/>
              <a:rect l="l" t="t" r="r" b="b"/>
              <a:pathLst>
                <a:path w="388" h="483">
                  <a:moveTo>
                    <a:pt x="91" y="483"/>
                  </a:moveTo>
                  <a:lnTo>
                    <a:pt x="86" y="483"/>
                  </a:lnTo>
                  <a:lnTo>
                    <a:pt x="77" y="479"/>
                  </a:lnTo>
                  <a:lnTo>
                    <a:pt x="72" y="474"/>
                  </a:lnTo>
                  <a:lnTo>
                    <a:pt x="62" y="464"/>
                  </a:lnTo>
                  <a:lnTo>
                    <a:pt x="57" y="455"/>
                  </a:lnTo>
                  <a:lnTo>
                    <a:pt x="48" y="435"/>
                  </a:lnTo>
                  <a:lnTo>
                    <a:pt x="38" y="421"/>
                  </a:lnTo>
                  <a:lnTo>
                    <a:pt x="34" y="397"/>
                  </a:lnTo>
                  <a:lnTo>
                    <a:pt x="24" y="378"/>
                  </a:lnTo>
                  <a:lnTo>
                    <a:pt x="14" y="359"/>
                  </a:lnTo>
                  <a:lnTo>
                    <a:pt x="10" y="344"/>
                  </a:lnTo>
                  <a:lnTo>
                    <a:pt x="5" y="330"/>
                  </a:lnTo>
                  <a:lnTo>
                    <a:pt x="5" y="316"/>
                  </a:lnTo>
                  <a:lnTo>
                    <a:pt x="0" y="306"/>
                  </a:lnTo>
                  <a:lnTo>
                    <a:pt x="5" y="297"/>
                  </a:lnTo>
                  <a:lnTo>
                    <a:pt x="5" y="292"/>
                  </a:lnTo>
                  <a:lnTo>
                    <a:pt x="10" y="282"/>
                  </a:lnTo>
                  <a:lnTo>
                    <a:pt x="19" y="277"/>
                  </a:lnTo>
                  <a:lnTo>
                    <a:pt x="29" y="277"/>
                  </a:lnTo>
                  <a:lnTo>
                    <a:pt x="38" y="273"/>
                  </a:lnTo>
                  <a:lnTo>
                    <a:pt x="48" y="277"/>
                  </a:lnTo>
                  <a:lnTo>
                    <a:pt x="53" y="277"/>
                  </a:lnTo>
                  <a:lnTo>
                    <a:pt x="67" y="277"/>
                  </a:lnTo>
                  <a:lnTo>
                    <a:pt x="77" y="273"/>
                  </a:lnTo>
                  <a:lnTo>
                    <a:pt x="91" y="268"/>
                  </a:lnTo>
                  <a:lnTo>
                    <a:pt x="96" y="263"/>
                  </a:lnTo>
                  <a:lnTo>
                    <a:pt x="105" y="253"/>
                  </a:lnTo>
                  <a:lnTo>
                    <a:pt x="120" y="244"/>
                  </a:lnTo>
                  <a:lnTo>
                    <a:pt x="134" y="225"/>
                  </a:lnTo>
                  <a:lnTo>
                    <a:pt x="158" y="206"/>
                  </a:lnTo>
                  <a:lnTo>
                    <a:pt x="182" y="186"/>
                  </a:lnTo>
                  <a:lnTo>
                    <a:pt x="206" y="158"/>
                  </a:lnTo>
                  <a:lnTo>
                    <a:pt x="220" y="143"/>
                  </a:lnTo>
                  <a:lnTo>
                    <a:pt x="239" y="124"/>
                  </a:lnTo>
                  <a:lnTo>
                    <a:pt x="254" y="110"/>
                  </a:lnTo>
                  <a:lnTo>
                    <a:pt x="268" y="91"/>
                  </a:lnTo>
                  <a:lnTo>
                    <a:pt x="297" y="67"/>
                  </a:lnTo>
                  <a:lnTo>
                    <a:pt x="321" y="43"/>
                  </a:lnTo>
                  <a:lnTo>
                    <a:pt x="340" y="24"/>
                  </a:lnTo>
                  <a:lnTo>
                    <a:pt x="359" y="14"/>
                  </a:lnTo>
                  <a:lnTo>
                    <a:pt x="369" y="4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4"/>
                  </a:lnTo>
                  <a:lnTo>
                    <a:pt x="388" y="9"/>
                  </a:lnTo>
                  <a:lnTo>
                    <a:pt x="383" y="14"/>
                  </a:lnTo>
                  <a:lnTo>
                    <a:pt x="383" y="19"/>
                  </a:lnTo>
                  <a:lnTo>
                    <a:pt x="378" y="28"/>
                  </a:lnTo>
                  <a:lnTo>
                    <a:pt x="374" y="43"/>
                  </a:lnTo>
                  <a:lnTo>
                    <a:pt x="369" y="52"/>
                  </a:lnTo>
                  <a:lnTo>
                    <a:pt x="364" y="67"/>
                  </a:lnTo>
                  <a:lnTo>
                    <a:pt x="354" y="81"/>
                  </a:lnTo>
                  <a:lnTo>
                    <a:pt x="345" y="100"/>
                  </a:lnTo>
                  <a:lnTo>
                    <a:pt x="335" y="119"/>
                  </a:lnTo>
                  <a:lnTo>
                    <a:pt x="326" y="143"/>
                  </a:lnTo>
                  <a:lnTo>
                    <a:pt x="311" y="162"/>
                  </a:lnTo>
                  <a:lnTo>
                    <a:pt x="297" y="186"/>
                  </a:lnTo>
                  <a:lnTo>
                    <a:pt x="283" y="215"/>
                  </a:lnTo>
                  <a:lnTo>
                    <a:pt x="263" y="239"/>
                  </a:lnTo>
                  <a:lnTo>
                    <a:pt x="249" y="268"/>
                  </a:lnTo>
                  <a:lnTo>
                    <a:pt x="230" y="297"/>
                  </a:lnTo>
                  <a:lnTo>
                    <a:pt x="216" y="320"/>
                  </a:lnTo>
                  <a:lnTo>
                    <a:pt x="201" y="344"/>
                  </a:lnTo>
                  <a:lnTo>
                    <a:pt x="187" y="364"/>
                  </a:lnTo>
                  <a:lnTo>
                    <a:pt x="172" y="383"/>
                  </a:lnTo>
                  <a:lnTo>
                    <a:pt x="163" y="402"/>
                  </a:lnTo>
                  <a:lnTo>
                    <a:pt x="148" y="416"/>
                  </a:lnTo>
                  <a:lnTo>
                    <a:pt x="139" y="431"/>
                  </a:lnTo>
                  <a:lnTo>
                    <a:pt x="129" y="445"/>
                  </a:lnTo>
                  <a:lnTo>
                    <a:pt x="120" y="455"/>
                  </a:lnTo>
                  <a:lnTo>
                    <a:pt x="115" y="464"/>
                  </a:lnTo>
                  <a:lnTo>
                    <a:pt x="105" y="469"/>
                  </a:lnTo>
                  <a:lnTo>
                    <a:pt x="101" y="474"/>
                  </a:lnTo>
                  <a:lnTo>
                    <a:pt x="96" y="479"/>
                  </a:lnTo>
                  <a:lnTo>
                    <a:pt x="91" y="483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3352680" y="2286000"/>
          <a:ext cx="3124080" cy="266688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 rot="5400000">
            <a:off x="-457560" y="2514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2590920" y="1295280"/>
            <a:ext cx="4952880" cy="4605480"/>
            <a:chOff x="2590920" y="1295280"/>
            <a:chExt cx="4952880" cy="4605480"/>
          </a:xfrm>
        </p:grpSpPr>
        <p:sp>
          <p:nvSpPr>
            <p:cNvPr id="144" name="AutoShape 6"/>
            <p:cNvSpPr/>
            <p:nvPr/>
          </p:nvSpPr>
          <p:spPr>
            <a:xfrm>
              <a:off x="2590920" y="1295280"/>
              <a:ext cx="4952880" cy="46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3890880" y="2466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"/>
            <p:cNvSpPr/>
            <p:nvPr/>
          </p:nvSpPr>
          <p:spPr>
            <a:xfrm>
              <a:off x="3909240" y="2439720"/>
              <a:ext cx="2298960" cy="2305800"/>
            </a:xfrm>
            <a:custGeom>
              <a:avLst/>
              <a:gdLst/>
              <a:ahLst/>
              <a:rect l="l" t="t" r="r" b="b"/>
              <a:pathLst>
                <a:path w="1901" h="1906">
                  <a:moveTo>
                    <a:pt x="1135" y="704"/>
                  </a:moveTo>
                  <a:lnTo>
                    <a:pt x="1140" y="704"/>
                  </a:lnTo>
                  <a:lnTo>
                    <a:pt x="1144" y="699"/>
                  </a:lnTo>
                  <a:lnTo>
                    <a:pt x="1149" y="694"/>
                  </a:lnTo>
                  <a:lnTo>
                    <a:pt x="1154" y="689"/>
                  </a:lnTo>
                  <a:lnTo>
                    <a:pt x="1159" y="680"/>
                  </a:lnTo>
                  <a:lnTo>
                    <a:pt x="1163" y="670"/>
                  </a:lnTo>
                  <a:lnTo>
                    <a:pt x="1173" y="661"/>
                  </a:lnTo>
                  <a:lnTo>
                    <a:pt x="1178" y="651"/>
                  </a:lnTo>
                  <a:lnTo>
                    <a:pt x="1183" y="637"/>
                  </a:lnTo>
                  <a:lnTo>
                    <a:pt x="1187" y="622"/>
                  </a:lnTo>
                  <a:lnTo>
                    <a:pt x="1197" y="608"/>
                  </a:lnTo>
                  <a:lnTo>
                    <a:pt x="1202" y="589"/>
                  </a:lnTo>
                  <a:lnTo>
                    <a:pt x="1207" y="574"/>
                  </a:lnTo>
                  <a:lnTo>
                    <a:pt x="1216" y="555"/>
                  </a:lnTo>
                  <a:lnTo>
                    <a:pt x="1231" y="512"/>
                  </a:lnTo>
                  <a:lnTo>
                    <a:pt x="1245" y="474"/>
                  </a:lnTo>
                  <a:lnTo>
                    <a:pt x="1259" y="435"/>
                  </a:lnTo>
                  <a:lnTo>
                    <a:pt x="1269" y="397"/>
                  </a:lnTo>
                  <a:lnTo>
                    <a:pt x="1278" y="364"/>
                  </a:lnTo>
                  <a:lnTo>
                    <a:pt x="1283" y="335"/>
                  </a:lnTo>
                  <a:lnTo>
                    <a:pt x="1293" y="301"/>
                  </a:lnTo>
                  <a:lnTo>
                    <a:pt x="1298" y="273"/>
                  </a:lnTo>
                  <a:lnTo>
                    <a:pt x="1298" y="249"/>
                  </a:lnTo>
                  <a:lnTo>
                    <a:pt x="1302" y="225"/>
                  </a:lnTo>
                  <a:lnTo>
                    <a:pt x="1302" y="206"/>
                  </a:lnTo>
                  <a:lnTo>
                    <a:pt x="1302" y="191"/>
                  </a:lnTo>
                  <a:lnTo>
                    <a:pt x="1302" y="172"/>
                  </a:lnTo>
                  <a:lnTo>
                    <a:pt x="1298" y="162"/>
                  </a:lnTo>
                  <a:lnTo>
                    <a:pt x="1298" y="148"/>
                  </a:lnTo>
                  <a:lnTo>
                    <a:pt x="1293" y="138"/>
                  </a:lnTo>
                  <a:lnTo>
                    <a:pt x="1293" y="134"/>
                  </a:lnTo>
                  <a:lnTo>
                    <a:pt x="1283" y="124"/>
                  </a:lnTo>
                  <a:lnTo>
                    <a:pt x="1274" y="119"/>
                  </a:lnTo>
                  <a:lnTo>
                    <a:pt x="1254" y="115"/>
                  </a:lnTo>
                  <a:lnTo>
                    <a:pt x="1240" y="115"/>
                  </a:lnTo>
                  <a:lnTo>
                    <a:pt x="1231" y="115"/>
                  </a:lnTo>
                  <a:lnTo>
                    <a:pt x="1216" y="115"/>
                  </a:lnTo>
                  <a:lnTo>
                    <a:pt x="1202" y="119"/>
                  </a:lnTo>
                  <a:lnTo>
                    <a:pt x="1183" y="119"/>
                  </a:lnTo>
                  <a:lnTo>
                    <a:pt x="1163" y="124"/>
                  </a:lnTo>
                  <a:lnTo>
                    <a:pt x="1144" y="129"/>
                  </a:lnTo>
                  <a:lnTo>
                    <a:pt x="1120" y="134"/>
                  </a:lnTo>
                  <a:lnTo>
                    <a:pt x="1092" y="138"/>
                  </a:lnTo>
                  <a:lnTo>
                    <a:pt x="1034" y="153"/>
                  </a:lnTo>
                  <a:lnTo>
                    <a:pt x="1010" y="158"/>
                  </a:lnTo>
                  <a:lnTo>
                    <a:pt x="981" y="162"/>
                  </a:lnTo>
                  <a:lnTo>
                    <a:pt x="958" y="167"/>
                  </a:lnTo>
                  <a:lnTo>
                    <a:pt x="934" y="172"/>
                  </a:lnTo>
                  <a:lnTo>
                    <a:pt x="914" y="177"/>
                  </a:lnTo>
                  <a:lnTo>
                    <a:pt x="895" y="182"/>
                  </a:lnTo>
                  <a:lnTo>
                    <a:pt x="876" y="186"/>
                  </a:lnTo>
                  <a:lnTo>
                    <a:pt x="857" y="191"/>
                  </a:lnTo>
                  <a:lnTo>
                    <a:pt x="838" y="191"/>
                  </a:lnTo>
                  <a:lnTo>
                    <a:pt x="823" y="196"/>
                  </a:lnTo>
                  <a:lnTo>
                    <a:pt x="809" y="191"/>
                  </a:lnTo>
                  <a:lnTo>
                    <a:pt x="795" y="191"/>
                  </a:lnTo>
                  <a:lnTo>
                    <a:pt x="785" y="186"/>
                  </a:lnTo>
                  <a:lnTo>
                    <a:pt x="771" y="182"/>
                  </a:lnTo>
                  <a:lnTo>
                    <a:pt x="761" y="177"/>
                  </a:lnTo>
                  <a:lnTo>
                    <a:pt x="752" y="172"/>
                  </a:lnTo>
                  <a:lnTo>
                    <a:pt x="742" y="167"/>
                  </a:lnTo>
                  <a:lnTo>
                    <a:pt x="732" y="162"/>
                  </a:lnTo>
                  <a:lnTo>
                    <a:pt x="728" y="158"/>
                  </a:lnTo>
                  <a:lnTo>
                    <a:pt x="723" y="153"/>
                  </a:lnTo>
                  <a:lnTo>
                    <a:pt x="723" y="148"/>
                  </a:lnTo>
                  <a:lnTo>
                    <a:pt x="723" y="138"/>
                  </a:lnTo>
                  <a:lnTo>
                    <a:pt x="728" y="138"/>
                  </a:lnTo>
                  <a:lnTo>
                    <a:pt x="732" y="138"/>
                  </a:lnTo>
                  <a:lnTo>
                    <a:pt x="742" y="138"/>
                  </a:lnTo>
                  <a:lnTo>
                    <a:pt x="756" y="138"/>
                  </a:lnTo>
                  <a:lnTo>
                    <a:pt x="766" y="134"/>
                  </a:lnTo>
                  <a:lnTo>
                    <a:pt x="780" y="134"/>
                  </a:lnTo>
                  <a:lnTo>
                    <a:pt x="799" y="129"/>
                  </a:lnTo>
                  <a:lnTo>
                    <a:pt x="814" y="129"/>
                  </a:lnTo>
                  <a:lnTo>
                    <a:pt x="833" y="124"/>
                  </a:lnTo>
                  <a:lnTo>
                    <a:pt x="857" y="119"/>
                  </a:lnTo>
                  <a:lnTo>
                    <a:pt x="881" y="115"/>
                  </a:lnTo>
                  <a:lnTo>
                    <a:pt x="905" y="110"/>
                  </a:lnTo>
                  <a:lnTo>
                    <a:pt x="929" y="105"/>
                  </a:lnTo>
                  <a:lnTo>
                    <a:pt x="958" y="95"/>
                  </a:lnTo>
                  <a:lnTo>
                    <a:pt x="986" y="91"/>
                  </a:lnTo>
                  <a:lnTo>
                    <a:pt x="1015" y="81"/>
                  </a:lnTo>
                  <a:lnTo>
                    <a:pt x="1044" y="76"/>
                  </a:lnTo>
                  <a:lnTo>
                    <a:pt x="1072" y="71"/>
                  </a:lnTo>
                  <a:lnTo>
                    <a:pt x="1096" y="62"/>
                  </a:lnTo>
                  <a:lnTo>
                    <a:pt x="1125" y="57"/>
                  </a:lnTo>
                  <a:lnTo>
                    <a:pt x="1144" y="52"/>
                  </a:lnTo>
                  <a:lnTo>
                    <a:pt x="1168" y="47"/>
                  </a:lnTo>
                  <a:lnTo>
                    <a:pt x="1187" y="43"/>
                  </a:lnTo>
                  <a:lnTo>
                    <a:pt x="1202" y="38"/>
                  </a:lnTo>
                  <a:lnTo>
                    <a:pt x="1216" y="33"/>
                  </a:lnTo>
                  <a:lnTo>
                    <a:pt x="1231" y="33"/>
                  </a:lnTo>
                  <a:lnTo>
                    <a:pt x="1240" y="28"/>
                  </a:lnTo>
                  <a:lnTo>
                    <a:pt x="1254" y="24"/>
                  </a:lnTo>
                  <a:lnTo>
                    <a:pt x="1259" y="24"/>
                  </a:lnTo>
                  <a:lnTo>
                    <a:pt x="1264" y="19"/>
                  </a:lnTo>
                  <a:lnTo>
                    <a:pt x="1269" y="19"/>
                  </a:lnTo>
                  <a:lnTo>
                    <a:pt x="1274" y="14"/>
                  </a:lnTo>
                  <a:lnTo>
                    <a:pt x="1283" y="9"/>
                  </a:lnTo>
                  <a:lnTo>
                    <a:pt x="1293" y="4"/>
                  </a:lnTo>
                  <a:lnTo>
                    <a:pt x="1302" y="0"/>
                  </a:lnTo>
                  <a:lnTo>
                    <a:pt x="1317" y="0"/>
                  </a:lnTo>
                  <a:lnTo>
                    <a:pt x="1322" y="0"/>
                  </a:lnTo>
                  <a:lnTo>
                    <a:pt x="1326" y="4"/>
                  </a:lnTo>
                  <a:lnTo>
                    <a:pt x="1336" y="4"/>
                  </a:lnTo>
                  <a:lnTo>
                    <a:pt x="1350" y="9"/>
                  </a:lnTo>
                  <a:lnTo>
                    <a:pt x="1365" y="19"/>
                  </a:lnTo>
                  <a:lnTo>
                    <a:pt x="1379" y="28"/>
                  </a:lnTo>
                  <a:lnTo>
                    <a:pt x="1398" y="38"/>
                  </a:lnTo>
                  <a:lnTo>
                    <a:pt x="1422" y="47"/>
                  </a:lnTo>
                  <a:lnTo>
                    <a:pt x="1436" y="62"/>
                  </a:lnTo>
                  <a:lnTo>
                    <a:pt x="1456" y="71"/>
                  </a:lnTo>
                  <a:lnTo>
                    <a:pt x="1465" y="81"/>
                  </a:lnTo>
                  <a:lnTo>
                    <a:pt x="1480" y="91"/>
                  </a:lnTo>
                  <a:lnTo>
                    <a:pt x="1484" y="100"/>
                  </a:lnTo>
                  <a:lnTo>
                    <a:pt x="1494" y="105"/>
                  </a:lnTo>
                  <a:lnTo>
                    <a:pt x="1499" y="110"/>
                  </a:lnTo>
                  <a:lnTo>
                    <a:pt x="1499" y="115"/>
                  </a:lnTo>
                  <a:lnTo>
                    <a:pt x="1494" y="124"/>
                  </a:lnTo>
                  <a:lnTo>
                    <a:pt x="1489" y="134"/>
                  </a:lnTo>
                  <a:lnTo>
                    <a:pt x="1484" y="143"/>
                  </a:lnTo>
                  <a:lnTo>
                    <a:pt x="1470" y="148"/>
                  </a:lnTo>
                  <a:lnTo>
                    <a:pt x="1460" y="153"/>
                  </a:lnTo>
                  <a:lnTo>
                    <a:pt x="1456" y="162"/>
                  </a:lnTo>
                  <a:lnTo>
                    <a:pt x="1451" y="172"/>
                  </a:lnTo>
                  <a:lnTo>
                    <a:pt x="1446" y="186"/>
                  </a:lnTo>
                  <a:lnTo>
                    <a:pt x="1441" y="201"/>
                  </a:lnTo>
                  <a:lnTo>
                    <a:pt x="1436" y="220"/>
                  </a:lnTo>
                  <a:lnTo>
                    <a:pt x="1432" y="239"/>
                  </a:lnTo>
                  <a:lnTo>
                    <a:pt x="1427" y="263"/>
                  </a:lnTo>
                  <a:lnTo>
                    <a:pt x="1422" y="292"/>
                  </a:lnTo>
                  <a:lnTo>
                    <a:pt x="1417" y="320"/>
                  </a:lnTo>
                  <a:lnTo>
                    <a:pt x="1408" y="354"/>
                  </a:lnTo>
                  <a:lnTo>
                    <a:pt x="1398" y="388"/>
                  </a:lnTo>
                  <a:lnTo>
                    <a:pt x="1384" y="431"/>
                  </a:lnTo>
                  <a:lnTo>
                    <a:pt x="1374" y="474"/>
                  </a:lnTo>
                  <a:lnTo>
                    <a:pt x="1360" y="522"/>
                  </a:lnTo>
                  <a:lnTo>
                    <a:pt x="1341" y="570"/>
                  </a:lnTo>
                  <a:lnTo>
                    <a:pt x="1336" y="598"/>
                  </a:lnTo>
                  <a:lnTo>
                    <a:pt x="1326" y="622"/>
                  </a:lnTo>
                  <a:lnTo>
                    <a:pt x="1317" y="646"/>
                  </a:lnTo>
                  <a:lnTo>
                    <a:pt x="1312" y="665"/>
                  </a:lnTo>
                  <a:lnTo>
                    <a:pt x="1302" y="689"/>
                  </a:lnTo>
                  <a:lnTo>
                    <a:pt x="1293" y="708"/>
                  </a:lnTo>
                  <a:lnTo>
                    <a:pt x="1288" y="728"/>
                  </a:lnTo>
                  <a:lnTo>
                    <a:pt x="1278" y="747"/>
                  </a:lnTo>
                  <a:lnTo>
                    <a:pt x="1269" y="761"/>
                  </a:lnTo>
                  <a:lnTo>
                    <a:pt x="1264" y="775"/>
                  </a:lnTo>
                  <a:lnTo>
                    <a:pt x="1254" y="790"/>
                  </a:lnTo>
                  <a:lnTo>
                    <a:pt x="1250" y="799"/>
                  </a:lnTo>
                  <a:lnTo>
                    <a:pt x="1240" y="814"/>
                  </a:lnTo>
                  <a:lnTo>
                    <a:pt x="1235" y="823"/>
                  </a:lnTo>
                  <a:lnTo>
                    <a:pt x="1226" y="828"/>
                  </a:lnTo>
                  <a:lnTo>
                    <a:pt x="1221" y="838"/>
                  </a:lnTo>
                  <a:lnTo>
                    <a:pt x="1207" y="852"/>
                  </a:lnTo>
                  <a:lnTo>
                    <a:pt x="1192" y="862"/>
                  </a:lnTo>
                  <a:lnTo>
                    <a:pt x="1178" y="871"/>
                  </a:lnTo>
                  <a:lnTo>
                    <a:pt x="1168" y="881"/>
                  </a:lnTo>
                  <a:lnTo>
                    <a:pt x="1159" y="886"/>
                  </a:lnTo>
                  <a:lnTo>
                    <a:pt x="1149" y="890"/>
                  </a:lnTo>
                  <a:lnTo>
                    <a:pt x="1144" y="895"/>
                  </a:lnTo>
                  <a:lnTo>
                    <a:pt x="1135" y="895"/>
                  </a:lnTo>
                  <a:lnTo>
                    <a:pt x="1130" y="895"/>
                  </a:lnTo>
                  <a:lnTo>
                    <a:pt x="1125" y="890"/>
                  </a:lnTo>
                  <a:lnTo>
                    <a:pt x="1120" y="886"/>
                  </a:lnTo>
                  <a:lnTo>
                    <a:pt x="1116" y="881"/>
                  </a:lnTo>
                  <a:lnTo>
                    <a:pt x="1111" y="876"/>
                  </a:lnTo>
                  <a:lnTo>
                    <a:pt x="1106" y="866"/>
                  </a:lnTo>
                  <a:lnTo>
                    <a:pt x="1106" y="857"/>
                  </a:lnTo>
                  <a:lnTo>
                    <a:pt x="1101" y="847"/>
                  </a:lnTo>
                  <a:lnTo>
                    <a:pt x="1096" y="833"/>
                  </a:lnTo>
                  <a:lnTo>
                    <a:pt x="1092" y="819"/>
                  </a:lnTo>
                  <a:lnTo>
                    <a:pt x="1087" y="804"/>
                  </a:lnTo>
                  <a:lnTo>
                    <a:pt x="1077" y="790"/>
                  </a:lnTo>
                  <a:lnTo>
                    <a:pt x="1068" y="775"/>
                  </a:lnTo>
                  <a:lnTo>
                    <a:pt x="1058" y="756"/>
                  </a:lnTo>
                  <a:lnTo>
                    <a:pt x="1049" y="737"/>
                  </a:lnTo>
                  <a:lnTo>
                    <a:pt x="1029" y="723"/>
                  </a:lnTo>
                  <a:lnTo>
                    <a:pt x="1015" y="704"/>
                  </a:lnTo>
                  <a:lnTo>
                    <a:pt x="1005" y="694"/>
                  </a:lnTo>
                  <a:lnTo>
                    <a:pt x="996" y="680"/>
                  </a:lnTo>
                  <a:lnTo>
                    <a:pt x="991" y="670"/>
                  </a:lnTo>
                  <a:lnTo>
                    <a:pt x="986" y="661"/>
                  </a:lnTo>
                  <a:lnTo>
                    <a:pt x="986" y="656"/>
                  </a:lnTo>
                  <a:lnTo>
                    <a:pt x="986" y="651"/>
                  </a:lnTo>
                  <a:lnTo>
                    <a:pt x="986" y="646"/>
                  </a:lnTo>
                  <a:lnTo>
                    <a:pt x="991" y="646"/>
                  </a:lnTo>
                  <a:lnTo>
                    <a:pt x="996" y="646"/>
                  </a:lnTo>
                  <a:lnTo>
                    <a:pt x="1001" y="651"/>
                  </a:lnTo>
                  <a:lnTo>
                    <a:pt x="1010" y="651"/>
                  </a:lnTo>
                  <a:lnTo>
                    <a:pt x="1020" y="656"/>
                  </a:lnTo>
                  <a:lnTo>
                    <a:pt x="1029" y="665"/>
                  </a:lnTo>
                  <a:lnTo>
                    <a:pt x="1044" y="670"/>
                  </a:lnTo>
                  <a:lnTo>
                    <a:pt x="1058" y="680"/>
                  </a:lnTo>
                  <a:lnTo>
                    <a:pt x="1068" y="689"/>
                  </a:lnTo>
                  <a:lnTo>
                    <a:pt x="1082" y="694"/>
                  </a:lnTo>
                  <a:lnTo>
                    <a:pt x="1092" y="699"/>
                  </a:lnTo>
                  <a:lnTo>
                    <a:pt x="1101" y="704"/>
                  </a:lnTo>
                  <a:lnTo>
                    <a:pt x="1111" y="708"/>
                  </a:lnTo>
                  <a:lnTo>
                    <a:pt x="1120" y="708"/>
                  </a:lnTo>
                  <a:lnTo>
                    <a:pt x="1130" y="708"/>
                  </a:lnTo>
                  <a:lnTo>
                    <a:pt x="1135" y="704"/>
                  </a:lnTo>
                  <a:close/>
                  <a:moveTo>
                    <a:pt x="1551" y="421"/>
                  </a:moveTo>
                  <a:lnTo>
                    <a:pt x="1571" y="431"/>
                  </a:lnTo>
                  <a:lnTo>
                    <a:pt x="1590" y="435"/>
                  </a:lnTo>
                  <a:lnTo>
                    <a:pt x="1604" y="440"/>
                  </a:lnTo>
                  <a:lnTo>
                    <a:pt x="1618" y="445"/>
                  </a:lnTo>
                  <a:lnTo>
                    <a:pt x="1633" y="455"/>
                  </a:lnTo>
                  <a:lnTo>
                    <a:pt x="1642" y="459"/>
                  </a:lnTo>
                  <a:lnTo>
                    <a:pt x="1647" y="464"/>
                  </a:lnTo>
                  <a:lnTo>
                    <a:pt x="1652" y="474"/>
                  </a:lnTo>
                  <a:lnTo>
                    <a:pt x="1657" y="488"/>
                  </a:lnTo>
                  <a:lnTo>
                    <a:pt x="1662" y="502"/>
                  </a:lnTo>
                  <a:lnTo>
                    <a:pt x="1662" y="522"/>
                  </a:lnTo>
                  <a:lnTo>
                    <a:pt x="1662" y="536"/>
                  </a:lnTo>
                  <a:lnTo>
                    <a:pt x="1662" y="546"/>
                  </a:lnTo>
                  <a:lnTo>
                    <a:pt x="1657" y="555"/>
                  </a:lnTo>
                  <a:lnTo>
                    <a:pt x="1657" y="560"/>
                  </a:lnTo>
                  <a:lnTo>
                    <a:pt x="1652" y="570"/>
                  </a:lnTo>
                  <a:lnTo>
                    <a:pt x="1642" y="574"/>
                  </a:lnTo>
                  <a:lnTo>
                    <a:pt x="1638" y="574"/>
                  </a:lnTo>
                  <a:lnTo>
                    <a:pt x="1628" y="579"/>
                  </a:lnTo>
                  <a:lnTo>
                    <a:pt x="1618" y="579"/>
                  </a:lnTo>
                  <a:lnTo>
                    <a:pt x="1614" y="579"/>
                  </a:lnTo>
                  <a:lnTo>
                    <a:pt x="1604" y="579"/>
                  </a:lnTo>
                  <a:lnTo>
                    <a:pt x="1595" y="574"/>
                  </a:lnTo>
                  <a:lnTo>
                    <a:pt x="1585" y="570"/>
                  </a:lnTo>
                  <a:lnTo>
                    <a:pt x="1575" y="565"/>
                  </a:lnTo>
                  <a:lnTo>
                    <a:pt x="1561" y="560"/>
                  </a:lnTo>
                  <a:lnTo>
                    <a:pt x="1547" y="550"/>
                  </a:lnTo>
                  <a:lnTo>
                    <a:pt x="1527" y="541"/>
                  </a:lnTo>
                  <a:lnTo>
                    <a:pt x="1508" y="531"/>
                  </a:lnTo>
                  <a:lnTo>
                    <a:pt x="1489" y="522"/>
                  </a:lnTo>
                  <a:lnTo>
                    <a:pt x="1470" y="507"/>
                  </a:lnTo>
                  <a:lnTo>
                    <a:pt x="1446" y="498"/>
                  </a:lnTo>
                  <a:lnTo>
                    <a:pt x="1422" y="483"/>
                  </a:lnTo>
                  <a:lnTo>
                    <a:pt x="1398" y="464"/>
                  </a:lnTo>
                  <a:lnTo>
                    <a:pt x="1369" y="450"/>
                  </a:lnTo>
                  <a:lnTo>
                    <a:pt x="1341" y="431"/>
                  </a:lnTo>
                  <a:lnTo>
                    <a:pt x="1360" y="421"/>
                  </a:lnTo>
                  <a:lnTo>
                    <a:pt x="1379" y="411"/>
                  </a:lnTo>
                  <a:lnTo>
                    <a:pt x="1403" y="402"/>
                  </a:lnTo>
                  <a:lnTo>
                    <a:pt x="1422" y="397"/>
                  </a:lnTo>
                  <a:lnTo>
                    <a:pt x="1432" y="397"/>
                  </a:lnTo>
                  <a:lnTo>
                    <a:pt x="1441" y="397"/>
                  </a:lnTo>
                  <a:lnTo>
                    <a:pt x="1456" y="402"/>
                  </a:lnTo>
                  <a:lnTo>
                    <a:pt x="1470" y="402"/>
                  </a:lnTo>
                  <a:lnTo>
                    <a:pt x="1489" y="407"/>
                  </a:lnTo>
                  <a:lnTo>
                    <a:pt x="1508" y="411"/>
                  </a:lnTo>
                  <a:lnTo>
                    <a:pt x="1527" y="416"/>
                  </a:lnTo>
                  <a:lnTo>
                    <a:pt x="1551" y="421"/>
                  </a:lnTo>
                  <a:close/>
                  <a:moveTo>
                    <a:pt x="1542" y="953"/>
                  </a:moveTo>
                  <a:lnTo>
                    <a:pt x="1575" y="953"/>
                  </a:lnTo>
                  <a:lnTo>
                    <a:pt x="1604" y="962"/>
                  </a:lnTo>
                  <a:lnTo>
                    <a:pt x="1623" y="962"/>
                  </a:lnTo>
                  <a:lnTo>
                    <a:pt x="1638" y="972"/>
                  </a:lnTo>
                  <a:lnTo>
                    <a:pt x="1652" y="977"/>
                  </a:lnTo>
                  <a:lnTo>
                    <a:pt x="1671" y="986"/>
                  </a:lnTo>
                  <a:lnTo>
                    <a:pt x="1686" y="996"/>
                  </a:lnTo>
                  <a:lnTo>
                    <a:pt x="1700" y="1005"/>
                  </a:lnTo>
                  <a:lnTo>
                    <a:pt x="1709" y="1010"/>
                  </a:lnTo>
                  <a:lnTo>
                    <a:pt x="1724" y="1015"/>
                  </a:lnTo>
                  <a:lnTo>
                    <a:pt x="1729" y="1025"/>
                  </a:lnTo>
                  <a:lnTo>
                    <a:pt x="1738" y="1029"/>
                  </a:lnTo>
                  <a:lnTo>
                    <a:pt x="1743" y="1034"/>
                  </a:lnTo>
                  <a:lnTo>
                    <a:pt x="1748" y="1034"/>
                  </a:lnTo>
                  <a:lnTo>
                    <a:pt x="1753" y="1049"/>
                  </a:lnTo>
                  <a:lnTo>
                    <a:pt x="1753" y="1053"/>
                  </a:lnTo>
                  <a:lnTo>
                    <a:pt x="1753" y="1063"/>
                  </a:lnTo>
                  <a:lnTo>
                    <a:pt x="1748" y="1068"/>
                  </a:lnTo>
                  <a:lnTo>
                    <a:pt x="1743" y="1072"/>
                  </a:lnTo>
                  <a:lnTo>
                    <a:pt x="1733" y="1072"/>
                  </a:lnTo>
                  <a:lnTo>
                    <a:pt x="1729" y="1077"/>
                  </a:lnTo>
                  <a:lnTo>
                    <a:pt x="1719" y="1077"/>
                  </a:lnTo>
                  <a:lnTo>
                    <a:pt x="1705" y="1077"/>
                  </a:lnTo>
                  <a:lnTo>
                    <a:pt x="1690" y="1077"/>
                  </a:lnTo>
                  <a:lnTo>
                    <a:pt x="1676" y="1077"/>
                  </a:lnTo>
                  <a:lnTo>
                    <a:pt x="1662" y="1082"/>
                  </a:lnTo>
                  <a:lnTo>
                    <a:pt x="1642" y="1082"/>
                  </a:lnTo>
                  <a:lnTo>
                    <a:pt x="1618" y="1082"/>
                  </a:lnTo>
                  <a:lnTo>
                    <a:pt x="1599" y="1082"/>
                  </a:lnTo>
                  <a:lnTo>
                    <a:pt x="1575" y="1082"/>
                  </a:lnTo>
                  <a:lnTo>
                    <a:pt x="1547" y="1077"/>
                  </a:lnTo>
                  <a:lnTo>
                    <a:pt x="1518" y="1077"/>
                  </a:lnTo>
                  <a:lnTo>
                    <a:pt x="1489" y="1077"/>
                  </a:lnTo>
                  <a:lnTo>
                    <a:pt x="1427" y="1072"/>
                  </a:lnTo>
                  <a:lnTo>
                    <a:pt x="1365" y="1072"/>
                  </a:lnTo>
                  <a:lnTo>
                    <a:pt x="1245" y="1077"/>
                  </a:lnTo>
                  <a:lnTo>
                    <a:pt x="1125" y="1077"/>
                  </a:lnTo>
                  <a:lnTo>
                    <a:pt x="1005" y="1087"/>
                  </a:lnTo>
                  <a:lnTo>
                    <a:pt x="948" y="1092"/>
                  </a:lnTo>
                  <a:lnTo>
                    <a:pt x="895" y="1096"/>
                  </a:lnTo>
                  <a:lnTo>
                    <a:pt x="843" y="1106"/>
                  </a:lnTo>
                  <a:lnTo>
                    <a:pt x="790" y="1111"/>
                  </a:lnTo>
                  <a:lnTo>
                    <a:pt x="742" y="1116"/>
                  </a:lnTo>
                  <a:lnTo>
                    <a:pt x="694" y="1120"/>
                  </a:lnTo>
                  <a:lnTo>
                    <a:pt x="651" y="1125"/>
                  </a:lnTo>
                  <a:lnTo>
                    <a:pt x="608" y="1125"/>
                  </a:lnTo>
                  <a:lnTo>
                    <a:pt x="526" y="1140"/>
                  </a:lnTo>
                  <a:lnTo>
                    <a:pt x="440" y="1149"/>
                  </a:lnTo>
                  <a:lnTo>
                    <a:pt x="354" y="1159"/>
                  </a:lnTo>
                  <a:lnTo>
                    <a:pt x="273" y="1168"/>
                  </a:lnTo>
                  <a:lnTo>
                    <a:pt x="253" y="1173"/>
                  </a:lnTo>
                  <a:lnTo>
                    <a:pt x="234" y="1173"/>
                  </a:lnTo>
                  <a:lnTo>
                    <a:pt x="215" y="1178"/>
                  </a:lnTo>
                  <a:lnTo>
                    <a:pt x="196" y="1178"/>
                  </a:lnTo>
                  <a:lnTo>
                    <a:pt x="182" y="1183"/>
                  </a:lnTo>
                  <a:lnTo>
                    <a:pt x="167" y="1183"/>
                  </a:lnTo>
                  <a:lnTo>
                    <a:pt x="153" y="1187"/>
                  </a:lnTo>
                  <a:lnTo>
                    <a:pt x="143" y="1187"/>
                  </a:lnTo>
                  <a:lnTo>
                    <a:pt x="134" y="1187"/>
                  </a:lnTo>
                  <a:lnTo>
                    <a:pt x="124" y="1192"/>
                  </a:lnTo>
                  <a:lnTo>
                    <a:pt x="115" y="1192"/>
                  </a:lnTo>
                  <a:lnTo>
                    <a:pt x="105" y="1192"/>
                  </a:lnTo>
                  <a:lnTo>
                    <a:pt x="100" y="1192"/>
                  </a:lnTo>
                  <a:lnTo>
                    <a:pt x="95" y="1192"/>
                  </a:lnTo>
                  <a:lnTo>
                    <a:pt x="91" y="1192"/>
                  </a:lnTo>
                  <a:lnTo>
                    <a:pt x="86" y="1192"/>
                  </a:lnTo>
                  <a:lnTo>
                    <a:pt x="81" y="1192"/>
                  </a:lnTo>
                  <a:lnTo>
                    <a:pt x="76" y="1187"/>
                  </a:lnTo>
                  <a:lnTo>
                    <a:pt x="67" y="1187"/>
                  </a:lnTo>
                  <a:lnTo>
                    <a:pt x="57" y="1183"/>
                  </a:lnTo>
                  <a:lnTo>
                    <a:pt x="47" y="1178"/>
                  </a:lnTo>
                  <a:lnTo>
                    <a:pt x="38" y="1168"/>
                  </a:lnTo>
                  <a:lnTo>
                    <a:pt x="28" y="1159"/>
                  </a:lnTo>
                  <a:lnTo>
                    <a:pt x="24" y="1149"/>
                  </a:lnTo>
                  <a:lnTo>
                    <a:pt x="14" y="1144"/>
                  </a:lnTo>
                  <a:lnTo>
                    <a:pt x="9" y="1135"/>
                  </a:lnTo>
                  <a:lnTo>
                    <a:pt x="4" y="1130"/>
                  </a:lnTo>
                  <a:lnTo>
                    <a:pt x="4" y="1125"/>
                  </a:lnTo>
                  <a:lnTo>
                    <a:pt x="0" y="1120"/>
                  </a:lnTo>
                  <a:lnTo>
                    <a:pt x="4" y="1116"/>
                  </a:lnTo>
                  <a:lnTo>
                    <a:pt x="4" y="1111"/>
                  </a:lnTo>
                  <a:lnTo>
                    <a:pt x="9" y="1106"/>
                  </a:lnTo>
                  <a:lnTo>
                    <a:pt x="19" y="1106"/>
                  </a:lnTo>
                  <a:lnTo>
                    <a:pt x="28" y="1106"/>
                  </a:lnTo>
                  <a:lnTo>
                    <a:pt x="43" y="1101"/>
                  </a:lnTo>
                  <a:lnTo>
                    <a:pt x="62" y="1101"/>
                  </a:lnTo>
                  <a:lnTo>
                    <a:pt x="86" y="1101"/>
                  </a:lnTo>
                  <a:lnTo>
                    <a:pt x="115" y="1096"/>
                  </a:lnTo>
                  <a:lnTo>
                    <a:pt x="143" y="1092"/>
                  </a:lnTo>
                  <a:lnTo>
                    <a:pt x="177" y="1092"/>
                  </a:lnTo>
                  <a:lnTo>
                    <a:pt x="215" y="1087"/>
                  </a:lnTo>
                  <a:lnTo>
                    <a:pt x="258" y="1082"/>
                  </a:lnTo>
                  <a:lnTo>
                    <a:pt x="306" y="1082"/>
                  </a:lnTo>
                  <a:lnTo>
                    <a:pt x="354" y="1077"/>
                  </a:lnTo>
                  <a:lnTo>
                    <a:pt x="411" y="1072"/>
                  </a:lnTo>
                  <a:lnTo>
                    <a:pt x="469" y="1068"/>
                  </a:lnTo>
                  <a:lnTo>
                    <a:pt x="531" y="1063"/>
                  </a:lnTo>
                  <a:lnTo>
                    <a:pt x="651" y="1049"/>
                  </a:lnTo>
                  <a:lnTo>
                    <a:pt x="713" y="1044"/>
                  </a:lnTo>
                  <a:lnTo>
                    <a:pt x="771" y="1034"/>
                  </a:lnTo>
                  <a:lnTo>
                    <a:pt x="828" y="1029"/>
                  </a:lnTo>
                  <a:lnTo>
                    <a:pt x="881" y="1025"/>
                  </a:lnTo>
                  <a:lnTo>
                    <a:pt x="938" y="1015"/>
                  </a:lnTo>
                  <a:lnTo>
                    <a:pt x="986" y="1010"/>
                  </a:lnTo>
                  <a:lnTo>
                    <a:pt x="1039" y="1005"/>
                  </a:lnTo>
                  <a:lnTo>
                    <a:pt x="1087" y="1005"/>
                  </a:lnTo>
                  <a:lnTo>
                    <a:pt x="1135" y="1001"/>
                  </a:lnTo>
                  <a:lnTo>
                    <a:pt x="1183" y="991"/>
                  </a:lnTo>
                  <a:lnTo>
                    <a:pt x="1226" y="986"/>
                  </a:lnTo>
                  <a:lnTo>
                    <a:pt x="1264" y="981"/>
                  </a:lnTo>
                  <a:lnTo>
                    <a:pt x="1307" y="977"/>
                  </a:lnTo>
                  <a:lnTo>
                    <a:pt x="1341" y="967"/>
                  </a:lnTo>
                  <a:lnTo>
                    <a:pt x="1379" y="967"/>
                  </a:lnTo>
                  <a:lnTo>
                    <a:pt x="1408" y="962"/>
                  </a:lnTo>
                  <a:lnTo>
                    <a:pt x="1436" y="962"/>
                  </a:lnTo>
                  <a:lnTo>
                    <a:pt x="1465" y="958"/>
                  </a:lnTo>
                  <a:lnTo>
                    <a:pt x="1489" y="958"/>
                  </a:lnTo>
                  <a:lnTo>
                    <a:pt x="1508" y="953"/>
                  </a:lnTo>
                  <a:lnTo>
                    <a:pt x="1527" y="953"/>
                  </a:lnTo>
                  <a:lnTo>
                    <a:pt x="1542" y="953"/>
                  </a:lnTo>
                  <a:close/>
                  <a:moveTo>
                    <a:pt x="790" y="962"/>
                  </a:moveTo>
                  <a:lnTo>
                    <a:pt x="780" y="943"/>
                  </a:lnTo>
                  <a:lnTo>
                    <a:pt x="771" y="929"/>
                  </a:lnTo>
                  <a:lnTo>
                    <a:pt x="771" y="924"/>
                  </a:lnTo>
                  <a:lnTo>
                    <a:pt x="771" y="914"/>
                  </a:lnTo>
                  <a:lnTo>
                    <a:pt x="771" y="910"/>
                  </a:lnTo>
                  <a:lnTo>
                    <a:pt x="771" y="905"/>
                  </a:lnTo>
                  <a:lnTo>
                    <a:pt x="775" y="895"/>
                  </a:lnTo>
                  <a:lnTo>
                    <a:pt x="780" y="890"/>
                  </a:lnTo>
                  <a:lnTo>
                    <a:pt x="785" y="890"/>
                  </a:lnTo>
                  <a:lnTo>
                    <a:pt x="790" y="886"/>
                  </a:lnTo>
                  <a:lnTo>
                    <a:pt x="799" y="886"/>
                  </a:lnTo>
                  <a:lnTo>
                    <a:pt x="809" y="886"/>
                  </a:lnTo>
                  <a:lnTo>
                    <a:pt x="828" y="886"/>
                  </a:lnTo>
                  <a:lnTo>
                    <a:pt x="847" y="890"/>
                  </a:lnTo>
                  <a:lnTo>
                    <a:pt x="871" y="895"/>
                  </a:lnTo>
                  <a:lnTo>
                    <a:pt x="895" y="905"/>
                  </a:lnTo>
                  <a:lnTo>
                    <a:pt x="910" y="919"/>
                  </a:lnTo>
                  <a:lnTo>
                    <a:pt x="919" y="924"/>
                  </a:lnTo>
                  <a:lnTo>
                    <a:pt x="924" y="934"/>
                  </a:lnTo>
                  <a:lnTo>
                    <a:pt x="929" y="943"/>
                  </a:lnTo>
                  <a:lnTo>
                    <a:pt x="929" y="953"/>
                  </a:lnTo>
                  <a:lnTo>
                    <a:pt x="929" y="962"/>
                  </a:lnTo>
                  <a:lnTo>
                    <a:pt x="929" y="967"/>
                  </a:lnTo>
                  <a:lnTo>
                    <a:pt x="929" y="977"/>
                  </a:lnTo>
                  <a:lnTo>
                    <a:pt x="924" y="986"/>
                  </a:lnTo>
                  <a:lnTo>
                    <a:pt x="924" y="1001"/>
                  </a:lnTo>
                  <a:lnTo>
                    <a:pt x="924" y="1015"/>
                  </a:lnTo>
                  <a:lnTo>
                    <a:pt x="919" y="1034"/>
                  </a:lnTo>
                  <a:lnTo>
                    <a:pt x="919" y="1058"/>
                  </a:lnTo>
                  <a:lnTo>
                    <a:pt x="919" y="1077"/>
                  </a:lnTo>
                  <a:lnTo>
                    <a:pt x="914" y="1106"/>
                  </a:lnTo>
                  <a:lnTo>
                    <a:pt x="914" y="1135"/>
                  </a:lnTo>
                  <a:lnTo>
                    <a:pt x="914" y="1168"/>
                  </a:lnTo>
                  <a:lnTo>
                    <a:pt x="914" y="1202"/>
                  </a:lnTo>
                  <a:lnTo>
                    <a:pt x="914" y="1240"/>
                  </a:lnTo>
                  <a:lnTo>
                    <a:pt x="910" y="1278"/>
                  </a:lnTo>
                  <a:lnTo>
                    <a:pt x="910" y="1322"/>
                  </a:lnTo>
                  <a:lnTo>
                    <a:pt x="910" y="1369"/>
                  </a:lnTo>
                  <a:lnTo>
                    <a:pt x="910" y="1417"/>
                  </a:lnTo>
                  <a:lnTo>
                    <a:pt x="910" y="1465"/>
                  </a:lnTo>
                  <a:lnTo>
                    <a:pt x="910" y="1513"/>
                  </a:lnTo>
                  <a:lnTo>
                    <a:pt x="910" y="1556"/>
                  </a:lnTo>
                  <a:lnTo>
                    <a:pt x="910" y="1595"/>
                  </a:lnTo>
                  <a:lnTo>
                    <a:pt x="910" y="1633"/>
                  </a:lnTo>
                  <a:lnTo>
                    <a:pt x="910" y="1666"/>
                  </a:lnTo>
                  <a:lnTo>
                    <a:pt x="905" y="1700"/>
                  </a:lnTo>
                  <a:lnTo>
                    <a:pt x="905" y="1729"/>
                  </a:lnTo>
                  <a:lnTo>
                    <a:pt x="905" y="1753"/>
                  </a:lnTo>
                  <a:lnTo>
                    <a:pt x="905" y="1777"/>
                  </a:lnTo>
                  <a:lnTo>
                    <a:pt x="900" y="1800"/>
                  </a:lnTo>
                  <a:lnTo>
                    <a:pt x="900" y="1820"/>
                  </a:lnTo>
                  <a:lnTo>
                    <a:pt x="900" y="1834"/>
                  </a:lnTo>
                  <a:lnTo>
                    <a:pt x="895" y="1848"/>
                  </a:lnTo>
                  <a:lnTo>
                    <a:pt x="895" y="1858"/>
                  </a:lnTo>
                  <a:lnTo>
                    <a:pt x="895" y="1863"/>
                  </a:lnTo>
                  <a:lnTo>
                    <a:pt x="881" y="1882"/>
                  </a:lnTo>
                  <a:lnTo>
                    <a:pt x="871" y="1896"/>
                  </a:lnTo>
                  <a:lnTo>
                    <a:pt x="862" y="1901"/>
                  </a:lnTo>
                  <a:lnTo>
                    <a:pt x="857" y="1906"/>
                  </a:lnTo>
                  <a:lnTo>
                    <a:pt x="852" y="1906"/>
                  </a:lnTo>
                  <a:lnTo>
                    <a:pt x="847" y="1906"/>
                  </a:lnTo>
                  <a:lnTo>
                    <a:pt x="843" y="1901"/>
                  </a:lnTo>
                  <a:lnTo>
                    <a:pt x="838" y="1896"/>
                  </a:lnTo>
                  <a:lnTo>
                    <a:pt x="833" y="1887"/>
                  </a:lnTo>
                  <a:lnTo>
                    <a:pt x="828" y="1877"/>
                  </a:lnTo>
                  <a:lnTo>
                    <a:pt x="819" y="1863"/>
                  </a:lnTo>
                  <a:lnTo>
                    <a:pt x="814" y="1844"/>
                  </a:lnTo>
                  <a:lnTo>
                    <a:pt x="809" y="1824"/>
                  </a:lnTo>
                  <a:lnTo>
                    <a:pt x="799" y="1800"/>
                  </a:lnTo>
                  <a:lnTo>
                    <a:pt x="795" y="1781"/>
                  </a:lnTo>
                  <a:lnTo>
                    <a:pt x="790" y="1762"/>
                  </a:lnTo>
                  <a:lnTo>
                    <a:pt x="785" y="1743"/>
                  </a:lnTo>
                  <a:lnTo>
                    <a:pt x="785" y="1724"/>
                  </a:lnTo>
                  <a:lnTo>
                    <a:pt x="785" y="1705"/>
                  </a:lnTo>
                  <a:lnTo>
                    <a:pt x="785" y="1686"/>
                  </a:lnTo>
                  <a:lnTo>
                    <a:pt x="790" y="1666"/>
                  </a:lnTo>
                  <a:lnTo>
                    <a:pt x="795" y="1647"/>
                  </a:lnTo>
                  <a:lnTo>
                    <a:pt x="799" y="1628"/>
                  </a:lnTo>
                  <a:lnTo>
                    <a:pt x="804" y="1609"/>
                  </a:lnTo>
                  <a:lnTo>
                    <a:pt x="809" y="1585"/>
                  </a:lnTo>
                  <a:lnTo>
                    <a:pt x="814" y="1556"/>
                  </a:lnTo>
                  <a:lnTo>
                    <a:pt x="819" y="1523"/>
                  </a:lnTo>
                  <a:lnTo>
                    <a:pt x="819" y="1489"/>
                  </a:lnTo>
                  <a:lnTo>
                    <a:pt x="823" y="1451"/>
                  </a:lnTo>
                  <a:lnTo>
                    <a:pt x="828" y="1374"/>
                  </a:lnTo>
                  <a:lnTo>
                    <a:pt x="833" y="1302"/>
                  </a:lnTo>
                  <a:lnTo>
                    <a:pt x="833" y="1221"/>
                  </a:lnTo>
                  <a:lnTo>
                    <a:pt x="833" y="1144"/>
                  </a:lnTo>
                  <a:lnTo>
                    <a:pt x="828" y="1106"/>
                  </a:lnTo>
                  <a:lnTo>
                    <a:pt x="828" y="1077"/>
                  </a:lnTo>
                  <a:lnTo>
                    <a:pt x="823" y="1049"/>
                  </a:lnTo>
                  <a:lnTo>
                    <a:pt x="819" y="1025"/>
                  </a:lnTo>
                  <a:lnTo>
                    <a:pt x="814" y="1005"/>
                  </a:lnTo>
                  <a:lnTo>
                    <a:pt x="804" y="986"/>
                  </a:lnTo>
                  <a:lnTo>
                    <a:pt x="799" y="972"/>
                  </a:lnTo>
                  <a:lnTo>
                    <a:pt x="790" y="962"/>
                  </a:lnTo>
                  <a:close/>
                  <a:moveTo>
                    <a:pt x="421" y="1556"/>
                  </a:moveTo>
                  <a:lnTo>
                    <a:pt x="359" y="1595"/>
                  </a:lnTo>
                  <a:lnTo>
                    <a:pt x="297" y="1628"/>
                  </a:lnTo>
                  <a:lnTo>
                    <a:pt x="239" y="1662"/>
                  </a:lnTo>
                  <a:lnTo>
                    <a:pt x="177" y="1700"/>
                  </a:lnTo>
                  <a:lnTo>
                    <a:pt x="148" y="1714"/>
                  </a:lnTo>
                  <a:lnTo>
                    <a:pt x="124" y="1724"/>
                  </a:lnTo>
                  <a:lnTo>
                    <a:pt x="105" y="1733"/>
                  </a:lnTo>
                  <a:lnTo>
                    <a:pt x="86" y="1738"/>
                  </a:lnTo>
                  <a:lnTo>
                    <a:pt x="71" y="1743"/>
                  </a:lnTo>
                  <a:lnTo>
                    <a:pt x="62" y="1743"/>
                  </a:lnTo>
                  <a:lnTo>
                    <a:pt x="52" y="1743"/>
                  </a:lnTo>
                  <a:lnTo>
                    <a:pt x="47" y="1743"/>
                  </a:lnTo>
                  <a:lnTo>
                    <a:pt x="47" y="1738"/>
                  </a:lnTo>
                  <a:lnTo>
                    <a:pt x="47" y="1729"/>
                  </a:lnTo>
                  <a:lnTo>
                    <a:pt x="52" y="1724"/>
                  </a:lnTo>
                  <a:lnTo>
                    <a:pt x="62" y="1714"/>
                  </a:lnTo>
                  <a:lnTo>
                    <a:pt x="76" y="1700"/>
                  </a:lnTo>
                  <a:lnTo>
                    <a:pt x="95" y="1686"/>
                  </a:lnTo>
                  <a:lnTo>
                    <a:pt x="115" y="1671"/>
                  </a:lnTo>
                  <a:lnTo>
                    <a:pt x="143" y="1657"/>
                  </a:lnTo>
                  <a:lnTo>
                    <a:pt x="196" y="1623"/>
                  </a:lnTo>
                  <a:lnTo>
                    <a:pt x="244" y="1590"/>
                  </a:lnTo>
                  <a:lnTo>
                    <a:pt x="297" y="1551"/>
                  </a:lnTo>
                  <a:lnTo>
                    <a:pt x="340" y="1508"/>
                  </a:lnTo>
                  <a:lnTo>
                    <a:pt x="354" y="1499"/>
                  </a:lnTo>
                  <a:lnTo>
                    <a:pt x="368" y="1484"/>
                  </a:lnTo>
                  <a:lnTo>
                    <a:pt x="383" y="1470"/>
                  </a:lnTo>
                  <a:lnTo>
                    <a:pt x="402" y="1456"/>
                  </a:lnTo>
                  <a:lnTo>
                    <a:pt x="421" y="1436"/>
                  </a:lnTo>
                  <a:lnTo>
                    <a:pt x="440" y="1413"/>
                  </a:lnTo>
                  <a:lnTo>
                    <a:pt x="459" y="1393"/>
                  </a:lnTo>
                  <a:lnTo>
                    <a:pt x="483" y="1365"/>
                  </a:lnTo>
                  <a:lnTo>
                    <a:pt x="512" y="1341"/>
                  </a:lnTo>
                  <a:lnTo>
                    <a:pt x="541" y="1307"/>
                  </a:lnTo>
                  <a:lnTo>
                    <a:pt x="570" y="1278"/>
                  </a:lnTo>
                  <a:lnTo>
                    <a:pt x="598" y="1245"/>
                  </a:lnTo>
                  <a:lnTo>
                    <a:pt x="632" y="1207"/>
                  </a:lnTo>
                  <a:lnTo>
                    <a:pt x="665" y="1168"/>
                  </a:lnTo>
                  <a:lnTo>
                    <a:pt x="699" y="1130"/>
                  </a:lnTo>
                  <a:lnTo>
                    <a:pt x="737" y="1087"/>
                  </a:lnTo>
                  <a:lnTo>
                    <a:pt x="804" y="1101"/>
                  </a:lnTo>
                  <a:lnTo>
                    <a:pt x="866" y="1120"/>
                  </a:lnTo>
                  <a:lnTo>
                    <a:pt x="828" y="1163"/>
                  </a:lnTo>
                  <a:lnTo>
                    <a:pt x="790" y="1207"/>
                  </a:lnTo>
                  <a:lnTo>
                    <a:pt x="752" y="1245"/>
                  </a:lnTo>
                  <a:lnTo>
                    <a:pt x="718" y="1283"/>
                  </a:lnTo>
                  <a:lnTo>
                    <a:pt x="684" y="1317"/>
                  </a:lnTo>
                  <a:lnTo>
                    <a:pt x="651" y="1350"/>
                  </a:lnTo>
                  <a:lnTo>
                    <a:pt x="622" y="1379"/>
                  </a:lnTo>
                  <a:lnTo>
                    <a:pt x="593" y="1408"/>
                  </a:lnTo>
                  <a:lnTo>
                    <a:pt x="565" y="1432"/>
                  </a:lnTo>
                  <a:lnTo>
                    <a:pt x="541" y="1456"/>
                  </a:lnTo>
                  <a:lnTo>
                    <a:pt x="512" y="1480"/>
                  </a:lnTo>
                  <a:lnTo>
                    <a:pt x="493" y="1499"/>
                  </a:lnTo>
                  <a:lnTo>
                    <a:pt x="469" y="1518"/>
                  </a:lnTo>
                  <a:lnTo>
                    <a:pt x="450" y="1532"/>
                  </a:lnTo>
                  <a:lnTo>
                    <a:pt x="435" y="1547"/>
                  </a:lnTo>
                  <a:lnTo>
                    <a:pt x="421" y="1556"/>
                  </a:lnTo>
                  <a:close/>
                  <a:moveTo>
                    <a:pt x="876" y="1077"/>
                  </a:moveTo>
                  <a:lnTo>
                    <a:pt x="905" y="1106"/>
                  </a:lnTo>
                  <a:lnTo>
                    <a:pt x="938" y="1135"/>
                  </a:lnTo>
                  <a:lnTo>
                    <a:pt x="977" y="1163"/>
                  </a:lnTo>
                  <a:lnTo>
                    <a:pt x="1010" y="1192"/>
                  </a:lnTo>
                  <a:lnTo>
                    <a:pt x="1053" y="1221"/>
                  </a:lnTo>
                  <a:lnTo>
                    <a:pt x="1096" y="1250"/>
                  </a:lnTo>
                  <a:lnTo>
                    <a:pt x="1140" y="1278"/>
                  </a:lnTo>
                  <a:lnTo>
                    <a:pt x="1187" y="1307"/>
                  </a:lnTo>
                  <a:lnTo>
                    <a:pt x="1235" y="1345"/>
                  </a:lnTo>
                  <a:lnTo>
                    <a:pt x="1283" y="1374"/>
                  </a:lnTo>
                  <a:lnTo>
                    <a:pt x="1336" y="1403"/>
                  </a:lnTo>
                  <a:lnTo>
                    <a:pt x="1389" y="1432"/>
                  </a:lnTo>
                  <a:lnTo>
                    <a:pt x="1446" y="1460"/>
                  </a:lnTo>
                  <a:lnTo>
                    <a:pt x="1508" y="1484"/>
                  </a:lnTo>
                  <a:lnTo>
                    <a:pt x="1571" y="1508"/>
                  </a:lnTo>
                  <a:lnTo>
                    <a:pt x="1638" y="1532"/>
                  </a:lnTo>
                  <a:lnTo>
                    <a:pt x="1666" y="1547"/>
                  </a:lnTo>
                  <a:lnTo>
                    <a:pt x="1700" y="1556"/>
                  </a:lnTo>
                  <a:lnTo>
                    <a:pt x="1729" y="1566"/>
                  </a:lnTo>
                  <a:lnTo>
                    <a:pt x="1753" y="1575"/>
                  </a:lnTo>
                  <a:lnTo>
                    <a:pt x="1777" y="1585"/>
                  </a:lnTo>
                  <a:lnTo>
                    <a:pt x="1800" y="1595"/>
                  </a:lnTo>
                  <a:lnTo>
                    <a:pt x="1820" y="1604"/>
                  </a:lnTo>
                  <a:lnTo>
                    <a:pt x="1839" y="1609"/>
                  </a:lnTo>
                  <a:lnTo>
                    <a:pt x="1853" y="1614"/>
                  </a:lnTo>
                  <a:lnTo>
                    <a:pt x="1868" y="1623"/>
                  </a:lnTo>
                  <a:lnTo>
                    <a:pt x="1877" y="1628"/>
                  </a:lnTo>
                  <a:lnTo>
                    <a:pt x="1887" y="1628"/>
                  </a:lnTo>
                  <a:lnTo>
                    <a:pt x="1896" y="1633"/>
                  </a:lnTo>
                  <a:lnTo>
                    <a:pt x="1901" y="1638"/>
                  </a:lnTo>
                  <a:lnTo>
                    <a:pt x="1901" y="1642"/>
                  </a:lnTo>
                  <a:lnTo>
                    <a:pt x="1896" y="1647"/>
                  </a:lnTo>
                  <a:lnTo>
                    <a:pt x="1891" y="1647"/>
                  </a:lnTo>
                  <a:lnTo>
                    <a:pt x="1887" y="1652"/>
                  </a:lnTo>
                  <a:lnTo>
                    <a:pt x="1882" y="1652"/>
                  </a:lnTo>
                  <a:lnTo>
                    <a:pt x="1872" y="1657"/>
                  </a:lnTo>
                  <a:lnTo>
                    <a:pt x="1863" y="1657"/>
                  </a:lnTo>
                  <a:lnTo>
                    <a:pt x="1853" y="1662"/>
                  </a:lnTo>
                  <a:lnTo>
                    <a:pt x="1844" y="1666"/>
                  </a:lnTo>
                  <a:lnTo>
                    <a:pt x="1829" y="1666"/>
                  </a:lnTo>
                  <a:lnTo>
                    <a:pt x="1815" y="1671"/>
                  </a:lnTo>
                  <a:lnTo>
                    <a:pt x="1800" y="1671"/>
                  </a:lnTo>
                  <a:lnTo>
                    <a:pt x="1786" y="1676"/>
                  </a:lnTo>
                  <a:lnTo>
                    <a:pt x="1767" y="1681"/>
                  </a:lnTo>
                  <a:lnTo>
                    <a:pt x="1748" y="1681"/>
                  </a:lnTo>
                  <a:lnTo>
                    <a:pt x="1709" y="1690"/>
                  </a:lnTo>
                  <a:lnTo>
                    <a:pt x="1671" y="1695"/>
                  </a:lnTo>
                  <a:lnTo>
                    <a:pt x="1638" y="1700"/>
                  </a:lnTo>
                  <a:lnTo>
                    <a:pt x="1604" y="1700"/>
                  </a:lnTo>
                  <a:lnTo>
                    <a:pt x="1575" y="1700"/>
                  </a:lnTo>
                  <a:lnTo>
                    <a:pt x="1551" y="1705"/>
                  </a:lnTo>
                  <a:lnTo>
                    <a:pt x="1527" y="1700"/>
                  </a:lnTo>
                  <a:lnTo>
                    <a:pt x="1508" y="1700"/>
                  </a:lnTo>
                  <a:lnTo>
                    <a:pt x="1484" y="1695"/>
                  </a:lnTo>
                  <a:lnTo>
                    <a:pt x="1456" y="1686"/>
                  </a:lnTo>
                  <a:lnTo>
                    <a:pt x="1432" y="1671"/>
                  </a:lnTo>
                  <a:lnTo>
                    <a:pt x="1403" y="1652"/>
                  </a:lnTo>
                  <a:lnTo>
                    <a:pt x="1374" y="1628"/>
                  </a:lnTo>
                  <a:lnTo>
                    <a:pt x="1341" y="1599"/>
                  </a:lnTo>
                  <a:lnTo>
                    <a:pt x="1326" y="1580"/>
                  </a:lnTo>
                  <a:lnTo>
                    <a:pt x="1307" y="1566"/>
                  </a:lnTo>
                  <a:lnTo>
                    <a:pt x="1293" y="1547"/>
                  </a:lnTo>
                  <a:lnTo>
                    <a:pt x="1274" y="1527"/>
                  </a:lnTo>
                  <a:lnTo>
                    <a:pt x="1235" y="1489"/>
                  </a:lnTo>
                  <a:lnTo>
                    <a:pt x="1202" y="1456"/>
                  </a:lnTo>
                  <a:lnTo>
                    <a:pt x="1173" y="1427"/>
                  </a:lnTo>
                  <a:lnTo>
                    <a:pt x="1144" y="1403"/>
                  </a:lnTo>
                  <a:lnTo>
                    <a:pt x="1116" y="1379"/>
                  </a:lnTo>
                  <a:lnTo>
                    <a:pt x="1096" y="1355"/>
                  </a:lnTo>
                  <a:lnTo>
                    <a:pt x="1077" y="1341"/>
                  </a:lnTo>
                  <a:lnTo>
                    <a:pt x="1058" y="1326"/>
                  </a:lnTo>
                  <a:lnTo>
                    <a:pt x="1039" y="1312"/>
                  </a:lnTo>
                  <a:lnTo>
                    <a:pt x="1020" y="1293"/>
                  </a:lnTo>
                  <a:lnTo>
                    <a:pt x="996" y="1274"/>
                  </a:lnTo>
                  <a:lnTo>
                    <a:pt x="972" y="1250"/>
                  </a:lnTo>
                  <a:lnTo>
                    <a:pt x="948" y="1226"/>
                  </a:lnTo>
                  <a:lnTo>
                    <a:pt x="914" y="1197"/>
                  </a:lnTo>
                  <a:lnTo>
                    <a:pt x="886" y="1163"/>
                  </a:lnTo>
                  <a:lnTo>
                    <a:pt x="852" y="1125"/>
                  </a:lnTo>
                  <a:lnTo>
                    <a:pt x="876" y="1077"/>
                  </a:lnTo>
                  <a:close/>
                  <a:moveTo>
                    <a:pt x="512" y="929"/>
                  </a:moveTo>
                  <a:lnTo>
                    <a:pt x="512" y="924"/>
                  </a:lnTo>
                  <a:lnTo>
                    <a:pt x="512" y="919"/>
                  </a:lnTo>
                  <a:lnTo>
                    <a:pt x="517" y="910"/>
                  </a:lnTo>
                  <a:lnTo>
                    <a:pt x="526" y="900"/>
                  </a:lnTo>
                  <a:lnTo>
                    <a:pt x="541" y="886"/>
                  </a:lnTo>
                  <a:lnTo>
                    <a:pt x="555" y="871"/>
                  </a:lnTo>
                  <a:lnTo>
                    <a:pt x="570" y="857"/>
                  </a:lnTo>
                  <a:lnTo>
                    <a:pt x="593" y="838"/>
                  </a:lnTo>
                  <a:lnTo>
                    <a:pt x="613" y="819"/>
                  </a:lnTo>
                  <a:lnTo>
                    <a:pt x="637" y="799"/>
                  </a:lnTo>
                  <a:lnTo>
                    <a:pt x="661" y="775"/>
                  </a:lnTo>
                  <a:lnTo>
                    <a:pt x="684" y="752"/>
                  </a:lnTo>
                  <a:lnTo>
                    <a:pt x="708" y="723"/>
                  </a:lnTo>
                  <a:lnTo>
                    <a:pt x="732" y="694"/>
                  </a:lnTo>
                  <a:lnTo>
                    <a:pt x="756" y="661"/>
                  </a:lnTo>
                  <a:lnTo>
                    <a:pt x="780" y="627"/>
                  </a:lnTo>
                  <a:lnTo>
                    <a:pt x="804" y="593"/>
                  </a:lnTo>
                  <a:lnTo>
                    <a:pt x="828" y="560"/>
                  </a:lnTo>
                  <a:lnTo>
                    <a:pt x="852" y="531"/>
                  </a:lnTo>
                  <a:lnTo>
                    <a:pt x="871" y="498"/>
                  </a:lnTo>
                  <a:lnTo>
                    <a:pt x="890" y="464"/>
                  </a:lnTo>
                  <a:lnTo>
                    <a:pt x="905" y="431"/>
                  </a:lnTo>
                  <a:lnTo>
                    <a:pt x="919" y="397"/>
                  </a:lnTo>
                  <a:lnTo>
                    <a:pt x="929" y="364"/>
                  </a:lnTo>
                  <a:lnTo>
                    <a:pt x="938" y="330"/>
                  </a:lnTo>
                  <a:lnTo>
                    <a:pt x="943" y="297"/>
                  </a:lnTo>
                  <a:lnTo>
                    <a:pt x="948" y="268"/>
                  </a:lnTo>
                  <a:lnTo>
                    <a:pt x="953" y="239"/>
                  </a:lnTo>
                  <a:lnTo>
                    <a:pt x="958" y="210"/>
                  </a:lnTo>
                  <a:lnTo>
                    <a:pt x="958" y="186"/>
                  </a:lnTo>
                  <a:lnTo>
                    <a:pt x="958" y="162"/>
                  </a:lnTo>
                  <a:lnTo>
                    <a:pt x="953" y="138"/>
                  </a:lnTo>
                  <a:lnTo>
                    <a:pt x="986" y="158"/>
                  </a:lnTo>
                  <a:lnTo>
                    <a:pt x="1015" y="172"/>
                  </a:lnTo>
                  <a:lnTo>
                    <a:pt x="1039" y="182"/>
                  </a:lnTo>
                  <a:lnTo>
                    <a:pt x="1058" y="196"/>
                  </a:lnTo>
                  <a:lnTo>
                    <a:pt x="1072" y="210"/>
                  </a:lnTo>
                  <a:lnTo>
                    <a:pt x="1082" y="220"/>
                  </a:lnTo>
                  <a:lnTo>
                    <a:pt x="1092" y="229"/>
                  </a:lnTo>
                  <a:lnTo>
                    <a:pt x="1092" y="239"/>
                  </a:lnTo>
                  <a:lnTo>
                    <a:pt x="1092" y="249"/>
                  </a:lnTo>
                  <a:lnTo>
                    <a:pt x="1087" y="263"/>
                  </a:lnTo>
                  <a:lnTo>
                    <a:pt x="1087" y="277"/>
                  </a:lnTo>
                  <a:lnTo>
                    <a:pt x="1077" y="297"/>
                  </a:lnTo>
                  <a:lnTo>
                    <a:pt x="1072" y="320"/>
                  </a:lnTo>
                  <a:lnTo>
                    <a:pt x="1063" y="344"/>
                  </a:lnTo>
                  <a:lnTo>
                    <a:pt x="1053" y="373"/>
                  </a:lnTo>
                  <a:lnTo>
                    <a:pt x="1039" y="407"/>
                  </a:lnTo>
                  <a:lnTo>
                    <a:pt x="1025" y="440"/>
                  </a:lnTo>
                  <a:lnTo>
                    <a:pt x="1005" y="474"/>
                  </a:lnTo>
                  <a:lnTo>
                    <a:pt x="986" y="507"/>
                  </a:lnTo>
                  <a:lnTo>
                    <a:pt x="967" y="541"/>
                  </a:lnTo>
                  <a:lnTo>
                    <a:pt x="943" y="574"/>
                  </a:lnTo>
                  <a:lnTo>
                    <a:pt x="919" y="608"/>
                  </a:lnTo>
                  <a:lnTo>
                    <a:pt x="895" y="641"/>
                  </a:lnTo>
                  <a:lnTo>
                    <a:pt x="866" y="670"/>
                  </a:lnTo>
                  <a:lnTo>
                    <a:pt x="838" y="704"/>
                  </a:lnTo>
                  <a:lnTo>
                    <a:pt x="809" y="732"/>
                  </a:lnTo>
                  <a:lnTo>
                    <a:pt x="785" y="756"/>
                  </a:lnTo>
                  <a:lnTo>
                    <a:pt x="756" y="785"/>
                  </a:lnTo>
                  <a:lnTo>
                    <a:pt x="728" y="809"/>
                  </a:lnTo>
                  <a:lnTo>
                    <a:pt x="699" y="828"/>
                  </a:lnTo>
                  <a:lnTo>
                    <a:pt x="670" y="852"/>
                  </a:lnTo>
                  <a:lnTo>
                    <a:pt x="641" y="871"/>
                  </a:lnTo>
                  <a:lnTo>
                    <a:pt x="617" y="886"/>
                  </a:lnTo>
                  <a:lnTo>
                    <a:pt x="593" y="900"/>
                  </a:lnTo>
                  <a:lnTo>
                    <a:pt x="570" y="914"/>
                  </a:lnTo>
                  <a:lnTo>
                    <a:pt x="555" y="919"/>
                  </a:lnTo>
                  <a:lnTo>
                    <a:pt x="536" y="929"/>
                  </a:lnTo>
                  <a:lnTo>
                    <a:pt x="526" y="929"/>
                  </a:lnTo>
                  <a:lnTo>
                    <a:pt x="517" y="929"/>
                  </a:lnTo>
                  <a:lnTo>
                    <a:pt x="512" y="929"/>
                  </a:lnTo>
                  <a:close/>
                  <a:moveTo>
                    <a:pt x="349" y="124"/>
                  </a:moveTo>
                  <a:lnTo>
                    <a:pt x="330" y="105"/>
                  </a:lnTo>
                  <a:lnTo>
                    <a:pt x="311" y="86"/>
                  </a:lnTo>
                  <a:lnTo>
                    <a:pt x="297" y="71"/>
                  </a:lnTo>
                  <a:lnTo>
                    <a:pt x="282" y="57"/>
                  </a:lnTo>
                  <a:lnTo>
                    <a:pt x="277" y="43"/>
                  </a:lnTo>
                  <a:lnTo>
                    <a:pt x="268" y="28"/>
                  </a:lnTo>
                  <a:lnTo>
                    <a:pt x="263" y="19"/>
                  </a:lnTo>
                  <a:lnTo>
                    <a:pt x="263" y="9"/>
                  </a:lnTo>
                  <a:lnTo>
                    <a:pt x="297" y="9"/>
                  </a:lnTo>
                  <a:lnTo>
                    <a:pt x="335" y="14"/>
                  </a:lnTo>
                  <a:lnTo>
                    <a:pt x="373" y="19"/>
                  </a:lnTo>
                  <a:lnTo>
                    <a:pt x="411" y="24"/>
                  </a:lnTo>
                  <a:lnTo>
                    <a:pt x="440" y="33"/>
                  </a:lnTo>
                  <a:lnTo>
                    <a:pt x="455" y="38"/>
                  </a:lnTo>
                  <a:lnTo>
                    <a:pt x="469" y="43"/>
                  </a:lnTo>
                  <a:lnTo>
                    <a:pt x="479" y="47"/>
                  </a:lnTo>
                  <a:lnTo>
                    <a:pt x="488" y="57"/>
                  </a:lnTo>
                  <a:lnTo>
                    <a:pt x="498" y="67"/>
                  </a:lnTo>
                  <a:lnTo>
                    <a:pt x="507" y="71"/>
                  </a:lnTo>
                  <a:lnTo>
                    <a:pt x="512" y="86"/>
                  </a:lnTo>
                  <a:lnTo>
                    <a:pt x="517" y="95"/>
                  </a:lnTo>
                  <a:lnTo>
                    <a:pt x="517" y="105"/>
                  </a:lnTo>
                  <a:lnTo>
                    <a:pt x="517" y="115"/>
                  </a:lnTo>
                  <a:lnTo>
                    <a:pt x="517" y="138"/>
                  </a:lnTo>
                  <a:lnTo>
                    <a:pt x="512" y="158"/>
                  </a:lnTo>
                  <a:lnTo>
                    <a:pt x="507" y="167"/>
                  </a:lnTo>
                  <a:lnTo>
                    <a:pt x="502" y="177"/>
                  </a:lnTo>
                  <a:lnTo>
                    <a:pt x="493" y="186"/>
                  </a:lnTo>
                  <a:lnTo>
                    <a:pt x="488" y="191"/>
                  </a:lnTo>
                  <a:lnTo>
                    <a:pt x="483" y="196"/>
                  </a:lnTo>
                  <a:lnTo>
                    <a:pt x="474" y="201"/>
                  </a:lnTo>
                  <a:lnTo>
                    <a:pt x="469" y="201"/>
                  </a:lnTo>
                  <a:lnTo>
                    <a:pt x="464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5" y="186"/>
                  </a:lnTo>
                  <a:lnTo>
                    <a:pt x="421" y="182"/>
                  </a:lnTo>
                  <a:lnTo>
                    <a:pt x="407" y="167"/>
                  </a:lnTo>
                  <a:lnTo>
                    <a:pt x="392" y="158"/>
                  </a:lnTo>
                  <a:lnTo>
                    <a:pt x="373" y="143"/>
                  </a:lnTo>
                  <a:lnTo>
                    <a:pt x="349" y="124"/>
                  </a:lnTo>
                  <a:close/>
                  <a:moveTo>
                    <a:pt x="297" y="306"/>
                  </a:moveTo>
                  <a:lnTo>
                    <a:pt x="316" y="311"/>
                  </a:lnTo>
                  <a:lnTo>
                    <a:pt x="325" y="320"/>
                  </a:lnTo>
                  <a:lnTo>
                    <a:pt x="340" y="330"/>
                  </a:lnTo>
                  <a:lnTo>
                    <a:pt x="349" y="335"/>
                  </a:lnTo>
                  <a:lnTo>
                    <a:pt x="359" y="344"/>
                  </a:lnTo>
                  <a:lnTo>
                    <a:pt x="368" y="354"/>
                  </a:lnTo>
                  <a:lnTo>
                    <a:pt x="373" y="364"/>
                  </a:lnTo>
                  <a:lnTo>
                    <a:pt x="378" y="373"/>
                  </a:lnTo>
                  <a:lnTo>
                    <a:pt x="378" y="383"/>
                  </a:lnTo>
                  <a:lnTo>
                    <a:pt x="378" y="397"/>
                  </a:lnTo>
                  <a:lnTo>
                    <a:pt x="378" y="416"/>
                  </a:lnTo>
                  <a:lnTo>
                    <a:pt x="378" y="421"/>
                  </a:lnTo>
                  <a:lnTo>
                    <a:pt x="373" y="431"/>
                  </a:lnTo>
                  <a:lnTo>
                    <a:pt x="368" y="435"/>
                  </a:lnTo>
                  <a:lnTo>
                    <a:pt x="368" y="440"/>
                  </a:lnTo>
                  <a:lnTo>
                    <a:pt x="354" y="450"/>
                  </a:lnTo>
                  <a:lnTo>
                    <a:pt x="344" y="459"/>
                  </a:lnTo>
                  <a:lnTo>
                    <a:pt x="330" y="464"/>
                  </a:lnTo>
                  <a:lnTo>
                    <a:pt x="325" y="464"/>
                  </a:lnTo>
                  <a:lnTo>
                    <a:pt x="320" y="464"/>
                  </a:lnTo>
                  <a:lnTo>
                    <a:pt x="311" y="459"/>
                  </a:lnTo>
                  <a:lnTo>
                    <a:pt x="301" y="455"/>
                  </a:lnTo>
                  <a:lnTo>
                    <a:pt x="292" y="445"/>
                  </a:lnTo>
                  <a:lnTo>
                    <a:pt x="277" y="435"/>
                  </a:lnTo>
                  <a:lnTo>
                    <a:pt x="263" y="426"/>
                  </a:lnTo>
                  <a:lnTo>
                    <a:pt x="249" y="411"/>
                  </a:lnTo>
                  <a:lnTo>
                    <a:pt x="229" y="397"/>
                  </a:lnTo>
                  <a:lnTo>
                    <a:pt x="210" y="383"/>
                  </a:lnTo>
                  <a:lnTo>
                    <a:pt x="196" y="368"/>
                  </a:lnTo>
                  <a:lnTo>
                    <a:pt x="182" y="349"/>
                  </a:lnTo>
                  <a:lnTo>
                    <a:pt x="172" y="335"/>
                  </a:lnTo>
                  <a:lnTo>
                    <a:pt x="162" y="320"/>
                  </a:lnTo>
                  <a:lnTo>
                    <a:pt x="158" y="306"/>
                  </a:lnTo>
                  <a:lnTo>
                    <a:pt x="153" y="292"/>
                  </a:lnTo>
                  <a:lnTo>
                    <a:pt x="153" y="282"/>
                  </a:lnTo>
                  <a:lnTo>
                    <a:pt x="196" y="282"/>
                  </a:lnTo>
                  <a:lnTo>
                    <a:pt x="215" y="282"/>
                  </a:lnTo>
                  <a:lnTo>
                    <a:pt x="234" y="287"/>
                  </a:lnTo>
                  <a:lnTo>
                    <a:pt x="253" y="292"/>
                  </a:lnTo>
                  <a:lnTo>
                    <a:pt x="268" y="297"/>
                  </a:lnTo>
                  <a:lnTo>
                    <a:pt x="282" y="301"/>
                  </a:lnTo>
                  <a:lnTo>
                    <a:pt x="297" y="306"/>
                  </a:lnTo>
                  <a:close/>
                  <a:moveTo>
                    <a:pt x="737" y="287"/>
                  </a:moveTo>
                  <a:lnTo>
                    <a:pt x="756" y="311"/>
                  </a:lnTo>
                  <a:lnTo>
                    <a:pt x="761" y="320"/>
                  </a:lnTo>
                  <a:lnTo>
                    <a:pt x="771" y="330"/>
                  </a:lnTo>
                  <a:lnTo>
                    <a:pt x="775" y="344"/>
                  </a:lnTo>
                  <a:lnTo>
                    <a:pt x="780" y="354"/>
                  </a:lnTo>
                  <a:lnTo>
                    <a:pt x="780" y="368"/>
                  </a:lnTo>
                  <a:lnTo>
                    <a:pt x="780" y="383"/>
                  </a:lnTo>
                  <a:lnTo>
                    <a:pt x="780" y="392"/>
                  </a:lnTo>
                  <a:lnTo>
                    <a:pt x="780" y="407"/>
                  </a:lnTo>
                  <a:lnTo>
                    <a:pt x="775" y="421"/>
                  </a:lnTo>
                  <a:lnTo>
                    <a:pt x="771" y="435"/>
                  </a:lnTo>
                  <a:lnTo>
                    <a:pt x="756" y="469"/>
                  </a:lnTo>
                  <a:lnTo>
                    <a:pt x="737" y="507"/>
                  </a:lnTo>
                  <a:lnTo>
                    <a:pt x="728" y="522"/>
                  </a:lnTo>
                  <a:lnTo>
                    <a:pt x="718" y="536"/>
                  </a:lnTo>
                  <a:lnTo>
                    <a:pt x="708" y="550"/>
                  </a:lnTo>
                  <a:lnTo>
                    <a:pt x="704" y="560"/>
                  </a:lnTo>
                  <a:lnTo>
                    <a:pt x="694" y="570"/>
                  </a:lnTo>
                  <a:lnTo>
                    <a:pt x="689" y="574"/>
                  </a:lnTo>
                  <a:lnTo>
                    <a:pt x="680" y="579"/>
                  </a:lnTo>
                  <a:lnTo>
                    <a:pt x="670" y="579"/>
                  </a:lnTo>
                  <a:lnTo>
                    <a:pt x="665" y="574"/>
                  </a:lnTo>
                  <a:lnTo>
                    <a:pt x="661" y="574"/>
                  </a:lnTo>
                  <a:lnTo>
                    <a:pt x="656" y="570"/>
                  </a:lnTo>
                  <a:lnTo>
                    <a:pt x="651" y="555"/>
                  </a:lnTo>
                  <a:lnTo>
                    <a:pt x="641" y="536"/>
                  </a:lnTo>
                  <a:lnTo>
                    <a:pt x="637" y="522"/>
                  </a:lnTo>
                  <a:lnTo>
                    <a:pt x="632" y="502"/>
                  </a:lnTo>
                  <a:lnTo>
                    <a:pt x="627" y="488"/>
                  </a:lnTo>
                  <a:lnTo>
                    <a:pt x="627" y="483"/>
                  </a:lnTo>
                  <a:lnTo>
                    <a:pt x="627" y="479"/>
                  </a:lnTo>
                  <a:lnTo>
                    <a:pt x="627" y="474"/>
                  </a:lnTo>
                  <a:lnTo>
                    <a:pt x="632" y="469"/>
                  </a:lnTo>
                  <a:lnTo>
                    <a:pt x="632" y="464"/>
                  </a:lnTo>
                  <a:lnTo>
                    <a:pt x="637" y="459"/>
                  </a:lnTo>
                  <a:lnTo>
                    <a:pt x="646" y="455"/>
                  </a:lnTo>
                  <a:lnTo>
                    <a:pt x="651" y="445"/>
                  </a:lnTo>
                  <a:lnTo>
                    <a:pt x="661" y="440"/>
                  </a:lnTo>
                  <a:lnTo>
                    <a:pt x="665" y="431"/>
                  </a:lnTo>
                  <a:lnTo>
                    <a:pt x="675" y="421"/>
                  </a:lnTo>
                  <a:lnTo>
                    <a:pt x="684" y="407"/>
                  </a:lnTo>
                  <a:lnTo>
                    <a:pt x="694" y="388"/>
                  </a:lnTo>
                  <a:lnTo>
                    <a:pt x="704" y="368"/>
                  </a:lnTo>
                  <a:lnTo>
                    <a:pt x="713" y="344"/>
                  </a:lnTo>
                  <a:lnTo>
                    <a:pt x="728" y="320"/>
                  </a:lnTo>
                  <a:lnTo>
                    <a:pt x="737" y="287"/>
                  </a:lnTo>
                  <a:close/>
                  <a:moveTo>
                    <a:pt x="263" y="938"/>
                  </a:moveTo>
                  <a:lnTo>
                    <a:pt x="258" y="938"/>
                  </a:lnTo>
                  <a:lnTo>
                    <a:pt x="249" y="934"/>
                  </a:lnTo>
                  <a:lnTo>
                    <a:pt x="244" y="929"/>
                  </a:lnTo>
                  <a:lnTo>
                    <a:pt x="234" y="919"/>
                  </a:lnTo>
                  <a:lnTo>
                    <a:pt x="229" y="910"/>
                  </a:lnTo>
                  <a:lnTo>
                    <a:pt x="220" y="890"/>
                  </a:lnTo>
                  <a:lnTo>
                    <a:pt x="210" y="876"/>
                  </a:lnTo>
                  <a:lnTo>
                    <a:pt x="206" y="852"/>
                  </a:lnTo>
                  <a:lnTo>
                    <a:pt x="196" y="833"/>
                  </a:lnTo>
                  <a:lnTo>
                    <a:pt x="186" y="814"/>
                  </a:lnTo>
                  <a:lnTo>
                    <a:pt x="182" y="799"/>
                  </a:lnTo>
                  <a:lnTo>
                    <a:pt x="177" y="785"/>
                  </a:lnTo>
                  <a:lnTo>
                    <a:pt x="177" y="771"/>
                  </a:lnTo>
                  <a:lnTo>
                    <a:pt x="172" y="761"/>
                  </a:lnTo>
                  <a:lnTo>
                    <a:pt x="177" y="752"/>
                  </a:lnTo>
                  <a:lnTo>
                    <a:pt x="177" y="747"/>
                  </a:lnTo>
                  <a:lnTo>
                    <a:pt x="182" y="737"/>
                  </a:lnTo>
                  <a:lnTo>
                    <a:pt x="191" y="732"/>
                  </a:lnTo>
                  <a:lnTo>
                    <a:pt x="201" y="732"/>
                  </a:lnTo>
                  <a:lnTo>
                    <a:pt x="210" y="728"/>
                  </a:lnTo>
                  <a:lnTo>
                    <a:pt x="220" y="732"/>
                  </a:lnTo>
                  <a:lnTo>
                    <a:pt x="225" y="732"/>
                  </a:lnTo>
                  <a:lnTo>
                    <a:pt x="239" y="732"/>
                  </a:lnTo>
                  <a:lnTo>
                    <a:pt x="249" y="728"/>
                  </a:lnTo>
                  <a:lnTo>
                    <a:pt x="263" y="723"/>
                  </a:lnTo>
                  <a:lnTo>
                    <a:pt x="268" y="718"/>
                  </a:lnTo>
                  <a:lnTo>
                    <a:pt x="277" y="708"/>
                  </a:lnTo>
                  <a:lnTo>
                    <a:pt x="292" y="699"/>
                  </a:lnTo>
                  <a:lnTo>
                    <a:pt x="306" y="680"/>
                  </a:lnTo>
                  <a:lnTo>
                    <a:pt x="330" y="661"/>
                  </a:lnTo>
                  <a:lnTo>
                    <a:pt x="354" y="641"/>
                  </a:lnTo>
                  <a:lnTo>
                    <a:pt x="378" y="613"/>
                  </a:lnTo>
                  <a:lnTo>
                    <a:pt x="392" y="598"/>
                  </a:lnTo>
                  <a:lnTo>
                    <a:pt x="411" y="579"/>
                  </a:lnTo>
                  <a:lnTo>
                    <a:pt x="426" y="565"/>
                  </a:lnTo>
                  <a:lnTo>
                    <a:pt x="440" y="546"/>
                  </a:lnTo>
                  <a:lnTo>
                    <a:pt x="469" y="522"/>
                  </a:lnTo>
                  <a:lnTo>
                    <a:pt x="493" y="498"/>
                  </a:lnTo>
                  <a:lnTo>
                    <a:pt x="512" y="479"/>
                  </a:lnTo>
                  <a:lnTo>
                    <a:pt x="531" y="469"/>
                  </a:lnTo>
                  <a:lnTo>
                    <a:pt x="541" y="459"/>
                  </a:lnTo>
                  <a:lnTo>
                    <a:pt x="550" y="455"/>
                  </a:lnTo>
                  <a:lnTo>
                    <a:pt x="555" y="455"/>
                  </a:lnTo>
                  <a:lnTo>
                    <a:pt x="560" y="459"/>
                  </a:lnTo>
                  <a:lnTo>
                    <a:pt x="560" y="464"/>
                  </a:lnTo>
                  <a:lnTo>
                    <a:pt x="555" y="469"/>
                  </a:lnTo>
                  <a:lnTo>
                    <a:pt x="555" y="474"/>
                  </a:lnTo>
                  <a:lnTo>
                    <a:pt x="550" y="483"/>
                  </a:lnTo>
                  <a:lnTo>
                    <a:pt x="546" y="498"/>
                  </a:lnTo>
                  <a:lnTo>
                    <a:pt x="541" y="507"/>
                  </a:lnTo>
                  <a:lnTo>
                    <a:pt x="536" y="522"/>
                  </a:lnTo>
                  <a:lnTo>
                    <a:pt x="526" y="536"/>
                  </a:lnTo>
                  <a:lnTo>
                    <a:pt x="517" y="555"/>
                  </a:lnTo>
                  <a:lnTo>
                    <a:pt x="507" y="574"/>
                  </a:lnTo>
                  <a:lnTo>
                    <a:pt x="498" y="598"/>
                  </a:lnTo>
                  <a:lnTo>
                    <a:pt x="483" y="617"/>
                  </a:lnTo>
                  <a:lnTo>
                    <a:pt x="469" y="641"/>
                  </a:lnTo>
                  <a:lnTo>
                    <a:pt x="455" y="670"/>
                  </a:lnTo>
                  <a:lnTo>
                    <a:pt x="435" y="694"/>
                  </a:lnTo>
                  <a:lnTo>
                    <a:pt x="421" y="723"/>
                  </a:lnTo>
                  <a:lnTo>
                    <a:pt x="402" y="752"/>
                  </a:lnTo>
                  <a:lnTo>
                    <a:pt x="388" y="775"/>
                  </a:lnTo>
                  <a:lnTo>
                    <a:pt x="373" y="799"/>
                  </a:lnTo>
                  <a:lnTo>
                    <a:pt x="359" y="819"/>
                  </a:lnTo>
                  <a:lnTo>
                    <a:pt x="344" y="838"/>
                  </a:lnTo>
                  <a:lnTo>
                    <a:pt x="335" y="857"/>
                  </a:lnTo>
                  <a:lnTo>
                    <a:pt x="320" y="871"/>
                  </a:lnTo>
                  <a:lnTo>
                    <a:pt x="311" y="886"/>
                  </a:lnTo>
                  <a:lnTo>
                    <a:pt x="301" y="900"/>
                  </a:lnTo>
                  <a:lnTo>
                    <a:pt x="292" y="910"/>
                  </a:lnTo>
                  <a:lnTo>
                    <a:pt x="287" y="919"/>
                  </a:lnTo>
                  <a:lnTo>
                    <a:pt x="277" y="924"/>
                  </a:lnTo>
                  <a:lnTo>
                    <a:pt x="273" y="929"/>
                  </a:lnTo>
                  <a:lnTo>
                    <a:pt x="268" y="934"/>
                  </a:lnTo>
                  <a:lnTo>
                    <a:pt x="263" y="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4783680" y="2439720"/>
              <a:ext cx="938520" cy="1082520"/>
            </a:xfrm>
            <a:custGeom>
              <a:avLst/>
              <a:gdLst/>
              <a:ahLst/>
              <a:rect l="l" t="t" r="r" b="b"/>
              <a:pathLst>
                <a:path w="776" h="895">
                  <a:moveTo>
                    <a:pt x="412" y="704"/>
                  </a:moveTo>
                  <a:lnTo>
                    <a:pt x="417" y="704"/>
                  </a:lnTo>
                  <a:lnTo>
                    <a:pt x="421" y="699"/>
                  </a:lnTo>
                  <a:lnTo>
                    <a:pt x="426" y="694"/>
                  </a:lnTo>
                  <a:lnTo>
                    <a:pt x="431" y="689"/>
                  </a:lnTo>
                  <a:lnTo>
                    <a:pt x="436" y="680"/>
                  </a:lnTo>
                  <a:lnTo>
                    <a:pt x="440" y="670"/>
                  </a:lnTo>
                  <a:lnTo>
                    <a:pt x="450" y="661"/>
                  </a:lnTo>
                  <a:lnTo>
                    <a:pt x="455" y="651"/>
                  </a:lnTo>
                  <a:lnTo>
                    <a:pt x="460" y="637"/>
                  </a:lnTo>
                  <a:lnTo>
                    <a:pt x="464" y="622"/>
                  </a:lnTo>
                  <a:lnTo>
                    <a:pt x="474" y="608"/>
                  </a:lnTo>
                  <a:lnTo>
                    <a:pt x="479" y="589"/>
                  </a:lnTo>
                  <a:lnTo>
                    <a:pt x="484" y="574"/>
                  </a:lnTo>
                  <a:lnTo>
                    <a:pt x="493" y="555"/>
                  </a:lnTo>
                  <a:lnTo>
                    <a:pt x="508" y="512"/>
                  </a:lnTo>
                  <a:lnTo>
                    <a:pt x="522" y="474"/>
                  </a:lnTo>
                  <a:lnTo>
                    <a:pt x="536" y="435"/>
                  </a:lnTo>
                  <a:lnTo>
                    <a:pt x="546" y="397"/>
                  </a:lnTo>
                  <a:lnTo>
                    <a:pt x="555" y="364"/>
                  </a:lnTo>
                  <a:lnTo>
                    <a:pt x="560" y="335"/>
                  </a:lnTo>
                  <a:lnTo>
                    <a:pt x="570" y="301"/>
                  </a:lnTo>
                  <a:lnTo>
                    <a:pt x="575" y="273"/>
                  </a:lnTo>
                  <a:lnTo>
                    <a:pt x="575" y="249"/>
                  </a:lnTo>
                  <a:lnTo>
                    <a:pt x="579" y="225"/>
                  </a:lnTo>
                  <a:lnTo>
                    <a:pt x="579" y="206"/>
                  </a:lnTo>
                  <a:lnTo>
                    <a:pt x="579" y="191"/>
                  </a:lnTo>
                  <a:lnTo>
                    <a:pt x="579" y="172"/>
                  </a:lnTo>
                  <a:lnTo>
                    <a:pt x="575" y="162"/>
                  </a:lnTo>
                  <a:lnTo>
                    <a:pt x="575" y="148"/>
                  </a:lnTo>
                  <a:lnTo>
                    <a:pt x="570" y="138"/>
                  </a:lnTo>
                  <a:lnTo>
                    <a:pt x="570" y="134"/>
                  </a:lnTo>
                  <a:lnTo>
                    <a:pt x="560" y="124"/>
                  </a:lnTo>
                  <a:lnTo>
                    <a:pt x="551" y="119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8" y="115"/>
                  </a:lnTo>
                  <a:lnTo>
                    <a:pt x="493" y="115"/>
                  </a:lnTo>
                  <a:lnTo>
                    <a:pt x="479" y="119"/>
                  </a:lnTo>
                  <a:lnTo>
                    <a:pt x="460" y="119"/>
                  </a:lnTo>
                  <a:lnTo>
                    <a:pt x="440" y="124"/>
                  </a:lnTo>
                  <a:lnTo>
                    <a:pt x="421" y="129"/>
                  </a:lnTo>
                  <a:lnTo>
                    <a:pt x="397" y="134"/>
                  </a:lnTo>
                  <a:lnTo>
                    <a:pt x="369" y="138"/>
                  </a:lnTo>
                  <a:lnTo>
                    <a:pt x="311" y="153"/>
                  </a:lnTo>
                  <a:lnTo>
                    <a:pt x="287" y="158"/>
                  </a:lnTo>
                  <a:lnTo>
                    <a:pt x="258" y="162"/>
                  </a:lnTo>
                  <a:lnTo>
                    <a:pt x="235" y="167"/>
                  </a:lnTo>
                  <a:lnTo>
                    <a:pt x="211" y="172"/>
                  </a:lnTo>
                  <a:lnTo>
                    <a:pt x="191" y="177"/>
                  </a:lnTo>
                  <a:lnTo>
                    <a:pt x="172" y="182"/>
                  </a:lnTo>
                  <a:lnTo>
                    <a:pt x="153" y="186"/>
                  </a:lnTo>
                  <a:lnTo>
                    <a:pt x="134" y="191"/>
                  </a:lnTo>
                  <a:lnTo>
                    <a:pt x="115" y="191"/>
                  </a:lnTo>
                  <a:lnTo>
                    <a:pt x="100" y="196"/>
                  </a:lnTo>
                  <a:lnTo>
                    <a:pt x="86" y="191"/>
                  </a:lnTo>
                  <a:lnTo>
                    <a:pt x="72" y="191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7"/>
                  </a:lnTo>
                  <a:lnTo>
                    <a:pt x="29" y="172"/>
                  </a:lnTo>
                  <a:lnTo>
                    <a:pt x="19" y="167"/>
                  </a:lnTo>
                  <a:lnTo>
                    <a:pt x="9" y="162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9" y="138"/>
                  </a:lnTo>
                  <a:lnTo>
                    <a:pt x="19" y="138"/>
                  </a:lnTo>
                  <a:lnTo>
                    <a:pt x="33" y="138"/>
                  </a:lnTo>
                  <a:lnTo>
                    <a:pt x="43" y="134"/>
                  </a:lnTo>
                  <a:lnTo>
                    <a:pt x="57" y="134"/>
                  </a:lnTo>
                  <a:lnTo>
                    <a:pt x="76" y="129"/>
                  </a:lnTo>
                  <a:lnTo>
                    <a:pt x="91" y="129"/>
                  </a:lnTo>
                  <a:lnTo>
                    <a:pt x="110" y="124"/>
                  </a:lnTo>
                  <a:lnTo>
                    <a:pt x="134" y="119"/>
                  </a:lnTo>
                  <a:lnTo>
                    <a:pt x="158" y="115"/>
                  </a:lnTo>
                  <a:lnTo>
                    <a:pt x="182" y="110"/>
                  </a:lnTo>
                  <a:lnTo>
                    <a:pt x="206" y="105"/>
                  </a:lnTo>
                  <a:lnTo>
                    <a:pt x="235" y="95"/>
                  </a:lnTo>
                  <a:lnTo>
                    <a:pt x="263" y="91"/>
                  </a:lnTo>
                  <a:lnTo>
                    <a:pt x="292" y="81"/>
                  </a:lnTo>
                  <a:lnTo>
                    <a:pt x="321" y="76"/>
                  </a:lnTo>
                  <a:lnTo>
                    <a:pt x="349" y="71"/>
                  </a:lnTo>
                  <a:lnTo>
                    <a:pt x="373" y="62"/>
                  </a:lnTo>
                  <a:lnTo>
                    <a:pt x="402" y="57"/>
                  </a:lnTo>
                  <a:lnTo>
                    <a:pt x="421" y="52"/>
                  </a:lnTo>
                  <a:lnTo>
                    <a:pt x="445" y="47"/>
                  </a:lnTo>
                  <a:lnTo>
                    <a:pt x="464" y="43"/>
                  </a:lnTo>
                  <a:lnTo>
                    <a:pt x="479" y="38"/>
                  </a:lnTo>
                  <a:lnTo>
                    <a:pt x="493" y="33"/>
                  </a:lnTo>
                  <a:lnTo>
                    <a:pt x="508" y="33"/>
                  </a:lnTo>
                  <a:lnTo>
                    <a:pt x="517" y="28"/>
                  </a:lnTo>
                  <a:lnTo>
                    <a:pt x="531" y="24"/>
                  </a:lnTo>
                  <a:lnTo>
                    <a:pt x="536" y="24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1" y="14"/>
                  </a:lnTo>
                  <a:lnTo>
                    <a:pt x="560" y="9"/>
                  </a:lnTo>
                  <a:lnTo>
                    <a:pt x="570" y="4"/>
                  </a:lnTo>
                  <a:lnTo>
                    <a:pt x="579" y="0"/>
                  </a:lnTo>
                  <a:lnTo>
                    <a:pt x="594" y="0"/>
                  </a:lnTo>
                  <a:lnTo>
                    <a:pt x="599" y="0"/>
                  </a:lnTo>
                  <a:lnTo>
                    <a:pt x="603" y="4"/>
                  </a:lnTo>
                  <a:lnTo>
                    <a:pt x="613" y="4"/>
                  </a:lnTo>
                  <a:lnTo>
                    <a:pt x="627" y="9"/>
                  </a:lnTo>
                  <a:lnTo>
                    <a:pt x="642" y="19"/>
                  </a:lnTo>
                  <a:lnTo>
                    <a:pt x="656" y="28"/>
                  </a:lnTo>
                  <a:lnTo>
                    <a:pt x="675" y="38"/>
                  </a:lnTo>
                  <a:lnTo>
                    <a:pt x="699" y="47"/>
                  </a:lnTo>
                  <a:lnTo>
                    <a:pt x="713" y="62"/>
                  </a:lnTo>
                  <a:lnTo>
                    <a:pt x="733" y="71"/>
                  </a:lnTo>
                  <a:lnTo>
                    <a:pt x="742" y="81"/>
                  </a:lnTo>
                  <a:lnTo>
                    <a:pt x="757" y="91"/>
                  </a:lnTo>
                  <a:lnTo>
                    <a:pt x="761" y="100"/>
                  </a:lnTo>
                  <a:lnTo>
                    <a:pt x="771" y="105"/>
                  </a:lnTo>
                  <a:lnTo>
                    <a:pt x="776" y="110"/>
                  </a:lnTo>
                  <a:lnTo>
                    <a:pt x="776" y="115"/>
                  </a:lnTo>
                  <a:lnTo>
                    <a:pt x="771" y="124"/>
                  </a:lnTo>
                  <a:lnTo>
                    <a:pt x="766" y="134"/>
                  </a:lnTo>
                  <a:lnTo>
                    <a:pt x="761" y="143"/>
                  </a:lnTo>
                  <a:lnTo>
                    <a:pt x="747" y="148"/>
                  </a:lnTo>
                  <a:lnTo>
                    <a:pt x="737" y="153"/>
                  </a:lnTo>
                  <a:lnTo>
                    <a:pt x="733" y="162"/>
                  </a:lnTo>
                  <a:lnTo>
                    <a:pt x="728" y="172"/>
                  </a:lnTo>
                  <a:lnTo>
                    <a:pt x="723" y="186"/>
                  </a:lnTo>
                  <a:lnTo>
                    <a:pt x="718" y="201"/>
                  </a:lnTo>
                  <a:lnTo>
                    <a:pt x="713" y="220"/>
                  </a:lnTo>
                  <a:lnTo>
                    <a:pt x="709" y="239"/>
                  </a:lnTo>
                  <a:lnTo>
                    <a:pt x="704" y="263"/>
                  </a:lnTo>
                  <a:lnTo>
                    <a:pt x="699" y="292"/>
                  </a:lnTo>
                  <a:lnTo>
                    <a:pt x="694" y="320"/>
                  </a:lnTo>
                  <a:lnTo>
                    <a:pt x="685" y="354"/>
                  </a:lnTo>
                  <a:lnTo>
                    <a:pt x="675" y="388"/>
                  </a:lnTo>
                  <a:lnTo>
                    <a:pt x="661" y="431"/>
                  </a:lnTo>
                  <a:lnTo>
                    <a:pt x="651" y="474"/>
                  </a:lnTo>
                  <a:lnTo>
                    <a:pt x="637" y="522"/>
                  </a:lnTo>
                  <a:lnTo>
                    <a:pt x="618" y="570"/>
                  </a:lnTo>
                  <a:lnTo>
                    <a:pt x="613" y="598"/>
                  </a:lnTo>
                  <a:lnTo>
                    <a:pt x="603" y="622"/>
                  </a:lnTo>
                  <a:lnTo>
                    <a:pt x="594" y="646"/>
                  </a:lnTo>
                  <a:lnTo>
                    <a:pt x="589" y="665"/>
                  </a:lnTo>
                  <a:lnTo>
                    <a:pt x="579" y="689"/>
                  </a:lnTo>
                  <a:lnTo>
                    <a:pt x="570" y="708"/>
                  </a:lnTo>
                  <a:lnTo>
                    <a:pt x="565" y="728"/>
                  </a:lnTo>
                  <a:lnTo>
                    <a:pt x="555" y="747"/>
                  </a:lnTo>
                  <a:lnTo>
                    <a:pt x="546" y="761"/>
                  </a:lnTo>
                  <a:lnTo>
                    <a:pt x="541" y="775"/>
                  </a:lnTo>
                  <a:lnTo>
                    <a:pt x="531" y="790"/>
                  </a:lnTo>
                  <a:lnTo>
                    <a:pt x="527" y="799"/>
                  </a:lnTo>
                  <a:lnTo>
                    <a:pt x="517" y="814"/>
                  </a:lnTo>
                  <a:lnTo>
                    <a:pt x="512" y="823"/>
                  </a:lnTo>
                  <a:lnTo>
                    <a:pt x="503" y="828"/>
                  </a:lnTo>
                  <a:lnTo>
                    <a:pt x="498" y="838"/>
                  </a:lnTo>
                  <a:lnTo>
                    <a:pt x="484" y="852"/>
                  </a:lnTo>
                  <a:lnTo>
                    <a:pt x="469" y="862"/>
                  </a:lnTo>
                  <a:lnTo>
                    <a:pt x="455" y="871"/>
                  </a:lnTo>
                  <a:lnTo>
                    <a:pt x="445" y="881"/>
                  </a:lnTo>
                  <a:lnTo>
                    <a:pt x="436" y="886"/>
                  </a:lnTo>
                  <a:lnTo>
                    <a:pt x="426" y="890"/>
                  </a:lnTo>
                  <a:lnTo>
                    <a:pt x="421" y="895"/>
                  </a:lnTo>
                  <a:lnTo>
                    <a:pt x="412" y="895"/>
                  </a:lnTo>
                  <a:lnTo>
                    <a:pt x="407" y="895"/>
                  </a:lnTo>
                  <a:lnTo>
                    <a:pt x="402" y="890"/>
                  </a:lnTo>
                  <a:lnTo>
                    <a:pt x="397" y="886"/>
                  </a:lnTo>
                  <a:lnTo>
                    <a:pt x="393" y="881"/>
                  </a:lnTo>
                  <a:lnTo>
                    <a:pt x="388" y="876"/>
                  </a:lnTo>
                  <a:lnTo>
                    <a:pt x="383" y="866"/>
                  </a:lnTo>
                  <a:lnTo>
                    <a:pt x="383" y="857"/>
                  </a:lnTo>
                  <a:lnTo>
                    <a:pt x="378" y="847"/>
                  </a:lnTo>
                  <a:lnTo>
                    <a:pt x="373" y="833"/>
                  </a:lnTo>
                  <a:lnTo>
                    <a:pt x="369" y="819"/>
                  </a:lnTo>
                  <a:lnTo>
                    <a:pt x="364" y="804"/>
                  </a:lnTo>
                  <a:lnTo>
                    <a:pt x="354" y="790"/>
                  </a:lnTo>
                  <a:lnTo>
                    <a:pt x="345" y="775"/>
                  </a:lnTo>
                  <a:lnTo>
                    <a:pt x="335" y="756"/>
                  </a:lnTo>
                  <a:lnTo>
                    <a:pt x="326" y="737"/>
                  </a:lnTo>
                  <a:lnTo>
                    <a:pt x="306" y="723"/>
                  </a:lnTo>
                  <a:lnTo>
                    <a:pt x="292" y="704"/>
                  </a:lnTo>
                  <a:lnTo>
                    <a:pt x="282" y="694"/>
                  </a:lnTo>
                  <a:lnTo>
                    <a:pt x="273" y="680"/>
                  </a:lnTo>
                  <a:lnTo>
                    <a:pt x="268" y="670"/>
                  </a:lnTo>
                  <a:lnTo>
                    <a:pt x="263" y="661"/>
                  </a:lnTo>
                  <a:lnTo>
                    <a:pt x="263" y="656"/>
                  </a:lnTo>
                  <a:lnTo>
                    <a:pt x="263" y="651"/>
                  </a:lnTo>
                  <a:lnTo>
                    <a:pt x="263" y="646"/>
                  </a:lnTo>
                  <a:lnTo>
                    <a:pt x="268" y="646"/>
                  </a:lnTo>
                  <a:lnTo>
                    <a:pt x="273" y="646"/>
                  </a:lnTo>
                  <a:lnTo>
                    <a:pt x="278" y="651"/>
                  </a:lnTo>
                  <a:lnTo>
                    <a:pt x="287" y="651"/>
                  </a:lnTo>
                  <a:lnTo>
                    <a:pt x="297" y="656"/>
                  </a:lnTo>
                  <a:lnTo>
                    <a:pt x="306" y="665"/>
                  </a:lnTo>
                  <a:lnTo>
                    <a:pt x="321" y="670"/>
                  </a:lnTo>
                  <a:lnTo>
                    <a:pt x="335" y="680"/>
                  </a:lnTo>
                  <a:lnTo>
                    <a:pt x="345" y="689"/>
                  </a:lnTo>
                  <a:lnTo>
                    <a:pt x="359" y="694"/>
                  </a:lnTo>
                  <a:lnTo>
                    <a:pt x="369" y="699"/>
                  </a:lnTo>
                  <a:lnTo>
                    <a:pt x="378" y="704"/>
                  </a:lnTo>
                  <a:lnTo>
                    <a:pt x="388" y="708"/>
                  </a:lnTo>
                  <a:lnTo>
                    <a:pt x="397" y="708"/>
                  </a:lnTo>
                  <a:lnTo>
                    <a:pt x="407" y="708"/>
                  </a:lnTo>
                  <a:lnTo>
                    <a:pt x="412" y="70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5531400" y="2919960"/>
              <a:ext cx="388080" cy="219960"/>
            </a:xfrm>
            <a:custGeom>
              <a:avLst/>
              <a:gdLst/>
              <a:ahLst/>
              <a:rect l="l" t="t" r="r" b="b"/>
              <a:pathLst>
                <a:path w="321" h="182">
                  <a:moveTo>
                    <a:pt x="210" y="24"/>
                  </a:moveTo>
                  <a:lnTo>
                    <a:pt x="230" y="34"/>
                  </a:lnTo>
                  <a:lnTo>
                    <a:pt x="249" y="38"/>
                  </a:lnTo>
                  <a:lnTo>
                    <a:pt x="263" y="43"/>
                  </a:lnTo>
                  <a:lnTo>
                    <a:pt x="277" y="48"/>
                  </a:lnTo>
                  <a:lnTo>
                    <a:pt x="292" y="58"/>
                  </a:lnTo>
                  <a:lnTo>
                    <a:pt x="301" y="62"/>
                  </a:lnTo>
                  <a:lnTo>
                    <a:pt x="306" y="67"/>
                  </a:lnTo>
                  <a:lnTo>
                    <a:pt x="311" y="77"/>
                  </a:lnTo>
                  <a:lnTo>
                    <a:pt x="316" y="91"/>
                  </a:lnTo>
                  <a:lnTo>
                    <a:pt x="321" y="105"/>
                  </a:lnTo>
                  <a:lnTo>
                    <a:pt x="321" y="125"/>
                  </a:lnTo>
                  <a:lnTo>
                    <a:pt x="321" y="139"/>
                  </a:lnTo>
                  <a:lnTo>
                    <a:pt x="321" y="149"/>
                  </a:lnTo>
                  <a:lnTo>
                    <a:pt x="316" y="158"/>
                  </a:lnTo>
                  <a:lnTo>
                    <a:pt x="316" y="163"/>
                  </a:lnTo>
                  <a:lnTo>
                    <a:pt x="311" y="173"/>
                  </a:lnTo>
                  <a:lnTo>
                    <a:pt x="301" y="177"/>
                  </a:lnTo>
                  <a:lnTo>
                    <a:pt x="297" y="177"/>
                  </a:lnTo>
                  <a:lnTo>
                    <a:pt x="287" y="182"/>
                  </a:lnTo>
                  <a:lnTo>
                    <a:pt x="277" y="182"/>
                  </a:lnTo>
                  <a:lnTo>
                    <a:pt x="273" y="182"/>
                  </a:lnTo>
                  <a:lnTo>
                    <a:pt x="263" y="182"/>
                  </a:lnTo>
                  <a:lnTo>
                    <a:pt x="254" y="177"/>
                  </a:lnTo>
                  <a:lnTo>
                    <a:pt x="244" y="173"/>
                  </a:lnTo>
                  <a:lnTo>
                    <a:pt x="234" y="168"/>
                  </a:lnTo>
                  <a:lnTo>
                    <a:pt x="220" y="163"/>
                  </a:lnTo>
                  <a:lnTo>
                    <a:pt x="206" y="153"/>
                  </a:lnTo>
                  <a:lnTo>
                    <a:pt x="186" y="144"/>
                  </a:lnTo>
                  <a:lnTo>
                    <a:pt x="167" y="134"/>
                  </a:lnTo>
                  <a:lnTo>
                    <a:pt x="148" y="125"/>
                  </a:lnTo>
                  <a:lnTo>
                    <a:pt x="129" y="110"/>
                  </a:lnTo>
                  <a:lnTo>
                    <a:pt x="105" y="101"/>
                  </a:lnTo>
                  <a:lnTo>
                    <a:pt x="81" y="86"/>
                  </a:lnTo>
                  <a:lnTo>
                    <a:pt x="57" y="67"/>
                  </a:lnTo>
                  <a:lnTo>
                    <a:pt x="28" y="53"/>
                  </a:lnTo>
                  <a:lnTo>
                    <a:pt x="0" y="34"/>
                  </a:lnTo>
                  <a:lnTo>
                    <a:pt x="19" y="24"/>
                  </a:lnTo>
                  <a:lnTo>
                    <a:pt x="38" y="14"/>
                  </a:lnTo>
                  <a:lnTo>
                    <a:pt x="62" y="5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48" y="10"/>
                  </a:lnTo>
                  <a:lnTo>
                    <a:pt x="167" y="14"/>
                  </a:lnTo>
                  <a:lnTo>
                    <a:pt x="186" y="19"/>
                  </a:lnTo>
                  <a:lnTo>
                    <a:pt x="210" y="2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3909240" y="3592800"/>
              <a:ext cx="2120040" cy="288720"/>
            </a:xfrm>
            <a:custGeom>
              <a:avLst/>
              <a:gdLst/>
              <a:ahLst/>
              <a:rect l="l" t="t" r="r" b="b"/>
              <a:pathLst>
                <a:path w="1753" h="239">
                  <a:moveTo>
                    <a:pt x="1542" y="0"/>
                  </a:moveTo>
                  <a:lnTo>
                    <a:pt x="1575" y="0"/>
                  </a:lnTo>
                  <a:lnTo>
                    <a:pt x="1604" y="9"/>
                  </a:lnTo>
                  <a:lnTo>
                    <a:pt x="1623" y="9"/>
                  </a:lnTo>
                  <a:lnTo>
                    <a:pt x="1638" y="19"/>
                  </a:lnTo>
                  <a:lnTo>
                    <a:pt x="1652" y="24"/>
                  </a:lnTo>
                  <a:lnTo>
                    <a:pt x="1671" y="33"/>
                  </a:lnTo>
                  <a:lnTo>
                    <a:pt x="1686" y="43"/>
                  </a:lnTo>
                  <a:lnTo>
                    <a:pt x="1700" y="52"/>
                  </a:lnTo>
                  <a:lnTo>
                    <a:pt x="1709" y="57"/>
                  </a:lnTo>
                  <a:lnTo>
                    <a:pt x="1724" y="62"/>
                  </a:lnTo>
                  <a:lnTo>
                    <a:pt x="1729" y="72"/>
                  </a:lnTo>
                  <a:lnTo>
                    <a:pt x="1738" y="76"/>
                  </a:lnTo>
                  <a:lnTo>
                    <a:pt x="1743" y="81"/>
                  </a:lnTo>
                  <a:lnTo>
                    <a:pt x="1748" y="81"/>
                  </a:lnTo>
                  <a:lnTo>
                    <a:pt x="1753" y="96"/>
                  </a:lnTo>
                  <a:lnTo>
                    <a:pt x="1753" y="100"/>
                  </a:lnTo>
                  <a:lnTo>
                    <a:pt x="1753" y="110"/>
                  </a:lnTo>
                  <a:lnTo>
                    <a:pt x="1748" y="115"/>
                  </a:lnTo>
                  <a:lnTo>
                    <a:pt x="1743" y="119"/>
                  </a:lnTo>
                  <a:lnTo>
                    <a:pt x="1733" y="119"/>
                  </a:lnTo>
                  <a:lnTo>
                    <a:pt x="1729" y="124"/>
                  </a:lnTo>
                  <a:lnTo>
                    <a:pt x="1719" y="124"/>
                  </a:lnTo>
                  <a:lnTo>
                    <a:pt x="1705" y="124"/>
                  </a:lnTo>
                  <a:lnTo>
                    <a:pt x="1690" y="124"/>
                  </a:lnTo>
                  <a:lnTo>
                    <a:pt x="1676" y="124"/>
                  </a:lnTo>
                  <a:lnTo>
                    <a:pt x="1662" y="129"/>
                  </a:lnTo>
                  <a:lnTo>
                    <a:pt x="1642" y="129"/>
                  </a:lnTo>
                  <a:lnTo>
                    <a:pt x="1618" y="129"/>
                  </a:lnTo>
                  <a:lnTo>
                    <a:pt x="1599" y="129"/>
                  </a:lnTo>
                  <a:lnTo>
                    <a:pt x="1575" y="129"/>
                  </a:lnTo>
                  <a:lnTo>
                    <a:pt x="1547" y="124"/>
                  </a:lnTo>
                  <a:lnTo>
                    <a:pt x="1518" y="124"/>
                  </a:lnTo>
                  <a:lnTo>
                    <a:pt x="1489" y="124"/>
                  </a:lnTo>
                  <a:lnTo>
                    <a:pt x="1427" y="119"/>
                  </a:lnTo>
                  <a:lnTo>
                    <a:pt x="1365" y="119"/>
                  </a:lnTo>
                  <a:lnTo>
                    <a:pt x="1245" y="124"/>
                  </a:lnTo>
                  <a:lnTo>
                    <a:pt x="1125" y="124"/>
                  </a:lnTo>
                  <a:lnTo>
                    <a:pt x="1005" y="134"/>
                  </a:lnTo>
                  <a:lnTo>
                    <a:pt x="948" y="139"/>
                  </a:lnTo>
                  <a:lnTo>
                    <a:pt x="895" y="143"/>
                  </a:lnTo>
                  <a:lnTo>
                    <a:pt x="843" y="153"/>
                  </a:lnTo>
                  <a:lnTo>
                    <a:pt x="790" y="158"/>
                  </a:lnTo>
                  <a:lnTo>
                    <a:pt x="742" y="163"/>
                  </a:lnTo>
                  <a:lnTo>
                    <a:pt x="694" y="167"/>
                  </a:lnTo>
                  <a:lnTo>
                    <a:pt x="651" y="172"/>
                  </a:lnTo>
                  <a:lnTo>
                    <a:pt x="608" y="172"/>
                  </a:lnTo>
                  <a:lnTo>
                    <a:pt x="526" y="187"/>
                  </a:lnTo>
                  <a:lnTo>
                    <a:pt x="440" y="196"/>
                  </a:lnTo>
                  <a:lnTo>
                    <a:pt x="354" y="206"/>
                  </a:lnTo>
                  <a:lnTo>
                    <a:pt x="273" y="215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15" y="225"/>
                  </a:lnTo>
                  <a:lnTo>
                    <a:pt x="196" y="225"/>
                  </a:lnTo>
                  <a:lnTo>
                    <a:pt x="182" y="230"/>
                  </a:lnTo>
                  <a:lnTo>
                    <a:pt x="167" y="230"/>
                  </a:lnTo>
                  <a:lnTo>
                    <a:pt x="153" y="234"/>
                  </a:lnTo>
                  <a:lnTo>
                    <a:pt x="143" y="234"/>
                  </a:lnTo>
                  <a:lnTo>
                    <a:pt x="134" y="234"/>
                  </a:lnTo>
                  <a:lnTo>
                    <a:pt x="124" y="239"/>
                  </a:lnTo>
                  <a:lnTo>
                    <a:pt x="115" y="239"/>
                  </a:lnTo>
                  <a:lnTo>
                    <a:pt x="105" y="239"/>
                  </a:lnTo>
                  <a:lnTo>
                    <a:pt x="100" y="239"/>
                  </a:lnTo>
                  <a:lnTo>
                    <a:pt x="95" y="239"/>
                  </a:lnTo>
                  <a:lnTo>
                    <a:pt x="91" y="239"/>
                  </a:lnTo>
                  <a:lnTo>
                    <a:pt x="86" y="239"/>
                  </a:lnTo>
                  <a:lnTo>
                    <a:pt x="81" y="239"/>
                  </a:lnTo>
                  <a:lnTo>
                    <a:pt x="76" y="234"/>
                  </a:lnTo>
                  <a:lnTo>
                    <a:pt x="67" y="234"/>
                  </a:lnTo>
                  <a:lnTo>
                    <a:pt x="57" y="230"/>
                  </a:lnTo>
                  <a:lnTo>
                    <a:pt x="47" y="225"/>
                  </a:lnTo>
                  <a:lnTo>
                    <a:pt x="38" y="215"/>
                  </a:lnTo>
                  <a:lnTo>
                    <a:pt x="28" y="206"/>
                  </a:lnTo>
                  <a:lnTo>
                    <a:pt x="24" y="196"/>
                  </a:lnTo>
                  <a:lnTo>
                    <a:pt x="14" y="191"/>
                  </a:lnTo>
                  <a:lnTo>
                    <a:pt x="9" y="182"/>
                  </a:lnTo>
                  <a:lnTo>
                    <a:pt x="4" y="177"/>
                  </a:lnTo>
                  <a:lnTo>
                    <a:pt x="4" y="172"/>
                  </a:lnTo>
                  <a:lnTo>
                    <a:pt x="0" y="167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9" y="153"/>
                  </a:lnTo>
                  <a:lnTo>
                    <a:pt x="28" y="153"/>
                  </a:lnTo>
                  <a:lnTo>
                    <a:pt x="43" y="148"/>
                  </a:lnTo>
                  <a:lnTo>
                    <a:pt x="62" y="148"/>
                  </a:lnTo>
                  <a:lnTo>
                    <a:pt x="86" y="148"/>
                  </a:lnTo>
                  <a:lnTo>
                    <a:pt x="115" y="143"/>
                  </a:lnTo>
                  <a:lnTo>
                    <a:pt x="143" y="139"/>
                  </a:lnTo>
                  <a:lnTo>
                    <a:pt x="177" y="139"/>
                  </a:lnTo>
                  <a:lnTo>
                    <a:pt x="215" y="134"/>
                  </a:lnTo>
                  <a:lnTo>
                    <a:pt x="258" y="129"/>
                  </a:lnTo>
                  <a:lnTo>
                    <a:pt x="306" y="129"/>
                  </a:lnTo>
                  <a:lnTo>
                    <a:pt x="354" y="124"/>
                  </a:lnTo>
                  <a:lnTo>
                    <a:pt x="411" y="119"/>
                  </a:lnTo>
                  <a:lnTo>
                    <a:pt x="469" y="115"/>
                  </a:lnTo>
                  <a:lnTo>
                    <a:pt x="531" y="110"/>
                  </a:lnTo>
                  <a:lnTo>
                    <a:pt x="651" y="96"/>
                  </a:lnTo>
                  <a:lnTo>
                    <a:pt x="713" y="91"/>
                  </a:lnTo>
                  <a:lnTo>
                    <a:pt x="771" y="81"/>
                  </a:lnTo>
                  <a:lnTo>
                    <a:pt x="828" y="76"/>
                  </a:lnTo>
                  <a:lnTo>
                    <a:pt x="881" y="72"/>
                  </a:lnTo>
                  <a:lnTo>
                    <a:pt x="938" y="62"/>
                  </a:lnTo>
                  <a:lnTo>
                    <a:pt x="986" y="57"/>
                  </a:lnTo>
                  <a:lnTo>
                    <a:pt x="1039" y="52"/>
                  </a:lnTo>
                  <a:lnTo>
                    <a:pt x="1087" y="52"/>
                  </a:lnTo>
                  <a:lnTo>
                    <a:pt x="1135" y="48"/>
                  </a:lnTo>
                  <a:lnTo>
                    <a:pt x="1183" y="38"/>
                  </a:lnTo>
                  <a:lnTo>
                    <a:pt x="1226" y="33"/>
                  </a:lnTo>
                  <a:lnTo>
                    <a:pt x="1264" y="28"/>
                  </a:lnTo>
                  <a:lnTo>
                    <a:pt x="1307" y="24"/>
                  </a:lnTo>
                  <a:lnTo>
                    <a:pt x="1341" y="14"/>
                  </a:lnTo>
                  <a:lnTo>
                    <a:pt x="1379" y="14"/>
                  </a:lnTo>
                  <a:lnTo>
                    <a:pt x="1408" y="9"/>
                  </a:lnTo>
                  <a:lnTo>
                    <a:pt x="1436" y="9"/>
                  </a:lnTo>
                  <a:lnTo>
                    <a:pt x="1465" y="5"/>
                  </a:lnTo>
                  <a:lnTo>
                    <a:pt x="1489" y="5"/>
                  </a:lnTo>
                  <a:lnTo>
                    <a:pt x="1508" y="0"/>
                  </a:lnTo>
                  <a:lnTo>
                    <a:pt x="1527" y="0"/>
                  </a:lnTo>
                  <a:lnTo>
                    <a:pt x="1542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4841640" y="3511440"/>
              <a:ext cx="191160" cy="1233720"/>
            </a:xfrm>
            <a:custGeom>
              <a:avLst/>
              <a:gdLst/>
              <a:ahLst/>
              <a:rect l="l" t="t" r="r" b="b"/>
              <a:pathLst>
                <a:path w="158" h="1020">
                  <a:moveTo>
                    <a:pt x="19" y="76"/>
                  </a:moveTo>
                  <a:lnTo>
                    <a:pt x="9" y="5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4"/>
                  </a:lnTo>
                  <a:lnTo>
                    <a:pt x="100" y="9"/>
                  </a:lnTo>
                  <a:lnTo>
                    <a:pt x="124" y="19"/>
                  </a:lnTo>
                  <a:lnTo>
                    <a:pt x="139" y="33"/>
                  </a:lnTo>
                  <a:lnTo>
                    <a:pt x="148" y="38"/>
                  </a:lnTo>
                  <a:lnTo>
                    <a:pt x="153" y="48"/>
                  </a:lnTo>
                  <a:lnTo>
                    <a:pt x="158" y="57"/>
                  </a:lnTo>
                  <a:lnTo>
                    <a:pt x="158" y="67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91"/>
                  </a:lnTo>
                  <a:lnTo>
                    <a:pt x="153" y="100"/>
                  </a:lnTo>
                  <a:lnTo>
                    <a:pt x="153" y="115"/>
                  </a:lnTo>
                  <a:lnTo>
                    <a:pt x="153" y="129"/>
                  </a:lnTo>
                  <a:lnTo>
                    <a:pt x="148" y="148"/>
                  </a:lnTo>
                  <a:lnTo>
                    <a:pt x="148" y="172"/>
                  </a:lnTo>
                  <a:lnTo>
                    <a:pt x="148" y="191"/>
                  </a:lnTo>
                  <a:lnTo>
                    <a:pt x="143" y="220"/>
                  </a:lnTo>
                  <a:lnTo>
                    <a:pt x="143" y="249"/>
                  </a:lnTo>
                  <a:lnTo>
                    <a:pt x="143" y="282"/>
                  </a:lnTo>
                  <a:lnTo>
                    <a:pt x="143" y="316"/>
                  </a:lnTo>
                  <a:lnTo>
                    <a:pt x="143" y="354"/>
                  </a:lnTo>
                  <a:lnTo>
                    <a:pt x="139" y="392"/>
                  </a:lnTo>
                  <a:lnTo>
                    <a:pt x="139" y="436"/>
                  </a:lnTo>
                  <a:lnTo>
                    <a:pt x="139" y="483"/>
                  </a:lnTo>
                  <a:lnTo>
                    <a:pt x="139" y="531"/>
                  </a:lnTo>
                  <a:lnTo>
                    <a:pt x="139" y="579"/>
                  </a:lnTo>
                  <a:lnTo>
                    <a:pt x="139" y="627"/>
                  </a:lnTo>
                  <a:lnTo>
                    <a:pt x="139" y="670"/>
                  </a:lnTo>
                  <a:lnTo>
                    <a:pt x="139" y="709"/>
                  </a:lnTo>
                  <a:lnTo>
                    <a:pt x="139" y="747"/>
                  </a:lnTo>
                  <a:lnTo>
                    <a:pt x="139" y="780"/>
                  </a:lnTo>
                  <a:lnTo>
                    <a:pt x="134" y="814"/>
                  </a:lnTo>
                  <a:lnTo>
                    <a:pt x="134" y="843"/>
                  </a:lnTo>
                  <a:lnTo>
                    <a:pt x="134" y="867"/>
                  </a:lnTo>
                  <a:lnTo>
                    <a:pt x="134" y="891"/>
                  </a:lnTo>
                  <a:lnTo>
                    <a:pt x="129" y="914"/>
                  </a:lnTo>
                  <a:lnTo>
                    <a:pt x="129" y="934"/>
                  </a:lnTo>
                  <a:lnTo>
                    <a:pt x="129" y="948"/>
                  </a:lnTo>
                  <a:lnTo>
                    <a:pt x="124" y="962"/>
                  </a:lnTo>
                  <a:lnTo>
                    <a:pt x="124" y="972"/>
                  </a:lnTo>
                  <a:lnTo>
                    <a:pt x="124" y="977"/>
                  </a:lnTo>
                  <a:lnTo>
                    <a:pt x="110" y="996"/>
                  </a:lnTo>
                  <a:lnTo>
                    <a:pt x="100" y="1010"/>
                  </a:lnTo>
                  <a:lnTo>
                    <a:pt x="91" y="1015"/>
                  </a:lnTo>
                  <a:lnTo>
                    <a:pt x="86" y="1020"/>
                  </a:lnTo>
                  <a:lnTo>
                    <a:pt x="81" y="1020"/>
                  </a:lnTo>
                  <a:lnTo>
                    <a:pt x="76" y="1020"/>
                  </a:lnTo>
                  <a:lnTo>
                    <a:pt x="72" y="1015"/>
                  </a:lnTo>
                  <a:lnTo>
                    <a:pt x="67" y="1010"/>
                  </a:lnTo>
                  <a:lnTo>
                    <a:pt x="62" y="1001"/>
                  </a:lnTo>
                  <a:lnTo>
                    <a:pt x="57" y="991"/>
                  </a:lnTo>
                  <a:lnTo>
                    <a:pt x="48" y="977"/>
                  </a:lnTo>
                  <a:lnTo>
                    <a:pt x="43" y="958"/>
                  </a:lnTo>
                  <a:lnTo>
                    <a:pt x="38" y="938"/>
                  </a:lnTo>
                  <a:lnTo>
                    <a:pt x="28" y="914"/>
                  </a:lnTo>
                  <a:lnTo>
                    <a:pt x="24" y="895"/>
                  </a:lnTo>
                  <a:lnTo>
                    <a:pt x="19" y="876"/>
                  </a:lnTo>
                  <a:lnTo>
                    <a:pt x="14" y="857"/>
                  </a:lnTo>
                  <a:lnTo>
                    <a:pt x="14" y="838"/>
                  </a:lnTo>
                  <a:lnTo>
                    <a:pt x="14" y="819"/>
                  </a:lnTo>
                  <a:lnTo>
                    <a:pt x="14" y="800"/>
                  </a:lnTo>
                  <a:lnTo>
                    <a:pt x="19" y="780"/>
                  </a:lnTo>
                  <a:lnTo>
                    <a:pt x="24" y="761"/>
                  </a:lnTo>
                  <a:lnTo>
                    <a:pt x="28" y="742"/>
                  </a:lnTo>
                  <a:lnTo>
                    <a:pt x="33" y="723"/>
                  </a:lnTo>
                  <a:lnTo>
                    <a:pt x="38" y="699"/>
                  </a:lnTo>
                  <a:lnTo>
                    <a:pt x="43" y="670"/>
                  </a:lnTo>
                  <a:lnTo>
                    <a:pt x="48" y="637"/>
                  </a:lnTo>
                  <a:lnTo>
                    <a:pt x="48" y="603"/>
                  </a:lnTo>
                  <a:lnTo>
                    <a:pt x="52" y="565"/>
                  </a:lnTo>
                  <a:lnTo>
                    <a:pt x="57" y="488"/>
                  </a:lnTo>
                  <a:lnTo>
                    <a:pt x="62" y="416"/>
                  </a:lnTo>
                  <a:lnTo>
                    <a:pt x="62" y="335"/>
                  </a:lnTo>
                  <a:lnTo>
                    <a:pt x="62" y="258"/>
                  </a:lnTo>
                  <a:lnTo>
                    <a:pt x="57" y="220"/>
                  </a:lnTo>
                  <a:lnTo>
                    <a:pt x="57" y="191"/>
                  </a:lnTo>
                  <a:lnTo>
                    <a:pt x="52" y="163"/>
                  </a:lnTo>
                  <a:lnTo>
                    <a:pt x="48" y="139"/>
                  </a:lnTo>
                  <a:lnTo>
                    <a:pt x="43" y="119"/>
                  </a:lnTo>
                  <a:lnTo>
                    <a:pt x="33" y="100"/>
                  </a:lnTo>
                  <a:lnTo>
                    <a:pt x="28" y="86"/>
                  </a:lnTo>
                  <a:lnTo>
                    <a:pt x="19" y="7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>
              <a:off x="3966120" y="3754440"/>
              <a:ext cx="990360" cy="793440"/>
            </a:xfrm>
            <a:custGeom>
              <a:avLst/>
              <a:gdLst/>
              <a:ahLst/>
              <a:rect l="l" t="t" r="r" b="b"/>
              <a:pathLst>
                <a:path w="819" h="656">
                  <a:moveTo>
                    <a:pt x="374" y="469"/>
                  </a:moveTo>
                  <a:lnTo>
                    <a:pt x="312" y="508"/>
                  </a:lnTo>
                  <a:lnTo>
                    <a:pt x="250" y="541"/>
                  </a:lnTo>
                  <a:lnTo>
                    <a:pt x="192" y="575"/>
                  </a:lnTo>
                  <a:lnTo>
                    <a:pt x="130" y="613"/>
                  </a:lnTo>
                  <a:lnTo>
                    <a:pt x="101" y="627"/>
                  </a:lnTo>
                  <a:lnTo>
                    <a:pt x="77" y="637"/>
                  </a:lnTo>
                  <a:lnTo>
                    <a:pt x="58" y="646"/>
                  </a:lnTo>
                  <a:lnTo>
                    <a:pt x="39" y="651"/>
                  </a:lnTo>
                  <a:lnTo>
                    <a:pt x="24" y="656"/>
                  </a:lnTo>
                  <a:lnTo>
                    <a:pt x="15" y="656"/>
                  </a:lnTo>
                  <a:lnTo>
                    <a:pt x="5" y="656"/>
                  </a:lnTo>
                  <a:lnTo>
                    <a:pt x="0" y="656"/>
                  </a:lnTo>
                  <a:lnTo>
                    <a:pt x="0" y="651"/>
                  </a:lnTo>
                  <a:lnTo>
                    <a:pt x="0" y="642"/>
                  </a:lnTo>
                  <a:lnTo>
                    <a:pt x="5" y="637"/>
                  </a:lnTo>
                  <a:lnTo>
                    <a:pt x="15" y="627"/>
                  </a:lnTo>
                  <a:lnTo>
                    <a:pt x="29" y="613"/>
                  </a:lnTo>
                  <a:lnTo>
                    <a:pt x="48" y="599"/>
                  </a:lnTo>
                  <a:lnTo>
                    <a:pt x="68" y="584"/>
                  </a:lnTo>
                  <a:lnTo>
                    <a:pt x="96" y="570"/>
                  </a:lnTo>
                  <a:lnTo>
                    <a:pt x="149" y="536"/>
                  </a:lnTo>
                  <a:lnTo>
                    <a:pt x="197" y="503"/>
                  </a:lnTo>
                  <a:lnTo>
                    <a:pt x="250" y="464"/>
                  </a:lnTo>
                  <a:lnTo>
                    <a:pt x="293" y="421"/>
                  </a:lnTo>
                  <a:lnTo>
                    <a:pt x="307" y="412"/>
                  </a:lnTo>
                  <a:lnTo>
                    <a:pt x="321" y="397"/>
                  </a:lnTo>
                  <a:lnTo>
                    <a:pt x="336" y="383"/>
                  </a:lnTo>
                  <a:lnTo>
                    <a:pt x="355" y="369"/>
                  </a:lnTo>
                  <a:lnTo>
                    <a:pt x="374" y="349"/>
                  </a:lnTo>
                  <a:lnTo>
                    <a:pt x="393" y="326"/>
                  </a:lnTo>
                  <a:lnTo>
                    <a:pt x="412" y="306"/>
                  </a:lnTo>
                  <a:lnTo>
                    <a:pt x="436" y="278"/>
                  </a:lnTo>
                  <a:lnTo>
                    <a:pt x="465" y="254"/>
                  </a:lnTo>
                  <a:lnTo>
                    <a:pt x="494" y="220"/>
                  </a:lnTo>
                  <a:lnTo>
                    <a:pt x="523" y="191"/>
                  </a:lnTo>
                  <a:lnTo>
                    <a:pt x="551" y="158"/>
                  </a:lnTo>
                  <a:lnTo>
                    <a:pt x="585" y="120"/>
                  </a:lnTo>
                  <a:lnTo>
                    <a:pt x="618" y="81"/>
                  </a:lnTo>
                  <a:lnTo>
                    <a:pt x="652" y="43"/>
                  </a:lnTo>
                  <a:lnTo>
                    <a:pt x="690" y="0"/>
                  </a:lnTo>
                  <a:lnTo>
                    <a:pt x="757" y="14"/>
                  </a:lnTo>
                  <a:lnTo>
                    <a:pt x="819" y="33"/>
                  </a:lnTo>
                  <a:lnTo>
                    <a:pt x="781" y="76"/>
                  </a:lnTo>
                  <a:lnTo>
                    <a:pt x="743" y="120"/>
                  </a:lnTo>
                  <a:lnTo>
                    <a:pt x="705" y="158"/>
                  </a:lnTo>
                  <a:lnTo>
                    <a:pt x="671" y="196"/>
                  </a:lnTo>
                  <a:lnTo>
                    <a:pt x="637" y="230"/>
                  </a:lnTo>
                  <a:lnTo>
                    <a:pt x="604" y="263"/>
                  </a:lnTo>
                  <a:lnTo>
                    <a:pt x="575" y="292"/>
                  </a:lnTo>
                  <a:lnTo>
                    <a:pt x="546" y="321"/>
                  </a:lnTo>
                  <a:lnTo>
                    <a:pt x="518" y="345"/>
                  </a:lnTo>
                  <a:lnTo>
                    <a:pt x="494" y="369"/>
                  </a:lnTo>
                  <a:lnTo>
                    <a:pt x="465" y="393"/>
                  </a:lnTo>
                  <a:lnTo>
                    <a:pt x="446" y="412"/>
                  </a:lnTo>
                  <a:lnTo>
                    <a:pt x="422" y="431"/>
                  </a:lnTo>
                  <a:lnTo>
                    <a:pt x="403" y="445"/>
                  </a:lnTo>
                  <a:lnTo>
                    <a:pt x="388" y="460"/>
                  </a:lnTo>
                  <a:lnTo>
                    <a:pt x="374" y="46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>
              <a:off x="4939560" y="3742560"/>
              <a:ext cx="1268640" cy="759600"/>
            </a:xfrm>
            <a:custGeom>
              <a:avLst/>
              <a:gdLst/>
              <a:ahLst/>
              <a:rect l="l" t="t" r="r" b="b"/>
              <a:pathLst>
                <a:path w="1049" h="628">
                  <a:moveTo>
                    <a:pt x="24" y="0"/>
                  </a:moveTo>
                  <a:lnTo>
                    <a:pt x="53" y="29"/>
                  </a:lnTo>
                  <a:lnTo>
                    <a:pt x="86" y="58"/>
                  </a:lnTo>
                  <a:lnTo>
                    <a:pt x="125" y="86"/>
                  </a:lnTo>
                  <a:lnTo>
                    <a:pt x="158" y="115"/>
                  </a:lnTo>
                  <a:lnTo>
                    <a:pt x="201" y="144"/>
                  </a:lnTo>
                  <a:lnTo>
                    <a:pt x="244" y="173"/>
                  </a:lnTo>
                  <a:lnTo>
                    <a:pt x="288" y="201"/>
                  </a:lnTo>
                  <a:lnTo>
                    <a:pt x="335" y="230"/>
                  </a:lnTo>
                  <a:lnTo>
                    <a:pt x="383" y="268"/>
                  </a:lnTo>
                  <a:lnTo>
                    <a:pt x="431" y="297"/>
                  </a:lnTo>
                  <a:lnTo>
                    <a:pt x="484" y="326"/>
                  </a:lnTo>
                  <a:lnTo>
                    <a:pt x="537" y="355"/>
                  </a:lnTo>
                  <a:lnTo>
                    <a:pt x="594" y="383"/>
                  </a:lnTo>
                  <a:lnTo>
                    <a:pt x="656" y="407"/>
                  </a:lnTo>
                  <a:lnTo>
                    <a:pt x="719" y="431"/>
                  </a:lnTo>
                  <a:lnTo>
                    <a:pt x="786" y="455"/>
                  </a:lnTo>
                  <a:lnTo>
                    <a:pt x="814" y="470"/>
                  </a:lnTo>
                  <a:lnTo>
                    <a:pt x="848" y="479"/>
                  </a:lnTo>
                  <a:lnTo>
                    <a:pt x="877" y="489"/>
                  </a:lnTo>
                  <a:lnTo>
                    <a:pt x="901" y="498"/>
                  </a:lnTo>
                  <a:lnTo>
                    <a:pt x="925" y="508"/>
                  </a:lnTo>
                  <a:lnTo>
                    <a:pt x="948" y="518"/>
                  </a:lnTo>
                  <a:lnTo>
                    <a:pt x="968" y="527"/>
                  </a:lnTo>
                  <a:lnTo>
                    <a:pt x="987" y="532"/>
                  </a:lnTo>
                  <a:lnTo>
                    <a:pt x="1001" y="537"/>
                  </a:lnTo>
                  <a:lnTo>
                    <a:pt x="1016" y="546"/>
                  </a:lnTo>
                  <a:lnTo>
                    <a:pt x="1025" y="551"/>
                  </a:lnTo>
                  <a:lnTo>
                    <a:pt x="1035" y="551"/>
                  </a:lnTo>
                  <a:lnTo>
                    <a:pt x="1044" y="556"/>
                  </a:lnTo>
                  <a:lnTo>
                    <a:pt x="1049" y="561"/>
                  </a:lnTo>
                  <a:lnTo>
                    <a:pt x="1049" y="565"/>
                  </a:lnTo>
                  <a:lnTo>
                    <a:pt x="1044" y="570"/>
                  </a:lnTo>
                  <a:lnTo>
                    <a:pt x="1039" y="570"/>
                  </a:lnTo>
                  <a:lnTo>
                    <a:pt x="1035" y="575"/>
                  </a:lnTo>
                  <a:lnTo>
                    <a:pt x="1030" y="575"/>
                  </a:lnTo>
                  <a:lnTo>
                    <a:pt x="1020" y="580"/>
                  </a:lnTo>
                  <a:lnTo>
                    <a:pt x="1011" y="580"/>
                  </a:lnTo>
                  <a:lnTo>
                    <a:pt x="1001" y="585"/>
                  </a:lnTo>
                  <a:lnTo>
                    <a:pt x="992" y="589"/>
                  </a:lnTo>
                  <a:lnTo>
                    <a:pt x="977" y="589"/>
                  </a:lnTo>
                  <a:lnTo>
                    <a:pt x="963" y="594"/>
                  </a:lnTo>
                  <a:lnTo>
                    <a:pt x="948" y="594"/>
                  </a:lnTo>
                  <a:lnTo>
                    <a:pt x="934" y="599"/>
                  </a:lnTo>
                  <a:lnTo>
                    <a:pt x="915" y="604"/>
                  </a:lnTo>
                  <a:lnTo>
                    <a:pt x="896" y="604"/>
                  </a:lnTo>
                  <a:lnTo>
                    <a:pt x="857" y="613"/>
                  </a:lnTo>
                  <a:lnTo>
                    <a:pt x="819" y="618"/>
                  </a:lnTo>
                  <a:lnTo>
                    <a:pt x="786" y="623"/>
                  </a:lnTo>
                  <a:lnTo>
                    <a:pt x="752" y="623"/>
                  </a:lnTo>
                  <a:lnTo>
                    <a:pt x="723" y="623"/>
                  </a:lnTo>
                  <a:lnTo>
                    <a:pt x="699" y="628"/>
                  </a:lnTo>
                  <a:lnTo>
                    <a:pt x="675" y="623"/>
                  </a:lnTo>
                  <a:lnTo>
                    <a:pt x="656" y="623"/>
                  </a:lnTo>
                  <a:lnTo>
                    <a:pt x="632" y="618"/>
                  </a:lnTo>
                  <a:lnTo>
                    <a:pt x="604" y="609"/>
                  </a:lnTo>
                  <a:lnTo>
                    <a:pt x="580" y="594"/>
                  </a:lnTo>
                  <a:lnTo>
                    <a:pt x="551" y="575"/>
                  </a:lnTo>
                  <a:lnTo>
                    <a:pt x="522" y="551"/>
                  </a:lnTo>
                  <a:lnTo>
                    <a:pt x="489" y="522"/>
                  </a:lnTo>
                  <a:lnTo>
                    <a:pt x="474" y="503"/>
                  </a:lnTo>
                  <a:lnTo>
                    <a:pt x="455" y="489"/>
                  </a:lnTo>
                  <a:lnTo>
                    <a:pt x="441" y="470"/>
                  </a:lnTo>
                  <a:lnTo>
                    <a:pt x="422" y="450"/>
                  </a:lnTo>
                  <a:lnTo>
                    <a:pt x="383" y="412"/>
                  </a:lnTo>
                  <a:lnTo>
                    <a:pt x="350" y="379"/>
                  </a:lnTo>
                  <a:lnTo>
                    <a:pt x="321" y="350"/>
                  </a:lnTo>
                  <a:lnTo>
                    <a:pt x="292" y="326"/>
                  </a:lnTo>
                  <a:lnTo>
                    <a:pt x="264" y="302"/>
                  </a:lnTo>
                  <a:lnTo>
                    <a:pt x="244" y="278"/>
                  </a:lnTo>
                  <a:lnTo>
                    <a:pt x="225" y="264"/>
                  </a:lnTo>
                  <a:lnTo>
                    <a:pt x="206" y="249"/>
                  </a:lnTo>
                  <a:lnTo>
                    <a:pt x="187" y="235"/>
                  </a:lnTo>
                  <a:lnTo>
                    <a:pt x="168" y="216"/>
                  </a:lnTo>
                  <a:lnTo>
                    <a:pt x="144" y="197"/>
                  </a:lnTo>
                  <a:lnTo>
                    <a:pt x="120" y="173"/>
                  </a:lnTo>
                  <a:lnTo>
                    <a:pt x="96" y="149"/>
                  </a:lnTo>
                  <a:lnTo>
                    <a:pt x="62" y="120"/>
                  </a:lnTo>
                  <a:lnTo>
                    <a:pt x="34" y="86"/>
                  </a:lnTo>
                  <a:lnTo>
                    <a:pt x="0" y="48"/>
                  </a:lnTo>
                  <a:lnTo>
                    <a:pt x="24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"/>
            <p:cNvSpPr/>
            <p:nvPr/>
          </p:nvSpPr>
          <p:spPr>
            <a:xfrm>
              <a:off x="4528440" y="2606760"/>
              <a:ext cx="701280" cy="956880"/>
            </a:xfrm>
            <a:custGeom>
              <a:avLst/>
              <a:gdLst/>
              <a:ahLst/>
              <a:rect l="l" t="t" r="r" b="b"/>
              <a:pathLst>
                <a:path w="580" h="791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5" y="772"/>
                  </a:lnTo>
                  <a:lnTo>
                    <a:pt x="14" y="762"/>
                  </a:lnTo>
                  <a:lnTo>
                    <a:pt x="29" y="748"/>
                  </a:lnTo>
                  <a:lnTo>
                    <a:pt x="43" y="733"/>
                  </a:lnTo>
                  <a:lnTo>
                    <a:pt x="58" y="719"/>
                  </a:lnTo>
                  <a:lnTo>
                    <a:pt x="81" y="700"/>
                  </a:lnTo>
                  <a:lnTo>
                    <a:pt x="101" y="681"/>
                  </a:lnTo>
                  <a:lnTo>
                    <a:pt x="125" y="661"/>
                  </a:lnTo>
                  <a:lnTo>
                    <a:pt x="149" y="637"/>
                  </a:lnTo>
                  <a:lnTo>
                    <a:pt x="172" y="614"/>
                  </a:lnTo>
                  <a:lnTo>
                    <a:pt x="196" y="585"/>
                  </a:lnTo>
                  <a:lnTo>
                    <a:pt x="220" y="556"/>
                  </a:lnTo>
                  <a:lnTo>
                    <a:pt x="244" y="523"/>
                  </a:lnTo>
                  <a:lnTo>
                    <a:pt x="268" y="489"/>
                  </a:lnTo>
                  <a:lnTo>
                    <a:pt x="292" y="455"/>
                  </a:lnTo>
                  <a:lnTo>
                    <a:pt x="316" y="422"/>
                  </a:lnTo>
                  <a:lnTo>
                    <a:pt x="340" y="393"/>
                  </a:lnTo>
                  <a:lnTo>
                    <a:pt x="359" y="360"/>
                  </a:lnTo>
                  <a:lnTo>
                    <a:pt x="378" y="326"/>
                  </a:lnTo>
                  <a:lnTo>
                    <a:pt x="393" y="293"/>
                  </a:lnTo>
                  <a:lnTo>
                    <a:pt x="407" y="259"/>
                  </a:lnTo>
                  <a:lnTo>
                    <a:pt x="417" y="226"/>
                  </a:lnTo>
                  <a:lnTo>
                    <a:pt x="426" y="192"/>
                  </a:lnTo>
                  <a:lnTo>
                    <a:pt x="431" y="159"/>
                  </a:lnTo>
                  <a:lnTo>
                    <a:pt x="436" y="130"/>
                  </a:lnTo>
                  <a:lnTo>
                    <a:pt x="441" y="101"/>
                  </a:lnTo>
                  <a:lnTo>
                    <a:pt x="446" y="72"/>
                  </a:lnTo>
                  <a:lnTo>
                    <a:pt x="446" y="48"/>
                  </a:lnTo>
                  <a:lnTo>
                    <a:pt x="446" y="24"/>
                  </a:lnTo>
                  <a:lnTo>
                    <a:pt x="441" y="0"/>
                  </a:lnTo>
                  <a:lnTo>
                    <a:pt x="474" y="20"/>
                  </a:lnTo>
                  <a:lnTo>
                    <a:pt x="503" y="34"/>
                  </a:lnTo>
                  <a:lnTo>
                    <a:pt x="527" y="44"/>
                  </a:lnTo>
                  <a:lnTo>
                    <a:pt x="546" y="58"/>
                  </a:lnTo>
                  <a:lnTo>
                    <a:pt x="560" y="72"/>
                  </a:lnTo>
                  <a:lnTo>
                    <a:pt x="570" y="82"/>
                  </a:lnTo>
                  <a:lnTo>
                    <a:pt x="580" y="91"/>
                  </a:lnTo>
                  <a:lnTo>
                    <a:pt x="580" y="101"/>
                  </a:lnTo>
                  <a:lnTo>
                    <a:pt x="580" y="111"/>
                  </a:lnTo>
                  <a:lnTo>
                    <a:pt x="575" y="125"/>
                  </a:lnTo>
                  <a:lnTo>
                    <a:pt x="575" y="139"/>
                  </a:lnTo>
                  <a:lnTo>
                    <a:pt x="565" y="159"/>
                  </a:lnTo>
                  <a:lnTo>
                    <a:pt x="560" y="182"/>
                  </a:lnTo>
                  <a:lnTo>
                    <a:pt x="551" y="206"/>
                  </a:lnTo>
                  <a:lnTo>
                    <a:pt x="541" y="235"/>
                  </a:lnTo>
                  <a:lnTo>
                    <a:pt x="527" y="269"/>
                  </a:lnTo>
                  <a:lnTo>
                    <a:pt x="513" y="302"/>
                  </a:lnTo>
                  <a:lnTo>
                    <a:pt x="493" y="336"/>
                  </a:lnTo>
                  <a:lnTo>
                    <a:pt x="474" y="369"/>
                  </a:lnTo>
                  <a:lnTo>
                    <a:pt x="455" y="403"/>
                  </a:lnTo>
                  <a:lnTo>
                    <a:pt x="431" y="436"/>
                  </a:lnTo>
                  <a:lnTo>
                    <a:pt x="407" y="470"/>
                  </a:lnTo>
                  <a:lnTo>
                    <a:pt x="383" y="503"/>
                  </a:lnTo>
                  <a:lnTo>
                    <a:pt x="354" y="532"/>
                  </a:lnTo>
                  <a:lnTo>
                    <a:pt x="326" y="566"/>
                  </a:lnTo>
                  <a:lnTo>
                    <a:pt x="297" y="594"/>
                  </a:lnTo>
                  <a:lnTo>
                    <a:pt x="273" y="618"/>
                  </a:lnTo>
                  <a:lnTo>
                    <a:pt x="244" y="647"/>
                  </a:lnTo>
                  <a:lnTo>
                    <a:pt x="216" y="671"/>
                  </a:lnTo>
                  <a:lnTo>
                    <a:pt x="187" y="690"/>
                  </a:lnTo>
                  <a:lnTo>
                    <a:pt x="158" y="714"/>
                  </a:lnTo>
                  <a:lnTo>
                    <a:pt x="129" y="733"/>
                  </a:lnTo>
                  <a:lnTo>
                    <a:pt x="105" y="748"/>
                  </a:lnTo>
                  <a:lnTo>
                    <a:pt x="81" y="762"/>
                  </a:lnTo>
                  <a:lnTo>
                    <a:pt x="58" y="776"/>
                  </a:lnTo>
                  <a:lnTo>
                    <a:pt x="43" y="781"/>
                  </a:lnTo>
                  <a:lnTo>
                    <a:pt x="24" y="791"/>
                  </a:lnTo>
                  <a:lnTo>
                    <a:pt x="14" y="791"/>
                  </a:lnTo>
                  <a:lnTo>
                    <a:pt x="5" y="791"/>
                  </a:lnTo>
                  <a:lnTo>
                    <a:pt x="0" y="791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4227480" y="2450520"/>
              <a:ext cx="307080" cy="23184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86" y="115"/>
                  </a:moveTo>
                  <a:lnTo>
                    <a:pt x="67" y="96"/>
                  </a:lnTo>
                  <a:lnTo>
                    <a:pt x="48" y="77"/>
                  </a:lnTo>
                  <a:lnTo>
                    <a:pt x="34" y="62"/>
                  </a:lnTo>
                  <a:lnTo>
                    <a:pt x="19" y="48"/>
                  </a:lnTo>
                  <a:lnTo>
                    <a:pt x="14" y="3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" y="0"/>
                  </a:lnTo>
                  <a:lnTo>
                    <a:pt x="72" y="5"/>
                  </a:lnTo>
                  <a:lnTo>
                    <a:pt x="110" y="10"/>
                  </a:lnTo>
                  <a:lnTo>
                    <a:pt x="148" y="15"/>
                  </a:lnTo>
                  <a:lnTo>
                    <a:pt x="177" y="24"/>
                  </a:lnTo>
                  <a:lnTo>
                    <a:pt x="192" y="29"/>
                  </a:lnTo>
                  <a:lnTo>
                    <a:pt x="206" y="34"/>
                  </a:lnTo>
                  <a:lnTo>
                    <a:pt x="216" y="38"/>
                  </a:lnTo>
                  <a:lnTo>
                    <a:pt x="225" y="48"/>
                  </a:lnTo>
                  <a:lnTo>
                    <a:pt x="235" y="58"/>
                  </a:lnTo>
                  <a:lnTo>
                    <a:pt x="244" y="62"/>
                  </a:lnTo>
                  <a:lnTo>
                    <a:pt x="249" y="77"/>
                  </a:lnTo>
                  <a:lnTo>
                    <a:pt x="254" y="86"/>
                  </a:lnTo>
                  <a:lnTo>
                    <a:pt x="254" y="96"/>
                  </a:lnTo>
                  <a:lnTo>
                    <a:pt x="254" y="106"/>
                  </a:lnTo>
                  <a:lnTo>
                    <a:pt x="254" y="129"/>
                  </a:lnTo>
                  <a:lnTo>
                    <a:pt x="249" y="149"/>
                  </a:lnTo>
                  <a:lnTo>
                    <a:pt x="244" y="158"/>
                  </a:lnTo>
                  <a:lnTo>
                    <a:pt x="239" y="168"/>
                  </a:lnTo>
                  <a:lnTo>
                    <a:pt x="230" y="177"/>
                  </a:lnTo>
                  <a:lnTo>
                    <a:pt x="225" y="182"/>
                  </a:lnTo>
                  <a:lnTo>
                    <a:pt x="220" y="187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87"/>
                  </a:lnTo>
                  <a:lnTo>
                    <a:pt x="192" y="187"/>
                  </a:lnTo>
                  <a:lnTo>
                    <a:pt x="182" y="187"/>
                  </a:lnTo>
                  <a:lnTo>
                    <a:pt x="172" y="177"/>
                  </a:lnTo>
                  <a:lnTo>
                    <a:pt x="158" y="173"/>
                  </a:lnTo>
                  <a:lnTo>
                    <a:pt x="144" y="158"/>
                  </a:lnTo>
                  <a:lnTo>
                    <a:pt x="129" y="149"/>
                  </a:lnTo>
                  <a:lnTo>
                    <a:pt x="110" y="134"/>
                  </a:lnTo>
                  <a:lnTo>
                    <a:pt x="86" y="115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"/>
            <p:cNvSpPr/>
            <p:nvPr/>
          </p:nvSpPr>
          <p:spPr>
            <a:xfrm>
              <a:off x="4094280" y="2781000"/>
              <a:ext cx="271800" cy="219960"/>
            </a:xfrm>
            <a:custGeom>
              <a:avLst/>
              <a:gdLst/>
              <a:ahLst/>
              <a:rect l="l" t="t" r="r" b="b"/>
              <a:pathLst>
                <a:path w="225" h="182">
                  <a:moveTo>
                    <a:pt x="144" y="24"/>
                  </a:moveTo>
                  <a:lnTo>
                    <a:pt x="163" y="29"/>
                  </a:lnTo>
                  <a:lnTo>
                    <a:pt x="172" y="38"/>
                  </a:lnTo>
                  <a:lnTo>
                    <a:pt x="187" y="48"/>
                  </a:lnTo>
                  <a:lnTo>
                    <a:pt x="196" y="53"/>
                  </a:lnTo>
                  <a:lnTo>
                    <a:pt x="206" y="62"/>
                  </a:lnTo>
                  <a:lnTo>
                    <a:pt x="215" y="72"/>
                  </a:lnTo>
                  <a:lnTo>
                    <a:pt x="220" y="82"/>
                  </a:lnTo>
                  <a:lnTo>
                    <a:pt x="225" y="91"/>
                  </a:lnTo>
                  <a:lnTo>
                    <a:pt x="225" y="101"/>
                  </a:lnTo>
                  <a:lnTo>
                    <a:pt x="225" y="115"/>
                  </a:lnTo>
                  <a:lnTo>
                    <a:pt x="225" y="134"/>
                  </a:lnTo>
                  <a:lnTo>
                    <a:pt x="225" y="139"/>
                  </a:lnTo>
                  <a:lnTo>
                    <a:pt x="220" y="149"/>
                  </a:lnTo>
                  <a:lnTo>
                    <a:pt x="215" y="153"/>
                  </a:lnTo>
                  <a:lnTo>
                    <a:pt x="215" y="158"/>
                  </a:lnTo>
                  <a:lnTo>
                    <a:pt x="201" y="168"/>
                  </a:lnTo>
                  <a:lnTo>
                    <a:pt x="191" y="177"/>
                  </a:lnTo>
                  <a:lnTo>
                    <a:pt x="177" y="182"/>
                  </a:lnTo>
                  <a:lnTo>
                    <a:pt x="172" y="182"/>
                  </a:lnTo>
                  <a:lnTo>
                    <a:pt x="167" y="182"/>
                  </a:lnTo>
                  <a:lnTo>
                    <a:pt x="158" y="177"/>
                  </a:lnTo>
                  <a:lnTo>
                    <a:pt x="148" y="173"/>
                  </a:lnTo>
                  <a:lnTo>
                    <a:pt x="139" y="163"/>
                  </a:lnTo>
                  <a:lnTo>
                    <a:pt x="124" y="153"/>
                  </a:lnTo>
                  <a:lnTo>
                    <a:pt x="110" y="144"/>
                  </a:lnTo>
                  <a:lnTo>
                    <a:pt x="96" y="129"/>
                  </a:lnTo>
                  <a:lnTo>
                    <a:pt x="76" y="115"/>
                  </a:lnTo>
                  <a:lnTo>
                    <a:pt x="57" y="101"/>
                  </a:lnTo>
                  <a:lnTo>
                    <a:pt x="43" y="86"/>
                  </a:lnTo>
                  <a:lnTo>
                    <a:pt x="29" y="67"/>
                  </a:lnTo>
                  <a:lnTo>
                    <a:pt x="19" y="53"/>
                  </a:lnTo>
                  <a:lnTo>
                    <a:pt x="9" y="38"/>
                  </a:lnTo>
                  <a:lnTo>
                    <a:pt x="5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81" y="5"/>
                  </a:lnTo>
                  <a:lnTo>
                    <a:pt x="100" y="10"/>
                  </a:lnTo>
                  <a:lnTo>
                    <a:pt x="115" y="15"/>
                  </a:lnTo>
                  <a:lnTo>
                    <a:pt x="129" y="19"/>
                  </a:lnTo>
                  <a:lnTo>
                    <a:pt x="144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>
              <a:off x="4667760" y="2787120"/>
              <a:ext cx="185040" cy="352800"/>
            </a:xfrm>
            <a:custGeom>
              <a:avLst/>
              <a:gdLst/>
              <a:ahLst/>
              <a:rect l="l" t="t" r="r" b="b"/>
              <a:pathLst>
                <a:path w="153" h="292">
                  <a:moveTo>
                    <a:pt x="110" y="0"/>
                  </a:moveTo>
                  <a:lnTo>
                    <a:pt x="129" y="24"/>
                  </a:lnTo>
                  <a:lnTo>
                    <a:pt x="134" y="33"/>
                  </a:lnTo>
                  <a:lnTo>
                    <a:pt x="144" y="43"/>
                  </a:lnTo>
                  <a:lnTo>
                    <a:pt x="148" y="57"/>
                  </a:lnTo>
                  <a:lnTo>
                    <a:pt x="153" y="67"/>
                  </a:lnTo>
                  <a:lnTo>
                    <a:pt x="153" y="81"/>
                  </a:lnTo>
                  <a:lnTo>
                    <a:pt x="153" y="96"/>
                  </a:lnTo>
                  <a:lnTo>
                    <a:pt x="153" y="105"/>
                  </a:lnTo>
                  <a:lnTo>
                    <a:pt x="153" y="120"/>
                  </a:lnTo>
                  <a:lnTo>
                    <a:pt x="148" y="134"/>
                  </a:lnTo>
                  <a:lnTo>
                    <a:pt x="144" y="148"/>
                  </a:lnTo>
                  <a:lnTo>
                    <a:pt x="129" y="182"/>
                  </a:lnTo>
                  <a:lnTo>
                    <a:pt x="110" y="220"/>
                  </a:lnTo>
                  <a:lnTo>
                    <a:pt x="101" y="235"/>
                  </a:lnTo>
                  <a:lnTo>
                    <a:pt x="91" y="249"/>
                  </a:lnTo>
                  <a:lnTo>
                    <a:pt x="81" y="263"/>
                  </a:lnTo>
                  <a:lnTo>
                    <a:pt x="77" y="273"/>
                  </a:lnTo>
                  <a:lnTo>
                    <a:pt x="67" y="283"/>
                  </a:lnTo>
                  <a:lnTo>
                    <a:pt x="62" y="287"/>
                  </a:lnTo>
                  <a:lnTo>
                    <a:pt x="53" y="292"/>
                  </a:lnTo>
                  <a:lnTo>
                    <a:pt x="43" y="292"/>
                  </a:lnTo>
                  <a:lnTo>
                    <a:pt x="38" y="287"/>
                  </a:lnTo>
                  <a:lnTo>
                    <a:pt x="34" y="287"/>
                  </a:lnTo>
                  <a:lnTo>
                    <a:pt x="29" y="283"/>
                  </a:lnTo>
                  <a:lnTo>
                    <a:pt x="24" y="268"/>
                  </a:lnTo>
                  <a:lnTo>
                    <a:pt x="14" y="249"/>
                  </a:lnTo>
                  <a:lnTo>
                    <a:pt x="10" y="235"/>
                  </a:lnTo>
                  <a:lnTo>
                    <a:pt x="5" y="215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10" y="172"/>
                  </a:lnTo>
                  <a:lnTo>
                    <a:pt x="19" y="168"/>
                  </a:lnTo>
                  <a:lnTo>
                    <a:pt x="24" y="158"/>
                  </a:lnTo>
                  <a:lnTo>
                    <a:pt x="34" y="153"/>
                  </a:lnTo>
                  <a:lnTo>
                    <a:pt x="38" y="144"/>
                  </a:lnTo>
                  <a:lnTo>
                    <a:pt x="48" y="134"/>
                  </a:lnTo>
                  <a:lnTo>
                    <a:pt x="57" y="120"/>
                  </a:lnTo>
                  <a:lnTo>
                    <a:pt x="67" y="101"/>
                  </a:lnTo>
                  <a:lnTo>
                    <a:pt x="77" y="81"/>
                  </a:lnTo>
                  <a:lnTo>
                    <a:pt x="86" y="57"/>
                  </a:lnTo>
                  <a:lnTo>
                    <a:pt x="101" y="33"/>
                  </a:lnTo>
                  <a:lnTo>
                    <a:pt x="110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9"/>
            <p:cNvSpPr/>
            <p:nvPr/>
          </p:nvSpPr>
          <p:spPr>
            <a:xfrm>
              <a:off x="4117320" y="2990160"/>
              <a:ext cx="469080" cy="583920"/>
            </a:xfrm>
            <a:custGeom>
              <a:avLst/>
              <a:gdLst/>
              <a:ahLst/>
              <a:rect l="l" t="t" r="r" b="b"/>
              <a:pathLst>
                <a:path w="388" h="483">
                  <a:moveTo>
                    <a:pt x="91" y="483"/>
                  </a:moveTo>
                  <a:lnTo>
                    <a:pt x="86" y="483"/>
                  </a:lnTo>
                  <a:lnTo>
                    <a:pt x="77" y="479"/>
                  </a:lnTo>
                  <a:lnTo>
                    <a:pt x="72" y="474"/>
                  </a:lnTo>
                  <a:lnTo>
                    <a:pt x="62" y="464"/>
                  </a:lnTo>
                  <a:lnTo>
                    <a:pt x="57" y="455"/>
                  </a:lnTo>
                  <a:lnTo>
                    <a:pt x="48" y="435"/>
                  </a:lnTo>
                  <a:lnTo>
                    <a:pt x="38" y="421"/>
                  </a:lnTo>
                  <a:lnTo>
                    <a:pt x="34" y="397"/>
                  </a:lnTo>
                  <a:lnTo>
                    <a:pt x="24" y="378"/>
                  </a:lnTo>
                  <a:lnTo>
                    <a:pt x="14" y="359"/>
                  </a:lnTo>
                  <a:lnTo>
                    <a:pt x="10" y="344"/>
                  </a:lnTo>
                  <a:lnTo>
                    <a:pt x="5" y="330"/>
                  </a:lnTo>
                  <a:lnTo>
                    <a:pt x="5" y="316"/>
                  </a:lnTo>
                  <a:lnTo>
                    <a:pt x="0" y="306"/>
                  </a:lnTo>
                  <a:lnTo>
                    <a:pt x="5" y="297"/>
                  </a:lnTo>
                  <a:lnTo>
                    <a:pt x="5" y="292"/>
                  </a:lnTo>
                  <a:lnTo>
                    <a:pt x="10" y="282"/>
                  </a:lnTo>
                  <a:lnTo>
                    <a:pt x="19" y="277"/>
                  </a:lnTo>
                  <a:lnTo>
                    <a:pt x="29" y="277"/>
                  </a:lnTo>
                  <a:lnTo>
                    <a:pt x="38" y="273"/>
                  </a:lnTo>
                  <a:lnTo>
                    <a:pt x="48" y="277"/>
                  </a:lnTo>
                  <a:lnTo>
                    <a:pt x="53" y="277"/>
                  </a:lnTo>
                  <a:lnTo>
                    <a:pt x="67" y="277"/>
                  </a:lnTo>
                  <a:lnTo>
                    <a:pt x="77" y="273"/>
                  </a:lnTo>
                  <a:lnTo>
                    <a:pt x="91" y="268"/>
                  </a:lnTo>
                  <a:lnTo>
                    <a:pt x="96" y="263"/>
                  </a:lnTo>
                  <a:lnTo>
                    <a:pt x="105" y="253"/>
                  </a:lnTo>
                  <a:lnTo>
                    <a:pt x="120" y="244"/>
                  </a:lnTo>
                  <a:lnTo>
                    <a:pt x="134" y="225"/>
                  </a:lnTo>
                  <a:lnTo>
                    <a:pt x="158" y="206"/>
                  </a:lnTo>
                  <a:lnTo>
                    <a:pt x="182" y="186"/>
                  </a:lnTo>
                  <a:lnTo>
                    <a:pt x="206" y="158"/>
                  </a:lnTo>
                  <a:lnTo>
                    <a:pt x="220" y="143"/>
                  </a:lnTo>
                  <a:lnTo>
                    <a:pt x="239" y="124"/>
                  </a:lnTo>
                  <a:lnTo>
                    <a:pt x="254" y="110"/>
                  </a:lnTo>
                  <a:lnTo>
                    <a:pt x="268" y="91"/>
                  </a:lnTo>
                  <a:lnTo>
                    <a:pt x="297" y="67"/>
                  </a:lnTo>
                  <a:lnTo>
                    <a:pt x="321" y="43"/>
                  </a:lnTo>
                  <a:lnTo>
                    <a:pt x="340" y="24"/>
                  </a:lnTo>
                  <a:lnTo>
                    <a:pt x="359" y="14"/>
                  </a:lnTo>
                  <a:lnTo>
                    <a:pt x="369" y="4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4"/>
                  </a:lnTo>
                  <a:lnTo>
                    <a:pt x="388" y="9"/>
                  </a:lnTo>
                  <a:lnTo>
                    <a:pt x="383" y="14"/>
                  </a:lnTo>
                  <a:lnTo>
                    <a:pt x="383" y="19"/>
                  </a:lnTo>
                  <a:lnTo>
                    <a:pt x="378" y="28"/>
                  </a:lnTo>
                  <a:lnTo>
                    <a:pt x="374" y="43"/>
                  </a:lnTo>
                  <a:lnTo>
                    <a:pt x="369" y="52"/>
                  </a:lnTo>
                  <a:lnTo>
                    <a:pt x="364" y="67"/>
                  </a:lnTo>
                  <a:lnTo>
                    <a:pt x="354" y="81"/>
                  </a:lnTo>
                  <a:lnTo>
                    <a:pt x="345" y="100"/>
                  </a:lnTo>
                  <a:lnTo>
                    <a:pt x="335" y="119"/>
                  </a:lnTo>
                  <a:lnTo>
                    <a:pt x="326" y="143"/>
                  </a:lnTo>
                  <a:lnTo>
                    <a:pt x="311" y="162"/>
                  </a:lnTo>
                  <a:lnTo>
                    <a:pt x="297" y="186"/>
                  </a:lnTo>
                  <a:lnTo>
                    <a:pt x="283" y="215"/>
                  </a:lnTo>
                  <a:lnTo>
                    <a:pt x="263" y="239"/>
                  </a:lnTo>
                  <a:lnTo>
                    <a:pt x="249" y="268"/>
                  </a:lnTo>
                  <a:lnTo>
                    <a:pt x="230" y="297"/>
                  </a:lnTo>
                  <a:lnTo>
                    <a:pt x="216" y="320"/>
                  </a:lnTo>
                  <a:lnTo>
                    <a:pt x="201" y="344"/>
                  </a:lnTo>
                  <a:lnTo>
                    <a:pt x="187" y="364"/>
                  </a:lnTo>
                  <a:lnTo>
                    <a:pt x="172" y="383"/>
                  </a:lnTo>
                  <a:lnTo>
                    <a:pt x="163" y="402"/>
                  </a:lnTo>
                  <a:lnTo>
                    <a:pt x="148" y="416"/>
                  </a:lnTo>
                  <a:lnTo>
                    <a:pt x="139" y="431"/>
                  </a:lnTo>
                  <a:lnTo>
                    <a:pt x="129" y="445"/>
                  </a:lnTo>
                  <a:lnTo>
                    <a:pt x="120" y="455"/>
                  </a:lnTo>
                  <a:lnTo>
                    <a:pt x="115" y="464"/>
                  </a:lnTo>
                  <a:lnTo>
                    <a:pt x="105" y="469"/>
                  </a:lnTo>
                  <a:lnTo>
                    <a:pt x="101" y="474"/>
                  </a:lnTo>
                  <a:lnTo>
                    <a:pt x="96" y="479"/>
                  </a:lnTo>
                  <a:lnTo>
                    <a:pt x="91" y="483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276720" y="2286000"/>
          <a:ext cx="3124080" cy="266688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 rot="5400000">
            <a:off x="-457560" y="2514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2590920" y="1295280"/>
            <a:ext cx="4952880" cy="4605480"/>
            <a:chOff x="2590920" y="1295280"/>
            <a:chExt cx="4952880" cy="4605480"/>
          </a:xfrm>
        </p:grpSpPr>
        <p:sp>
          <p:nvSpPr>
            <p:cNvPr id="161" name="AutoShape 6"/>
            <p:cNvSpPr/>
            <p:nvPr/>
          </p:nvSpPr>
          <p:spPr>
            <a:xfrm>
              <a:off x="2590920" y="1295280"/>
              <a:ext cx="4952880" cy="46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3890880" y="2466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"/>
            <p:cNvSpPr/>
            <p:nvPr/>
          </p:nvSpPr>
          <p:spPr>
            <a:xfrm>
              <a:off x="3909240" y="2439720"/>
              <a:ext cx="2298960" cy="2305800"/>
            </a:xfrm>
            <a:custGeom>
              <a:avLst/>
              <a:gdLst/>
              <a:ahLst/>
              <a:rect l="l" t="t" r="r" b="b"/>
              <a:pathLst>
                <a:path w="1901" h="1906">
                  <a:moveTo>
                    <a:pt x="1135" y="704"/>
                  </a:moveTo>
                  <a:lnTo>
                    <a:pt x="1140" y="704"/>
                  </a:lnTo>
                  <a:lnTo>
                    <a:pt x="1144" y="699"/>
                  </a:lnTo>
                  <a:lnTo>
                    <a:pt x="1149" y="694"/>
                  </a:lnTo>
                  <a:lnTo>
                    <a:pt x="1154" y="689"/>
                  </a:lnTo>
                  <a:lnTo>
                    <a:pt x="1159" y="680"/>
                  </a:lnTo>
                  <a:lnTo>
                    <a:pt x="1163" y="670"/>
                  </a:lnTo>
                  <a:lnTo>
                    <a:pt x="1173" y="661"/>
                  </a:lnTo>
                  <a:lnTo>
                    <a:pt x="1178" y="651"/>
                  </a:lnTo>
                  <a:lnTo>
                    <a:pt x="1183" y="637"/>
                  </a:lnTo>
                  <a:lnTo>
                    <a:pt x="1187" y="622"/>
                  </a:lnTo>
                  <a:lnTo>
                    <a:pt x="1197" y="608"/>
                  </a:lnTo>
                  <a:lnTo>
                    <a:pt x="1202" y="589"/>
                  </a:lnTo>
                  <a:lnTo>
                    <a:pt x="1207" y="574"/>
                  </a:lnTo>
                  <a:lnTo>
                    <a:pt x="1216" y="555"/>
                  </a:lnTo>
                  <a:lnTo>
                    <a:pt x="1231" y="512"/>
                  </a:lnTo>
                  <a:lnTo>
                    <a:pt x="1245" y="474"/>
                  </a:lnTo>
                  <a:lnTo>
                    <a:pt x="1259" y="435"/>
                  </a:lnTo>
                  <a:lnTo>
                    <a:pt x="1269" y="397"/>
                  </a:lnTo>
                  <a:lnTo>
                    <a:pt x="1278" y="364"/>
                  </a:lnTo>
                  <a:lnTo>
                    <a:pt x="1283" y="335"/>
                  </a:lnTo>
                  <a:lnTo>
                    <a:pt x="1293" y="301"/>
                  </a:lnTo>
                  <a:lnTo>
                    <a:pt x="1298" y="273"/>
                  </a:lnTo>
                  <a:lnTo>
                    <a:pt x="1298" y="249"/>
                  </a:lnTo>
                  <a:lnTo>
                    <a:pt x="1302" y="225"/>
                  </a:lnTo>
                  <a:lnTo>
                    <a:pt x="1302" y="206"/>
                  </a:lnTo>
                  <a:lnTo>
                    <a:pt x="1302" y="191"/>
                  </a:lnTo>
                  <a:lnTo>
                    <a:pt x="1302" y="172"/>
                  </a:lnTo>
                  <a:lnTo>
                    <a:pt x="1298" y="162"/>
                  </a:lnTo>
                  <a:lnTo>
                    <a:pt x="1298" y="148"/>
                  </a:lnTo>
                  <a:lnTo>
                    <a:pt x="1293" y="138"/>
                  </a:lnTo>
                  <a:lnTo>
                    <a:pt x="1293" y="134"/>
                  </a:lnTo>
                  <a:lnTo>
                    <a:pt x="1283" y="124"/>
                  </a:lnTo>
                  <a:lnTo>
                    <a:pt x="1274" y="119"/>
                  </a:lnTo>
                  <a:lnTo>
                    <a:pt x="1254" y="115"/>
                  </a:lnTo>
                  <a:lnTo>
                    <a:pt x="1240" y="115"/>
                  </a:lnTo>
                  <a:lnTo>
                    <a:pt x="1231" y="115"/>
                  </a:lnTo>
                  <a:lnTo>
                    <a:pt x="1216" y="115"/>
                  </a:lnTo>
                  <a:lnTo>
                    <a:pt x="1202" y="119"/>
                  </a:lnTo>
                  <a:lnTo>
                    <a:pt x="1183" y="119"/>
                  </a:lnTo>
                  <a:lnTo>
                    <a:pt x="1163" y="124"/>
                  </a:lnTo>
                  <a:lnTo>
                    <a:pt x="1144" y="129"/>
                  </a:lnTo>
                  <a:lnTo>
                    <a:pt x="1120" y="134"/>
                  </a:lnTo>
                  <a:lnTo>
                    <a:pt x="1092" y="138"/>
                  </a:lnTo>
                  <a:lnTo>
                    <a:pt x="1034" y="153"/>
                  </a:lnTo>
                  <a:lnTo>
                    <a:pt x="1010" y="158"/>
                  </a:lnTo>
                  <a:lnTo>
                    <a:pt x="981" y="162"/>
                  </a:lnTo>
                  <a:lnTo>
                    <a:pt x="958" y="167"/>
                  </a:lnTo>
                  <a:lnTo>
                    <a:pt x="934" y="172"/>
                  </a:lnTo>
                  <a:lnTo>
                    <a:pt x="914" y="177"/>
                  </a:lnTo>
                  <a:lnTo>
                    <a:pt x="895" y="182"/>
                  </a:lnTo>
                  <a:lnTo>
                    <a:pt x="876" y="186"/>
                  </a:lnTo>
                  <a:lnTo>
                    <a:pt x="857" y="191"/>
                  </a:lnTo>
                  <a:lnTo>
                    <a:pt x="838" y="191"/>
                  </a:lnTo>
                  <a:lnTo>
                    <a:pt x="823" y="196"/>
                  </a:lnTo>
                  <a:lnTo>
                    <a:pt x="809" y="191"/>
                  </a:lnTo>
                  <a:lnTo>
                    <a:pt x="795" y="191"/>
                  </a:lnTo>
                  <a:lnTo>
                    <a:pt x="785" y="186"/>
                  </a:lnTo>
                  <a:lnTo>
                    <a:pt x="771" y="182"/>
                  </a:lnTo>
                  <a:lnTo>
                    <a:pt x="761" y="177"/>
                  </a:lnTo>
                  <a:lnTo>
                    <a:pt x="752" y="172"/>
                  </a:lnTo>
                  <a:lnTo>
                    <a:pt x="742" y="167"/>
                  </a:lnTo>
                  <a:lnTo>
                    <a:pt x="732" y="162"/>
                  </a:lnTo>
                  <a:lnTo>
                    <a:pt x="728" y="158"/>
                  </a:lnTo>
                  <a:lnTo>
                    <a:pt x="723" y="153"/>
                  </a:lnTo>
                  <a:lnTo>
                    <a:pt x="723" y="148"/>
                  </a:lnTo>
                  <a:lnTo>
                    <a:pt x="723" y="138"/>
                  </a:lnTo>
                  <a:lnTo>
                    <a:pt x="728" y="138"/>
                  </a:lnTo>
                  <a:lnTo>
                    <a:pt x="732" y="138"/>
                  </a:lnTo>
                  <a:lnTo>
                    <a:pt x="742" y="138"/>
                  </a:lnTo>
                  <a:lnTo>
                    <a:pt x="756" y="138"/>
                  </a:lnTo>
                  <a:lnTo>
                    <a:pt x="766" y="134"/>
                  </a:lnTo>
                  <a:lnTo>
                    <a:pt x="780" y="134"/>
                  </a:lnTo>
                  <a:lnTo>
                    <a:pt x="799" y="129"/>
                  </a:lnTo>
                  <a:lnTo>
                    <a:pt x="814" y="129"/>
                  </a:lnTo>
                  <a:lnTo>
                    <a:pt x="833" y="124"/>
                  </a:lnTo>
                  <a:lnTo>
                    <a:pt x="857" y="119"/>
                  </a:lnTo>
                  <a:lnTo>
                    <a:pt x="881" y="115"/>
                  </a:lnTo>
                  <a:lnTo>
                    <a:pt x="905" y="110"/>
                  </a:lnTo>
                  <a:lnTo>
                    <a:pt x="929" y="105"/>
                  </a:lnTo>
                  <a:lnTo>
                    <a:pt x="958" y="95"/>
                  </a:lnTo>
                  <a:lnTo>
                    <a:pt x="986" y="91"/>
                  </a:lnTo>
                  <a:lnTo>
                    <a:pt x="1015" y="81"/>
                  </a:lnTo>
                  <a:lnTo>
                    <a:pt x="1044" y="76"/>
                  </a:lnTo>
                  <a:lnTo>
                    <a:pt x="1072" y="71"/>
                  </a:lnTo>
                  <a:lnTo>
                    <a:pt x="1096" y="62"/>
                  </a:lnTo>
                  <a:lnTo>
                    <a:pt x="1125" y="57"/>
                  </a:lnTo>
                  <a:lnTo>
                    <a:pt x="1144" y="52"/>
                  </a:lnTo>
                  <a:lnTo>
                    <a:pt x="1168" y="47"/>
                  </a:lnTo>
                  <a:lnTo>
                    <a:pt x="1187" y="43"/>
                  </a:lnTo>
                  <a:lnTo>
                    <a:pt x="1202" y="38"/>
                  </a:lnTo>
                  <a:lnTo>
                    <a:pt x="1216" y="33"/>
                  </a:lnTo>
                  <a:lnTo>
                    <a:pt x="1231" y="33"/>
                  </a:lnTo>
                  <a:lnTo>
                    <a:pt x="1240" y="28"/>
                  </a:lnTo>
                  <a:lnTo>
                    <a:pt x="1254" y="24"/>
                  </a:lnTo>
                  <a:lnTo>
                    <a:pt x="1259" y="24"/>
                  </a:lnTo>
                  <a:lnTo>
                    <a:pt x="1264" y="19"/>
                  </a:lnTo>
                  <a:lnTo>
                    <a:pt x="1269" y="19"/>
                  </a:lnTo>
                  <a:lnTo>
                    <a:pt x="1274" y="14"/>
                  </a:lnTo>
                  <a:lnTo>
                    <a:pt x="1283" y="9"/>
                  </a:lnTo>
                  <a:lnTo>
                    <a:pt x="1293" y="4"/>
                  </a:lnTo>
                  <a:lnTo>
                    <a:pt x="1302" y="0"/>
                  </a:lnTo>
                  <a:lnTo>
                    <a:pt x="1317" y="0"/>
                  </a:lnTo>
                  <a:lnTo>
                    <a:pt x="1322" y="0"/>
                  </a:lnTo>
                  <a:lnTo>
                    <a:pt x="1326" y="4"/>
                  </a:lnTo>
                  <a:lnTo>
                    <a:pt x="1336" y="4"/>
                  </a:lnTo>
                  <a:lnTo>
                    <a:pt x="1350" y="9"/>
                  </a:lnTo>
                  <a:lnTo>
                    <a:pt x="1365" y="19"/>
                  </a:lnTo>
                  <a:lnTo>
                    <a:pt x="1379" y="28"/>
                  </a:lnTo>
                  <a:lnTo>
                    <a:pt x="1398" y="38"/>
                  </a:lnTo>
                  <a:lnTo>
                    <a:pt x="1422" y="47"/>
                  </a:lnTo>
                  <a:lnTo>
                    <a:pt x="1436" y="62"/>
                  </a:lnTo>
                  <a:lnTo>
                    <a:pt x="1456" y="71"/>
                  </a:lnTo>
                  <a:lnTo>
                    <a:pt x="1465" y="81"/>
                  </a:lnTo>
                  <a:lnTo>
                    <a:pt x="1480" y="91"/>
                  </a:lnTo>
                  <a:lnTo>
                    <a:pt x="1484" y="100"/>
                  </a:lnTo>
                  <a:lnTo>
                    <a:pt x="1494" y="105"/>
                  </a:lnTo>
                  <a:lnTo>
                    <a:pt x="1499" y="110"/>
                  </a:lnTo>
                  <a:lnTo>
                    <a:pt x="1499" y="115"/>
                  </a:lnTo>
                  <a:lnTo>
                    <a:pt x="1494" y="124"/>
                  </a:lnTo>
                  <a:lnTo>
                    <a:pt x="1489" y="134"/>
                  </a:lnTo>
                  <a:lnTo>
                    <a:pt x="1484" y="143"/>
                  </a:lnTo>
                  <a:lnTo>
                    <a:pt x="1470" y="148"/>
                  </a:lnTo>
                  <a:lnTo>
                    <a:pt x="1460" y="153"/>
                  </a:lnTo>
                  <a:lnTo>
                    <a:pt x="1456" y="162"/>
                  </a:lnTo>
                  <a:lnTo>
                    <a:pt x="1451" y="172"/>
                  </a:lnTo>
                  <a:lnTo>
                    <a:pt x="1446" y="186"/>
                  </a:lnTo>
                  <a:lnTo>
                    <a:pt x="1441" y="201"/>
                  </a:lnTo>
                  <a:lnTo>
                    <a:pt x="1436" y="220"/>
                  </a:lnTo>
                  <a:lnTo>
                    <a:pt x="1432" y="239"/>
                  </a:lnTo>
                  <a:lnTo>
                    <a:pt x="1427" y="263"/>
                  </a:lnTo>
                  <a:lnTo>
                    <a:pt x="1422" y="292"/>
                  </a:lnTo>
                  <a:lnTo>
                    <a:pt x="1417" y="320"/>
                  </a:lnTo>
                  <a:lnTo>
                    <a:pt x="1408" y="354"/>
                  </a:lnTo>
                  <a:lnTo>
                    <a:pt x="1398" y="388"/>
                  </a:lnTo>
                  <a:lnTo>
                    <a:pt x="1384" y="431"/>
                  </a:lnTo>
                  <a:lnTo>
                    <a:pt x="1374" y="474"/>
                  </a:lnTo>
                  <a:lnTo>
                    <a:pt x="1360" y="522"/>
                  </a:lnTo>
                  <a:lnTo>
                    <a:pt x="1341" y="570"/>
                  </a:lnTo>
                  <a:lnTo>
                    <a:pt x="1336" y="598"/>
                  </a:lnTo>
                  <a:lnTo>
                    <a:pt x="1326" y="622"/>
                  </a:lnTo>
                  <a:lnTo>
                    <a:pt x="1317" y="646"/>
                  </a:lnTo>
                  <a:lnTo>
                    <a:pt x="1312" y="665"/>
                  </a:lnTo>
                  <a:lnTo>
                    <a:pt x="1302" y="689"/>
                  </a:lnTo>
                  <a:lnTo>
                    <a:pt x="1293" y="708"/>
                  </a:lnTo>
                  <a:lnTo>
                    <a:pt x="1288" y="728"/>
                  </a:lnTo>
                  <a:lnTo>
                    <a:pt x="1278" y="747"/>
                  </a:lnTo>
                  <a:lnTo>
                    <a:pt x="1269" y="761"/>
                  </a:lnTo>
                  <a:lnTo>
                    <a:pt x="1264" y="775"/>
                  </a:lnTo>
                  <a:lnTo>
                    <a:pt x="1254" y="790"/>
                  </a:lnTo>
                  <a:lnTo>
                    <a:pt x="1250" y="799"/>
                  </a:lnTo>
                  <a:lnTo>
                    <a:pt x="1240" y="814"/>
                  </a:lnTo>
                  <a:lnTo>
                    <a:pt x="1235" y="823"/>
                  </a:lnTo>
                  <a:lnTo>
                    <a:pt x="1226" y="828"/>
                  </a:lnTo>
                  <a:lnTo>
                    <a:pt x="1221" y="838"/>
                  </a:lnTo>
                  <a:lnTo>
                    <a:pt x="1207" y="852"/>
                  </a:lnTo>
                  <a:lnTo>
                    <a:pt x="1192" y="862"/>
                  </a:lnTo>
                  <a:lnTo>
                    <a:pt x="1178" y="871"/>
                  </a:lnTo>
                  <a:lnTo>
                    <a:pt x="1168" y="881"/>
                  </a:lnTo>
                  <a:lnTo>
                    <a:pt x="1159" y="886"/>
                  </a:lnTo>
                  <a:lnTo>
                    <a:pt x="1149" y="890"/>
                  </a:lnTo>
                  <a:lnTo>
                    <a:pt x="1144" y="895"/>
                  </a:lnTo>
                  <a:lnTo>
                    <a:pt x="1135" y="895"/>
                  </a:lnTo>
                  <a:lnTo>
                    <a:pt x="1130" y="895"/>
                  </a:lnTo>
                  <a:lnTo>
                    <a:pt x="1125" y="890"/>
                  </a:lnTo>
                  <a:lnTo>
                    <a:pt x="1120" y="886"/>
                  </a:lnTo>
                  <a:lnTo>
                    <a:pt x="1116" y="881"/>
                  </a:lnTo>
                  <a:lnTo>
                    <a:pt x="1111" y="876"/>
                  </a:lnTo>
                  <a:lnTo>
                    <a:pt x="1106" y="866"/>
                  </a:lnTo>
                  <a:lnTo>
                    <a:pt x="1106" y="857"/>
                  </a:lnTo>
                  <a:lnTo>
                    <a:pt x="1101" y="847"/>
                  </a:lnTo>
                  <a:lnTo>
                    <a:pt x="1096" y="833"/>
                  </a:lnTo>
                  <a:lnTo>
                    <a:pt x="1092" y="819"/>
                  </a:lnTo>
                  <a:lnTo>
                    <a:pt x="1087" y="804"/>
                  </a:lnTo>
                  <a:lnTo>
                    <a:pt x="1077" y="790"/>
                  </a:lnTo>
                  <a:lnTo>
                    <a:pt x="1068" y="775"/>
                  </a:lnTo>
                  <a:lnTo>
                    <a:pt x="1058" y="756"/>
                  </a:lnTo>
                  <a:lnTo>
                    <a:pt x="1049" y="737"/>
                  </a:lnTo>
                  <a:lnTo>
                    <a:pt x="1029" y="723"/>
                  </a:lnTo>
                  <a:lnTo>
                    <a:pt x="1015" y="704"/>
                  </a:lnTo>
                  <a:lnTo>
                    <a:pt x="1005" y="694"/>
                  </a:lnTo>
                  <a:lnTo>
                    <a:pt x="996" y="680"/>
                  </a:lnTo>
                  <a:lnTo>
                    <a:pt x="991" y="670"/>
                  </a:lnTo>
                  <a:lnTo>
                    <a:pt x="986" y="661"/>
                  </a:lnTo>
                  <a:lnTo>
                    <a:pt x="986" y="656"/>
                  </a:lnTo>
                  <a:lnTo>
                    <a:pt x="986" y="651"/>
                  </a:lnTo>
                  <a:lnTo>
                    <a:pt x="986" y="646"/>
                  </a:lnTo>
                  <a:lnTo>
                    <a:pt x="991" y="646"/>
                  </a:lnTo>
                  <a:lnTo>
                    <a:pt x="996" y="646"/>
                  </a:lnTo>
                  <a:lnTo>
                    <a:pt x="1001" y="651"/>
                  </a:lnTo>
                  <a:lnTo>
                    <a:pt x="1010" y="651"/>
                  </a:lnTo>
                  <a:lnTo>
                    <a:pt x="1020" y="656"/>
                  </a:lnTo>
                  <a:lnTo>
                    <a:pt x="1029" y="665"/>
                  </a:lnTo>
                  <a:lnTo>
                    <a:pt x="1044" y="670"/>
                  </a:lnTo>
                  <a:lnTo>
                    <a:pt x="1058" y="680"/>
                  </a:lnTo>
                  <a:lnTo>
                    <a:pt x="1068" y="689"/>
                  </a:lnTo>
                  <a:lnTo>
                    <a:pt x="1082" y="694"/>
                  </a:lnTo>
                  <a:lnTo>
                    <a:pt x="1092" y="699"/>
                  </a:lnTo>
                  <a:lnTo>
                    <a:pt x="1101" y="704"/>
                  </a:lnTo>
                  <a:lnTo>
                    <a:pt x="1111" y="708"/>
                  </a:lnTo>
                  <a:lnTo>
                    <a:pt x="1120" y="708"/>
                  </a:lnTo>
                  <a:lnTo>
                    <a:pt x="1130" y="708"/>
                  </a:lnTo>
                  <a:lnTo>
                    <a:pt x="1135" y="704"/>
                  </a:lnTo>
                  <a:close/>
                  <a:moveTo>
                    <a:pt x="1551" y="421"/>
                  </a:moveTo>
                  <a:lnTo>
                    <a:pt x="1571" y="431"/>
                  </a:lnTo>
                  <a:lnTo>
                    <a:pt x="1590" y="435"/>
                  </a:lnTo>
                  <a:lnTo>
                    <a:pt x="1604" y="440"/>
                  </a:lnTo>
                  <a:lnTo>
                    <a:pt x="1618" y="445"/>
                  </a:lnTo>
                  <a:lnTo>
                    <a:pt x="1633" y="455"/>
                  </a:lnTo>
                  <a:lnTo>
                    <a:pt x="1642" y="459"/>
                  </a:lnTo>
                  <a:lnTo>
                    <a:pt x="1647" y="464"/>
                  </a:lnTo>
                  <a:lnTo>
                    <a:pt x="1652" y="474"/>
                  </a:lnTo>
                  <a:lnTo>
                    <a:pt x="1657" y="488"/>
                  </a:lnTo>
                  <a:lnTo>
                    <a:pt x="1662" y="502"/>
                  </a:lnTo>
                  <a:lnTo>
                    <a:pt x="1662" y="522"/>
                  </a:lnTo>
                  <a:lnTo>
                    <a:pt x="1662" y="536"/>
                  </a:lnTo>
                  <a:lnTo>
                    <a:pt x="1662" y="546"/>
                  </a:lnTo>
                  <a:lnTo>
                    <a:pt x="1657" y="555"/>
                  </a:lnTo>
                  <a:lnTo>
                    <a:pt x="1657" y="560"/>
                  </a:lnTo>
                  <a:lnTo>
                    <a:pt x="1652" y="570"/>
                  </a:lnTo>
                  <a:lnTo>
                    <a:pt x="1642" y="574"/>
                  </a:lnTo>
                  <a:lnTo>
                    <a:pt x="1638" y="574"/>
                  </a:lnTo>
                  <a:lnTo>
                    <a:pt x="1628" y="579"/>
                  </a:lnTo>
                  <a:lnTo>
                    <a:pt x="1618" y="579"/>
                  </a:lnTo>
                  <a:lnTo>
                    <a:pt x="1614" y="579"/>
                  </a:lnTo>
                  <a:lnTo>
                    <a:pt x="1604" y="579"/>
                  </a:lnTo>
                  <a:lnTo>
                    <a:pt x="1595" y="574"/>
                  </a:lnTo>
                  <a:lnTo>
                    <a:pt x="1585" y="570"/>
                  </a:lnTo>
                  <a:lnTo>
                    <a:pt x="1575" y="565"/>
                  </a:lnTo>
                  <a:lnTo>
                    <a:pt x="1561" y="560"/>
                  </a:lnTo>
                  <a:lnTo>
                    <a:pt x="1547" y="550"/>
                  </a:lnTo>
                  <a:lnTo>
                    <a:pt x="1527" y="541"/>
                  </a:lnTo>
                  <a:lnTo>
                    <a:pt x="1508" y="531"/>
                  </a:lnTo>
                  <a:lnTo>
                    <a:pt x="1489" y="522"/>
                  </a:lnTo>
                  <a:lnTo>
                    <a:pt x="1470" y="507"/>
                  </a:lnTo>
                  <a:lnTo>
                    <a:pt x="1446" y="498"/>
                  </a:lnTo>
                  <a:lnTo>
                    <a:pt x="1422" y="483"/>
                  </a:lnTo>
                  <a:lnTo>
                    <a:pt x="1398" y="464"/>
                  </a:lnTo>
                  <a:lnTo>
                    <a:pt x="1369" y="450"/>
                  </a:lnTo>
                  <a:lnTo>
                    <a:pt x="1341" y="431"/>
                  </a:lnTo>
                  <a:lnTo>
                    <a:pt x="1360" y="421"/>
                  </a:lnTo>
                  <a:lnTo>
                    <a:pt x="1379" y="411"/>
                  </a:lnTo>
                  <a:lnTo>
                    <a:pt x="1403" y="402"/>
                  </a:lnTo>
                  <a:lnTo>
                    <a:pt x="1422" y="397"/>
                  </a:lnTo>
                  <a:lnTo>
                    <a:pt x="1432" y="397"/>
                  </a:lnTo>
                  <a:lnTo>
                    <a:pt x="1441" y="397"/>
                  </a:lnTo>
                  <a:lnTo>
                    <a:pt x="1456" y="402"/>
                  </a:lnTo>
                  <a:lnTo>
                    <a:pt x="1470" y="402"/>
                  </a:lnTo>
                  <a:lnTo>
                    <a:pt x="1489" y="407"/>
                  </a:lnTo>
                  <a:lnTo>
                    <a:pt x="1508" y="411"/>
                  </a:lnTo>
                  <a:lnTo>
                    <a:pt x="1527" y="416"/>
                  </a:lnTo>
                  <a:lnTo>
                    <a:pt x="1551" y="421"/>
                  </a:lnTo>
                  <a:close/>
                  <a:moveTo>
                    <a:pt x="1542" y="953"/>
                  </a:moveTo>
                  <a:lnTo>
                    <a:pt x="1575" y="953"/>
                  </a:lnTo>
                  <a:lnTo>
                    <a:pt x="1604" y="962"/>
                  </a:lnTo>
                  <a:lnTo>
                    <a:pt x="1623" y="962"/>
                  </a:lnTo>
                  <a:lnTo>
                    <a:pt x="1638" y="972"/>
                  </a:lnTo>
                  <a:lnTo>
                    <a:pt x="1652" y="977"/>
                  </a:lnTo>
                  <a:lnTo>
                    <a:pt x="1671" y="986"/>
                  </a:lnTo>
                  <a:lnTo>
                    <a:pt x="1686" y="996"/>
                  </a:lnTo>
                  <a:lnTo>
                    <a:pt x="1700" y="1005"/>
                  </a:lnTo>
                  <a:lnTo>
                    <a:pt x="1709" y="1010"/>
                  </a:lnTo>
                  <a:lnTo>
                    <a:pt x="1724" y="1015"/>
                  </a:lnTo>
                  <a:lnTo>
                    <a:pt x="1729" y="1025"/>
                  </a:lnTo>
                  <a:lnTo>
                    <a:pt x="1738" y="1029"/>
                  </a:lnTo>
                  <a:lnTo>
                    <a:pt x="1743" y="1034"/>
                  </a:lnTo>
                  <a:lnTo>
                    <a:pt x="1748" y="1034"/>
                  </a:lnTo>
                  <a:lnTo>
                    <a:pt x="1753" y="1049"/>
                  </a:lnTo>
                  <a:lnTo>
                    <a:pt x="1753" y="1053"/>
                  </a:lnTo>
                  <a:lnTo>
                    <a:pt x="1753" y="1063"/>
                  </a:lnTo>
                  <a:lnTo>
                    <a:pt x="1748" y="1068"/>
                  </a:lnTo>
                  <a:lnTo>
                    <a:pt x="1743" y="1072"/>
                  </a:lnTo>
                  <a:lnTo>
                    <a:pt x="1733" y="1072"/>
                  </a:lnTo>
                  <a:lnTo>
                    <a:pt x="1729" y="1077"/>
                  </a:lnTo>
                  <a:lnTo>
                    <a:pt x="1719" y="1077"/>
                  </a:lnTo>
                  <a:lnTo>
                    <a:pt x="1705" y="1077"/>
                  </a:lnTo>
                  <a:lnTo>
                    <a:pt x="1690" y="1077"/>
                  </a:lnTo>
                  <a:lnTo>
                    <a:pt x="1676" y="1077"/>
                  </a:lnTo>
                  <a:lnTo>
                    <a:pt x="1662" y="1082"/>
                  </a:lnTo>
                  <a:lnTo>
                    <a:pt x="1642" y="1082"/>
                  </a:lnTo>
                  <a:lnTo>
                    <a:pt x="1618" y="1082"/>
                  </a:lnTo>
                  <a:lnTo>
                    <a:pt x="1599" y="1082"/>
                  </a:lnTo>
                  <a:lnTo>
                    <a:pt x="1575" y="1082"/>
                  </a:lnTo>
                  <a:lnTo>
                    <a:pt x="1547" y="1077"/>
                  </a:lnTo>
                  <a:lnTo>
                    <a:pt x="1518" y="1077"/>
                  </a:lnTo>
                  <a:lnTo>
                    <a:pt x="1489" y="1077"/>
                  </a:lnTo>
                  <a:lnTo>
                    <a:pt x="1427" y="1072"/>
                  </a:lnTo>
                  <a:lnTo>
                    <a:pt x="1365" y="1072"/>
                  </a:lnTo>
                  <a:lnTo>
                    <a:pt x="1245" y="1077"/>
                  </a:lnTo>
                  <a:lnTo>
                    <a:pt x="1125" y="1077"/>
                  </a:lnTo>
                  <a:lnTo>
                    <a:pt x="1005" y="1087"/>
                  </a:lnTo>
                  <a:lnTo>
                    <a:pt x="948" y="1092"/>
                  </a:lnTo>
                  <a:lnTo>
                    <a:pt x="895" y="1096"/>
                  </a:lnTo>
                  <a:lnTo>
                    <a:pt x="843" y="1106"/>
                  </a:lnTo>
                  <a:lnTo>
                    <a:pt x="790" y="1111"/>
                  </a:lnTo>
                  <a:lnTo>
                    <a:pt x="742" y="1116"/>
                  </a:lnTo>
                  <a:lnTo>
                    <a:pt x="694" y="1120"/>
                  </a:lnTo>
                  <a:lnTo>
                    <a:pt x="651" y="1125"/>
                  </a:lnTo>
                  <a:lnTo>
                    <a:pt x="608" y="1125"/>
                  </a:lnTo>
                  <a:lnTo>
                    <a:pt x="526" y="1140"/>
                  </a:lnTo>
                  <a:lnTo>
                    <a:pt x="440" y="1149"/>
                  </a:lnTo>
                  <a:lnTo>
                    <a:pt x="354" y="1159"/>
                  </a:lnTo>
                  <a:lnTo>
                    <a:pt x="273" y="1168"/>
                  </a:lnTo>
                  <a:lnTo>
                    <a:pt x="253" y="1173"/>
                  </a:lnTo>
                  <a:lnTo>
                    <a:pt x="234" y="1173"/>
                  </a:lnTo>
                  <a:lnTo>
                    <a:pt x="215" y="1178"/>
                  </a:lnTo>
                  <a:lnTo>
                    <a:pt x="196" y="1178"/>
                  </a:lnTo>
                  <a:lnTo>
                    <a:pt x="182" y="1183"/>
                  </a:lnTo>
                  <a:lnTo>
                    <a:pt x="167" y="1183"/>
                  </a:lnTo>
                  <a:lnTo>
                    <a:pt x="153" y="1187"/>
                  </a:lnTo>
                  <a:lnTo>
                    <a:pt x="143" y="1187"/>
                  </a:lnTo>
                  <a:lnTo>
                    <a:pt x="134" y="1187"/>
                  </a:lnTo>
                  <a:lnTo>
                    <a:pt x="124" y="1192"/>
                  </a:lnTo>
                  <a:lnTo>
                    <a:pt x="115" y="1192"/>
                  </a:lnTo>
                  <a:lnTo>
                    <a:pt x="105" y="1192"/>
                  </a:lnTo>
                  <a:lnTo>
                    <a:pt x="100" y="1192"/>
                  </a:lnTo>
                  <a:lnTo>
                    <a:pt x="95" y="1192"/>
                  </a:lnTo>
                  <a:lnTo>
                    <a:pt x="91" y="1192"/>
                  </a:lnTo>
                  <a:lnTo>
                    <a:pt x="86" y="1192"/>
                  </a:lnTo>
                  <a:lnTo>
                    <a:pt x="81" y="1192"/>
                  </a:lnTo>
                  <a:lnTo>
                    <a:pt x="76" y="1187"/>
                  </a:lnTo>
                  <a:lnTo>
                    <a:pt x="67" y="1187"/>
                  </a:lnTo>
                  <a:lnTo>
                    <a:pt x="57" y="1183"/>
                  </a:lnTo>
                  <a:lnTo>
                    <a:pt x="47" y="1178"/>
                  </a:lnTo>
                  <a:lnTo>
                    <a:pt x="38" y="1168"/>
                  </a:lnTo>
                  <a:lnTo>
                    <a:pt x="28" y="1159"/>
                  </a:lnTo>
                  <a:lnTo>
                    <a:pt x="24" y="1149"/>
                  </a:lnTo>
                  <a:lnTo>
                    <a:pt x="14" y="1144"/>
                  </a:lnTo>
                  <a:lnTo>
                    <a:pt x="9" y="1135"/>
                  </a:lnTo>
                  <a:lnTo>
                    <a:pt x="4" y="1130"/>
                  </a:lnTo>
                  <a:lnTo>
                    <a:pt x="4" y="1125"/>
                  </a:lnTo>
                  <a:lnTo>
                    <a:pt x="0" y="1120"/>
                  </a:lnTo>
                  <a:lnTo>
                    <a:pt x="4" y="1116"/>
                  </a:lnTo>
                  <a:lnTo>
                    <a:pt x="4" y="1111"/>
                  </a:lnTo>
                  <a:lnTo>
                    <a:pt x="9" y="1106"/>
                  </a:lnTo>
                  <a:lnTo>
                    <a:pt x="19" y="1106"/>
                  </a:lnTo>
                  <a:lnTo>
                    <a:pt x="28" y="1106"/>
                  </a:lnTo>
                  <a:lnTo>
                    <a:pt x="43" y="1101"/>
                  </a:lnTo>
                  <a:lnTo>
                    <a:pt x="62" y="1101"/>
                  </a:lnTo>
                  <a:lnTo>
                    <a:pt x="86" y="1101"/>
                  </a:lnTo>
                  <a:lnTo>
                    <a:pt x="115" y="1096"/>
                  </a:lnTo>
                  <a:lnTo>
                    <a:pt x="143" y="1092"/>
                  </a:lnTo>
                  <a:lnTo>
                    <a:pt x="177" y="1092"/>
                  </a:lnTo>
                  <a:lnTo>
                    <a:pt x="215" y="1087"/>
                  </a:lnTo>
                  <a:lnTo>
                    <a:pt x="258" y="1082"/>
                  </a:lnTo>
                  <a:lnTo>
                    <a:pt x="306" y="1082"/>
                  </a:lnTo>
                  <a:lnTo>
                    <a:pt x="354" y="1077"/>
                  </a:lnTo>
                  <a:lnTo>
                    <a:pt x="411" y="1072"/>
                  </a:lnTo>
                  <a:lnTo>
                    <a:pt x="469" y="1068"/>
                  </a:lnTo>
                  <a:lnTo>
                    <a:pt x="531" y="1063"/>
                  </a:lnTo>
                  <a:lnTo>
                    <a:pt x="651" y="1049"/>
                  </a:lnTo>
                  <a:lnTo>
                    <a:pt x="713" y="1044"/>
                  </a:lnTo>
                  <a:lnTo>
                    <a:pt x="771" y="1034"/>
                  </a:lnTo>
                  <a:lnTo>
                    <a:pt x="828" y="1029"/>
                  </a:lnTo>
                  <a:lnTo>
                    <a:pt x="881" y="1025"/>
                  </a:lnTo>
                  <a:lnTo>
                    <a:pt x="938" y="1015"/>
                  </a:lnTo>
                  <a:lnTo>
                    <a:pt x="986" y="1010"/>
                  </a:lnTo>
                  <a:lnTo>
                    <a:pt x="1039" y="1005"/>
                  </a:lnTo>
                  <a:lnTo>
                    <a:pt x="1087" y="1005"/>
                  </a:lnTo>
                  <a:lnTo>
                    <a:pt x="1135" y="1001"/>
                  </a:lnTo>
                  <a:lnTo>
                    <a:pt x="1183" y="991"/>
                  </a:lnTo>
                  <a:lnTo>
                    <a:pt x="1226" y="986"/>
                  </a:lnTo>
                  <a:lnTo>
                    <a:pt x="1264" y="981"/>
                  </a:lnTo>
                  <a:lnTo>
                    <a:pt x="1307" y="977"/>
                  </a:lnTo>
                  <a:lnTo>
                    <a:pt x="1341" y="967"/>
                  </a:lnTo>
                  <a:lnTo>
                    <a:pt x="1379" y="967"/>
                  </a:lnTo>
                  <a:lnTo>
                    <a:pt x="1408" y="962"/>
                  </a:lnTo>
                  <a:lnTo>
                    <a:pt x="1436" y="962"/>
                  </a:lnTo>
                  <a:lnTo>
                    <a:pt x="1465" y="958"/>
                  </a:lnTo>
                  <a:lnTo>
                    <a:pt x="1489" y="958"/>
                  </a:lnTo>
                  <a:lnTo>
                    <a:pt x="1508" y="953"/>
                  </a:lnTo>
                  <a:lnTo>
                    <a:pt x="1527" y="953"/>
                  </a:lnTo>
                  <a:lnTo>
                    <a:pt x="1542" y="953"/>
                  </a:lnTo>
                  <a:close/>
                  <a:moveTo>
                    <a:pt x="790" y="962"/>
                  </a:moveTo>
                  <a:lnTo>
                    <a:pt x="780" y="943"/>
                  </a:lnTo>
                  <a:lnTo>
                    <a:pt x="771" y="929"/>
                  </a:lnTo>
                  <a:lnTo>
                    <a:pt x="771" y="924"/>
                  </a:lnTo>
                  <a:lnTo>
                    <a:pt x="771" y="914"/>
                  </a:lnTo>
                  <a:lnTo>
                    <a:pt x="771" y="910"/>
                  </a:lnTo>
                  <a:lnTo>
                    <a:pt x="771" y="905"/>
                  </a:lnTo>
                  <a:lnTo>
                    <a:pt x="775" y="895"/>
                  </a:lnTo>
                  <a:lnTo>
                    <a:pt x="780" y="890"/>
                  </a:lnTo>
                  <a:lnTo>
                    <a:pt x="785" y="890"/>
                  </a:lnTo>
                  <a:lnTo>
                    <a:pt x="790" y="886"/>
                  </a:lnTo>
                  <a:lnTo>
                    <a:pt x="799" y="886"/>
                  </a:lnTo>
                  <a:lnTo>
                    <a:pt x="809" y="886"/>
                  </a:lnTo>
                  <a:lnTo>
                    <a:pt x="828" y="886"/>
                  </a:lnTo>
                  <a:lnTo>
                    <a:pt x="847" y="890"/>
                  </a:lnTo>
                  <a:lnTo>
                    <a:pt x="871" y="895"/>
                  </a:lnTo>
                  <a:lnTo>
                    <a:pt x="895" y="905"/>
                  </a:lnTo>
                  <a:lnTo>
                    <a:pt x="910" y="919"/>
                  </a:lnTo>
                  <a:lnTo>
                    <a:pt x="919" y="924"/>
                  </a:lnTo>
                  <a:lnTo>
                    <a:pt x="924" y="934"/>
                  </a:lnTo>
                  <a:lnTo>
                    <a:pt x="929" y="943"/>
                  </a:lnTo>
                  <a:lnTo>
                    <a:pt x="929" y="953"/>
                  </a:lnTo>
                  <a:lnTo>
                    <a:pt x="929" y="962"/>
                  </a:lnTo>
                  <a:lnTo>
                    <a:pt x="929" y="967"/>
                  </a:lnTo>
                  <a:lnTo>
                    <a:pt x="929" y="977"/>
                  </a:lnTo>
                  <a:lnTo>
                    <a:pt x="924" y="986"/>
                  </a:lnTo>
                  <a:lnTo>
                    <a:pt x="924" y="1001"/>
                  </a:lnTo>
                  <a:lnTo>
                    <a:pt x="924" y="1015"/>
                  </a:lnTo>
                  <a:lnTo>
                    <a:pt x="919" y="1034"/>
                  </a:lnTo>
                  <a:lnTo>
                    <a:pt x="919" y="1058"/>
                  </a:lnTo>
                  <a:lnTo>
                    <a:pt x="919" y="1077"/>
                  </a:lnTo>
                  <a:lnTo>
                    <a:pt x="914" y="1106"/>
                  </a:lnTo>
                  <a:lnTo>
                    <a:pt x="914" y="1135"/>
                  </a:lnTo>
                  <a:lnTo>
                    <a:pt x="914" y="1168"/>
                  </a:lnTo>
                  <a:lnTo>
                    <a:pt x="914" y="1202"/>
                  </a:lnTo>
                  <a:lnTo>
                    <a:pt x="914" y="1240"/>
                  </a:lnTo>
                  <a:lnTo>
                    <a:pt x="910" y="1278"/>
                  </a:lnTo>
                  <a:lnTo>
                    <a:pt x="910" y="1322"/>
                  </a:lnTo>
                  <a:lnTo>
                    <a:pt x="910" y="1369"/>
                  </a:lnTo>
                  <a:lnTo>
                    <a:pt x="910" y="1417"/>
                  </a:lnTo>
                  <a:lnTo>
                    <a:pt x="910" y="1465"/>
                  </a:lnTo>
                  <a:lnTo>
                    <a:pt x="910" y="1513"/>
                  </a:lnTo>
                  <a:lnTo>
                    <a:pt x="910" y="1556"/>
                  </a:lnTo>
                  <a:lnTo>
                    <a:pt x="910" y="1595"/>
                  </a:lnTo>
                  <a:lnTo>
                    <a:pt x="910" y="1633"/>
                  </a:lnTo>
                  <a:lnTo>
                    <a:pt x="910" y="1666"/>
                  </a:lnTo>
                  <a:lnTo>
                    <a:pt x="905" y="1700"/>
                  </a:lnTo>
                  <a:lnTo>
                    <a:pt x="905" y="1729"/>
                  </a:lnTo>
                  <a:lnTo>
                    <a:pt x="905" y="1753"/>
                  </a:lnTo>
                  <a:lnTo>
                    <a:pt x="905" y="1777"/>
                  </a:lnTo>
                  <a:lnTo>
                    <a:pt x="900" y="1800"/>
                  </a:lnTo>
                  <a:lnTo>
                    <a:pt x="900" y="1820"/>
                  </a:lnTo>
                  <a:lnTo>
                    <a:pt x="900" y="1834"/>
                  </a:lnTo>
                  <a:lnTo>
                    <a:pt x="895" y="1848"/>
                  </a:lnTo>
                  <a:lnTo>
                    <a:pt x="895" y="1858"/>
                  </a:lnTo>
                  <a:lnTo>
                    <a:pt x="895" y="1863"/>
                  </a:lnTo>
                  <a:lnTo>
                    <a:pt x="881" y="1882"/>
                  </a:lnTo>
                  <a:lnTo>
                    <a:pt x="871" y="1896"/>
                  </a:lnTo>
                  <a:lnTo>
                    <a:pt x="862" y="1901"/>
                  </a:lnTo>
                  <a:lnTo>
                    <a:pt x="857" y="1906"/>
                  </a:lnTo>
                  <a:lnTo>
                    <a:pt x="852" y="1906"/>
                  </a:lnTo>
                  <a:lnTo>
                    <a:pt x="847" y="1906"/>
                  </a:lnTo>
                  <a:lnTo>
                    <a:pt x="843" y="1901"/>
                  </a:lnTo>
                  <a:lnTo>
                    <a:pt x="838" y="1896"/>
                  </a:lnTo>
                  <a:lnTo>
                    <a:pt x="833" y="1887"/>
                  </a:lnTo>
                  <a:lnTo>
                    <a:pt x="828" y="1877"/>
                  </a:lnTo>
                  <a:lnTo>
                    <a:pt x="819" y="1863"/>
                  </a:lnTo>
                  <a:lnTo>
                    <a:pt x="814" y="1844"/>
                  </a:lnTo>
                  <a:lnTo>
                    <a:pt x="809" y="1824"/>
                  </a:lnTo>
                  <a:lnTo>
                    <a:pt x="799" y="1800"/>
                  </a:lnTo>
                  <a:lnTo>
                    <a:pt x="795" y="1781"/>
                  </a:lnTo>
                  <a:lnTo>
                    <a:pt x="790" y="1762"/>
                  </a:lnTo>
                  <a:lnTo>
                    <a:pt x="785" y="1743"/>
                  </a:lnTo>
                  <a:lnTo>
                    <a:pt x="785" y="1724"/>
                  </a:lnTo>
                  <a:lnTo>
                    <a:pt x="785" y="1705"/>
                  </a:lnTo>
                  <a:lnTo>
                    <a:pt x="785" y="1686"/>
                  </a:lnTo>
                  <a:lnTo>
                    <a:pt x="790" y="1666"/>
                  </a:lnTo>
                  <a:lnTo>
                    <a:pt x="795" y="1647"/>
                  </a:lnTo>
                  <a:lnTo>
                    <a:pt x="799" y="1628"/>
                  </a:lnTo>
                  <a:lnTo>
                    <a:pt x="804" y="1609"/>
                  </a:lnTo>
                  <a:lnTo>
                    <a:pt x="809" y="1585"/>
                  </a:lnTo>
                  <a:lnTo>
                    <a:pt x="814" y="1556"/>
                  </a:lnTo>
                  <a:lnTo>
                    <a:pt x="819" y="1523"/>
                  </a:lnTo>
                  <a:lnTo>
                    <a:pt x="819" y="1489"/>
                  </a:lnTo>
                  <a:lnTo>
                    <a:pt x="823" y="1451"/>
                  </a:lnTo>
                  <a:lnTo>
                    <a:pt x="828" y="1374"/>
                  </a:lnTo>
                  <a:lnTo>
                    <a:pt x="833" y="1302"/>
                  </a:lnTo>
                  <a:lnTo>
                    <a:pt x="833" y="1221"/>
                  </a:lnTo>
                  <a:lnTo>
                    <a:pt x="833" y="1144"/>
                  </a:lnTo>
                  <a:lnTo>
                    <a:pt x="828" y="1106"/>
                  </a:lnTo>
                  <a:lnTo>
                    <a:pt x="828" y="1077"/>
                  </a:lnTo>
                  <a:lnTo>
                    <a:pt x="823" y="1049"/>
                  </a:lnTo>
                  <a:lnTo>
                    <a:pt x="819" y="1025"/>
                  </a:lnTo>
                  <a:lnTo>
                    <a:pt x="814" y="1005"/>
                  </a:lnTo>
                  <a:lnTo>
                    <a:pt x="804" y="986"/>
                  </a:lnTo>
                  <a:lnTo>
                    <a:pt x="799" y="972"/>
                  </a:lnTo>
                  <a:lnTo>
                    <a:pt x="790" y="962"/>
                  </a:lnTo>
                  <a:close/>
                  <a:moveTo>
                    <a:pt x="421" y="1556"/>
                  </a:moveTo>
                  <a:lnTo>
                    <a:pt x="359" y="1595"/>
                  </a:lnTo>
                  <a:lnTo>
                    <a:pt x="297" y="1628"/>
                  </a:lnTo>
                  <a:lnTo>
                    <a:pt x="239" y="1662"/>
                  </a:lnTo>
                  <a:lnTo>
                    <a:pt x="177" y="1700"/>
                  </a:lnTo>
                  <a:lnTo>
                    <a:pt x="148" y="1714"/>
                  </a:lnTo>
                  <a:lnTo>
                    <a:pt x="124" y="1724"/>
                  </a:lnTo>
                  <a:lnTo>
                    <a:pt x="105" y="1733"/>
                  </a:lnTo>
                  <a:lnTo>
                    <a:pt x="86" y="1738"/>
                  </a:lnTo>
                  <a:lnTo>
                    <a:pt x="71" y="1743"/>
                  </a:lnTo>
                  <a:lnTo>
                    <a:pt x="62" y="1743"/>
                  </a:lnTo>
                  <a:lnTo>
                    <a:pt x="52" y="1743"/>
                  </a:lnTo>
                  <a:lnTo>
                    <a:pt x="47" y="1743"/>
                  </a:lnTo>
                  <a:lnTo>
                    <a:pt x="47" y="1738"/>
                  </a:lnTo>
                  <a:lnTo>
                    <a:pt x="47" y="1729"/>
                  </a:lnTo>
                  <a:lnTo>
                    <a:pt x="52" y="1724"/>
                  </a:lnTo>
                  <a:lnTo>
                    <a:pt x="62" y="1714"/>
                  </a:lnTo>
                  <a:lnTo>
                    <a:pt x="76" y="1700"/>
                  </a:lnTo>
                  <a:lnTo>
                    <a:pt x="95" y="1686"/>
                  </a:lnTo>
                  <a:lnTo>
                    <a:pt x="115" y="1671"/>
                  </a:lnTo>
                  <a:lnTo>
                    <a:pt x="143" y="1657"/>
                  </a:lnTo>
                  <a:lnTo>
                    <a:pt x="196" y="1623"/>
                  </a:lnTo>
                  <a:lnTo>
                    <a:pt x="244" y="1590"/>
                  </a:lnTo>
                  <a:lnTo>
                    <a:pt x="297" y="1551"/>
                  </a:lnTo>
                  <a:lnTo>
                    <a:pt x="340" y="1508"/>
                  </a:lnTo>
                  <a:lnTo>
                    <a:pt x="354" y="1499"/>
                  </a:lnTo>
                  <a:lnTo>
                    <a:pt x="368" y="1484"/>
                  </a:lnTo>
                  <a:lnTo>
                    <a:pt x="383" y="1470"/>
                  </a:lnTo>
                  <a:lnTo>
                    <a:pt x="402" y="1456"/>
                  </a:lnTo>
                  <a:lnTo>
                    <a:pt x="421" y="1436"/>
                  </a:lnTo>
                  <a:lnTo>
                    <a:pt x="440" y="1413"/>
                  </a:lnTo>
                  <a:lnTo>
                    <a:pt x="459" y="1393"/>
                  </a:lnTo>
                  <a:lnTo>
                    <a:pt x="483" y="1365"/>
                  </a:lnTo>
                  <a:lnTo>
                    <a:pt x="512" y="1341"/>
                  </a:lnTo>
                  <a:lnTo>
                    <a:pt x="541" y="1307"/>
                  </a:lnTo>
                  <a:lnTo>
                    <a:pt x="570" y="1278"/>
                  </a:lnTo>
                  <a:lnTo>
                    <a:pt x="598" y="1245"/>
                  </a:lnTo>
                  <a:lnTo>
                    <a:pt x="632" y="1207"/>
                  </a:lnTo>
                  <a:lnTo>
                    <a:pt x="665" y="1168"/>
                  </a:lnTo>
                  <a:lnTo>
                    <a:pt x="699" y="1130"/>
                  </a:lnTo>
                  <a:lnTo>
                    <a:pt x="737" y="1087"/>
                  </a:lnTo>
                  <a:lnTo>
                    <a:pt x="804" y="1101"/>
                  </a:lnTo>
                  <a:lnTo>
                    <a:pt x="866" y="1120"/>
                  </a:lnTo>
                  <a:lnTo>
                    <a:pt x="828" y="1163"/>
                  </a:lnTo>
                  <a:lnTo>
                    <a:pt x="790" y="1207"/>
                  </a:lnTo>
                  <a:lnTo>
                    <a:pt x="752" y="1245"/>
                  </a:lnTo>
                  <a:lnTo>
                    <a:pt x="718" y="1283"/>
                  </a:lnTo>
                  <a:lnTo>
                    <a:pt x="684" y="1317"/>
                  </a:lnTo>
                  <a:lnTo>
                    <a:pt x="651" y="1350"/>
                  </a:lnTo>
                  <a:lnTo>
                    <a:pt x="622" y="1379"/>
                  </a:lnTo>
                  <a:lnTo>
                    <a:pt x="593" y="1408"/>
                  </a:lnTo>
                  <a:lnTo>
                    <a:pt x="565" y="1432"/>
                  </a:lnTo>
                  <a:lnTo>
                    <a:pt x="541" y="1456"/>
                  </a:lnTo>
                  <a:lnTo>
                    <a:pt x="512" y="1480"/>
                  </a:lnTo>
                  <a:lnTo>
                    <a:pt x="493" y="1499"/>
                  </a:lnTo>
                  <a:lnTo>
                    <a:pt x="469" y="1518"/>
                  </a:lnTo>
                  <a:lnTo>
                    <a:pt x="450" y="1532"/>
                  </a:lnTo>
                  <a:lnTo>
                    <a:pt x="435" y="1547"/>
                  </a:lnTo>
                  <a:lnTo>
                    <a:pt x="421" y="1556"/>
                  </a:lnTo>
                  <a:close/>
                  <a:moveTo>
                    <a:pt x="876" y="1077"/>
                  </a:moveTo>
                  <a:lnTo>
                    <a:pt x="905" y="1106"/>
                  </a:lnTo>
                  <a:lnTo>
                    <a:pt x="938" y="1135"/>
                  </a:lnTo>
                  <a:lnTo>
                    <a:pt x="977" y="1163"/>
                  </a:lnTo>
                  <a:lnTo>
                    <a:pt x="1010" y="1192"/>
                  </a:lnTo>
                  <a:lnTo>
                    <a:pt x="1053" y="1221"/>
                  </a:lnTo>
                  <a:lnTo>
                    <a:pt x="1096" y="1250"/>
                  </a:lnTo>
                  <a:lnTo>
                    <a:pt x="1140" y="1278"/>
                  </a:lnTo>
                  <a:lnTo>
                    <a:pt x="1187" y="1307"/>
                  </a:lnTo>
                  <a:lnTo>
                    <a:pt x="1235" y="1345"/>
                  </a:lnTo>
                  <a:lnTo>
                    <a:pt x="1283" y="1374"/>
                  </a:lnTo>
                  <a:lnTo>
                    <a:pt x="1336" y="1403"/>
                  </a:lnTo>
                  <a:lnTo>
                    <a:pt x="1389" y="1432"/>
                  </a:lnTo>
                  <a:lnTo>
                    <a:pt x="1446" y="1460"/>
                  </a:lnTo>
                  <a:lnTo>
                    <a:pt x="1508" y="1484"/>
                  </a:lnTo>
                  <a:lnTo>
                    <a:pt x="1571" y="1508"/>
                  </a:lnTo>
                  <a:lnTo>
                    <a:pt x="1638" y="1532"/>
                  </a:lnTo>
                  <a:lnTo>
                    <a:pt x="1666" y="1547"/>
                  </a:lnTo>
                  <a:lnTo>
                    <a:pt x="1700" y="1556"/>
                  </a:lnTo>
                  <a:lnTo>
                    <a:pt x="1729" y="1566"/>
                  </a:lnTo>
                  <a:lnTo>
                    <a:pt x="1753" y="1575"/>
                  </a:lnTo>
                  <a:lnTo>
                    <a:pt x="1777" y="1585"/>
                  </a:lnTo>
                  <a:lnTo>
                    <a:pt x="1800" y="1595"/>
                  </a:lnTo>
                  <a:lnTo>
                    <a:pt x="1820" y="1604"/>
                  </a:lnTo>
                  <a:lnTo>
                    <a:pt x="1839" y="1609"/>
                  </a:lnTo>
                  <a:lnTo>
                    <a:pt x="1853" y="1614"/>
                  </a:lnTo>
                  <a:lnTo>
                    <a:pt x="1868" y="1623"/>
                  </a:lnTo>
                  <a:lnTo>
                    <a:pt x="1877" y="1628"/>
                  </a:lnTo>
                  <a:lnTo>
                    <a:pt x="1887" y="1628"/>
                  </a:lnTo>
                  <a:lnTo>
                    <a:pt x="1896" y="1633"/>
                  </a:lnTo>
                  <a:lnTo>
                    <a:pt x="1901" y="1638"/>
                  </a:lnTo>
                  <a:lnTo>
                    <a:pt x="1901" y="1642"/>
                  </a:lnTo>
                  <a:lnTo>
                    <a:pt x="1896" y="1647"/>
                  </a:lnTo>
                  <a:lnTo>
                    <a:pt x="1891" y="1647"/>
                  </a:lnTo>
                  <a:lnTo>
                    <a:pt x="1887" y="1652"/>
                  </a:lnTo>
                  <a:lnTo>
                    <a:pt x="1882" y="1652"/>
                  </a:lnTo>
                  <a:lnTo>
                    <a:pt x="1872" y="1657"/>
                  </a:lnTo>
                  <a:lnTo>
                    <a:pt x="1863" y="1657"/>
                  </a:lnTo>
                  <a:lnTo>
                    <a:pt x="1853" y="1662"/>
                  </a:lnTo>
                  <a:lnTo>
                    <a:pt x="1844" y="1666"/>
                  </a:lnTo>
                  <a:lnTo>
                    <a:pt x="1829" y="1666"/>
                  </a:lnTo>
                  <a:lnTo>
                    <a:pt x="1815" y="1671"/>
                  </a:lnTo>
                  <a:lnTo>
                    <a:pt x="1800" y="1671"/>
                  </a:lnTo>
                  <a:lnTo>
                    <a:pt x="1786" y="1676"/>
                  </a:lnTo>
                  <a:lnTo>
                    <a:pt x="1767" y="1681"/>
                  </a:lnTo>
                  <a:lnTo>
                    <a:pt x="1748" y="1681"/>
                  </a:lnTo>
                  <a:lnTo>
                    <a:pt x="1709" y="1690"/>
                  </a:lnTo>
                  <a:lnTo>
                    <a:pt x="1671" y="1695"/>
                  </a:lnTo>
                  <a:lnTo>
                    <a:pt x="1638" y="1700"/>
                  </a:lnTo>
                  <a:lnTo>
                    <a:pt x="1604" y="1700"/>
                  </a:lnTo>
                  <a:lnTo>
                    <a:pt x="1575" y="1700"/>
                  </a:lnTo>
                  <a:lnTo>
                    <a:pt x="1551" y="1705"/>
                  </a:lnTo>
                  <a:lnTo>
                    <a:pt x="1527" y="1700"/>
                  </a:lnTo>
                  <a:lnTo>
                    <a:pt x="1508" y="1700"/>
                  </a:lnTo>
                  <a:lnTo>
                    <a:pt x="1484" y="1695"/>
                  </a:lnTo>
                  <a:lnTo>
                    <a:pt x="1456" y="1686"/>
                  </a:lnTo>
                  <a:lnTo>
                    <a:pt x="1432" y="1671"/>
                  </a:lnTo>
                  <a:lnTo>
                    <a:pt x="1403" y="1652"/>
                  </a:lnTo>
                  <a:lnTo>
                    <a:pt x="1374" y="1628"/>
                  </a:lnTo>
                  <a:lnTo>
                    <a:pt x="1341" y="1599"/>
                  </a:lnTo>
                  <a:lnTo>
                    <a:pt x="1326" y="1580"/>
                  </a:lnTo>
                  <a:lnTo>
                    <a:pt x="1307" y="1566"/>
                  </a:lnTo>
                  <a:lnTo>
                    <a:pt x="1293" y="1547"/>
                  </a:lnTo>
                  <a:lnTo>
                    <a:pt x="1274" y="1527"/>
                  </a:lnTo>
                  <a:lnTo>
                    <a:pt x="1235" y="1489"/>
                  </a:lnTo>
                  <a:lnTo>
                    <a:pt x="1202" y="1456"/>
                  </a:lnTo>
                  <a:lnTo>
                    <a:pt x="1173" y="1427"/>
                  </a:lnTo>
                  <a:lnTo>
                    <a:pt x="1144" y="1403"/>
                  </a:lnTo>
                  <a:lnTo>
                    <a:pt x="1116" y="1379"/>
                  </a:lnTo>
                  <a:lnTo>
                    <a:pt x="1096" y="1355"/>
                  </a:lnTo>
                  <a:lnTo>
                    <a:pt x="1077" y="1341"/>
                  </a:lnTo>
                  <a:lnTo>
                    <a:pt x="1058" y="1326"/>
                  </a:lnTo>
                  <a:lnTo>
                    <a:pt x="1039" y="1312"/>
                  </a:lnTo>
                  <a:lnTo>
                    <a:pt x="1020" y="1293"/>
                  </a:lnTo>
                  <a:lnTo>
                    <a:pt x="996" y="1274"/>
                  </a:lnTo>
                  <a:lnTo>
                    <a:pt x="972" y="1250"/>
                  </a:lnTo>
                  <a:lnTo>
                    <a:pt x="948" y="1226"/>
                  </a:lnTo>
                  <a:lnTo>
                    <a:pt x="914" y="1197"/>
                  </a:lnTo>
                  <a:lnTo>
                    <a:pt x="886" y="1163"/>
                  </a:lnTo>
                  <a:lnTo>
                    <a:pt x="852" y="1125"/>
                  </a:lnTo>
                  <a:lnTo>
                    <a:pt x="876" y="1077"/>
                  </a:lnTo>
                  <a:close/>
                  <a:moveTo>
                    <a:pt x="512" y="929"/>
                  </a:moveTo>
                  <a:lnTo>
                    <a:pt x="512" y="924"/>
                  </a:lnTo>
                  <a:lnTo>
                    <a:pt x="512" y="919"/>
                  </a:lnTo>
                  <a:lnTo>
                    <a:pt x="517" y="910"/>
                  </a:lnTo>
                  <a:lnTo>
                    <a:pt x="526" y="900"/>
                  </a:lnTo>
                  <a:lnTo>
                    <a:pt x="541" y="886"/>
                  </a:lnTo>
                  <a:lnTo>
                    <a:pt x="555" y="871"/>
                  </a:lnTo>
                  <a:lnTo>
                    <a:pt x="570" y="857"/>
                  </a:lnTo>
                  <a:lnTo>
                    <a:pt x="593" y="838"/>
                  </a:lnTo>
                  <a:lnTo>
                    <a:pt x="613" y="819"/>
                  </a:lnTo>
                  <a:lnTo>
                    <a:pt x="637" y="799"/>
                  </a:lnTo>
                  <a:lnTo>
                    <a:pt x="661" y="775"/>
                  </a:lnTo>
                  <a:lnTo>
                    <a:pt x="684" y="752"/>
                  </a:lnTo>
                  <a:lnTo>
                    <a:pt x="708" y="723"/>
                  </a:lnTo>
                  <a:lnTo>
                    <a:pt x="732" y="694"/>
                  </a:lnTo>
                  <a:lnTo>
                    <a:pt x="756" y="661"/>
                  </a:lnTo>
                  <a:lnTo>
                    <a:pt x="780" y="627"/>
                  </a:lnTo>
                  <a:lnTo>
                    <a:pt x="804" y="593"/>
                  </a:lnTo>
                  <a:lnTo>
                    <a:pt x="828" y="560"/>
                  </a:lnTo>
                  <a:lnTo>
                    <a:pt x="852" y="531"/>
                  </a:lnTo>
                  <a:lnTo>
                    <a:pt x="871" y="498"/>
                  </a:lnTo>
                  <a:lnTo>
                    <a:pt x="890" y="464"/>
                  </a:lnTo>
                  <a:lnTo>
                    <a:pt x="905" y="431"/>
                  </a:lnTo>
                  <a:lnTo>
                    <a:pt x="919" y="397"/>
                  </a:lnTo>
                  <a:lnTo>
                    <a:pt x="929" y="364"/>
                  </a:lnTo>
                  <a:lnTo>
                    <a:pt x="938" y="330"/>
                  </a:lnTo>
                  <a:lnTo>
                    <a:pt x="943" y="297"/>
                  </a:lnTo>
                  <a:lnTo>
                    <a:pt x="948" y="268"/>
                  </a:lnTo>
                  <a:lnTo>
                    <a:pt x="953" y="239"/>
                  </a:lnTo>
                  <a:lnTo>
                    <a:pt x="958" y="210"/>
                  </a:lnTo>
                  <a:lnTo>
                    <a:pt x="958" y="186"/>
                  </a:lnTo>
                  <a:lnTo>
                    <a:pt x="958" y="162"/>
                  </a:lnTo>
                  <a:lnTo>
                    <a:pt x="953" y="138"/>
                  </a:lnTo>
                  <a:lnTo>
                    <a:pt x="986" y="158"/>
                  </a:lnTo>
                  <a:lnTo>
                    <a:pt x="1015" y="172"/>
                  </a:lnTo>
                  <a:lnTo>
                    <a:pt x="1039" y="182"/>
                  </a:lnTo>
                  <a:lnTo>
                    <a:pt x="1058" y="196"/>
                  </a:lnTo>
                  <a:lnTo>
                    <a:pt x="1072" y="210"/>
                  </a:lnTo>
                  <a:lnTo>
                    <a:pt x="1082" y="220"/>
                  </a:lnTo>
                  <a:lnTo>
                    <a:pt x="1092" y="229"/>
                  </a:lnTo>
                  <a:lnTo>
                    <a:pt x="1092" y="239"/>
                  </a:lnTo>
                  <a:lnTo>
                    <a:pt x="1092" y="249"/>
                  </a:lnTo>
                  <a:lnTo>
                    <a:pt x="1087" y="263"/>
                  </a:lnTo>
                  <a:lnTo>
                    <a:pt x="1087" y="277"/>
                  </a:lnTo>
                  <a:lnTo>
                    <a:pt x="1077" y="297"/>
                  </a:lnTo>
                  <a:lnTo>
                    <a:pt x="1072" y="320"/>
                  </a:lnTo>
                  <a:lnTo>
                    <a:pt x="1063" y="344"/>
                  </a:lnTo>
                  <a:lnTo>
                    <a:pt x="1053" y="373"/>
                  </a:lnTo>
                  <a:lnTo>
                    <a:pt x="1039" y="407"/>
                  </a:lnTo>
                  <a:lnTo>
                    <a:pt x="1025" y="440"/>
                  </a:lnTo>
                  <a:lnTo>
                    <a:pt x="1005" y="474"/>
                  </a:lnTo>
                  <a:lnTo>
                    <a:pt x="986" y="507"/>
                  </a:lnTo>
                  <a:lnTo>
                    <a:pt x="967" y="541"/>
                  </a:lnTo>
                  <a:lnTo>
                    <a:pt x="943" y="574"/>
                  </a:lnTo>
                  <a:lnTo>
                    <a:pt x="919" y="608"/>
                  </a:lnTo>
                  <a:lnTo>
                    <a:pt x="895" y="641"/>
                  </a:lnTo>
                  <a:lnTo>
                    <a:pt x="866" y="670"/>
                  </a:lnTo>
                  <a:lnTo>
                    <a:pt x="838" y="704"/>
                  </a:lnTo>
                  <a:lnTo>
                    <a:pt x="809" y="732"/>
                  </a:lnTo>
                  <a:lnTo>
                    <a:pt x="785" y="756"/>
                  </a:lnTo>
                  <a:lnTo>
                    <a:pt x="756" y="785"/>
                  </a:lnTo>
                  <a:lnTo>
                    <a:pt x="728" y="809"/>
                  </a:lnTo>
                  <a:lnTo>
                    <a:pt x="699" y="828"/>
                  </a:lnTo>
                  <a:lnTo>
                    <a:pt x="670" y="852"/>
                  </a:lnTo>
                  <a:lnTo>
                    <a:pt x="641" y="871"/>
                  </a:lnTo>
                  <a:lnTo>
                    <a:pt x="617" y="886"/>
                  </a:lnTo>
                  <a:lnTo>
                    <a:pt x="593" y="900"/>
                  </a:lnTo>
                  <a:lnTo>
                    <a:pt x="570" y="914"/>
                  </a:lnTo>
                  <a:lnTo>
                    <a:pt x="555" y="919"/>
                  </a:lnTo>
                  <a:lnTo>
                    <a:pt x="536" y="929"/>
                  </a:lnTo>
                  <a:lnTo>
                    <a:pt x="526" y="929"/>
                  </a:lnTo>
                  <a:lnTo>
                    <a:pt x="517" y="929"/>
                  </a:lnTo>
                  <a:lnTo>
                    <a:pt x="512" y="929"/>
                  </a:lnTo>
                  <a:close/>
                  <a:moveTo>
                    <a:pt x="349" y="124"/>
                  </a:moveTo>
                  <a:lnTo>
                    <a:pt x="330" y="105"/>
                  </a:lnTo>
                  <a:lnTo>
                    <a:pt x="311" y="86"/>
                  </a:lnTo>
                  <a:lnTo>
                    <a:pt x="297" y="71"/>
                  </a:lnTo>
                  <a:lnTo>
                    <a:pt x="282" y="57"/>
                  </a:lnTo>
                  <a:lnTo>
                    <a:pt x="277" y="43"/>
                  </a:lnTo>
                  <a:lnTo>
                    <a:pt x="268" y="28"/>
                  </a:lnTo>
                  <a:lnTo>
                    <a:pt x="263" y="19"/>
                  </a:lnTo>
                  <a:lnTo>
                    <a:pt x="263" y="9"/>
                  </a:lnTo>
                  <a:lnTo>
                    <a:pt x="297" y="9"/>
                  </a:lnTo>
                  <a:lnTo>
                    <a:pt x="335" y="14"/>
                  </a:lnTo>
                  <a:lnTo>
                    <a:pt x="373" y="19"/>
                  </a:lnTo>
                  <a:lnTo>
                    <a:pt x="411" y="24"/>
                  </a:lnTo>
                  <a:lnTo>
                    <a:pt x="440" y="33"/>
                  </a:lnTo>
                  <a:lnTo>
                    <a:pt x="455" y="38"/>
                  </a:lnTo>
                  <a:lnTo>
                    <a:pt x="469" y="43"/>
                  </a:lnTo>
                  <a:lnTo>
                    <a:pt x="479" y="47"/>
                  </a:lnTo>
                  <a:lnTo>
                    <a:pt x="488" y="57"/>
                  </a:lnTo>
                  <a:lnTo>
                    <a:pt x="498" y="67"/>
                  </a:lnTo>
                  <a:lnTo>
                    <a:pt x="507" y="71"/>
                  </a:lnTo>
                  <a:lnTo>
                    <a:pt x="512" y="86"/>
                  </a:lnTo>
                  <a:lnTo>
                    <a:pt x="517" y="95"/>
                  </a:lnTo>
                  <a:lnTo>
                    <a:pt x="517" y="105"/>
                  </a:lnTo>
                  <a:lnTo>
                    <a:pt x="517" y="115"/>
                  </a:lnTo>
                  <a:lnTo>
                    <a:pt x="517" y="138"/>
                  </a:lnTo>
                  <a:lnTo>
                    <a:pt x="512" y="158"/>
                  </a:lnTo>
                  <a:lnTo>
                    <a:pt x="507" y="167"/>
                  </a:lnTo>
                  <a:lnTo>
                    <a:pt x="502" y="177"/>
                  </a:lnTo>
                  <a:lnTo>
                    <a:pt x="493" y="186"/>
                  </a:lnTo>
                  <a:lnTo>
                    <a:pt x="488" y="191"/>
                  </a:lnTo>
                  <a:lnTo>
                    <a:pt x="483" y="196"/>
                  </a:lnTo>
                  <a:lnTo>
                    <a:pt x="474" y="201"/>
                  </a:lnTo>
                  <a:lnTo>
                    <a:pt x="469" y="201"/>
                  </a:lnTo>
                  <a:lnTo>
                    <a:pt x="464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5" y="186"/>
                  </a:lnTo>
                  <a:lnTo>
                    <a:pt x="421" y="182"/>
                  </a:lnTo>
                  <a:lnTo>
                    <a:pt x="407" y="167"/>
                  </a:lnTo>
                  <a:lnTo>
                    <a:pt x="392" y="158"/>
                  </a:lnTo>
                  <a:lnTo>
                    <a:pt x="373" y="143"/>
                  </a:lnTo>
                  <a:lnTo>
                    <a:pt x="349" y="124"/>
                  </a:lnTo>
                  <a:close/>
                  <a:moveTo>
                    <a:pt x="297" y="306"/>
                  </a:moveTo>
                  <a:lnTo>
                    <a:pt x="316" y="311"/>
                  </a:lnTo>
                  <a:lnTo>
                    <a:pt x="325" y="320"/>
                  </a:lnTo>
                  <a:lnTo>
                    <a:pt x="340" y="330"/>
                  </a:lnTo>
                  <a:lnTo>
                    <a:pt x="349" y="335"/>
                  </a:lnTo>
                  <a:lnTo>
                    <a:pt x="359" y="344"/>
                  </a:lnTo>
                  <a:lnTo>
                    <a:pt x="368" y="354"/>
                  </a:lnTo>
                  <a:lnTo>
                    <a:pt x="373" y="364"/>
                  </a:lnTo>
                  <a:lnTo>
                    <a:pt x="378" y="373"/>
                  </a:lnTo>
                  <a:lnTo>
                    <a:pt x="378" y="383"/>
                  </a:lnTo>
                  <a:lnTo>
                    <a:pt x="378" y="397"/>
                  </a:lnTo>
                  <a:lnTo>
                    <a:pt x="378" y="416"/>
                  </a:lnTo>
                  <a:lnTo>
                    <a:pt x="378" y="421"/>
                  </a:lnTo>
                  <a:lnTo>
                    <a:pt x="373" y="431"/>
                  </a:lnTo>
                  <a:lnTo>
                    <a:pt x="368" y="435"/>
                  </a:lnTo>
                  <a:lnTo>
                    <a:pt x="368" y="440"/>
                  </a:lnTo>
                  <a:lnTo>
                    <a:pt x="354" y="450"/>
                  </a:lnTo>
                  <a:lnTo>
                    <a:pt x="344" y="459"/>
                  </a:lnTo>
                  <a:lnTo>
                    <a:pt x="330" y="464"/>
                  </a:lnTo>
                  <a:lnTo>
                    <a:pt x="325" y="464"/>
                  </a:lnTo>
                  <a:lnTo>
                    <a:pt x="320" y="464"/>
                  </a:lnTo>
                  <a:lnTo>
                    <a:pt x="311" y="459"/>
                  </a:lnTo>
                  <a:lnTo>
                    <a:pt x="301" y="455"/>
                  </a:lnTo>
                  <a:lnTo>
                    <a:pt x="292" y="445"/>
                  </a:lnTo>
                  <a:lnTo>
                    <a:pt x="277" y="435"/>
                  </a:lnTo>
                  <a:lnTo>
                    <a:pt x="263" y="426"/>
                  </a:lnTo>
                  <a:lnTo>
                    <a:pt x="249" y="411"/>
                  </a:lnTo>
                  <a:lnTo>
                    <a:pt x="229" y="397"/>
                  </a:lnTo>
                  <a:lnTo>
                    <a:pt x="210" y="383"/>
                  </a:lnTo>
                  <a:lnTo>
                    <a:pt x="196" y="368"/>
                  </a:lnTo>
                  <a:lnTo>
                    <a:pt x="182" y="349"/>
                  </a:lnTo>
                  <a:lnTo>
                    <a:pt x="172" y="335"/>
                  </a:lnTo>
                  <a:lnTo>
                    <a:pt x="162" y="320"/>
                  </a:lnTo>
                  <a:lnTo>
                    <a:pt x="158" y="306"/>
                  </a:lnTo>
                  <a:lnTo>
                    <a:pt x="153" y="292"/>
                  </a:lnTo>
                  <a:lnTo>
                    <a:pt x="153" y="282"/>
                  </a:lnTo>
                  <a:lnTo>
                    <a:pt x="196" y="282"/>
                  </a:lnTo>
                  <a:lnTo>
                    <a:pt x="215" y="282"/>
                  </a:lnTo>
                  <a:lnTo>
                    <a:pt x="234" y="287"/>
                  </a:lnTo>
                  <a:lnTo>
                    <a:pt x="253" y="292"/>
                  </a:lnTo>
                  <a:lnTo>
                    <a:pt x="268" y="297"/>
                  </a:lnTo>
                  <a:lnTo>
                    <a:pt x="282" y="301"/>
                  </a:lnTo>
                  <a:lnTo>
                    <a:pt x="297" y="306"/>
                  </a:lnTo>
                  <a:close/>
                  <a:moveTo>
                    <a:pt x="737" y="287"/>
                  </a:moveTo>
                  <a:lnTo>
                    <a:pt x="756" y="311"/>
                  </a:lnTo>
                  <a:lnTo>
                    <a:pt x="761" y="320"/>
                  </a:lnTo>
                  <a:lnTo>
                    <a:pt x="771" y="330"/>
                  </a:lnTo>
                  <a:lnTo>
                    <a:pt x="775" y="344"/>
                  </a:lnTo>
                  <a:lnTo>
                    <a:pt x="780" y="354"/>
                  </a:lnTo>
                  <a:lnTo>
                    <a:pt x="780" y="368"/>
                  </a:lnTo>
                  <a:lnTo>
                    <a:pt x="780" y="383"/>
                  </a:lnTo>
                  <a:lnTo>
                    <a:pt x="780" y="392"/>
                  </a:lnTo>
                  <a:lnTo>
                    <a:pt x="780" y="407"/>
                  </a:lnTo>
                  <a:lnTo>
                    <a:pt x="775" y="421"/>
                  </a:lnTo>
                  <a:lnTo>
                    <a:pt x="771" y="435"/>
                  </a:lnTo>
                  <a:lnTo>
                    <a:pt x="756" y="469"/>
                  </a:lnTo>
                  <a:lnTo>
                    <a:pt x="737" y="507"/>
                  </a:lnTo>
                  <a:lnTo>
                    <a:pt x="728" y="522"/>
                  </a:lnTo>
                  <a:lnTo>
                    <a:pt x="718" y="536"/>
                  </a:lnTo>
                  <a:lnTo>
                    <a:pt x="708" y="550"/>
                  </a:lnTo>
                  <a:lnTo>
                    <a:pt x="704" y="560"/>
                  </a:lnTo>
                  <a:lnTo>
                    <a:pt x="694" y="570"/>
                  </a:lnTo>
                  <a:lnTo>
                    <a:pt x="689" y="574"/>
                  </a:lnTo>
                  <a:lnTo>
                    <a:pt x="680" y="579"/>
                  </a:lnTo>
                  <a:lnTo>
                    <a:pt x="670" y="579"/>
                  </a:lnTo>
                  <a:lnTo>
                    <a:pt x="665" y="574"/>
                  </a:lnTo>
                  <a:lnTo>
                    <a:pt x="661" y="574"/>
                  </a:lnTo>
                  <a:lnTo>
                    <a:pt x="656" y="570"/>
                  </a:lnTo>
                  <a:lnTo>
                    <a:pt x="651" y="555"/>
                  </a:lnTo>
                  <a:lnTo>
                    <a:pt x="641" y="536"/>
                  </a:lnTo>
                  <a:lnTo>
                    <a:pt x="637" y="522"/>
                  </a:lnTo>
                  <a:lnTo>
                    <a:pt x="632" y="502"/>
                  </a:lnTo>
                  <a:lnTo>
                    <a:pt x="627" y="488"/>
                  </a:lnTo>
                  <a:lnTo>
                    <a:pt x="627" y="483"/>
                  </a:lnTo>
                  <a:lnTo>
                    <a:pt x="627" y="479"/>
                  </a:lnTo>
                  <a:lnTo>
                    <a:pt x="627" y="474"/>
                  </a:lnTo>
                  <a:lnTo>
                    <a:pt x="632" y="469"/>
                  </a:lnTo>
                  <a:lnTo>
                    <a:pt x="632" y="464"/>
                  </a:lnTo>
                  <a:lnTo>
                    <a:pt x="637" y="459"/>
                  </a:lnTo>
                  <a:lnTo>
                    <a:pt x="646" y="455"/>
                  </a:lnTo>
                  <a:lnTo>
                    <a:pt x="651" y="445"/>
                  </a:lnTo>
                  <a:lnTo>
                    <a:pt x="661" y="440"/>
                  </a:lnTo>
                  <a:lnTo>
                    <a:pt x="665" y="431"/>
                  </a:lnTo>
                  <a:lnTo>
                    <a:pt x="675" y="421"/>
                  </a:lnTo>
                  <a:lnTo>
                    <a:pt x="684" y="407"/>
                  </a:lnTo>
                  <a:lnTo>
                    <a:pt x="694" y="388"/>
                  </a:lnTo>
                  <a:lnTo>
                    <a:pt x="704" y="368"/>
                  </a:lnTo>
                  <a:lnTo>
                    <a:pt x="713" y="344"/>
                  </a:lnTo>
                  <a:lnTo>
                    <a:pt x="728" y="320"/>
                  </a:lnTo>
                  <a:lnTo>
                    <a:pt x="737" y="287"/>
                  </a:lnTo>
                  <a:close/>
                  <a:moveTo>
                    <a:pt x="263" y="938"/>
                  </a:moveTo>
                  <a:lnTo>
                    <a:pt x="258" y="938"/>
                  </a:lnTo>
                  <a:lnTo>
                    <a:pt x="249" y="934"/>
                  </a:lnTo>
                  <a:lnTo>
                    <a:pt x="244" y="929"/>
                  </a:lnTo>
                  <a:lnTo>
                    <a:pt x="234" y="919"/>
                  </a:lnTo>
                  <a:lnTo>
                    <a:pt x="229" y="910"/>
                  </a:lnTo>
                  <a:lnTo>
                    <a:pt x="220" y="890"/>
                  </a:lnTo>
                  <a:lnTo>
                    <a:pt x="210" y="876"/>
                  </a:lnTo>
                  <a:lnTo>
                    <a:pt x="206" y="852"/>
                  </a:lnTo>
                  <a:lnTo>
                    <a:pt x="196" y="833"/>
                  </a:lnTo>
                  <a:lnTo>
                    <a:pt x="186" y="814"/>
                  </a:lnTo>
                  <a:lnTo>
                    <a:pt x="182" y="799"/>
                  </a:lnTo>
                  <a:lnTo>
                    <a:pt x="177" y="785"/>
                  </a:lnTo>
                  <a:lnTo>
                    <a:pt x="177" y="771"/>
                  </a:lnTo>
                  <a:lnTo>
                    <a:pt x="172" y="761"/>
                  </a:lnTo>
                  <a:lnTo>
                    <a:pt x="177" y="752"/>
                  </a:lnTo>
                  <a:lnTo>
                    <a:pt x="177" y="747"/>
                  </a:lnTo>
                  <a:lnTo>
                    <a:pt x="182" y="737"/>
                  </a:lnTo>
                  <a:lnTo>
                    <a:pt x="191" y="732"/>
                  </a:lnTo>
                  <a:lnTo>
                    <a:pt x="201" y="732"/>
                  </a:lnTo>
                  <a:lnTo>
                    <a:pt x="210" y="728"/>
                  </a:lnTo>
                  <a:lnTo>
                    <a:pt x="220" y="732"/>
                  </a:lnTo>
                  <a:lnTo>
                    <a:pt x="225" y="732"/>
                  </a:lnTo>
                  <a:lnTo>
                    <a:pt x="239" y="732"/>
                  </a:lnTo>
                  <a:lnTo>
                    <a:pt x="249" y="728"/>
                  </a:lnTo>
                  <a:lnTo>
                    <a:pt x="263" y="723"/>
                  </a:lnTo>
                  <a:lnTo>
                    <a:pt x="268" y="718"/>
                  </a:lnTo>
                  <a:lnTo>
                    <a:pt x="277" y="708"/>
                  </a:lnTo>
                  <a:lnTo>
                    <a:pt x="292" y="699"/>
                  </a:lnTo>
                  <a:lnTo>
                    <a:pt x="306" y="680"/>
                  </a:lnTo>
                  <a:lnTo>
                    <a:pt x="330" y="661"/>
                  </a:lnTo>
                  <a:lnTo>
                    <a:pt x="354" y="641"/>
                  </a:lnTo>
                  <a:lnTo>
                    <a:pt x="378" y="613"/>
                  </a:lnTo>
                  <a:lnTo>
                    <a:pt x="392" y="598"/>
                  </a:lnTo>
                  <a:lnTo>
                    <a:pt x="411" y="579"/>
                  </a:lnTo>
                  <a:lnTo>
                    <a:pt x="426" y="565"/>
                  </a:lnTo>
                  <a:lnTo>
                    <a:pt x="440" y="546"/>
                  </a:lnTo>
                  <a:lnTo>
                    <a:pt x="469" y="522"/>
                  </a:lnTo>
                  <a:lnTo>
                    <a:pt x="493" y="498"/>
                  </a:lnTo>
                  <a:lnTo>
                    <a:pt x="512" y="479"/>
                  </a:lnTo>
                  <a:lnTo>
                    <a:pt x="531" y="469"/>
                  </a:lnTo>
                  <a:lnTo>
                    <a:pt x="541" y="459"/>
                  </a:lnTo>
                  <a:lnTo>
                    <a:pt x="550" y="455"/>
                  </a:lnTo>
                  <a:lnTo>
                    <a:pt x="555" y="455"/>
                  </a:lnTo>
                  <a:lnTo>
                    <a:pt x="560" y="459"/>
                  </a:lnTo>
                  <a:lnTo>
                    <a:pt x="560" y="464"/>
                  </a:lnTo>
                  <a:lnTo>
                    <a:pt x="555" y="469"/>
                  </a:lnTo>
                  <a:lnTo>
                    <a:pt x="555" y="474"/>
                  </a:lnTo>
                  <a:lnTo>
                    <a:pt x="550" y="483"/>
                  </a:lnTo>
                  <a:lnTo>
                    <a:pt x="546" y="498"/>
                  </a:lnTo>
                  <a:lnTo>
                    <a:pt x="541" y="507"/>
                  </a:lnTo>
                  <a:lnTo>
                    <a:pt x="536" y="522"/>
                  </a:lnTo>
                  <a:lnTo>
                    <a:pt x="526" y="536"/>
                  </a:lnTo>
                  <a:lnTo>
                    <a:pt x="517" y="555"/>
                  </a:lnTo>
                  <a:lnTo>
                    <a:pt x="507" y="574"/>
                  </a:lnTo>
                  <a:lnTo>
                    <a:pt x="498" y="598"/>
                  </a:lnTo>
                  <a:lnTo>
                    <a:pt x="483" y="617"/>
                  </a:lnTo>
                  <a:lnTo>
                    <a:pt x="469" y="641"/>
                  </a:lnTo>
                  <a:lnTo>
                    <a:pt x="455" y="670"/>
                  </a:lnTo>
                  <a:lnTo>
                    <a:pt x="435" y="694"/>
                  </a:lnTo>
                  <a:lnTo>
                    <a:pt x="421" y="723"/>
                  </a:lnTo>
                  <a:lnTo>
                    <a:pt x="402" y="752"/>
                  </a:lnTo>
                  <a:lnTo>
                    <a:pt x="388" y="775"/>
                  </a:lnTo>
                  <a:lnTo>
                    <a:pt x="373" y="799"/>
                  </a:lnTo>
                  <a:lnTo>
                    <a:pt x="359" y="819"/>
                  </a:lnTo>
                  <a:lnTo>
                    <a:pt x="344" y="838"/>
                  </a:lnTo>
                  <a:lnTo>
                    <a:pt x="335" y="857"/>
                  </a:lnTo>
                  <a:lnTo>
                    <a:pt x="320" y="871"/>
                  </a:lnTo>
                  <a:lnTo>
                    <a:pt x="311" y="886"/>
                  </a:lnTo>
                  <a:lnTo>
                    <a:pt x="301" y="900"/>
                  </a:lnTo>
                  <a:lnTo>
                    <a:pt x="292" y="910"/>
                  </a:lnTo>
                  <a:lnTo>
                    <a:pt x="287" y="919"/>
                  </a:lnTo>
                  <a:lnTo>
                    <a:pt x="277" y="924"/>
                  </a:lnTo>
                  <a:lnTo>
                    <a:pt x="273" y="929"/>
                  </a:lnTo>
                  <a:lnTo>
                    <a:pt x="268" y="934"/>
                  </a:lnTo>
                  <a:lnTo>
                    <a:pt x="263" y="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"/>
            <p:cNvSpPr/>
            <p:nvPr/>
          </p:nvSpPr>
          <p:spPr>
            <a:xfrm>
              <a:off x="4783680" y="2439720"/>
              <a:ext cx="938520" cy="1082520"/>
            </a:xfrm>
            <a:custGeom>
              <a:avLst/>
              <a:gdLst/>
              <a:ahLst/>
              <a:rect l="l" t="t" r="r" b="b"/>
              <a:pathLst>
                <a:path w="776" h="895">
                  <a:moveTo>
                    <a:pt x="412" y="704"/>
                  </a:moveTo>
                  <a:lnTo>
                    <a:pt x="417" y="704"/>
                  </a:lnTo>
                  <a:lnTo>
                    <a:pt x="421" y="699"/>
                  </a:lnTo>
                  <a:lnTo>
                    <a:pt x="426" y="694"/>
                  </a:lnTo>
                  <a:lnTo>
                    <a:pt x="431" y="689"/>
                  </a:lnTo>
                  <a:lnTo>
                    <a:pt x="436" y="680"/>
                  </a:lnTo>
                  <a:lnTo>
                    <a:pt x="440" y="670"/>
                  </a:lnTo>
                  <a:lnTo>
                    <a:pt x="450" y="661"/>
                  </a:lnTo>
                  <a:lnTo>
                    <a:pt x="455" y="651"/>
                  </a:lnTo>
                  <a:lnTo>
                    <a:pt x="460" y="637"/>
                  </a:lnTo>
                  <a:lnTo>
                    <a:pt x="464" y="622"/>
                  </a:lnTo>
                  <a:lnTo>
                    <a:pt x="474" y="608"/>
                  </a:lnTo>
                  <a:lnTo>
                    <a:pt x="479" y="589"/>
                  </a:lnTo>
                  <a:lnTo>
                    <a:pt x="484" y="574"/>
                  </a:lnTo>
                  <a:lnTo>
                    <a:pt x="493" y="555"/>
                  </a:lnTo>
                  <a:lnTo>
                    <a:pt x="508" y="512"/>
                  </a:lnTo>
                  <a:lnTo>
                    <a:pt x="522" y="474"/>
                  </a:lnTo>
                  <a:lnTo>
                    <a:pt x="536" y="435"/>
                  </a:lnTo>
                  <a:lnTo>
                    <a:pt x="546" y="397"/>
                  </a:lnTo>
                  <a:lnTo>
                    <a:pt x="555" y="364"/>
                  </a:lnTo>
                  <a:lnTo>
                    <a:pt x="560" y="335"/>
                  </a:lnTo>
                  <a:lnTo>
                    <a:pt x="570" y="301"/>
                  </a:lnTo>
                  <a:lnTo>
                    <a:pt x="575" y="273"/>
                  </a:lnTo>
                  <a:lnTo>
                    <a:pt x="575" y="249"/>
                  </a:lnTo>
                  <a:lnTo>
                    <a:pt x="579" y="225"/>
                  </a:lnTo>
                  <a:lnTo>
                    <a:pt x="579" y="206"/>
                  </a:lnTo>
                  <a:lnTo>
                    <a:pt x="579" y="191"/>
                  </a:lnTo>
                  <a:lnTo>
                    <a:pt x="579" y="172"/>
                  </a:lnTo>
                  <a:lnTo>
                    <a:pt x="575" y="162"/>
                  </a:lnTo>
                  <a:lnTo>
                    <a:pt x="575" y="148"/>
                  </a:lnTo>
                  <a:lnTo>
                    <a:pt x="570" y="138"/>
                  </a:lnTo>
                  <a:lnTo>
                    <a:pt x="570" y="134"/>
                  </a:lnTo>
                  <a:lnTo>
                    <a:pt x="560" y="124"/>
                  </a:lnTo>
                  <a:lnTo>
                    <a:pt x="551" y="119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8" y="115"/>
                  </a:lnTo>
                  <a:lnTo>
                    <a:pt x="493" y="115"/>
                  </a:lnTo>
                  <a:lnTo>
                    <a:pt x="479" y="119"/>
                  </a:lnTo>
                  <a:lnTo>
                    <a:pt x="460" y="119"/>
                  </a:lnTo>
                  <a:lnTo>
                    <a:pt x="440" y="124"/>
                  </a:lnTo>
                  <a:lnTo>
                    <a:pt x="421" y="129"/>
                  </a:lnTo>
                  <a:lnTo>
                    <a:pt x="397" y="134"/>
                  </a:lnTo>
                  <a:lnTo>
                    <a:pt x="369" y="138"/>
                  </a:lnTo>
                  <a:lnTo>
                    <a:pt x="311" y="153"/>
                  </a:lnTo>
                  <a:lnTo>
                    <a:pt x="287" y="158"/>
                  </a:lnTo>
                  <a:lnTo>
                    <a:pt x="258" y="162"/>
                  </a:lnTo>
                  <a:lnTo>
                    <a:pt x="235" y="167"/>
                  </a:lnTo>
                  <a:lnTo>
                    <a:pt x="211" y="172"/>
                  </a:lnTo>
                  <a:lnTo>
                    <a:pt x="191" y="177"/>
                  </a:lnTo>
                  <a:lnTo>
                    <a:pt x="172" y="182"/>
                  </a:lnTo>
                  <a:lnTo>
                    <a:pt x="153" y="186"/>
                  </a:lnTo>
                  <a:lnTo>
                    <a:pt x="134" y="191"/>
                  </a:lnTo>
                  <a:lnTo>
                    <a:pt x="115" y="191"/>
                  </a:lnTo>
                  <a:lnTo>
                    <a:pt x="100" y="196"/>
                  </a:lnTo>
                  <a:lnTo>
                    <a:pt x="86" y="191"/>
                  </a:lnTo>
                  <a:lnTo>
                    <a:pt x="72" y="191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7"/>
                  </a:lnTo>
                  <a:lnTo>
                    <a:pt x="29" y="172"/>
                  </a:lnTo>
                  <a:lnTo>
                    <a:pt x="19" y="167"/>
                  </a:lnTo>
                  <a:lnTo>
                    <a:pt x="9" y="162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9" y="138"/>
                  </a:lnTo>
                  <a:lnTo>
                    <a:pt x="19" y="138"/>
                  </a:lnTo>
                  <a:lnTo>
                    <a:pt x="33" y="138"/>
                  </a:lnTo>
                  <a:lnTo>
                    <a:pt x="43" y="134"/>
                  </a:lnTo>
                  <a:lnTo>
                    <a:pt x="57" y="134"/>
                  </a:lnTo>
                  <a:lnTo>
                    <a:pt x="76" y="129"/>
                  </a:lnTo>
                  <a:lnTo>
                    <a:pt x="91" y="129"/>
                  </a:lnTo>
                  <a:lnTo>
                    <a:pt x="110" y="124"/>
                  </a:lnTo>
                  <a:lnTo>
                    <a:pt x="134" y="119"/>
                  </a:lnTo>
                  <a:lnTo>
                    <a:pt x="158" y="115"/>
                  </a:lnTo>
                  <a:lnTo>
                    <a:pt x="182" y="110"/>
                  </a:lnTo>
                  <a:lnTo>
                    <a:pt x="206" y="105"/>
                  </a:lnTo>
                  <a:lnTo>
                    <a:pt x="235" y="95"/>
                  </a:lnTo>
                  <a:lnTo>
                    <a:pt x="263" y="91"/>
                  </a:lnTo>
                  <a:lnTo>
                    <a:pt x="292" y="81"/>
                  </a:lnTo>
                  <a:lnTo>
                    <a:pt x="321" y="76"/>
                  </a:lnTo>
                  <a:lnTo>
                    <a:pt x="349" y="71"/>
                  </a:lnTo>
                  <a:lnTo>
                    <a:pt x="373" y="62"/>
                  </a:lnTo>
                  <a:lnTo>
                    <a:pt x="402" y="57"/>
                  </a:lnTo>
                  <a:lnTo>
                    <a:pt x="421" y="52"/>
                  </a:lnTo>
                  <a:lnTo>
                    <a:pt x="445" y="47"/>
                  </a:lnTo>
                  <a:lnTo>
                    <a:pt x="464" y="43"/>
                  </a:lnTo>
                  <a:lnTo>
                    <a:pt x="479" y="38"/>
                  </a:lnTo>
                  <a:lnTo>
                    <a:pt x="493" y="33"/>
                  </a:lnTo>
                  <a:lnTo>
                    <a:pt x="508" y="33"/>
                  </a:lnTo>
                  <a:lnTo>
                    <a:pt x="517" y="28"/>
                  </a:lnTo>
                  <a:lnTo>
                    <a:pt x="531" y="24"/>
                  </a:lnTo>
                  <a:lnTo>
                    <a:pt x="536" y="24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1" y="14"/>
                  </a:lnTo>
                  <a:lnTo>
                    <a:pt x="560" y="9"/>
                  </a:lnTo>
                  <a:lnTo>
                    <a:pt x="570" y="4"/>
                  </a:lnTo>
                  <a:lnTo>
                    <a:pt x="579" y="0"/>
                  </a:lnTo>
                  <a:lnTo>
                    <a:pt x="594" y="0"/>
                  </a:lnTo>
                  <a:lnTo>
                    <a:pt x="599" y="0"/>
                  </a:lnTo>
                  <a:lnTo>
                    <a:pt x="603" y="4"/>
                  </a:lnTo>
                  <a:lnTo>
                    <a:pt x="613" y="4"/>
                  </a:lnTo>
                  <a:lnTo>
                    <a:pt x="627" y="9"/>
                  </a:lnTo>
                  <a:lnTo>
                    <a:pt x="642" y="19"/>
                  </a:lnTo>
                  <a:lnTo>
                    <a:pt x="656" y="28"/>
                  </a:lnTo>
                  <a:lnTo>
                    <a:pt x="675" y="38"/>
                  </a:lnTo>
                  <a:lnTo>
                    <a:pt x="699" y="47"/>
                  </a:lnTo>
                  <a:lnTo>
                    <a:pt x="713" y="62"/>
                  </a:lnTo>
                  <a:lnTo>
                    <a:pt x="733" y="71"/>
                  </a:lnTo>
                  <a:lnTo>
                    <a:pt x="742" y="81"/>
                  </a:lnTo>
                  <a:lnTo>
                    <a:pt x="757" y="91"/>
                  </a:lnTo>
                  <a:lnTo>
                    <a:pt x="761" y="100"/>
                  </a:lnTo>
                  <a:lnTo>
                    <a:pt x="771" y="105"/>
                  </a:lnTo>
                  <a:lnTo>
                    <a:pt x="776" y="110"/>
                  </a:lnTo>
                  <a:lnTo>
                    <a:pt x="776" y="115"/>
                  </a:lnTo>
                  <a:lnTo>
                    <a:pt x="771" y="124"/>
                  </a:lnTo>
                  <a:lnTo>
                    <a:pt x="766" y="134"/>
                  </a:lnTo>
                  <a:lnTo>
                    <a:pt x="761" y="143"/>
                  </a:lnTo>
                  <a:lnTo>
                    <a:pt x="747" y="148"/>
                  </a:lnTo>
                  <a:lnTo>
                    <a:pt x="737" y="153"/>
                  </a:lnTo>
                  <a:lnTo>
                    <a:pt x="733" y="162"/>
                  </a:lnTo>
                  <a:lnTo>
                    <a:pt x="728" y="172"/>
                  </a:lnTo>
                  <a:lnTo>
                    <a:pt x="723" y="186"/>
                  </a:lnTo>
                  <a:lnTo>
                    <a:pt x="718" y="201"/>
                  </a:lnTo>
                  <a:lnTo>
                    <a:pt x="713" y="220"/>
                  </a:lnTo>
                  <a:lnTo>
                    <a:pt x="709" y="239"/>
                  </a:lnTo>
                  <a:lnTo>
                    <a:pt x="704" y="263"/>
                  </a:lnTo>
                  <a:lnTo>
                    <a:pt x="699" y="292"/>
                  </a:lnTo>
                  <a:lnTo>
                    <a:pt x="694" y="320"/>
                  </a:lnTo>
                  <a:lnTo>
                    <a:pt x="685" y="354"/>
                  </a:lnTo>
                  <a:lnTo>
                    <a:pt x="675" y="388"/>
                  </a:lnTo>
                  <a:lnTo>
                    <a:pt x="661" y="431"/>
                  </a:lnTo>
                  <a:lnTo>
                    <a:pt x="651" y="474"/>
                  </a:lnTo>
                  <a:lnTo>
                    <a:pt x="637" y="522"/>
                  </a:lnTo>
                  <a:lnTo>
                    <a:pt x="618" y="570"/>
                  </a:lnTo>
                  <a:lnTo>
                    <a:pt x="613" y="598"/>
                  </a:lnTo>
                  <a:lnTo>
                    <a:pt x="603" y="622"/>
                  </a:lnTo>
                  <a:lnTo>
                    <a:pt x="594" y="646"/>
                  </a:lnTo>
                  <a:lnTo>
                    <a:pt x="589" y="665"/>
                  </a:lnTo>
                  <a:lnTo>
                    <a:pt x="579" y="689"/>
                  </a:lnTo>
                  <a:lnTo>
                    <a:pt x="570" y="708"/>
                  </a:lnTo>
                  <a:lnTo>
                    <a:pt x="565" y="728"/>
                  </a:lnTo>
                  <a:lnTo>
                    <a:pt x="555" y="747"/>
                  </a:lnTo>
                  <a:lnTo>
                    <a:pt x="546" y="761"/>
                  </a:lnTo>
                  <a:lnTo>
                    <a:pt x="541" y="775"/>
                  </a:lnTo>
                  <a:lnTo>
                    <a:pt x="531" y="790"/>
                  </a:lnTo>
                  <a:lnTo>
                    <a:pt x="527" y="799"/>
                  </a:lnTo>
                  <a:lnTo>
                    <a:pt x="517" y="814"/>
                  </a:lnTo>
                  <a:lnTo>
                    <a:pt x="512" y="823"/>
                  </a:lnTo>
                  <a:lnTo>
                    <a:pt x="503" y="828"/>
                  </a:lnTo>
                  <a:lnTo>
                    <a:pt x="498" y="838"/>
                  </a:lnTo>
                  <a:lnTo>
                    <a:pt x="484" y="852"/>
                  </a:lnTo>
                  <a:lnTo>
                    <a:pt x="469" y="862"/>
                  </a:lnTo>
                  <a:lnTo>
                    <a:pt x="455" y="871"/>
                  </a:lnTo>
                  <a:lnTo>
                    <a:pt x="445" y="881"/>
                  </a:lnTo>
                  <a:lnTo>
                    <a:pt x="436" y="886"/>
                  </a:lnTo>
                  <a:lnTo>
                    <a:pt x="426" y="890"/>
                  </a:lnTo>
                  <a:lnTo>
                    <a:pt x="421" y="895"/>
                  </a:lnTo>
                  <a:lnTo>
                    <a:pt x="412" y="895"/>
                  </a:lnTo>
                  <a:lnTo>
                    <a:pt x="407" y="895"/>
                  </a:lnTo>
                  <a:lnTo>
                    <a:pt x="402" y="890"/>
                  </a:lnTo>
                  <a:lnTo>
                    <a:pt x="397" y="886"/>
                  </a:lnTo>
                  <a:lnTo>
                    <a:pt x="393" y="881"/>
                  </a:lnTo>
                  <a:lnTo>
                    <a:pt x="388" y="876"/>
                  </a:lnTo>
                  <a:lnTo>
                    <a:pt x="383" y="866"/>
                  </a:lnTo>
                  <a:lnTo>
                    <a:pt x="383" y="857"/>
                  </a:lnTo>
                  <a:lnTo>
                    <a:pt x="378" y="847"/>
                  </a:lnTo>
                  <a:lnTo>
                    <a:pt x="373" y="833"/>
                  </a:lnTo>
                  <a:lnTo>
                    <a:pt x="369" y="819"/>
                  </a:lnTo>
                  <a:lnTo>
                    <a:pt x="364" y="804"/>
                  </a:lnTo>
                  <a:lnTo>
                    <a:pt x="354" y="790"/>
                  </a:lnTo>
                  <a:lnTo>
                    <a:pt x="345" y="775"/>
                  </a:lnTo>
                  <a:lnTo>
                    <a:pt x="335" y="756"/>
                  </a:lnTo>
                  <a:lnTo>
                    <a:pt x="326" y="737"/>
                  </a:lnTo>
                  <a:lnTo>
                    <a:pt x="306" y="723"/>
                  </a:lnTo>
                  <a:lnTo>
                    <a:pt x="292" y="704"/>
                  </a:lnTo>
                  <a:lnTo>
                    <a:pt x="282" y="694"/>
                  </a:lnTo>
                  <a:lnTo>
                    <a:pt x="273" y="680"/>
                  </a:lnTo>
                  <a:lnTo>
                    <a:pt x="268" y="670"/>
                  </a:lnTo>
                  <a:lnTo>
                    <a:pt x="263" y="661"/>
                  </a:lnTo>
                  <a:lnTo>
                    <a:pt x="263" y="656"/>
                  </a:lnTo>
                  <a:lnTo>
                    <a:pt x="263" y="651"/>
                  </a:lnTo>
                  <a:lnTo>
                    <a:pt x="263" y="646"/>
                  </a:lnTo>
                  <a:lnTo>
                    <a:pt x="268" y="646"/>
                  </a:lnTo>
                  <a:lnTo>
                    <a:pt x="273" y="646"/>
                  </a:lnTo>
                  <a:lnTo>
                    <a:pt x="278" y="651"/>
                  </a:lnTo>
                  <a:lnTo>
                    <a:pt x="287" y="651"/>
                  </a:lnTo>
                  <a:lnTo>
                    <a:pt x="297" y="656"/>
                  </a:lnTo>
                  <a:lnTo>
                    <a:pt x="306" y="665"/>
                  </a:lnTo>
                  <a:lnTo>
                    <a:pt x="321" y="670"/>
                  </a:lnTo>
                  <a:lnTo>
                    <a:pt x="335" y="680"/>
                  </a:lnTo>
                  <a:lnTo>
                    <a:pt x="345" y="689"/>
                  </a:lnTo>
                  <a:lnTo>
                    <a:pt x="359" y="694"/>
                  </a:lnTo>
                  <a:lnTo>
                    <a:pt x="369" y="699"/>
                  </a:lnTo>
                  <a:lnTo>
                    <a:pt x="378" y="704"/>
                  </a:lnTo>
                  <a:lnTo>
                    <a:pt x="388" y="708"/>
                  </a:lnTo>
                  <a:lnTo>
                    <a:pt x="397" y="708"/>
                  </a:lnTo>
                  <a:lnTo>
                    <a:pt x="407" y="708"/>
                  </a:lnTo>
                  <a:lnTo>
                    <a:pt x="412" y="70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"/>
            <p:cNvSpPr/>
            <p:nvPr/>
          </p:nvSpPr>
          <p:spPr>
            <a:xfrm>
              <a:off x="5531400" y="2919960"/>
              <a:ext cx="388080" cy="219960"/>
            </a:xfrm>
            <a:custGeom>
              <a:avLst/>
              <a:gdLst/>
              <a:ahLst/>
              <a:rect l="l" t="t" r="r" b="b"/>
              <a:pathLst>
                <a:path w="321" h="182">
                  <a:moveTo>
                    <a:pt x="210" y="24"/>
                  </a:moveTo>
                  <a:lnTo>
                    <a:pt x="230" y="34"/>
                  </a:lnTo>
                  <a:lnTo>
                    <a:pt x="249" y="38"/>
                  </a:lnTo>
                  <a:lnTo>
                    <a:pt x="263" y="43"/>
                  </a:lnTo>
                  <a:lnTo>
                    <a:pt x="277" y="48"/>
                  </a:lnTo>
                  <a:lnTo>
                    <a:pt x="292" y="58"/>
                  </a:lnTo>
                  <a:lnTo>
                    <a:pt x="301" y="62"/>
                  </a:lnTo>
                  <a:lnTo>
                    <a:pt x="306" y="67"/>
                  </a:lnTo>
                  <a:lnTo>
                    <a:pt x="311" y="77"/>
                  </a:lnTo>
                  <a:lnTo>
                    <a:pt x="316" y="91"/>
                  </a:lnTo>
                  <a:lnTo>
                    <a:pt x="321" y="105"/>
                  </a:lnTo>
                  <a:lnTo>
                    <a:pt x="321" y="125"/>
                  </a:lnTo>
                  <a:lnTo>
                    <a:pt x="321" y="139"/>
                  </a:lnTo>
                  <a:lnTo>
                    <a:pt x="321" y="149"/>
                  </a:lnTo>
                  <a:lnTo>
                    <a:pt x="316" y="158"/>
                  </a:lnTo>
                  <a:lnTo>
                    <a:pt x="316" y="163"/>
                  </a:lnTo>
                  <a:lnTo>
                    <a:pt x="311" y="173"/>
                  </a:lnTo>
                  <a:lnTo>
                    <a:pt x="301" y="177"/>
                  </a:lnTo>
                  <a:lnTo>
                    <a:pt x="297" y="177"/>
                  </a:lnTo>
                  <a:lnTo>
                    <a:pt x="287" y="182"/>
                  </a:lnTo>
                  <a:lnTo>
                    <a:pt x="277" y="182"/>
                  </a:lnTo>
                  <a:lnTo>
                    <a:pt x="273" y="182"/>
                  </a:lnTo>
                  <a:lnTo>
                    <a:pt x="263" y="182"/>
                  </a:lnTo>
                  <a:lnTo>
                    <a:pt x="254" y="177"/>
                  </a:lnTo>
                  <a:lnTo>
                    <a:pt x="244" y="173"/>
                  </a:lnTo>
                  <a:lnTo>
                    <a:pt x="234" y="168"/>
                  </a:lnTo>
                  <a:lnTo>
                    <a:pt x="220" y="163"/>
                  </a:lnTo>
                  <a:lnTo>
                    <a:pt x="206" y="153"/>
                  </a:lnTo>
                  <a:lnTo>
                    <a:pt x="186" y="144"/>
                  </a:lnTo>
                  <a:lnTo>
                    <a:pt x="167" y="134"/>
                  </a:lnTo>
                  <a:lnTo>
                    <a:pt x="148" y="125"/>
                  </a:lnTo>
                  <a:lnTo>
                    <a:pt x="129" y="110"/>
                  </a:lnTo>
                  <a:lnTo>
                    <a:pt x="105" y="101"/>
                  </a:lnTo>
                  <a:lnTo>
                    <a:pt x="81" y="86"/>
                  </a:lnTo>
                  <a:lnTo>
                    <a:pt x="57" y="67"/>
                  </a:lnTo>
                  <a:lnTo>
                    <a:pt x="28" y="53"/>
                  </a:lnTo>
                  <a:lnTo>
                    <a:pt x="0" y="34"/>
                  </a:lnTo>
                  <a:lnTo>
                    <a:pt x="19" y="24"/>
                  </a:lnTo>
                  <a:lnTo>
                    <a:pt x="38" y="14"/>
                  </a:lnTo>
                  <a:lnTo>
                    <a:pt x="62" y="5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48" y="10"/>
                  </a:lnTo>
                  <a:lnTo>
                    <a:pt x="167" y="14"/>
                  </a:lnTo>
                  <a:lnTo>
                    <a:pt x="186" y="19"/>
                  </a:lnTo>
                  <a:lnTo>
                    <a:pt x="210" y="2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1"/>
            <p:cNvSpPr/>
            <p:nvPr/>
          </p:nvSpPr>
          <p:spPr>
            <a:xfrm>
              <a:off x="3909240" y="3592800"/>
              <a:ext cx="2120040" cy="288720"/>
            </a:xfrm>
            <a:custGeom>
              <a:avLst/>
              <a:gdLst/>
              <a:ahLst/>
              <a:rect l="l" t="t" r="r" b="b"/>
              <a:pathLst>
                <a:path w="1753" h="239">
                  <a:moveTo>
                    <a:pt x="1542" y="0"/>
                  </a:moveTo>
                  <a:lnTo>
                    <a:pt x="1575" y="0"/>
                  </a:lnTo>
                  <a:lnTo>
                    <a:pt x="1604" y="9"/>
                  </a:lnTo>
                  <a:lnTo>
                    <a:pt x="1623" y="9"/>
                  </a:lnTo>
                  <a:lnTo>
                    <a:pt x="1638" y="19"/>
                  </a:lnTo>
                  <a:lnTo>
                    <a:pt x="1652" y="24"/>
                  </a:lnTo>
                  <a:lnTo>
                    <a:pt x="1671" y="33"/>
                  </a:lnTo>
                  <a:lnTo>
                    <a:pt x="1686" y="43"/>
                  </a:lnTo>
                  <a:lnTo>
                    <a:pt x="1700" y="52"/>
                  </a:lnTo>
                  <a:lnTo>
                    <a:pt x="1709" y="57"/>
                  </a:lnTo>
                  <a:lnTo>
                    <a:pt x="1724" y="62"/>
                  </a:lnTo>
                  <a:lnTo>
                    <a:pt x="1729" y="72"/>
                  </a:lnTo>
                  <a:lnTo>
                    <a:pt x="1738" y="76"/>
                  </a:lnTo>
                  <a:lnTo>
                    <a:pt x="1743" y="81"/>
                  </a:lnTo>
                  <a:lnTo>
                    <a:pt x="1748" y="81"/>
                  </a:lnTo>
                  <a:lnTo>
                    <a:pt x="1753" y="96"/>
                  </a:lnTo>
                  <a:lnTo>
                    <a:pt x="1753" y="100"/>
                  </a:lnTo>
                  <a:lnTo>
                    <a:pt x="1753" y="110"/>
                  </a:lnTo>
                  <a:lnTo>
                    <a:pt x="1748" y="115"/>
                  </a:lnTo>
                  <a:lnTo>
                    <a:pt x="1743" y="119"/>
                  </a:lnTo>
                  <a:lnTo>
                    <a:pt x="1733" y="119"/>
                  </a:lnTo>
                  <a:lnTo>
                    <a:pt x="1729" y="124"/>
                  </a:lnTo>
                  <a:lnTo>
                    <a:pt x="1719" y="124"/>
                  </a:lnTo>
                  <a:lnTo>
                    <a:pt x="1705" y="124"/>
                  </a:lnTo>
                  <a:lnTo>
                    <a:pt x="1690" y="124"/>
                  </a:lnTo>
                  <a:lnTo>
                    <a:pt x="1676" y="124"/>
                  </a:lnTo>
                  <a:lnTo>
                    <a:pt x="1662" y="129"/>
                  </a:lnTo>
                  <a:lnTo>
                    <a:pt x="1642" y="129"/>
                  </a:lnTo>
                  <a:lnTo>
                    <a:pt x="1618" y="129"/>
                  </a:lnTo>
                  <a:lnTo>
                    <a:pt x="1599" y="129"/>
                  </a:lnTo>
                  <a:lnTo>
                    <a:pt x="1575" y="129"/>
                  </a:lnTo>
                  <a:lnTo>
                    <a:pt x="1547" y="124"/>
                  </a:lnTo>
                  <a:lnTo>
                    <a:pt x="1518" y="124"/>
                  </a:lnTo>
                  <a:lnTo>
                    <a:pt x="1489" y="124"/>
                  </a:lnTo>
                  <a:lnTo>
                    <a:pt x="1427" y="119"/>
                  </a:lnTo>
                  <a:lnTo>
                    <a:pt x="1365" y="119"/>
                  </a:lnTo>
                  <a:lnTo>
                    <a:pt x="1245" y="124"/>
                  </a:lnTo>
                  <a:lnTo>
                    <a:pt x="1125" y="124"/>
                  </a:lnTo>
                  <a:lnTo>
                    <a:pt x="1005" y="134"/>
                  </a:lnTo>
                  <a:lnTo>
                    <a:pt x="948" y="139"/>
                  </a:lnTo>
                  <a:lnTo>
                    <a:pt x="895" y="143"/>
                  </a:lnTo>
                  <a:lnTo>
                    <a:pt x="843" y="153"/>
                  </a:lnTo>
                  <a:lnTo>
                    <a:pt x="790" y="158"/>
                  </a:lnTo>
                  <a:lnTo>
                    <a:pt x="742" y="163"/>
                  </a:lnTo>
                  <a:lnTo>
                    <a:pt x="694" y="167"/>
                  </a:lnTo>
                  <a:lnTo>
                    <a:pt x="651" y="172"/>
                  </a:lnTo>
                  <a:lnTo>
                    <a:pt x="608" y="172"/>
                  </a:lnTo>
                  <a:lnTo>
                    <a:pt x="526" y="187"/>
                  </a:lnTo>
                  <a:lnTo>
                    <a:pt x="440" y="196"/>
                  </a:lnTo>
                  <a:lnTo>
                    <a:pt x="354" y="206"/>
                  </a:lnTo>
                  <a:lnTo>
                    <a:pt x="273" y="215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15" y="225"/>
                  </a:lnTo>
                  <a:lnTo>
                    <a:pt x="196" y="225"/>
                  </a:lnTo>
                  <a:lnTo>
                    <a:pt x="182" y="230"/>
                  </a:lnTo>
                  <a:lnTo>
                    <a:pt x="167" y="230"/>
                  </a:lnTo>
                  <a:lnTo>
                    <a:pt x="153" y="234"/>
                  </a:lnTo>
                  <a:lnTo>
                    <a:pt x="143" y="234"/>
                  </a:lnTo>
                  <a:lnTo>
                    <a:pt x="134" y="234"/>
                  </a:lnTo>
                  <a:lnTo>
                    <a:pt x="124" y="239"/>
                  </a:lnTo>
                  <a:lnTo>
                    <a:pt x="115" y="239"/>
                  </a:lnTo>
                  <a:lnTo>
                    <a:pt x="105" y="239"/>
                  </a:lnTo>
                  <a:lnTo>
                    <a:pt x="100" y="239"/>
                  </a:lnTo>
                  <a:lnTo>
                    <a:pt x="95" y="239"/>
                  </a:lnTo>
                  <a:lnTo>
                    <a:pt x="91" y="239"/>
                  </a:lnTo>
                  <a:lnTo>
                    <a:pt x="86" y="239"/>
                  </a:lnTo>
                  <a:lnTo>
                    <a:pt x="81" y="239"/>
                  </a:lnTo>
                  <a:lnTo>
                    <a:pt x="76" y="234"/>
                  </a:lnTo>
                  <a:lnTo>
                    <a:pt x="67" y="234"/>
                  </a:lnTo>
                  <a:lnTo>
                    <a:pt x="57" y="230"/>
                  </a:lnTo>
                  <a:lnTo>
                    <a:pt x="47" y="225"/>
                  </a:lnTo>
                  <a:lnTo>
                    <a:pt x="38" y="215"/>
                  </a:lnTo>
                  <a:lnTo>
                    <a:pt x="28" y="206"/>
                  </a:lnTo>
                  <a:lnTo>
                    <a:pt x="24" y="196"/>
                  </a:lnTo>
                  <a:lnTo>
                    <a:pt x="14" y="191"/>
                  </a:lnTo>
                  <a:lnTo>
                    <a:pt x="9" y="182"/>
                  </a:lnTo>
                  <a:lnTo>
                    <a:pt x="4" y="177"/>
                  </a:lnTo>
                  <a:lnTo>
                    <a:pt x="4" y="172"/>
                  </a:lnTo>
                  <a:lnTo>
                    <a:pt x="0" y="167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9" y="153"/>
                  </a:lnTo>
                  <a:lnTo>
                    <a:pt x="28" y="153"/>
                  </a:lnTo>
                  <a:lnTo>
                    <a:pt x="43" y="148"/>
                  </a:lnTo>
                  <a:lnTo>
                    <a:pt x="62" y="148"/>
                  </a:lnTo>
                  <a:lnTo>
                    <a:pt x="86" y="148"/>
                  </a:lnTo>
                  <a:lnTo>
                    <a:pt x="115" y="143"/>
                  </a:lnTo>
                  <a:lnTo>
                    <a:pt x="143" y="139"/>
                  </a:lnTo>
                  <a:lnTo>
                    <a:pt x="177" y="139"/>
                  </a:lnTo>
                  <a:lnTo>
                    <a:pt x="215" y="134"/>
                  </a:lnTo>
                  <a:lnTo>
                    <a:pt x="258" y="129"/>
                  </a:lnTo>
                  <a:lnTo>
                    <a:pt x="306" y="129"/>
                  </a:lnTo>
                  <a:lnTo>
                    <a:pt x="354" y="124"/>
                  </a:lnTo>
                  <a:lnTo>
                    <a:pt x="411" y="119"/>
                  </a:lnTo>
                  <a:lnTo>
                    <a:pt x="469" y="115"/>
                  </a:lnTo>
                  <a:lnTo>
                    <a:pt x="531" y="110"/>
                  </a:lnTo>
                  <a:lnTo>
                    <a:pt x="651" y="96"/>
                  </a:lnTo>
                  <a:lnTo>
                    <a:pt x="713" y="91"/>
                  </a:lnTo>
                  <a:lnTo>
                    <a:pt x="771" y="81"/>
                  </a:lnTo>
                  <a:lnTo>
                    <a:pt x="828" y="76"/>
                  </a:lnTo>
                  <a:lnTo>
                    <a:pt x="881" y="72"/>
                  </a:lnTo>
                  <a:lnTo>
                    <a:pt x="938" y="62"/>
                  </a:lnTo>
                  <a:lnTo>
                    <a:pt x="986" y="57"/>
                  </a:lnTo>
                  <a:lnTo>
                    <a:pt x="1039" y="52"/>
                  </a:lnTo>
                  <a:lnTo>
                    <a:pt x="1087" y="52"/>
                  </a:lnTo>
                  <a:lnTo>
                    <a:pt x="1135" y="48"/>
                  </a:lnTo>
                  <a:lnTo>
                    <a:pt x="1183" y="38"/>
                  </a:lnTo>
                  <a:lnTo>
                    <a:pt x="1226" y="33"/>
                  </a:lnTo>
                  <a:lnTo>
                    <a:pt x="1264" y="28"/>
                  </a:lnTo>
                  <a:lnTo>
                    <a:pt x="1307" y="24"/>
                  </a:lnTo>
                  <a:lnTo>
                    <a:pt x="1341" y="14"/>
                  </a:lnTo>
                  <a:lnTo>
                    <a:pt x="1379" y="14"/>
                  </a:lnTo>
                  <a:lnTo>
                    <a:pt x="1408" y="9"/>
                  </a:lnTo>
                  <a:lnTo>
                    <a:pt x="1436" y="9"/>
                  </a:lnTo>
                  <a:lnTo>
                    <a:pt x="1465" y="5"/>
                  </a:lnTo>
                  <a:lnTo>
                    <a:pt x="1489" y="5"/>
                  </a:lnTo>
                  <a:lnTo>
                    <a:pt x="1508" y="0"/>
                  </a:lnTo>
                  <a:lnTo>
                    <a:pt x="1527" y="0"/>
                  </a:lnTo>
                  <a:lnTo>
                    <a:pt x="1542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"/>
            <p:cNvSpPr/>
            <p:nvPr/>
          </p:nvSpPr>
          <p:spPr>
            <a:xfrm>
              <a:off x="4841640" y="3511440"/>
              <a:ext cx="191160" cy="1233720"/>
            </a:xfrm>
            <a:custGeom>
              <a:avLst/>
              <a:gdLst/>
              <a:ahLst/>
              <a:rect l="l" t="t" r="r" b="b"/>
              <a:pathLst>
                <a:path w="158" h="1020">
                  <a:moveTo>
                    <a:pt x="19" y="76"/>
                  </a:moveTo>
                  <a:lnTo>
                    <a:pt x="9" y="5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4"/>
                  </a:lnTo>
                  <a:lnTo>
                    <a:pt x="100" y="9"/>
                  </a:lnTo>
                  <a:lnTo>
                    <a:pt x="124" y="19"/>
                  </a:lnTo>
                  <a:lnTo>
                    <a:pt x="139" y="33"/>
                  </a:lnTo>
                  <a:lnTo>
                    <a:pt x="148" y="38"/>
                  </a:lnTo>
                  <a:lnTo>
                    <a:pt x="153" y="48"/>
                  </a:lnTo>
                  <a:lnTo>
                    <a:pt x="158" y="57"/>
                  </a:lnTo>
                  <a:lnTo>
                    <a:pt x="158" y="67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91"/>
                  </a:lnTo>
                  <a:lnTo>
                    <a:pt x="153" y="100"/>
                  </a:lnTo>
                  <a:lnTo>
                    <a:pt x="153" y="115"/>
                  </a:lnTo>
                  <a:lnTo>
                    <a:pt x="153" y="129"/>
                  </a:lnTo>
                  <a:lnTo>
                    <a:pt x="148" y="148"/>
                  </a:lnTo>
                  <a:lnTo>
                    <a:pt x="148" y="172"/>
                  </a:lnTo>
                  <a:lnTo>
                    <a:pt x="148" y="191"/>
                  </a:lnTo>
                  <a:lnTo>
                    <a:pt x="143" y="220"/>
                  </a:lnTo>
                  <a:lnTo>
                    <a:pt x="143" y="249"/>
                  </a:lnTo>
                  <a:lnTo>
                    <a:pt x="143" y="282"/>
                  </a:lnTo>
                  <a:lnTo>
                    <a:pt x="143" y="316"/>
                  </a:lnTo>
                  <a:lnTo>
                    <a:pt x="143" y="354"/>
                  </a:lnTo>
                  <a:lnTo>
                    <a:pt x="139" y="392"/>
                  </a:lnTo>
                  <a:lnTo>
                    <a:pt x="139" y="436"/>
                  </a:lnTo>
                  <a:lnTo>
                    <a:pt x="139" y="483"/>
                  </a:lnTo>
                  <a:lnTo>
                    <a:pt x="139" y="531"/>
                  </a:lnTo>
                  <a:lnTo>
                    <a:pt x="139" y="579"/>
                  </a:lnTo>
                  <a:lnTo>
                    <a:pt x="139" y="627"/>
                  </a:lnTo>
                  <a:lnTo>
                    <a:pt x="139" y="670"/>
                  </a:lnTo>
                  <a:lnTo>
                    <a:pt x="139" y="709"/>
                  </a:lnTo>
                  <a:lnTo>
                    <a:pt x="139" y="747"/>
                  </a:lnTo>
                  <a:lnTo>
                    <a:pt x="139" y="780"/>
                  </a:lnTo>
                  <a:lnTo>
                    <a:pt x="134" y="814"/>
                  </a:lnTo>
                  <a:lnTo>
                    <a:pt x="134" y="843"/>
                  </a:lnTo>
                  <a:lnTo>
                    <a:pt x="134" y="867"/>
                  </a:lnTo>
                  <a:lnTo>
                    <a:pt x="134" y="891"/>
                  </a:lnTo>
                  <a:lnTo>
                    <a:pt x="129" y="914"/>
                  </a:lnTo>
                  <a:lnTo>
                    <a:pt x="129" y="934"/>
                  </a:lnTo>
                  <a:lnTo>
                    <a:pt x="129" y="948"/>
                  </a:lnTo>
                  <a:lnTo>
                    <a:pt x="124" y="962"/>
                  </a:lnTo>
                  <a:lnTo>
                    <a:pt x="124" y="972"/>
                  </a:lnTo>
                  <a:lnTo>
                    <a:pt x="124" y="977"/>
                  </a:lnTo>
                  <a:lnTo>
                    <a:pt x="110" y="996"/>
                  </a:lnTo>
                  <a:lnTo>
                    <a:pt x="100" y="1010"/>
                  </a:lnTo>
                  <a:lnTo>
                    <a:pt x="91" y="1015"/>
                  </a:lnTo>
                  <a:lnTo>
                    <a:pt x="86" y="1020"/>
                  </a:lnTo>
                  <a:lnTo>
                    <a:pt x="81" y="1020"/>
                  </a:lnTo>
                  <a:lnTo>
                    <a:pt x="76" y="1020"/>
                  </a:lnTo>
                  <a:lnTo>
                    <a:pt x="72" y="1015"/>
                  </a:lnTo>
                  <a:lnTo>
                    <a:pt x="67" y="1010"/>
                  </a:lnTo>
                  <a:lnTo>
                    <a:pt x="62" y="1001"/>
                  </a:lnTo>
                  <a:lnTo>
                    <a:pt x="57" y="991"/>
                  </a:lnTo>
                  <a:lnTo>
                    <a:pt x="48" y="977"/>
                  </a:lnTo>
                  <a:lnTo>
                    <a:pt x="43" y="958"/>
                  </a:lnTo>
                  <a:lnTo>
                    <a:pt x="38" y="938"/>
                  </a:lnTo>
                  <a:lnTo>
                    <a:pt x="28" y="914"/>
                  </a:lnTo>
                  <a:lnTo>
                    <a:pt x="24" y="895"/>
                  </a:lnTo>
                  <a:lnTo>
                    <a:pt x="19" y="876"/>
                  </a:lnTo>
                  <a:lnTo>
                    <a:pt x="14" y="857"/>
                  </a:lnTo>
                  <a:lnTo>
                    <a:pt x="14" y="838"/>
                  </a:lnTo>
                  <a:lnTo>
                    <a:pt x="14" y="819"/>
                  </a:lnTo>
                  <a:lnTo>
                    <a:pt x="14" y="800"/>
                  </a:lnTo>
                  <a:lnTo>
                    <a:pt x="19" y="780"/>
                  </a:lnTo>
                  <a:lnTo>
                    <a:pt x="24" y="761"/>
                  </a:lnTo>
                  <a:lnTo>
                    <a:pt x="28" y="742"/>
                  </a:lnTo>
                  <a:lnTo>
                    <a:pt x="33" y="723"/>
                  </a:lnTo>
                  <a:lnTo>
                    <a:pt x="38" y="699"/>
                  </a:lnTo>
                  <a:lnTo>
                    <a:pt x="43" y="670"/>
                  </a:lnTo>
                  <a:lnTo>
                    <a:pt x="48" y="637"/>
                  </a:lnTo>
                  <a:lnTo>
                    <a:pt x="48" y="603"/>
                  </a:lnTo>
                  <a:lnTo>
                    <a:pt x="52" y="565"/>
                  </a:lnTo>
                  <a:lnTo>
                    <a:pt x="57" y="488"/>
                  </a:lnTo>
                  <a:lnTo>
                    <a:pt x="62" y="416"/>
                  </a:lnTo>
                  <a:lnTo>
                    <a:pt x="62" y="335"/>
                  </a:lnTo>
                  <a:lnTo>
                    <a:pt x="62" y="258"/>
                  </a:lnTo>
                  <a:lnTo>
                    <a:pt x="57" y="220"/>
                  </a:lnTo>
                  <a:lnTo>
                    <a:pt x="57" y="191"/>
                  </a:lnTo>
                  <a:lnTo>
                    <a:pt x="52" y="163"/>
                  </a:lnTo>
                  <a:lnTo>
                    <a:pt x="48" y="139"/>
                  </a:lnTo>
                  <a:lnTo>
                    <a:pt x="43" y="119"/>
                  </a:lnTo>
                  <a:lnTo>
                    <a:pt x="33" y="100"/>
                  </a:lnTo>
                  <a:lnTo>
                    <a:pt x="28" y="86"/>
                  </a:lnTo>
                  <a:lnTo>
                    <a:pt x="19" y="7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3"/>
            <p:cNvSpPr/>
            <p:nvPr/>
          </p:nvSpPr>
          <p:spPr>
            <a:xfrm>
              <a:off x="3966120" y="3754440"/>
              <a:ext cx="990360" cy="793440"/>
            </a:xfrm>
            <a:custGeom>
              <a:avLst/>
              <a:gdLst/>
              <a:ahLst/>
              <a:rect l="l" t="t" r="r" b="b"/>
              <a:pathLst>
                <a:path w="819" h="656">
                  <a:moveTo>
                    <a:pt x="374" y="469"/>
                  </a:moveTo>
                  <a:lnTo>
                    <a:pt x="312" y="508"/>
                  </a:lnTo>
                  <a:lnTo>
                    <a:pt x="250" y="541"/>
                  </a:lnTo>
                  <a:lnTo>
                    <a:pt x="192" y="575"/>
                  </a:lnTo>
                  <a:lnTo>
                    <a:pt x="130" y="613"/>
                  </a:lnTo>
                  <a:lnTo>
                    <a:pt x="101" y="627"/>
                  </a:lnTo>
                  <a:lnTo>
                    <a:pt x="77" y="637"/>
                  </a:lnTo>
                  <a:lnTo>
                    <a:pt x="58" y="646"/>
                  </a:lnTo>
                  <a:lnTo>
                    <a:pt x="39" y="651"/>
                  </a:lnTo>
                  <a:lnTo>
                    <a:pt x="24" y="656"/>
                  </a:lnTo>
                  <a:lnTo>
                    <a:pt x="15" y="656"/>
                  </a:lnTo>
                  <a:lnTo>
                    <a:pt x="5" y="656"/>
                  </a:lnTo>
                  <a:lnTo>
                    <a:pt x="0" y="656"/>
                  </a:lnTo>
                  <a:lnTo>
                    <a:pt x="0" y="651"/>
                  </a:lnTo>
                  <a:lnTo>
                    <a:pt x="0" y="642"/>
                  </a:lnTo>
                  <a:lnTo>
                    <a:pt x="5" y="637"/>
                  </a:lnTo>
                  <a:lnTo>
                    <a:pt x="15" y="627"/>
                  </a:lnTo>
                  <a:lnTo>
                    <a:pt x="29" y="613"/>
                  </a:lnTo>
                  <a:lnTo>
                    <a:pt x="48" y="599"/>
                  </a:lnTo>
                  <a:lnTo>
                    <a:pt x="68" y="584"/>
                  </a:lnTo>
                  <a:lnTo>
                    <a:pt x="96" y="570"/>
                  </a:lnTo>
                  <a:lnTo>
                    <a:pt x="149" y="536"/>
                  </a:lnTo>
                  <a:lnTo>
                    <a:pt x="197" y="503"/>
                  </a:lnTo>
                  <a:lnTo>
                    <a:pt x="250" y="464"/>
                  </a:lnTo>
                  <a:lnTo>
                    <a:pt x="293" y="421"/>
                  </a:lnTo>
                  <a:lnTo>
                    <a:pt x="307" y="412"/>
                  </a:lnTo>
                  <a:lnTo>
                    <a:pt x="321" y="397"/>
                  </a:lnTo>
                  <a:lnTo>
                    <a:pt x="336" y="383"/>
                  </a:lnTo>
                  <a:lnTo>
                    <a:pt x="355" y="369"/>
                  </a:lnTo>
                  <a:lnTo>
                    <a:pt x="374" y="349"/>
                  </a:lnTo>
                  <a:lnTo>
                    <a:pt x="393" y="326"/>
                  </a:lnTo>
                  <a:lnTo>
                    <a:pt x="412" y="306"/>
                  </a:lnTo>
                  <a:lnTo>
                    <a:pt x="436" y="278"/>
                  </a:lnTo>
                  <a:lnTo>
                    <a:pt x="465" y="254"/>
                  </a:lnTo>
                  <a:lnTo>
                    <a:pt x="494" y="220"/>
                  </a:lnTo>
                  <a:lnTo>
                    <a:pt x="523" y="191"/>
                  </a:lnTo>
                  <a:lnTo>
                    <a:pt x="551" y="158"/>
                  </a:lnTo>
                  <a:lnTo>
                    <a:pt x="585" y="120"/>
                  </a:lnTo>
                  <a:lnTo>
                    <a:pt x="618" y="81"/>
                  </a:lnTo>
                  <a:lnTo>
                    <a:pt x="652" y="43"/>
                  </a:lnTo>
                  <a:lnTo>
                    <a:pt x="690" y="0"/>
                  </a:lnTo>
                  <a:lnTo>
                    <a:pt x="757" y="14"/>
                  </a:lnTo>
                  <a:lnTo>
                    <a:pt x="819" y="33"/>
                  </a:lnTo>
                  <a:lnTo>
                    <a:pt x="781" y="76"/>
                  </a:lnTo>
                  <a:lnTo>
                    <a:pt x="743" y="120"/>
                  </a:lnTo>
                  <a:lnTo>
                    <a:pt x="705" y="158"/>
                  </a:lnTo>
                  <a:lnTo>
                    <a:pt x="671" y="196"/>
                  </a:lnTo>
                  <a:lnTo>
                    <a:pt x="637" y="230"/>
                  </a:lnTo>
                  <a:lnTo>
                    <a:pt x="604" y="263"/>
                  </a:lnTo>
                  <a:lnTo>
                    <a:pt x="575" y="292"/>
                  </a:lnTo>
                  <a:lnTo>
                    <a:pt x="546" y="321"/>
                  </a:lnTo>
                  <a:lnTo>
                    <a:pt x="518" y="345"/>
                  </a:lnTo>
                  <a:lnTo>
                    <a:pt x="494" y="369"/>
                  </a:lnTo>
                  <a:lnTo>
                    <a:pt x="465" y="393"/>
                  </a:lnTo>
                  <a:lnTo>
                    <a:pt x="446" y="412"/>
                  </a:lnTo>
                  <a:lnTo>
                    <a:pt x="422" y="431"/>
                  </a:lnTo>
                  <a:lnTo>
                    <a:pt x="403" y="445"/>
                  </a:lnTo>
                  <a:lnTo>
                    <a:pt x="388" y="460"/>
                  </a:lnTo>
                  <a:lnTo>
                    <a:pt x="374" y="46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4"/>
            <p:cNvSpPr/>
            <p:nvPr/>
          </p:nvSpPr>
          <p:spPr>
            <a:xfrm>
              <a:off x="4939560" y="3742560"/>
              <a:ext cx="1268640" cy="759600"/>
            </a:xfrm>
            <a:custGeom>
              <a:avLst/>
              <a:gdLst/>
              <a:ahLst/>
              <a:rect l="l" t="t" r="r" b="b"/>
              <a:pathLst>
                <a:path w="1049" h="628">
                  <a:moveTo>
                    <a:pt x="24" y="0"/>
                  </a:moveTo>
                  <a:lnTo>
                    <a:pt x="53" y="29"/>
                  </a:lnTo>
                  <a:lnTo>
                    <a:pt x="86" y="58"/>
                  </a:lnTo>
                  <a:lnTo>
                    <a:pt x="125" y="86"/>
                  </a:lnTo>
                  <a:lnTo>
                    <a:pt x="158" y="115"/>
                  </a:lnTo>
                  <a:lnTo>
                    <a:pt x="201" y="144"/>
                  </a:lnTo>
                  <a:lnTo>
                    <a:pt x="244" y="173"/>
                  </a:lnTo>
                  <a:lnTo>
                    <a:pt x="288" y="201"/>
                  </a:lnTo>
                  <a:lnTo>
                    <a:pt x="335" y="230"/>
                  </a:lnTo>
                  <a:lnTo>
                    <a:pt x="383" y="268"/>
                  </a:lnTo>
                  <a:lnTo>
                    <a:pt x="431" y="297"/>
                  </a:lnTo>
                  <a:lnTo>
                    <a:pt x="484" y="326"/>
                  </a:lnTo>
                  <a:lnTo>
                    <a:pt x="537" y="355"/>
                  </a:lnTo>
                  <a:lnTo>
                    <a:pt x="594" y="383"/>
                  </a:lnTo>
                  <a:lnTo>
                    <a:pt x="656" y="407"/>
                  </a:lnTo>
                  <a:lnTo>
                    <a:pt x="719" y="431"/>
                  </a:lnTo>
                  <a:lnTo>
                    <a:pt x="786" y="455"/>
                  </a:lnTo>
                  <a:lnTo>
                    <a:pt x="814" y="470"/>
                  </a:lnTo>
                  <a:lnTo>
                    <a:pt x="848" y="479"/>
                  </a:lnTo>
                  <a:lnTo>
                    <a:pt x="877" y="489"/>
                  </a:lnTo>
                  <a:lnTo>
                    <a:pt x="901" y="498"/>
                  </a:lnTo>
                  <a:lnTo>
                    <a:pt x="925" y="508"/>
                  </a:lnTo>
                  <a:lnTo>
                    <a:pt x="948" y="518"/>
                  </a:lnTo>
                  <a:lnTo>
                    <a:pt x="968" y="527"/>
                  </a:lnTo>
                  <a:lnTo>
                    <a:pt x="987" y="532"/>
                  </a:lnTo>
                  <a:lnTo>
                    <a:pt x="1001" y="537"/>
                  </a:lnTo>
                  <a:lnTo>
                    <a:pt x="1016" y="546"/>
                  </a:lnTo>
                  <a:lnTo>
                    <a:pt x="1025" y="551"/>
                  </a:lnTo>
                  <a:lnTo>
                    <a:pt x="1035" y="551"/>
                  </a:lnTo>
                  <a:lnTo>
                    <a:pt x="1044" y="556"/>
                  </a:lnTo>
                  <a:lnTo>
                    <a:pt x="1049" y="561"/>
                  </a:lnTo>
                  <a:lnTo>
                    <a:pt x="1049" y="565"/>
                  </a:lnTo>
                  <a:lnTo>
                    <a:pt x="1044" y="570"/>
                  </a:lnTo>
                  <a:lnTo>
                    <a:pt x="1039" y="570"/>
                  </a:lnTo>
                  <a:lnTo>
                    <a:pt x="1035" y="575"/>
                  </a:lnTo>
                  <a:lnTo>
                    <a:pt x="1030" y="575"/>
                  </a:lnTo>
                  <a:lnTo>
                    <a:pt x="1020" y="580"/>
                  </a:lnTo>
                  <a:lnTo>
                    <a:pt x="1011" y="580"/>
                  </a:lnTo>
                  <a:lnTo>
                    <a:pt x="1001" y="585"/>
                  </a:lnTo>
                  <a:lnTo>
                    <a:pt x="992" y="589"/>
                  </a:lnTo>
                  <a:lnTo>
                    <a:pt x="977" y="589"/>
                  </a:lnTo>
                  <a:lnTo>
                    <a:pt x="963" y="594"/>
                  </a:lnTo>
                  <a:lnTo>
                    <a:pt x="948" y="594"/>
                  </a:lnTo>
                  <a:lnTo>
                    <a:pt x="934" y="599"/>
                  </a:lnTo>
                  <a:lnTo>
                    <a:pt x="915" y="604"/>
                  </a:lnTo>
                  <a:lnTo>
                    <a:pt x="896" y="604"/>
                  </a:lnTo>
                  <a:lnTo>
                    <a:pt x="857" y="613"/>
                  </a:lnTo>
                  <a:lnTo>
                    <a:pt x="819" y="618"/>
                  </a:lnTo>
                  <a:lnTo>
                    <a:pt x="786" y="623"/>
                  </a:lnTo>
                  <a:lnTo>
                    <a:pt x="752" y="623"/>
                  </a:lnTo>
                  <a:lnTo>
                    <a:pt x="723" y="623"/>
                  </a:lnTo>
                  <a:lnTo>
                    <a:pt x="699" y="628"/>
                  </a:lnTo>
                  <a:lnTo>
                    <a:pt x="675" y="623"/>
                  </a:lnTo>
                  <a:lnTo>
                    <a:pt x="656" y="623"/>
                  </a:lnTo>
                  <a:lnTo>
                    <a:pt x="632" y="618"/>
                  </a:lnTo>
                  <a:lnTo>
                    <a:pt x="604" y="609"/>
                  </a:lnTo>
                  <a:lnTo>
                    <a:pt x="580" y="594"/>
                  </a:lnTo>
                  <a:lnTo>
                    <a:pt x="551" y="575"/>
                  </a:lnTo>
                  <a:lnTo>
                    <a:pt x="522" y="551"/>
                  </a:lnTo>
                  <a:lnTo>
                    <a:pt x="489" y="522"/>
                  </a:lnTo>
                  <a:lnTo>
                    <a:pt x="474" y="503"/>
                  </a:lnTo>
                  <a:lnTo>
                    <a:pt x="455" y="489"/>
                  </a:lnTo>
                  <a:lnTo>
                    <a:pt x="441" y="470"/>
                  </a:lnTo>
                  <a:lnTo>
                    <a:pt x="422" y="450"/>
                  </a:lnTo>
                  <a:lnTo>
                    <a:pt x="383" y="412"/>
                  </a:lnTo>
                  <a:lnTo>
                    <a:pt x="350" y="379"/>
                  </a:lnTo>
                  <a:lnTo>
                    <a:pt x="321" y="350"/>
                  </a:lnTo>
                  <a:lnTo>
                    <a:pt x="292" y="326"/>
                  </a:lnTo>
                  <a:lnTo>
                    <a:pt x="264" y="302"/>
                  </a:lnTo>
                  <a:lnTo>
                    <a:pt x="244" y="278"/>
                  </a:lnTo>
                  <a:lnTo>
                    <a:pt x="225" y="264"/>
                  </a:lnTo>
                  <a:lnTo>
                    <a:pt x="206" y="249"/>
                  </a:lnTo>
                  <a:lnTo>
                    <a:pt x="187" y="235"/>
                  </a:lnTo>
                  <a:lnTo>
                    <a:pt x="168" y="216"/>
                  </a:lnTo>
                  <a:lnTo>
                    <a:pt x="144" y="197"/>
                  </a:lnTo>
                  <a:lnTo>
                    <a:pt x="120" y="173"/>
                  </a:lnTo>
                  <a:lnTo>
                    <a:pt x="96" y="149"/>
                  </a:lnTo>
                  <a:lnTo>
                    <a:pt x="62" y="120"/>
                  </a:lnTo>
                  <a:lnTo>
                    <a:pt x="34" y="86"/>
                  </a:lnTo>
                  <a:lnTo>
                    <a:pt x="0" y="48"/>
                  </a:lnTo>
                  <a:lnTo>
                    <a:pt x="24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5"/>
            <p:cNvSpPr/>
            <p:nvPr/>
          </p:nvSpPr>
          <p:spPr>
            <a:xfrm>
              <a:off x="4528440" y="2606760"/>
              <a:ext cx="701280" cy="956880"/>
            </a:xfrm>
            <a:custGeom>
              <a:avLst/>
              <a:gdLst/>
              <a:ahLst/>
              <a:rect l="l" t="t" r="r" b="b"/>
              <a:pathLst>
                <a:path w="580" h="791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5" y="772"/>
                  </a:lnTo>
                  <a:lnTo>
                    <a:pt x="14" y="762"/>
                  </a:lnTo>
                  <a:lnTo>
                    <a:pt x="29" y="748"/>
                  </a:lnTo>
                  <a:lnTo>
                    <a:pt x="43" y="733"/>
                  </a:lnTo>
                  <a:lnTo>
                    <a:pt x="58" y="719"/>
                  </a:lnTo>
                  <a:lnTo>
                    <a:pt x="81" y="700"/>
                  </a:lnTo>
                  <a:lnTo>
                    <a:pt x="101" y="681"/>
                  </a:lnTo>
                  <a:lnTo>
                    <a:pt x="125" y="661"/>
                  </a:lnTo>
                  <a:lnTo>
                    <a:pt x="149" y="637"/>
                  </a:lnTo>
                  <a:lnTo>
                    <a:pt x="172" y="614"/>
                  </a:lnTo>
                  <a:lnTo>
                    <a:pt x="196" y="585"/>
                  </a:lnTo>
                  <a:lnTo>
                    <a:pt x="220" y="556"/>
                  </a:lnTo>
                  <a:lnTo>
                    <a:pt x="244" y="523"/>
                  </a:lnTo>
                  <a:lnTo>
                    <a:pt x="268" y="489"/>
                  </a:lnTo>
                  <a:lnTo>
                    <a:pt x="292" y="455"/>
                  </a:lnTo>
                  <a:lnTo>
                    <a:pt x="316" y="422"/>
                  </a:lnTo>
                  <a:lnTo>
                    <a:pt x="340" y="393"/>
                  </a:lnTo>
                  <a:lnTo>
                    <a:pt x="359" y="360"/>
                  </a:lnTo>
                  <a:lnTo>
                    <a:pt x="378" y="326"/>
                  </a:lnTo>
                  <a:lnTo>
                    <a:pt x="393" y="293"/>
                  </a:lnTo>
                  <a:lnTo>
                    <a:pt x="407" y="259"/>
                  </a:lnTo>
                  <a:lnTo>
                    <a:pt x="417" y="226"/>
                  </a:lnTo>
                  <a:lnTo>
                    <a:pt x="426" y="192"/>
                  </a:lnTo>
                  <a:lnTo>
                    <a:pt x="431" y="159"/>
                  </a:lnTo>
                  <a:lnTo>
                    <a:pt x="436" y="130"/>
                  </a:lnTo>
                  <a:lnTo>
                    <a:pt x="441" y="101"/>
                  </a:lnTo>
                  <a:lnTo>
                    <a:pt x="446" y="72"/>
                  </a:lnTo>
                  <a:lnTo>
                    <a:pt x="446" y="48"/>
                  </a:lnTo>
                  <a:lnTo>
                    <a:pt x="446" y="24"/>
                  </a:lnTo>
                  <a:lnTo>
                    <a:pt x="441" y="0"/>
                  </a:lnTo>
                  <a:lnTo>
                    <a:pt x="474" y="20"/>
                  </a:lnTo>
                  <a:lnTo>
                    <a:pt x="503" y="34"/>
                  </a:lnTo>
                  <a:lnTo>
                    <a:pt x="527" y="44"/>
                  </a:lnTo>
                  <a:lnTo>
                    <a:pt x="546" y="58"/>
                  </a:lnTo>
                  <a:lnTo>
                    <a:pt x="560" y="72"/>
                  </a:lnTo>
                  <a:lnTo>
                    <a:pt x="570" y="82"/>
                  </a:lnTo>
                  <a:lnTo>
                    <a:pt x="580" y="91"/>
                  </a:lnTo>
                  <a:lnTo>
                    <a:pt x="580" y="101"/>
                  </a:lnTo>
                  <a:lnTo>
                    <a:pt x="580" y="111"/>
                  </a:lnTo>
                  <a:lnTo>
                    <a:pt x="575" y="125"/>
                  </a:lnTo>
                  <a:lnTo>
                    <a:pt x="575" y="139"/>
                  </a:lnTo>
                  <a:lnTo>
                    <a:pt x="565" y="159"/>
                  </a:lnTo>
                  <a:lnTo>
                    <a:pt x="560" y="182"/>
                  </a:lnTo>
                  <a:lnTo>
                    <a:pt x="551" y="206"/>
                  </a:lnTo>
                  <a:lnTo>
                    <a:pt x="541" y="235"/>
                  </a:lnTo>
                  <a:lnTo>
                    <a:pt x="527" y="269"/>
                  </a:lnTo>
                  <a:lnTo>
                    <a:pt x="513" y="302"/>
                  </a:lnTo>
                  <a:lnTo>
                    <a:pt x="493" y="336"/>
                  </a:lnTo>
                  <a:lnTo>
                    <a:pt x="474" y="369"/>
                  </a:lnTo>
                  <a:lnTo>
                    <a:pt x="455" y="403"/>
                  </a:lnTo>
                  <a:lnTo>
                    <a:pt x="431" y="436"/>
                  </a:lnTo>
                  <a:lnTo>
                    <a:pt x="407" y="470"/>
                  </a:lnTo>
                  <a:lnTo>
                    <a:pt x="383" y="503"/>
                  </a:lnTo>
                  <a:lnTo>
                    <a:pt x="354" y="532"/>
                  </a:lnTo>
                  <a:lnTo>
                    <a:pt x="326" y="566"/>
                  </a:lnTo>
                  <a:lnTo>
                    <a:pt x="297" y="594"/>
                  </a:lnTo>
                  <a:lnTo>
                    <a:pt x="273" y="618"/>
                  </a:lnTo>
                  <a:lnTo>
                    <a:pt x="244" y="647"/>
                  </a:lnTo>
                  <a:lnTo>
                    <a:pt x="216" y="671"/>
                  </a:lnTo>
                  <a:lnTo>
                    <a:pt x="187" y="690"/>
                  </a:lnTo>
                  <a:lnTo>
                    <a:pt x="158" y="714"/>
                  </a:lnTo>
                  <a:lnTo>
                    <a:pt x="129" y="733"/>
                  </a:lnTo>
                  <a:lnTo>
                    <a:pt x="105" y="748"/>
                  </a:lnTo>
                  <a:lnTo>
                    <a:pt x="81" y="762"/>
                  </a:lnTo>
                  <a:lnTo>
                    <a:pt x="58" y="776"/>
                  </a:lnTo>
                  <a:lnTo>
                    <a:pt x="43" y="781"/>
                  </a:lnTo>
                  <a:lnTo>
                    <a:pt x="24" y="791"/>
                  </a:lnTo>
                  <a:lnTo>
                    <a:pt x="14" y="791"/>
                  </a:lnTo>
                  <a:lnTo>
                    <a:pt x="5" y="791"/>
                  </a:lnTo>
                  <a:lnTo>
                    <a:pt x="0" y="791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6"/>
            <p:cNvSpPr/>
            <p:nvPr/>
          </p:nvSpPr>
          <p:spPr>
            <a:xfrm>
              <a:off x="4227480" y="2450520"/>
              <a:ext cx="307080" cy="23184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86" y="115"/>
                  </a:moveTo>
                  <a:lnTo>
                    <a:pt x="67" y="96"/>
                  </a:lnTo>
                  <a:lnTo>
                    <a:pt x="48" y="77"/>
                  </a:lnTo>
                  <a:lnTo>
                    <a:pt x="34" y="62"/>
                  </a:lnTo>
                  <a:lnTo>
                    <a:pt x="19" y="48"/>
                  </a:lnTo>
                  <a:lnTo>
                    <a:pt x="14" y="3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" y="0"/>
                  </a:lnTo>
                  <a:lnTo>
                    <a:pt x="72" y="5"/>
                  </a:lnTo>
                  <a:lnTo>
                    <a:pt x="110" y="10"/>
                  </a:lnTo>
                  <a:lnTo>
                    <a:pt x="148" y="15"/>
                  </a:lnTo>
                  <a:lnTo>
                    <a:pt x="177" y="24"/>
                  </a:lnTo>
                  <a:lnTo>
                    <a:pt x="192" y="29"/>
                  </a:lnTo>
                  <a:lnTo>
                    <a:pt x="206" y="34"/>
                  </a:lnTo>
                  <a:lnTo>
                    <a:pt x="216" y="38"/>
                  </a:lnTo>
                  <a:lnTo>
                    <a:pt x="225" y="48"/>
                  </a:lnTo>
                  <a:lnTo>
                    <a:pt x="235" y="58"/>
                  </a:lnTo>
                  <a:lnTo>
                    <a:pt x="244" y="62"/>
                  </a:lnTo>
                  <a:lnTo>
                    <a:pt x="249" y="77"/>
                  </a:lnTo>
                  <a:lnTo>
                    <a:pt x="254" y="86"/>
                  </a:lnTo>
                  <a:lnTo>
                    <a:pt x="254" y="96"/>
                  </a:lnTo>
                  <a:lnTo>
                    <a:pt x="254" y="106"/>
                  </a:lnTo>
                  <a:lnTo>
                    <a:pt x="254" y="129"/>
                  </a:lnTo>
                  <a:lnTo>
                    <a:pt x="249" y="149"/>
                  </a:lnTo>
                  <a:lnTo>
                    <a:pt x="244" y="158"/>
                  </a:lnTo>
                  <a:lnTo>
                    <a:pt x="239" y="168"/>
                  </a:lnTo>
                  <a:lnTo>
                    <a:pt x="230" y="177"/>
                  </a:lnTo>
                  <a:lnTo>
                    <a:pt x="225" y="182"/>
                  </a:lnTo>
                  <a:lnTo>
                    <a:pt x="220" y="187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87"/>
                  </a:lnTo>
                  <a:lnTo>
                    <a:pt x="192" y="187"/>
                  </a:lnTo>
                  <a:lnTo>
                    <a:pt x="182" y="187"/>
                  </a:lnTo>
                  <a:lnTo>
                    <a:pt x="172" y="177"/>
                  </a:lnTo>
                  <a:lnTo>
                    <a:pt x="158" y="173"/>
                  </a:lnTo>
                  <a:lnTo>
                    <a:pt x="144" y="158"/>
                  </a:lnTo>
                  <a:lnTo>
                    <a:pt x="129" y="149"/>
                  </a:lnTo>
                  <a:lnTo>
                    <a:pt x="110" y="134"/>
                  </a:lnTo>
                  <a:lnTo>
                    <a:pt x="86" y="115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"/>
            <p:cNvSpPr/>
            <p:nvPr/>
          </p:nvSpPr>
          <p:spPr>
            <a:xfrm>
              <a:off x="4094280" y="2781000"/>
              <a:ext cx="271800" cy="219960"/>
            </a:xfrm>
            <a:custGeom>
              <a:avLst/>
              <a:gdLst/>
              <a:ahLst/>
              <a:rect l="l" t="t" r="r" b="b"/>
              <a:pathLst>
                <a:path w="225" h="182">
                  <a:moveTo>
                    <a:pt x="144" y="24"/>
                  </a:moveTo>
                  <a:lnTo>
                    <a:pt x="163" y="29"/>
                  </a:lnTo>
                  <a:lnTo>
                    <a:pt x="172" y="38"/>
                  </a:lnTo>
                  <a:lnTo>
                    <a:pt x="187" y="48"/>
                  </a:lnTo>
                  <a:lnTo>
                    <a:pt x="196" y="53"/>
                  </a:lnTo>
                  <a:lnTo>
                    <a:pt x="206" y="62"/>
                  </a:lnTo>
                  <a:lnTo>
                    <a:pt x="215" y="72"/>
                  </a:lnTo>
                  <a:lnTo>
                    <a:pt x="220" y="82"/>
                  </a:lnTo>
                  <a:lnTo>
                    <a:pt x="225" y="91"/>
                  </a:lnTo>
                  <a:lnTo>
                    <a:pt x="225" y="101"/>
                  </a:lnTo>
                  <a:lnTo>
                    <a:pt x="225" y="115"/>
                  </a:lnTo>
                  <a:lnTo>
                    <a:pt x="225" y="134"/>
                  </a:lnTo>
                  <a:lnTo>
                    <a:pt x="225" y="139"/>
                  </a:lnTo>
                  <a:lnTo>
                    <a:pt x="220" y="149"/>
                  </a:lnTo>
                  <a:lnTo>
                    <a:pt x="215" y="153"/>
                  </a:lnTo>
                  <a:lnTo>
                    <a:pt x="215" y="158"/>
                  </a:lnTo>
                  <a:lnTo>
                    <a:pt x="201" y="168"/>
                  </a:lnTo>
                  <a:lnTo>
                    <a:pt x="191" y="177"/>
                  </a:lnTo>
                  <a:lnTo>
                    <a:pt x="177" y="182"/>
                  </a:lnTo>
                  <a:lnTo>
                    <a:pt x="172" y="182"/>
                  </a:lnTo>
                  <a:lnTo>
                    <a:pt x="167" y="182"/>
                  </a:lnTo>
                  <a:lnTo>
                    <a:pt x="158" y="177"/>
                  </a:lnTo>
                  <a:lnTo>
                    <a:pt x="148" y="173"/>
                  </a:lnTo>
                  <a:lnTo>
                    <a:pt x="139" y="163"/>
                  </a:lnTo>
                  <a:lnTo>
                    <a:pt x="124" y="153"/>
                  </a:lnTo>
                  <a:lnTo>
                    <a:pt x="110" y="144"/>
                  </a:lnTo>
                  <a:lnTo>
                    <a:pt x="96" y="129"/>
                  </a:lnTo>
                  <a:lnTo>
                    <a:pt x="76" y="115"/>
                  </a:lnTo>
                  <a:lnTo>
                    <a:pt x="57" y="101"/>
                  </a:lnTo>
                  <a:lnTo>
                    <a:pt x="43" y="86"/>
                  </a:lnTo>
                  <a:lnTo>
                    <a:pt x="29" y="67"/>
                  </a:lnTo>
                  <a:lnTo>
                    <a:pt x="19" y="53"/>
                  </a:lnTo>
                  <a:lnTo>
                    <a:pt x="9" y="38"/>
                  </a:lnTo>
                  <a:lnTo>
                    <a:pt x="5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81" y="5"/>
                  </a:lnTo>
                  <a:lnTo>
                    <a:pt x="100" y="10"/>
                  </a:lnTo>
                  <a:lnTo>
                    <a:pt x="115" y="15"/>
                  </a:lnTo>
                  <a:lnTo>
                    <a:pt x="129" y="19"/>
                  </a:lnTo>
                  <a:lnTo>
                    <a:pt x="144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8"/>
            <p:cNvSpPr/>
            <p:nvPr/>
          </p:nvSpPr>
          <p:spPr>
            <a:xfrm>
              <a:off x="4667760" y="2787120"/>
              <a:ext cx="185040" cy="352800"/>
            </a:xfrm>
            <a:custGeom>
              <a:avLst/>
              <a:gdLst/>
              <a:ahLst/>
              <a:rect l="l" t="t" r="r" b="b"/>
              <a:pathLst>
                <a:path w="153" h="292">
                  <a:moveTo>
                    <a:pt x="110" y="0"/>
                  </a:moveTo>
                  <a:lnTo>
                    <a:pt x="129" y="24"/>
                  </a:lnTo>
                  <a:lnTo>
                    <a:pt x="134" y="33"/>
                  </a:lnTo>
                  <a:lnTo>
                    <a:pt x="144" y="43"/>
                  </a:lnTo>
                  <a:lnTo>
                    <a:pt x="148" y="57"/>
                  </a:lnTo>
                  <a:lnTo>
                    <a:pt x="153" y="67"/>
                  </a:lnTo>
                  <a:lnTo>
                    <a:pt x="153" y="81"/>
                  </a:lnTo>
                  <a:lnTo>
                    <a:pt x="153" y="96"/>
                  </a:lnTo>
                  <a:lnTo>
                    <a:pt x="153" y="105"/>
                  </a:lnTo>
                  <a:lnTo>
                    <a:pt x="153" y="120"/>
                  </a:lnTo>
                  <a:lnTo>
                    <a:pt x="148" y="134"/>
                  </a:lnTo>
                  <a:lnTo>
                    <a:pt x="144" y="148"/>
                  </a:lnTo>
                  <a:lnTo>
                    <a:pt x="129" y="182"/>
                  </a:lnTo>
                  <a:lnTo>
                    <a:pt x="110" y="220"/>
                  </a:lnTo>
                  <a:lnTo>
                    <a:pt x="101" y="235"/>
                  </a:lnTo>
                  <a:lnTo>
                    <a:pt x="91" y="249"/>
                  </a:lnTo>
                  <a:lnTo>
                    <a:pt x="81" y="263"/>
                  </a:lnTo>
                  <a:lnTo>
                    <a:pt x="77" y="273"/>
                  </a:lnTo>
                  <a:lnTo>
                    <a:pt x="67" y="283"/>
                  </a:lnTo>
                  <a:lnTo>
                    <a:pt x="62" y="287"/>
                  </a:lnTo>
                  <a:lnTo>
                    <a:pt x="53" y="292"/>
                  </a:lnTo>
                  <a:lnTo>
                    <a:pt x="43" y="292"/>
                  </a:lnTo>
                  <a:lnTo>
                    <a:pt x="38" y="287"/>
                  </a:lnTo>
                  <a:lnTo>
                    <a:pt x="34" y="287"/>
                  </a:lnTo>
                  <a:lnTo>
                    <a:pt x="29" y="283"/>
                  </a:lnTo>
                  <a:lnTo>
                    <a:pt x="24" y="268"/>
                  </a:lnTo>
                  <a:lnTo>
                    <a:pt x="14" y="249"/>
                  </a:lnTo>
                  <a:lnTo>
                    <a:pt x="10" y="235"/>
                  </a:lnTo>
                  <a:lnTo>
                    <a:pt x="5" y="215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10" y="172"/>
                  </a:lnTo>
                  <a:lnTo>
                    <a:pt x="19" y="168"/>
                  </a:lnTo>
                  <a:lnTo>
                    <a:pt x="24" y="158"/>
                  </a:lnTo>
                  <a:lnTo>
                    <a:pt x="34" y="153"/>
                  </a:lnTo>
                  <a:lnTo>
                    <a:pt x="38" y="144"/>
                  </a:lnTo>
                  <a:lnTo>
                    <a:pt x="48" y="134"/>
                  </a:lnTo>
                  <a:lnTo>
                    <a:pt x="57" y="120"/>
                  </a:lnTo>
                  <a:lnTo>
                    <a:pt x="67" y="101"/>
                  </a:lnTo>
                  <a:lnTo>
                    <a:pt x="77" y="81"/>
                  </a:lnTo>
                  <a:lnTo>
                    <a:pt x="86" y="57"/>
                  </a:lnTo>
                  <a:lnTo>
                    <a:pt x="101" y="33"/>
                  </a:lnTo>
                  <a:lnTo>
                    <a:pt x="110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9"/>
            <p:cNvSpPr/>
            <p:nvPr/>
          </p:nvSpPr>
          <p:spPr>
            <a:xfrm>
              <a:off x="4117320" y="2990160"/>
              <a:ext cx="469080" cy="583920"/>
            </a:xfrm>
            <a:custGeom>
              <a:avLst/>
              <a:gdLst/>
              <a:ahLst/>
              <a:rect l="l" t="t" r="r" b="b"/>
              <a:pathLst>
                <a:path w="388" h="483">
                  <a:moveTo>
                    <a:pt x="91" y="483"/>
                  </a:moveTo>
                  <a:lnTo>
                    <a:pt x="86" y="483"/>
                  </a:lnTo>
                  <a:lnTo>
                    <a:pt x="77" y="479"/>
                  </a:lnTo>
                  <a:lnTo>
                    <a:pt x="72" y="474"/>
                  </a:lnTo>
                  <a:lnTo>
                    <a:pt x="62" y="464"/>
                  </a:lnTo>
                  <a:lnTo>
                    <a:pt x="57" y="455"/>
                  </a:lnTo>
                  <a:lnTo>
                    <a:pt x="48" y="435"/>
                  </a:lnTo>
                  <a:lnTo>
                    <a:pt x="38" y="421"/>
                  </a:lnTo>
                  <a:lnTo>
                    <a:pt x="34" y="397"/>
                  </a:lnTo>
                  <a:lnTo>
                    <a:pt x="24" y="378"/>
                  </a:lnTo>
                  <a:lnTo>
                    <a:pt x="14" y="359"/>
                  </a:lnTo>
                  <a:lnTo>
                    <a:pt x="10" y="344"/>
                  </a:lnTo>
                  <a:lnTo>
                    <a:pt x="5" y="330"/>
                  </a:lnTo>
                  <a:lnTo>
                    <a:pt x="5" y="316"/>
                  </a:lnTo>
                  <a:lnTo>
                    <a:pt x="0" y="306"/>
                  </a:lnTo>
                  <a:lnTo>
                    <a:pt x="5" y="297"/>
                  </a:lnTo>
                  <a:lnTo>
                    <a:pt x="5" y="292"/>
                  </a:lnTo>
                  <a:lnTo>
                    <a:pt x="10" y="282"/>
                  </a:lnTo>
                  <a:lnTo>
                    <a:pt x="19" y="277"/>
                  </a:lnTo>
                  <a:lnTo>
                    <a:pt x="29" y="277"/>
                  </a:lnTo>
                  <a:lnTo>
                    <a:pt x="38" y="273"/>
                  </a:lnTo>
                  <a:lnTo>
                    <a:pt x="48" y="277"/>
                  </a:lnTo>
                  <a:lnTo>
                    <a:pt x="53" y="277"/>
                  </a:lnTo>
                  <a:lnTo>
                    <a:pt x="67" y="277"/>
                  </a:lnTo>
                  <a:lnTo>
                    <a:pt x="77" y="273"/>
                  </a:lnTo>
                  <a:lnTo>
                    <a:pt x="91" y="268"/>
                  </a:lnTo>
                  <a:lnTo>
                    <a:pt x="96" y="263"/>
                  </a:lnTo>
                  <a:lnTo>
                    <a:pt x="105" y="253"/>
                  </a:lnTo>
                  <a:lnTo>
                    <a:pt x="120" y="244"/>
                  </a:lnTo>
                  <a:lnTo>
                    <a:pt x="134" y="225"/>
                  </a:lnTo>
                  <a:lnTo>
                    <a:pt x="158" y="206"/>
                  </a:lnTo>
                  <a:lnTo>
                    <a:pt x="182" y="186"/>
                  </a:lnTo>
                  <a:lnTo>
                    <a:pt x="206" y="158"/>
                  </a:lnTo>
                  <a:lnTo>
                    <a:pt x="220" y="143"/>
                  </a:lnTo>
                  <a:lnTo>
                    <a:pt x="239" y="124"/>
                  </a:lnTo>
                  <a:lnTo>
                    <a:pt x="254" y="110"/>
                  </a:lnTo>
                  <a:lnTo>
                    <a:pt x="268" y="91"/>
                  </a:lnTo>
                  <a:lnTo>
                    <a:pt x="297" y="67"/>
                  </a:lnTo>
                  <a:lnTo>
                    <a:pt x="321" y="43"/>
                  </a:lnTo>
                  <a:lnTo>
                    <a:pt x="340" y="24"/>
                  </a:lnTo>
                  <a:lnTo>
                    <a:pt x="359" y="14"/>
                  </a:lnTo>
                  <a:lnTo>
                    <a:pt x="369" y="4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4"/>
                  </a:lnTo>
                  <a:lnTo>
                    <a:pt x="388" y="9"/>
                  </a:lnTo>
                  <a:lnTo>
                    <a:pt x="383" y="14"/>
                  </a:lnTo>
                  <a:lnTo>
                    <a:pt x="383" y="19"/>
                  </a:lnTo>
                  <a:lnTo>
                    <a:pt x="378" y="28"/>
                  </a:lnTo>
                  <a:lnTo>
                    <a:pt x="374" y="43"/>
                  </a:lnTo>
                  <a:lnTo>
                    <a:pt x="369" y="52"/>
                  </a:lnTo>
                  <a:lnTo>
                    <a:pt x="364" y="67"/>
                  </a:lnTo>
                  <a:lnTo>
                    <a:pt x="354" y="81"/>
                  </a:lnTo>
                  <a:lnTo>
                    <a:pt x="345" y="100"/>
                  </a:lnTo>
                  <a:lnTo>
                    <a:pt x="335" y="119"/>
                  </a:lnTo>
                  <a:lnTo>
                    <a:pt x="326" y="143"/>
                  </a:lnTo>
                  <a:lnTo>
                    <a:pt x="311" y="162"/>
                  </a:lnTo>
                  <a:lnTo>
                    <a:pt x="297" y="186"/>
                  </a:lnTo>
                  <a:lnTo>
                    <a:pt x="283" y="215"/>
                  </a:lnTo>
                  <a:lnTo>
                    <a:pt x="263" y="239"/>
                  </a:lnTo>
                  <a:lnTo>
                    <a:pt x="249" y="268"/>
                  </a:lnTo>
                  <a:lnTo>
                    <a:pt x="230" y="297"/>
                  </a:lnTo>
                  <a:lnTo>
                    <a:pt x="216" y="320"/>
                  </a:lnTo>
                  <a:lnTo>
                    <a:pt x="201" y="344"/>
                  </a:lnTo>
                  <a:lnTo>
                    <a:pt x="187" y="364"/>
                  </a:lnTo>
                  <a:lnTo>
                    <a:pt x="172" y="383"/>
                  </a:lnTo>
                  <a:lnTo>
                    <a:pt x="163" y="402"/>
                  </a:lnTo>
                  <a:lnTo>
                    <a:pt x="148" y="416"/>
                  </a:lnTo>
                  <a:lnTo>
                    <a:pt x="139" y="431"/>
                  </a:lnTo>
                  <a:lnTo>
                    <a:pt x="129" y="445"/>
                  </a:lnTo>
                  <a:lnTo>
                    <a:pt x="120" y="455"/>
                  </a:lnTo>
                  <a:lnTo>
                    <a:pt x="115" y="464"/>
                  </a:lnTo>
                  <a:lnTo>
                    <a:pt x="105" y="469"/>
                  </a:lnTo>
                  <a:lnTo>
                    <a:pt x="101" y="474"/>
                  </a:lnTo>
                  <a:lnTo>
                    <a:pt x="96" y="479"/>
                  </a:lnTo>
                  <a:lnTo>
                    <a:pt x="91" y="483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3276720" y="2286000"/>
          <a:ext cx="3124080" cy="266688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文本框 1"/>
          <p:cNvSpPr/>
          <p:nvPr/>
        </p:nvSpPr>
        <p:spPr>
          <a:xfrm>
            <a:off x="2936520" y="160020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 rot="5400000">
            <a:off x="-457560" y="2514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2590920" y="1295280"/>
            <a:ext cx="4952880" cy="4605480"/>
            <a:chOff x="2590920" y="1295280"/>
            <a:chExt cx="4952880" cy="4605480"/>
          </a:xfrm>
        </p:grpSpPr>
        <p:sp>
          <p:nvSpPr>
            <p:cNvPr id="179" name="AutoShape 6"/>
            <p:cNvSpPr/>
            <p:nvPr/>
          </p:nvSpPr>
          <p:spPr>
            <a:xfrm>
              <a:off x="2590920" y="1295280"/>
              <a:ext cx="4952880" cy="46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3890880" y="2466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"/>
            <p:cNvSpPr/>
            <p:nvPr/>
          </p:nvSpPr>
          <p:spPr>
            <a:xfrm>
              <a:off x="3909240" y="2439720"/>
              <a:ext cx="2298960" cy="2305800"/>
            </a:xfrm>
            <a:custGeom>
              <a:avLst/>
              <a:gdLst/>
              <a:ahLst/>
              <a:rect l="l" t="t" r="r" b="b"/>
              <a:pathLst>
                <a:path w="1901" h="1906">
                  <a:moveTo>
                    <a:pt x="1135" y="704"/>
                  </a:moveTo>
                  <a:lnTo>
                    <a:pt x="1140" y="704"/>
                  </a:lnTo>
                  <a:lnTo>
                    <a:pt x="1144" y="699"/>
                  </a:lnTo>
                  <a:lnTo>
                    <a:pt x="1149" y="694"/>
                  </a:lnTo>
                  <a:lnTo>
                    <a:pt x="1154" y="689"/>
                  </a:lnTo>
                  <a:lnTo>
                    <a:pt x="1159" y="680"/>
                  </a:lnTo>
                  <a:lnTo>
                    <a:pt x="1163" y="670"/>
                  </a:lnTo>
                  <a:lnTo>
                    <a:pt x="1173" y="661"/>
                  </a:lnTo>
                  <a:lnTo>
                    <a:pt x="1178" y="651"/>
                  </a:lnTo>
                  <a:lnTo>
                    <a:pt x="1183" y="637"/>
                  </a:lnTo>
                  <a:lnTo>
                    <a:pt x="1187" y="622"/>
                  </a:lnTo>
                  <a:lnTo>
                    <a:pt x="1197" y="608"/>
                  </a:lnTo>
                  <a:lnTo>
                    <a:pt x="1202" y="589"/>
                  </a:lnTo>
                  <a:lnTo>
                    <a:pt x="1207" y="574"/>
                  </a:lnTo>
                  <a:lnTo>
                    <a:pt x="1216" y="555"/>
                  </a:lnTo>
                  <a:lnTo>
                    <a:pt x="1231" y="512"/>
                  </a:lnTo>
                  <a:lnTo>
                    <a:pt x="1245" y="474"/>
                  </a:lnTo>
                  <a:lnTo>
                    <a:pt x="1259" y="435"/>
                  </a:lnTo>
                  <a:lnTo>
                    <a:pt x="1269" y="397"/>
                  </a:lnTo>
                  <a:lnTo>
                    <a:pt x="1278" y="364"/>
                  </a:lnTo>
                  <a:lnTo>
                    <a:pt x="1283" y="335"/>
                  </a:lnTo>
                  <a:lnTo>
                    <a:pt x="1293" y="301"/>
                  </a:lnTo>
                  <a:lnTo>
                    <a:pt x="1298" y="273"/>
                  </a:lnTo>
                  <a:lnTo>
                    <a:pt x="1298" y="249"/>
                  </a:lnTo>
                  <a:lnTo>
                    <a:pt x="1302" y="225"/>
                  </a:lnTo>
                  <a:lnTo>
                    <a:pt x="1302" y="206"/>
                  </a:lnTo>
                  <a:lnTo>
                    <a:pt x="1302" y="191"/>
                  </a:lnTo>
                  <a:lnTo>
                    <a:pt x="1302" y="172"/>
                  </a:lnTo>
                  <a:lnTo>
                    <a:pt x="1298" y="162"/>
                  </a:lnTo>
                  <a:lnTo>
                    <a:pt x="1298" y="148"/>
                  </a:lnTo>
                  <a:lnTo>
                    <a:pt x="1293" y="138"/>
                  </a:lnTo>
                  <a:lnTo>
                    <a:pt x="1293" y="134"/>
                  </a:lnTo>
                  <a:lnTo>
                    <a:pt x="1283" y="124"/>
                  </a:lnTo>
                  <a:lnTo>
                    <a:pt x="1274" y="119"/>
                  </a:lnTo>
                  <a:lnTo>
                    <a:pt x="1254" y="115"/>
                  </a:lnTo>
                  <a:lnTo>
                    <a:pt x="1240" y="115"/>
                  </a:lnTo>
                  <a:lnTo>
                    <a:pt x="1231" y="115"/>
                  </a:lnTo>
                  <a:lnTo>
                    <a:pt x="1216" y="115"/>
                  </a:lnTo>
                  <a:lnTo>
                    <a:pt x="1202" y="119"/>
                  </a:lnTo>
                  <a:lnTo>
                    <a:pt x="1183" y="119"/>
                  </a:lnTo>
                  <a:lnTo>
                    <a:pt x="1163" y="124"/>
                  </a:lnTo>
                  <a:lnTo>
                    <a:pt x="1144" y="129"/>
                  </a:lnTo>
                  <a:lnTo>
                    <a:pt x="1120" y="134"/>
                  </a:lnTo>
                  <a:lnTo>
                    <a:pt x="1092" y="138"/>
                  </a:lnTo>
                  <a:lnTo>
                    <a:pt x="1034" y="153"/>
                  </a:lnTo>
                  <a:lnTo>
                    <a:pt x="1010" y="158"/>
                  </a:lnTo>
                  <a:lnTo>
                    <a:pt x="981" y="162"/>
                  </a:lnTo>
                  <a:lnTo>
                    <a:pt x="958" y="167"/>
                  </a:lnTo>
                  <a:lnTo>
                    <a:pt x="934" y="172"/>
                  </a:lnTo>
                  <a:lnTo>
                    <a:pt x="914" y="177"/>
                  </a:lnTo>
                  <a:lnTo>
                    <a:pt x="895" y="182"/>
                  </a:lnTo>
                  <a:lnTo>
                    <a:pt x="876" y="186"/>
                  </a:lnTo>
                  <a:lnTo>
                    <a:pt x="857" y="191"/>
                  </a:lnTo>
                  <a:lnTo>
                    <a:pt x="838" y="191"/>
                  </a:lnTo>
                  <a:lnTo>
                    <a:pt x="823" y="196"/>
                  </a:lnTo>
                  <a:lnTo>
                    <a:pt x="809" y="191"/>
                  </a:lnTo>
                  <a:lnTo>
                    <a:pt x="795" y="191"/>
                  </a:lnTo>
                  <a:lnTo>
                    <a:pt x="785" y="186"/>
                  </a:lnTo>
                  <a:lnTo>
                    <a:pt x="771" y="182"/>
                  </a:lnTo>
                  <a:lnTo>
                    <a:pt x="761" y="177"/>
                  </a:lnTo>
                  <a:lnTo>
                    <a:pt x="752" y="172"/>
                  </a:lnTo>
                  <a:lnTo>
                    <a:pt x="742" y="167"/>
                  </a:lnTo>
                  <a:lnTo>
                    <a:pt x="732" y="162"/>
                  </a:lnTo>
                  <a:lnTo>
                    <a:pt x="728" y="158"/>
                  </a:lnTo>
                  <a:lnTo>
                    <a:pt x="723" y="153"/>
                  </a:lnTo>
                  <a:lnTo>
                    <a:pt x="723" y="148"/>
                  </a:lnTo>
                  <a:lnTo>
                    <a:pt x="723" y="138"/>
                  </a:lnTo>
                  <a:lnTo>
                    <a:pt x="728" y="138"/>
                  </a:lnTo>
                  <a:lnTo>
                    <a:pt x="732" y="138"/>
                  </a:lnTo>
                  <a:lnTo>
                    <a:pt x="742" y="138"/>
                  </a:lnTo>
                  <a:lnTo>
                    <a:pt x="756" y="138"/>
                  </a:lnTo>
                  <a:lnTo>
                    <a:pt x="766" y="134"/>
                  </a:lnTo>
                  <a:lnTo>
                    <a:pt x="780" y="134"/>
                  </a:lnTo>
                  <a:lnTo>
                    <a:pt x="799" y="129"/>
                  </a:lnTo>
                  <a:lnTo>
                    <a:pt x="814" y="129"/>
                  </a:lnTo>
                  <a:lnTo>
                    <a:pt x="833" y="124"/>
                  </a:lnTo>
                  <a:lnTo>
                    <a:pt x="857" y="119"/>
                  </a:lnTo>
                  <a:lnTo>
                    <a:pt x="881" y="115"/>
                  </a:lnTo>
                  <a:lnTo>
                    <a:pt x="905" y="110"/>
                  </a:lnTo>
                  <a:lnTo>
                    <a:pt x="929" y="105"/>
                  </a:lnTo>
                  <a:lnTo>
                    <a:pt x="958" y="95"/>
                  </a:lnTo>
                  <a:lnTo>
                    <a:pt x="986" y="91"/>
                  </a:lnTo>
                  <a:lnTo>
                    <a:pt x="1015" y="81"/>
                  </a:lnTo>
                  <a:lnTo>
                    <a:pt x="1044" y="76"/>
                  </a:lnTo>
                  <a:lnTo>
                    <a:pt x="1072" y="71"/>
                  </a:lnTo>
                  <a:lnTo>
                    <a:pt x="1096" y="62"/>
                  </a:lnTo>
                  <a:lnTo>
                    <a:pt x="1125" y="57"/>
                  </a:lnTo>
                  <a:lnTo>
                    <a:pt x="1144" y="52"/>
                  </a:lnTo>
                  <a:lnTo>
                    <a:pt x="1168" y="47"/>
                  </a:lnTo>
                  <a:lnTo>
                    <a:pt x="1187" y="43"/>
                  </a:lnTo>
                  <a:lnTo>
                    <a:pt x="1202" y="38"/>
                  </a:lnTo>
                  <a:lnTo>
                    <a:pt x="1216" y="33"/>
                  </a:lnTo>
                  <a:lnTo>
                    <a:pt x="1231" y="33"/>
                  </a:lnTo>
                  <a:lnTo>
                    <a:pt x="1240" y="28"/>
                  </a:lnTo>
                  <a:lnTo>
                    <a:pt x="1254" y="24"/>
                  </a:lnTo>
                  <a:lnTo>
                    <a:pt x="1259" y="24"/>
                  </a:lnTo>
                  <a:lnTo>
                    <a:pt x="1264" y="19"/>
                  </a:lnTo>
                  <a:lnTo>
                    <a:pt x="1269" y="19"/>
                  </a:lnTo>
                  <a:lnTo>
                    <a:pt x="1274" y="14"/>
                  </a:lnTo>
                  <a:lnTo>
                    <a:pt x="1283" y="9"/>
                  </a:lnTo>
                  <a:lnTo>
                    <a:pt x="1293" y="4"/>
                  </a:lnTo>
                  <a:lnTo>
                    <a:pt x="1302" y="0"/>
                  </a:lnTo>
                  <a:lnTo>
                    <a:pt x="1317" y="0"/>
                  </a:lnTo>
                  <a:lnTo>
                    <a:pt x="1322" y="0"/>
                  </a:lnTo>
                  <a:lnTo>
                    <a:pt x="1326" y="4"/>
                  </a:lnTo>
                  <a:lnTo>
                    <a:pt x="1336" y="4"/>
                  </a:lnTo>
                  <a:lnTo>
                    <a:pt x="1350" y="9"/>
                  </a:lnTo>
                  <a:lnTo>
                    <a:pt x="1365" y="19"/>
                  </a:lnTo>
                  <a:lnTo>
                    <a:pt x="1379" y="28"/>
                  </a:lnTo>
                  <a:lnTo>
                    <a:pt x="1398" y="38"/>
                  </a:lnTo>
                  <a:lnTo>
                    <a:pt x="1422" y="47"/>
                  </a:lnTo>
                  <a:lnTo>
                    <a:pt x="1436" y="62"/>
                  </a:lnTo>
                  <a:lnTo>
                    <a:pt x="1456" y="71"/>
                  </a:lnTo>
                  <a:lnTo>
                    <a:pt x="1465" y="81"/>
                  </a:lnTo>
                  <a:lnTo>
                    <a:pt x="1480" y="91"/>
                  </a:lnTo>
                  <a:lnTo>
                    <a:pt x="1484" y="100"/>
                  </a:lnTo>
                  <a:lnTo>
                    <a:pt x="1494" y="105"/>
                  </a:lnTo>
                  <a:lnTo>
                    <a:pt x="1499" y="110"/>
                  </a:lnTo>
                  <a:lnTo>
                    <a:pt x="1499" y="115"/>
                  </a:lnTo>
                  <a:lnTo>
                    <a:pt x="1494" y="124"/>
                  </a:lnTo>
                  <a:lnTo>
                    <a:pt x="1489" y="134"/>
                  </a:lnTo>
                  <a:lnTo>
                    <a:pt x="1484" y="143"/>
                  </a:lnTo>
                  <a:lnTo>
                    <a:pt x="1470" y="148"/>
                  </a:lnTo>
                  <a:lnTo>
                    <a:pt x="1460" y="153"/>
                  </a:lnTo>
                  <a:lnTo>
                    <a:pt x="1456" y="162"/>
                  </a:lnTo>
                  <a:lnTo>
                    <a:pt x="1451" y="172"/>
                  </a:lnTo>
                  <a:lnTo>
                    <a:pt x="1446" y="186"/>
                  </a:lnTo>
                  <a:lnTo>
                    <a:pt x="1441" y="201"/>
                  </a:lnTo>
                  <a:lnTo>
                    <a:pt x="1436" y="220"/>
                  </a:lnTo>
                  <a:lnTo>
                    <a:pt x="1432" y="239"/>
                  </a:lnTo>
                  <a:lnTo>
                    <a:pt x="1427" y="263"/>
                  </a:lnTo>
                  <a:lnTo>
                    <a:pt x="1422" y="292"/>
                  </a:lnTo>
                  <a:lnTo>
                    <a:pt x="1417" y="320"/>
                  </a:lnTo>
                  <a:lnTo>
                    <a:pt x="1408" y="354"/>
                  </a:lnTo>
                  <a:lnTo>
                    <a:pt x="1398" y="388"/>
                  </a:lnTo>
                  <a:lnTo>
                    <a:pt x="1384" y="431"/>
                  </a:lnTo>
                  <a:lnTo>
                    <a:pt x="1374" y="474"/>
                  </a:lnTo>
                  <a:lnTo>
                    <a:pt x="1360" y="522"/>
                  </a:lnTo>
                  <a:lnTo>
                    <a:pt x="1341" y="570"/>
                  </a:lnTo>
                  <a:lnTo>
                    <a:pt x="1336" y="598"/>
                  </a:lnTo>
                  <a:lnTo>
                    <a:pt x="1326" y="622"/>
                  </a:lnTo>
                  <a:lnTo>
                    <a:pt x="1317" y="646"/>
                  </a:lnTo>
                  <a:lnTo>
                    <a:pt x="1312" y="665"/>
                  </a:lnTo>
                  <a:lnTo>
                    <a:pt x="1302" y="689"/>
                  </a:lnTo>
                  <a:lnTo>
                    <a:pt x="1293" y="708"/>
                  </a:lnTo>
                  <a:lnTo>
                    <a:pt x="1288" y="728"/>
                  </a:lnTo>
                  <a:lnTo>
                    <a:pt x="1278" y="747"/>
                  </a:lnTo>
                  <a:lnTo>
                    <a:pt x="1269" y="761"/>
                  </a:lnTo>
                  <a:lnTo>
                    <a:pt x="1264" y="775"/>
                  </a:lnTo>
                  <a:lnTo>
                    <a:pt x="1254" y="790"/>
                  </a:lnTo>
                  <a:lnTo>
                    <a:pt x="1250" y="799"/>
                  </a:lnTo>
                  <a:lnTo>
                    <a:pt x="1240" y="814"/>
                  </a:lnTo>
                  <a:lnTo>
                    <a:pt x="1235" y="823"/>
                  </a:lnTo>
                  <a:lnTo>
                    <a:pt x="1226" y="828"/>
                  </a:lnTo>
                  <a:lnTo>
                    <a:pt x="1221" y="838"/>
                  </a:lnTo>
                  <a:lnTo>
                    <a:pt x="1207" y="852"/>
                  </a:lnTo>
                  <a:lnTo>
                    <a:pt x="1192" y="862"/>
                  </a:lnTo>
                  <a:lnTo>
                    <a:pt x="1178" y="871"/>
                  </a:lnTo>
                  <a:lnTo>
                    <a:pt x="1168" y="881"/>
                  </a:lnTo>
                  <a:lnTo>
                    <a:pt x="1159" y="886"/>
                  </a:lnTo>
                  <a:lnTo>
                    <a:pt x="1149" y="890"/>
                  </a:lnTo>
                  <a:lnTo>
                    <a:pt x="1144" y="895"/>
                  </a:lnTo>
                  <a:lnTo>
                    <a:pt x="1135" y="895"/>
                  </a:lnTo>
                  <a:lnTo>
                    <a:pt x="1130" y="895"/>
                  </a:lnTo>
                  <a:lnTo>
                    <a:pt x="1125" y="890"/>
                  </a:lnTo>
                  <a:lnTo>
                    <a:pt x="1120" y="886"/>
                  </a:lnTo>
                  <a:lnTo>
                    <a:pt x="1116" y="881"/>
                  </a:lnTo>
                  <a:lnTo>
                    <a:pt x="1111" y="876"/>
                  </a:lnTo>
                  <a:lnTo>
                    <a:pt x="1106" y="866"/>
                  </a:lnTo>
                  <a:lnTo>
                    <a:pt x="1106" y="857"/>
                  </a:lnTo>
                  <a:lnTo>
                    <a:pt x="1101" y="847"/>
                  </a:lnTo>
                  <a:lnTo>
                    <a:pt x="1096" y="833"/>
                  </a:lnTo>
                  <a:lnTo>
                    <a:pt x="1092" y="819"/>
                  </a:lnTo>
                  <a:lnTo>
                    <a:pt x="1087" y="804"/>
                  </a:lnTo>
                  <a:lnTo>
                    <a:pt x="1077" y="790"/>
                  </a:lnTo>
                  <a:lnTo>
                    <a:pt x="1068" y="775"/>
                  </a:lnTo>
                  <a:lnTo>
                    <a:pt x="1058" y="756"/>
                  </a:lnTo>
                  <a:lnTo>
                    <a:pt x="1049" y="737"/>
                  </a:lnTo>
                  <a:lnTo>
                    <a:pt x="1029" y="723"/>
                  </a:lnTo>
                  <a:lnTo>
                    <a:pt x="1015" y="704"/>
                  </a:lnTo>
                  <a:lnTo>
                    <a:pt x="1005" y="694"/>
                  </a:lnTo>
                  <a:lnTo>
                    <a:pt x="996" y="680"/>
                  </a:lnTo>
                  <a:lnTo>
                    <a:pt x="991" y="670"/>
                  </a:lnTo>
                  <a:lnTo>
                    <a:pt x="986" y="661"/>
                  </a:lnTo>
                  <a:lnTo>
                    <a:pt x="986" y="656"/>
                  </a:lnTo>
                  <a:lnTo>
                    <a:pt x="986" y="651"/>
                  </a:lnTo>
                  <a:lnTo>
                    <a:pt x="986" y="646"/>
                  </a:lnTo>
                  <a:lnTo>
                    <a:pt x="991" y="646"/>
                  </a:lnTo>
                  <a:lnTo>
                    <a:pt x="996" y="646"/>
                  </a:lnTo>
                  <a:lnTo>
                    <a:pt x="1001" y="651"/>
                  </a:lnTo>
                  <a:lnTo>
                    <a:pt x="1010" y="651"/>
                  </a:lnTo>
                  <a:lnTo>
                    <a:pt x="1020" y="656"/>
                  </a:lnTo>
                  <a:lnTo>
                    <a:pt x="1029" y="665"/>
                  </a:lnTo>
                  <a:lnTo>
                    <a:pt x="1044" y="670"/>
                  </a:lnTo>
                  <a:lnTo>
                    <a:pt x="1058" y="680"/>
                  </a:lnTo>
                  <a:lnTo>
                    <a:pt x="1068" y="689"/>
                  </a:lnTo>
                  <a:lnTo>
                    <a:pt x="1082" y="694"/>
                  </a:lnTo>
                  <a:lnTo>
                    <a:pt x="1092" y="699"/>
                  </a:lnTo>
                  <a:lnTo>
                    <a:pt x="1101" y="704"/>
                  </a:lnTo>
                  <a:lnTo>
                    <a:pt x="1111" y="708"/>
                  </a:lnTo>
                  <a:lnTo>
                    <a:pt x="1120" y="708"/>
                  </a:lnTo>
                  <a:lnTo>
                    <a:pt x="1130" y="708"/>
                  </a:lnTo>
                  <a:lnTo>
                    <a:pt x="1135" y="704"/>
                  </a:lnTo>
                  <a:close/>
                  <a:moveTo>
                    <a:pt x="1551" y="421"/>
                  </a:moveTo>
                  <a:lnTo>
                    <a:pt x="1571" y="431"/>
                  </a:lnTo>
                  <a:lnTo>
                    <a:pt x="1590" y="435"/>
                  </a:lnTo>
                  <a:lnTo>
                    <a:pt x="1604" y="440"/>
                  </a:lnTo>
                  <a:lnTo>
                    <a:pt x="1618" y="445"/>
                  </a:lnTo>
                  <a:lnTo>
                    <a:pt x="1633" y="455"/>
                  </a:lnTo>
                  <a:lnTo>
                    <a:pt x="1642" y="459"/>
                  </a:lnTo>
                  <a:lnTo>
                    <a:pt x="1647" y="464"/>
                  </a:lnTo>
                  <a:lnTo>
                    <a:pt x="1652" y="474"/>
                  </a:lnTo>
                  <a:lnTo>
                    <a:pt x="1657" y="488"/>
                  </a:lnTo>
                  <a:lnTo>
                    <a:pt x="1662" y="502"/>
                  </a:lnTo>
                  <a:lnTo>
                    <a:pt x="1662" y="522"/>
                  </a:lnTo>
                  <a:lnTo>
                    <a:pt x="1662" y="536"/>
                  </a:lnTo>
                  <a:lnTo>
                    <a:pt x="1662" y="546"/>
                  </a:lnTo>
                  <a:lnTo>
                    <a:pt x="1657" y="555"/>
                  </a:lnTo>
                  <a:lnTo>
                    <a:pt x="1657" y="560"/>
                  </a:lnTo>
                  <a:lnTo>
                    <a:pt x="1652" y="570"/>
                  </a:lnTo>
                  <a:lnTo>
                    <a:pt x="1642" y="574"/>
                  </a:lnTo>
                  <a:lnTo>
                    <a:pt x="1638" y="574"/>
                  </a:lnTo>
                  <a:lnTo>
                    <a:pt x="1628" y="579"/>
                  </a:lnTo>
                  <a:lnTo>
                    <a:pt x="1618" y="579"/>
                  </a:lnTo>
                  <a:lnTo>
                    <a:pt x="1614" y="579"/>
                  </a:lnTo>
                  <a:lnTo>
                    <a:pt x="1604" y="579"/>
                  </a:lnTo>
                  <a:lnTo>
                    <a:pt x="1595" y="574"/>
                  </a:lnTo>
                  <a:lnTo>
                    <a:pt x="1585" y="570"/>
                  </a:lnTo>
                  <a:lnTo>
                    <a:pt x="1575" y="565"/>
                  </a:lnTo>
                  <a:lnTo>
                    <a:pt x="1561" y="560"/>
                  </a:lnTo>
                  <a:lnTo>
                    <a:pt x="1547" y="550"/>
                  </a:lnTo>
                  <a:lnTo>
                    <a:pt x="1527" y="541"/>
                  </a:lnTo>
                  <a:lnTo>
                    <a:pt x="1508" y="531"/>
                  </a:lnTo>
                  <a:lnTo>
                    <a:pt x="1489" y="522"/>
                  </a:lnTo>
                  <a:lnTo>
                    <a:pt x="1470" y="507"/>
                  </a:lnTo>
                  <a:lnTo>
                    <a:pt x="1446" y="498"/>
                  </a:lnTo>
                  <a:lnTo>
                    <a:pt x="1422" y="483"/>
                  </a:lnTo>
                  <a:lnTo>
                    <a:pt x="1398" y="464"/>
                  </a:lnTo>
                  <a:lnTo>
                    <a:pt x="1369" y="450"/>
                  </a:lnTo>
                  <a:lnTo>
                    <a:pt x="1341" y="431"/>
                  </a:lnTo>
                  <a:lnTo>
                    <a:pt x="1360" y="421"/>
                  </a:lnTo>
                  <a:lnTo>
                    <a:pt x="1379" y="411"/>
                  </a:lnTo>
                  <a:lnTo>
                    <a:pt x="1403" y="402"/>
                  </a:lnTo>
                  <a:lnTo>
                    <a:pt x="1422" y="397"/>
                  </a:lnTo>
                  <a:lnTo>
                    <a:pt x="1432" y="397"/>
                  </a:lnTo>
                  <a:lnTo>
                    <a:pt x="1441" y="397"/>
                  </a:lnTo>
                  <a:lnTo>
                    <a:pt x="1456" y="402"/>
                  </a:lnTo>
                  <a:lnTo>
                    <a:pt x="1470" y="402"/>
                  </a:lnTo>
                  <a:lnTo>
                    <a:pt x="1489" y="407"/>
                  </a:lnTo>
                  <a:lnTo>
                    <a:pt x="1508" y="411"/>
                  </a:lnTo>
                  <a:lnTo>
                    <a:pt x="1527" y="416"/>
                  </a:lnTo>
                  <a:lnTo>
                    <a:pt x="1551" y="421"/>
                  </a:lnTo>
                  <a:close/>
                  <a:moveTo>
                    <a:pt x="1542" y="953"/>
                  </a:moveTo>
                  <a:lnTo>
                    <a:pt x="1575" y="953"/>
                  </a:lnTo>
                  <a:lnTo>
                    <a:pt x="1604" y="962"/>
                  </a:lnTo>
                  <a:lnTo>
                    <a:pt x="1623" y="962"/>
                  </a:lnTo>
                  <a:lnTo>
                    <a:pt x="1638" y="972"/>
                  </a:lnTo>
                  <a:lnTo>
                    <a:pt x="1652" y="977"/>
                  </a:lnTo>
                  <a:lnTo>
                    <a:pt x="1671" y="986"/>
                  </a:lnTo>
                  <a:lnTo>
                    <a:pt x="1686" y="996"/>
                  </a:lnTo>
                  <a:lnTo>
                    <a:pt x="1700" y="1005"/>
                  </a:lnTo>
                  <a:lnTo>
                    <a:pt x="1709" y="1010"/>
                  </a:lnTo>
                  <a:lnTo>
                    <a:pt x="1724" y="1015"/>
                  </a:lnTo>
                  <a:lnTo>
                    <a:pt x="1729" y="1025"/>
                  </a:lnTo>
                  <a:lnTo>
                    <a:pt x="1738" y="1029"/>
                  </a:lnTo>
                  <a:lnTo>
                    <a:pt x="1743" y="1034"/>
                  </a:lnTo>
                  <a:lnTo>
                    <a:pt x="1748" y="1034"/>
                  </a:lnTo>
                  <a:lnTo>
                    <a:pt x="1753" y="1049"/>
                  </a:lnTo>
                  <a:lnTo>
                    <a:pt x="1753" y="1053"/>
                  </a:lnTo>
                  <a:lnTo>
                    <a:pt x="1753" y="1063"/>
                  </a:lnTo>
                  <a:lnTo>
                    <a:pt x="1748" y="1068"/>
                  </a:lnTo>
                  <a:lnTo>
                    <a:pt x="1743" y="1072"/>
                  </a:lnTo>
                  <a:lnTo>
                    <a:pt x="1733" y="1072"/>
                  </a:lnTo>
                  <a:lnTo>
                    <a:pt x="1729" y="1077"/>
                  </a:lnTo>
                  <a:lnTo>
                    <a:pt x="1719" y="1077"/>
                  </a:lnTo>
                  <a:lnTo>
                    <a:pt x="1705" y="1077"/>
                  </a:lnTo>
                  <a:lnTo>
                    <a:pt x="1690" y="1077"/>
                  </a:lnTo>
                  <a:lnTo>
                    <a:pt x="1676" y="1077"/>
                  </a:lnTo>
                  <a:lnTo>
                    <a:pt x="1662" y="1082"/>
                  </a:lnTo>
                  <a:lnTo>
                    <a:pt x="1642" y="1082"/>
                  </a:lnTo>
                  <a:lnTo>
                    <a:pt x="1618" y="1082"/>
                  </a:lnTo>
                  <a:lnTo>
                    <a:pt x="1599" y="1082"/>
                  </a:lnTo>
                  <a:lnTo>
                    <a:pt x="1575" y="1082"/>
                  </a:lnTo>
                  <a:lnTo>
                    <a:pt x="1547" y="1077"/>
                  </a:lnTo>
                  <a:lnTo>
                    <a:pt x="1518" y="1077"/>
                  </a:lnTo>
                  <a:lnTo>
                    <a:pt x="1489" y="1077"/>
                  </a:lnTo>
                  <a:lnTo>
                    <a:pt x="1427" y="1072"/>
                  </a:lnTo>
                  <a:lnTo>
                    <a:pt x="1365" y="1072"/>
                  </a:lnTo>
                  <a:lnTo>
                    <a:pt x="1245" y="1077"/>
                  </a:lnTo>
                  <a:lnTo>
                    <a:pt x="1125" y="1077"/>
                  </a:lnTo>
                  <a:lnTo>
                    <a:pt x="1005" y="1087"/>
                  </a:lnTo>
                  <a:lnTo>
                    <a:pt x="948" y="1092"/>
                  </a:lnTo>
                  <a:lnTo>
                    <a:pt x="895" y="1096"/>
                  </a:lnTo>
                  <a:lnTo>
                    <a:pt x="843" y="1106"/>
                  </a:lnTo>
                  <a:lnTo>
                    <a:pt x="790" y="1111"/>
                  </a:lnTo>
                  <a:lnTo>
                    <a:pt x="742" y="1116"/>
                  </a:lnTo>
                  <a:lnTo>
                    <a:pt x="694" y="1120"/>
                  </a:lnTo>
                  <a:lnTo>
                    <a:pt x="651" y="1125"/>
                  </a:lnTo>
                  <a:lnTo>
                    <a:pt x="608" y="1125"/>
                  </a:lnTo>
                  <a:lnTo>
                    <a:pt x="526" y="1140"/>
                  </a:lnTo>
                  <a:lnTo>
                    <a:pt x="440" y="1149"/>
                  </a:lnTo>
                  <a:lnTo>
                    <a:pt x="354" y="1159"/>
                  </a:lnTo>
                  <a:lnTo>
                    <a:pt x="273" y="1168"/>
                  </a:lnTo>
                  <a:lnTo>
                    <a:pt x="253" y="1173"/>
                  </a:lnTo>
                  <a:lnTo>
                    <a:pt x="234" y="1173"/>
                  </a:lnTo>
                  <a:lnTo>
                    <a:pt x="215" y="1178"/>
                  </a:lnTo>
                  <a:lnTo>
                    <a:pt x="196" y="1178"/>
                  </a:lnTo>
                  <a:lnTo>
                    <a:pt x="182" y="1183"/>
                  </a:lnTo>
                  <a:lnTo>
                    <a:pt x="167" y="1183"/>
                  </a:lnTo>
                  <a:lnTo>
                    <a:pt x="153" y="1187"/>
                  </a:lnTo>
                  <a:lnTo>
                    <a:pt x="143" y="1187"/>
                  </a:lnTo>
                  <a:lnTo>
                    <a:pt x="134" y="1187"/>
                  </a:lnTo>
                  <a:lnTo>
                    <a:pt x="124" y="1192"/>
                  </a:lnTo>
                  <a:lnTo>
                    <a:pt x="115" y="1192"/>
                  </a:lnTo>
                  <a:lnTo>
                    <a:pt x="105" y="1192"/>
                  </a:lnTo>
                  <a:lnTo>
                    <a:pt x="100" y="1192"/>
                  </a:lnTo>
                  <a:lnTo>
                    <a:pt x="95" y="1192"/>
                  </a:lnTo>
                  <a:lnTo>
                    <a:pt x="91" y="1192"/>
                  </a:lnTo>
                  <a:lnTo>
                    <a:pt x="86" y="1192"/>
                  </a:lnTo>
                  <a:lnTo>
                    <a:pt x="81" y="1192"/>
                  </a:lnTo>
                  <a:lnTo>
                    <a:pt x="76" y="1187"/>
                  </a:lnTo>
                  <a:lnTo>
                    <a:pt x="67" y="1187"/>
                  </a:lnTo>
                  <a:lnTo>
                    <a:pt x="57" y="1183"/>
                  </a:lnTo>
                  <a:lnTo>
                    <a:pt x="47" y="1178"/>
                  </a:lnTo>
                  <a:lnTo>
                    <a:pt x="38" y="1168"/>
                  </a:lnTo>
                  <a:lnTo>
                    <a:pt x="28" y="1159"/>
                  </a:lnTo>
                  <a:lnTo>
                    <a:pt x="24" y="1149"/>
                  </a:lnTo>
                  <a:lnTo>
                    <a:pt x="14" y="1144"/>
                  </a:lnTo>
                  <a:lnTo>
                    <a:pt x="9" y="1135"/>
                  </a:lnTo>
                  <a:lnTo>
                    <a:pt x="4" y="1130"/>
                  </a:lnTo>
                  <a:lnTo>
                    <a:pt x="4" y="1125"/>
                  </a:lnTo>
                  <a:lnTo>
                    <a:pt x="0" y="1120"/>
                  </a:lnTo>
                  <a:lnTo>
                    <a:pt x="4" y="1116"/>
                  </a:lnTo>
                  <a:lnTo>
                    <a:pt x="4" y="1111"/>
                  </a:lnTo>
                  <a:lnTo>
                    <a:pt x="9" y="1106"/>
                  </a:lnTo>
                  <a:lnTo>
                    <a:pt x="19" y="1106"/>
                  </a:lnTo>
                  <a:lnTo>
                    <a:pt x="28" y="1106"/>
                  </a:lnTo>
                  <a:lnTo>
                    <a:pt x="43" y="1101"/>
                  </a:lnTo>
                  <a:lnTo>
                    <a:pt x="62" y="1101"/>
                  </a:lnTo>
                  <a:lnTo>
                    <a:pt x="86" y="1101"/>
                  </a:lnTo>
                  <a:lnTo>
                    <a:pt x="115" y="1096"/>
                  </a:lnTo>
                  <a:lnTo>
                    <a:pt x="143" y="1092"/>
                  </a:lnTo>
                  <a:lnTo>
                    <a:pt x="177" y="1092"/>
                  </a:lnTo>
                  <a:lnTo>
                    <a:pt x="215" y="1087"/>
                  </a:lnTo>
                  <a:lnTo>
                    <a:pt x="258" y="1082"/>
                  </a:lnTo>
                  <a:lnTo>
                    <a:pt x="306" y="1082"/>
                  </a:lnTo>
                  <a:lnTo>
                    <a:pt x="354" y="1077"/>
                  </a:lnTo>
                  <a:lnTo>
                    <a:pt x="411" y="1072"/>
                  </a:lnTo>
                  <a:lnTo>
                    <a:pt x="469" y="1068"/>
                  </a:lnTo>
                  <a:lnTo>
                    <a:pt x="531" y="1063"/>
                  </a:lnTo>
                  <a:lnTo>
                    <a:pt x="651" y="1049"/>
                  </a:lnTo>
                  <a:lnTo>
                    <a:pt x="713" y="1044"/>
                  </a:lnTo>
                  <a:lnTo>
                    <a:pt x="771" y="1034"/>
                  </a:lnTo>
                  <a:lnTo>
                    <a:pt x="828" y="1029"/>
                  </a:lnTo>
                  <a:lnTo>
                    <a:pt x="881" y="1025"/>
                  </a:lnTo>
                  <a:lnTo>
                    <a:pt x="938" y="1015"/>
                  </a:lnTo>
                  <a:lnTo>
                    <a:pt x="986" y="1010"/>
                  </a:lnTo>
                  <a:lnTo>
                    <a:pt x="1039" y="1005"/>
                  </a:lnTo>
                  <a:lnTo>
                    <a:pt x="1087" y="1005"/>
                  </a:lnTo>
                  <a:lnTo>
                    <a:pt x="1135" y="1001"/>
                  </a:lnTo>
                  <a:lnTo>
                    <a:pt x="1183" y="991"/>
                  </a:lnTo>
                  <a:lnTo>
                    <a:pt x="1226" y="986"/>
                  </a:lnTo>
                  <a:lnTo>
                    <a:pt x="1264" y="981"/>
                  </a:lnTo>
                  <a:lnTo>
                    <a:pt x="1307" y="977"/>
                  </a:lnTo>
                  <a:lnTo>
                    <a:pt x="1341" y="967"/>
                  </a:lnTo>
                  <a:lnTo>
                    <a:pt x="1379" y="967"/>
                  </a:lnTo>
                  <a:lnTo>
                    <a:pt x="1408" y="962"/>
                  </a:lnTo>
                  <a:lnTo>
                    <a:pt x="1436" y="962"/>
                  </a:lnTo>
                  <a:lnTo>
                    <a:pt x="1465" y="958"/>
                  </a:lnTo>
                  <a:lnTo>
                    <a:pt x="1489" y="958"/>
                  </a:lnTo>
                  <a:lnTo>
                    <a:pt x="1508" y="953"/>
                  </a:lnTo>
                  <a:lnTo>
                    <a:pt x="1527" y="953"/>
                  </a:lnTo>
                  <a:lnTo>
                    <a:pt x="1542" y="953"/>
                  </a:lnTo>
                  <a:close/>
                  <a:moveTo>
                    <a:pt x="790" y="962"/>
                  </a:moveTo>
                  <a:lnTo>
                    <a:pt x="780" y="943"/>
                  </a:lnTo>
                  <a:lnTo>
                    <a:pt x="771" y="929"/>
                  </a:lnTo>
                  <a:lnTo>
                    <a:pt x="771" y="924"/>
                  </a:lnTo>
                  <a:lnTo>
                    <a:pt x="771" y="914"/>
                  </a:lnTo>
                  <a:lnTo>
                    <a:pt x="771" y="910"/>
                  </a:lnTo>
                  <a:lnTo>
                    <a:pt x="771" y="905"/>
                  </a:lnTo>
                  <a:lnTo>
                    <a:pt x="775" y="895"/>
                  </a:lnTo>
                  <a:lnTo>
                    <a:pt x="780" y="890"/>
                  </a:lnTo>
                  <a:lnTo>
                    <a:pt x="785" y="890"/>
                  </a:lnTo>
                  <a:lnTo>
                    <a:pt x="790" y="886"/>
                  </a:lnTo>
                  <a:lnTo>
                    <a:pt x="799" y="886"/>
                  </a:lnTo>
                  <a:lnTo>
                    <a:pt x="809" y="886"/>
                  </a:lnTo>
                  <a:lnTo>
                    <a:pt x="828" y="886"/>
                  </a:lnTo>
                  <a:lnTo>
                    <a:pt x="847" y="890"/>
                  </a:lnTo>
                  <a:lnTo>
                    <a:pt x="871" y="895"/>
                  </a:lnTo>
                  <a:lnTo>
                    <a:pt x="895" y="905"/>
                  </a:lnTo>
                  <a:lnTo>
                    <a:pt x="910" y="919"/>
                  </a:lnTo>
                  <a:lnTo>
                    <a:pt x="919" y="924"/>
                  </a:lnTo>
                  <a:lnTo>
                    <a:pt x="924" y="934"/>
                  </a:lnTo>
                  <a:lnTo>
                    <a:pt x="929" y="943"/>
                  </a:lnTo>
                  <a:lnTo>
                    <a:pt x="929" y="953"/>
                  </a:lnTo>
                  <a:lnTo>
                    <a:pt x="929" y="962"/>
                  </a:lnTo>
                  <a:lnTo>
                    <a:pt x="929" y="967"/>
                  </a:lnTo>
                  <a:lnTo>
                    <a:pt x="929" y="977"/>
                  </a:lnTo>
                  <a:lnTo>
                    <a:pt x="924" y="986"/>
                  </a:lnTo>
                  <a:lnTo>
                    <a:pt x="924" y="1001"/>
                  </a:lnTo>
                  <a:lnTo>
                    <a:pt x="924" y="1015"/>
                  </a:lnTo>
                  <a:lnTo>
                    <a:pt x="919" y="1034"/>
                  </a:lnTo>
                  <a:lnTo>
                    <a:pt x="919" y="1058"/>
                  </a:lnTo>
                  <a:lnTo>
                    <a:pt x="919" y="1077"/>
                  </a:lnTo>
                  <a:lnTo>
                    <a:pt x="914" y="1106"/>
                  </a:lnTo>
                  <a:lnTo>
                    <a:pt x="914" y="1135"/>
                  </a:lnTo>
                  <a:lnTo>
                    <a:pt x="914" y="1168"/>
                  </a:lnTo>
                  <a:lnTo>
                    <a:pt x="914" y="1202"/>
                  </a:lnTo>
                  <a:lnTo>
                    <a:pt x="914" y="1240"/>
                  </a:lnTo>
                  <a:lnTo>
                    <a:pt x="910" y="1278"/>
                  </a:lnTo>
                  <a:lnTo>
                    <a:pt x="910" y="1322"/>
                  </a:lnTo>
                  <a:lnTo>
                    <a:pt x="910" y="1369"/>
                  </a:lnTo>
                  <a:lnTo>
                    <a:pt x="910" y="1417"/>
                  </a:lnTo>
                  <a:lnTo>
                    <a:pt x="910" y="1465"/>
                  </a:lnTo>
                  <a:lnTo>
                    <a:pt x="910" y="1513"/>
                  </a:lnTo>
                  <a:lnTo>
                    <a:pt x="910" y="1556"/>
                  </a:lnTo>
                  <a:lnTo>
                    <a:pt x="910" y="1595"/>
                  </a:lnTo>
                  <a:lnTo>
                    <a:pt x="910" y="1633"/>
                  </a:lnTo>
                  <a:lnTo>
                    <a:pt x="910" y="1666"/>
                  </a:lnTo>
                  <a:lnTo>
                    <a:pt x="905" y="1700"/>
                  </a:lnTo>
                  <a:lnTo>
                    <a:pt x="905" y="1729"/>
                  </a:lnTo>
                  <a:lnTo>
                    <a:pt x="905" y="1753"/>
                  </a:lnTo>
                  <a:lnTo>
                    <a:pt x="905" y="1777"/>
                  </a:lnTo>
                  <a:lnTo>
                    <a:pt x="900" y="1800"/>
                  </a:lnTo>
                  <a:lnTo>
                    <a:pt x="900" y="1820"/>
                  </a:lnTo>
                  <a:lnTo>
                    <a:pt x="900" y="1834"/>
                  </a:lnTo>
                  <a:lnTo>
                    <a:pt x="895" y="1848"/>
                  </a:lnTo>
                  <a:lnTo>
                    <a:pt x="895" y="1858"/>
                  </a:lnTo>
                  <a:lnTo>
                    <a:pt x="895" y="1863"/>
                  </a:lnTo>
                  <a:lnTo>
                    <a:pt x="881" y="1882"/>
                  </a:lnTo>
                  <a:lnTo>
                    <a:pt x="871" y="1896"/>
                  </a:lnTo>
                  <a:lnTo>
                    <a:pt x="862" y="1901"/>
                  </a:lnTo>
                  <a:lnTo>
                    <a:pt x="857" y="1906"/>
                  </a:lnTo>
                  <a:lnTo>
                    <a:pt x="852" y="1906"/>
                  </a:lnTo>
                  <a:lnTo>
                    <a:pt x="847" y="1906"/>
                  </a:lnTo>
                  <a:lnTo>
                    <a:pt x="843" y="1901"/>
                  </a:lnTo>
                  <a:lnTo>
                    <a:pt x="838" y="1896"/>
                  </a:lnTo>
                  <a:lnTo>
                    <a:pt x="833" y="1887"/>
                  </a:lnTo>
                  <a:lnTo>
                    <a:pt x="828" y="1877"/>
                  </a:lnTo>
                  <a:lnTo>
                    <a:pt x="819" y="1863"/>
                  </a:lnTo>
                  <a:lnTo>
                    <a:pt x="814" y="1844"/>
                  </a:lnTo>
                  <a:lnTo>
                    <a:pt x="809" y="1824"/>
                  </a:lnTo>
                  <a:lnTo>
                    <a:pt x="799" y="1800"/>
                  </a:lnTo>
                  <a:lnTo>
                    <a:pt x="795" y="1781"/>
                  </a:lnTo>
                  <a:lnTo>
                    <a:pt x="790" y="1762"/>
                  </a:lnTo>
                  <a:lnTo>
                    <a:pt x="785" y="1743"/>
                  </a:lnTo>
                  <a:lnTo>
                    <a:pt x="785" y="1724"/>
                  </a:lnTo>
                  <a:lnTo>
                    <a:pt x="785" y="1705"/>
                  </a:lnTo>
                  <a:lnTo>
                    <a:pt x="785" y="1686"/>
                  </a:lnTo>
                  <a:lnTo>
                    <a:pt x="790" y="1666"/>
                  </a:lnTo>
                  <a:lnTo>
                    <a:pt x="795" y="1647"/>
                  </a:lnTo>
                  <a:lnTo>
                    <a:pt x="799" y="1628"/>
                  </a:lnTo>
                  <a:lnTo>
                    <a:pt x="804" y="1609"/>
                  </a:lnTo>
                  <a:lnTo>
                    <a:pt x="809" y="1585"/>
                  </a:lnTo>
                  <a:lnTo>
                    <a:pt x="814" y="1556"/>
                  </a:lnTo>
                  <a:lnTo>
                    <a:pt x="819" y="1523"/>
                  </a:lnTo>
                  <a:lnTo>
                    <a:pt x="819" y="1489"/>
                  </a:lnTo>
                  <a:lnTo>
                    <a:pt x="823" y="1451"/>
                  </a:lnTo>
                  <a:lnTo>
                    <a:pt x="828" y="1374"/>
                  </a:lnTo>
                  <a:lnTo>
                    <a:pt x="833" y="1302"/>
                  </a:lnTo>
                  <a:lnTo>
                    <a:pt x="833" y="1221"/>
                  </a:lnTo>
                  <a:lnTo>
                    <a:pt x="833" y="1144"/>
                  </a:lnTo>
                  <a:lnTo>
                    <a:pt x="828" y="1106"/>
                  </a:lnTo>
                  <a:lnTo>
                    <a:pt x="828" y="1077"/>
                  </a:lnTo>
                  <a:lnTo>
                    <a:pt x="823" y="1049"/>
                  </a:lnTo>
                  <a:lnTo>
                    <a:pt x="819" y="1025"/>
                  </a:lnTo>
                  <a:lnTo>
                    <a:pt x="814" y="1005"/>
                  </a:lnTo>
                  <a:lnTo>
                    <a:pt x="804" y="986"/>
                  </a:lnTo>
                  <a:lnTo>
                    <a:pt x="799" y="972"/>
                  </a:lnTo>
                  <a:lnTo>
                    <a:pt x="790" y="962"/>
                  </a:lnTo>
                  <a:close/>
                  <a:moveTo>
                    <a:pt x="421" y="1556"/>
                  </a:moveTo>
                  <a:lnTo>
                    <a:pt x="359" y="1595"/>
                  </a:lnTo>
                  <a:lnTo>
                    <a:pt x="297" y="1628"/>
                  </a:lnTo>
                  <a:lnTo>
                    <a:pt x="239" y="1662"/>
                  </a:lnTo>
                  <a:lnTo>
                    <a:pt x="177" y="1700"/>
                  </a:lnTo>
                  <a:lnTo>
                    <a:pt x="148" y="1714"/>
                  </a:lnTo>
                  <a:lnTo>
                    <a:pt x="124" y="1724"/>
                  </a:lnTo>
                  <a:lnTo>
                    <a:pt x="105" y="1733"/>
                  </a:lnTo>
                  <a:lnTo>
                    <a:pt x="86" y="1738"/>
                  </a:lnTo>
                  <a:lnTo>
                    <a:pt x="71" y="1743"/>
                  </a:lnTo>
                  <a:lnTo>
                    <a:pt x="62" y="1743"/>
                  </a:lnTo>
                  <a:lnTo>
                    <a:pt x="52" y="1743"/>
                  </a:lnTo>
                  <a:lnTo>
                    <a:pt x="47" y="1743"/>
                  </a:lnTo>
                  <a:lnTo>
                    <a:pt x="47" y="1738"/>
                  </a:lnTo>
                  <a:lnTo>
                    <a:pt x="47" y="1729"/>
                  </a:lnTo>
                  <a:lnTo>
                    <a:pt x="52" y="1724"/>
                  </a:lnTo>
                  <a:lnTo>
                    <a:pt x="62" y="1714"/>
                  </a:lnTo>
                  <a:lnTo>
                    <a:pt x="76" y="1700"/>
                  </a:lnTo>
                  <a:lnTo>
                    <a:pt x="95" y="1686"/>
                  </a:lnTo>
                  <a:lnTo>
                    <a:pt x="115" y="1671"/>
                  </a:lnTo>
                  <a:lnTo>
                    <a:pt x="143" y="1657"/>
                  </a:lnTo>
                  <a:lnTo>
                    <a:pt x="196" y="1623"/>
                  </a:lnTo>
                  <a:lnTo>
                    <a:pt x="244" y="1590"/>
                  </a:lnTo>
                  <a:lnTo>
                    <a:pt x="297" y="1551"/>
                  </a:lnTo>
                  <a:lnTo>
                    <a:pt x="340" y="1508"/>
                  </a:lnTo>
                  <a:lnTo>
                    <a:pt x="354" y="1499"/>
                  </a:lnTo>
                  <a:lnTo>
                    <a:pt x="368" y="1484"/>
                  </a:lnTo>
                  <a:lnTo>
                    <a:pt x="383" y="1470"/>
                  </a:lnTo>
                  <a:lnTo>
                    <a:pt x="402" y="1456"/>
                  </a:lnTo>
                  <a:lnTo>
                    <a:pt x="421" y="1436"/>
                  </a:lnTo>
                  <a:lnTo>
                    <a:pt x="440" y="1413"/>
                  </a:lnTo>
                  <a:lnTo>
                    <a:pt x="459" y="1393"/>
                  </a:lnTo>
                  <a:lnTo>
                    <a:pt x="483" y="1365"/>
                  </a:lnTo>
                  <a:lnTo>
                    <a:pt x="512" y="1341"/>
                  </a:lnTo>
                  <a:lnTo>
                    <a:pt x="541" y="1307"/>
                  </a:lnTo>
                  <a:lnTo>
                    <a:pt x="570" y="1278"/>
                  </a:lnTo>
                  <a:lnTo>
                    <a:pt x="598" y="1245"/>
                  </a:lnTo>
                  <a:lnTo>
                    <a:pt x="632" y="1207"/>
                  </a:lnTo>
                  <a:lnTo>
                    <a:pt x="665" y="1168"/>
                  </a:lnTo>
                  <a:lnTo>
                    <a:pt x="699" y="1130"/>
                  </a:lnTo>
                  <a:lnTo>
                    <a:pt x="737" y="1087"/>
                  </a:lnTo>
                  <a:lnTo>
                    <a:pt x="804" y="1101"/>
                  </a:lnTo>
                  <a:lnTo>
                    <a:pt x="866" y="1120"/>
                  </a:lnTo>
                  <a:lnTo>
                    <a:pt x="828" y="1163"/>
                  </a:lnTo>
                  <a:lnTo>
                    <a:pt x="790" y="1207"/>
                  </a:lnTo>
                  <a:lnTo>
                    <a:pt x="752" y="1245"/>
                  </a:lnTo>
                  <a:lnTo>
                    <a:pt x="718" y="1283"/>
                  </a:lnTo>
                  <a:lnTo>
                    <a:pt x="684" y="1317"/>
                  </a:lnTo>
                  <a:lnTo>
                    <a:pt x="651" y="1350"/>
                  </a:lnTo>
                  <a:lnTo>
                    <a:pt x="622" y="1379"/>
                  </a:lnTo>
                  <a:lnTo>
                    <a:pt x="593" y="1408"/>
                  </a:lnTo>
                  <a:lnTo>
                    <a:pt x="565" y="1432"/>
                  </a:lnTo>
                  <a:lnTo>
                    <a:pt x="541" y="1456"/>
                  </a:lnTo>
                  <a:lnTo>
                    <a:pt x="512" y="1480"/>
                  </a:lnTo>
                  <a:lnTo>
                    <a:pt x="493" y="1499"/>
                  </a:lnTo>
                  <a:lnTo>
                    <a:pt x="469" y="1518"/>
                  </a:lnTo>
                  <a:lnTo>
                    <a:pt x="450" y="1532"/>
                  </a:lnTo>
                  <a:lnTo>
                    <a:pt x="435" y="1547"/>
                  </a:lnTo>
                  <a:lnTo>
                    <a:pt x="421" y="1556"/>
                  </a:lnTo>
                  <a:close/>
                  <a:moveTo>
                    <a:pt x="876" y="1077"/>
                  </a:moveTo>
                  <a:lnTo>
                    <a:pt x="905" y="1106"/>
                  </a:lnTo>
                  <a:lnTo>
                    <a:pt x="938" y="1135"/>
                  </a:lnTo>
                  <a:lnTo>
                    <a:pt x="977" y="1163"/>
                  </a:lnTo>
                  <a:lnTo>
                    <a:pt x="1010" y="1192"/>
                  </a:lnTo>
                  <a:lnTo>
                    <a:pt x="1053" y="1221"/>
                  </a:lnTo>
                  <a:lnTo>
                    <a:pt x="1096" y="1250"/>
                  </a:lnTo>
                  <a:lnTo>
                    <a:pt x="1140" y="1278"/>
                  </a:lnTo>
                  <a:lnTo>
                    <a:pt x="1187" y="1307"/>
                  </a:lnTo>
                  <a:lnTo>
                    <a:pt x="1235" y="1345"/>
                  </a:lnTo>
                  <a:lnTo>
                    <a:pt x="1283" y="1374"/>
                  </a:lnTo>
                  <a:lnTo>
                    <a:pt x="1336" y="1403"/>
                  </a:lnTo>
                  <a:lnTo>
                    <a:pt x="1389" y="1432"/>
                  </a:lnTo>
                  <a:lnTo>
                    <a:pt x="1446" y="1460"/>
                  </a:lnTo>
                  <a:lnTo>
                    <a:pt x="1508" y="1484"/>
                  </a:lnTo>
                  <a:lnTo>
                    <a:pt x="1571" y="1508"/>
                  </a:lnTo>
                  <a:lnTo>
                    <a:pt x="1638" y="1532"/>
                  </a:lnTo>
                  <a:lnTo>
                    <a:pt x="1666" y="1547"/>
                  </a:lnTo>
                  <a:lnTo>
                    <a:pt x="1700" y="1556"/>
                  </a:lnTo>
                  <a:lnTo>
                    <a:pt x="1729" y="1566"/>
                  </a:lnTo>
                  <a:lnTo>
                    <a:pt x="1753" y="1575"/>
                  </a:lnTo>
                  <a:lnTo>
                    <a:pt x="1777" y="1585"/>
                  </a:lnTo>
                  <a:lnTo>
                    <a:pt x="1800" y="1595"/>
                  </a:lnTo>
                  <a:lnTo>
                    <a:pt x="1820" y="1604"/>
                  </a:lnTo>
                  <a:lnTo>
                    <a:pt x="1839" y="1609"/>
                  </a:lnTo>
                  <a:lnTo>
                    <a:pt x="1853" y="1614"/>
                  </a:lnTo>
                  <a:lnTo>
                    <a:pt x="1868" y="1623"/>
                  </a:lnTo>
                  <a:lnTo>
                    <a:pt x="1877" y="1628"/>
                  </a:lnTo>
                  <a:lnTo>
                    <a:pt x="1887" y="1628"/>
                  </a:lnTo>
                  <a:lnTo>
                    <a:pt x="1896" y="1633"/>
                  </a:lnTo>
                  <a:lnTo>
                    <a:pt x="1901" y="1638"/>
                  </a:lnTo>
                  <a:lnTo>
                    <a:pt x="1901" y="1642"/>
                  </a:lnTo>
                  <a:lnTo>
                    <a:pt x="1896" y="1647"/>
                  </a:lnTo>
                  <a:lnTo>
                    <a:pt x="1891" y="1647"/>
                  </a:lnTo>
                  <a:lnTo>
                    <a:pt x="1887" y="1652"/>
                  </a:lnTo>
                  <a:lnTo>
                    <a:pt x="1882" y="1652"/>
                  </a:lnTo>
                  <a:lnTo>
                    <a:pt x="1872" y="1657"/>
                  </a:lnTo>
                  <a:lnTo>
                    <a:pt x="1863" y="1657"/>
                  </a:lnTo>
                  <a:lnTo>
                    <a:pt x="1853" y="1662"/>
                  </a:lnTo>
                  <a:lnTo>
                    <a:pt x="1844" y="1666"/>
                  </a:lnTo>
                  <a:lnTo>
                    <a:pt x="1829" y="1666"/>
                  </a:lnTo>
                  <a:lnTo>
                    <a:pt x="1815" y="1671"/>
                  </a:lnTo>
                  <a:lnTo>
                    <a:pt x="1800" y="1671"/>
                  </a:lnTo>
                  <a:lnTo>
                    <a:pt x="1786" y="1676"/>
                  </a:lnTo>
                  <a:lnTo>
                    <a:pt x="1767" y="1681"/>
                  </a:lnTo>
                  <a:lnTo>
                    <a:pt x="1748" y="1681"/>
                  </a:lnTo>
                  <a:lnTo>
                    <a:pt x="1709" y="1690"/>
                  </a:lnTo>
                  <a:lnTo>
                    <a:pt x="1671" y="1695"/>
                  </a:lnTo>
                  <a:lnTo>
                    <a:pt x="1638" y="1700"/>
                  </a:lnTo>
                  <a:lnTo>
                    <a:pt x="1604" y="1700"/>
                  </a:lnTo>
                  <a:lnTo>
                    <a:pt x="1575" y="1700"/>
                  </a:lnTo>
                  <a:lnTo>
                    <a:pt x="1551" y="1705"/>
                  </a:lnTo>
                  <a:lnTo>
                    <a:pt x="1527" y="1700"/>
                  </a:lnTo>
                  <a:lnTo>
                    <a:pt x="1508" y="1700"/>
                  </a:lnTo>
                  <a:lnTo>
                    <a:pt x="1484" y="1695"/>
                  </a:lnTo>
                  <a:lnTo>
                    <a:pt x="1456" y="1686"/>
                  </a:lnTo>
                  <a:lnTo>
                    <a:pt x="1432" y="1671"/>
                  </a:lnTo>
                  <a:lnTo>
                    <a:pt x="1403" y="1652"/>
                  </a:lnTo>
                  <a:lnTo>
                    <a:pt x="1374" y="1628"/>
                  </a:lnTo>
                  <a:lnTo>
                    <a:pt x="1341" y="1599"/>
                  </a:lnTo>
                  <a:lnTo>
                    <a:pt x="1326" y="1580"/>
                  </a:lnTo>
                  <a:lnTo>
                    <a:pt x="1307" y="1566"/>
                  </a:lnTo>
                  <a:lnTo>
                    <a:pt x="1293" y="1547"/>
                  </a:lnTo>
                  <a:lnTo>
                    <a:pt x="1274" y="1527"/>
                  </a:lnTo>
                  <a:lnTo>
                    <a:pt x="1235" y="1489"/>
                  </a:lnTo>
                  <a:lnTo>
                    <a:pt x="1202" y="1456"/>
                  </a:lnTo>
                  <a:lnTo>
                    <a:pt x="1173" y="1427"/>
                  </a:lnTo>
                  <a:lnTo>
                    <a:pt x="1144" y="1403"/>
                  </a:lnTo>
                  <a:lnTo>
                    <a:pt x="1116" y="1379"/>
                  </a:lnTo>
                  <a:lnTo>
                    <a:pt x="1096" y="1355"/>
                  </a:lnTo>
                  <a:lnTo>
                    <a:pt x="1077" y="1341"/>
                  </a:lnTo>
                  <a:lnTo>
                    <a:pt x="1058" y="1326"/>
                  </a:lnTo>
                  <a:lnTo>
                    <a:pt x="1039" y="1312"/>
                  </a:lnTo>
                  <a:lnTo>
                    <a:pt x="1020" y="1293"/>
                  </a:lnTo>
                  <a:lnTo>
                    <a:pt x="996" y="1274"/>
                  </a:lnTo>
                  <a:lnTo>
                    <a:pt x="972" y="1250"/>
                  </a:lnTo>
                  <a:lnTo>
                    <a:pt x="948" y="1226"/>
                  </a:lnTo>
                  <a:lnTo>
                    <a:pt x="914" y="1197"/>
                  </a:lnTo>
                  <a:lnTo>
                    <a:pt x="886" y="1163"/>
                  </a:lnTo>
                  <a:lnTo>
                    <a:pt x="852" y="1125"/>
                  </a:lnTo>
                  <a:lnTo>
                    <a:pt x="876" y="1077"/>
                  </a:lnTo>
                  <a:close/>
                  <a:moveTo>
                    <a:pt x="512" y="929"/>
                  </a:moveTo>
                  <a:lnTo>
                    <a:pt x="512" y="924"/>
                  </a:lnTo>
                  <a:lnTo>
                    <a:pt x="512" y="919"/>
                  </a:lnTo>
                  <a:lnTo>
                    <a:pt x="517" y="910"/>
                  </a:lnTo>
                  <a:lnTo>
                    <a:pt x="526" y="900"/>
                  </a:lnTo>
                  <a:lnTo>
                    <a:pt x="541" y="886"/>
                  </a:lnTo>
                  <a:lnTo>
                    <a:pt x="555" y="871"/>
                  </a:lnTo>
                  <a:lnTo>
                    <a:pt x="570" y="857"/>
                  </a:lnTo>
                  <a:lnTo>
                    <a:pt x="593" y="838"/>
                  </a:lnTo>
                  <a:lnTo>
                    <a:pt x="613" y="819"/>
                  </a:lnTo>
                  <a:lnTo>
                    <a:pt x="637" y="799"/>
                  </a:lnTo>
                  <a:lnTo>
                    <a:pt x="661" y="775"/>
                  </a:lnTo>
                  <a:lnTo>
                    <a:pt x="684" y="752"/>
                  </a:lnTo>
                  <a:lnTo>
                    <a:pt x="708" y="723"/>
                  </a:lnTo>
                  <a:lnTo>
                    <a:pt x="732" y="694"/>
                  </a:lnTo>
                  <a:lnTo>
                    <a:pt x="756" y="661"/>
                  </a:lnTo>
                  <a:lnTo>
                    <a:pt x="780" y="627"/>
                  </a:lnTo>
                  <a:lnTo>
                    <a:pt x="804" y="593"/>
                  </a:lnTo>
                  <a:lnTo>
                    <a:pt x="828" y="560"/>
                  </a:lnTo>
                  <a:lnTo>
                    <a:pt x="852" y="531"/>
                  </a:lnTo>
                  <a:lnTo>
                    <a:pt x="871" y="498"/>
                  </a:lnTo>
                  <a:lnTo>
                    <a:pt x="890" y="464"/>
                  </a:lnTo>
                  <a:lnTo>
                    <a:pt x="905" y="431"/>
                  </a:lnTo>
                  <a:lnTo>
                    <a:pt x="919" y="397"/>
                  </a:lnTo>
                  <a:lnTo>
                    <a:pt x="929" y="364"/>
                  </a:lnTo>
                  <a:lnTo>
                    <a:pt x="938" y="330"/>
                  </a:lnTo>
                  <a:lnTo>
                    <a:pt x="943" y="297"/>
                  </a:lnTo>
                  <a:lnTo>
                    <a:pt x="948" y="268"/>
                  </a:lnTo>
                  <a:lnTo>
                    <a:pt x="953" y="239"/>
                  </a:lnTo>
                  <a:lnTo>
                    <a:pt x="958" y="210"/>
                  </a:lnTo>
                  <a:lnTo>
                    <a:pt x="958" y="186"/>
                  </a:lnTo>
                  <a:lnTo>
                    <a:pt x="958" y="162"/>
                  </a:lnTo>
                  <a:lnTo>
                    <a:pt x="953" y="138"/>
                  </a:lnTo>
                  <a:lnTo>
                    <a:pt x="986" y="158"/>
                  </a:lnTo>
                  <a:lnTo>
                    <a:pt x="1015" y="172"/>
                  </a:lnTo>
                  <a:lnTo>
                    <a:pt x="1039" y="182"/>
                  </a:lnTo>
                  <a:lnTo>
                    <a:pt x="1058" y="196"/>
                  </a:lnTo>
                  <a:lnTo>
                    <a:pt x="1072" y="210"/>
                  </a:lnTo>
                  <a:lnTo>
                    <a:pt x="1082" y="220"/>
                  </a:lnTo>
                  <a:lnTo>
                    <a:pt x="1092" y="229"/>
                  </a:lnTo>
                  <a:lnTo>
                    <a:pt x="1092" y="239"/>
                  </a:lnTo>
                  <a:lnTo>
                    <a:pt x="1092" y="249"/>
                  </a:lnTo>
                  <a:lnTo>
                    <a:pt x="1087" y="263"/>
                  </a:lnTo>
                  <a:lnTo>
                    <a:pt x="1087" y="277"/>
                  </a:lnTo>
                  <a:lnTo>
                    <a:pt x="1077" y="297"/>
                  </a:lnTo>
                  <a:lnTo>
                    <a:pt x="1072" y="320"/>
                  </a:lnTo>
                  <a:lnTo>
                    <a:pt x="1063" y="344"/>
                  </a:lnTo>
                  <a:lnTo>
                    <a:pt x="1053" y="373"/>
                  </a:lnTo>
                  <a:lnTo>
                    <a:pt x="1039" y="407"/>
                  </a:lnTo>
                  <a:lnTo>
                    <a:pt x="1025" y="440"/>
                  </a:lnTo>
                  <a:lnTo>
                    <a:pt x="1005" y="474"/>
                  </a:lnTo>
                  <a:lnTo>
                    <a:pt x="986" y="507"/>
                  </a:lnTo>
                  <a:lnTo>
                    <a:pt x="967" y="541"/>
                  </a:lnTo>
                  <a:lnTo>
                    <a:pt x="943" y="574"/>
                  </a:lnTo>
                  <a:lnTo>
                    <a:pt x="919" y="608"/>
                  </a:lnTo>
                  <a:lnTo>
                    <a:pt x="895" y="641"/>
                  </a:lnTo>
                  <a:lnTo>
                    <a:pt x="866" y="670"/>
                  </a:lnTo>
                  <a:lnTo>
                    <a:pt x="838" y="704"/>
                  </a:lnTo>
                  <a:lnTo>
                    <a:pt x="809" y="732"/>
                  </a:lnTo>
                  <a:lnTo>
                    <a:pt x="785" y="756"/>
                  </a:lnTo>
                  <a:lnTo>
                    <a:pt x="756" y="785"/>
                  </a:lnTo>
                  <a:lnTo>
                    <a:pt x="728" y="809"/>
                  </a:lnTo>
                  <a:lnTo>
                    <a:pt x="699" y="828"/>
                  </a:lnTo>
                  <a:lnTo>
                    <a:pt x="670" y="852"/>
                  </a:lnTo>
                  <a:lnTo>
                    <a:pt x="641" y="871"/>
                  </a:lnTo>
                  <a:lnTo>
                    <a:pt x="617" y="886"/>
                  </a:lnTo>
                  <a:lnTo>
                    <a:pt x="593" y="900"/>
                  </a:lnTo>
                  <a:lnTo>
                    <a:pt x="570" y="914"/>
                  </a:lnTo>
                  <a:lnTo>
                    <a:pt x="555" y="919"/>
                  </a:lnTo>
                  <a:lnTo>
                    <a:pt x="536" y="929"/>
                  </a:lnTo>
                  <a:lnTo>
                    <a:pt x="526" y="929"/>
                  </a:lnTo>
                  <a:lnTo>
                    <a:pt x="517" y="929"/>
                  </a:lnTo>
                  <a:lnTo>
                    <a:pt x="512" y="929"/>
                  </a:lnTo>
                  <a:close/>
                  <a:moveTo>
                    <a:pt x="349" y="124"/>
                  </a:moveTo>
                  <a:lnTo>
                    <a:pt x="330" y="105"/>
                  </a:lnTo>
                  <a:lnTo>
                    <a:pt x="311" y="86"/>
                  </a:lnTo>
                  <a:lnTo>
                    <a:pt x="297" y="71"/>
                  </a:lnTo>
                  <a:lnTo>
                    <a:pt x="282" y="57"/>
                  </a:lnTo>
                  <a:lnTo>
                    <a:pt x="277" y="43"/>
                  </a:lnTo>
                  <a:lnTo>
                    <a:pt x="268" y="28"/>
                  </a:lnTo>
                  <a:lnTo>
                    <a:pt x="263" y="19"/>
                  </a:lnTo>
                  <a:lnTo>
                    <a:pt x="263" y="9"/>
                  </a:lnTo>
                  <a:lnTo>
                    <a:pt x="297" y="9"/>
                  </a:lnTo>
                  <a:lnTo>
                    <a:pt x="335" y="14"/>
                  </a:lnTo>
                  <a:lnTo>
                    <a:pt x="373" y="19"/>
                  </a:lnTo>
                  <a:lnTo>
                    <a:pt x="411" y="24"/>
                  </a:lnTo>
                  <a:lnTo>
                    <a:pt x="440" y="33"/>
                  </a:lnTo>
                  <a:lnTo>
                    <a:pt x="455" y="38"/>
                  </a:lnTo>
                  <a:lnTo>
                    <a:pt x="469" y="43"/>
                  </a:lnTo>
                  <a:lnTo>
                    <a:pt x="479" y="47"/>
                  </a:lnTo>
                  <a:lnTo>
                    <a:pt x="488" y="57"/>
                  </a:lnTo>
                  <a:lnTo>
                    <a:pt x="498" y="67"/>
                  </a:lnTo>
                  <a:lnTo>
                    <a:pt x="507" y="71"/>
                  </a:lnTo>
                  <a:lnTo>
                    <a:pt x="512" y="86"/>
                  </a:lnTo>
                  <a:lnTo>
                    <a:pt x="517" y="95"/>
                  </a:lnTo>
                  <a:lnTo>
                    <a:pt x="517" y="105"/>
                  </a:lnTo>
                  <a:lnTo>
                    <a:pt x="517" y="115"/>
                  </a:lnTo>
                  <a:lnTo>
                    <a:pt x="517" y="138"/>
                  </a:lnTo>
                  <a:lnTo>
                    <a:pt x="512" y="158"/>
                  </a:lnTo>
                  <a:lnTo>
                    <a:pt x="507" y="167"/>
                  </a:lnTo>
                  <a:lnTo>
                    <a:pt x="502" y="177"/>
                  </a:lnTo>
                  <a:lnTo>
                    <a:pt x="493" y="186"/>
                  </a:lnTo>
                  <a:lnTo>
                    <a:pt x="488" y="191"/>
                  </a:lnTo>
                  <a:lnTo>
                    <a:pt x="483" y="196"/>
                  </a:lnTo>
                  <a:lnTo>
                    <a:pt x="474" y="201"/>
                  </a:lnTo>
                  <a:lnTo>
                    <a:pt x="469" y="201"/>
                  </a:lnTo>
                  <a:lnTo>
                    <a:pt x="464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5" y="186"/>
                  </a:lnTo>
                  <a:lnTo>
                    <a:pt x="421" y="182"/>
                  </a:lnTo>
                  <a:lnTo>
                    <a:pt x="407" y="167"/>
                  </a:lnTo>
                  <a:lnTo>
                    <a:pt x="392" y="158"/>
                  </a:lnTo>
                  <a:lnTo>
                    <a:pt x="373" y="143"/>
                  </a:lnTo>
                  <a:lnTo>
                    <a:pt x="349" y="124"/>
                  </a:lnTo>
                  <a:close/>
                  <a:moveTo>
                    <a:pt x="297" y="306"/>
                  </a:moveTo>
                  <a:lnTo>
                    <a:pt x="316" y="311"/>
                  </a:lnTo>
                  <a:lnTo>
                    <a:pt x="325" y="320"/>
                  </a:lnTo>
                  <a:lnTo>
                    <a:pt x="340" y="330"/>
                  </a:lnTo>
                  <a:lnTo>
                    <a:pt x="349" y="335"/>
                  </a:lnTo>
                  <a:lnTo>
                    <a:pt x="359" y="344"/>
                  </a:lnTo>
                  <a:lnTo>
                    <a:pt x="368" y="354"/>
                  </a:lnTo>
                  <a:lnTo>
                    <a:pt x="373" y="364"/>
                  </a:lnTo>
                  <a:lnTo>
                    <a:pt x="378" y="373"/>
                  </a:lnTo>
                  <a:lnTo>
                    <a:pt x="378" y="383"/>
                  </a:lnTo>
                  <a:lnTo>
                    <a:pt x="378" y="397"/>
                  </a:lnTo>
                  <a:lnTo>
                    <a:pt x="378" y="416"/>
                  </a:lnTo>
                  <a:lnTo>
                    <a:pt x="378" y="421"/>
                  </a:lnTo>
                  <a:lnTo>
                    <a:pt x="373" y="431"/>
                  </a:lnTo>
                  <a:lnTo>
                    <a:pt x="368" y="435"/>
                  </a:lnTo>
                  <a:lnTo>
                    <a:pt x="368" y="440"/>
                  </a:lnTo>
                  <a:lnTo>
                    <a:pt x="354" y="450"/>
                  </a:lnTo>
                  <a:lnTo>
                    <a:pt x="344" y="459"/>
                  </a:lnTo>
                  <a:lnTo>
                    <a:pt x="330" y="464"/>
                  </a:lnTo>
                  <a:lnTo>
                    <a:pt x="325" y="464"/>
                  </a:lnTo>
                  <a:lnTo>
                    <a:pt x="320" y="464"/>
                  </a:lnTo>
                  <a:lnTo>
                    <a:pt x="311" y="459"/>
                  </a:lnTo>
                  <a:lnTo>
                    <a:pt x="301" y="455"/>
                  </a:lnTo>
                  <a:lnTo>
                    <a:pt x="292" y="445"/>
                  </a:lnTo>
                  <a:lnTo>
                    <a:pt x="277" y="435"/>
                  </a:lnTo>
                  <a:lnTo>
                    <a:pt x="263" y="426"/>
                  </a:lnTo>
                  <a:lnTo>
                    <a:pt x="249" y="411"/>
                  </a:lnTo>
                  <a:lnTo>
                    <a:pt x="229" y="397"/>
                  </a:lnTo>
                  <a:lnTo>
                    <a:pt x="210" y="383"/>
                  </a:lnTo>
                  <a:lnTo>
                    <a:pt x="196" y="368"/>
                  </a:lnTo>
                  <a:lnTo>
                    <a:pt x="182" y="349"/>
                  </a:lnTo>
                  <a:lnTo>
                    <a:pt x="172" y="335"/>
                  </a:lnTo>
                  <a:lnTo>
                    <a:pt x="162" y="320"/>
                  </a:lnTo>
                  <a:lnTo>
                    <a:pt x="158" y="306"/>
                  </a:lnTo>
                  <a:lnTo>
                    <a:pt x="153" y="292"/>
                  </a:lnTo>
                  <a:lnTo>
                    <a:pt x="153" y="282"/>
                  </a:lnTo>
                  <a:lnTo>
                    <a:pt x="196" y="282"/>
                  </a:lnTo>
                  <a:lnTo>
                    <a:pt x="215" y="282"/>
                  </a:lnTo>
                  <a:lnTo>
                    <a:pt x="234" y="287"/>
                  </a:lnTo>
                  <a:lnTo>
                    <a:pt x="253" y="292"/>
                  </a:lnTo>
                  <a:lnTo>
                    <a:pt x="268" y="297"/>
                  </a:lnTo>
                  <a:lnTo>
                    <a:pt x="282" y="301"/>
                  </a:lnTo>
                  <a:lnTo>
                    <a:pt x="297" y="306"/>
                  </a:lnTo>
                  <a:close/>
                  <a:moveTo>
                    <a:pt x="737" y="287"/>
                  </a:moveTo>
                  <a:lnTo>
                    <a:pt x="756" y="311"/>
                  </a:lnTo>
                  <a:lnTo>
                    <a:pt x="761" y="320"/>
                  </a:lnTo>
                  <a:lnTo>
                    <a:pt x="771" y="330"/>
                  </a:lnTo>
                  <a:lnTo>
                    <a:pt x="775" y="344"/>
                  </a:lnTo>
                  <a:lnTo>
                    <a:pt x="780" y="354"/>
                  </a:lnTo>
                  <a:lnTo>
                    <a:pt x="780" y="368"/>
                  </a:lnTo>
                  <a:lnTo>
                    <a:pt x="780" y="383"/>
                  </a:lnTo>
                  <a:lnTo>
                    <a:pt x="780" y="392"/>
                  </a:lnTo>
                  <a:lnTo>
                    <a:pt x="780" y="407"/>
                  </a:lnTo>
                  <a:lnTo>
                    <a:pt x="775" y="421"/>
                  </a:lnTo>
                  <a:lnTo>
                    <a:pt x="771" y="435"/>
                  </a:lnTo>
                  <a:lnTo>
                    <a:pt x="756" y="469"/>
                  </a:lnTo>
                  <a:lnTo>
                    <a:pt x="737" y="507"/>
                  </a:lnTo>
                  <a:lnTo>
                    <a:pt x="728" y="522"/>
                  </a:lnTo>
                  <a:lnTo>
                    <a:pt x="718" y="536"/>
                  </a:lnTo>
                  <a:lnTo>
                    <a:pt x="708" y="550"/>
                  </a:lnTo>
                  <a:lnTo>
                    <a:pt x="704" y="560"/>
                  </a:lnTo>
                  <a:lnTo>
                    <a:pt x="694" y="570"/>
                  </a:lnTo>
                  <a:lnTo>
                    <a:pt x="689" y="574"/>
                  </a:lnTo>
                  <a:lnTo>
                    <a:pt x="680" y="579"/>
                  </a:lnTo>
                  <a:lnTo>
                    <a:pt x="670" y="579"/>
                  </a:lnTo>
                  <a:lnTo>
                    <a:pt x="665" y="574"/>
                  </a:lnTo>
                  <a:lnTo>
                    <a:pt x="661" y="574"/>
                  </a:lnTo>
                  <a:lnTo>
                    <a:pt x="656" y="570"/>
                  </a:lnTo>
                  <a:lnTo>
                    <a:pt x="651" y="555"/>
                  </a:lnTo>
                  <a:lnTo>
                    <a:pt x="641" y="536"/>
                  </a:lnTo>
                  <a:lnTo>
                    <a:pt x="637" y="522"/>
                  </a:lnTo>
                  <a:lnTo>
                    <a:pt x="632" y="502"/>
                  </a:lnTo>
                  <a:lnTo>
                    <a:pt x="627" y="488"/>
                  </a:lnTo>
                  <a:lnTo>
                    <a:pt x="627" y="483"/>
                  </a:lnTo>
                  <a:lnTo>
                    <a:pt x="627" y="479"/>
                  </a:lnTo>
                  <a:lnTo>
                    <a:pt x="627" y="474"/>
                  </a:lnTo>
                  <a:lnTo>
                    <a:pt x="632" y="469"/>
                  </a:lnTo>
                  <a:lnTo>
                    <a:pt x="632" y="464"/>
                  </a:lnTo>
                  <a:lnTo>
                    <a:pt x="637" y="459"/>
                  </a:lnTo>
                  <a:lnTo>
                    <a:pt x="646" y="455"/>
                  </a:lnTo>
                  <a:lnTo>
                    <a:pt x="651" y="445"/>
                  </a:lnTo>
                  <a:lnTo>
                    <a:pt x="661" y="440"/>
                  </a:lnTo>
                  <a:lnTo>
                    <a:pt x="665" y="431"/>
                  </a:lnTo>
                  <a:lnTo>
                    <a:pt x="675" y="421"/>
                  </a:lnTo>
                  <a:lnTo>
                    <a:pt x="684" y="407"/>
                  </a:lnTo>
                  <a:lnTo>
                    <a:pt x="694" y="388"/>
                  </a:lnTo>
                  <a:lnTo>
                    <a:pt x="704" y="368"/>
                  </a:lnTo>
                  <a:lnTo>
                    <a:pt x="713" y="344"/>
                  </a:lnTo>
                  <a:lnTo>
                    <a:pt x="728" y="320"/>
                  </a:lnTo>
                  <a:lnTo>
                    <a:pt x="737" y="287"/>
                  </a:lnTo>
                  <a:close/>
                  <a:moveTo>
                    <a:pt x="263" y="938"/>
                  </a:moveTo>
                  <a:lnTo>
                    <a:pt x="258" y="938"/>
                  </a:lnTo>
                  <a:lnTo>
                    <a:pt x="249" y="934"/>
                  </a:lnTo>
                  <a:lnTo>
                    <a:pt x="244" y="929"/>
                  </a:lnTo>
                  <a:lnTo>
                    <a:pt x="234" y="919"/>
                  </a:lnTo>
                  <a:lnTo>
                    <a:pt x="229" y="910"/>
                  </a:lnTo>
                  <a:lnTo>
                    <a:pt x="220" y="890"/>
                  </a:lnTo>
                  <a:lnTo>
                    <a:pt x="210" y="876"/>
                  </a:lnTo>
                  <a:lnTo>
                    <a:pt x="206" y="852"/>
                  </a:lnTo>
                  <a:lnTo>
                    <a:pt x="196" y="833"/>
                  </a:lnTo>
                  <a:lnTo>
                    <a:pt x="186" y="814"/>
                  </a:lnTo>
                  <a:lnTo>
                    <a:pt x="182" y="799"/>
                  </a:lnTo>
                  <a:lnTo>
                    <a:pt x="177" y="785"/>
                  </a:lnTo>
                  <a:lnTo>
                    <a:pt x="177" y="771"/>
                  </a:lnTo>
                  <a:lnTo>
                    <a:pt x="172" y="761"/>
                  </a:lnTo>
                  <a:lnTo>
                    <a:pt x="177" y="752"/>
                  </a:lnTo>
                  <a:lnTo>
                    <a:pt x="177" y="747"/>
                  </a:lnTo>
                  <a:lnTo>
                    <a:pt x="182" y="737"/>
                  </a:lnTo>
                  <a:lnTo>
                    <a:pt x="191" y="732"/>
                  </a:lnTo>
                  <a:lnTo>
                    <a:pt x="201" y="732"/>
                  </a:lnTo>
                  <a:lnTo>
                    <a:pt x="210" y="728"/>
                  </a:lnTo>
                  <a:lnTo>
                    <a:pt x="220" y="732"/>
                  </a:lnTo>
                  <a:lnTo>
                    <a:pt x="225" y="732"/>
                  </a:lnTo>
                  <a:lnTo>
                    <a:pt x="239" y="732"/>
                  </a:lnTo>
                  <a:lnTo>
                    <a:pt x="249" y="728"/>
                  </a:lnTo>
                  <a:lnTo>
                    <a:pt x="263" y="723"/>
                  </a:lnTo>
                  <a:lnTo>
                    <a:pt x="268" y="718"/>
                  </a:lnTo>
                  <a:lnTo>
                    <a:pt x="277" y="708"/>
                  </a:lnTo>
                  <a:lnTo>
                    <a:pt x="292" y="699"/>
                  </a:lnTo>
                  <a:lnTo>
                    <a:pt x="306" y="680"/>
                  </a:lnTo>
                  <a:lnTo>
                    <a:pt x="330" y="661"/>
                  </a:lnTo>
                  <a:lnTo>
                    <a:pt x="354" y="641"/>
                  </a:lnTo>
                  <a:lnTo>
                    <a:pt x="378" y="613"/>
                  </a:lnTo>
                  <a:lnTo>
                    <a:pt x="392" y="598"/>
                  </a:lnTo>
                  <a:lnTo>
                    <a:pt x="411" y="579"/>
                  </a:lnTo>
                  <a:lnTo>
                    <a:pt x="426" y="565"/>
                  </a:lnTo>
                  <a:lnTo>
                    <a:pt x="440" y="546"/>
                  </a:lnTo>
                  <a:lnTo>
                    <a:pt x="469" y="522"/>
                  </a:lnTo>
                  <a:lnTo>
                    <a:pt x="493" y="498"/>
                  </a:lnTo>
                  <a:lnTo>
                    <a:pt x="512" y="479"/>
                  </a:lnTo>
                  <a:lnTo>
                    <a:pt x="531" y="469"/>
                  </a:lnTo>
                  <a:lnTo>
                    <a:pt x="541" y="459"/>
                  </a:lnTo>
                  <a:lnTo>
                    <a:pt x="550" y="455"/>
                  </a:lnTo>
                  <a:lnTo>
                    <a:pt x="555" y="455"/>
                  </a:lnTo>
                  <a:lnTo>
                    <a:pt x="560" y="459"/>
                  </a:lnTo>
                  <a:lnTo>
                    <a:pt x="560" y="464"/>
                  </a:lnTo>
                  <a:lnTo>
                    <a:pt x="555" y="469"/>
                  </a:lnTo>
                  <a:lnTo>
                    <a:pt x="555" y="474"/>
                  </a:lnTo>
                  <a:lnTo>
                    <a:pt x="550" y="483"/>
                  </a:lnTo>
                  <a:lnTo>
                    <a:pt x="546" y="498"/>
                  </a:lnTo>
                  <a:lnTo>
                    <a:pt x="541" y="507"/>
                  </a:lnTo>
                  <a:lnTo>
                    <a:pt x="536" y="522"/>
                  </a:lnTo>
                  <a:lnTo>
                    <a:pt x="526" y="536"/>
                  </a:lnTo>
                  <a:lnTo>
                    <a:pt x="517" y="555"/>
                  </a:lnTo>
                  <a:lnTo>
                    <a:pt x="507" y="574"/>
                  </a:lnTo>
                  <a:lnTo>
                    <a:pt x="498" y="598"/>
                  </a:lnTo>
                  <a:lnTo>
                    <a:pt x="483" y="617"/>
                  </a:lnTo>
                  <a:lnTo>
                    <a:pt x="469" y="641"/>
                  </a:lnTo>
                  <a:lnTo>
                    <a:pt x="455" y="670"/>
                  </a:lnTo>
                  <a:lnTo>
                    <a:pt x="435" y="694"/>
                  </a:lnTo>
                  <a:lnTo>
                    <a:pt x="421" y="723"/>
                  </a:lnTo>
                  <a:lnTo>
                    <a:pt x="402" y="752"/>
                  </a:lnTo>
                  <a:lnTo>
                    <a:pt x="388" y="775"/>
                  </a:lnTo>
                  <a:lnTo>
                    <a:pt x="373" y="799"/>
                  </a:lnTo>
                  <a:lnTo>
                    <a:pt x="359" y="819"/>
                  </a:lnTo>
                  <a:lnTo>
                    <a:pt x="344" y="838"/>
                  </a:lnTo>
                  <a:lnTo>
                    <a:pt x="335" y="857"/>
                  </a:lnTo>
                  <a:lnTo>
                    <a:pt x="320" y="871"/>
                  </a:lnTo>
                  <a:lnTo>
                    <a:pt x="311" y="886"/>
                  </a:lnTo>
                  <a:lnTo>
                    <a:pt x="301" y="900"/>
                  </a:lnTo>
                  <a:lnTo>
                    <a:pt x="292" y="910"/>
                  </a:lnTo>
                  <a:lnTo>
                    <a:pt x="287" y="919"/>
                  </a:lnTo>
                  <a:lnTo>
                    <a:pt x="277" y="924"/>
                  </a:lnTo>
                  <a:lnTo>
                    <a:pt x="273" y="929"/>
                  </a:lnTo>
                  <a:lnTo>
                    <a:pt x="268" y="934"/>
                  </a:lnTo>
                  <a:lnTo>
                    <a:pt x="263" y="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"/>
            <p:cNvSpPr/>
            <p:nvPr/>
          </p:nvSpPr>
          <p:spPr>
            <a:xfrm>
              <a:off x="4783680" y="2439720"/>
              <a:ext cx="938520" cy="1082520"/>
            </a:xfrm>
            <a:custGeom>
              <a:avLst/>
              <a:gdLst/>
              <a:ahLst/>
              <a:rect l="l" t="t" r="r" b="b"/>
              <a:pathLst>
                <a:path w="776" h="895">
                  <a:moveTo>
                    <a:pt x="412" y="704"/>
                  </a:moveTo>
                  <a:lnTo>
                    <a:pt x="417" y="704"/>
                  </a:lnTo>
                  <a:lnTo>
                    <a:pt x="421" y="699"/>
                  </a:lnTo>
                  <a:lnTo>
                    <a:pt x="426" y="694"/>
                  </a:lnTo>
                  <a:lnTo>
                    <a:pt x="431" y="689"/>
                  </a:lnTo>
                  <a:lnTo>
                    <a:pt x="436" y="680"/>
                  </a:lnTo>
                  <a:lnTo>
                    <a:pt x="440" y="670"/>
                  </a:lnTo>
                  <a:lnTo>
                    <a:pt x="450" y="661"/>
                  </a:lnTo>
                  <a:lnTo>
                    <a:pt x="455" y="651"/>
                  </a:lnTo>
                  <a:lnTo>
                    <a:pt x="460" y="637"/>
                  </a:lnTo>
                  <a:lnTo>
                    <a:pt x="464" y="622"/>
                  </a:lnTo>
                  <a:lnTo>
                    <a:pt x="474" y="608"/>
                  </a:lnTo>
                  <a:lnTo>
                    <a:pt x="479" y="589"/>
                  </a:lnTo>
                  <a:lnTo>
                    <a:pt x="484" y="574"/>
                  </a:lnTo>
                  <a:lnTo>
                    <a:pt x="493" y="555"/>
                  </a:lnTo>
                  <a:lnTo>
                    <a:pt x="508" y="512"/>
                  </a:lnTo>
                  <a:lnTo>
                    <a:pt x="522" y="474"/>
                  </a:lnTo>
                  <a:lnTo>
                    <a:pt x="536" y="435"/>
                  </a:lnTo>
                  <a:lnTo>
                    <a:pt x="546" y="397"/>
                  </a:lnTo>
                  <a:lnTo>
                    <a:pt x="555" y="364"/>
                  </a:lnTo>
                  <a:lnTo>
                    <a:pt x="560" y="335"/>
                  </a:lnTo>
                  <a:lnTo>
                    <a:pt x="570" y="301"/>
                  </a:lnTo>
                  <a:lnTo>
                    <a:pt x="575" y="273"/>
                  </a:lnTo>
                  <a:lnTo>
                    <a:pt x="575" y="249"/>
                  </a:lnTo>
                  <a:lnTo>
                    <a:pt x="579" y="225"/>
                  </a:lnTo>
                  <a:lnTo>
                    <a:pt x="579" y="206"/>
                  </a:lnTo>
                  <a:lnTo>
                    <a:pt x="579" y="191"/>
                  </a:lnTo>
                  <a:lnTo>
                    <a:pt x="579" y="172"/>
                  </a:lnTo>
                  <a:lnTo>
                    <a:pt x="575" y="162"/>
                  </a:lnTo>
                  <a:lnTo>
                    <a:pt x="575" y="148"/>
                  </a:lnTo>
                  <a:lnTo>
                    <a:pt x="570" y="138"/>
                  </a:lnTo>
                  <a:lnTo>
                    <a:pt x="570" y="134"/>
                  </a:lnTo>
                  <a:lnTo>
                    <a:pt x="560" y="124"/>
                  </a:lnTo>
                  <a:lnTo>
                    <a:pt x="551" y="119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8" y="115"/>
                  </a:lnTo>
                  <a:lnTo>
                    <a:pt x="493" y="115"/>
                  </a:lnTo>
                  <a:lnTo>
                    <a:pt x="479" y="119"/>
                  </a:lnTo>
                  <a:lnTo>
                    <a:pt x="460" y="119"/>
                  </a:lnTo>
                  <a:lnTo>
                    <a:pt x="440" y="124"/>
                  </a:lnTo>
                  <a:lnTo>
                    <a:pt x="421" y="129"/>
                  </a:lnTo>
                  <a:lnTo>
                    <a:pt x="397" y="134"/>
                  </a:lnTo>
                  <a:lnTo>
                    <a:pt x="369" y="138"/>
                  </a:lnTo>
                  <a:lnTo>
                    <a:pt x="311" y="153"/>
                  </a:lnTo>
                  <a:lnTo>
                    <a:pt x="287" y="158"/>
                  </a:lnTo>
                  <a:lnTo>
                    <a:pt x="258" y="162"/>
                  </a:lnTo>
                  <a:lnTo>
                    <a:pt x="235" y="167"/>
                  </a:lnTo>
                  <a:lnTo>
                    <a:pt x="211" y="172"/>
                  </a:lnTo>
                  <a:lnTo>
                    <a:pt x="191" y="177"/>
                  </a:lnTo>
                  <a:lnTo>
                    <a:pt x="172" y="182"/>
                  </a:lnTo>
                  <a:lnTo>
                    <a:pt x="153" y="186"/>
                  </a:lnTo>
                  <a:lnTo>
                    <a:pt x="134" y="191"/>
                  </a:lnTo>
                  <a:lnTo>
                    <a:pt x="115" y="191"/>
                  </a:lnTo>
                  <a:lnTo>
                    <a:pt x="100" y="196"/>
                  </a:lnTo>
                  <a:lnTo>
                    <a:pt x="86" y="191"/>
                  </a:lnTo>
                  <a:lnTo>
                    <a:pt x="72" y="191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7"/>
                  </a:lnTo>
                  <a:lnTo>
                    <a:pt x="29" y="172"/>
                  </a:lnTo>
                  <a:lnTo>
                    <a:pt x="19" y="167"/>
                  </a:lnTo>
                  <a:lnTo>
                    <a:pt x="9" y="162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9" y="138"/>
                  </a:lnTo>
                  <a:lnTo>
                    <a:pt x="19" y="138"/>
                  </a:lnTo>
                  <a:lnTo>
                    <a:pt x="33" y="138"/>
                  </a:lnTo>
                  <a:lnTo>
                    <a:pt x="43" y="134"/>
                  </a:lnTo>
                  <a:lnTo>
                    <a:pt x="57" y="134"/>
                  </a:lnTo>
                  <a:lnTo>
                    <a:pt x="76" y="129"/>
                  </a:lnTo>
                  <a:lnTo>
                    <a:pt x="91" y="129"/>
                  </a:lnTo>
                  <a:lnTo>
                    <a:pt x="110" y="124"/>
                  </a:lnTo>
                  <a:lnTo>
                    <a:pt x="134" y="119"/>
                  </a:lnTo>
                  <a:lnTo>
                    <a:pt x="158" y="115"/>
                  </a:lnTo>
                  <a:lnTo>
                    <a:pt x="182" y="110"/>
                  </a:lnTo>
                  <a:lnTo>
                    <a:pt x="206" y="105"/>
                  </a:lnTo>
                  <a:lnTo>
                    <a:pt x="235" y="95"/>
                  </a:lnTo>
                  <a:lnTo>
                    <a:pt x="263" y="91"/>
                  </a:lnTo>
                  <a:lnTo>
                    <a:pt x="292" y="81"/>
                  </a:lnTo>
                  <a:lnTo>
                    <a:pt x="321" y="76"/>
                  </a:lnTo>
                  <a:lnTo>
                    <a:pt x="349" y="71"/>
                  </a:lnTo>
                  <a:lnTo>
                    <a:pt x="373" y="62"/>
                  </a:lnTo>
                  <a:lnTo>
                    <a:pt x="402" y="57"/>
                  </a:lnTo>
                  <a:lnTo>
                    <a:pt x="421" y="52"/>
                  </a:lnTo>
                  <a:lnTo>
                    <a:pt x="445" y="47"/>
                  </a:lnTo>
                  <a:lnTo>
                    <a:pt x="464" y="43"/>
                  </a:lnTo>
                  <a:lnTo>
                    <a:pt x="479" y="38"/>
                  </a:lnTo>
                  <a:lnTo>
                    <a:pt x="493" y="33"/>
                  </a:lnTo>
                  <a:lnTo>
                    <a:pt x="508" y="33"/>
                  </a:lnTo>
                  <a:lnTo>
                    <a:pt x="517" y="28"/>
                  </a:lnTo>
                  <a:lnTo>
                    <a:pt x="531" y="24"/>
                  </a:lnTo>
                  <a:lnTo>
                    <a:pt x="536" y="24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1" y="14"/>
                  </a:lnTo>
                  <a:lnTo>
                    <a:pt x="560" y="9"/>
                  </a:lnTo>
                  <a:lnTo>
                    <a:pt x="570" y="4"/>
                  </a:lnTo>
                  <a:lnTo>
                    <a:pt x="579" y="0"/>
                  </a:lnTo>
                  <a:lnTo>
                    <a:pt x="594" y="0"/>
                  </a:lnTo>
                  <a:lnTo>
                    <a:pt x="599" y="0"/>
                  </a:lnTo>
                  <a:lnTo>
                    <a:pt x="603" y="4"/>
                  </a:lnTo>
                  <a:lnTo>
                    <a:pt x="613" y="4"/>
                  </a:lnTo>
                  <a:lnTo>
                    <a:pt x="627" y="9"/>
                  </a:lnTo>
                  <a:lnTo>
                    <a:pt x="642" y="19"/>
                  </a:lnTo>
                  <a:lnTo>
                    <a:pt x="656" y="28"/>
                  </a:lnTo>
                  <a:lnTo>
                    <a:pt x="675" y="38"/>
                  </a:lnTo>
                  <a:lnTo>
                    <a:pt x="699" y="47"/>
                  </a:lnTo>
                  <a:lnTo>
                    <a:pt x="713" y="62"/>
                  </a:lnTo>
                  <a:lnTo>
                    <a:pt x="733" y="71"/>
                  </a:lnTo>
                  <a:lnTo>
                    <a:pt x="742" y="81"/>
                  </a:lnTo>
                  <a:lnTo>
                    <a:pt x="757" y="91"/>
                  </a:lnTo>
                  <a:lnTo>
                    <a:pt x="761" y="100"/>
                  </a:lnTo>
                  <a:lnTo>
                    <a:pt x="771" y="105"/>
                  </a:lnTo>
                  <a:lnTo>
                    <a:pt x="776" y="110"/>
                  </a:lnTo>
                  <a:lnTo>
                    <a:pt x="776" y="115"/>
                  </a:lnTo>
                  <a:lnTo>
                    <a:pt x="771" y="124"/>
                  </a:lnTo>
                  <a:lnTo>
                    <a:pt x="766" y="134"/>
                  </a:lnTo>
                  <a:lnTo>
                    <a:pt x="761" y="143"/>
                  </a:lnTo>
                  <a:lnTo>
                    <a:pt x="747" y="148"/>
                  </a:lnTo>
                  <a:lnTo>
                    <a:pt x="737" y="153"/>
                  </a:lnTo>
                  <a:lnTo>
                    <a:pt x="733" y="162"/>
                  </a:lnTo>
                  <a:lnTo>
                    <a:pt x="728" y="172"/>
                  </a:lnTo>
                  <a:lnTo>
                    <a:pt x="723" y="186"/>
                  </a:lnTo>
                  <a:lnTo>
                    <a:pt x="718" y="201"/>
                  </a:lnTo>
                  <a:lnTo>
                    <a:pt x="713" y="220"/>
                  </a:lnTo>
                  <a:lnTo>
                    <a:pt x="709" y="239"/>
                  </a:lnTo>
                  <a:lnTo>
                    <a:pt x="704" y="263"/>
                  </a:lnTo>
                  <a:lnTo>
                    <a:pt x="699" y="292"/>
                  </a:lnTo>
                  <a:lnTo>
                    <a:pt x="694" y="320"/>
                  </a:lnTo>
                  <a:lnTo>
                    <a:pt x="685" y="354"/>
                  </a:lnTo>
                  <a:lnTo>
                    <a:pt x="675" y="388"/>
                  </a:lnTo>
                  <a:lnTo>
                    <a:pt x="661" y="431"/>
                  </a:lnTo>
                  <a:lnTo>
                    <a:pt x="651" y="474"/>
                  </a:lnTo>
                  <a:lnTo>
                    <a:pt x="637" y="522"/>
                  </a:lnTo>
                  <a:lnTo>
                    <a:pt x="618" y="570"/>
                  </a:lnTo>
                  <a:lnTo>
                    <a:pt x="613" y="598"/>
                  </a:lnTo>
                  <a:lnTo>
                    <a:pt x="603" y="622"/>
                  </a:lnTo>
                  <a:lnTo>
                    <a:pt x="594" y="646"/>
                  </a:lnTo>
                  <a:lnTo>
                    <a:pt x="589" y="665"/>
                  </a:lnTo>
                  <a:lnTo>
                    <a:pt x="579" y="689"/>
                  </a:lnTo>
                  <a:lnTo>
                    <a:pt x="570" y="708"/>
                  </a:lnTo>
                  <a:lnTo>
                    <a:pt x="565" y="728"/>
                  </a:lnTo>
                  <a:lnTo>
                    <a:pt x="555" y="747"/>
                  </a:lnTo>
                  <a:lnTo>
                    <a:pt x="546" y="761"/>
                  </a:lnTo>
                  <a:lnTo>
                    <a:pt x="541" y="775"/>
                  </a:lnTo>
                  <a:lnTo>
                    <a:pt x="531" y="790"/>
                  </a:lnTo>
                  <a:lnTo>
                    <a:pt x="527" y="799"/>
                  </a:lnTo>
                  <a:lnTo>
                    <a:pt x="517" y="814"/>
                  </a:lnTo>
                  <a:lnTo>
                    <a:pt x="512" y="823"/>
                  </a:lnTo>
                  <a:lnTo>
                    <a:pt x="503" y="828"/>
                  </a:lnTo>
                  <a:lnTo>
                    <a:pt x="498" y="838"/>
                  </a:lnTo>
                  <a:lnTo>
                    <a:pt x="484" y="852"/>
                  </a:lnTo>
                  <a:lnTo>
                    <a:pt x="469" y="862"/>
                  </a:lnTo>
                  <a:lnTo>
                    <a:pt x="455" y="871"/>
                  </a:lnTo>
                  <a:lnTo>
                    <a:pt x="445" y="881"/>
                  </a:lnTo>
                  <a:lnTo>
                    <a:pt x="436" y="886"/>
                  </a:lnTo>
                  <a:lnTo>
                    <a:pt x="426" y="890"/>
                  </a:lnTo>
                  <a:lnTo>
                    <a:pt x="421" y="895"/>
                  </a:lnTo>
                  <a:lnTo>
                    <a:pt x="412" y="895"/>
                  </a:lnTo>
                  <a:lnTo>
                    <a:pt x="407" y="895"/>
                  </a:lnTo>
                  <a:lnTo>
                    <a:pt x="402" y="890"/>
                  </a:lnTo>
                  <a:lnTo>
                    <a:pt x="397" y="886"/>
                  </a:lnTo>
                  <a:lnTo>
                    <a:pt x="393" y="881"/>
                  </a:lnTo>
                  <a:lnTo>
                    <a:pt x="388" y="876"/>
                  </a:lnTo>
                  <a:lnTo>
                    <a:pt x="383" y="866"/>
                  </a:lnTo>
                  <a:lnTo>
                    <a:pt x="383" y="857"/>
                  </a:lnTo>
                  <a:lnTo>
                    <a:pt x="378" y="847"/>
                  </a:lnTo>
                  <a:lnTo>
                    <a:pt x="373" y="833"/>
                  </a:lnTo>
                  <a:lnTo>
                    <a:pt x="369" y="819"/>
                  </a:lnTo>
                  <a:lnTo>
                    <a:pt x="364" y="804"/>
                  </a:lnTo>
                  <a:lnTo>
                    <a:pt x="354" y="790"/>
                  </a:lnTo>
                  <a:lnTo>
                    <a:pt x="345" y="775"/>
                  </a:lnTo>
                  <a:lnTo>
                    <a:pt x="335" y="756"/>
                  </a:lnTo>
                  <a:lnTo>
                    <a:pt x="326" y="737"/>
                  </a:lnTo>
                  <a:lnTo>
                    <a:pt x="306" y="723"/>
                  </a:lnTo>
                  <a:lnTo>
                    <a:pt x="292" y="704"/>
                  </a:lnTo>
                  <a:lnTo>
                    <a:pt x="282" y="694"/>
                  </a:lnTo>
                  <a:lnTo>
                    <a:pt x="273" y="680"/>
                  </a:lnTo>
                  <a:lnTo>
                    <a:pt x="268" y="670"/>
                  </a:lnTo>
                  <a:lnTo>
                    <a:pt x="263" y="661"/>
                  </a:lnTo>
                  <a:lnTo>
                    <a:pt x="263" y="656"/>
                  </a:lnTo>
                  <a:lnTo>
                    <a:pt x="263" y="651"/>
                  </a:lnTo>
                  <a:lnTo>
                    <a:pt x="263" y="646"/>
                  </a:lnTo>
                  <a:lnTo>
                    <a:pt x="268" y="646"/>
                  </a:lnTo>
                  <a:lnTo>
                    <a:pt x="273" y="646"/>
                  </a:lnTo>
                  <a:lnTo>
                    <a:pt x="278" y="651"/>
                  </a:lnTo>
                  <a:lnTo>
                    <a:pt x="287" y="651"/>
                  </a:lnTo>
                  <a:lnTo>
                    <a:pt x="297" y="656"/>
                  </a:lnTo>
                  <a:lnTo>
                    <a:pt x="306" y="665"/>
                  </a:lnTo>
                  <a:lnTo>
                    <a:pt x="321" y="670"/>
                  </a:lnTo>
                  <a:lnTo>
                    <a:pt x="335" y="680"/>
                  </a:lnTo>
                  <a:lnTo>
                    <a:pt x="345" y="689"/>
                  </a:lnTo>
                  <a:lnTo>
                    <a:pt x="359" y="694"/>
                  </a:lnTo>
                  <a:lnTo>
                    <a:pt x="369" y="699"/>
                  </a:lnTo>
                  <a:lnTo>
                    <a:pt x="378" y="704"/>
                  </a:lnTo>
                  <a:lnTo>
                    <a:pt x="388" y="708"/>
                  </a:lnTo>
                  <a:lnTo>
                    <a:pt x="397" y="708"/>
                  </a:lnTo>
                  <a:lnTo>
                    <a:pt x="407" y="708"/>
                  </a:lnTo>
                  <a:lnTo>
                    <a:pt x="412" y="70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"/>
            <p:cNvSpPr/>
            <p:nvPr/>
          </p:nvSpPr>
          <p:spPr>
            <a:xfrm>
              <a:off x="5531400" y="2919960"/>
              <a:ext cx="388080" cy="219960"/>
            </a:xfrm>
            <a:custGeom>
              <a:avLst/>
              <a:gdLst/>
              <a:ahLst/>
              <a:rect l="l" t="t" r="r" b="b"/>
              <a:pathLst>
                <a:path w="321" h="182">
                  <a:moveTo>
                    <a:pt x="210" y="24"/>
                  </a:moveTo>
                  <a:lnTo>
                    <a:pt x="230" y="34"/>
                  </a:lnTo>
                  <a:lnTo>
                    <a:pt x="249" y="38"/>
                  </a:lnTo>
                  <a:lnTo>
                    <a:pt x="263" y="43"/>
                  </a:lnTo>
                  <a:lnTo>
                    <a:pt x="277" y="48"/>
                  </a:lnTo>
                  <a:lnTo>
                    <a:pt x="292" y="58"/>
                  </a:lnTo>
                  <a:lnTo>
                    <a:pt x="301" y="62"/>
                  </a:lnTo>
                  <a:lnTo>
                    <a:pt x="306" y="67"/>
                  </a:lnTo>
                  <a:lnTo>
                    <a:pt x="311" y="77"/>
                  </a:lnTo>
                  <a:lnTo>
                    <a:pt x="316" y="91"/>
                  </a:lnTo>
                  <a:lnTo>
                    <a:pt x="321" y="105"/>
                  </a:lnTo>
                  <a:lnTo>
                    <a:pt x="321" y="125"/>
                  </a:lnTo>
                  <a:lnTo>
                    <a:pt x="321" y="139"/>
                  </a:lnTo>
                  <a:lnTo>
                    <a:pt x="321" y="149"/>
                  </a:lnTo>
                  <a:lnTo>
                    <a:pt x="316" y="158"/>
                  </a:lnTo>
                  <a:lnTo>
                    <a:pt x="316" y="163"/>
                  </a:lnTo>
                  <a:lnTo>
                    <a:pt x="311" y="173"/>
                  </a:lnTo>
                  <a:lnTo>
                    <a:pt x="301" y="177"/>
                  </a:lnTo>
                  <a:lnTo>
                    <a:pt x="297" y="177"/>
                  </a:lnTo>
                  <a:lnTo>
                    <a:pt x="287" y="182"/>
                  </a:lnTo>
                  <a:lnTo>
                    <a:pt x="277" y="182"/>
                  </a:lnTo>
                  <a:lnTo>
                    <a:pt x="273" y="182"/>
                  </a:lnTo>
                  <a:lnTo>
                    <a:pt x="263" y="182"/>
                  </a:lnTo>
                  <a:lnTo>
                    <a:pt x="254" y="177"/>
                  </a:lnTo>
                  <a:lnTo>
                    <a:pt x="244" y="173"/>
                  </a:lnTo>
                  <a:lnTo>
                    <a:pt x="234" y="168"/>
                  </a:lnTo>
                  <a:lnTo>
                    <a:pt x="220" y="163"/>
                  </a:lnTo>
                  <a:lnTo>
                    <a:pt x="206" y="153"/>
                  </a:lnTo>
                  <a:lnTo>
                    <a:pt x="186" y="144"/>
                  </a:lnTo>
                  <a:lnTo>
                    <a:pt x="167" y="134"/>
                  </a:lnTo>
                  <a:lnTo>
                    <a:pt x="148" y="125"/>
                  </a:lnTo>
                  <a:lnTo>
                    <a:pt x="129" y="110"/>
                  </a:lnTo>
                  <a:lnTo>
                    <a:pt x="105" y="101"/>
                  </a:lnTo>
                  <a:lnTo>
                    <a:pt x="81" y="86"/>
                  </a:lnTo>
                  <a:lnTo>
                    <a:pt x="57" y="67"/>
                  </a:lnTo>
                  <a:lnTo>
                    <a:pt x="28" y="53"/>
                  </a:lnTo>
                  <a:lnTo>
                    <a:pt x="0" y="34"/>
                  </a:lnTo>
                  <a:lnTo>
                    <a:pt x="19" y="24"/>
                  </a:lnTo>
                  <a:lnTo>
                    <a:pt x="38" y="14"/>
                  </a:lnTo>
                  <a:lnTo>
                    <a:pt x="62" y="5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48" y="10"/>
                  </a:lnTo>
                  <a:lnTo>
                    <a:pt x="167" y="14"/>
                  </a:lnTo>
                  <a:lnTo>
                    <a:pt x="186" y="19"/>
                  </a:lnTo>
                  <a:lnTo>
                    <a:pt x="210" y="2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"/>
            <p:cNvSpPr/>
            <p:nvPr/>
          </p:nvSpPr>
          <p:spPr>
            <a:xfrm>
              <a:off x="3909240" y="3592800"/>
              <a:ext cx="2120040" cy="288720"/>
            </a:xfrm>
            <a:custGeom>
              <a:avLst/>
              <a:gdLst/>
              <a:ahLst/>
              <a:rect l="l" t="t" r="r" b="b"/>
              <a:pathLst>
                <a:path w="1753" h="239">
                  <a:moveTo>
                    <a:pt x="1542" y="0"/>
                  </a:moveTo>
                  <a:lnTo>
                    <a:pt x="1575" y="0"/>
                  </a:lnTo>
                  <a:lnTo>
                    <a:pt x="1604" y="9"/>
                  </a:lnTo>
                  <a:lnTo>
                    <a:pt x="1623" y="9"/>
                  </a:lnTo>
                  <a:lnTo>
                    <a:pt x="1638" y="19"/>
                  </a:lnTo>
                  <a:lnTo>
                    <a:pt x="1652" y="24"/>
                  </a:lnTo>
                  <a:lnTo>
                    <a:pt x="1671" y="33"/>
                  </a:lnTo>
                  <a:lnTo>
                    <a:pt x="1686" y="43"/>
                  </a:lnTo>
                  <a:lnTo>
                    <a:pt x="1700" y="52"/>
                  </a:lnTo>
                  <a:lnTo>
                    <a:pt x="1709" y="57"/>
                  </a:lnTo>
                  <a:lnTo>
                    <a:pt x="1724" y="62"/>
                  </a:lnTo>
                  <a:lnTo>
                    <a:pt x="1729" y="72"/>
                  </a:lnTo>
                  <a:lnTo>
                    <a:pt x="1738" y="76"/>
                  </a:lnTo>
                  <a:lnTo>
                    <a:pt x="1743" y="81"/>
                  </a:lnTo>
                  <a:lnTo>
                    <a:pt x="1748" y="81"/>
                  </a:lnTo>
                  <a:lnTo>
                    <a:pt x="1753" y="96"/>
                  </a:lnTo>
                  <a:lnTo>
                    <a:pt x="1753" y="100"/>
                  </a:lnTo>
                  <a:lnTo>
                    <a:pt x="1753" y="110"/>
                  </a:lnTo>
                  <a:lnTo>
                    <a:pt x="1748" y="115"/>
                  </a:lnTo>
                  <a:lnTo>
                    <a:pt x="1743" y="119"/>
                  </a:lnTo>
                  <a:lnTo>
                    <a:pt x="1733" y="119"/>
                  </a:lnTo>
                  <a:lnTo>
                    <a:pt x="1729" y="124"/>
                  </a:lnTo>
                  <a:lnTo>
                    <a:pt x="1719" y="124"/>
                  </a:lnTo>
                  <a:lnTo>
                    <a:pt x="1705" y="124"/>
                  </a:lnTo>
                  <a:lnTo>
                    <a:pt x="1690" y="124"/>
                  </a:lnTo>
                  <a:lnTo>
                    <a:pt x="1676" y="124"/>
                  </a:lnTo>
                  <a:lnTo>
                    <a:pt x="1662" y="129"/>
                  </a:lnTo>
                  <a:lnTo>
                    <a:pt x="1642" y="129"/>
                  </a:lnTo>
                  <a:lnTo>
                    <a:pt x="1618" y="129"/>
                  </a:lnTo>
                  <a:lnTo>
                    <a:pt x="1599" y="129"/>
                  </a:lnTo>
                  <a:lnTo>
                    <a:pt x="1575" y="129"/>
                  </a:lnTo>
                  <a:lnTo>
                    <a:pt x="1547" y="124"/>
                  </a:lnTo>
                  <a:lnTo>
                    <a:pt x="1518" y="124"/>
                  </a:lnTo>
                  <a:lnTo>
                    <a:pt x="1489" y="124"/>
                  </a:lnTo>
                  <a:lnTo>
                    <a:pt x="1427" y="119"/>
                  </a:lnTo>
                  <a:lnTo>
                    <a:pt x="1365" y="119"/>
                  </a:lnTo>
                  <a:lnTo>
                    <a:pt x="1245" y="124"/>
                  </a:lnTo>
                  <a:lnTo>
                    <a:pt x="1125" y="124"/>
                  </a:lnTo>
                  <a:lnTo>
                    <a:pt x="1005" y="134"/>
                  </a:lnTo>
                  <a:lnTo>
                    <a:pt x="948" y="139"/>
                  </a:lnTo>
                  <a:lnTo>
                    <a:pt x="895" y="143"/>
                  </a:lnTo>
                  <a:lnTo>
                    <a:pt x="843" y="153"/>
                  </a:lnTo>
                  <a:lnTo>
                    <a:pt x="790" y="158"/>
                  </a:lnTo>
                  <a:lnTo>
                    <a:pt x="742" y="163"/>
                  </a:lnTo>
                  <a:lnTo>
                    <a:pt x="694" y="167"/>
                  </a:lnTo>
                  <a:lnTo>
                    <a:pt x="651" y="172"/>
                  </a:lnTo>
                  <a:lnTo>
                    <a:pt x="608" y="172"/>
                  </a:lnTo>
                  <a:lnTo>
                    <a:pt x="526" y="187"/>
                  </a:lnTo>
                  <a:lnTo>
                    <a:pt x="440" y="196"/>
                  </a:lnTo>
                  <a:lnTo>
                    <a:pt x="354" y="206"/>
                  </a:lnTo>
                  <a:lnTo>
                    <a:pt x="273" y="215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15" y="225"/>
                  </a:lnTo>
                  <a:lnTo>
                    <a:pt x="196" y="225"/>
                  </a:lnTo>
                  <a:lnTo>
                    <a:pt x="182" y="230"/>
                  </a:lnTo>
                  <a:lnTo>
                    <a:pt x="167" y="230"/>
                  </a:lnTo>
                  <a:lnTo>
                    <a:pt x="153" y="234"/>
                  </a:lnTo>
                  <a:lnTo>
                    <a:pt x="143" y="234"/>
                  </a:lnTo>
                  <a:lnTo>
                    <a:pt x="134" y="234"/>
                  </a:lnTo>
                  <a:lnTo>
                    <a:pt x="124" y="239"/>
                  </a:lnTo>
                  <a:lnTo>
                    <a:pt x="115" y="239"/>
                  </a:lnTo>
                  <a:lnTo>
                    <a:pt x="105" y="239"/>
                  </a:lnTo>
                  <a:lnTo>
                    <a:pt x="100" y="239"/>
                  </a:lnTo>
                  <a:lnTo>
                    <a:pt x="95" y="239"/>
                  </a:lnTo>
                  <a:lnTo>
                    <a:pt x="91" y="239"/>
                  </a:lnTo>
                  <a:lnTo>
                    <a:pt x="86" y="239"/>
                  </a:lnTo>
                  <a:lnTo>
                    <a:pt x="81" y="239"/>
                  </a:lnTo>
                  <a:lnTo>
                    <a:pt x="76" y="234"/>
                  </a:lnTo>
                  <a:lnTo>
                    <a:pt x="67" y="234"/>
                  </a:lnTo>
                  <a:lnTo>
                    <a:pt x="57" y="230"/>
                  </a:lnTo>
                  <a:lnTo>
                    <a:pt x="47" y="225"/>
                  </a:lnTo>
                  <a:lnTo>
                    <a:pt x="38" y="215"/>
                  </a:lnTo>
                  <a:lnTo>
                    <a:pt x="28" y="206"/>
                  </a:lnTo>
                  <a:lnTo>
                    <a:pt x="24" y="196"/>
                  </a:lnTo>
                  <a:lnTo>
                    <a:pt x="14" y="191"/>
                  </a:lnTo>
                  <a:lnTo>
                    <a:pt x="9" y="182"/>
                  </a:lnTo>
                  <a:lnTo>
                    <a:pt x="4" y="177"/>
                  </a:lnTo>
                  <a:lnTo>
                    <a:pt x="4" y="172"/>
                  </a:lnTo>
                  <a:lnTo>
                    <a:pt x="0" y="167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9" y="153"/>
                  </a:lnTo>
                  <a:lnTo>
                    <a:pt x="28" y="153"/>
                  </a:lnTo>
                  <a:lnTo>
                    <a:pt x="43" y="148"/>
                  </a:lnTo>
                  <a:lnTo>
                    <a:pt x="62" y="148"/>
                  </a:lnTo>
                  <a:lnTo>
                    <a:pt x="86" y="148"/>
                  </a:lnTo>
                  <a:lnTo>
                    <a:pt x="115" y="143"/>
                  </a:lnTo>
                  <a:lnTo>
                    <a:pt x="143" y="139"/>
                  </a:lnTo>
                  <a:lnTo>
                    <a:pt x="177" y="139"/>
                  </a:lnTo>
                  <a:lnTo>
                    <a:pt x="215" y="134"/>
                  </a:lnTo>
                  <a:lnTo>
                    <a:pt x="258" y="129"/>
                  </a:lnTo>
                  <a:lnTo>
                    <a:pt x="306" y="129"/>
                  </a:lnTo>
                  <a:lnTo>
                    <a:pt x="354" y="124"/>
                  </a:lnTo>
                  <a:lnTo>
                    <a:pt x="411" y="119"/>
                  </a:lnTo>
                  <a:lnTo>
                    <a:pt x="469" y="115"/>
                  </a:lnTo>
                  <a:lnTo>
                    <a:pt x="531" y="110"/>
                  </a:lnTo>
                  <a:lnTo>
                    <a:pt x="651" y="96"/>
                  </a:lnTo>
                  <a:lnTo>
                    <a:pt x="713" y="91"/>
                  </a:lnTo>
                  <a:lnTo>
                    <a:pt x="771" y="81"/>
                  </a:lnTo>
                  <a:lnTo>
                    <a:pt x="828" y="76"/>
                  </a:lnTo>
                  <a:lnTo>
                    <a:pt x="881" y="72"/>
                  </a:lnTo>
                  <a:lnTo>
                    <a:pt x="938" y="62"/>
                  </a:lnTo>
                  <a:lnTo>
                    <a:pt x="986" y="57"/>
                  </a:lnTo>
                  <a:lnTo>
                    <a:pt x="1039" y="52"/>
                  </a:lnTo>
                  <a:lnTo>
                    <a:pt x="1087" y="52"/>
                  </a:lnTo>
                  <a:lnTo>
                    <a:pt x="1135" y="48"/>
                  </a:lnTo>
                  <a:lnTo>
                    <a:pt x="1183" y="38"/>
                  </a:lnTo>
                  <a:lnTo>
                    <a:pt x="1226" y="33"/>
                  </a:lnTo>
                  <a:lnTo>
                    <a:pt x="1264" y="28"/>
                  </a:lnTo>
                  <a:lnTo>
                    <a:pt x="1307" y="24"/>
                  </a:lnTo>
                  <a:lnTo>
                    <a:pt x="1341" y="14"/>
                  </a:lnTo>
                  <a:lnTo>
                    <a:pt x="1379" y="14"/>
                  </a:lnTo>
                  <a:lnTo>
                    <a:pt x="1408" y="9"/>
                  </a:lnTo>
                  <a:lnTo>
                    <a:pt x="1436" y="9"/>
                  </a:lnTo>
                  <a:lnTo>
                    <a:pt x="1465" y="5"/>
                  </a:lnTo>
                  <a:lnTo>
                    <a:pt x="1489" y="5"/>
                  </a:lnTo>
                  <a:lnTo>
                    <a:pt x="1508" y="0"/>
                  </a:lnTo>
                  <a:lnTo>
                    <a:pt x="1527" y="0"/>
                  </a:lnTo>
                  <a:lnTo>
                    <a:pt x="1542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4841640" y="3511440"/>
              <a:ext cx="191160" cy="1233720"/>
            </a:xfrm>
            <a:custGeom>
              <a:avLst/>
              <a:gdLst/>
              <a:ahLst/>
              <a:rect l="l" t="t" r="r" b="b"/>
              <a:pathLst>
                <a:path w="158" h="1020">
                  <a:moveTo>
                    <a:pt x="19" y="76"/>
                  </a:moveTo>
                  <a:lnTo>
                    <a:pt x="9" y="5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4"/>
                  </a:lnTo>
                  <a:lnTo>
                    <a:pt x="100" y="9"/>
                  </a:lnTo>
                  <a:lnTo>
                    <a:pt x="124" y="19"/>
                  </a:lnTo>
                  <a:lnTo>
                    <a:pt x="139" y="33"/>
                  </a:lnTo>
                  <a:lnTo>
                    <a:pt x="148" y="38"/>
                  </a:lnTo>
                  <a:lnTo>
                    <a:pt x="153" y="48"/>
                  </a:lnTo>
                  <a:lnTo>
                    <a:pt x="158" y="57"/>
                  </a:lnTo>
                  <a:lnTo>
                    <a:pt x="158" y="67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91"/>
                  </a:lnTo>
                  <a:lnTo>
                    <a:pt x="153" y="100"/>
                  </a:lnTo>
                  <a:lnTo>
                    <a:pt x="153" y="115"/>
                  </a:lnTo>
                  <a:lnTo>
                    <a:pt x="153" y="129"/>
                  </a:lnTo>
                  <a:lnTo>
                    <a:pt x="148" y="148"/>
                  </a:lnTo>
                  <a:lnTo>
                    <a:pt x="148" y="172"/>
                  </a:lnTo>
                  <a:lnTo>
                    <a:pt x="148" y="191"/>
                  </a:lnTo>
                  <a:lnTo>
                    <a:pt x="143" y="220"/>
                  </a:lnTo>
                  <a:lnTo>
                    <a:pt x="143" y="249"/>
                  </a:lnTo>
                  <a:lnTo>
                    <a:pt x="143" y="282"/>
                  </a:lnTo>
                  <a:lnTo>
                    <a:pt x="143" y="316"/>
                  </a:lnTo>
                  <a:lnTo>
                    <a:pt x="143" y="354"/>
                  </a:lnTo>
                  <a:lnTo>
                    <a:pt x="139" y="392"/>
                  </a:lnTo>
                  <a:lnTo>
                    <a:pt x="139" y="436"/>
                  </a:lnTo>
                  <a:lnTo>
                    <a:pt x="139" y="483"/>
                  </a:lnTo>
                  <a:lnTo>
                    <a:pt x="139" y="531"/>
                  </a:lnTo>
                  <a:lnTo>
                    <a:pt x="139" y="579"/>
                  </a:lnTo>
                  <a:lnTo>
                    <a:pt x="139" y="627"/>
                  </a:lnTo>
                  <a:lnTo>
                    <a:pt x="139" y="670"/>
                  </a:lnTo>
                  <a:lnTo>
                    <a:pt x="139" y="709"/>
                  </a:lnTo>
                  <a:lnTo>
                    <a:pt x="139" y="747"/>
                  </a:lnTo>
                  <a:lnTo>
                    <a:pt x="139" y="780"/>
                  </a:lnTo>
                  <a:lnTo>
                    <a:pt x="134" y="814"/>
                  </a:lnTo>
                  <a:lnTo>
                    <a:pt x="134" y="843"/>
                  </a:lnTo>
                  <a:lnTo>
                    <a:pt x="134" y="867"/>
                  </a:lnTo>
                  <a:lnTo>
                    <a:pt x="134" y="891"/>
                  </a:lnTo>
                  <a:lnTo>
                    <a:pt x="129" y="914"/>
                  </a:lnTo>
                  <a:lnTo>
                    <a:pt x="129" y="934"/>
                  </a:lnTo>
                  <a:lnTo>
                    <a:pt x="129" y="948"/>
                  </a:lnTo>
                  <a:lnTo>
                    <a:pt x="124" y="962"/>
                  </a:lnTo>
                  <a:lnTo>
                    <a:pt x="124" y="972"/>
                  </a:lnTo>
                  <a:lnTo>
                    <a:pt x="124" y="977"/>
                  </a:lnTo>
                  <a:lnTo>
                    <a:pt x="110" y="996"/>
                  </a:lnTo>
                  <a:lnTo>
                    <a:pt x="100" y="1010"/>
                  </a:lnTo>
                  <a:lnTo>
                    <a:pt x="91" y="1015"/>
                  </a:lnTo>
                  <a:lnTo>
                    <a:pt x="86" y="1020"/>
                  </a:lnTo>
                  <a:lnTo>
                    <a:pt x="81" y="1020"/>
                  </a:lnTo>
                  <a:lnTo>
                    <a:pt x="76" y="1020"/>
                  </a:lnTo>
                  <a:lnTo>
                    <a:pt x="72" y="1015"/>
                  </a:lnTo>
                  <a:lnTo>
                    <a:pt x="67" y="1010"/>
                  </a:lnTo>
                  <a:lnTo>
                    <a:pt x="62" y="1001"/>
                  </a:lnTo>
                  <a:lnTo>
                    <a:pt x="57" y="991"/>
                  </a:lnTo>
                  <a:lnTo>
                    <a:pt x="48" y="977"/>
                  </a:lnTo>
                  <a:lnTo>
                    <a:pt x="43" y="958"/>
                  </a:lnTo>
                  <a:lnTo>
                    <a:pt x="38" y="938"/>
                  </a:lnTo>
                  <a:lnTo>
                    <a:pt x="28" y="914"/>
                  </a:lnTo>
                  <a:lnTo>
                    <a:pt x="24" y="895"/>
                  </a:lnTo>
                  <a:lnTo>
                    <a:pt x="19" y="876"/>
                  </a:lnTo>
                  <a:lnTo>
                    <a:pt x="14" y="857"/>
                  </a:lnTo>
                  <a:lnTo>
                    <a:pt x="14" y="838"/>
                  </a:lnTo>
                  <a:lnTo>
                    <a:pt x="14" y="819"/>
                  </a:lnTo>
                  <a:lnTo>
                    <a:pt x="14" y="800"/>
                  </a:lnTo>
                  <a:lnTo>
                    <a:pt x="19" y="780"/>
                  </a:lnTo>
                  <a:lnTo>
                    <a:pt x="24" y="761"/>
                  </a:lnTo>
                  <a:lnTo>
                    <a:pt x="28" y="742"/>
                  </a:lnTo>
                  <a:lnTo>
                    <a:pt x="33" y="723"/>
                  </a:lnTo>
                  <a:lnTo>
                    <a:pt x="38" y="699"/>
                  </a:lnTo>
                  <a:lnTo>
                    <a:pt x="43" y="670"/>
                  </a:lnTo>
                  <a:lnTo>
                    <a:pt x="48" y="637"/>
                  </a:lnTo>
                  <a:lnTo>
                    <a:pt x="48" y="603"/>
                  </a:lnTo>
                  <a:lnTo>
                    <a:pt x="52" y="565"/>
                  </a:lnTo>
                  <a:lnTo>
                    <a:pt x="57" y="488"/>
                  </a:lnTo>
                  <a:lnTo>
                    <a:pt x="62" y="416"/>
                  </a:lnTo>
                  <a:lnTo>
                    <a:pt x="62" y="335"/>
                  </a:lnTo>
                  <a:lnTo>
                    <a:pt x="62" y="258"/>
                  </a:lnTo>
                  <a:lnTo>
                    <a:pt x="57" y="220"/>
                  </a:lnTo>
                  <a:lnTo>
                    <a:pt x="57" y="191"/>
                  </a:lnTo>
                  <a:lnTo>
                    <a:pt x="52" y="163"/>
                  </a:lnTo>
                  <a:lnTo>
                    <a:pt x="48" y="139"/>
                  </a:lnTo>
                  <a:lnTo>
                    <a:pt x="43" y="119"/>
                  </a:lnTo>
                  <a:lnTo>
                    <a:pt x="33" y="100"/>
                  </a:lnTo>
                  <a:lnTo>
                    <a:pt x="28" y="86"/>
                  </a:lnTo>
                  <a:lnTo>
                    <a:pt x="19" y="7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3966120" y="3754440"/>
              <a:ext cx="990360" cy="793440"/>
            </a:xfrm>
            <a:custGeom>
              <a:avLst/>
              <a:gdLst/>
              <a:ahLst/>
              <a:rect l="l" t="t" r="r" b="b"/>
              <a:pathLst>
                <a:path w="819" h="656">
                  <a:moveTo>
                    <a:pt x="374" y="469"/>
                  </a:moveTo>
                  <a:lnTo>
                    <a:pt x="312" y="508"/>
                  </a:lnTo>
                  <a:lnTo>
                    <a:pt x="250" y="541"/>
                  </a:lnTo>
                  <a:lnTo>
                    <a:pt x="192" y="575"/>
                  </a:lnTo>
                  <a:lnTo>
                    <a:pt x="130" y="613"/>
                  </a:lnTo>
                  <a:lnTo>
                    <a:pt x="101" y="627"/>
                  </a:lnTo>
                  <a:lnTo>
                    <a:pt x="77" y="637"/>
                  </a:lnTo>
                  <a:lnTo>
                    <a:pt x="58" y="646"/>
                  </a:lnTo>
                  <a:lnTo>
                    <a:pt x="39" y="651"/>
                  </a:lnTo>
                  <a:lnTo>
                    <a:pt x="24" y="656"/>
                  </a:lnTo>
                  <a:lnTo>
                    <a:pt x="15" y="656"/>
                  </a:lnTo>
                  <a:lnTo>
                    <a:pt x="5" y="656"/>
                  </a:lnTo>
                  <a:lnTo>
                    <a:pt x="0" y="656"/>
                  </a:lnTo>
                  <a:lnTo>
                    <a:pt x="0" y="651"/>
                  </a:lnTo>
                  <a:lnTo>
                    <a:pt x="0" y="642"/>
                  </a:lnTo>
                  <a:lnTo>
                    <a:pt x="5" y="637"/>
                  </a:lnTo>
                  <a:lnTo>
                    <a:pt x="15" y="627"/>
                  </a:lnTo>
                  <a:lnTo>
                    <a:pt x="29" y="613"/>
                  </a:lnTo>
                  <a:lnTo>
                    <a:pt x="48" y="599"/>
                  </a:lnTo>
                  <a:lnTo>
                    <a:pt x="68" y="584"/>
                  </a:lnTo>
                  <a:lnTo>
                    <a:pt x="96" y="570"/>
                  </a:lnTo>
                  <a:lnTo>
                    <a:pt x="149" y="536"/>
                  </a:lnTo>
                  <a:lnTo>
                    <a:pt x="197" y="503"/>
                  </a:lnTo>
                  <a:lnTo>
                    <a:pt x="250" y="464"/>
                  </a:lnTo>
                  <a:lnTo>
                    <a:pt x="293" y="421"/>
                  </a:lnTo>
                  <a:lnTo>
                    <a:pt x="307" y="412"/>
                  </a:lnTo>
                  <a:lnTo>
                    <a:pt x="321" y="397"/>
                  </a:lnTo>
                  <a:lnTo>
                    <a:pt x="336" y="383"/>
                  </a:lnTo>
                  <a:lnTo>
                    <a:pt x="355" y="369"/>
                  </a:lnTo>
                  <a:lnTo>
                    <a:pt x="374" y="349"/>
                  </a:lnTo>
                  <a:lnTo>
                    <a:pt x="393" y="326"/>
                  </a:lnTo>
                  <a:lnTo>
                    <a:pt x="412" y="306"/>
                  </a:lnTo>
                  <a:lnTo>
                    <a:pt x="436" y="278"/>
                  </a:lnTo>
                  <a:lnTo>
                    <a:pt x="465" y="254"/>
                  </a:lnTo>
                  <a:lnTo>
                    <a:pt x="494" y="220"/>
                  </a:lnTo>
                  <a:lnTo>
                    <a:pt x="523" y="191"/>
                  </a:lnTo>
                  <a:lnTo>
                    <a:pt x="551" y="158"/>
                  </a:lnTo>
                  <a:lnTo>
                    <a:pt x="585" y="120"/>
                  </a:lnTo>
                  <a:lnTo>
                    <a:pt x="618" y="81"/>
                  </a:lnTo>
                  <a:lnTo>
                    <a:pt x="652" y="43"/>
                  </a:lnTo>
                  <a:lnTo>
                    <a:pt x="690" y="0"/>
                  </a:lnTo>
                  <a:lnTo>
                    <a:pt x="757" y="14"/>
                  </a:lnTo>
                  <a:lnTo>
                    <a:pt x="819" y="33"/>
                  </a:lnTo>
                  <a:lnTo>
                    <a:pt x="781" y="76"/>
                  </a:lnTo>
                  <a:lnTo>
                    <a:pt x="743" y="120"/>
                  </a:lnTo>
                  <a:lnTo>
                    <a:pt x="705" y="158"/>
                  </a:lnTo>
                  <a:lnTo>
                    <a:pt x="671" y="196"/>
                  </a:lnTo>
                  <a:lnTo>
                    <a:pt x="637" y="230"/>
                  </a:lnTo>
                  <a:lnTo>
                    <a:pt x="604" y="263"/>
                  </a:lnTo>
                  <a:lnTo>
                    <a:pt x="575" y="292"/>
                  </a:lnTo>
                  <a:lnTo>
                    <a:pt x="546" y="321"/>
                  </a:lnTo>
                  <a:lnTo>
                    <a:pt x="518" y="345"/>
                  </a:lnTo>
                  <a:lnTo>
                    <a:pt x="494" y="369"/>
                  </a:lnTo>
                  <a:lnTo>
                    <a:pt x="465" y="393"/>
                  </a:lnTo>
                  <a:lnTo>
                    <a:pt x="446" y="412"/>
                  </a:lnTo>
                  <a:lnTo>
                    <a:pt x="422" y="431"/>
                  </a:lnTo>
                  <a:lnTo>
                    <a:pt x="403" y="445"/>
                  </a:lnTo>
                  <a:lnTo>
                    <a:pt x="388" y="460"/>
                  </a:lnTo>
                  <a:lnTo>
                    <a:pt x="374" y="46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>
              <a:off x="4939560" y="3742560"/>
              <a:ext cx="1268640" cy="759600"/>
            </a:xfrm>
            <a:custGeom>
              <a:avLst/>
              <a:gdLst/>
              <a:ahLst/>
              <a:rect l="l" t="t" r="r" b="b"/>
              <a:pathLst>
                <a:path w="1049" h="628">
                  <a:moveTo>
                    <a:pt x="24" y="0"/>
                  </a:moveTo>
                  <a:lnTo>
                    <a:pt x="53" y="29"/>
                  </a:lnTo>
                  <a:lnTo>
                    <a:pt x="86" y="58"/>
                  </a:lnTo>
                  <a:lnTo>
                    <a:pt x="125" y="86"/>
                  </a:lnTo>
                  <a:lnTo>
                    <a:pt x="158" y="115"/>
                  </a:lnTo>
                  <a:lnTo>
                    <a:pt x="201" y="144"/>
                  </a:lnTo>
                  <a:lnTo>
                    <a:pt x="244" y="173"/>
                  </a:lnTo>
                  <a:lnTo>
                    <a:pt x="288" y="201"/>
                  </a:lnTo>
                  <a:lnTo>
                    <a:pt x="335" y="230"/>
                  </a:lnTo>
                  <a:lnTo>
                    <a:pt x="383" y="268"/>
                  </a:lnTo>
                  <a:lnTo>
                    <a:pt x="431" y="297"/>
                  </a:lnTo>
                  <a:lnTo>
                    <a:pt x="484" y="326"/>
                  </a:lnTo>
                  <a:lnTo>
                    <a:pt x="537" y="355"/>
                  </a:lnTo>
                  <a:lnTo>
                    <a:pt x="594" y="383"/>
                  </a:lnTo>
                  <a:lnTo>
                    <a:pt x="656" y="407"/>
                  </a:lnTo>
                  <a:lnTo>
                    <a:pt x="719" y="431"/>
                  </a:lnTo>
                  <a:lnTo>
                    <a:pt x="786" y="455"/>
                  </a:lnTo>
                  <a:lnTo>
                    <a:pt x="814" y="470"/>
                  </a:lnTo>
                  <a:lnTo>
                    <a:pt x="848" y="479"/>
                  </a:lnTo>
                  <a:lnTo>
                    <a:pt x="877" y="489"/>
                  </a:lnTo>
                  <a:lnTo>
                    <a:pt x="901" y="498"/>
                  </a:lnTo>
                  <a:lnTo>
                    <a:pt x="925" y="508"/>
                  </a:lnTo>
                  <a:lnTo>
                    <a:pt x="948" y="518"/>
                  </a:lnTo>
                  <a:lnTo>
                    <a:pt x="968" y="527"/>
                  </a:lnTo>
                  <a:lnTo>
                    <a:pt x="987" y="532"/>
                  </a:lnTo>
                  <a:lnTo>
                    <a:pt x="1001" y="537"/>
                  </a:lnTo>
                  <a:lnTo>
                    <a:pt x="1016" y="546"/>
                  </a:lnTo>
                  <a:lnTo>
                    <a:pt x="1025" y="551"/>
                  </a:lnTo>
                  <a:lnTo>
                    <a:pt x="1035" y="551"/>
                  </a:lnTo>
                  <a:lnTo>
                    <a:pt x="1044" y="556"/>
                  </a:lnTo>
                  <a:lnTo>
                    <a:pt x="1049" y="561"/>
                  </a:lnTo>
                  <a:lnTo>
                    <a:pt x="1049" y="565"/>
                  </a:lnTo>
                  <a:lnTo>
                    <a:pt x="1044" y="570"/>
                  </a:lnTo>
                  <a:lnTo>
                    <a:pt x="1039" y="570"/>
                  </a:lnTo>
                  <a:lnTo>
                    <a:pt x="1035" y="575"/>
                  </a:lnTo>
                  <a:lnTo>
                    <a:pt x="1030" y="575"/>
                  </a:lnTo>
                  <a:lnTo>
                    <a:pt x="1020" y="580"/>
                  </a:lnTo>
                  <a:lnTo>
                    <a:pt x="1011" y="580"/>
                  </a:lnTo>
                  <a:lnTo>
                    <a:pt x="1001" y="585"/>
                  </a:lnTo>
                  <a:lnTo>
                    <a:pt x="992" y="589"/>
                  </a:lnTo>
                  <a:lnTo>
                    <a:pt x="977" y="589"/>
                  </a:lnTo>
                  <a:lnTo>
                    <a:pt x="963" y="594"/>
                  </a:lnTo>
                  <a:lnTo>
                    <a:pt x="948" y="594"/>
                  </a:lnTo>
                  <a:lnTo>
                    <a:pt x="934" y="599"/>
                  </a:lnTo>
                  <a:lnTo>
                    <a:pt x="915" y="604"/>
                  </a:lnTo>
                  <a:lnTo>
                    <a:pt x="896" y="604"/>
                  </a:lnTo>
                  <a:lnTo>
                    <a:pt x="857" y="613"/>
                  </a:lnTo>
                  <a:lnTo>
                    <a:pt x="819" y="618"/>
                  </a:lnTo>
                  <a:lnTo>
                    <a:pt x="786" y="623"/>
                  </a:lnTo>
                  <a:lnTo>
                    <a:pt x="752" y="623"/>
                  </a:lnTo>
                  <a:lnTo>
                    <a:pt x="723" y="623"/>
                  </a:lnTo>
                  <a:lnTo>
                    <a:pt x="699" y="628"/>
                  </a:lnTo>
                  <a:lnTo>
                    <a:pt x="675" y="623"/>
                  </a:lnTo>
                  <a:lnTo>
                    <a:pt x="656" y="623"/>
                  </a:lnTo>
                  <a:lnTo>
                    <a:pt x="632" y="618"/>
                  </a:lnTo>
                  <a:lnTo>
                    <a:pt x="604" y="609"/>
                  </a:lnTo>
                  <a:lnTo>
                    <a:pt x="580" y="594"/>
                  </a:lnTo>
                  <a:lnTo>
                    <a:pt x="551" y="575"/>
                  </a:lnTo>
                  <a:lnTo>
                    <a:pt x="522" y="551"/>
                  </a:lnTo>
                  <a:lnTo>
                    <a:pt x="489" y="522"/>
                  </a:lnTo>
                  <a:lnTo>
                    <a:pt x="474" y="503"/>
                  </a:lnTo>
                  <a:lnTo>
                    <a:pt x="455" y="489"/>
                  </a:lnTo>
                  <a:lnTo>
                    <a:pt x="441" y="470"/>
                  </a:lnTo>
                  <a:lnTo>
                    <a:pt x="422" y="450"/>
                  </a:lnTo>
                  <a:lnTo>
                    <a:pt x="383" y="412"/>
                  </a:lnTo>
                  <a:lnTo>
                    <a:pt x="350" y="379"/>
                  </a:lnTo>
                  <a:lnTo>
                    <a:pt x="321" y="350"/>
                  </a:lnTo>
                  <a:lnTo>
                    <a:pt x="292" y="326"/>
                  </a:lnTo>
                  <a:lnTo>
                    <a:pt x="264" y="302"/>
                  </a:lnTo>
                  <a:lnTo>
                    <a:pt x="244" y="278"/>
                  </a:lnTo>
                  <a:lnTo>
                    <a:pt x="225" y="264"/>
                  </a:lnTo>
                  <a:lnTo>
                    <a:pt x="206" y="249"/>
                  </a:lnTo>
                  <a:lnTo>
                    <a:pt x="187" y="235"/>
                  </a:lnTo>
                  <a:lnTo>
                    <a:pt x="168" y="216"/>
                  </a:lnTo>
                  <a:lnTo>
                    <a:pt x="144" y="197"/>
                  </a:lnTo>
                  <a:lnTo>
                    <a:pt x="120" y="173"/>
                  </a:lnTo>
                  <a:lnTo>
                    <a:pt x="96" y="149"/>
                  </a:lnTo>
                  <a:lnTo>
                    <a:pt x="62" y="120"/>
                  </a:lnTo>
                  <a:lnTo>
                    <a:pt x="34" y="86"/>
                  </a:lnTo>
                  <a:lnTo>
                    <a:pt x="0" y="48"/>
                  </a:lnTo>
                  <a:lnTo>
                    <a:pt x="24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>
              <a:off x="4528440" y="2606760"/>
              <a:ext cx="701280" cy="956880"/>
            </a:xfrm>
            <a:custGeom>
              <a:avLst/>
              <a:gdLst/>
              <a:ahLst/>
              <a:rect l="l" t="t" r="r" b="b"/>
              <a:pathLst>
                <a:path w="580" h="791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5" y="772"/>
                  </a:lnTo>
                  <a:lnTo>
                    <a:pt x="14" y="762"/>
                  </a:lnTo>
                  <a:lnTo>
                    <a:pt x="29" y="748"/>
                  </a:lnTo>
                  <a:lnTo>
                    <a:pt x="43" y="733"/>
                  </a:lnTo>
                  <a:lnTo>
                    <a:pt x="58" y="719"/>
                  </a:lnTo>
                  <a:lnTo>
                    <a:pt x="81" y="700"/>
                  </a:lnTo>
                  <a:lnTo>
                    <a:pt x="101" y="681"/>
                  </a:lnTo>
                  <a:lnTo>
                    <a:pt x="125" y="661"/>
                  </a:lnTo>
                  <a:lnTo>
                    <a:pt x="149" y="637"/>
                  </a:lnTo>
                  <a:lnTo>
                    <a:pt x="172" y="614"/>
                  </a:lnTo>
                  <a:lnTo>
                    <a:pt x="196" y="585"/>
                  </a:lnTo>
                  <a:lnTo>
                    <a:pt x="220" y="556"/>
                  </a:lnTo>
                  <a:lnTo>
                    <a:pt x="244" y="523"/>
                  </a:lnTo>
                  <a:lnTo>
                    <a:pt x="268" y="489"/>
                  </a:lnTo>
                  <a:lnTo>
                    <a:pt x="292" y="455"/>
                  </a:lnTo>
                  <a:lnTo>
                    <a:pt x="316" y="422"/>
                  </a:lnTo>
                  <a:lnTo>
                    <a:pt x="340" y="393"/>
                  </a:lnTo>
                  <a:lnTo>
                    <a:pt x="359" y="360"/>
                  </a:lnTo>
                  <a:lnTo>
                    <a:pt x="378" y="326"/>
                  </a:lnTo>
                  <a:lnTo>
                    <a:pt x="393" y="293"/>
                  </a:lnTo>
                  <a:lnTo>
                    <a:pt x="407" y="259"/>
                  </a:lnTo>
                  <a:lnTo>
                    <a:pt x="417" y="226"/>
                  </a:lnTo>
                  <a:lnTo>
                    <a:pt x="426" y="192"/>
                  </a:lnTo>
                  <a:lnTo>
                    <a:pt x="431" y="159"/>
                  </a:lnTo>
                  <a:lnTo>
                    <a:pt x="436" y="130"/>
                  </a:lnTo>
                  <a:lnTo>
                    <a:pt x="441" y="101"/>
                  </a:lnTo>
                  <a:lnTo>
                    <a:pt x="446" y="72"/>
                  </a:lnTo>
                  <a:lnTo>
                    <a:pt x="446" y="48"/>
                  </a:lnTo>
                  <a:lnTo>
                    <a:pt x="446" y="24"/>
                  </a:lnTo>
                  <a:lnTo>
                    <a:pt x="441" y="0"/>
                  </a:lnTo>
                  <a:lnTo>
                    <a:pt x="474" y="20"/>
                  </a:lnTo>
                  <a:lnTo>
                    <a:pt x="503" y="34"/>
                  </a:lnTo>
                  <a:lnTo>
                    <a:pt x="527" y="44"/>
                  </a:lnTo>
                  <a:lnTo>
                    <a:pt x="546" y="58"/>
                  </a:lnTo>
                  <a:lnTo>
                    <a:pt x="560" y="72"/>
                  </a:lnTo>
                  <a:lnTo>
                    <a:pt x="570" y="82"/>
                  </a:lnTo>
                  <a:lnTo>
                    <a:pt x="580" y="91"/>
                  </a:lnTo>
                  <a:lnTo>
                    <a:pt x="580" y="101"/>
                  </a:lnTo>
                  <a:lnTo>
                    <a:pt x="580" y="111"/>
                  </a:lnTo>
                  <a:lnTo>
                    <a:pt x="575" y="125"/>
                  </a:lnTo>
                  <a:lnTo>
                    <a:pt x="575" y="139"/>
                  </a:lnTo>
                  <a:lnTo>
                    <a:pt x="565" y="159"/>
                  </a:lnTo>
                  <a:lnTo>
                    <a:pt x="560" y="182"/>
                  </a:lnTo>
                  <a:lnTo>
                    <a:pt x="551" y="206"/>
                  </a:lnTo>
                  <a:lnTo>
                    <a:pt x="541" y="235"/>
                  </a:lnTo>
                  <a:lnTo>
                    <a:pt x="527" y="269"/>
                  </a:lnTo>
                  <a:lnTo>
                    <a:pt x="513" y="302"/>
                  </a:lnTo>
                  <a:lnTo>
                    <a:pt x="493" y="336"/>
                  </a:lnTo>
                  <a:lnTo>
                    <a:pt x="474" y="369"/>
                  </a:lnTo>
                  <a:lnTo>
                    <a:pt x="455" y="403"/>
                  </a:lnTo>
                  <a:lnTo>
                    <a:pt x="431" y="436"/>
                  </a:lnTo>
                  <a:lnTo>
                    <a:pt x="407" y="470"/>
                  </a:lnTo>
                  <a:lnTo>
                    <a:pt x="383" y="503"/>
                  </a:lnTo>
                  <a:lnTo>
                    <a:pt x="354" y="532"/>
                  </a:lnTo>
                  <a:lnTo>
                    <a:pt x="326" y="566"/>
                  </a:lnTo>
                  <a:lnTo>
                    <a:pt x="297" y="594"/>
                  </a:lnTo>
                  <a:lnTo>
                    <a:pt x="273" y="618"/>
                  </a:lnTo>
                  <a:lnTo>
                    <a:pt x="244" y="647"/>
                  </a:lnTo>
                  <a:lnTo>
                    <a:pt x="216" y="671"/>
                  </a:lnTo>
                  <a:lnTo>
                    <a:pt x="187" y="690"/>
                  </a:lnTo>
                  <a:lnTo>
                    <a:pt x="158" y="714"/>
                  </a:lnTo>
                  <a:lnTo>
                    <a:pt x="129" y="733"/>
                  </a:lnTo>
                  <a:lnTo>
                    <a:pt x="105" y="748"/>
                  </a:lnTo>
                  <a:lnTo>
                    <a:pt x="81" y="762"/>
                  </a:lnTo>
                  <a:lnTo>
                    <a:pt x="58" y="776"/>
                  </a:lnTo>
                  <a:lnTo>
                    <a:pt x="43" y="781"/>
                  </a:lnTo>
                  <a:lnTo>
                    <a:pt x="24" y="791"/>
                  </a:lnTo>
                  <a:lnTo>
                    <a:pt x="14" y="791"/>
                  </a:lnTo>
                  <a:lnTo>
                    <a:pt x="5" y="791"/>
                  </a:lnTo>
                  <a:lnTo>
                    <a:pt x="0" y="791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4227480" y="2450520"/>
              <a:ext cx="307080" cy="23184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86" y="115"/>
                  </a:moveTo>
                  <a:lnTo>
                    <a:pt x="67" y="96"/>
                  </a:lnTo>
                  <a:lnTo>
                    <a:pt x="48" y="77"/>
                  </a:lnTo>
                  <a:lnTo>
                    <a:pt x="34" y="62"/>
                  </a:lnTo>
                  <a:lnTo>
                    <a:pt x="19" y="48"/>
                  </a:lnTo>
                  <a:lnTo>
                    <a:pt x="14" y="3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" y="0"/>
                  </a:lnTo>
                  <a:lnTo>
                    <a:pt x="72" y="5"/>
                  </a:lnTo>
                  <a:lnTo>
                    <a:pt x="110" y="10"/>
                  </a:lnTo>
                  <a:lnTo>
                    <a:pt x="148" y="15"/>
                  </a:lnTo>
                  <a:lnTo>
                    <a:pt x="177" y="24"/>
                  </a:lnTo>
                  <a:lnTo>
                    <a:pt x="192" y="29"/>
                  </a:lnTo>
                  <a:lnTo>
                    <a:pt x="206" y="34"/>
                  </a:lnTo>
                  <a:lnTo>
                    <a:pt x="216" y="38"/>
                  </a:lnTo>
                  <a:lnTo>
                    <a:pt x="225" y="48"/>
                  </a:lnTo>
                  <a:lnTo>
                    <a:pt x="235" y="58"/>
                  </a:lnTo>
                  <a:lnTo>
                    <a:pt x="244" y="62"/>
                  </a:lnTo>
                  <a:lnTo>
                    <a:pt x="249" y="77"/>
                  </a:lnTo>
                  <a:lnTo>
                    <a:pt x="254" y="86"/>
                  </a:lnTo>
                  <a:lnTo>
                    <a:pt x="254" y="96"/>
                  </a:lnTo>
                  <a:lnTo>
                    <a:pt x="254" y="106"/>
                  </a:lnTo>
                  <a:lnTo>
                    <a:pt x="254" y="129"/>
                  </a:lnTo>
                  <a:lnTo>
                    <a:pt x="249" y="149"/>
                  </a:lnTo>
                  <a:lnTo>
                    <a:pt x="244" y="158"/>
                  </a:lnTo>
                  <a:lnTo>
                    <a:pt x="239" y="168"/>
                  </a:lnTo>
                  <a:lnTo>
                    <a:pt x="230" y="177"/>
                  </a:lnTo>
                  <a:lnTo>
                    <a:pt x="225" y="182"/>
                  </a:lnTo>
                  <a:lnTo>
                    <a:pt x="220" y="187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87"/>
                  </a:lnTo>
                  <a:lnTo>
                    <a:pt x="192" y="187"/>
                  </a:lnTo>
                  <a:lnTo>
                    <a:pt x="182" y="187"/>
                  </a:lnTo>
                  <a:lnTo>
                    <a:pt x="172" y="177"/>
                  </a:lnTo>
                  <a:lnTo>
                    <a:pt x="158" y="173"/>
                  </a:lnTo>
                  <a:lnTo>
                    <a:pt x="144" y="158"/>
                  </a:lnTo>
                  <a:lnTo>
                    <a:pt x="129" y="149"/>
                  </a:lnTo>
                  <a:lnTo>
                    <a:pt x="110" y="134"/>
                  </a:lnTo>
                  <a:lnTo>
                    <a:pt x="86" y="115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7"/>
            <p:cNvSpPr/>
            <p:nvPr/>
          </p:nvSpPr>
          <p:spPr>
            <a:xfrm>
              <a:off x="4094280" y="2781000"/>
              <a:ext cx="271800" cy="219960"/>
            </a:xfrm>
            <a:custGeom>
              <a:avLst/>
              <a:gdLst/>
              <a:ahLst/>
              <a:rect l="l" t="t" r="r" b="b"/>
              <a:pathLst>
                <a:path w="225" h="182">
                  <a:moveTo>
                    <a:pt x="144" y="24"/>
                  </a:moveTo>
                  <a:lnTo>
                    <a:pt x="163" y="29"/>
                  </a:lnTo>
                  <a:lnTo>
                    <a:pt x="172" y="38"/>
                  </a:lnTo>
                  <a:lnTo>
                    <a:pt x="187" y="48"/>
                  </a:lnTo>
                  <a:lnTo>
                    <a:pt x="196" y="53"/>
                  </a:lnTo>
                  <a:lnTo>
                    <a:pt x="206" y="62"/>
                  </a:lnTo>
                  <a:lnTo>
                    <a:pt x="215" y="72"/>
                  </a:lnTo>
                  <a:lnTo>
                    <a:pt x="220" y="82"/>
                  </a:lnTo>
                  <a:lnTo>
                    <a:pt x="225" y="91"/>
                  </a:lnTo>
                  <a:lnTo>
                    <a:pt x="225" y="101"/>
                  </a:lnTo>
                  <a:lnTo>
                    <a:pt x="225" y="115"/>
                  </a:lnTo>
                  <a:lnTo>
                    <a:pt x="225" y="134"/>
                  </a:lnTo>
                  <a:lnTo>
                    <a:pt x="225" y="139"/>
                  </a:lnTo>
                  <a:lnTo>
                    <a:pt x="220" y="149"/>
                  </a:lnTo>
                  <a:lnTo>
                    <a:pt x="215" y="153"/>
                  </a:lnTo>
                  <a:lnTo>
                    <a:pt x="215" y="158"/>
                  </a:lnTo>
                  <a:lnTo>
                    <a:pt x="201" y="168"/>
                  </a:lnTo>
                  <a:lnTo>
                    <a:pt x="191" y="177"/>
                  </a:lnTo>
                  <a:lnTo>
                    <a:pt x="177" y="182"/>
                  </a:lnTo>
                  <a:lnTo>
                    <a:pt x="172" y="182"/>
                  </a:lnTo>
                  <a:lnTo>
                    <a:pt x="167" y="182"/>
                  </a:lnTo>
                  <a:lnTo>
                    <a:pt x="158" y="177"/>
                  </a:lnTo>
                  <a:lnTo>
                    <a:pt x="148" y="173"/>
                  </a:lnTo>
                  <a:lnTo>
                    <a:pt x="139" y="163"/>
                  </a:lnTo>
                  <a:lnTo>
                    <a:pt x="124" y="153"/>
                  </a:lnTo>
                  <a:lnTo>
                    <a:pt x="110" y="144"/>
                  </a:lnTo>
                  <a:lnTo>
                    <a:pt x="96" y="129"/>
                  </a:lnTo>
                  <a:lnTo>
                    <a:pt x="76" y="115"/>
                  </a:lnTo>
                  <a:lnTo>
                    <a:pt x="57" y="101"/>
                  </a:lnTo>
                  <a:lnTo>
                    <a:pt x="43" y="86"/>
                  </a:lnTo>
                  <a:lnTo>
                    <a:pt x="29" y="67"/>
                  </a:lnTo>
                  <a:lnTo>
                    <a:pt x="19" y="53"/>
                  </a:lnTo>
                  <a:lnTo>
                    <a:pt x="9" y="38"/>
                  </a:lnTo>
                  <a:lnTo>
                    <a:pt x="5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81" y="5"/>
                  </a:lnTo>
                  <a:lnTo>
                    <a:pt x="100" y="10"/>
                  </a:lnTo>
                  <a:lnTo>
                    <a:pt x="115" y="15"/>
                  </a:lnTo>
                  <a:lnTo>
                    <a:pt x="129" y="19"/>
                  </a:lnTo>
                  <a:lnTo>
                    <a:pt x="144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8"/>
            <p:cNvSpPr/>
            <p:nvPr/>
          </p:nvSpPr>
          <p:spPr>
            <a:xfrm>
              <a:off x="4667760" y="2787120"/>
              <a:ext cx="185040" cy="352800"/>
            </a:xfrm>
            <a:custGeom>
              <a:avLst/>
              <a:gdLst/>
              <a:ahLst/>
              <a:rect l="l" t="t" r="r" b="b"/>
              <a:pathLst>
                <a:path w="153" h="292">
                  <a:moveTo>
                    <a:pt x="110" y="0"/>
                  </a:moveTo>
                  <a:lnTo>
                    <a:pt x="129" y="24"/>
                  </a:lnTo>
                  <a:lnTo>
                    <a:pt x="134" y="33"/>
                  </a:lnTo>
                  <a:lnTo>
                    <a:pt x="144" y="43"/>
                  </a:lnTo>
                  <a:lnTo>
                    <a:pt x="148" y="57"/>
                  </a:lnTo>
                  <a:lnTo>
                    <a:pt x="153" y="67"/>
                  </a:lnTo>
                  <a:lnTo>
                    <a:pt x="153" y="81"/>
                  </a:lnTo>
                  <a:lnTo>
                    <a:pt x="153" y="96"/>
                  </a:lnTo>
                  <a:lnTo>
                    <a:pt x="153" y="105"/>
                  </a:lnTo>
                  <a:lnTo>
                    <a:pt x="153" y="120"/>
                  </a:lnTo>
                  <a:lnTo>
                    <a:pt x="148" y="134"/>
                  </a:lnTo>
                  <a:lnTo>
                    <a:pt x="144" y="148"/>
                  </a:lnTo>
                  <a:lnTo>
                    <a:pt x="129" y="182"/>
                  </a:lnTo>
                  <a:lnTo>
                    <a:pt x="110" y="220"/>
                  </a:lnTo>
                  <a:lnTo>
                    <a:pt x="101" y="235"/>
                  </a:lnTo>
                  <a:lnTo>
                    <a:pt x="91" y="249"/>
                  </a:lnTo>
                  <a:lnTo>
                    <a:pt x="81" y="263"/>
                  </a:lnTo>
                  <a:lnTo>
                    <a:pt x="77" y="273"/>
                  </a:lnTo>
                  <a:lnTo>
                    <a:pt x="67" y="283"/>
                  </a:lnTo>
                  <a:lnTo>
                    <a:pt x="62" y="287"/>
                  </a:lnTo>
                  <a:lnTo>
                    <a:pt x="53" y="292"/>
                  </a:lnTo>
                  <a:lnTo>
                    <a:pt x="43" y="292"/>
                  </a:lnTo>
                  <a:lnTo>
                    <a:pt x="38" y="287"/>
                  </a:lnTo>
                  <a:lnTo>
                    <a:pt x="34" y="287"/>
                  </a:lnTo>
                  <a:lnTo>
                    <a:pt x="29" y="283"/>
                  </a:lnTo>
                  <a:lnTo>
                    <a:pt x="24" y="268"/>
                  </a:lnTo>
                  <a:lnTo>
                    <a:pt x="14" y="249"/>
                  </a:lnTo>
                  <a:lnTo>
                    <a:pt x="10" y="235"/>
                  </a:lnTo>
                  <a:lnTo>
                    <a:pt x="5" y="215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10" y="172"/>
                  </a:lnTo>
                  <a:lnTo>
                    <a:pt x="19" y="168"/>
                  </a:lnTo>
                  <a:lnTo>
                    <a:pt x="24" y="158"/>
                  </a:lnTo>
                  <a:lnTo>
                    <a:pt x="34" y="153"/>
                  </a:lnTo>
                  <a:lnTo>
                    <a:pt x="38" y="144"/>
                  </a:lnTo>
                  <a:lnTo>
                    <a:pt x="48" y="134"/>
                  </a:lnTo>
                  <a:lnTo>
                    <a:pt x="57" y="120"/>
                  </a:lnTo>
                  <a:lnTo>
                    <a:pt x="67" y="101"/>
                  </a:lnTo>
                  <a:lnTo>
                    <a:pt x="77" y="81"/>
                  </a:lnTo>
                  <a:lnTo>
                    <a:pt x="86" y="57"/>
                  </a:lnTo>
                  <a:lnTo>
                    <a:pt x="101" y="33"/>
                  </a:lnTo>
                  <a:lnTo>
                    <a:pt x="110" y="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"/>
            <p:cNvSpPr/>
            <p:nvPr/>
          </p:nvSpPr>
          <p:spPr>
            <a:xfrm>
              <a:off x="4117320" y="2990160"/>
              <a:ext cx="469080" cy="583920"/>
            </a:xfrm>
            <a:custGeom>
              <a:avLst/>
              <a:gdLst/>
              <a:ahLst/>
              <a:rect l="l" t="t" r="r" b="b"/>
              <a:pathLst>
                <a:path w="388" h="483">
                  <a:moveTo>
                    <a:pt x="91" y="483"/>
                  </a:moveTo>
                  <a:lnTo>
                    <a:pt x="86" y="483"/>
                  </a:lnTo>
                  <a:lnTo>
                    <a:pt x="77" y="479"/>
                  </a:lnTo>
                  <a:lnTo>
                    <a:pt x="72" y="474"/>
                  </a:lnTo>
                  <a:lnTo>
                    <a:pt x="62" y="464"/>
                  </a:lnTo>
                  <a:lnTo>
                    <a:pt x="57" y="455"/>
                  </a:lnTo>
                  <a:lnTo>
                    <a:pt x="48" y="435"/>
                  </a:lnTo>
                  <a:lnTo>
                    <a:pt x="38" y="421"/>
                  </a:lnTo>
                  <a:lnTo>
                    <a:pt x="34" y="397"/>
                  </a:lnTo>
                  <a:lnTo>
                    <a:pt x="24" y="378"/>
                  </a:lnTo>
                  <a:lnTo>
                    <a:pt x="14" y="359"/>
                  </a:lnTo>
                  <a:lnTo>
                    <a:pt x="10" y="344"/>
                  </a:lnTo>
                  <a:lnTo>
                    <a:pt x="5" y="330"/>
                  </a:lnTo>
                  <a:lnTo>
                    <a:pt x="5" y="316"/>
                  </a:lnTo>
                  <a:lnTo>
                    <a:pt x="0" y="306"/>
                  </a:lnTo>
                  <a:lnTo>
                    <a:pt x="5" y="297"/>
                  </a:lnTo>
                  <a:lnTo>
                    <a:pt x="5" y="292"/>
                  </a:lnTo>
                  <a:lnTo>
                    <a:pt x="10" y="282"/>
                  </a:lnTo>
                  <a:lnTo>
                    <a:pt x="19" y="277"/>
                  </a:lnTo>
                  <a:lnTo>
                    <a:pt x="29" y="277"/>
                  </a:lnTo>
                  <a:lnTo>
                    <a:pt x="38" y="273"/>
                  </a:lnTo>
                  <a:lnTo>
                    <a:pt x="48" y="277"/>
                  </a:lnTo>
                  <a:lnTo>
                    <a:pt x="53" y="277"/>
                  </a:lnTo>
                  <a:lnTo>
                    <a:pt x="67" y="277"/>
                  </a:lnTo>
                  <a:lnTo>
                    <a:pt x="77" y="273"/>
                  </a:lnTo>
                  <a:lnTo>
                    <a:pt x="91" y="268"/>
                  </a:lnTo>
                  <a:lnTo>
                    <a:pt x="96" y="263"/>
                  </a:lnTo>
                  <a:lnTo>
                    <a:pt x="105" y="253"/>
                  </a:lnTo>
                  <a:lnTo>
                    <a:pt x="120" y="244"/>
                  </a:lnTo>
                  <a:lnTo>
                    <a:pt x="134" y="225"/>
                  </a:lnTo>
                  <a:lnTo>
                    <a:pt x="158" y="206"/>
                  </a:lnTo>
                  <a:lnTo>
                    <a:pt x="182" y="186"/>
                  </a:lnTo>
                  <a:lnTo>
                    <a:pt x="206" y="158"/>
                  </a:lnTo>
                  <a:lnTo>
                    <a:pt x="220" y="143"/>
                  </a:lnTo>
                  <a:lnTo>
                    <a:pt x="239" y="124"/>
                  </a:lnTo>
                  <a:lnTo>
                    <a:pt x="254" y="110"/>
                  </a:lnTo>
                  <a:lnTo>
                    <a:pt x="268" y="91"/>
                  </a:lnTo>
                  <a:lnTo>
                    <a:pt x="297" y="67"/>
                  </a:lnTo>
                  <a:lnTo>
                    <a:pt x="321" y="43"/>
                  </a:lnTo>
                  <a:lnTo>
                    <a:pt x="340" y="24"/>
                  </a:lnTo>
                  <a:lnTo>
                    <a:pt x="359" y="14"/>
                  </a:lnTo>
                  <a:lnTo>
                    <a:pt x="369" y="4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4"/>
                  </a:lnTo>
                  <a:lnTo>
                    <a:pt x="388" y="9"/>
                  </a:lnTo>
                  <a:lnTo>
                    <a:pt x="383" y="14"/>
                  </a:lnTo>
                  <a:lnTo>
                    <a:pt x="383" y="19"/>
                  </a:lnTo>
                  <a:lnTo>
                    <a:pt x="378" y="28"/>
                  </a:lnTo>
                  <a:lnTo>
                    <a:pt x="374" y="43"/>
                  </a:lnTo>
                  <a:lnTo>
                    <a:pt x="369" y="52"/>
                  </a:lnTo>
                  <a:lnTo>
                    <a:pt x="364" y="67"/>
                  </a:lnTo>
                  <a:lnTo>
                    <a:pt x="354" y="81"/>
                  </a:lnTo>
                  <a:lnTo>
                    <a:pt x="345" y="100"/>
                  </a:lnTo>
                  <a:lnTo>
                    <a:pt x="335" y="119"/>
                  </a:lnTo>
                  <a:lnTo>
                    <a:pt x="326" y="143"/>
                  </a:lnTo>
                  <a:lnTo>
                    <a:pt x="311" y="162"/>
                  </a:lnTo>
                  <a:lnTo>
                    <a:pt x="297" y="186"/>
                  </a:lnTo>
                  <a:lnTo>
                    <a:pt x="283" y="215"/>
                  </a:lnTo>
                  <a:lnTo>
                    <a:pt x="263" y="239"/>
                  </a:lnTo>
                  <a:lnTo>
                    <a:pt x="249" y="268"/>
                  </a:lnTo>
                  <a:lnTo>
                    <a:pt x="230" y="297"/>
                  </a:lnTo>
                  <a:lnTo>
                    <a:pt x="216" y="320"/>
                  </a:lnTo>
                  <a:lnTo>
                    <a:pt x="201" y="344"/>
                  </a:lnTo>
                  <a:lnTo>
                    <a:pt x="187" y="364"/>
                  </a:lnTo>
                  <a:lnTo>
                    <a:pt x="172" y="383"/>
                  </a:lnTo>
                  <a:lnTo>
                    <a:pt x="163" y="402"/>
                  </a:lnTo>
                  <a:lnTo>
                    <a:pt x="148" y="416"/>
                  </a:lnTo>
                  <a:lnTo>
                    <a:pt x="139" y="431"/>
                  </a:lnTo>
                  <a:lnTo>
                    <a:pt x="129" y="445"/>
                  </a:lnTo>
                  <a:lnTo>
                    <a:pt x="120" y="455"/>
                  </a:lnTo>
                  <a:lnTo>
                    <a:pt x="115" y="464"/>
                  </a:lnTo>
                  <a:lnTo>
                    <a:pt x="105" y="469"/>
                  </a:lnTo>
                  <a:lnTo>
                    <a:pt x="101" y="474"/>
                  </a:lnTo>
                  <a:lnTo>
                    <a:pt x="96" y="479"/>
                  </a:lnTo>
                  <a:lnTo>
                    <a:pt x="91" y="483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3" name=""/>
          <p:cNvGraphicFramePr/>
          <p:nvPr/>
        </p:nvGraphicFramePr>
        <p:xfrm>
          <a:off x="3276720" y="2286000"/>
          <a:ext cx="3124080" cy="266688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 rot="5400000">
            <a:off x="-457560" y="2514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2590920" y="1295280"/>
            <a:ext cx="4952880" cy="4605480"/>
            <a:chOff x="2590920" y="1295280"/>
            <a:chExt cx="4952880" cy="4605480"/>
          </a:xfrm>
        </p:grpSpPr>
        <p:sp>
          <p:nvSpPr>
            <p:cNvPr id="196" name="AutoShape 6"/>
            <p:cNvSpPr/>
            <p:nvPr/>
          </p:nvSpPr>
          <p:spPr>
            <a:xfrm>
              <a:off x="2590920" y="1295280"/>
              <a:ext cx="4952880" cy="46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3890880" y="2466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3909240" y="2439720"/>
              <a:ext cx="2298960" cy="2305800"/>
            </a:xfrm>
            <a:custGeom>
              <a:avLst/>
              <a:gdLst/>
              <a:ahLst/>
              <a:rect l="l" t="t" r="r" b="b"/>
              <a:pathLst>
                <a:path w="1901" h="1906">
                  <a:moveTo>
                    <a:pt x="1135" y="704"/>
                  </a:moveTo>
                  <a:lnTo>
                    <a:pt x="1140" y="704"/>
                  </a:lnTo>
                  <a:lnTo>
                    <a:pt x="1144" y="699"/>
                  </a:lnTo>
                  <a:lnTo>
                    <a:pt x="1149" y="694"/>
                  </a:lnTo>
                  <a:lnTo>
                    <a:pt x="1154" y="689"/>
                  </a:lnTo>
                  <a:lnTo>
                    <a:pt x="1159" y="680"/>
                  </a:lnTo>
                  <a:lnTo>
                    <a:pt x="1163" y="670"/>
                  </a:lnTo>
                  <a:lnTo>
                    <a:pt x="1173" y="661"/>
                  </a:lnTo>
                  <a:lnTo>
                    <a:pt x="1178" y="651"/>
                  </a:lnTo>
                  <a:lnTo>
                    <a:pt x="1183" y="637"/>
                  </a:lnTo>
                  <a:lnTo>
                    <a:pt x="1187" y="622"/>
                  </a:lnTo>
                  <a:lnTo>
                    <a:pt x="1197" y="608"/>
                  </a:lnTo>
                  <a:lnTo>
                    <a:pt x="1202" y="589"/>
                  </a:lnTo>
                  <a:lnTo>
                    <a:pt x="1207" y="574"/>
                  </a:lnTo>
                  <a:lnTo>
                    <a:pt x="1216" y="555"/>
                  </a:lnTo>
                  <a:lnTo>
                    <a:pt x="1231" y="512"/>
                  </a:lnTo>
                  <a:lnTo>
                    <a:pt x="1245" y="474"/>
                  </a:lnTo>
                  <a:lnTo>
                    <a:pt x="1259" y="435"/>
                  </a:lnTo>
                  <a:lnTo>
                    <a:pt x="1269" y="397"/>
                  </a:lnTo>
                  <a:lnTo>
                    <a:pt x="1278" y="364"/>
                  </a:lnTo>
                  <a:lnTo>
                    <a:pt x="1283" y="335"/>
                  </a:lnTo>
                  <a:lnTo>
                    <a:pt x="1293" y="301"/>
                  </a:lnTo>
                  <a:lnTo>
                    <a:pt x="1298" y="273"/>
                  </a:lnTo>
                  <a:lnTo>
                    <a:pt x="1298" y="249"/>
                  </a:lnTo>
                  <a:lnTo>
                    <a:pt x="1302" y="225"/>
                  </a:lnTo>
                  <a:lnTo>
                    <a:pt x="1302" y="206"/>
                  </a:lnTo>
                  <a:lnTo>
                    <a:pt x="1302" y="191"/>
                  </a:lnTo>
                  <a:lnTo>
                    <a:pt x="1302" y="172"/>
                  </a:lnTo>
                  <a:lnTo>
                    <a:pt x="1298" y="162"/>
                  </a:lnTo>
                  <a:lnTo>
                    <a:pt x="1298" y="148"/>
                  </a:lnTo>
                  <a:lnTo>
                    <a:pt x="1293" y="138"/>
                  </a:lnTo>
                  <a:lnTo>
                    <a:pt x="1293" y="134"/>
                  </a:lnTo>
                  <a:lnTo>
                    <a:pt x="1283" y="124"/>
                  </a:lnTo>
                  <a:lnTo>
                    <a:pt x="1274" y="119"/>
                  </a:lnTo>
                  <a:lnTo>
                    <a:pt x="1254" y="115"/>
                  </a:lnTo>
                  <a:lnTo>
                    <a:pt x="1240" y="115"/>
                  </a:lnTo>
                  <a:lnTo>
                    <a:pt x="1231" y="115"/>
                  </a:lnTo>
                  <a:lnTo>
                    <a:pt x="1216" y="115"/>
                  </a:lnTo>
                  <a:lnTo>
                    <a:pt x="1202" y="119"/>
                  </a:lnTo>
                  <a:lnTo>
                    <a:pt x="1183" y="119"/>
                  </a:lnTo>
                  <a:lnTo>
                    <a:pt x="1163" y="124"/>
                  </a:lnTo>
                  <a:lnTo>
                    <a:pt x="1144" y="129"/>
                  </a:lnTo>
                  <a:lnTo>
                    <a:pt x="1120" y="134"/>
                  </a:lnTo>
                  <a:lnTo>
                    <a:pt x="1092" y="138"/>
                  </a:lnTo>
                  <a:lnTo>
                    <a:pt x="1034" y="153"/>
                  </a:lnTo>
                  <a:lnTo>
                    <a:pt x="1010" y="158"/>
                  </a:lnTo>
                  <a:lnTo>
                    <a:pt x="981" y="162"/>
                  </a:lnTo>
                  <a:lnTo>
                    <a:pt x="958" y="167"/>
                  </a:lnTo>
                  <a:lnTo>
                    <a:pt x="934" y="172"/>
                  </a:lnTo>
                  <a:lnTo>
                    <a:pt x="914" y="177"/>
                  </a:lnTo>
                  <a:lnTo>
                    <a:pt x="895" y="182"/>
                  </a:lnTo>
                  <a:lnTo>
                    <a:pt x="876" y="186"/>
                  </a:lnTo>
                  <a:lnTo>
                    <a:pt x="857" y="191"/>
                  </a:lnTo>
                  <a:lnTo>
                    <a:pt x="838" y="191"/>
                  </a:lnTo>
                  <a:lnTo>
                    <a:pt x="823" y="196"/>
                  </a:lnTo>
                  <a:lnTo>
                    <a:pt x="809" y="191"/>
                  </a:lnTo>
                  <a:lnTo>
                    <a:pt x="795" y="191"/>
                  </a:lnTo>
                  <a:lnTo>
                    <a:pt x="785" y="186"/>
                  </a:lnTo>
                  <a:lnTo>
                    <a:pt x="771" y="182"/>
                  </a:lnTo>
                  <a:lnTo>
                    <a:pt x="761" y="177"/>
                  </a:lnTo>
                  <a:lnTo>
                    <a:pt x="752" y="172"/>
                  </a:lnTo>
                  <a:lnTo>
                    <a:pt x="742" y="167"/>
                  </a:lnTo>
                  <a:lnTo>
                    <a:pt x="732" y="162"/>
                  </a:lnTo>
                  <a:lnTo>
                    <a:pt x="728" y="158"/>
                  </a:lnTo>
                  <a:lnTo>
                    <a:pt x="723" y="153"/>
                  </a:lnTo>
                  <a:lnTo>
                    <a:pt x="723" y="148"/>
                  </a:lnTo>
                  <a:lnTo>
                    <a:pt x="723" y="138"/>
                  </a:lnTo>
                  <a:lnTo>
                    <a:pt x="728" y="138"/>
                  </a:lnTo>
                  <a:lnTo>
                    <a:pt x="732" y="138"/>
                  </a:lnTo>
                  <a:lnTo>
                    <a:pt x="742" y="138"/>
                  </a:lnTo>
                  <a:lnTo>
                    <a:pt x="756" y="138"/>
                  </a:lnTo>
                  <a:lnTo>
                    <a:pt x="766" y="134"/>
                  </a:lnTo>
                  <a:lnTo>
                    <a:pt x="780" y="134"/>
                  </a:lnTo>
                  <a:lnTo>
                    <a:pt x="799" y="129"/>
                  </a:lnTo>
                  <a:lnTo>
                    <a:pt x="814" y="129"/>
                  </a:lnTo>
                  <a:lnTo>
                    <a:pt x="833" y="124"/>
                  </a:lnTo>
                  <a:lnTo>
                    <a:pt x="857" y="119"/>
                  </a:lnTo>
                  <a:lnTo>
                    <a:pt x="881" y="115"/>
                  </a:lnTo>
                  <a:lnTo>
                    <a:pt x="905" y="110"/>
                  </a:lnTo>
                  <a:lnTo>
                    <a:pt x="929" y="105"/>
                  </a:lnTo>
                  <a:lnTo>
                    <a:pt x="958" y="95"/>
                  </a:lnTo>
                  <a:lnTo>
                    <a:pt x="986" y="91"/>
                  </a:lnTo>
                  <a:lnTo>
                    <a:pt x="1015" y="81"/>
                  </a:lnTo>
                  <a:lnTo>
                    <a:pt x="1044" y="76"/>
                  </a:lnTo>
                  <a:lnTo>
                    <a:pt x="1072" y="71"/>
                  </a:lnTo>
                  <a:lnTo>
                    <a:pt x="1096" y="62"/>
                  </a:lnTo>
                  <a:lnTo>
                    <a:pt x="1125" y="57"/>
                  </a:lnTo>
                  <a:lnTo>
                    <a:pt x="1144" y="52"/>
                  </a:lnTo>
                  <a:lnTo>
                    <a:pt x="1168" y="47"/>
                  </a:lnTo>
                  <a:lnTo>
                    <a:pt x="1187" y="43"/>
                  </a:lnTo>
                  <a:lnTo>
                    <a:pt x="1202" y="38"/>
                  </a:lnTo>
                  <a:lnTo>
                    <a:pt x="1216" y="33"/>
                  </a:lnTo>
                  <a:lnTo>
                    <a:pt x="1231" y="33"/>
                  </a:lnTo>
                  <a:lnTo>
                    <a:pt x="1240" y="28"/>
                  </a:lnTo>
                  <a:lnTo>
                    <a:pt x="1254" y="24"/>
                  </a:lnTo>
                  <a:lnTo>
                    <a:pt x="1259" y="24"/>
                  </a:lnTo>
                  <a:lnTo>
                    <a:pt x="1264" y="19"/>
                  </a:lnTo>
                  <a:lnTo>
                    <a:pt x="1269" y="19"/>
                  </a:lnTo>
                  <a:lnTo>
                    <a:pt x="1274" y="14"/>
                  </a:lnTo>
                  <a:lnTo>
                    <a:pt x="1283" y="9"/>
                  </a:lnTo>
                  <a:lnTo>
                    <a:pt x="1293" y="4"/>
                  </a:lnTo>
                  <a:lnTo>
                    <a:pt x="1302" y="0"/>
                  </a:lnTo>
                  <a:lnTo>
                    <a:pt x="1317" y="0"/>
                  </a:lnTo>
                  <a:lnTo>
                    <a:pt x="1322" y="0"/>
                  </a:lnTo>
                  <a:lnTo>
                    <a:pt x="1326" y="4"/>
                  </a:lnTo>
                  <a:lnTo>
                    <a:pt x="1336" y="4"/>
                  </a:lnTo>
                  <a:lnTo>
                    <a:pt x="1350" y="9"/>
                  </a:lnTo>
                  <a:lnTo>
                    <a:pt x="1365" y="19"/>
                  </a:lnTo>
                  <a:lnTo>
                    <a:pt x="1379" y="28"/>
                  </a:lnTo>
                  <a:lnTo>
                    <a:pt x="1398" y="38"/>
                  </a:lnTo>
                  <a:lnTo>
                    <a:pt x="1422" y="47"/>
                  </a:lnTo>
                  <a:lnTo>
                    <a:pt x="1436" y="62"/>
                  </a:lnTo>
                  <a:lnTo>
                    <a:pt x="1456" y="71"/>
                  </a:lnTo>
                  <a:lnTo>
                    <a:pt x="1465" y="81"/>
                  </a:lnTo>
                  <a:lnTo>
                    <a:pt x="1480" y="91"/>
                  </a:lnTo>
                  <a:lnTo>
                    <a:pt x="1484" y="100"/>
                  </a:lnTo>
                  <a:lnTo>
                    <a:pt x="1494" y="105"/>
                  </a:lnTo>
                  <a:lnTo>
                    <a:pt x="1499" y="110"/>
                  </a:lnTo>
                  <a:lnTo>
                    <a:pt x="1499" y="115"/>
                  </a:lnTo>
                  <a:lnTo>
                    <a:pt x="1494" y="124"/>
                  </a:lnTo>
                  <a:lnTo>
                    <a:pt x="1489" y="134"/>
                  </a:lnTo>
                  <a:lnTo>
                    <a:pt x="1484" y="143"/>
                  </a:lnTo>
                  <a:lnTo>
                    <a:pt x="1470" y="148"/>
                  </a:lnTo>
                  <a:lnTo>
                    <a:pt x="1460" y="153"/>
                  </a:lnTo>
                  <a:lnTo>
                    <a:pt x="1456" y="162"/>
                  </a:lnTo>
                  <a:lnTo>
                    <a:pt x="1451" y="172"/>
                  </a:lnTo>
                  <a:lnTo>
                    <a:pt x="1446" y="186"/>
                  </a:lnTo>
                  <a:lnTo>
                    <a:pt x="1441" y="201"/>
                  </a:lnTo>
                  <a:lnTo>
                    <a:pt x="1436" y="220"/>
                  </a:lnTo>
                  <a:lnTo>
                    <a:pt x="1432" y="239"/>
                  </a:lnTo>
                  <a:lnTo>
                    <a:pt x="1427" y="263"/>
                  </a:lnTo>
                  <a:lnTo>
                    <a:pt x="1422" y="292"/>
                  </a:lnTo>
                  <a:lnTo>
                    <a:pt x="1417" y="320"/>
                  </a:lnTo>
                  <a:lnTo>
                    <a:pt x="1408" y="354"/>
                  </a:lnTo>
                  <a:lnTo>
                    <a:pt x="1398" y="388"/>
                  </a:lnTo>
                  <a:lnTo>
                    <a:pt x="1384" y="431"/>
                  </a:lnTo>
                  <a:lnTo>
                    <a:pt x="1374" y="474"/>
                  </a:lnTo>
                  <a:lnTo>
                    <a:pt x="1360" y="522"/>
                  </a:lnTo>
                  <a:lnTo>
                    <a:pt x="1341" y="570"/>
                  </a:lnTo>
                  <a:lnTo>
                    <a:pt x="1336" y="598"/>
                  </a:lnTo>
                  <a:lnTo>
                    <a:pt x="1326" y="622"/>
                  </a:lnTo>
                  <a:lnTo>
                    <a:pt x="1317" y="646"/>
                  </a:lnTo>
                  <a:lnTo>
                    <a:pt x="1312" y="665"/>
                  </a:lnTo>
                  <a:lnTo>
                    <a:pt x="1302" y="689"/>
                  </a:lnTo>
                  <a:lnTo>
                    <a:pt x="1293" y="708"/>
                  </a:lnTo>
                  <a:lnTo>
                    <a:pt x="1288" y="728"/>
                  </a:lnTo>
                  <a:lnTo>
                    <a:pt x="1278" y="747"/>
                  </a:lnTo>
                  <a:lnTo>
                    <a:pt x="1269" y="761"/>
                  </a:lnTo>
                  <a:lnTo>
                    <a:pt x="1264" y="775"/>
                  </a:lnTo>
                  <a:lnTo>
                    <a:pt x="1254" y="790"/>
                  </a:lnTo>
                  <a:lnTo>
                    <a:pt x="1250" y="799"/>
                  </a:lnTo>
                  <a:lnTo>
                    <a:pt x="1240" y="814"/>
                  </a:lnTo>
                  <a:lnTo>
                    <a:pt x="1235" y="823"/>
                  </a:lnTo>
                  <a:lnTo>
                    <a:pt x="1226" y="828"/>
                  </a:lnTo>
                  <a:lnTo>
                    <a:pt x="1221" y="838"/>
                  </a:lnTo>
                  <a:lnTo>
                    <a:pt x="1207" y="852"/>
                  </a:lnTo>
                  <a:lnTo>
                    <a:pt x="1192" y="862"/>
                  </a:lnTo>
                  <a:lnTo>
                    <a:pt x="1178" y="871"/>
                  </a:lnTo>
                  <a:lnTo>
                    <a:pt x="1168" y="881"/>
                  </a:lnTo>
                  <a:lnTo>
                    <a:pt x="1159" y="886"/>
                  </a:lnTo>
                  <a:lnTo>
                    <a:pt x="1149" y="890"/>
                  </a:lnTo>
                  <a:lnTo>
                    <a:pt x="1144" y="895"/>
                  </a:lnTo>
                  <a:lnTo>
                    <a:pt x="1135" y="895"/>
                  </a:lnTo>
                  <a:lnTo>
                    <a:pt x="1130" y="895"/>
                  </a:lnTo>
                  <a:lnTo>
                    <a:pt x="1125" y="890"/>
                  </a:lnTo>
                  <a:lnTo>
                    <a:pt x="1120" y="886"/>
                  </a:lnTo>
                  <a:lnTo>
                    <a:pt x="1116" y="881"/>
                  </a:lnTo>
                  <a:lnTo>
                    <a:pt x="1111" y="876"/>
                  </a:lnTo>
                  <a:lnTo>
                    <a:pt x="1106" y="866"/>
                  </a:lnTo>
                  <a:lnTo>
                    <a:pt x="1106" y="857"/>
                  </a:lnTo>
                  <a:lnTo>
                    <a:pt x="1101" y="847"/>
                  </a:lnTo>
                  <a:lnTo>
                    <a:pt x="1096" y="833"/>
                  </a:lnTo>
                  <a:lnTo>
                    <a:pt x="1092" y="819"/>
                  </a:lnTo>
                  <a:lnTo>
                    <a:pt x="1087" y="804"/>
                  </a:lnTo>
                  <a:lnTo>
                    <a:pt x="1077" y="790"/>
                  </a:lnTo>
                  <a:lnTo>
                    <a:pt x="1068" y="775"/>
                  </a:lnTo>
                  <a:lnTo>
                    <a:pt x="1058" y="756"/>
                  </a:lnTo>
                  <a:lnTo>
                    <a:pt x="1049" y="737"/>
                  </a:lnTo>
                  <a:lnTo>
                    <a:pt x="1029" y="723"/>
                  </a:lnTo>
                  <a:lnTo>
                    <a:pt x="1015" y="704"/>
                  </a:lnTo>
                  <a:lnTo>
                    <a:pt x="1005" y="694"/>
                  </a:lnTo>
                  <a:lnTo>
                    <a:pt x="996" y="680"/>
                  </a:lnTo>
                  <a:lnTo>
                    <a:pt x="991" y="670"/>
                  </a:lnTo>
                  <a:lnTo>
                    <a:pt x="986" y="661"/>
                  </a:lnTo>
                  <a:lnTo>
                    <a:pt x="986" y="656"/>
                  </a:lnTo>
                  <a:lnTo>
                    <a:pt x="986" y="651"/>
                  </a:lnTo>
                  <a:lnTo>
                    <a:pt x="986" y="646"/>
                  </a:lnTo>
                  <a:lnTo>
                    <a:pt x="991" y="646"/>
                  </a:lnTo>
                  <a:lnTo>
                    <a:pt x="996" y="646"/>
                  </a:lnTo>
                  <a:lnTo>
                    <a:pt x="1001" y="651"/>
                  </a:lnTo>
                  <a:lnTo>
                    <a:pt x="1010" y="651"/>
                  </a:lnTo>
                  <a:lnTo>
                    <a:pt x="1020" y="656"/>
                  </a:lnTo>
                  <a:lnTo>
                    <a:pt x="1029" y="665"/>
                  </a:lnTo>
                  <a:lnTo>
                    <a:pt x="1044" y="670"/>
                  </a:lnTo>
                  <a:lnTo>
                    <a:pt x="1058" y="680"/>
                  </a:lnTo>
                  <a:lnTo>
                    <a:pt x="1068" y="689"/>
                  </a:lnTo>
                  <a:lnTo>
                    <a:pt x="1082" y="694"/>
                  </a:lnTo>
                  <a:lnTo>
                    <a:pt x="1092" y="699"/>
                  </a:lnTo>
                  <a:lnTo>
                    <a:pt x="1101" y="704"/>
                  </a:lnTo>
                  <a:lnTo>
                    <a:pt x="1111" y="708"/>
                  </a:lnTo>
                  <a:lnTo>
                    <a:pt x="1120" y="708"/>
                  </a:lnTo>
                  <a:lnTo>
                    <a:pt x="1130" y="708"/>
                  </a:lnTo>
                  <a:lnTo>
                    <a:pt x="1135" y="704"/>
                  </a:lnTo>
                  <a:close/>
                  <a:moveTo>
                    <a:pt x="1551" y="421"/>
                  </a:moveTo>
                  <a:lnTo>
                    <a:pt x="1571" y="431"/>
                  </a:lnTo>
                  <a:lnTo>
                    <a:pt x="1590" y="435"/>
                  </a:lnTo>
                  <a:lnTo>
                    <a:pt x="1604" y="440"/>
                  </a:lnTo>
                  <a:lnTo>
                    <a:pt x="1618" y="445"/>
                  </a:lnTo>
                  <a:lnTo>
                    <a:pt x="1633" y="455"/>
                  </a:lnTo>
                  <a:lnTo>
                    <a:pt x="1642" y="459"/>
                  </a:lnTo>
                  <a:lnTo>
                    <a:pt x="1647" y="464"/>
                  </a:lnTo>
                  <a:lnTo>
                    <a:pt x="1652" y="474"/>
                  </a:lnTo>
                  <a:lnTo>
                    <a:pt x="1657" y="488"/>
                  </a:lnTo>
                  <a:lnTo>
                    <a:pt x="1662" y="502"/>
                  </a:lnTo>
                  <a:lnTo>
                    <a:pt x="1662" y="522"/>
                  </a:lnTo>
                  <a:lnTo>
                    <a:pt x="1662" y="536"/>
                  </a:lnTo>
                  <a:lnTo>
                    <a:pt x="1662" y="546"/>
                  </a:lnTo>
                  <a:lnTo>
                    <a:pt x="1657" y="555"/>
                  </a:lnTo>
                  <a:lnTo>
                    <a:pt x="1657" y="560"/>
                  </a:lnTo>
                  <a:lnTo>
                    <a:pt x="1652" y="570"/>
                  </a:lnTo>
                  <a:lnTo>
                    <a:pt x="1642" y="574"/>
                  </a:lnTo>
                  <a:lnTo>
                    <a:pt x="1638" y="574"/>
                  </a:lnTo>
                  <a:lnTo>
                    <a:pt x="1628" y="579"/>
                  </a:lnTo>
                  <a:lnTo>
                    <a:pt x="1618" y="579"/>
                  </a:lnTo>
                  <a:lnTo>
                    <a:pt x="1614" y="579"/>
                  </a:lnTo>
                  <a:lnTo>
                    <a:pt x="1604" y="579"/>
                  </a:lnTo>
                  <a:lnTo>
                    <a:pt x="1595" y="574"/>
                  </a:lnTo>
                  <a:lnTo>
                    <a:pt x="1585" y="570"/>
                  </a:lnTo>
                  <a:lnTo>
                    <a:pt x="1575" y="565"/>
                  </a:lnTo>
                  <a:lnTo>
                    <a:pt x="1561" y="560"/>
                  </a:lnTo>
                  <a:lnTo>
                    <a:pt x="1547" y="550"/>
                  </a:lnTo>
                  <a:lnTo>
                    <a:pt x="1527" y="541"/>
                  </a:lnTo>
                  <a:lnTo>
                    <a:pt x="1508" y="531"/>
                  </a:lnTo>
                  <a:lnTo>
                    <a:pt x="1489" y="522"/>
                  </a:lnTo>
                  <a:lnTo>
                    <a:pt x="1470" y="507"/>
                  </a:lnTo>
                  <a:lnTo>
                    <a:pt x="1446" y="498"/>
                  </a:lnTo>
                  <a:lnTo>
                    <a:pt x="1422" y="483"/>
                  </a:lnTo>
                  <a:lnTo>
                    <a:pt x="1398" y="464"/>
                  </a:lnTo>
                  <a:lnTo>
                    <a:pt x="1369" y="450"/>
                  </a:lnTo>
                  <a:lnTo>
                    <a:pt x="1341" y="431"/>
                  </a:lnTo>
                  <a:lnTo>
                    <a:pt x="1360" y="421"/>
                  </a:lnTo>
                  <a:lnTo>
                    <a:pt x="1379" y="411"/>
                  </a:lnTo>
                  <a:lnTo>
                    <a:pt x="1403" y="402"/>
                  </a:lnTo>
                  <a:lnTo>
                    <a:pt x="1422" y="397"/>
                  </a:lnTo>
                  <a:lnTo>
                    <a:pt x="1432" y="397"/>
                  </a:lnTo>
                  <a:lnTo>
                    <a:pt x="1441" y="397"/>
                  </a:lnTo>
                  <a:lnTo>
                    <a:pt x="1456" y="402"/>
                  </a:lnTo>
                  <a:lnTo>
                    <a:pt x="1470" y="402"/>
                  </a:lnTo>
                  <a:lnTo>
                    <a:pt x="1489" y="407"/>
                  </a:lnTo>
                  <a:lnTo>
                    <a:pt x="1508" y="411"/>
                  </a:lnTo>
                  <a:lnTo>
                    <a:pt x="1527" y="416"/>
                  </a:lnTo>
                  <a:lnTo>
                    <a:pt x="1551" y="421"/>
                  </a:lnTo>
                  <a:close/>
                  <a:moveTo>
                    <a:pt x="1542" y="953"/>
                  </a:moveTo>
                  <a:lnTo>
                    <a:pt x="1575" y="953"/>
                  </a:lnTo>
                  <a:lnTo>
                    <a:pt x="1604" y="962"/>
                  </a:lnTo>
                  <a:lnTo>
                    <a:pt x="1623" y="962"/>
                  </a:lnTo>
                  <a:lnTo>
                    <a:pt x="1638" y="972"/>
                  </a:lnTo>
                  <a:lnTo>
                    <a:pt x="1652" y="977"/>
                  </a:lnTo>
                  <a:lnTo>
                    <a:pt x="1671" y="986"/>
                  </a:lnTo>
                  <a:lnTo>
                    <a:pt x="1686" y="996"/>
                  </a:lnTo>
                  <a:lnTo>
                    <a:pt x="1700" y="1005"/>
                  </a:lnTo>
                  <a:lnTo>
                    <a:pt x="1709" y="1010"/>
                  </a:lnTo>
                  <a:lnTo>
                    <a:pt x="1724" y="1015"/>
                  </a:lnTo>
                  <a:lnTo>
                    <a:pt x="1729" y="1025"/>
                  </a:lnTo>
                  <a:lnTo>
                    <a:pt x="1738" y="1029"/>
                  </a:lnTo>
                  <a:lnTo>
                    <a:pt x="1743" y="1034"/>
                  </a:lnTo>
                  <a:lnTo>
                    <a:pt x="1748" y="1034"/>
                  </a:lnTo>
                  <a:lnTo>
                    <a:pt x="1753" y="1049"/>
                  </a:lnTo>
                  <a:lnTo>
                    <a:pt x="1753" y="1053"/>
                  </a:lnTo>
                  <a:lnTo>
                    <a:pt x="1753" y="1063"/>
                  </a:lnTo>
                  <a:lnTo>
                    <a:pt x="1748" y="1068"/>
                  </a:lnTo>
                  <a:lnTo>
                    <a:pt x="1743" y="1072"/>
                  </a:lnTo>
                  <a:lnTo>
                    <a:pt x="1733" y="1072"/>
                  </a:lnTo>
                  <a:lnTo>
                    <a:pt x="1729" y="1077"/>
                  </a:lnTo>
                  <a:lnTo>
                    <a:pt x="1719" y="1077"/>
                  </a:lnTo>
                  <a:lnTo>
                    <a:pt x="1705" y="1077"/>
                  </a:lnTo>
                  <a:lnTo>
                    <a:pt x="1690" y="1077"/>
                  </a:lnTo>
                  <a:lnTo>
                    <a:pt x="1676" y="1077"/>
                  </a:lnTo>
                  <a:lnTo>
                    <a:pt x="1662" y="1082"/>
                  </a:lnTo>
                  <a:lnTo>
                    <a:pt x="1642" y="1082"/>
                  </a:lnTo>
                  <a:lnTo>
                    <a:pt x="1618" y="1082"/>
                  </a:lnTo>
                  <a:lnTo>
                    <a:pt x="1599" y="1082"/>
                  </a:lnTo>
                  <a:lnTo>
                    <a:pt x="1575" y="1082"/>
                  </a:lnTo>
                  <a:lnTo>
                    <a:pt x="1547" y="1077"/>
                  </a:lnTo>
                  <a:lnTo>
                    <a:pt x="1518" y="1077"/>
                  </a:lnTo>
                  <a:lnTo>
                    <a:pt x="1489" y="1077"/>
                  </a:lnTo>
                  <a:lnTo>
                    <a:pt x="1427" y="1072"/>
                  </a:lnTo>
                  <a:lnTo>
                    <a:pt x="1365" y="1072"/>
                  </a:lnTo>
                  <a:lnTo>
                    <a:pt x="1245" y="1077"/>
                  </a:lnTo>
                  <a:lnTo>
                    <a:pt x="1125" y="1077"/>
                  </a:lnTo>
                  <a:lnTo>
                    <a:pt x="1005" y="1087"/>
                  </a:lnTo>
                  <a:lnTo>
                    <a:pt x="948" y="1092"/>
                  </a:lnTo>
                  <a:lnTo>
                    <a:pt x="895" y="1096"/>
                  </a:lnTo>
                  <a:lnTo>
                    <a:pt x="843" y="1106"/>
                  </a:lnTo>
                  <a:lnTo>
                    <a:pt x="790" y="1111"/>
                  </a:lnTo>
                  <a:lnTo>
                    <a:pt x="742" y="1116"/>
                  </a:lnTo>
                  <a:lnTo>
                    <a:pt x="694" y="1120"/>
                  </a:lnTo>
                  <a:lnTo>
                    <a:pt x="651" y="1125"/>
                  </a:lnTo>
                  <a:lnTo>
                    <a:pt x="608" y="1125"/>
                  </a:lnTo>
                  <a:lnTo>
                    <a:pt x="526" y="1140"/>
                  </a:lnTo>
                  <a:lnTo>
                    <a:pt x="440" y="1149"/>
                  </a:lnTo>
                  <a:lnTo>
                    <a:pt x="354" y="1159"/>
                  </a:lnTo>
                  <a:lnTo>
                    <a:pt x="273" y="1168"/>
                  </a:lnTo>
                  <a:lnTo>
                    <a:pt x="253" y="1173"/>
                  </a:lnTo>
                  <a:lnTo>
                    <a:pt x="234" y="1173"/>
                  </a:lnTo>
                  <a:lnTo>
                    <a:pt x="215" y="1178"/>
                  </a:lnTo>
                  <a:lnTo>
                    <a:pt x="196" y="1178"/>
                  </a:lnTo>
                  <a:lnTo>
                    <a:pt x="182" y="1183"/>
                  </a:lnTo>
                  <a:lnTo>
                    <a:pt x="167" y="1183"/>
                  </a:lnTo>
                  <a:lnTo>
                    <a:pt x="153" y="1187"/>
                  </a:lnTo>
                  <a:lnTo>
                    <a:pt x="143" y="1187"/>
                  </a:lnTo>
                  <a:lnTo>
                    <a:pt x="134" y="1187"/>
                  </a:lnTo>
                  <a:lnTo>
                    <a:pt x="124" y="1192"/>
                  </a:lnTo>
                  <a:lnTo>
                    <a:pt x="115" y="1192"/>
                  </a:lnTo>
                  <a:lnTo>
                    <a:pt x="105" y="1192"/>
                  </a:lnTo>
                  <a:lnTo>
                    <a:pt x="100" y="1192"/>
                  </a:lnTo>
                  <a:lnTo>
                    <a:pt x="95" y="1192"/>
                  </a:lnTo>
                  <a:lnTo>
                    <a:pt x="91" y="1192"/>
                  </a:lnTo>
                  <a:lnTo>
                    <a:pt x="86" y="1192"/>
                  </a:lnTo>
                  <a:lnTo>
                    <a:pt x="81" y="1192"/>
                  </a:lnTo>
                  <a:lnTo>
                    <a:pt x="76" y="1187"/>
                  </a:lnTo>
                  <a:lnTo>
                    <a:pt x="67" y="1187"/>
                  </a:lnTo>
                  <a:lnTo>
                    <a:pt x="57" y="1183"/>
                  </a:lnTo>
                  <a:lnTo>
                    <a:pt x="47" y="1178"/>
                  </a:lnTo>
                  <a:lnTo>
                    <a:pt x="38" y="1168"/>
                  </a:lnTo>
                  <a:lnTo>
                    <a:pt x="28" y="1159"/>
                  </a:lnTo>
                  <a:lnTo>
                    <a:pt x="24" y="1149"/>
                  </a:lnTo>
                  <a:lnTo>
                    <a:pt x="14" y="1144"/>
                  </a:lnTo>
                  <a:lnTo>
                    <a:pt x="9" y="1135"/>
                  </a:lnTo>
                  <a:lnTo>
                    <a:pt x="4" y="1130"/>
                  </a:lnTo>
                  <a:lnTo>
                    <a:pt x="4" y="1125"/>
                  </a:lnTo>
                  <a:lnTo>
                    <a:pt x="0" y="1120"/>
                  </a:lnTo>
                  <a:lnTo>
                    <a:pt x="4" y="1116"/>
                  </a:lnTo>
                  <a:lnTo>
                    <a:pt x="4" y="1111"/>
                  </a:lnTo>
                  <a:lnTo>
                    <a:pt x="9" y="1106"/>
                  </a:lnTo>
                  <a:lnTo>
                    <a:pt x="19" y="1106"/>
                  </a:lnTo>
                  <a:lnTo>
                    <a:pt x="28" y="1106"/>
                  </a:lnTo>
                  <a:lnTo>
                    <a:pt x="43" y="1101"/>
                  </a:lnTo>
                  <a:lnTo>
                    <a:pt x="62" y="1101"/>
                  </a:lnTo>
                  <a:lnTo>
                    <a:pt x="86" y="1101"/>
                  </a:lnTo>
                  <a:lnTo>
                    <a:pt x="115" y="1096"/>
                  </a:lnTo>
                  <a:lnTo>
                    <a:pt x="143" y="1092"/>
                  </a:lnTo>
                  <a:lnTo>
                    <a:pt x="177" y="1092"/>
                  </a:lnTo>
                  <a:lnTo>
                    <a:pt x="215" y="1087"/>
                  </a:lnTo>
                  <a:lnTo>
                    <a:pt x="258" y="1082"/>
                  </a:lnTo>
                  <a:lnTo>
                    <a:pt x="306" y="1082"/>
                  </a:lnTo>
                  <a:lnTo>
                    <a:pt x="354" y="1077"/>
                  </a:lnTo>
                  <a:lnTo>
                    <a:pt x="411" y="1072"/>
                  </a:lnTo>
                  <a:lnTo>
                    <a:pt x="469" y="1068"/>
                  </a:lnTo>
                  <a:lnTo>
                    <a:pt x="531" y="1063"/>
                  </a:lnTo>
                  <a:lnTo>
                    <a:pt x="651" y="1049"/>
                  </a:lnTo>
                  <a:lnTo>
                    <a:pt x="713" y="1044"/>
                  </a:lnTo>
                  <a:lnTo>
                    <a:pt x="771" y="1034"/>
                  </a:lnTo>
                  <a:lnTo>
                    <a:pt x="828" y="1029"/>
                  </a:lnTo>
                  <a:lnTo>
                    <a:pt x="881" y="1025"/>
                  </a:lnTo>
                  <a:lnTo>
                    <a:pt x="938" y="1015"/>
                  </a:lnTo>
                  <a:lnTo>
                    <a:pt x="986" y="1010"/>
                  </a:lnTo>
                  <a:lnTo>
                    <a:pt x="1039" y="1005"/>
                  </a:lnTo>
                  <a:lnTo>
                    <a:pt x="1087" y="1005"/>
                  </a:lnTo>
                  <a:lnTo>
                    <a:pt x="1135" y="1001"/>
                  </a:lnTo>
                  <a:lnTo>
                    <a:pt x="1183" y="991"/>
                  </a:lnTo>
                  <a:lnTo>
                    <a:pt x="1226" y="986"/>
                  </a:lnTo>
                  <a:lnTo>
                    <a:pt x="1264" y="981"/>
                  </a:lnTo>
                  <a:lnTo>
                    <a:pt x="1307" y="977"/>
                  </a:lnTo>
                  <a:lnTo>
                    <a:pt x="1341" y="967"/>
                  </a:lnTo>
                  <a:lnTo>
                    <a:pt x="1379" y="967"/>
                  </a:lnTo>
                  <a:lnTo>
                    <a:pt x="1408" y="962"/>
                  </a:lnTo>
                  <a:lnTo>
                    <a:pt x="1436" y="962"/>
                  </a:lnTo>
                  <a:lnTo>
                    <a:pt x="1465" y="958"/>
                  </a:lnTo>
                  <a:lnTo>
                    <a:pt x="1489" y="958"/>
                  </a:lnTo>
                  <a:lnTo>
                    <a:pt x="1508" y="953"/>
                  </a:lnTo>
                  <a:lnTo>
                    <a:pt x="1527" y="953"/>
                  </a:lnTo>
                  <a:lnTo>
                    <a:pt x="1542" y="953"/>
                  </a:lnTo>
                  <a:close/>
                  <a:moveTo>
                    <a:pt x="790" y="962"/>
                  </a:moveTo>
                  <a:lnTo>
                    <a:pt x="780" y="943"/>
                  </a:lnTo>
                  <a:lnTo>
                    <a:pt x="771" y="929"/>
                  </a:lnTo>
                  <a:lnTo>
                    <a:pt x="771" y="924"/>
                  </a:lnTo>
                  <a:lnTo>
                    <a:pt x="771" y="914"/>
                  </a:lnTo>
                  <a:lnTo>
                    <a:pt x="771" y="910"/>
                  </a:lnTo>
                  <a:lnTo>
                    <a:pt x="771" y="905"/>
                  </a:lnTo>
                  <a:lnTo>
                    <a:pt x="775" y="895"/>
                  </a:lnTo>
                  <a:lnTo>
                    <a:pt x="780" y="890"/>
                  </a:lnTo>
                  <a:lnTo>
                    <a:pt x="785" y="890"/>
                  </a:lnTo>
                  <a:lnTo>
                    <a:pt x="790" y="886"/>
                  </a:lnTo>
                  <a:lnTo>
                    <a:pt x="799" y="886"/>
                  </a:lnTo>
                  <a:lnTo>
                    <a:pt x="809" y="886"/>
                  </a:lnTo>
                  <a:lnTo>
                    <a:pt x="828" y="886"/>
                  </a:lnTo>
                  <a:lnTo>
                    <a:pt x="847" y="890"/>
                  </a:lnTo>
                  <a:lnTo>
                    <a:pt x="871" y="895"/>
                  </a:lnTo>
                  <a:lnTo>
                    <a:pt x="895" y="905"/>
                  </a:lnTo>
                  <a:lnTo>
                    <a:pt x="910" y="919"/>
                  </a:lnTo>
                  <a:lnTo>
                    <a:pt x="919" y="924"/>
                  </a:lnTo>
                  <a:lnTo>
                    <a:pt x="924" y="934"/>
                  </a:lnTo>
                  <a:lnTo>
                    <a:pt x="929" y="943"/>
                  </a:lnTo>
                  <a:lnTo>
                    <a:pt x="929" y="953"/>
                  </a:lnTo>
                  <a:lnTo>
                    <a:pt x="929" y="962"/>
                  </a:lnTo>
                  <a:lnTo>
                    <a:pt x="929" y="967"/>
                  </a:lnTo>
                  <a:lnTo>
                    <a:pt x="929" y="977"/>
                  </a:lnTo>
                  <a:lnTo>
                    <a:pt x="924" y="986"/>
                  </a:lnTo>
                  <a:lnTo>
                    <a:pt x="924" y="1001"/>
                  </a:lnTo>
                  <a:lnTo>
                    <a:pt x="924" y="1015"/>
                  </a:lnTo>
                  <a:lnTo>
                    <a:pt x="919" y="1034"/>
                  </a:lnTo>
                  <a:lnTo>
                    <a:pt x="919" y="1058"/>
                  </a:lnTo>
                  <a:lnTo>
                    <a:pt x="919" y="1077"/>
                  </a:lnTo>
                  <a:lnTo>
                    <a:pt x="914" y="1106"/>
                  </a:lnTo>
                  <a:lnTo>
                    <a:pt x="914" y="1135"/>
                  </a:lnTo>
                  <a:lnTo>
                    <a:pt x="914" y="1168"/>
                  </a:lnTo>
                  <a:lnTo>
                    <a:pt x="914" y="1202"/>
                  </a:lnTo>
                  <a:lnTo>
                    <a:pt x="914" y="1240"/>
                  </a:lnTo>
                  <a:lnTo>
                    <a:pt x="910" y="1278"/>
                  </a:lnTo>
                  <a:lnTo>
                    <a:pt x="910" y="1322"/>
                  </a:lnTo>
                  <a:lnTo>
                    <a:pt x="910" y="1369"/>
                  </a:lnTo>
                  <a:lnTo>
                    <a:pt x="910" y="1417"/>
                  </a:lnTo>
                  <a:lnTo>
                    <a:pt x="910" y="1465"/>
                  </a:lnTo>
                  <a:lnTo>
                    <a:pt x="910" y="1513"/>
                  </a:lnTo>
                  <a:lnTo>
                    <a:pt x="910" y="1556"/>
                  </a:lnTo>
                  <a:lnTo>
                    <a:pt x="910" y="1595"/>
                  </a:lnTo>
                  <a:lnTo>
                    <a:pt x="910" y="1633"/>
                  </a:lnTo>
                  <a:lnTo>
                    <a:pt x="910" y="1666"/>
                  </a:lnTo>
                  <a:lnTo>
                    <a:pt x="905" y="1700"/>
                  </a:lnTo>
                  <a:lnTo>
                    <a:pt x="905" y="1729"/>
                  </a:lnTo>
                  <a:lnTo>
                    <a:pt x="905" y="1753"/>
                  </a:lnTo>
                  <a:lnTo>
                    <a:pt x="905" y="1777"/>
                  </a:lnTo>
                  <a:lnTo>
                    <a:pt x="900" y="1800"/>
                  </a:lnTo>
                  <a:lnTo>
                    <a:pt x="900" y="1820"/>
                  </a:lnTo>
                  <a:lnTo>
                    <a:pt x="900" y="1834"/>
                  </a:lnTo>
                  <a:lnTo>
                    <a:pt x="895" y="1848"/>
                  </a:lnTo>
                  <a:lnTo>
                    <a:pt x="895" y="1858"/>
                  </a:lnTo>
                  <a:lnTo>
                    <a:pt x="895" y="1863"/>
                  </a:lnTo>
                  <a:lnTo>
                    <a:pt x="881" y="1882"/>
                  </a:lnTo>
                  <a:lnTo>
                    <a:pt x="871" y="1896"/>
                  </a:lnTo>
                  <a:lnTo>
                    <a:pt x="862" y="1901"/>
                  </a:lnTo>
                  <a:lnTo>
                    <a:pt x="857" y="1906"/>
                  </a:lnTo>
                  <a:lnTo>
                    <a:pt x="852" y="1906"/>
                  </a:lnTo>
                  <a:lnTo>
                    <a:pt x="847" y="1906"/>
                  </a:lnTo>
                  <a:lnTo>
                    <a:pt x="843" y="1901"/>
                  </a:lnTo>
                  <a:lnTo>
                    <a:pt x="838" y="1896"/>
                  </a:lnTo>
                  <a:lnTo>
                    <a:pt x="833" y="1887"/>
                  </a:lnTo>
                  <a:lnTo>
                    <a:pt x="828" y="1877"/>
                  </a:lnTo>
                  <a:lnTo>
                    <a:pt x="819" y="1863"/>
                  </a:lnTo>
                  <a:lnTo>
                    <a:pt x="814" y="1844"/>
                  </a:lnTo>
                  <a:lnTo>
                    <a:pt x="809" y="1824"/>
                  </a:lnTo>
                  <a:lnTo>
                    <a:pt x="799" y="1800"/>
                  </a:lnTo>
                  <a:lnTo>
                    <a:pt x="795" y="1781"/>
                  </a:lnTo>
                  <a:lnTo>
                    <a:pt x="790" y="1762"/>
                  </a:lnTo>
                  <a:lnTo>
                    <a:pt x="785" y="1743"/>
                  </a:lnTo>
                  <a:lnTo>
                    <a:pt x="785" y="1724"/>
                  </a:lnTo>
                  <a:lnTo>
                    <a:pt x="785" y="1705"/>
                  </a:lnTo>
                  <a:lnTo>
                    <a:pt x="785" y="1686"/>
                  </a:lnTo>
                  <a:lnTo>
                    <a:pt x="790" y="1666"/>
                  </a:lnTo>
                  <a:lnTo>
                    <a:pt x="795" y="1647"/>
                  </a:lnTo>
                  <a:lnTo>
                    <a:pt x="799" y="1628"/>
                  </a:lnTo>
                  <a:lnTo>
                    <a:pt x="804" y="1609"/>
                  </a:lnTo>
                  <a:lnTo>
                    <a:pt x="809" y="1585"/>
                  </a:lnTo>
                  <a:lnTo>
                    <a:pt x="814" y="1556"/>
                  </a:lnTo>
                  <a:lnTo>
                    <a:pt x="819" y="1523"/>
                  </a:lnTo>
                  <a:lnTo>
                    <a:pt x="819" y="1489"/>
                  </a:lnTo>
                  <a:lnTo>
                    <a:pt x="823" y="1451"/>
                  </a:lnTo>
                  <a:lnTo>
                    <a:pt x="828" y="1374"/>
                  </a:lnTo>
                  <a:lnTo>
                    <a:pt x="833" y="1302"/>
                  </a:lnTo>
                  <a:lnTo>
                    <a:pt x="833" y="1221"/>
                  </a:lnTo>
                  <a:lnTo>
                    <a:pt x="833" y="1144"/>
                  </a:lnTo>
                  <a:lnTo>
                    <a:pt x="828" y="1106"/>
                  </a:lnTo>
                  <a:lnTo>
                    <a:pt x="828" y="1077"/>
                  </a:lnTo>
                  <a:lnTo>
                    <a:pt x="823" y="1049"/>
                  </a:lnTo>
                  <a:lnTo>
                    <a:pt x="819" y="1025"/>
                  </a:lnTo>
                  <a:lnTo>
                    <a:pt x="814" y="1005"/>
                  </a:lnTo>
                  <a:lnTo>
                    <a:pt x="804" y="986"/>
                  </a:lnTo>
                  <a:lnTo>
                    <a:pt x="799" y="972"/>
                  </a:lnTo>
                  <a:lnTo>
                    <a:pt x="790" y="962"/>
                  </a:lnTo>
                  <a:close/>
                  <a:moveTo>
                    <a:pt x="421" y="1556"/>
                  </a:moveTo>
                  <a:lnTo>
                    <a:pt x="359" y="1595"/>
                  </a:lnTo>
                  <a:lnTo>
                    <a:pt x="297" y="1628"/>
                  </a:lnTo>
                  <a:lnTo>
                    <a:pt x="239" y="1662"/>
                  </a:lnTo>
                  <a:lnTo>
                    <a:pt x="177" y="1700"/>
                  </a:lnTo>
                  <a:lnTo>
                    <a:pt x="148" y="1714"/>
                  </a:lnTo>
                  <a:lnTo>
                    <a:pt x="124" y="1724"/>
                  </a:lnTo>
                  <a:lnTo>
                    <a:pt x="105" y="1733"/>
                  </a:lnTo>
                  <a:lnTo>
                    <a:pt x="86" y="1738"/>
                  </a:lnTo>
                  <a:lnTo>
                    <a:pt x="71" y="1743"/>
                  </a:lnTo>
                  <a:lnTo>
                    <a:pt x="62" y="1743"/>
                  </a:lnTo>
                  <a:lnTo>
                    <a:pt x="52" y="1743"/>
                  </a:lnTo>
                  <a:lnTo>
                    <a:pt x="47" y="1743"/>
                  </a:lnTo>
                  <a:lnTo>
                    <a:pt x="47" y="1738"/>
                  </a:lnTo>
                  <a:lnTo>
                    <a:pt x="47" y="1729"/>
                  </a:lnTo>
                  <a:lnTo>
                    <a:pt x="52" y="1724"/>
                  </a:lnTo>
                  <a:lnTo>
                    <a:pt x="62" y="1714"/>
                  </a:lnTo>
                  <a:lnTo>
                    <a:pt x="76" y="1700"/>
                  </a:lnTo>
                  <a:lnTo>
                    <a:pt x="95" y="1686"/>
                  </a:lnTo>
                  <a:lnTo>
                    <a:pt x="115" y="1671"/>
                  </a:lnTo>
                  <a:lnTo>
                    <a:pt x="143" y="1657"/>
                  </a:lnTo>
                  <a:lnTo>
                    <a:pt x="196" y="1623"/>
                  </a:lnTo>
                  <a:lnTo>
                    <a:pt x="244" y="1590"/>
                  </a:lnTo>
                  <a:lnTo>
                    <a:pt x="297" y="1551"/>
                  </a:lnTo>
                  <a:lnTo>
                    <a:pt x="340" y="1508"/>
                  </a:lnTo>
                  <a:lnTo>
                    <a:pt x="354" y="1499"/>
                  </a:lnTo>
                  <a:lnTo>
                    <a:pt x="368" y="1484"/>
                  </a:lnTo>
                  <a:lnTo>
                    <a:pt x="383" y="1470"/>
                  </a:lnTo>
                  <a:lnTo>
                    <a:pt x="402" y="1456"/>
                  </a:lnTo>
                  <a:lnTo>
                    <a:pt x="421" y="1436"/>
                  </a:lnTo>
                  <a:lnTo>
                    <a:pt x="440" y="1413"/>
                  </a:lnTo>
                  <a:lnTo>
                    <a:pt x="459" y="1393"/>
                  </a:lnTo>
                  <a:lnTo>
                    <a:pt x="483" y="1365"/>
                  </a:lnTo>
                  <a:lnTo>
                    <a:pt x="512" y="1341"/>
                  </a:lnTo>
                  <a:lnTo>
                    <a:pt x="541" y="1307"/>
                  </a:lnTo>
                  <a:lnTo>
                    <a:pt x="570" y="1278"/>
                  </a:lnTo>
                  <a:lnTo>
                    <a:pt x="598" y="1245"/>
                  </a:lnTo>
                  <a:lnTo>
                    <a:pt x="632" y="1207"/>
                  </a:lnTo>
                  <a:lnTo>
                    <a:pt x="665" y="1168"/>
                  </a:lnTo>
                  <a:lnTo>
                    <a:pt x="699" y="1130"/>
                  </a:lnTo>
                  <a:lnTo>
                    <a:pt x="737" y="1087"/>
                  </a:lnTo>
                  <a:lnTo>
                    <a:pt x="804" y="1101"/>
                  </a:lnTo>
                  <a:lnTo>
                    <a:pt x="866" y="1120"/>
                  </a:lnTo>
                  <a:lnTo>
                    <a:pt x="828" y="1163"/>
                  </a:lnTo>
                  <a:lnTo>
                    <a:pt x="790" y="1207"/>
                  </a:lnTo>
                  <a:lnTo>
                    <a:pt x="752" y="1245"/>
                  </a:lnTo>
                  <a:lnTo>
                    <a:pt x="718" y="1283"/>
                  </a:lnTo>
                  <a:lnTo>
                    <a:pt x="684" y="1317"/>
                  </a:lnTo>
                  <a:lnTo>
                    <a:pt x="651" y="1350"/>
                  </a:lnTo>
                  <a:lnTo>
                    <a:pt x="622" y="1379"/>
                  </a:lnTo>
                  <a:lnTo>
                    <a:pt x="593" y="1408"/>
                  </a:lnTo>
                  <a:lnTo>
                    <a:pt x="565" y="1432"/>
                  </a:lnTo>
                  <a:lnTo>
                    <a:pt x="541" y="1456"/>
                  </a:lnTo>
                  <a:lnTo>
                    <a:pt x="512" y="1480"/>
                  </a:lnTo>
                  <a:lnTo>
                    <a:pt x="493" y="1499"/>
                  </a:lnTo>
                  <a:lnTo>
                    <a:pt x="469" y="1518"/>
                  </a:lnTo>
                  <a:lnTo>
                    <a:pt x="450" y="1532"/>
                  </a:lnTo>
                  <a:lnTo>
                    <a:pt x="435" y="1547"/>
                  </a:lnTo>
                  <a:lnTo>
                    <a:pt x="421" y="1556"/>
                  </a:lnTo>
                  <a:close/>
                  <a:moveTo>
                    <a:pt x="876" y="1077"/>
                  </a:moveTo>
                  <a:lnTo>
                    <a:pt x="905" y="1106"/>
                  </a:lnTo>
                  <a:lnTo>
                    <a:pt x="938" y="1135"/>
                  </a:lnTo>
                  <a:lnTo>
                    <a:pt x="977" y="1163"/>
                  </a:lnTo>
                  <a:lnTo>
                    <a:pt x="1010" y="1192"/>
                  </a:lnTo>
                  <a:lnTo>
                    <a:pt x="1053" y="1221"/>
                  </a:lnTo>
                  <a:lnTo>
                    <a:pt x="1096" y="1250"/>
                  </a:lnTo>
                  <a:lnTo>
                    <a:pt x="1140" y="1278"/>
                  </a:lnTo>
                  <a:lnTo>
                    <a:pt x="1187" y="1307"/>
                  </a:lnTo>
                  <a:lnTo>
                    <a:pt x="1235" y="1345"/>
                  </a:lnTo>
                  <a:lnTo>
                    <a:pt x="1283" y="1374"/>
                  </a:lnTo>
                  <a:lnTo>
                    <a:pt x="1336" y="1403"/>
                  </a:lnTo>
                  <a:lnTo>
                    <a:pt x="1389" y="1432"/>
                  </a:lnTo>
                  <a:lnTo>
                    <a:pt x="1446" y="1460"/>
                  </a:lnTo>
                  <a:lnTo>
                    <a:pt x="1508" y="1484"/>
                  </a:lnTo>
                  <a:lnTo>
                    <a:pt x="1571" y="1508"/>
                  </a:lnTo>
                  <a:lnTo>
                    <a:pt x="1638" y="1532"/>
                  </a:lnTo>
                  <a:lnTo>
                    <a:pt x="1666" y="1547"/>
                  </a:lnTo>
                  <a:lnTo>
                    <a:pt x="1700" y="1556"/>
                  </a:lnTo>
                  <a:lnTo>
                    <a:pt x="1729" y="1566"/>
                  </a:lnTo>
                  <a:lnTo>
                    <a:pt x="1753" y="1575"/>
                  </a:lnTo>
                  <a:lnTo>
                    <a:pt x="1777" y="1585"/>
                  </a:lnTo>
                  <a:lnTo>
                    <a:pt x="1800" y="1595"/>
                  </a:lnTo>
                  <a:lnTo>
                    <a:pt x="1820" y="1604"/>
                  </a:lnTo>
                  <a:lnTo>
                    <a:pt x="1839" y="1609"/>
                  </a:lnTo>
                  <a:lnTo>
                    <a:pt x="1853" y="1614"/>
                  </a:lnTo>
                  <a:lnTo>
                    <a:pt x="1868" y="1623"/>
                  </a:lnTo>
                  <a:lnTo>
                    <a:pt x="1877" y="1628"/>
                  </a:lnTo>
                  <a:lnTo>
                    <a:pt x="1887" y="1628"/>
                  </a:lnTo>
                  <a:lnTo>
                    <a:pt x="1896" y="1633"/>
                  </a:lnTo>
                  <a:lnTo>
                    <a:pt x="1901" y="1638"/>
                  </a:lnTo>
                  <a:lnTo>
                    <a:pt x="1901" y="1642"/>
                  </a:lnTo>
                  <a:lnTo>
                    <a:pt x="1896" y="1647"/>
                  </a:lnTo>
                  <a:lnTo>
                    <a:pt x="1891" y="1647"/>
                  </a:lnTo>
                  <a:lnTo>
                    <a:pt x="1887" y="1652"/>
                  </a:lnTo>
                  <a:lnTo>
                    <a:pt x="1882" y="1652"/>
                  </a:lnTo>
                  <a:lnTo>
                    <a:pt x="1872" y="1657"/>
                  </a:lnTo>
                  <a:lnTo>
                    <a:pt x="1863" y="1657"/>
                  </a:lnTo>
                  <a:lnTo>
                    <a:pt x="1853" y="1662"/>
                  </a:lnTo>
                  <a:lnTo>
                    <a:pt x="1844" y="1666"/>
                  </a:lnTo>
                  <a:lnTo>
                    <a:pt x="1829" y="1666"/>
                  </a:lnTo>
                  <a:lnTo>
                    <a:pt x="1815" y="1671"/>
                  </a:lnTo>
                  <a:lnTo>
                    <a:pt x="1800" y="1671"/>
                  </a:lnTo>
                  <a:lnTo>
                    <a:pt x="1786" y="1676"/>
                  </a:lnTo>
                  <a:lnTo>
                    <a:pt x="1767" y="1681"/>
                  </a:lnTo>
                  <a:lnTo>
                    <a:pt x="1748" y="1681"/>
                  </a:lnTo>
                  <a:lnTo>
                    <a:pt x="1709" y="1690"/>
                  </a:lnTo>
                  <a:lnTo>
                    <a:pt x="1671" y="1695"/>
                  </a:lnTo>
                  <a:lnTo>
                    <a:pt x="1638" y="1700"/>
                  </a:lnTo>
                  <a:lnTo>
                    <a:pt x="1604" y="1700"/>
                  </a:lnTo>
                  <a:lnTo>
                    <a:pt x="1575" y="1700"/>
                  </a:lnTo>
                  <a:lnTo>
                    <a:pt x="1551" y="1705"/>
                  </a:lnTo>
                  <a:lnTo>
                    <a:pt x="1527" y="1700"/>
                  </a:lnTo>
                  <a:lnTo>
                    <a:pt x="1508" y="1700"/>
                  </a:lnTo>
                  <a:lnTo>
                    <a:pt x="1484" y="1695"/>
                  </a:lnTo>
                  <a:lnTo>
                    <a:pt x="1456" y="1686"/>
                  </a:lnTo>
                  <a:lnTo>
                    <a:pt x="1432" y="1671"/>
                  </a:lnTo>
                  <a:lnTo>
                    <a:pt x="1403" y="1652"/>
                  </a:lnTo>
                  <a:lnTo>
                    <a:pt x="1374" y="1628"/>
                  </a:lnTo>
                  <a:lnTo>
                    <a:pt x="1341" y="1599"/>
                  </a:lnTo>
                  <a:lnTo>
                    <a:pt x="1326" y="1580"/>
                  </a:lnTo>
                  <a:lnTo>
                    <a:pt x="1307" y="1566"/>
                  </a:lnTo>
                  <a:lnTo>
                    <a:pt x="1293" y="1547"/>
                  </a:lnTo>
                  <a:lnTo>
                    <a:pt x="1274" y="1527"/>
                  </a:lnTo>
                  <a:lnTo>
                    <a:pt x="1235" y="1489"/>
                  </a:lnTo>
                  <a:lnTo>
                    <a:pt x="1202" y="1456"/>
                  </a:lnTo>
                  <a:lnTo>
                    <a:pt x="1173" y="1427"/>
                  </a:lnTo>
                  <a:lnTo>
                    <a:pt x="1144" y="1403"/>
                  </a:lnTo>
                  <a:lnTo>
                    <a:pt x="1116" y="1379"/>
                  </a:lnTo>
                  <a:lnTo>
                    <a:pt x="1096" y="1355"/>
                  </a:lnTo>
                  <a:lnTo>
                    <a:pt x="1077" y="1341"/>
                  </a:lnTo>
                  <a:lnTo>
                    <a:pt x="1058" y="1326"/>
                  </a:lnTo>
                  <a:lnTo>
                    <a:pt x="1039" y="1312"/>
                  </a:lnTo>
                  <a:lnTo>
                    <a:pt x="1020" y="1293"/>
                  </a:lnTo>
                  <a:lnTo>
                    <a:pt x="996" y="1274"/>
                  </a:lnTo>
                  <a:lnTo>
                    <a:pt x="972" y="1250"/>
                  </a:lnTo>
                  <a:lnTo>
                    <a:pt x="948" y="1226"/>
                  </a:lnTo>
                  <a:lnTo>
                    <a:pt x="914" y="1197"/>
                  </a:lnTo>
                  <a:lnTo>
                    <a:pt x="886" y="1163"/>
                  </a:lnTo>
                  <a:lnTo>
                    <a:pt x="852" y="1125"/>
                  </a:lnTo>
                  <a:lnTo>
                    <a:pt x="876" y="1077"/>
                  </a:lnTo>
                  <a:close/>
                  <a:moveTo>
                    <a:pt x="512" y="929"/>
                  </a:moveTo>
                  <a:lnTo>
                    <a:pt x="512" y="924"/>
                  </a:lnTo>
                  <a:lnTo>
                    <a:pt x="512" y="919"/>
                  </a:lnTo>
                  <a:lnTo>
                    <a:pt x="517" y="910"/>
                  </a:lnTo>
                  <a:lnTo>
                    <a:pt x="526" y="900"/>
                  </a:lnTo>
                  <a:lnTo>
                    <a:pt x="541" y="886"/>
                  </a:lnTo>
                  <a:lnTo>
                    <a:pt x="555" y="871"/>
                  </a:lnTo>
                  <a:lnTo>
                    <a:pt x="570" y="857"/>
                  </a:lnTo>
                  <a:lnTo>
                    <a:pt x="593" y="838"/>
                  </a:lnTo>
                  <a:lnTo>
                    <a:pt x="613" y="819"/>
                  </a:lnTo>
                  <a:lnTo>
                    <a:pt x="637" y="799"/>
                  </a:lnTo>
                  <a:lnTo>
                    <a:pt x="661" y="775"/>
                  </a:lnTo>
                  <a:lnTo>
                    <a:pt x="684" y="752"/>
                  </a:lnTo>
                  <a:lnTo>
                    <a:pt x="708" y="723"/>
                  </a:lnTo>
                  <a:lnTo>
                    <a:pt x="732" y="694"/>
                  </a:lnTo>
                  <a:lnTo>
                    <a:pt x="756" y="661"/>
                  </a:lnTo>
                  <a:lnTo>
                    <a:pt x="780" y="627"/>
                  </a:lnTo>
                  <a:lnTo>
                    <a:pt x="804" y="593"/>
                  </a:lnTo>
                  <a:lnTo>
                    <a:pt x="828" y="560"/>
                  </a:lnTo>
                  <a:lnTo>
                    <a:pt x="852" y="531"/>
                  </a:lnTo>
                  <a:lnTo>
                    <a:pt x="871" y="498"/>
                  </a:lnTo>
                  <a:lnTo>
                    <a:pt x="890" y="464"/>
                  </a:lnTo>
                  <a:lnTo>
                    <a:pt x="905" y="431"/>
                  </a:lnTo>
                  <a:lnTo>
                    <a:pt x="919" y="397"/>
                  </a:lnTo>
                  <a:lnTo>
                    <a:pt x="929" y="364"/>
                  </a:lnTo>
                  <a:lnTo>
                    <a:pt x="938" y="330"/>
                  </a:lnTo>
                  <a:lnTo>
                    <a:pt x="943" y="297"/>
                  </a:lnTo>
                  <a:lnTo>
                    <a:pt x="948" y="268"/>
                  </a:lnTo>
                  <a:lnTo>
                    <a:pt x="953" y="239"/>
                  </a:lnTo>
                  <a:lnTo>
                    <a:pt x="958" y="210"/>
                  </a:lnTo>
                  <a:lnTo>
                    <a:pt x="958" y="186"/>
                  </a:lnTo>
                  <a:lnTo>
                    <a:pt x="958" y="162"/>
                  </a:lnTo>
                  <a:lnTo>
                    <a:pt x="953" y="138"/>
                  </a:lnTo>
                  <a:lnTo>
                    <a:pt x="986" y="158"/>
                  </a:lnTo>
                  <a:lnTo>
                    <a:pt x="1015" y="172"/>
                  </a:lnTo>
                  <a:lnTo>
                    <a:pt x="1039" y="182"/>
                  </a:lnTo>
                  <a:lnTo>
                    <a:pt x="1058" y="196"/>
                  </a:lnTo>
                  <a:lnTo>
                    <a:pt x="1072" y="210"/>
                  </a:lnTo>
                  <a:lnTo>
                    <a:pt x="1082" y="220"/>
                  </a:lnTo>
                  <a:lnTo>
                    <a:pt x="1092" y="229"/>
                  </a:lnTo>
                  <a:lnTo>
                    <a:pt x="1092" y="239"/>
                  </a:lnTo>
                  <a:lnTo>
                    <a:pt x="1092" y="249"/>
                  </a:lnTo>
                  <a:lnTo>
                    <a:pt x="1087" y="263"/>
                  </a:lnTo>
                  <a:lnTo>
                    <a:pt x="1087" y="277"/>
                  </a:lnTo>
                  <a:lnTo>
                    <a:pt x="1077" y="297"/>
                  </a:lnTo>
                  <a:lnTo>
                    <a:pt x="1072" y="320"/>
                  </a:lnTo>
                  <a:lnTo>
                    <a:pt x="1063" y="344"/>
                  </a:lnTo>
                  <a:lnTo>
                    <a:pt x="1053" y="373"/>
                  </a:lnTo>
                  <a:lnTo>
                    <a:pt x="1039" y="407"/>
                  </a:lnTo>
                  <a:lnTo>
                    <a:pt x="1025" y="440"/>
                  </a:lnTo>
                  <a:lnTo>
                    <a:pt x="1005" y="474"/>
                  </a:lnTo>
                  <a:lnTo>
                    <a:pt x="986" y="507"/>
                  </a:lnTo>
                  <a:lnTo>
                    <a:pt x="967" y="541"/>
                  </a:lnTo>
                  <a:lnTo>
                    <a:pt x="943" y="574"/>
                  </a:lnTo>
                  <a:lnTo>
                    <a:pt x="919" y="608"/>
                  </a:lnTo>
                  <a:lnTo>
                    <a:pt x="895" y="641"/>
                  </a:lnTo>
                  <a:lnTo>
                    <a:pt x="866" y="670"/>
                  </a:lnTo>
                  <a:lnTo>
                    <a:pt x="838" y="704"/>
                  </a:lnTo>
                  <a:lnTo>
                    <a:pt x="809" y="732"/>
                  </a:lnTo>
                  <a:lnTo>
                    <a:pt x="785" y="756"/>
                  </a:lnTo>
                  <a:lnTo>
                    <a:pt x="756" y="785"/>
                  </a:lnTo>
                  <a:lnTo>
                    <a:pt x="728" y="809"/>
                  </a:lnTo>
                  <a:lnTo>
                    <a:pt x="699" y="828"/>
                  </a:lnTo>
                  <a:lnTo>
                    <a:pt x="670" y="852"/>
                  </a:lnTo>
                  <a:lnTo>
                    <a:pt x="641" y="871"/>
                  </a:lnTo>
                  <a:lnTo>
                    <a:pt x="617" y="886"/>
                  </a:lnTo>
                  <a:lnTo>
                    <a:pt x="593" y="900"/>
                  </a:lnTo>
                  <a:lnTo>
                    <a:pt x="570" y="914"/>
                  </a:lnTo>
                  <a:lnTo>
                    <a:pt x="555" y="919"/>
                  </a:lnTo>
                  <a:lnTo>
                    <a:pt x="536" y="929"/>
                  </a:lnTo>
                  <a:lnTo>
                    <a:pt x="526" y="929"/>
                  </a:lnTo>
                  <a:lnTo>
                    <a:pt x="517" y="929"/>
                  </a:lnTo>
                  <a:lnTo>
                    <a:pt x="512" y="929"/>
                  </a:lnTo>
                  <a:close/>
                  <a:moveTo>
                    <a:pt x="349" y="124"/>
                  </a:moveTo>
                  <a:lnTo>
                    <a:pt x="330" y="105"/>
                  </a:lnTo>
                  <a:lnTo>
                    <a:pt x="311" y="86"/>
                  </a:lnTo>
                  <a:lnTo>
                    <a:pt x="297" y="71"/>
                  </a:lnTo>
                  <a:lnTo>
                    <a:pt x="282" y="57"/>
                  </a:lnTo>
                  <a:lnTo>
                    <a:pt x="277" y="43"/>
                  </a:lnTo>
                  <a:lnTo>
                    <a:pt x="268" y="28"/>
                  </a:lnTo>
                  <a:lnTo>
                    <a:pt x="263" y="19"/>
                  </a:lnTo>
                  <a:lnTo>
                    <a:pt x="263" y="9"/>
                  </a:lnTo>
                  <a:lnTo>
                    <a:pt x="297" y="9"/>
                  </a:lnTo>
                  <a:lnTo>
                    <a:pt x="335" y="14"/>
                  </a:lnTo>
                  <a:lnTo>
                    <a:pt x="373" y="19"/>
                  </a:lnTo>
                  <a:lnTo>
                    <a:pt x="411" y="24"/>
                  </a:lnTo>
                  <a:lnTo>
                    <a:pt x="440" y="33"/>
                  </a:lnTo>
                  <a:lnTo>
                    <a:pt x="455" y="38"/>
                  </a:lnTo>
                  <a:lnTo>
                    <a:pt x="469" y="43"/>
                  </a:lnTo>
                  <a:lnTo>
                    <a:pt x="479" y="47"/>
                  </a:lnTo>
                  <a:lnTo>
                    <a:pt x="488" y="57"/>
                  </a:lnTo>
                  <a:lnTo>
                    <a:pt x="498" y="67"/>
                  </a:lnTo>
                  <a:lnTo>
                    <a:pt x="507" y="71"/>
                  </a:lnTo>
                  <a:lnTo>
                    <a:pt x="512" y="86"/>
                  </a:lnTo>
                  <a:lnTo>
                    <a:pt x="517" y="95"/>
                  </a:lnTo>
                  <a:lnTo>
                    <a:pt x="517" y="105"/>
                  </a:lnTo>
                  <a:lnTo>
                    <a:pt x="517" y="115"/>
                  </a:lnTo>
                  <a:lnTo>
                    <a:pt x="517" y="138"/>
                  </a:lnTo>
                  <a:lnTo>
                    <a:pt x="512" y="158"/>
                  </a:lnTo>
                  <a:lnTo>
                    <a:pt x="507" y="167"/>
                  </a:lnTo>
                  <a:lnTo>
                    <a:pt x="502" y="177"/>
                  </a:lnTo>
                  <a:lnTo>
                    <a:pt x="493" y="186"/>
                  </a:lnTo>
                  <a:lnTo>
                    <a:pt x="488" y="191"/>
                  </a:lnTo>
                  <a:lnTo>
                    <a:pt x="483" y="196"/>
                  </a:lnTo>
                  <a:lnTo>
                    <a:pt x="474" y="201"/>
                  </a:lnTo>
                  <a:lnTo>
                    <a:pt x="469" y="201"/>
                  </a:lnTo>
                  <a:lnTo>
                    <a:pt x="464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5" y="186"/>
                  </a:lnTo>
                  <a:lnTo>
                    <a:pt x="421" y="182"/>
                  </a:lnTo>
                  <a:lnTo>
                    <a:pt x="407" y="167"/>
                  </a:lnTo>
                  <a:lnTo>
                    <a:pt x="392" y="158"/>
                  </a:lnTo>
                  <a:lnTo>
                    <a:pt x="373" y="143"/>
                  </a:lnTo>
                  <a:lnTo>
                    <a:pt x="349" y="124"/>
                  </a:lnTo>
                  <a:close/>
                  <a:moveTo>
                    <a:pt x="297" y="306"/>
                  </a:moveTo>
                  <a:lnTo>
                    <a:pt x="316" y="311"/>
                  </a:lnTo>
                  <a:lnTo>
                    <a:pt x="325" y="320"/>
                  </a:lnTo>
                  <a:lnTo>
                    <a:pt x="340" y="330"/>
                  </a:lnTo>
                  <a:lnTo>
                    <a:pt x="349" y="335"/>
                  </a:lnTo>
                  <a:lnTo>
                    <a:pt x="359" y="344"/>
                  </a:lnTo>
                  <a:lnTo>
                    <a:pt x="368" y="354"/>
                  </a:lnTo>
                  <a:lnTo>
                    <a:pt x="373" y="364"/>
                  </a:lnTo>
                  <a:lnTo>
                    <a:pt x="378" y="373"/>
                  </a:lnTo>
                  <a:lnTo>
                    <a:pt x="378" y="383"/>
                  </a:lnTo>
                  <a:lnTo>
                    <a:pt x="378" y="397"/>
                  </a:lnTo>
                  <a:lnTo>
                    <a:pt x="378" y="416"/>
                  </a:lnTo>
                  <a:lnTo>
                    <a:pt x="378" y="421"/>
                  </a:lnTo>
                  <a:lnTo>
                    <a:pt x="373" y="431"/>
                  </a:lnTo>
                  <a:lnTo>
                    <a:pt x="368" y="435"/>
                  </a:lnTo>
                  <a:lnTo>
                    <a:pt x="368" y="440"/>
                  </a:lnTo>
                  <a:lnTo>
                    <a:pt x="354" y="450"/>
                  </a:lnTo>
                  <a:lnTo>
                    <a:pt x="344" y="459"/>
                  </a:lnTo>
                  <a:lnTo>
                    <a:pt x="330" y="464"/>
                  </a:lnTo>
                  <a:lnTo>
                    <a:pt x="325" y="464"/>
                  </a:lnTo>
                  <a:lnTo>
                    <a:pt x="320" y="464"/>
                  </a:lnTo>
                  <a:lnTo>
                    <a:pt x="311" y="459"/>
                  </a:lnTo>
                  <a:lnTo>
                    <a:pt x="301" y="455"/>
                  </a:lnTo>
                  <a:lnTo>
                    <a:pt x="292" y="445"/>
                  </a:lnTo>
                  <a:lnTo>
                    <a:pt x="277" y="435"/>
                  </a:lnTo>
                  <a:lnTo>
                    <a:pt x="263" y="426"/>
                  </a:lnTo>
                  <a:lnTo>
                    <a:pt x="249" y="411"/>
                  </a:lnTo>
                  <a:lnTo>
                    <a:pt x="229" y="397"/>
                  </a:lnTo>
                  <a:lnTo>
                    <a:pt x="210" y="383"/>
                  </a:lnTo>
                  <a:lnTo>
                    <a:pt x="196" y="368"/>
                  </a:lnTo>
                  <a:lnTo>
                    <a:pt x="182" y="349"/>
                  </a:lnTo>
                  <a:lnTo>
                    <a:pt x="172" y="335"/>
                  </a:lnTo>
                  <a:lnTo>
                    <a:pt x="162" y="320"/>
                  </a:lnTo>
                  <a:lnTo>
                    <a:pt x="158" y="306"/>
                  </a:lnTo>
                  <a:lnTo>
                    <a:pt x="153" y="292"/>
                  </a:lnTo>
                  <a:lnTo>
                    <a:pt x="153" y="282"/>
                  </a:lnTo>
                  <a:lnTo>
                    <a:pt x="196" y="282"/>
                  </a:lnTo>
                  <a:lnTo>
                    <a:pt x="215" y="282"/>
                  </a:lnTo>
                  <a:lnTo>
                    <a:pt x="234" y="287"/>
                  </a:lnTo>
                  <a:lnTo>
                    <a:pt x="253" y="292"/>
                  </a:lnTo>
                  <a:lnTo>
                    <a:pt x="268" y="297"/>
                  </a:lnTo>
                  <a:lnTo>
                    <a:pt x="282" y="301"/>
                  </a:lnTo>
                  <a:lnTo>
                    <a:pt x="297" y="306"/>
                  </a:lnTo>
                  <a:close/>
                  <a:moveTo>
                    <a:pt x="737" y="287"/>
                  </a:moveTo>
                  <a:lnTo>
                    <a:pt x="756" y="311"/>
                  </a:lnTo>
                  <a:lnTo>
                    <a:pt x="761" y="320"/>
                  </a:lnTo>
                  <a:lnTo>
                    <a:pt x="771" y="330"/>
                  </a:lnTo>
                  <a:lnTo>
                    <a:pt x="775" y="344"/>
                  </a:lnTo>
                  <a:lnTo>
                    <a:pt x="780" y="354"/>
                  </a:lnTo>
                  <a:lnTo>
                    <a:pt x="780" y="368"/>
                  </a:lnTo>
                  <a:lnTo>
                    <a:pt x="780" y="383"/>
                  </a:lnTo>
                  <a:lnTo>
                    <a:pt x="780" y="392"/>
                  </a:lnTo>
                  <a:lnTo>
                    <a:pt x="780" y="407"/>
                  </a:lnTo>
                  <a:lnTo>
                    <a:pt x="775" y="421"/>
                  </a:lnTo>
                  <a:lnTo>
                    <a:pt x="771" y="435"/>
                  </a:lnTo>
                  <a:lnTo>
                    <a:pt x="756" y="469"/>
                  </a:lnTo>
                  <a:lnTo>
                    <a:pt x="737" y="507"/>
                  </a:lnTo>
                  <a:lnTo>
                    <a:pt x="728" y="522"/>
                  </a:lnTo>
                  <a:lnTo>
                    <a:pt x="718" y="536"/>
                  </a:lnTo>
                  <a:lnTo>
                    <a:pt x="708" y="550"/>
                  </a:lnTo>
                  <a:lnTo>
                    <a:pt x="704" y="560"/>
                  </a:lnTo>
                  <a:lnTo>
                    <a:pt x="694" y="570"/>
                  </a:lnTo>
                  <a:lnTo>
                    <a:pt x="689" y="574"/>
                  </a:lnTo>
                  <a:lnTo>
                    <a:pt x="680" y="579"/>
                  </a:lnTo>
                  <a:lnTo>
                    <a:pt x="670" y="579"/>
                  </a:lnTo>
                  <a:lnTo>
                    <a:pt x="665" y="574"/>
                  </a:lnTo>
                  <a:lnTo>
                    <a:pt x="661" y="574"/>
                  </a:lnTo>
                  <a:lnTo>
                    <a:pt x="656" y="570"/>
                  </a:lnTo>
                  <a:lnTo>
                    <a:pt x="651" y="555"/>
                  </a:lnTo>
                  <a:lnTo>
                    <a:pt x="641" y="536"/>
                  </a:lnTo>
                  <a:lnTo>
                    <a:pt x="637" y="522"/>
                  </a:lnTo>
                  <a:lnTo>
                    <a:pt x="632" y="502"/>
                  </a:lnTo>
                  <a:lnTo>
                    <a:pt x="627" y="488"/>
                  </a:lnTo>
                  <a:lnTo>
                    <a:pt x="627" y="483"/>
                  </a:lnTo>
                  <a:lnTo>
                    <a:pt x="627" y="479"/>
                  </a:lnTo>
                  <a:lnTo>
                    <a:pt x="627" y="474"/>
                  </a:lnTo>
                  <a:lnTo>
                    <a:pt x="632" y="469"/>
                  </a:lnTo>
                  <a:lnTo>
                    <a:pt x="632" y="464"/>
                  </a:lnTo>
                  <a:lnTo>
                    <a:pt x="637" y="459"/>
                  </a:lnTo>
                  <a:lnTo>
                    <a:pt x="646" y="455"/>
                  </a:lnTo>
                  <a:lnTo>
                    <a:pt x="651" y="445"/>
                  </a:lnTo>
                  <a:lnTo>
                    <a:pt x="661" y="440"/>
                  </a:lnTo>
                  <a:lnTo>
                    <a:pt x="665" y="431"/>
                  </a:lnTo>
                  <a:lnTo>
                    <a:pt x="675" y="421"/>
                  </a:lnTo>
                  <a:lnTo>
                    <a:pt x="684" y="407"/>
                  </a:lnTo>
                  <a:lnTo>
                    <a:pt x="694" y="388"/>
                  </a:lnTo>
                  <a:lnTo>
                    <a:pt x="704" y="368"/>
                  </a:lnTo>
                  <a:lnTo>
                    <a:pt x="713" y="344"/>
                  </a:lnTo>
                  <a:lnTo>
                    <a:pt x="728" y="320"/>
                  </a:lnTo>
                  <a:lnTo>
                    <a:pt x="737" y="287"/>
                  </a:lnTo>
                  <a:close/>
                  <a:moveTo>
                    <a:pt x="263" y="938"/>
                  </a:moveTo>
                  <a:lnTo>
                    <a:pt x="258" y="938"/>
                  </a:lnTo>
                  <a:lnTo>
                    <a:pt x="249" y="934"/>
                  </a:lnTo>
                  <a:lnTo>
                    <a:pt x="244" y="929"/>
                  </a:lnTo>
                  <a:lnTo>
                    <a:pt x="234" y="919"/>
                  </a:lnTo>
                  <a:lnTo>
                    <a:pt x="229" y="910"/>
                  </a:lnTo>
                  <a:lnTo>
                    <a:pt x="220" y="890"/>
                  </a:lnTo>
                  <a:lnTo>
                    <a:pt x="210" y="876"/>
                  </a:lnTo>
                  <a:lnTo>
                    <a:pt x="206" y="852"/>
                  </a:lnTo>
                  <a:lnTo>
                    <a:pt x="196" y="833"/>
                  </a:lnTo>
                  <a:lnTo>
                    <a:pt x="186" y="814"/>
                  </a:lnTo>
                  <a:lnTo>
                    <a:pt x="182" y="799"/>
                  </a:lnTo>
                  <a:lnTo>
                    <a:pt x="177" y="785"/>
                  </a:lnTo>
                  <a:lnTo>
                    <a:pt x="177" y="771"/>
                  </a:lnTo>
                  <a:lnTo>
                    <a:pt x="172" y="761"/>
                  </a:lnTo>
                  <a:lnTo>
                    <a:pt x="177" y="752"/>
                  </a:lnTo>
                  <a:lnTo>
                    <a:pt x="177" y="747"/>
                  </a:lnTo>
                  <a:lnTo>
                    <a:pt x="182" y="737"/>
                  </a:lnTo>
                  <a:lnTo>
                    <a:pt x="191" y="732"/>
                  </a:lnTo>
                  <a:lnTo>
                    <a:pt x="201" y="732"/>
                  </a:lnTo>
                  <a:lnTo>
                    <a:pt x="210" y="728"/>
                  </a:lnTo>
                  <a:lnTo>
                    <a:pt x="220" y="732"/>
                  </a:lnTo>
                  <a:lnTo>
                    <a:pt x="225" y="732"/>
                  </a:lnTo>
                  <a:lnTo>
                    <a:pt x="239" y="732"/>
                  </a:lnTo>
                  <a:lnTo>
                    <a:pt x="249" y="728"/>
                  </a:lnTo>
                  <a:lnTo>
                    <a:pt x="263" y="723"/>
                  </a:lnTo>
                  <a:lnTo>
                    <a:pt x="268" y="718"/>
                  </a:lnTo>
                  <a:lnTo>
                    <a:pt x="277" y="708"/>
                  </a:lnTo>
                  <a:lnTo>
                    <a:pt x="292" y="699"/>
                  </a:lnTo>
                  <a:lnTo>
                    <a:pt x="306" y="680"/>
                  </a:lnTo>
                  <a:lnTo>
                    <a:pt x="330" y="661"/>
                  </a:lnTo>
                  <a:lnTo>
                    <a:pt x="354" y="641"/>
                  </a:lnTo>
                  <a:lnTo>
                    <a:pt x="378" y="613"/>
                  </a:lnTo>
                  <a:lnTo>
                    <a:pt x="392" y="598"/>
                  </a:lnTo>
                  <a:lnTo>
                    <a:pt x="411" y="579"/>
                  </a:lnTo>
                  <a:lnTo>
                    <a:pt x="426" y="565"/>
                  </a:lnTo>
                  <a:lnTo>
                    <a:pt x="440" y="546"/>
                  </a:lnTo>
                  <a:lnTo>
                    <a:pt x="469" y="522"/>
                  </a:lnTo>
                  <a:lnTo>
                    <a:pt x="493" y="498"/>
                  </a:lnTo>
                  <a:lnTo>
                    <a:pt x="512" y="479"/>
                  </a:lnTo>
                  <a:lnTo>
                    <a:pt x="531" y="469"/>
                  </a:lnTo>
                  <a:lnTo>
                    <a:pt x="541" y="459"/>
                  </a:lnTo>
                  <a:lnTo>
                    <a:pt x="550" y="455"/>
                  </a:lnTo>
                  <a:lnTo>
                    <a:pt x="555" y="455"/>
                  </a:lnTo>
                  <a:lnTo>
                    <a:pt x="560" y="459"/>
                  </a:lnTo>
                  <a:lnTo>
                    <a:pt x="560" y="464"/>
                  </a:lnTo>
                  <a:lnTo>
                    <a:pt x="555" y="469"/>
                  </a:lnTo>
                  <a:lnTo>
                    <a:pt x="555" y="474"/>
                  </a:lnTo>
                  <a:lnTo>
                    <a:pt x="550" y="483"/>
                  </a:lnTo>
                  <a:lnTo>
                    <a:pt x="546" y="498"/>
                  </a:lnTo>
                  <a:lnTo>
                    <a:pt x="541" y="507"/>
                  </a:lnTo>
                  <a:lnTo>
                    <a:pt x="536" y="522"/>
                  </a:lnTo>
                  <a:lnTo>
                    <a:pt x="526" y="536"/>
                  </a:lnTo>
                  <a:lnTo>
                    <a:pt x="517" y="555"/>
                  </a:lnTo>
                  <a:lnTo>
                    <a:pt x="507" y="574"/>
                  </a:lnTo>
                  <a:lnTo>
                    <a:pt x="498" y="598"/>
                  </a:lnTo>
                  <a:lnTo>
                    <a:pt x="483" y="617"/>
                  </a:lnTo>
                  <a:lnTo>
                    <a:pt x="469" y="641"/>
                  </a:lnTo>
                  <a:lnTo>
                    <a:pt x="455" y="670"/>
                  </a:lnTo>
                  <a:lnTo>
                    <a:pt x="435" y="694"/>
                  </a:lnTo>
                  <a:lnTo>
                    <a:pt x="421" y="723"/>
                  </a:lnTo>
                  <a:lnTo>
                    <a:pt x="402" y="752"/>
                  </a:lnTo>
                  <a:lnTo>
                    <a:pt x="388" y="775"/>
                  </a:lnTo>
                  <a:lnTo>
                    <a:pt x="373" y="799"/>
                  </a:lnTo>
                  <a:lnTo>
                    <a:pt x="359" y="819"/>
                  </a:lnTo>
                  <a:lnTo>
                    <a:pt x="344" y="838"/>
                  </a:lnTo>
                  <a:lnTo>
                    <a:pt x="335" y="857"/>
                  </a:lnTo>
                  <a:lnTo>
                    <a:pt x="320" y="871"/>
                  </a:lnTo>
                  <a:lnTo>
                    <a:pt x="311" y="886"/>
                  </a:lnTo>
                  <a:lnTo>
                    <a:pt x="301" y="900"/>
                  </a:lnTo>
                  <a:lnTo>
                    <a:pt x="292" y="910"/>
                  </a:lnTo>
                  <a:lnTo>
                    <a:pt x="287" y="919"/>
                  </a:lnTo>
                  <a:lnTo>
                    <a:pt x="277" y="924"/>
                  </a:lnTo>
                  <a:lnTo>
                    <a:pt x="273" y="929"/>
                  </a:lnTo>
                  <a:lnTo>
                    <a:pt x="268" y="934"/>
                  </a:lnTo>
                  <a:lnTo>
                    <a:pt x="263" y="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4783680" y="2439720"/>
              <a:ext cx="938520" cy="1082520"/>
            </a:xfrm>
            <a:custGeom>
              <a:avLst/>
              <a:gdLst/>
              <a:ahLst/>
              <a:rect l="l" t="t" r="r" b="b"/>
              <a:pathLst>
                <a:path w="776" h="895">
                  <a:moveTo>
                    <a:pt x="412" y="704"/>
                  </a:moveTo>
                  <a:lnTo>
                    <a:pt x="417" y="704"/>
                  </a:lnTo>
                  <a:lnTo>
                    <a:pt x="421" y="699"/>
                  </a:lnTo>
                  <a:lnTo>
                    <a:pt x="426" y="694"/>
                  </a:lnTo>
                  <a:lnTo>
                    <a:pt x="431" y="689"/>
                  </a:lnTo>
                  <a:lnTo>
                    <a:pt x="436" y="680"/>
                  </a:lnTo>
                  <a:lnTo>
                    <a:pt x="440" y="670"/>
                  </a:lnTo>
                  <a:lnTo>
                    <a:pt x="450" y="661"/>
                  </a:lnTo>
                  <a:lnTo>
                    <a:pt x="455" y="651"/>
                  </a:lnTo>
                  <a:lnTo>
                    <a:pt x="460" y="637"/>
                  </a:lnTo>
                  <a:lnTo>
                    <a:pt x="464" y="622"/>
                  </a:lnTo>
                  <a:lnTo>
                    <a:pt x="474" y="608"/>
                  </a:lnTo>
                  <a:lnTo>
                    <a:pt x="479" y="589"/>
                  </a:lnTo>
                  <a:lnTo>
                    <a:pt x="484" y="574"/>
                  </a:lnTo>
                  <a:lnTo>
                    <a:pt x="493" y="555"/>
                  </a:lnTo>
                  <a:lnTo>
                    <a:pt x="508" y="512"/>
                  </a:lnTo>
                  <a:lnTo>
                    <a:pt x="522" y="474"/>
                  </a:lnTo>
                  <a:lnTo>
                    <a:pt x="536" y="435"/>
                  </a:lnTo>
                  <a:lnTo>
                    <a:pt x="546" y="397"/>
                  </a:lnTo>
                  <a:lnTo>
                    <a:pt x="555" y="364"/>
                  </a:lnTo>
                  <a:lnTo>
                    <a:pt x="560" y="335"/>
                  </a:lnTo>
                  <a:lnTo>
                    <a:pt x="570" y="301"/>
                  </a:lnTo>
                  <a:lnTo>
                    <a:pt x="575" y="273"/>
                  </a:lnTo>
                  <a:lnTo>
                    <a:pt x="575" y="249"/>
                  </a:lnTo>
                  <a:lnTo>
                    <a:pt x="579" y="225"/>
                  </a:lnTo>
                  <a:lnTo>
                    <a:pt x="579" y="206"/>
                  </a:lnTo>
                  <a:lnTo>
                    <a:pt x="579" y="191"/>
                  </a:lnTo>
                  <a:lnTo>
                    <a:pt x="579" y="172"/>
                  </a:lnTo>
                  <a:lnTo>
                    <a:pt x="575" y="162"/>
                  </a:lnTo>
                  <a:lnTo>
                    <a:pt x="575" y="148"/>
                  </a:lnTo>
                  <a:lnTo>
                    <a:pt x="570" y="138"/>
                  </a:lnTo>
                  <a:lnTo>
                    <a:pt x="570" y="134"/>
                  </a:lnTo>
                  <a:lnTo>
                    <a:pt x="560" y="124"/>
                  </a:lnTo>
                  <a:lnTo>
                    <a:pt x="551" y="119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8" y="115"/>
                  </a:lnTo>
                  <a:lnTo>
                    <a:pt x="493" y="115"/>
                  </a:lnTo>
                  <a:lnTo>
                    <a:pt x="479" y="119"/>
                  </a:lnTo>
                  <a:lnTo>
                    <a:pt x="460" y="119"/>
                  </a:lnTo>
                  <a:lnTo>
                    <a:pt x="440" y="124"/>
                  </a:lnTo>
                  <a:lnTo>
                    <a:pt x="421" y="129"/>
                  </a:lnTo>
                  <a:lnTo>
                    <a:pt x="397" y="134"/>
                  </a:lnTo>
                  <a:lnTo>
                    <a:pt x="369" y="138"/>
                  </a:lnTo>
                  <a:lnTo>
                    <a:pt x="311" y="153"/>
                  </a:lnTo>
                  <a:lnTo>
                    <a:pt x="287" y="158"/>
                  </a:lnTo>
                  <a:lnTo>
                    <a:pt x="258" y="162"/>
                  </a:lnTo>
                  <a:lnTo>
                    <a:pt x="235" y="167"/>
                  </a:lnTo>
                  <a:lnTo>
                    <a:pt x="211" y="172"/>
                  </a:lnTo>
                  <a:lnTo>
                    <a:pt x="191" y="177"/>
                  </a:lnTo>
                  <a:lnTo>
                    <a:pt x="172" y="182"/>
                  </a:lnTo>
                  <a:lnTo>
                    <a:pt x="153" y="186"/>
                  </a:lnTo>
                  <a:lnTo>
                    <a:pt x="134" y="191"/>
                  </a:lnTo>
                  <a:lnTo>
                    <a:pt x="115" y="191"/>
                  </a:lnTo>
                  <a:lnTo>
                    <a:pt x="100" y="196"/>
                  </a:lnTo>
                  <a:lnTo>
                    <a:pt x="86" y="191"/>
                  </a:lnTo>
                  <a:lnTo>
                    <a:pt x="72" y="191"/>
                  </a:lnTo>
                  <a:lnTo>
                    <a:pt x="62" y="186"/>
                  </a:lnTo>
                  <a:lnTo>
                    <a:pt x="48" y="182"/>
                  </a:lnTo>
                  <a:lnTo>
                    <a:pt x="38" y="177"/>
                  </a:lnTo>
                  <a:lnTo>
                    <a:pt x="29" y="172"/>
                  </a:lnTo>
                  <a:lnTo>
                    <a:pt x="19" y="167"/>
                  </a:lnTo>
                  <a:lnTo>
                    <a:pt x="9" y="162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9" y="138"/>
                  </a:lnTo>
                  <a:lnTo>
                    <a:pt x="19" y="138"/>
                  </a:lnTo>
                  <a:lnTo>
                    <a:pt x="33" y="138"/>
                  </a:lnTo>
                  <a:lnTo>
                    <a:pt x="43" y="134"/>
                  </a:lnTo>
                  <a:lnTo>
                    <a:pt x="57" y="134"/>
                  </a:lnTo>
                  <a:lnTo>
                    <a:pt x="76" y="129"/>
                  </a:lnTo>
                  <a:lnTo>
                    <a:pt x="91" y="129"/>
                  </a:lnTo>
                  <a:lnTo>
                    <a:pt x="110" y="124"/>
                  </a:lnTo>
                  <a:lnTo>
                    <a:pt x="134" y="119"/>
                  </a:lnTo>
                  <a:lnTo>
                    <a:pt x="158" y="115"/>
                  </a:lnTo>
                  <a:lnTo>
                    <a:pt x="182" y="110"/>
                  </a:lnTo>
                  <a:lnTo>
                    <a:pt x="206" y="105"/>
                  </a:lnTo>
                  <a:lnTo>
                    <a:pt x="235" y="95"/>
                  </a:lnTo>
                  <a:lnTo>
                    <a:pt x="263" y="91"/>
                  </a:lnTo>
                  <a:lnTo>
                    <a:pt x="292" y="81"/>
                  </a:lnTo>
                  <a:lnTo>
                    <a:pt x="321" y="76"/>
                  </a:lnTo>
                  <a:lnTo>
                    <a:pt x="349" y="71"/>
                  </a:lnTo>
                  <a:lnTo>
                    <a:pt x="373" y="62"/>
                  </a:lnTo>
                  <a:lnTo>
                    <a:pt x="402" y="57"/>
                  </a:lnTo>
                  <a:lnTo>
                    <a:pt x="421" y="52"/>
                  </a:lnTo>
                  <a:lnTo>
                    <a:pt x="445" y="47"/>
                  </a:lnTo>
                  <a:lnTo>
                    <a:pt x="464" y="43"/>
                  </a:lnTo>
                  <a:lnTo>
                    <a:pt x="479" y="38"/>
                  </a:lnTo>
                  <a:lnTo>
                    <a:pt x="493" y="33"/>
                  </a:lnTo>
                  <a:lnTo>
                    <a:pt x="508" y="33"/>
                  </a:lnTo>
                  <a:lnTo>
                    <a:pt x="517" y="28"/>
                  </a:lnTo>
                  <a:lnTo>
                    <a:pt x="531" y="24"/>
                  </a:lnTo>
                  <a:lnTo>
                    <a:pt x="536" y="24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1" y="14"/>
                  </a:lnTo>
                  <a:lnTo>
                    <a:pt x="560" y="9"/>
                  </a:lnTo>
                  <a:lnTo>
                    <a:pt x="570" y="4"/>
                  </a:lnTo>
                  <a:lnTo>
                    <a:pt x="579" y="0"/>
                  </a:lnTo>
                  <a:lnTo>
                    <a:pt x="594" y="0"/>
                  </a:lnTo>
                  <a:lnTo>
                    <a:pt x="599" y="0"/>
                  </a:lnTo>
                  <a:lnTo>
                    <a:pt x="603" y="4"/>
                  </a:lnTo>
                  <a:lnTo>
                    <a:pt x="613" y="4"/>
                  </a:lnTo>
                  <a:lnTo>
                    <a:pt x="627" y="9"/>
                  </a:lnTo>
                  <a:lnTo>
                    <a:pt x="642" y="19"/>
                  </a:lnTo>
                  <a:lnTo>
                    <a:pt x="656" y="28"/>
                  </a:lnTo>
                  <a:lnTo>
                    <a:pt x="675" y="38"/>
                  </a:lnTo>
                  <a:lnTo>
                    <a:pt x="699" y="47"/>
                  </a:lnTo>
                  <a:lnTo>
                    <a:pt x="713" y="62"/>
                  </a:lnTo>
                  <a:lnTo>
                    <a:pt x="733" y="71"/>
                  </a:lnTo>
                  <a:lnTo>
                    <a:pt x="742" y="81"/>
                  </a:lnTo>
                  <a:lnTo>
                    <a:pt x="757" y="91"/>
                  </a:lnTo>
                  <a:lnTo>
                    <a:pt x="761" y="100"/>
                  </a:lnTo>
                  <a:lnTo>
                    <a:pt x="771" y="105"/>
                  </a:lnTo>
                  <a:lnTo>
                    <a:pt x="776" y="110"/>
                  </a:lnTo>
                  <a:lnTo>
                    <a:pt x="776" y="115"/>
                  </a:lnTo>
                  <a:lnTo>
                    <a:pt x="771" y="124"/>
                  </a:lnTo>
                  <a:lnTo>
                    <a:pt x="766" y="134"/>
                  </a:lnTo>
                  <a:lnTo>
                    <a:pt x="761" y="143"/>
                  </a:lnTo>
                  <a:lnTo>
                    <a:pt x="747" y="148"/>
                  </a:lnTo>
                  <a:lnTo>
                    <a:pt x="737" y="153"/>
                  </a:lnTo>
                  <a:lnTo>
                    <a:pt x="733" y="162"/>
                  </a:lnTo>
                  <a:lnTo>
                    <a:pt x="728" y="172"/>
                  </a:lnTo>
                  <a:lnTo>
                    <a:pt x="723" y="186"/>
                  </a:lnTo>
                  <a:lnTo>
                    <a:pt x="718" y="201"/>
                  </a:lnTo>
                  <a:lnTo>
                    <a:pt x="713" y="220"/>
                  </a:lnTo>
                  <a:lnTo>
                    <a:pt x="709" y="239"/>
                  </a:lnTo>
                  <a:lnTo>
                    <a:pt x="704" y="263"/>
                  </a:lnTo>
                  <a:lnTo>
                    <a:pt x="699" y="292"/>
                  </a:lnTo>
                  <a:lnTo>
                    <a:pt x="694" y="320"/>
                  </a:lnTo>
                  <a:lnTo>
                    <a:pt x="685" y="354"/>
                  </a:lnTo>
                  <a:lnTo>
                    <a:pt x="675" y="388"/>
                  </a:lnTo>
                  <a:lnTo>
                    <a:pt x="661" y="431"/>
                  </a:lnTo>
                  <a:lnTo>
                    <a:pt x="651" y="474"/>
                  </a:lnTo>
                  <a:lnTo>
                    <a:pt x="637" y="522"/>
                  </a:lnTo>
                  <a:lnTo>
                    <a:pt x="618" y="570"/>
                  </a:lnTo>
                  <a:lnTo>
                    <a:pt x="613" y="598"/>
                  </a:lnTo>
                  <a:lnTo>
                    <a:pt x="603" y="622"/>
                  </a:lnTo>
                  <a:lnTo>
                    <a:pt x="594" y="646"/>
                  </a:lnTo>
                  <a:lnTo>
                    <a:pt x="589" y="665"/>
                  </a:lnTo>
                  <a:lnTo>
                    <a:pt x="579" y="689"/>
                  </a:lnTo>
                  <a:lnTo>
                    <a:pt x="570" y="708"/>
                  </a:lnTo>
                  <a:lnTo>
                    <a:pt x="565" y="728"/>
                  </a:lnTo>
                  <a:lnTo>
                    <a:pt x="555" y="747"/>
                  </a:lnTo>
                  <a:lnTo>
                    <a:pt x="546" y="761"/>
                  </a:lnTo>
                  <a:lnTo>
                    <a:pt x="541" y="775"/>
                  </a:lnTo>
                  <a:lnTo>
                    <a:pt x="531" y="790"/>
                  </a:lnTo>
                  <a:lnTo>
                    <a:pt x="527" y="799"/>
                  </a:lnTo>
                  <a:lnTo>
                    <a:pt x="517" y="814"/>
                  </a:lnTo>
                  <a:lnTo>
                    <a:pt x="512" y="823"/>
                  </a:lnTo>
                  <a:lnTo>
                    <a:pt x="503" y="828"/>
                  </a:lnTo>
                  <a:lnTo>
                    <a:pt x="498" y="838"/>
                  </a:lnTo>
                  <a:lnTo>
                    <a:pt x="484" y="852"/>
                  </a:lnTo>
                  <a:lnTo>
                    <a:pt x="469" y="862"/>
                  </a:lnTo>
                  <a:lnTo>
                    <a:pt x="455" y="871"/>
                  </a:lnTo>
                  <a:lnTo>
                    <a:pt x="445" y="881"/>
                  </a:lnTo>
                  <a:lnTo>
                    <a:pt x="436" y="886"/>
                  </a:lnTo>
                  <a:lnTo>
                    <a:pt x="426" y="890"/>
                  </a:lnTo>
                  <a:lnTo>
                    <a:pt x="421" y="895"/>
                  </a:lnTo>
                  <a:lnTo>
                    <a:pt x="412" y="895"/>
                  </a:lnTo>
                  <a:lnTo>
                    <a:pt x="407" y="895"/>
                  </a:lnTo>
                  <a:lnTo>
                    <a:pt x="402" y="890"/>
                  </a:lnTo>
                  <a:lnTo>
                    <a:pt x="397" y="886"/>
                  </a:lnTo>
                  <a:lnTo>
                    <a:pt x="393" y="881"/>
                  </a:lnTo>
                  <a:lnTo>
                    <a:pt x="388" y="876"/>
                  </a:lnTo>
                  <a:lnTo>
                    <a:pt x="383" y="866"/>
                  </a:lnTo>
                  <a:lnTo>
                    <a:pt x="383" y="857"/>
                  </a:lnTo>
                  <a:lnTo>
                    <a:pt x="378" y="847"/>
                  </a:lnTo>
                  <a:lnTo>
                    <a:pt x="373" y="833"/>
                  </a:lnTo>
                  <a:lnTo>
                    <a:pt x="369" y="819"/>
                  </a:lnTo>
                  <a:lnTo>
                    <a:pt x="364" y="804"/>
                  </a:lnTo>
                  <a:lnTo>
                    <a:pt x="354" y="790"/>
                  </a:lnTo>
                  <a:lnTo>
                    <a:pt x="345" y="775"/>
                  </a:lnTo>
                  <a:lnTo>
                    <a:pt x="335" y="756"/>
                  </a:lnTo>
                  <a:lnTo>
                    <a:pt x="326" y="737"/>
                  </a:lnTo>
                  <a:lnTo>
                    <a:pt x="306" y="723"/>
                  </a:lnTo>
                  <a:lnTo>
                    <a:pt x="292" y="704"/>
                  </a:lnTo>
                  <a:lnTo>
                    <a:pt x="282" y="694"/>
                  </a:lnTo>
                  <a:lnTo>
                    <a:pt x="273" y="680"/>
                  </a:lnTo>
                  <a:lnTo>
                    <a:pt x="268" y="670"/>
                  </a:lnTo>
                  <a:lnTo>
                    <a:pt x="263" y="661"/>
                  </a:lnTo>
                  <a:lnTo>
                    <a:pt x="263" y="656"/>
                  </a:lnTo>
                  <a:lnTo>
                    <a:pt x="263" y="651"/>
                  </a:lnTo>
                  <a:lnTo>
                    <a:pt x="263" y="646"/>
                  </a:lnTo>
                  <a:lnTo>
                    <a:pt x="268" y="646"/>
                  </a:lnTo>
                  <a:lnTo>
                    <a:pt x="273" y="646"/>
                  </a:lnTo>
                  <a:lnTo>
                    <a:pt x="278" y="651"/>
                  </a:lnTo>
                  <a:lnTo>
                    <a:pt x="287" y="651"/>
                  </a:lnTo>
                  <a:lnTo>
                    <a:pt x="297" y="656"/>
                  </a:lnTo>
                  <a:lnTo>
                    <a:pt x="306" y="665"/>
                  </a:lnTo>
                  <a:lnTo>
                    <a:pt x="321" y="670"/>
                  </a:lnTo>
                  <a:lnTo>
                    <a:pt x="335" y="680"/>
                  </a:lnTo>
                  <a:lnTo>
                    <a:pt x="345" y="689"/>
                  </a:lnTo>
                  <a:lnTo>
                    <a:pt x="359" y="694"/>
                  </a:lnTo>
                  <a:lnTo>
                    <a:pt x="369" y="699"/>
                  </a:lnTo>
                  <a:lnTo>
                    <a:pt x="378" y="704"/>
                  </a:lnTo>
                  <a:lnTo>
                    <a:pt x="388" y="708"/>
                  </a:lnTo>
                  <a:lnTo>
                    <a:pt x="397" y="708"/>
                  </a:lnTo>
                  <a:lnTo>
                    <a:pt x="407" y="708"/>
                  </a:lnTo>
                  <a:lnTo>
                    <a:pt x="412" y="70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>
              <a:off x="5531400" y="2919960"/>
              <a:ext cx="388080" cy="219960"/>
            </a:xfrm>
            <a:custGeom>
              <a:avLst/>
              <a:gdLst/>
              <a:ahLst/>
              <a:rect l="l" t="t" r="r" b="b"/>
              <a:pathLst>
                <a:path w="321" h="182">
                  <a:moveTo>
                    <a:pt x="210" y="24"/>
                  </a:moveTo>
                  <a:lnTo>
                    <a:pt x="230" y="34"/>
                  </a:lnTo>
                  <a:lnTo>
                    <a:pt x="249" y="38"/>
                  </a:lnTo>
                  <a:lnTo>
                    <a:pt x="263" y="43"/>
                  </a:lnTo>
                  <a:lnTo>
                    <a:pt x="277" y="48"/>
                  </a:lnTo>
                  <a:lnTo>
                    <a:pt x="292" y="58"/>
                  </a:lnTo>
                  <a:lnTo>
                    <a:pt x="301" y="62"/>
                  </a:lnTo>
                  <a:lnTo>
                    <a:pt x="306" y="67"/>
                  </a:lnTo>
                  <a:lnTo>
                    <a:pt x="311" y="77"/>
                  </a:lnTo>
                  <a:lnTo>
                    <a:pt x="316" y="91"/>
                  </a:lnTo>
                  <a:lnTo>
                    <a:pt x="321" y="105"/>
                  </a:lnTo>
                  <a:lnTo>
                    <a:pt x="321" y="125"/>
                  </a:lnTo>
                  <a:lnTo>
                    <a:pt x="321" y="139"/>
                  </a:lnTo>
                  <a:lnTo>
                    <a:pt x="321" y="149"/>
                  </a:lnTo>
                  <a:lnTo>
                    <a:pt x="316" y="158"/>
                  </a:lnTo>
                  <a:lnTo>
                    <a:pt x="316" y="163"/>
                  </a:lnTo>
                  <a:lnTo>
                    <a:pt x="311" y="173"/>
                  </a:lnTo>
                  <a:lnTo>
                    <a:pt x="301" y="177"/>
                  </a:lnTo>
                  <a:lnTo>
                    <a:pt x="297" y="177"/>
                  </a:lnTo>
                  <a:lnTo>
                    <a:pt x="287" y="182"/>
                  </a:lnTo>
                  <a:lnTo>
                    <a:pt x="277" y="182"/>
                  </a:lnTo>
                  <a:lnTo>
                    <a:pt x="273" y="182"/>
                  </a:lnTo>
                  <a:lnTo>
                    <a:pt x="263" y="182"/>
                  </a:lnTo>
                  <a:lnTo>
                    <a:pt x="254" y="177"/>
                  </a:lnTo>
                  <a:lnTo>
                    <a:pt x="244" y="173"/>
                  </a:lnTo>
                  <a:lnTo>
                    <a:pt x="234" y="168"/>
                  </a:lnTo>
                  <a:lnTo>
                    <a:pt x="220" y="163"/>
                  </a:lnTo>
                  <a:lnTo>
                    <a:pt x="206" y="153"/>
                  </a:lnTo>
                  <a:lnTo>
                    <a:pt x="186" y="144"/>
                  </a:lnTo>
                  <a:lnTo>
                    <a:pt x="167" y="134"/>
                  </a:lnTo>
                  <a:lnTo>
                    <a:pt x="148" y="125"/>
                  </a:lnTo>
                  <a:lnTo>
                    <a:pt x="129" y="110"/>
                  </a:lnTo>
                  <a:lnTo>
                    <a:pt x="105" y="101"/>
                  </a:lnTo>
                  <a:lnTo>
                    <a:pt x="81" y="86"/>
                  </a:lnTo>
                  <a:lnTo>
                    <a:pt x="57" y="67"/>
                  </a:lnTo>
                  <a:lnTo>
                    <a:pt x="28" y="53"/>
                  </a:lnTo>
                  <a:lnTo>
                    <a:pt x="0" y="34"/>
                  </a:lnTo>
                  <a:lnTo>
                    <a:pt x="19" y="24"/>
                  </a:lnTo>
                  <a:lnTo>
                    <a:pt x="38" y="14"/>
                  </a:lnTo>
                  <a:lnTo>
                    <a:pt x="62" y="5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48" y="10"/>
                  </a:lnTo>
                  <a:lnTo>
                    <a:pt x="167" y="14"/>
                  </a:lnTo>
                  <a:lnTo>
                    <a:pt x="186" y="19"/>
                  </a:lnTo>
                  <a:lnTo>
                    <a:pt x="210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"/>
            <p:cNvSpPr/>
            <p:nvPr/>
          </p:nvSpPr>
          <p:spPr>
            <a:xfrm>
              <a:off x="3909240" y="3592800"/>
              <a:ext cx="2120040" cy="288720"/>
            </a:xfrm>
            <a:custGeom>
              <a:avLst/>
              <a:gdLst/>
              <a:ahLst/>
              <a:rect l="l" t="t" r="r" b="b"/>
              <a:pathLst>
                <a:path w="1753" h="239">
                  <a:moveTo>
                    <a:pt x="1542" y="0"/>
                  </a:moveTo>
                  <a:lnTo>
                    <a:pt x="1575" y="0"/>
                  </a:lnTo>
                  <a:lnTo>
                    <a:pt x="1604" y="9"/>
                  </a:lnTo>
                  <a:lnTo>
                    <a:pt x="1623" y="9"/>
                  </a:lnTo>
                  <a:lnTo>
                    <a:pt x="1638" y="19"/>
                  </a:lnTo>
                  <a:lnTo>
                    <a:pt x="1652" y="24"/>
                  </a:lnTo>
                  <a:lnTo>
                    <a:pt x="1671" y="33"/>
                  </a:lnTo>
                  <a:lnTo>
                    <a:pt x="1686" y="43"/>
                  </a:lnTo>
                  <a:lnTo>
                    <a:pt x="1700" y="52"/>
                  </a:lnTo>
                  <a:lnTo>
                    <a:pt x="1709" y="57"/>
                  </a:lnTo>
                  <a:lnTo>
                    <a:pt x="1724" y="62"/>
                  </a:lnTo>
                  <a:lnTo>
                    <a:pt x="1729" y="72"/>
                  </a:lnTo>
                  <a:lnTo>
                    <a:pt x="1738" y="76"/>
                  </a:lnTo>
                  <a:lnTo>
                    <a:pt x="1743" y="81"/>
                  </a:lnTo>
                  <a:lnTo>
                    <a:pt x="1748" y="81"/>
                  </a:lnTo>
                  <a:lnTo>
                    <a:pt x="1753" y="96"/>
                  </a:lnTo>
                  <a:lnTo>
                    <a:pt x="1753" y="100"/>
                  </a:lnTo>
                  <a:lnTo>
                    <a:pt x="1753" y="110"/>
                  </a:lnTo>
                  <a:lnTo>
                    <a:pt x="1748" y="115"/>
                  </a:lnTo>
                  <a:lnTo>
                    <a:pt x="1743" y="119"/>
                  </a:lnTo>
                  <a:lnTo>
                    <a:pt x="1733" y="119"/>
                  </a:lnTo>
                  <a:lnTo>
                    <a:pt x="1729" y="124"/>
                  </a:lnTo>
                  <a:lnTo>
                    <a:pt x="1719" y="124"/>
                  </a:lnTo>
                  <a:lnTo>
                    <a:pt x="1705" y="124"/>
                  </a:lnTo>
                  <a:lnTo>
                    <a:pt x="1690" y="124"/>
                  </a:lnTo>
                  <a:lnTo>
                    <a:pt x="1676" y="124"/>
                  </a:lnTo>
                  <a:lnTo>
                    <a:pt x="1662" y="129"/>
                  </a:lnTo>
                  <a:lnTo>
                    <a:pt x="1642" y="129"/>
                  </a:lnTo>
                  <a:lnTo>
                    <a:pt x="1618" y="129"/>
                  </a:lnTo>
                  <a:lnTo>
                    <a:pt x="1599" y="129"/>
                  </a:lnTo>
                  <a:lnTo>
                    <a:pt x="1575" y="129"/>
                  </a:lnTo>
                  <a:lnTo>
                    <a:pt x="1547" y="124"/>
                  </a:lnTo>
                  <a:lnTo>
                    <a:pt x="1518" y="124"/>
                  </a:lnTo>
                  <a:lnTo>
                    <a:pt x="1489" y="124"/>
                  </a:lnTo>
                  <a:lnTo>
                    <a:pt x="1427" y="119"/>
                  </a:lnTo>
                  <a:lnTo>
                    <a:pt x="1365" y="119"/>
                  </a:lnTo>
                  <a:lnTo>
                    <a:pt x="1245" y="124"/>
                  </a:lnTo>
                  <a:lnTo>
                    <a:pt x="1125" y="124"/>
                  </a:lnTo>
                  <a:lnTo>
                    <a:pt x="1005" y="134"/>
                  </a:lnTo>
                  <a:lnTo>
                    <a:pt x="948" y="139"/>
                  </a:lnTo>
                  <a:lnTo>
                    <a:pt x="895" y="143"/>
                  </a:lnTo>
                  <a:lnTo>
                    <a:pt x="843" y="153"/>
                  </a:lnTo>
                  <a:lnTo>
                    <a:pt x="790" y="158"/>
                  </a:lnTo>
                  <a:lnTo>
                    <a:pt x="742" y="163"/>
                  </a:lnTo>
                  <a:lnTo>
                    <a:pt x="694" y="167"/>
                  </a:lnTo>
                  <a:lnTo>
                    <a:pt x="651" y="172"/>
                  </a:lnTo>
                  <a:lnTo>
                    <a:pt x="608" y="172"/>
                  </a:lnTo>
                  <a:lnTo>
                    <a:pt x="526" y="187"/>
                  </a:lnTo>
                  <a:lnTo>
                    <a:pt x="440" y="196"/>
                  </a:lnTo>
                  <a:lnTo>
                    <a:pt x="354" y="206"/>
                  </a:lnTo>
                  <a:lnTo>
                    <a:pt x="273" y="215"/>
                  </a:lnTo>
                  <a:lnTo>
                    <a:pt x="253" y="220"/>
                  </a:lnTo>
                  <a:lnTo>
                    <a:pt x="234" y="220"/>
                  </a:lnTo>
                  <a:lnTo>
                    <a:pt x="215" y="225"/>
                  </a:lnTo>
                  <a:lnTo>
                    <a:pt x="196" y="225"/>
                  </a:lnTo>
                  <a:lnTo>
                    <a:pt x="182" y="230"/>
                  </a:lnTo>
                  <a:lnTo>
                    <a:pt x="167" y="230"/>
                  </a:lnTo>
                  <a:lnTo>
                    <a:pt x="153" y="234"/>
                  </a:lnTo>
                  <a:lnTo>
                    <a:pt x="143" y="234"/>
                  </a:lnTo>
                  <a:lnTo>
                    <a:pt x="134" y="234"/>
                  </a:lnTo>
                  <a:lnTo>
                    <a:pt x="124" y="239"/>
                  </a:lnTo>
                  <a:lnTo>
                    <a:pt x="115" y="239"/>
                  </a:lnTo>
                  <a:lnTo>
                    <a:pt x="105" y="239"/>
                  </a:lnTo>
                  <a:lnTo>
                    <a:pt x="100" y="239"/>
                  </a:lnTo>
                  <a:lnTo>
                    <a:pt x="95" y="239"/>
                  </a:lnTo>
                  <a:lnTo>
                    <a:pt x="91" y="239"/>
                  </a:lnTo>
                  <a:lnTo>
                    <a:pt x="86" y="239"/>
                  </a:lnTo>
                  <a:lnTo>
                    <a:pt x="81" y="239"/>
                  </a:lnTo>
                  <a:lnTo>
                    <a:pt x="76" y="234"/>
                  </a:lnTo>
                  <a:lnTo>
                    <a:pt x="67" y="234"/>
                  </a:lnTo>
                  <a:lnTo>
                    <a:pt x="57" y="230"/>
                  </a:lnTo>
                  <a:lnTo>
                    <a:pt x="47" y="225"/>
                  </a:lnTo>
                  <a:lnTo>
                    <a:pt x="38" y="215"/>
                  </a:lnTo>
                  <a:lnTo>
                    <a:pt x="28" y="206"/>
                  </a:lnTo>
                  <a:lnTo>
                    <a:pt x="24" y="196"/>
                  </a:lnTo>
                  <a:lnTo>
                    <a:pt x="14" y="191"/>
                  </a:lnTo>
                  <a:lnTo>
                    <a:pt x="9" y="182"/>
                  </a:lnTo>
                  <a:lnTo>
                    <a:pt x="4" y="177"/>
                  </a:lnTo>
                  <a:lnTo>
                    <a:pt x="4" y="172"/>
                  </a:lnTo>
                  <a:lnTo>
                    <a:pt x="0" y="167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9" y="153"/>
                  </a:lnTo>
                  <a:lnTo>
                    <a:pt x="19" y="153"/>
                  </a:lnTo>
                  <a:lnTo>
                    <a:pt x="28" y="153"/>
                  </a:lnTo>
                  <a:lnTo>
                    <a:pt x="43" y="148"/>
                  </a:lnTo>
                  <a:lnTo>
                    <a:pt x="62" y="148"/>
                  </a:lnTo>
                  <a:lnTo>
                    <a:pt x="86" y="148"/>
                  </a:lnTo>
                  <a:lnTo>
                    <a:pt x="115" y="143"/>
                  </a:lnTo>
                  <a:lnTo>
                    <a:pt x="143" y="139"/>
                  </a:lnTo>
                  <a:lnTo>
                    <a:pt x="177" y="139"/>
                  </a:lnTo>
                  <a:lnTo>
                    <a:pt x="215" y="134"/>
                  </a:lnTo>
                  <a:lnTo>
                    <a:pt x="258" y="129"/>
                  </a:lnTo>
                  <a:lnTo>
                    <a:pt x="306" y="129"/>
                  </a:lnTo>
                  <a:lnTo>
                    <a:pt x="354" y="124"/>
                  </a:lnTo>
                  <a:lnTo>
                    <a:pt x="411" y="119"/>
                  </a:lnTo>
                  <a:lnTo>
                    <a:pt x="469" y="115"/>
                  </a:lnTo>
                  <a:lnTo>
                    <a:pt x="531" y="110"/>
                  </a:lnTo>
                  <a:lnTo>
                    <a:pt x="651" y="96"/>
                  </a:lnTo>
                  <a:lnTo>
                    <a:pt x="713" y="91"/>
                  </a:lnTo>
                  <a:lnTo>
                    <a:pt x="771" y="81"/>
                  </a:lnTo>
                  <a:lnTo>
                    <a:pt x="828" y="76"/>
                  </a:lnTo>
                  <a:lnTo>
                    <a:pt x="881" y="72"/>
                  </a:lnTo>
                  <a:lnTo>
                    <a:pt x="938" y="62"/>
                  </a:lnTo>
                  <a:lnTo>
                    <a:pt x="986" y="57"/>
                  </a:lnTo>
                  <a:lnTo>
                    <a:pt x="1039" y="52"/>
                  </a:lnTo>
                  <a:lnTo>
                    <a:pt x="1087" y="52"/>
                  </a:lnTo>
                  <a:lnTo>
                    <a:pt x="1135" y="48"/>
                  </a:lnTo>
                  <a:lnTo>
                    <a:pt x="1183" y="38"/>
                  </a:lnTo>
                  <a:lnTo>
                    <a:pt x="1226" y="33"/>
                  </a:lnTo>
                  <a:lnTo>
                    <a:pt x="1264" y="28"/>
                  </a:lnTo>
                  <a:lnTo>
                    <a:pt x="1307" y="24"/>
                  </a:lnTo>
                  <a:lnTo>
                    <a:pt x="1341" y="14"/>
                  </a:lnTo>
                  <a:lnTo>
                    <a:pt x="1379" y="14"/>
                  </a:lnTo>
                  <a:lnTo>
                    <a:pt x="1408" y="9"/>
                  </a:lnTo>
                  <a:lnTo>
                    <a:pt x="1436" y="9"/>
                  </a:lnTo>
                  <a:lnTo>
                    <a:pt x="1465" y="5"/>
                  </a:lnTo>
                  <a:lnTo>
                    <a:pt x="1489" y="5"/>
                  </a:lnTo>
                  <a:lnTo>
                    <a:pt x="1508" y="0"/>
                  </a:lnTo>
                  <a:lnTo>
                    <a:pt x="1527" y="0"/>
                  </a:lnTo>
                  <a:lnTo>
                    <a:pt x="1542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4841640" y="3511440"/>
              <a:ext cx="191160" cy="1233720"/>
            </a:xfrm>
            <a:custGeom>
              <a:avLst/>
              <a:gdLst/>
              <a:ahLst/>
              <a:rect l="l" t="t" r="r" b="b"/>
              <a:pathLst>
                <a:path w="158" h="1020">
                  <a:moveTo>
                    <a:pt x="19" y="76"/>
                  </a:moveTo>
                  <a:lnTo>
                    <a:pt x="9" y="5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4"/>
                  </a:lnTo>
                  <a:lnTo>
                    <a:pt x="100" y="9"/>
                  </a:lnTo>
                  <a:lnTo>
                    <a:pt x="124" y="19"/>
                  </a:lnTo>
                  <a:lnTo>
                    <a:pt x="139" y="33"/>
                  </a:lnTo>
                  <a:lnTo>
                    <a:pt x="148" y="38"/>
                  </a:lnTo>
                  <a:lnTo>
                    <a:pt x="153" y="48"/>
                  </a:lnTo>
                  <a:lnTo>
                    <a:pt x="158" y="57"/>
                  </a:lnTo>
                  <a:lnTo>
                    <a:pt x="158" y="67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91"/>
                  </a:lnTo>
                  <a:lnTo>
                    <a:pt x="153" y="100"/>
                  </a:lnTo>
                  <a:lnTo>
                    <a:pt x="153" y="115"/>
                  </a:lnTo>
                  <a:lnTo>
                    <a:pt x="153" y="129"/>
                  </a:lnTo>
                  <a:lnTo>
                    <a:pt x="148" y="148"/>
                  </a:lnTo>
                  <a:lnTo>
                    <a:pt x="148" y="172"/>
                  </a:lnTo>
                  <a:lnTo>
                    <a:pt x="148" y="191"/>
                  </a:lnTo>
                  <a:lnTo>
                    <a:pt x="143" y="220"/>
                  </a:lnTo>
                  <a:lnTo>
                    <a:pt x="143" y="249"/>
                  </a:lnTo>
                  <a:lnTo>
                    <a:pt x="143" y="282"/>
                  </a:lnTo>
                  <a:lnTo>
                    <a:pt x="143" y="316"/>
                  </a:lnTo>
                  <a:lnTo>
                    <a:pt x="143" y="354"/>
                  </a:lnTo>
                  <a:lnTo>
                    <a:pt x="139" y="392"/>
                  </a:lnTo>
                  <a:lnTo>
                    <a:pt x="139" y="436"/>
                  </a:lnTo>
                  <a:lnTo>
                    <a:pt x="139" y="483"/>
                  </a:lnTo>
                  <a:lnTo>
                    <a:pt x="139" y="531"/>
                  </a:lnTo>
                  <a:lnTo>
                    <a:pt x="139" y="579"/>
                  </a:lnTo>
                  <a:lnTo>
                    <a:pt x="139" y="627"/>
                  </a:lnTo>
                  <a:lnTo>
                    <a:pt x="139" y="670"/>
                  </a:lnTo>
                  <a:lnTo>
                    <a:pt x="139" y="709"/>
                  </a:lnTo>
                  <a:lnTo>
                    <a:pt x="139" y="747"/>
                  </a:lnTo>
                  <a:lnTo>
                    <a:pt x="139" y="780"/>
                  </a:lnTo>
                  <a:lnTo>
                    <a:pt x="134" y="814"/>
                  </a:lnTo>
                  <a:lnTo>
                    <a:pt x="134" y="843"/>
                  </a:lnTo>
                  <a:lnTo>
                    <a:pt x="134" y="867"/>
                  </a:lnTo>
                  <a:lnTo>
                    <a:pt x="134" y="891"/>
                  </a:lnTo>
                  <a:lnTo>
                    <a:pt x="129" y="914"/>
                  </a:lnTo>
                  <a:lnTo>
                    <a:pt x="129" y="934"/>
                  </a:lnTo>
                  <a:lnTo>
                    <a:pt x="129" y="948"/>
                  </a:lnTo>
                  <a:lnTo>
                    <a:pt x="124" y="962"/>
                  </a:lnTo>
                  <a:lnTo>
                    <a:pt x="124" y="972"/>
                  </a:lnTo>
                  <a:lnTo>
                    <a:pt x="124" y="977"/>
                  </a:lnTo>
                  <a:lnTo>
                    <a:pt x="110" y="996"/>
                  </a:lnTo>
                  <a:lnTo>
                    <a:pt x="100" y="1010"/>
                  </a:lnTo>
                  <a:lnTo>
                    <a:pt x="91" y="1015"/>
                  </a:lnTo>
                  <a:lnTo>
                    <a:pt x="86" y="1020"/>
                  </a:lnTo>
                  <a:lnTo>
                    <a:pt x="81" y="1020"/>
                  </a:lnTo>
                  <a:lnTo>
                    <a:pt x="76" y="1020"/>
                  </a:lnTo>
                  <a:lnTo>
                    <a:pt x="72" y="1015"/>
                  </a:lnTo>
                  <a:lnTo>
                    <a:pt x="67" y="1010"/>
                  </a:lnTo>
                  <a:lnTo>
                    <a:pt x="62" y="1001"/>
                  </a:lnTo>
                  <a:lnTo>
                    <a:pt x="57" y="991"/>
                  </a:lnTo>
                  <a:lnTo>
                    <a:pt x="48" y="977"/>
                  </a:lnTo>
                  <a:lnTo>
                    <a:pt x="43" y="958"/>
                  </a:lnTo>
                  <a:lnTo>
                    <a:pt x="38" y="938"/>
                  </a:lnTo>
                  <a:lnTo>
                    <a:pt x="28" y="914"/>
                  </a:lnTo>
                  <a:lnTo>
                    <a:pt x="24" y="895"/>
                  </a:lnTo>
                  <a:lnTo>
                    <a:pt x="19" y="876"/>
                  </a:lnTo>
                  <a:lnTo>
                    <a:pt x="14" y="857"/>
                  </a:lnTo>
                  <a:lnTo>
                    <a:pt x="14" y="838"/>
                  </a:lnTo>
                  <a:lnTo>
                    <a:pt x="14" y="819"/>
                  </a:lnTo>
                  <a:lnTo>
                    <a:pt x="14" y="800"/>
                  </a:lnTo>
                  <a:lnTo>
                    <a:pt x="19" y="780"/>
                  </a:lnTo>
                  <a:lnTo>
                    <a:pt x="24" y="761"/>
                  </a:lnTo>
                  <a:lnTo>
                    <a:pt x="28" y="742"/>
                  </a:lnTo>
                  <a:lnTo>
                    <a:pt x="33" y="723"/>
                  </a:lnTo>
                  <a:lnTo>
                    <a:pt x="38" y="699"/>
                  </a:lnTo>
                  <a:lnTo>
                    <a:pt x="43" y="670"/>
                  </a:lnTo>
                  <a:lnTo>
                    <a:pt x="48" y="637"/>
                  </a:lnTo>
                  <a:lnTo>
                    <a:pt x="48" y="603"/>
                  </a:lnTo>
                  <a:lnTo>
                    <a:pt x="52" y="565"/>
                  </a:lnTo>
                  <a:lnTo>
                    <a:pt x="57" y="488"/>
                  </a:lnTo>
                  <a:lnTo>
                    <a:pt x="62" y="416"/>
                  </a:lnTo>
                  <a:lnTo>
                    <a:pt x="62" y="335"/>
                  </a:lnTo>
                  <a:lnTo>
                    <a:pt x="62" y="258"/>
                  </a:lnTo>
                  <a:lnTo>
                    <a:pt x="57" y="220"/>
                  </a:lnTo>
                  <a:lnTo>
                    <a:pt x="57" y="191"/>
                  </a:lnTo>
                  <a:lnTo>
                    <a:pt x="52" y="163"/>
                  </a:lnTo>
                  <a:lnTo>
                    <a:pt x="48" y="139"/>
                  </a:lnTo>
                  <a:lnTo>
                    <a:pt x="43" y="119"/>
                  </a:lnTo>
                  <a:lnTo>
                    <a:pt x="33" y="100"/>
                  </a:lnTo>
                  <a:lnTo>
                    <a:pt x="28" y="86"/>
                  </a:lnTo>
                  <a:lnTo>
                    <a:pt x="19" y="7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>
              <a:off x="3966120" y="3754440"/>
              <a:ext cx="990360" cy="793440"/>
            </a:xfrm>
            <a:custGeom>
              <a:avLst/>
              <a:gdLst/>
              <a:ahLst/>
              <a:rect l="l" t="t" r="r" b="b"/>
              <a:pathLst>
                <a:path w="819" h="656">
                  <a:moveTo>
                    <a:pt x="374" y="469"/>
                  </a:moveTo>
                  <a:lnTo>
                    <a:pt x="312" y="508"/>
                  </a:lnTo>
                  <a:lnTo>
                    <a:pt x="250" y="541"/>
                  </a:lnTo>
                  <a:lnTo>
                    <a:pt x="192" y="575"/>
                  </a:lnTo>
                  <a:lnTo>
                    <a:pt x="130" y="613"/>
                  </a:lnTo>
                  <a:lnTo>
                    <a:pt x="101" y="627"/>
                  </a:lnTo>
                  <a:lnTo>
                    <a:pt x="77" y="637"/>
                  </a:lnTo>
                  <a:lnTo>
                    <a:pt x="58" y="646"/>
                  </a:lnTo>
                  <a:lnTo>
                    <a:pt x="39" y="651"/>
                  </a:lnTo>
                  <a:lnTo>
                    <a:pt x="24" y="656"/>
                  </a:lnTo>
                  <a:lnTo>
                    <a:pt x="15" y="656"/>
                  </a:lnTo>
                  <a:lnTo>
                    <a:pt x="5" y="656"/>
                  </a:lnTo>
                  <a:lnTo>
                    <a:pt x="0" y="656"/>
                  </a:lnTo>
                  <a:lnTo>
                    <a:pt x="0" y="651"/>
                  </a:lnTo>
                  <a:lnTo>
                    <a:pt x="0" y="642"/>
                  </a:lnTo>
                  <a:lnTo>
                    <a:pt x="5" y="637"/>
                  </a:lnTo>
                  <a:lnTo>
                    <a:pt x="15" y="627"/>
                  </a:lnTo>
                  <a:lnTo>
                    <a:pt x="29" y="613"/>
                  </a:lnTo>
                  <a:lnTo>
                    <a:pt x="48" y="599"/>
                  </a:lnTo>
                  <a:lnTo>
                    <a:pt x="68" y="584"/>
                  </a:lnTo>
                  <a:lnTo>
                    <a:pt x="96" y="570"/>
                  </a:lnTo>
                  <a:lnTo>
                    <a:pt x="149" y="536"/>
                  </a:lnTo>
                  <a:lnTo>
                    <a:pt x="197" y="503"/>
                  </a:lnTo>
                  <a:lnTo>
                    <a:pt x="250" y="464"/>
                  </a:lnTo>
                  <a:lnTo>
                    <a:pt x="293" y="421"/>
                  </a:lnTo>
                  <a:lnTo>
                    <a:pt x="307" y="412"/>
                  </a:lnTo>
                  <a:lnTo>
                    <a:pt x="321" y="397"/>
                  </a:lnTo>
                  <a:lnTo>
                    <a:pt x="336" y="383"/>
                  </a:lnTo>
                  <a:lnTo>
                    <a:pt x="355" y="369"/>
                  </a:lnTo>
                  <a:lnTo>
                    <a:pt x="374" y="349"/>
                  </a:lnTo>
                  <a:lnTo>
                    <a:pt x="393" y="326"/>
                  </a:lnTo>
                  <a:lnTo>
                    <a:pt x="412" y="306"/>
                  </a:lnTo>
                  <a:lnTo>
                    <a:pt x="436" y="278"/>
                  </a:lnTo>
                  <a:lnTo>
                    <a:pt x="465" y="254"/>
                  </a:lnTo>
                  <a:lnTo>
                    <a:pt x="494" y="220"/>
                  </a:lnTo>
                  <a:lnTo>
                    <a:pt x="523" y="191"/>
                  </a:lnTo>
                  <a:lnTo>
                    <a:pt x="551" y="158"/>
                  </a:lnTo>
                  <a:lnTo>
                    <a:pt x="585" y="120"/>
                  </a:lnTo>
                  <a:lnTo>
                    <a:pt x="618" y="81"/>
                  </a:lnTo>
                  <a:lnTo>
                    <a:pt x="652" y="43"/>
                  </a:lnTo>
                  <a:lnTo>
                    <a:pt x="690" y="0"/>
                  </a:lnTo>
                  <a:lnTo>
                    <a:pt x="757" y="14"/>
                  </a:lnTo>
                  <a:lnTo>
                    <a:pt x="819" y="33"/>
                  </a:lnTo>
                  <a:lnTo>
                    <a:pt x="781" y="76"/>
                  </a:lnTo>
                  <a:lnTo>
                    <a:pt x="743" y="120"/>
                  </a:lnTo>
                  <a:lnTo>
                    <a:pt x="705" y="158"/>
                  </a:lnTo>
                  <a:lnTo>
                    <a:pt x="671" y="196"/>
                  </a:lnTo>
                  <a:lnTo>
                    <a:pt x="637" y="230"/>
                  </a:lnTo>
                  <a:lnTo>
                    <a:pt x="604" y="263"/>
                  </a:lnTo>
                  <a:lnTo>
                    <a:pt x="575" y="292"/>
                  </a:lnTo>
                  <a:lnTo>
                    <a:pt x="546" y="321"/>
                  </a:lnTo>
                  <a:lnTo>
                    <a:pt x="518" y="345"/>
                  </a:lnTo>
                  <a:lnTo>
                    <a:pt x="494" y="369"/>
                  </a:lnTo>
                  <a:lnTo>
                    <a:pt x="465" y="393"/>
                  </a:lnTo>
                  <a:lnTo>
                    <a:pt x="446" y="412"/>
                  </a:lnTo>
                  <a:lnTo>
                    <a:pt x="422" y="431"/>
                  </a:lnTo>
                  <a:lnTo>
                    <a:pt x="403" y="445"/>
                  </a:lnTo>
                  <a:lnTo>
                    <a:pt x="388" y="460"/>
                  </a:lnTo>
                  <a:lnTo>
                    <a:pt x="374" y="46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>
              <a:off x="4939560" y="3742560"/>
              <a:ext cx="1268640" cy="759600"/>
            </a:xfrm>
            <a:custGeom>
              <a:avLst/>
              <a:gdLst/>
              <a:ahLst/>
              <a:rect l="l" t="t" r="r" b="b"/>
              <a:pathLst>
                <a:path w="1049" h="628">
                  <a:moveTo>
                    <a:pt x="24" y="0"/>
                  </a:moveTo>
                  <a:lnTo>
                    <a:pt x="53" y="29"/>
                  </a:lnTo>
                  <a:lnTo>
                    <a:pt x="86" y="58"/>
                  </a:lnTo>
                  <a:lnTo>
                    <a:pt x="125" y="86"/>
                  </a:lnTo>
                  <a:lnTo>
                    <a:pt x="158" y="115"/>
                  </a:lnTo>
                  <a:lnTo>
                    <a:pt x="201" y="144"/>
                  </a:lnTo>
                  <a:lnTo>
                    <a:pt x="244" y="173"/>
                  </a:lnTo>
                  <a:lnTo>
                    <a:pt x="288" y="201"/>
                  </a:lnTo>
                  <a:lnTo>
                    <a:pt x="335" y="230"/>
                  </a:lnTo>
                  <a:lnTo>
                    <a:pt x="383" y="268"/>
                  </a:lnTo>
                  <a:lnTo>
                    <a:pt x="431" y="297"/>
                  </a:lnTo>
                  <a:lnTo>
                    <a:pt x="484" y="326"/>
                  </a:lnTo>
                  <a:lnTo>
                    <a:pt x="537" y="355"/>
                  </a:lnTo>
                  <a:lnTo>
                    <a:pt x="594" y="383"/>
                  </a:lnTo>
                  <a:lnTo>
                    <a:pt x="656" y="407"/>
                  </a:lnTo>
                  <a:lnTo>
                    <a:pt x="719" y="431"/>
                  </a:lnTo>
                  <a:lnTo>
                    <a:pt x="786" y="455"/>
                  </a:lnTo>
                  <a:lnTo>
                    <a:pt x="814" y="470"/>
                  </a:lnTo>
                  <a:lnTo>
                    <a:pt x="848" y="479"/>
                  </a:lnTo>
                  <a:lnTo>
                    <a:pt x="877" y="489"/>
                  </a:lnTo>
                  <a:lnTo>
                    <a:pt x="901" y="498"/>
                  </a:lnTo>
                  <a:lnTo>
                    <a:pt x="925" y="508"/>
                  </a:lnTo>
                  <a:lnTo>
                    <a:pt x="948" y="518"/>
                  </a:lnTo>
                  <a:lnTo>
                    <a:pt x="968" y="527"/>
                  </a:lnTo>
                  <a:lnTo>
                    <a:pt x="987" y="532"/>
                  </a:lnTo>
                  <a:lnTo>
                    <a:pt x="1001" y="537"/>
                  </a:lnTo>
                  <a:lnTo>
                    <a:pt x="1016" y="546"/>
                  </a:lnTo>
                  <a:lnTo>
                    <a:pt x="1025" y="551"/>
                  </a:lnTo>
                  <a:lnTo>
                    <a:pt x="1035" y="551"/>
                  </a:lnTo>
                  <a:lnTo>
                    <a:pt x="1044" y="556"/>
                  </a:lnTo>
                  <a:lnTo>
                    <a:pt x="1049" y="561"/>
                  </a:lnTo>
                  <a:lnTo>
                    <a:pt x="1049" y="565"/>
                  </a:lnTo>
                  <a:lnTo>
                    <a:pt x="1044" y="570"/>
                  </a:lnTo>
                  <a:lnTo>
                    <a:pt x="1039" y="570"/>
                  </a:lnTo>
                  <a:lnTo>
                    <a:pt x="1035" y="575"/>
                  </a:lnTo>
                  <a:lnTo>
                    <a:pt x="1030" y="575"/>
                  </a:lnTo>
                  <a:lnTo>
                    <a:pt x="1020" y="580"/>
                  </a:lnTo>
                  <a:lnTo>
                    <a:pt x="1011" y="580"/>
                  </a:lnTo>
                  <a:lnTo>
                    <a:pt x="1001" y="585"/>
                  </a:lnTo>
                  <a:lnTo>
                    <a:pt x="992" y="589"/>
                  </a:lnTo>
                  <a:lnTo>
                    <a:pt x="977" y="589"/>
                  </a:lnTo>
                  <a:lnTo>
                    <a:pt x="963" y="594"/>
                  </a:lnTo>
                  <a:lnTo>
                    <a:pt x="948" y="594"/>
                  </a:lnTo>
                  <a:lnTo>
                    <a:pt x="934" y="599"/>
                  </a:lnTo>
                  <a:lnTo>
                    <a:pt x="915" y="604"/>
                  </a:lnTo>
                  <a:lnTo>
                    <a:pt x="896" y="604"/>
                  </a:lnTo>
                  <a:lnTo>
                    <a:pt x="857" y="613"/>
                  </a:lnTo>
                  <a:lnTo>
                    <a:pt x="819" y="618"/>
                  </a:lnTo>
                  <a:lnTo>
                    <a:pt x="786" y="623"/>
                  </a:lnTo>
                  <a:lnTo>
                    <a:pt x="752" y="623"/>
                  </a:lnTo>
                  <a:lnTo>
                    <a:pt x="723" y="623"/>
                  </a:lnTo>
                  <a:lnTo>
                    <a:pt x="699" y="628"/>
                  </a:lnTo>
                  <a:lnTo>
                    <a:pt x="675" y="623"/>
                  </a:lnTo>
                  <a:lnTo>
                    <a:pt x="656" y="623"/>
                  </a:lnTo>
                  <a:lnTo>
                    <a:pt x="632" y="618"/>
                  </a:lnTo>
                  <a:lnTo>
                    <a:pt x="604" y="609"/>
                  </a:lnTo>
                  <a:lnTo>
                    <a:pt x="580" y="594"/>
                  </a:lnTo>
                  <a:lnTo>
                    <a:pt x="551" y="575"/>
                  </a:lnTo>
                  <a:lnTo>
                    <a:pt x="522" y="551"/>
                  </a:lnTo>
                  <a:lnTo>
                    <a:pt x="489" y="522"/>
                  </a:lnTo>
                  <a:lnTo>
                    <a:pt x="474" y="503"/>
                  </a:lnTo>
                  <a:lnTo>
                    <a:pt x="455" y="489"/>
                  </a:lnTo>
                  <a:lnTo>
                    <a:pt x="441" y="470"/>
                  </a:lnTo>
                  <a:lnTo>
                    <a:pt x="422" y="450"/>
                  </a:lnTo>
                  <a:lnTo>
                    <a:pt x="383" y="412"/>
                  </a:lnTo>
                  <a:lnTo>
                    <a:pt x="350" y="379"/>
                  </a:lnTo>
                  <a:lnTo>
                    <a:pt x="321" y="350"/>
                  </a:lnTo>
                  <a:lnTo>
                    <a:pt x="292" y="326"/>
                  </a:lnTo>
                  <a:lnTo>
                    <a:pt x="264" y="302"/>
                  </a:lnTo>
                  <a:lnTo>
                    <a:pt x="244" y="278"/>
                  </a:lnTo>
                  <a:lnTo>
                    <a:pt x="225" y="264"/>
                  </a:lnTo>
                  <a:lnTo>
                    <a:pt x="206" y="249"/>
                  </a:lnTo>
                  <a:lnTo>
                    <a:pt x="187" y="235"/>
                  </a:lnTo>
                  <a:lnTo>
                    <a:pt x="168" y="216"/>
                  </a:lnTo>
                  <a:lnTo>
                    <a:pt x="144" y="197"/>
                  </a:lnTo>
                  <a:lnTo>
                    <a:pt x="120" y="173"/>
                  </a:lnTo>
                  <a:lnTo>
                    <a:pt x="96" y="149"/>
                  </a:lnTo>
                  <a:lnTo>
                    <a:pt x="62" y="120"/>
                  </a:lnTo>
                  <a:lnTo>
                    <a:pt x="34" y="86"/>
                  </a:lnTo>
                  <a:lnTo>
                    <a:pt x="0" y="48"/>
                  </a:lnTo>
                  <a:lnTo>
                    <a:pt x="24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>
              <a:off x="4528440" y="2606760"/>
              <a:ext cx="701280" cy="956880"/>
            </a:xfrm>
            <a:custGeom>
              <a:avLst/>
              <a:gdLst/>
              <a:ahLst/>
              <a:rect l="l" t="t" r="r" b="b"/>
              <a:pathLst>
                <a:path w="580" h="791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5" y="772"/>
                  </a:lnTo>
                  <a:lnTo>
                    <a:pt x="14" y="762"/>
                  </a:lnTo>
                  <a:lnTo>
                    <a:pt x="29" y="748"/>
                  </a:lnTo>
                  <a:lnTo>
                    <a:pt x="43" y="733"/>
                  </a:lnTo>
                  <a:lnTo>
                    <a:pt x="58" y="719"/>
                  </a:lnTo>
                  <a:lnTo>
                    <a:pt x="81" y="700"/>
                  </a:lnTo>
                  <a:lnTo>
                    <a:pt x="101" y="681"/>
                  </a:lnTo>
                  <a:lnTo>
                    <a:pt x="125" y="661"/>
                  </a:lnTo>
                  <a:lnTo>
                    <a:pt x="149" y="637"/>
                  </a:lnTo>
                  <a:lnTo>
                    <a:pt x="172" y="614"/>
                  </a:lnTo>
                  <a:lnTo>
                    <a:pt x="196" y="585"/>
                  </a:lnTo>
                  <a:lnTo>
                    <a:pt x="220" y="556"/>
                  </a:lnTo>
                  <a:lnTo>
                    <a:pt x="244" y="523"/>
                  </a:lnTo>
                  <a:lnTo>
                    <a:pt x="268" y="489"/>
                  </a:lnTo>
                  <a:lnTo>
                    <a:pt x="292" y="455"/>
                  </a:lnTo>
                  <a:lnTo>
                    <a:pt x="316" y="422"/>
                  </a:lnTo>
                  <a:lnTo>
                    <a:pt x="340" y="393"/>
                  </a:lnTo>
                  <a:lnTo>
                    <a:pt x="359" y="360"/>
                  </a:lnTo>
                  <a:lnTo>
                    <a:pt x="378" y="326"/>
                  </a:lnTo>
                  <a:lnTo>
                    <a:pt x="393" y="293"/>
                  </a:lnTo>
                  <a:lnTo>
                    <a:pt x="407" y="259"/>
                  </a:lnTo>
                  <a:lnTo>
                    <a:pt x="417" y="226"/>
                  </a:lnTo>
                  <a:lnTo>
                    <a:pt x="426" y="192"/>
                  </a:lnTo>
                  <a:lnTo>
                    <a:pt x="431" y="159"/>
                  </a:lnTo>
                  <a:lnTo>
                    <a:pt x="436" y="130"/>
                  </a:lnTo>
                  <a:lnTo>
                    <a:pt x="441" y="101"/>
                  </a:lnTo>
                  <a:lnTo>
                    <a:pt x="446" y="72"/>
                  </a:lnTo>
                  <a:lnTo>
                    <a:pt x="446" y="48"/>
                  </a:lnTo>
                  <a:lnTo>
                    <a:pt x="446" y="24"/>
                  </a:lnTo>
                  <a:lnTo>
                    <a:pt x="441" y="0"/>
                  </a:lnTo>
                  <a:lnTo>
                    <a:pt x="474" y="20"/>
                  </a:lnTo>
                  <a:lnTo>
                    <a:pt x="503" y="34"/>
                  </a:lnTo>
                  <a:lnTo>
                    <a:pt x="527" y="44"/>
                  </a:lnTo>
                  <a:lnTo>
                    <a:pt x="546" y="58"/>
                  </a:lnTo>
                  <a:lnTo>
                    <a:pt x="560" y="72"/>
                  </a:lnTo>
                  <a:lnTo>
                    <a:pt x="570" y="82"/>
                  </a:lnTo>
                  <a:lnTo>
                    <a:pt x="580" y="91"/>
                  </a:lnTo>
                  <a:lnTo>
                    <a:pt x="580" y="101"/>
                  </a:lnTo>
                  <a:lnTo>
                    <a:pt x="580" y="111"/>
                  </a:lnTo>
                  <a:lnTo>
                    <a:pt x="575" y="125"/>
                  </a:lnTo>
                  <a:lnTo>
                    <a:pt x="575" y="139"/>
                  </a:lnTo>
                  <a:lnTo>
                    <a:pt x="565" y="159"/>
                  </a:lnTo>
                  <a:lnTo>
                    <a:pt x="560" y="182"/>
                  </a:lnTo>
                  <a:lnTo>
                    <a:pt x="551" y="206"/>
                  </a:lnTo>
                  <a:lnTo>
                    <a:pt x="541" y="235"/>
                  </a:lnTo>
                  <a:lnTo>
                    <a:pt x="527" y="269"/>
                  </a:lnTo>
                  <a:lnTo>
                    <a:pt x="513" y="302"/>
                  </a:lnTo>
                  <a:lnTo>
                    <a:pt x="493" y="336"/>
                  </a:lnTo>
                  <a:lnTo>
                    <a:pt x="474" y="369"/>
                  </a:lnTo>
                  <a:lnTo>
                    <a:pt x="455" y="403"/>
                  </a:lnTo>
                  <a:lnTo>
                    <a:pt x="431" y="436"/>
                  </a:lnTo>
                  <a:lnTo>
                    <a:pt x="407" y="470"/>
                  </a:lnTo>
                  <a:lnTo>
                    <a:pt x="383" y="503"/>
                  </a:lnTo>
                  <a:lnTo>
                    <a:pt x="354" y="532"/>
                  </a:lnTo>
                  <a:lnTo>
                    <a:pt x="326" y="566"/>
                  </a:lnTo>
                  <a:lnTo>
                    <a:pt x="297" y="594"/>
                  </a:lnTo>
                  <a:lnTo>
                    <a:pt x="273" y="618"/>
                  </a:lnTo>
                  <a:lnTo>
                    <a:pt x="244" y="647"/>
                  </a:lnTo>
                  <a:lnTo>
                    <a:pt x="216" y="671"/>
                  </a:lnTo>
                  <a:lnTo>
                    <a:pt x="187" y="690"/>
                  </a:lnTo>
                  <a:lnTo>
                    <a:pt x="158" y="714"/>
                  </a:lnTo>
                  <a:lnTo>
                    <a:pt x="129" y="733"/>
                  </a:lnTo>
                  <a:lnTo>
                    <a:pt x="105" y="748"/>
                  </a:lnTo>
                  <a:lnTo>
                    <a:pt x="81" y="762"/>
                  </a:lnTo>
                  <a:lnTo>
                    <a:pt x="58" y="776"/>
                  </a:lnTo>
                  <a:lnTo>
                    <a:pt x="43" y="781"/>
                  </a:lnTo>
                  <a:lnTo>
                    <a:pt x="24" y="791"/>
                  </a:lnTo>
                  <a:lnTo>
                    <a:pt x="14" y="791"/>
                  </a:lnTo>
                  <a:lnTo>
                    <a:pt x="5" y="791"/>
                  </a:lnTo>
                  <a:lnTo>
                    <a:pt x="0" y="791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4227480" y="2450520"/>
              <a:ext cx="307080" cy="23184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86" y="115"/>
                  </a:moveTo>
                  <a:lnTo>
                    <a:pt x="67" y="96"/>
                  </a:lnTo>
                  <a:lnTo>
                    <a:pt x="48" y="77"/>
                  </a:lnTo>
                  <a:lnTo>
                    <a:pt x="34" y="62"/>
                  </a:lnTo>
                  <a:lnTo>
                    <a:pt x="19" y="48"/>
                  </a:lnTo>
                  <a:lnTo>
                    <a:pt x="14" y="3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" y="0"/>
                  </a:lnTo>
                  <a:lnTo>
                    <a:pt x="72" y="5"/>
                  </a:lnTo>
                  <a:lnTo>
                    <a:pt x="110" y="10"/>
                  </a:lnTo>
                  <a:lnTo>
                    <a:pt x="148" y="15"/>
                  </a:lnTo>
                  <a:lnTo>
                    <a:pt x="177" y="24"/>
                  </a:lnTo>
                  <a:lnTo>
                    <a:pt x="192" y="29"/>
                  </a:lnTo>
                  <a:lnTo>
                    <a:pt x="206" y="34"/>
                  </a:lnTo>
                  <a:lnTo>
                    <a:pt x="216" y="38"/>
                  </a:lnTo>
                  <a:lnTo>
                    <a:pt x="225" y="48"/>
                  </a:lnTo>
                  <a:lnTo>
                    <a:pt x="235" y="58"/>
                  </a:lnTo>
                  <a:lnTo>
                    <a:pt x="244" y="62"/>
                  </a:lnTo>
                  <a:lnTo>
                    <a:pt x="249" y="77"/>
                  </a:lnTo>
                  <a:lnTo>
                    <a:pt x="254" y="86"/>
                  </a:lnTo>
                  <a:lnTo>
                    <a:pt x="254" y="96"/>
                  </a:lnTo>
                  <a:lnTo>
                    <a:pt x="254" y="106"/>
                  </a:lnTo>
                  <a:lnTo>
                    <a:pt x="254" y="129"/>
                  </a:lnTo>
                  <a:lnTo>
                    <a:pt x="249" y="149"/>
                  </a:lnTo>
                  <a:lnTo>
                    <a:pt x="244" y="158"/>
                  </a:lnTo>
                  <a:lnTo>
                    <a:pt x="239" y="168"/>
                  </a:lnTo>
                  <a:lnTo>
                    <a:pt x="230" y="177"/>
                  </a:lnTo>
                  <a:lnTo>
                    <a:pt x="225" y="182"/>
                  </a:lnTo>
                  <a:lnTo>
                    <a:pt x="220" y="187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87"/>
                  </a:lnTo>
                  <a:lnTo>
                    <a:pt x="192" y="187"/>
                  </a:lnTo>
                  <a:lnTo>
                    <a:pt x="182" y="187"/>
                  </a:lnTo>
                  <a:lnTo>
                    <a:pt x="172" y="177"/>
                  </a:lnTo>
                  <a:lnTo>
                    <a:pt x="158" y="173"/>
                  </a:lnTo>
                  <a:lnTo>
                    <a:pt x="144" y="158"/>
                  </a:lnTo>
                  <a:lnTo>
                    <a:pt x="129" y="149"/>
                  </a:lnTo>
                  <a:lnTo>
                    <a:pt x="110" y="134"/>
                  </a:lnTo>
                  <a:lnTo>
                    <a:pt x="86" y="115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7"/>
            <p:cNvSpPr/>
            <p:nvPr/>
          </p:nvSpPr>
          <p:spPr>
            <a:xfrm>
              <a:off x="4094280" y="2781000"/>
              <a:ext cx="271800" cy="219960"/>
            </a:xfrm>
            <a:custGeom>
              <a:avLst/>
              <a:gdLst/>
              <a:ahLst/>
              <a:rect l="l" t="t" r="r" b="b"/>
              <a:pathLst>
                <a:path w="225" h="182">
                  <a:moveTo>
                    <a:pt x="144" y="24"/>
                  </a:moveTo>
                  <a:lnTo>
                    <a:pt x="163" y="29"/>
                  </a:lnTo>
                  <a:lnTo>
                    <a:pt x="172" y="38"/>
                  </a:lnTo>
                  <a:lnTo>
                    <a:pt x="187" y="48"/>
                  </a:lnTo>
                  <a:lnTo>
                    <a:pt x="196" y="53"/>
                  </a:lnTo>
                  <a:lnTo>
                    <a:pt x="206" y="62"/>
                  </a:lnTo>
                  <a:lnTo>
                    <a:pt x="215" y="72"/>
                  </a:lnTo>
                  <a:lnTo>
                    <a:pt x="220" y="82"/>
                  </a:lnTo>
                  <a:lnTo>
                    <a:pt x="225" y="91"/>
                  </a:lnTo>
                  <a:lnTo>
                    <a:pt x="225" y="101"/>
                  </a:lnTo>
                  <a:lnTo>
                    <a:pt x="225" y="115"/>
                  </a:lnTo>
                  <a:lnTo>
                    <a:pt x="225" y="134"/>
                  </a:lnTo>
                  <a:lnTo>
                    <a:pt x="225" y="139"/>
                  </a:lnTo>
                  <a:lnTo>
                    <a:pt x="220" y="149"/>
                  </a:lnTo>
                  <a:lnTo>
                    <a:pt x="215" y="153"/>
                  </a:lnTo>
                  <a:lnTo>
                    <a:pt x="215" y="158"/>
                  </a:lnTo>
                  <a:lnTo>
                    <a:pt x="201" y="168"/>
                  </a:lnTo>
                  <a:lnTo>
                    <a:pt x="191" y="177"/>
                  </a:lnTo>
                  <a:lnTo>
                    <a:pt x="177" y="182"/>
                  </a:lnTo>
                  <a:lnTo>
                    <a:pt x="172" y="182"/>
                  </a:lnTo>
                  <a:lnTo>
                    <a:pt x="167" y="182"/>
                  </a:lnTo>
                  <a:lnTo>
                    <a:pt x="158" y="177"/>
                  </a:lnTo>
                  <a:lnTo>
                    <a:pt x="148" y="173"/>
                  </a:lnTo>
                  <a:lnTo>
                    <a:pt x="139" y="163"/>
                  </a:lnTo>
                  <a:lnTo>
                    <a:pt x="124" y="153"/>
                  </a:lnTo>
                  <a:lnTo>
                    <a:pt x="110" y="144"/>
                  </a:lnTo>
                  <a:lnTo>
                    <a:pt x="96" y="129"/>
                  </a:lnTo>
                  <a:lnTo>
                    <a:pt x="76" y="115"/>
                  </a:lnTo>
                  <a:lnTo>
                    <a:pt x="57" y="101"/>
                  </a:lnTo>
                  <a:lnTo>
                    <a:pt x="43" y="86"/>
                  </a:lnTo>
                  <a:lnTo>
                    <a:pt x="29" y="67"/>
                  </a:lnTo>
                  <a:lnTo>
                    <a:pt x="19" y="53"/>
                  </a:lnTo>
                  <a:lnTo>
                    <a:pt x="9" y="38"/>
                  </a:lnTo>
                  <a:lnTo>
                    <a:pt x="5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81" y="5"/>
                  </a:lnTo>
                  <a:lnTo>
                    <a:pt x="100" y="10"/>
                  </a:lnTo>
                  <a:lnTo>
                    <a:pt x="115" y="15"/>
                  </a:lnTo>
                  <a:lnTo>
                    <a:pt x="129" y="19"/>
                  </a:lnTo>
                  <a:lnTo>
                    <a:pt x="144" y="24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8"/>
            <p:cNvSpPr/>
            <p:nvPr/>
          </p:nvSpPr>
          <p:spPr>
            <a:xfrm>
              <a:off x="4667760" y="2787120"/>
              <a:ext cx="185040" cy="352800"/>
            </a:xfrm>
            <a:custGeom>
              <a:avLst/>
              <a:gdLst/>
              <a:ahLst/>
              <a:rect l="l" t="t" r="r" b="b"/>
              <a:pathLst>
                <a:path w="153" h="292">
                  <a:moveTo>
                    <a:pt x="110" y="0"/>
                  </a:moveTo>
                  <a:lnTo>
                    <a:pt x="129" y="24"/>
                  </a:lnTo>
                  <a:lnTo>
                    <a:pt x="134" y="33"/>
                  </a:lnTo>
                  <a:lnTo>
                    <a:pt x="144" y="43"/>
                  </a:lnTo>
                  <a:lnTo>
                    <a:pt x="148" y="57"/>
                  </a:lnTo>
                  <a:lnTo>
                    <a:pt x="153" y="67"/>
                  </a:lnTo>
                  <a:lnTo>
                    <a:pt x="153" y="81"/>
                  </a:lnTo>
                  <a:lnTo>
                    <a:pt x="153" y="96"/>
                  </a:lnTo>
                  <a:lnTo>
                    <a:pt x="153" y="105"/>
                  </a:lnTo>
                  <a:lnTo>
                    <a:pt x="153" y="120"/>
                  </a:lnTo>
                  <a:lnTo>
                    <a:pt x="148" y="134"/>
                  </a:lnTo>
                  <a:lnTo>
                    <a:pt x="144" y="148"/>
                  </a:lnTo>
                  <a:lnTo>
                    <a:pt x="129" y="182"/>
                  </a:lnTo>
                  <a:lnTo>
                    <a:pt x="110" y="220"/>
                  </a:lnTo>
                  <a:lnTo>
                    <a:pt x="101" y="235"/>
                  </a:lnTo>
                  <a:lnTo>
                    <a:pt x="91" y="249"/>
                  </a:lnTo>
                  <a:lnTo>
                    <a:pt x="81" y="263"/>
                  </a:lnTo>
                  <a:lnTo>
                    <a:pt x="77" y="273"/>
                  </a:lnTo>
                  <a:lnTo>
                    <a:pt x="67" y="283"/>
                  </a:lnTo>
                  <a:lnTo>
                    <a:pt x="62" y="287"/>
                  </a:lnTo>
                  <a:lnTo>
                    <a:pt x="53" y="292"/>
                  </a:lnTo>
                  <a:lnTo>
                    <a:pt x="43" y="292"/>
                  </a:lnTo>
                  <a:lnTo>
                    <a:pt x="38" y="287"/>
                  </a:lnTo>
                  <a:lnTo>
                    <a:pt x="34" y="287"/>
                  </a:lnTo>
                  <a:lnTo>
                    <a:pt x="29" y="283"/>
                  </a:lnTo>
                  <a:lnTo>
                    <a:pt x="24" y="268"/>
                  </a:lnTo>
                  <a:lnTo>
                    <a:pt x="14" y="249"/>
                  </a:lnTo>
                  <a:lnTo>
                    <a:pt x="10" y="235"/>
                  </a:lnTo>
                  <a:lnTo>
                    <a:pt x="5" y="215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5" y="182"/>
                  </a:lnTo>
                  <a:lnTo>
                    <a:pt x="5" y="177"/>
                  </a:lnTo>
                  <a:lnTo>
                    <a:pt x="10" y="172"/>
                  </a:lnTo>
                  <a:lnTo>
                    <a:pt x="19" y="168"/>
                  </a:lnTo>
                  <a:lnTo>
                    <a:pt x="24" y="158"/>
                  </a:lnTo>
                  <a:lnTo>
                    <a:pt x="34" y="153"/>
                  </a:lnTo>
                  <a:lnTo>
                    <a:pt x="38" y="144"/>
                  </a:lnTo>
                  <a:lnTo>
                    <a:pt x="48" y="134"/>
                  </a:lnTo>
                  <a:lnTo>
                    <a:pt x="57" y="120"/>
                  </a:lnTo>
                  <a:lnTo>
                    <a:pt x="67" y="101"/>
                  </a:lnTo>
                  <a:lnTo>
                    <a:pt x="77" y="81"/>
                  </a:lnTo>
                  <a:lnTo>
                    <a:pt x="86" y="57"/>
                  </a:lnTo>
                  <a:lnTo>
                    <a:pt x="101" y="33"/>
                  </a:lnTo>
                  <a:lnTo>
                    <a:pt x="110" y="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9"/>
            <p:cNvSpPr/>
            <p:nvPr/>
          </p:nvSpPr>
          <p:spPr>
            <a:xfrm>
              <a:off x="4117320" y="2990160"/>
              <a:ext cx="469080" cy="583920"/>
            </a:xfrm>
            <a:custGeom>
              <a:avLst/>
              <a:gdLst/>
              <a:ahLst/>
              <a:rect l="l" t="t" r="r" b="b"/>
              <a:pathLst>
                <a:path w="388" h="483">
                  <a:moveTo>
                    <a:pt x="91" y="483"/>
                  </a:moveTo>
                  <a:lnTo>
                    <a:pt x="86" y="483"/>
                  </a:lnTo>
                  <a:lnTo>
                    <a:pt x="77" y="479"/>
                  </a:lnTo>
                  <a:lnTo>
                    <a:pt x="72" y="474"/>
                  </a:lnTo>
                  <a:lnTo>
                    <a:pt x="62" y="464"/>
                  </a:lnTo>
                  <a:lnTo>
                    <a:pt x="57" y="455"/>
                  </a:lnTo>
                  <a:lnTo>
                    <a:pt x="48" y="435"/>
                  </a:lnTo>
                  <a:lnTo>
                    <a:pt x="38" y="421"/>
                  </a:lnTo>
                  <a:lnTo>
                    <a:pt x="34" y="397"/>
                  </a:lnTo>
                  <a:lnTo>
                    <a:pt x="24" y="378"/>
                  </a:lnTo>
                  <a:lnTo>
                    <a:pt x="14" y="359"/>
                  </a:lnTo>
                  <a:lnTo>
                    <a:pt x="10" y="344"/>
                  </a:lnTo>
                  <a:lnTo>
                    <a:pt x="5" y="330"/>
                  </a:lnTo>
                  <a:lnTo>
                    <a:pt x="5" y="316"/>
                  </a:lnTo>
                  <a:lnTo>
                    <a:pt x="0" y="306"/>
                  </a:lnTo>
                  <a:lnTo>
                    <a:pt x="5" y="297"/>
                  </a:lnTo>
                  <a:lnTo>
                    <a:pt x="5" y="292"/>
                  </a:lnTo>
                  <a:lnTo>
                    <a:pt x="10" y="282"/>
                  </a:lnTo>
                  <a:lnTo>
                    <a:pt x="19" y="277"/>
                  </a:lnTo>
                  <a:lnTo>
                    <a:pt x="29" y="277"/>
                  </a:lnTo>
                  <a:lnTo>
                    <a:pt x="38" y="273"/>
                  </a:lnTo>
                  <a:lnTo>
                    <a:pt x="48" y="277"/>
                  </a:lnTo>
                  <a:lnTo>
                    <a:pt x="53" y="277"/>
                  </a:lnTo>
                  <a:lnTo>
                    <a:pt x="67" y="277"/>
                  </a:lnTo>
                  <a:lnTo>
                    <a:pt x="77" y="273"/>
                  </a:lnTo>
                  <a:lnTo>
                    <a:pt x="91" y="268"/>
                  </a:lnTo>
                  <a:lnTo>
                    <a:pt x="96" y="263"/>
                  </a:lnTo>
                  <a:lnTo>
                    <a:pt x="105" y="253"/>
                  </a:lnTo>
                  <a:lnTo>
                    <a:pt x="120" y="244"/>
                  </a:lnTo>
                  <a:lnTo>
                    <a:pt x="134" y="225"/>
                  </a:lnTo>
                  <a:lnTo>
                    <a:pt x="158" y="206"/>
                  </a:lnTo>
                  <a:lnTo>
                    <a:pt x="182" y="186"/>
                  </a:lnTo>
                  <a:lnTo>
                    <a:pt x="206" y="158"/>
                  </a:lnTo>
                  <a:lnTo>
                    <a:pt x="220" y="143"/>
                  </a:lnTo>
                  <a:lnTo>
                    <a:pt x="239" y="124"/>
                  </a:lnTo>
                  <a:lnTo>
                    <a:pt x="254" y="110"/>
                  </a:lnTo>
                  <a:lnTo>
                    <a:pt x="268" y="91"/>
                  </a:lnTo>
                  <a:lnTo>
                    <a:pt x="297" y="67"/>
                  </a:lnTo>
                  <a:lnTo>
                    <a:pt x="321" y="43"/>
                  </a:lnTo>
                  <a:lnTo>
                    <a:pt x="340" y="24"/>
                  </a:lnTo>
                  <a:lnTo>
                    <a:pt x="359" y="14"/>
                  </a:lnTo>
                  <a:lnTo>
                    <a:pt x="369" y="4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4"/>
                  </a:lnTo>
                  <a:lnTo>
                    <a:pt x="388" y="9"/>
                  </a:lnTo>
                  <a:lnTo>
                    <a:pt x="383" y="14"/>
                  </a:lnTo>
                  <a:lnTo>
                    <a:pt x="383" y="19"/>
                  </a:lnTo>
                  <a:lnTo>
                    <a:pt x="378" y="28"/>
                  </a:lnTo>
                  <a:lnTo>
                    <a:pt x="374" y="43"/>
                  </a:lnTo>
                  <a:lnTo>
                    <a:pt x="369" y="52"/>
                  </a:lnTo>
                  <a:lnTo>
                    <a:pt x="364" y="67"/>
                  </a:lnTo>
                  <a:lnTo>
                    <a:pt x="354" y="81"/>
                  </a:lnTo>
                  <a:lnTo>
                    <a:pt x="345" y="100"/>
                  </a:lnTo>
                  <a:lnTo>
                    <a:pt x="335" y="119"/>
                  </a:lnTo>
                  <a:lnTo>
                    <a:pt x="326" y="143"/>
                  </a:lnTo>
                  <a:lnTo>
                    <a:pt x="311" y="162"/>
                  </a:lnTo>
                  <a:lnTo>
                    <a:pt x="297" y="186"/>
                  </a:lnTo>
                  <a:lnTo>
                    <a:pt x="283" y="215"/>
                  </a:lnTo>
                  <a:lnTo>
                    <a:pt x="263" y="239"/>
                  </a:lnTo>
                  <a:lnTo>
                    <a:pt x="249" y="268"/>
                  </a:lnTo>
                  <a:lnTo>
                    <a:pt x="230" y="297"/>
                  </a:lnTo>
                  <a:lnTo>
                    <a:pt x="216" y="320"/>
                  </a:lnTo>
                  <a:lnTo>
                    <a:pt x="201" y="344"/>
                  </a:lnTo>
                  <a:lnTo>
                    <a:pt x="187" y="364"/>
                  </a:lnTo>
                  <a:lnTo>
                    <a:pt x="172" y="383"/>
                  </a:lnTo>
                  <a:lnTo>
                    <a:pt x="163" y="402"/>
                  </a:lnTo>
                  <a:lnTo>
                    <a:pt x="148" y="416"/>
                  </a:lnTo>
                  <a:lnTo>
                    <a:pt x="139" y="431"/>
                  </a:lnTo>
                  <a:lnTo>
                    <a:pt x="129" y="445"/>
                  </a:lnTo>
                  <a:lnTo>
                    <a:pt x="120" y="455"/>
                  </a:lnTo>
                  <a:lnTo>
                    <a:pt x="115" y="464"/>
                  </a:lnTo>
                  <a:lnTo>
                    <a:pt x="105" y="469"/>
                  </a:lnTo>
                  <a:lnTo>
                    <a:pt x="101" y="474"/>
                  </a:lnTo>
                  <a:lnTo>
                    <a:pt x="96" y="479"/>
                  </a:lnTo>
                  <a:lnTo>
                    <a:pt x="91" y="483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3276720" y="2286000"/>
          <a:ext cx="3124080" cy="266688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4T07:47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52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