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DBE-55BE-48C2-A6F4-EB65F3D5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895-26AA-4A89-AB2E-807AC0B0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AE89A-9884-4CD4-94B2-E6EE8769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F0D27-1E6C-4A45-8374-B85484DE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A7DB8-319C-4B5B-8231-9A0A9A92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0A4B9-7474-48EF-A7FA-97EB1CA0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509E9-604B-4255-A766-72B4EFD1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5DF6A-24C7-4632-879C-46CD44C7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490DA-3999-4005-AF58-563C2D69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E1447-331D-42B9-8C1C-7E51D93D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2B8FD-4CCB-4257-957C-BE4559DF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9F251-0A16-4F08-847A-FD3B92E9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2A7-C4DA-4A65-8786-9B07E54A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F114B-0378-49B3-9792-2F4E57B8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CAA88-04CA-4C21-B6A9-82AB9A77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BD9C4-05A2-4030-ACFB-7E3B5BAF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858A3-2FB4-492E-BEE8-52130658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262EA-3678-4534-B779-F1CD26C8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65296-949D-418F-BE80-2012841F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0EB31-0DB9-42A6-B5CE-2F02A4FF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BBEC1-1CF5-4915-9837-BEE061E1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BFA6D-E8DB-41F5-BF16-9DF9A15F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82A05-7F0B-4BEE-99E9-837031D0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F84-E1D7-447F-BC0C-8A319AD5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0E38C-39F8-49F7-BD22-B00316EA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E12F8-7085-47B4-8F83-48157C78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36A80-749C-4BB6-A915-21BA72E8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0AC53-D145-41B5-A811-520D0191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54A69-BBB5-4596-828F-2D8F54F8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3205F-ACAE-4E9C-A88B-B7188566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85103-6D26-4BD0-9805-2BA56E0D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6BC48-468F-4820-9999-74A32874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B58B8-F3AE-4444-9E62-AAC635E6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FEE40-CCE2-456A-912F-96D44EA8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D034-FBEB-4A61-809E-EB9F57F0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1030D-3287-4B59-A54E-CA9D071C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52ABA-DDA4-4EC7-B635-7052ADE1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9EFE2-758D-490D-9A13-3D9F6E5C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C36AC-7303-4115-A1FF-5CC0E52C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C5927-2C40-4051-8FB9-939C751E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6E8C9-5997-4F3F-8CB6-E894906C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F0F87-F3E5-448A-94E6-AFEB1925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DF1AF-566B-4730-BBC6-E8F3F02B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CBD25-70E8-4AFD-82F7-85BE7B3E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B0A4F-82C1-4824-8F60-48AAB46D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BEA0-2E23-41BD-94B2-F9161E2F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8223B-2560-4DD3-906B-CBF41B54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4DA8F-3445-43DA-88FE-F51FB120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1A50A-E1CD-4DD6-BB95-9445B77E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79ABF-C3CF-4162-9BA6-912676CA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6C834-7017-4E18-942F-E5CD6CD0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3D9BB-F8E4-43C7-91D6-EE539419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70D51-529B-4B37-BE91-01EABF52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4A064-767D-4E21-9C48-04ACF3FF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E011E-96DE-46E8-AEE8-53F6489F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4DF52-B6AF-4A87-ACDE-92D61B01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E61F-1205-4D62-BBC1-2B5F5978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94511-AB89-4BCE-B4C3-495CDDC1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634E8-BA65-408C-B811-3909B398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B580D-EA1C-4650-86F4-9D8FD787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18A51-B2C6-4B09-915D-44392895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1CB9D-D1FF-4CFB-9C8E-3DA000AC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6A577-9525-430A-9E97-A9730A0A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B8167-0071-4F0A-A18A-975DFE64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16D6-0E26-4F18-A933-EDFDE2F2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766B-6FAA-4D8F-BB1B-8BE99464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B686-AC70-43A0-A42B-4547196B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E31A-3DFA-494D-99DF-D7A0D391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009-9DE3-4EDE-9526-050BA509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2285-A386-48C2-8773-4AA97CFF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6938-D689-4A7E-BD4C-5D4ECAD0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4712-C496-4C99-82B6-9A3355B7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935C-DB93-4CFF-BAD7-4057B594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301E-3275-4808-826C-73DEB5AF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FA585-3C9E-4BDF-A6A7-5010A3CD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8F442-C159-4A20-B8F6-F9E0680D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CFBFC-EC64-4C3C-BDC3-85E75DF8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91BB-FCDC-4D02-8580-88B40D01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592F9-B888-4319-BA95-345B4B94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B59-9984-4D9C-9935-A7181BD7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55CD-4444-4202-AD50-301964F0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0E0FC-D7C0-44AA-9EDD-584E430C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D22D6-38CF-41B4-B64B-D550FF8B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487DA-2F25-4939-95E7-05DC7944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1153A-ADFD-42C2-8127-8FDCAD78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AF266-DF66-4186-B3D8-35B2C597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1FC3D-9099-4DA3-8AC0-B45626FB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4F8DA-168A-4CF8-878D-C2855883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FDD72-F1F6-4276-ADC5-5D2FC9E2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3B009-AC5B-4BE3-9AE2-D84C2572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534-2548-4001-9FE5-6352729A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3BFC3-DC68-431B-A77F-57BB6D67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DDBF7-ED8E-4AD7-82FB-7B715ADC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D5D28-50C7-4FC9-BADC-AAC2048F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94CB4-7402-4262-9484-75D3B07B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4834F-9EEF-48C6-912F-12CCFB9C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0A50B-1CBE-4AD6-B36A-ECF4C7E3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7BD3F-AF3D-47AB-8A0A-4F314B53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EFD6B-1C53-471A-BD2D-57EAD21A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406EA-9712-4EF4-BA00-7CF3A484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CC48B-3EA7-44AF-9EB5-2991EA0D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C6D-F72C-4A54-835A-92EF50A3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CEF76-E281-47A5-B98B-95B9B87E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AB6DC-BB86-4647-BE36-98B4A25A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E6CB6-DC6D-4B2A-B2D3-4F75E43A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A39A6-7F42-4D02-A975-B0AF4936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12B69-F926-4D3B-9FD0-FF186F6D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904B0-2F8B-4E1C-8BCB-27DBEC20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FC82A-250A-4ECD-98EE-7B9E39C0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65260-5F3E-4B7E-8EFC-7BF94897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6EE67-353A-4661-9B50-A9DF2854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9AB16-9EE8-402C-BDE3-3C0D3474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904-C460-4672-BC10-E5C30452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20AA5-981B-4018-8DA5-CC3E0553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A8DFD-B962-4AF7-A897-E1F5D9C3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292B8-B642-42B4-812A-252D3CB4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B3917-F66A-46B0-B0D9-7B231DFE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463D8-F738-493A-A521-D6572119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7249E-FFE2-4B93-8179-056E9A26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042AC-7324-4051-AC90-42A7E11C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21159-5616-46B9-8F65-DB2B25CA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D2F4B-F11A-48AA-B38A-1E6002C7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7308A-CBD1-4559-8BCF-73C216C6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C0A-97AE-458B-98B4-22F26EFF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4BB67-2440-4B42-93C5-BCA9FDAC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BEEEF-4F61-437B-8CCE-7FD61E8D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82D28-CFE1-416C-AC4D-788714FD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A0BFA-ACA8-441A-9230-FE37681D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20ED3-946C-40CE-9A93-CC047CDF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2E981-28C0-4838-8BDC-EA82A12C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143BC-0C46-45D8-B294-8D8DC321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9589D-D717-487F-899B-398428CD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ED5CA-96A6-4D79-926D-5E00E016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9599A-CAEF-4D29-9C4C-7275CA16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3AC-6E67-40BB-BDD3-39AEB431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D90EE-8114-4F81-ADBD-90389206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80FA6-9BD0-47E1-91D1-A4CBC629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5AF01-1B5D-48C3-942C-266D4FD5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BC314-16E1-4065-BDAF-CB0541B8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B3D5E-2806-4315-A314-85CCF91C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B16D9-ABF8-4527-9CA6-F6CB7500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E4948-C82A-4FE4-893C-25C62D69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3F174-50BF-4E29-B6AB-F208D30A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74361-F50B-46FF-808B-9E150E3E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D730A-A6C4-4461-854A-478D5617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069-EFE8-4640-B7B2-A1881C37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5D644-6A9D-4950-8DAD-89F878F1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A825C-24F4-4005-9992-2A84ED49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63FF2-798C-4E9F-A5EB-FD225E68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EDD98-9C4E-41BC-945E-4516676F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85B9A-4EF2-483B-8D8C-C4A7782E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F4607-743F-4315-B154-74D5C2AB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E4EE2-5559-4BC4-AD0C-6B84E689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49B4A-41CB-464B-9F89-105C8E7B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5D1BA-0215-452F-97FD-4250822C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15210-4572-47F5-9E7F-79FB47FC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861A-D660-4B11-9C60-DA480D84F2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7C99-BA75-4922-BC92-1030ECB398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3A50-BD39-470B-85E6-274820A2EA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E660-E26F-40D7-867D-40A57183BE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6301-7F7E-4D82-8CED-0385820311F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F6CC-98FF-4A60-B355-538C16AAC90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C3EB-A02A-4E90-A875-A6AE2D4CB4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78A0-DA4A-4937-A072-FE38046BC5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43EF-FE9B-4715-9763-574554742E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584C-8909-48F8-87D9-BE51DC5DA5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ACED-9E52-497A-B5C2-B7B32E127F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AA3E-178A-4F23-9D5D-0961EDA92F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79C8-6F5F-4163-AD3B-2BA29E2F59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0A32-1747-47BE-89EE-E561D010DE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958080"/>
          </a:xfrm>
          <a:prstGeom prst="rect">
            <a:avLst/>
          </a:prstGeom>
          <a:ln w="0">
            <a:noFill/>
          </a:ln>
        </p:spPr>
      </p:pic>
      <p:pic>
        <p:nvPicPr>
          <p:cNvPr id="573" name="矩形 1" descr=""/>
          <p:cNvPicPr/>
          <p:nvPr/>
        </p:nvPicPr>
        <p:blipFill>
          <a:blip r:embed="rId2"/>
          <a:stretch/>
        </p:blipFill>
        <p:spPr>
          <a:xfrm>
            <a:off x="330120" y="612720"/>
            <a:ext cx="8547120" cy="623880"/>
          </a:xfrm>
          <a:prstGeom prst="rect">
            <a:avLst/>
          </a:prstGeom>
          <a:ln w="0">
            <a:noFill/>
          </a:ln>
        </p:spPr>
      </p:pic>
      <p:sp>
        <p:nvSpPr>
          <p:cNvPr id="57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eec94"/>
                </a:solidFill>
                <a:latin typeface="Times New Roman"/>
              </a:rPr>
              <a:t>结合以上问题，以小组形势，选择其中一个问题进行探究。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3" name="AutoShape 4">
            <a:hlinkClick r:id="" action="ppaction://hlinkshowjump?jump=previousslide"/>
          </p:cNvPr>
          <p:cNvSpPr/>
          <p:nvPr/>
        </p:nvSpPr>
        <p:spPr>
          <a:xfrm>
            <a:off x="7956720" y="6165720"/>
            <a:ext cx="863280" cy="692280"/>
          </a:xfrm>
          <a:custGeom>
            <a:avLst/>
            <a:gdLst>
              <a:gd name="textAreaLeft" fmla="*/ 44640 w 863280"/>
              <a:gd name="textAreaRight" fmla="*/ 818640 w 863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圆明园示意图"/>
          <p:cNvPicPr/>
          <p:nvPr/>
        </p:nvPicPr>
        <p:blipFill>
          <a:blip r:embed="rId1"/>
          <a:stretch/>
        </p:blipFill>
        <p:spPr>
          <a:xfrm>
            <a:off x="-684360" y="-1292400"/>
            <a:ext cx="10404720" cy="815040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3"/>
          <p:cNvSpPr/>
          <p:nvPr/>
        </p:nvSpPr>
        <p:spPr>
          <a:xfrm>
            <a:off x="1066680" y="175248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AutoShape 4"/>
          <p:cNvSpPr/>
          <p:nvPr/>
        </p:nvSpPr>
        <p:spPr>
          <a:xfrm>
            <a:off x="1371600" y="205740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8686800" y="278136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838080" y="449568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AutoShape 7"/>
          <p:cNvSpPr/>
          <p:nvPr/>
        </p:nvSpPr>
        <p:spPr>
          <a:xfrm>
            <a:off x="1752480" y="3733920"/>
            <a:ext cx="457200" cy="5331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AutoShape 8"/>
          <p:cNvSpPr/>
          <p:nvPr/>
        </p:nvSpPr>
        <p:spPr>
          <a:xfrm>
            <a:off x="990720" y="289548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1371600" y="571500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8077320" y="4876920"/>
            <a:ext cx="457200" cy="5331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11"/>
          <p:cNvSpPr/>
          <p:nvPr/>
        </p:nvSpPr>
        <p:spPr>
          <a:xfrm>
            <a:off x="8686800" y="3716280"/>
            <a:ext cx="457200" cy="6858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AutoShape 12"/>
          <p:cNvSpPr/>
          <p:nvPr/>
        </p:nvSpPr>
        <p:spPr>
          <a:xfrm>
            <a:off x="7543800" y="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AutoShape 13"/>
          <p:cNvSpPr/>
          <p:nvPr/>
        </p:nvSpPr>
        <p:spPr>
          <a:xfrm>
            <a:off x="2743200" y="518148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14"/>
          <p:cNvSpPr/>
          <p:nvPr/>
        </p:nvSpPr>
        <p:spPr>
          <a:xfrm>
            <a:off x="7620120" y="548640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AutoShape 15"/>
          <p:cNvSpPr/>
          <p:nvPr/>
        </p:nvSpPr>
        <p:spPr>
          <a:xfrm>
            <a:off x="1752480" y="990720"/>
            <a:ext cx="457200" cy="5331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AutoShape 16"/>
          <p:cNvSpPr/>
          <p:nvPr/>
        </p:nvSpPr>
        <p:spPr>
          <a:xfrm>
            <a:off x="8388360" y="148428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AutoShape 17"/>
          <p:cNvSpPr/>
          <p:nvPr/>
        </p:nvSpPr>
        <p:spPr>
          <a:xfrm>
            <a:off x="4114800" y="632448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AutoShape 18"/>
          <p:cNvSpPr/>
          <p:nvPr/>
        </p:nvSpPr>
        <p:spPr>
          <a:xfrm>
            <a:off x="6172200" y="632448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AutoShape 19"/>
          <p:cNvSpPr/>
          <p:nvPr/>
        </p:nvSpPr>
        <p:spPr>
          <a:xfrm>
            <a:off x="2057400" y="632448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380880" y="121932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圆明园中，有金碧辉煌的殿堂，也有玲珑剔透的亭台楼阁；有象征着热闹街市的“买卖街” ，也有象征着田园风光的山乡村野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8197"/>
          <p:cNvSpPr/>
          <p:nvPr/>
        </p:nvSpPr>
        <p:spPr>
          <a:xfrm>
            <a:off x="2195640" y="12682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457200" y="5335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园中许多景物都是仿照各地名胜建造的。如杭州西湖的平湖秋月、雷峰夕照，海宁的安澜园，苏州的狮子林等。还有很多景物是根据古代诗人的诗情画意建造的 ，如蓬莱瑶台、武陵春色。园中不仅有民族建筑，还有西洋景观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380880" y="121932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漫步园内，有如漫游在天南海北，饱览着中外风景名胜；流连其间，仿佛置身在幻想的境界里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eec94"/>
                </a:solidFill>
                <a:latin typeface="Times New Roman"/>
              </a:rPr>
              <a:t>导              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68000" y="177300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学习本组课文，继续复习巩固前面学到的读书方法，多读、多想、多体会，分清文章的主次，体会文章所表达的思想感情，领悟作者的表达方法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457200" y="990720"/>
            <a:ext cx="830592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圆明园中，有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也有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；有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也有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园中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如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。还有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如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。园中不仅有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，还有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漫步园内，有如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； 流连其间，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324000" y="1197000"/>
            <a:ext cx="84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他们把园内凡是能拿走的东西，统统掠走，拿不动的，就用大车或牲口搬运。实在运不走的，就任意破坏、毁掉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4" name="Group 3"/>
          <p:cNvGrpSpPr/>
          <p:nvPr/>
        </p:nvGrpSpPr>
        <p:grpSpPr>
          <a:xfrm>
            <a:off x="1763640" y="2144880"/>
            <a:ext cx="4051440" cy="3309840"/>
            <a:chOff x="1763640" y="2144880"/>
            <a:chExt cx="4051440" cy="3309840"/>
          </a:xfrm>
        </p:grpSpPr>
        <p:sp>
          <p:nvSpPr>
            <p:cNvPr id="625" name="Oval 4"/>
            <p:cNvSpPr/>
            <p:nvPr/>
          </p:nvSpPr>
          <p:spPr>
            <a:xfrm>
              <a:off x="4540320" y="2144880"/>
              <a:ext cx="149040" cy="153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Oval 5"/>
            <p:cNvSpPr/>
            <p:nvPr/>
          </p:nvSpPr>
          <p:spPr>
            <a:xfrm>
              <a:off x="5064120" y="2144880"/>
              <a:ext cx="150840" cy="153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Oval 6"/>
            <p:cNvSpPr/>
            <p:nvPr/>
          </p:nvSpPr>
          <p:spPr>
            <a:xfrm>
              <a:off x="1763640" y="3297240"/>
              <a:ext cx="149400" cy="154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Oval 7"/>
            <p:cNvSpPr/>
            <p:nvPr/>
          </p:nvSpPr>
          <p:spPr>
            <a:xfrm>
              <a:off x="2363760" y="3297240"/>
              <a:ext cx="149400" cy="154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Oval 8"/>
            <p:cNvSpPr/>
            <p:nvPr/>
          </p:nvSpPr>
          <p:spPr>
            <a:xfrm>
              <a:off x="5140440" y="4221000"/>
              <a:ext cx="149040" cy="154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Oval 9"/>
            <p:cNvSpPr/>
            <p:nvPr/>
          </p:nvSpPr>
          <p:spPr>
            <a:xfrm>
              <a:off x="5664240" y="4221000"/>
              <a:ext cx="150840" cy="154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Oval 10"/>
            <p:cNvSpPr/>
            <p:nvPr/>
          </p:nvSpPr>
          <p:spPr>
            <a:xfrm>
              <a:off x="2340000" y="5300640"/>
              <a:ext cx="150840" cy="154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Oval 11"/>
            <p:cNvSpPr/>
            <p:nvPr/>
          </p:nvSpPr>
          <p:spPr>
            <a:xfrm>
              <a:off x="2843280" y="5300640"/>
              <a:ext cx="149040" cy="154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634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Times New Roman"/>
              </a:rPr>
              <a:t>带着自己对课文的体会，有感情地朗读课文。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eec94"/>
                </a:solidFill>
                <a:latin typeface="Times New Roman"/>
              </a:rPr>
              <a:t>用自己喜欢的方法背课文。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2C47-1D22-447F-82E4-BD90F8FBCF04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eec94"/>
                </a:solidFill>
                <a:latin typeface="Times New Roman"/>
              </a:rPr>
              <a:t>如果此时你正在圆明园的废墟旁，你想说些什么？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WordArt 4"/>
          <p:cNvSpPr txBox="1"/>
          <p:nvPr/>
        </p:nvSpPr>
        <p:spPr>
          <a:xfrm>
            <a:off x="900000" y="1052640"/>
            <a:ext cx="2303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993300"/>
                </a:solidFill>
                <a:latin typeface="宋体"/>
              </a:rPr>
              <a:t>毁灭</a:t>
            </a:r>
            <a:endParaRPr b="0" lang="en-US" sz="1800" spc="-1" strike="noStrike">
              <a:ln w="0">
                <a:noFill/>
              </a:ln>
              <a:solidFill>
                <a:srgbClr val="993300"/>
              </a:solidFill>
              <a:latin typeface="宋体"/>
              <a:ea typeface="宋体"/>
            </a:endParaRPr>
          </a:p>
        </p:txBody>
      </p:sp>
      <p:sp>
        <p:nvSpPr>
          <p:cNvPr id="578" name="WordArt 5"/>
          <p:cNvSpPr txBox="1"/>
          <p:nvPr/>
        </p:nvSpPr>
        <p:spPr>
          <a:xfrm>
            <a:off x="3276720" y="1413000"/>
            <a:ext cx="244764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是什么意思</a:t>
            </a:r>
            <a:endParaRPr b="0" lang="en-US" sz="1800" spc="-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9" name="WordArt 6"/>
          <p:cNvSpPr txBox="1"/>
          <p:nvPr/>
        </p:nvSpPr>
        <p:spPr>
          <a:xfrm>
            <a:off x="6084720" y="1197000"/>
            <a:ext cx="762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6000" spc="-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0" name="WordArt 7"/>
          <p:cNvSpPr txBox="1"/>
          <p:nvPr/>
        </p:nvSpPr>
        <p:spPr>
          <a:xfrm>
            <a:off x="3132000" y="2781360"/>
            <a:ext cx="2837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993300"/>
                </a:solidFill>
                <a:latin typeface="宋体"/>
              </a:rPr>
              <a:t>谁的</a:t>
            </a:r>
            <a:endParaRPr b="0" lang="en-US" sz="1800" spc="-1" strike="noStrike">
              <a:ln w="0">
                <a:noFill/>
              </a:ln>
              <a:solidFill>
                <a:srgbClr val="993300"/>
              </a:solidFill>
              <a:latin typeface="宋体"/>
              <a:ea typeface="宋体"/>
            </a:endParaRPr>
          </a:p>
        </p:txBody>
      </p:sp>
      <p:sp>
        <p:nvSpPr>
          <p:cNvPr id="581" name="WordArt 8"/>
          <p:cNvSpPr txBox="1"/>
          <p:nvPr/>
        </p:nvSpPr>
        <p:spPr>
          <a:xfrm>
            <a:off x="900000" y="299736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课文是写</a:t>
            </a:r>
            <a:endParaRPr b="0" lang="en-US" sz="1800" spc="-1" strike="noStrike">
              <a:ln w="0">
                <a:noFill/>
              </a:ln>
              <a:solidFill>
                <a:srgbClr val="99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2" name="WordArt 9"/>
          <p:cNvSpPr txBox="1"/>
          <p:nvPr/>
        </p:nvSpPr>
        <p:spPr>
          <a:xfrm>
            <a:off x="6012000" y="3213000"/>
            <a:ext cx="115092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毁灭</a:t>
            </a:r>
            <a:endParaRPr b="0" lang="en-US" sz="1800" spc="-1" strike="noStrike">
              <a:ln w="0">
                <a:noFill/>
              </a:ln>
              <a:solidFill>
                <a:srgbClr val="99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3" name="WordArt 10"/>
          <p:cNvSpPr txBox="1"/>
          <p:nvPr/>
        </p:nvSpPr>
        <p:spPr>
          <a:xfrm>
            <a:off x="7596360" y="2997360"/>
            <a:ext cx="761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6000" spc="-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4" name="WordArt 13"/>
          <p:cNvSpPr txBox="1"/>
          <p:nvPr/>
        </p:nvSpPr>
        <p:spPr>
          <a:xfrm>
            <a:off x="900000" y="4653000"/>
            <a:ext cx="53164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通过课题你想知道什么</a:t>
            </a:r>
            <a:endParaRPr b="0" lang="en-US" sz="1800" spc="-1" strike="noStrike">
              <a:ln w="0">
                <a:noFill/>
              </a:ln>
              <a:solidFill>
                <a:srgbClr val="99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5" name="WordArt 14"/>
          <p:cNvSpPr txBox="1"/>
          <p:nvPr/>
        </p:nvSpPr>
        <p:spPr>
          <a:xfrm>
            <a:off x="6804000" y="4581360"/>
            <a:ext cx="762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6000" spc="-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11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圆明园毁灭以前是什么样的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圆明园是怎样被毁灭的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圆明园现在是什么样的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240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eec94"/>
                </a:solidFill>
                <a:latin typeface="Times New Roman"/>
              </a:rPr>
              <a:t>带着刚才的问题听范读，注意听准字音。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95280" y="2133720"/>
            <a:ext cx="842472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自读课文，注意读准字音，思考课文写了那几方面的内容？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Times New Roman"/>
              </a:rPr>
              <a:t>分部分朗读课文，注意检查字音读得是否正确。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Times New Roman"/>
              </a:rPr>
              <a:t>再读课文，看一看在整体感知的基础上，你又产生了哪些新问题？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68000" y="549360"/>
            <a:ext cx="867564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为什么圆明园的毁灭是祖国文化史上，及全世界文化史上不可估量的损失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圆明园原来是什么样的？从哪可以看出圆明园是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园林艺术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的瑰宝？建筑艺术的精华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圆明园被毁灭的经过是怎样的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课文题目是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圆明园的毁灭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，可为什么用较大篇幅写它辉煌的过去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这篇文章中你体会到了什么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23:07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54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7</vt:r8>
  </property>
</Properties>
</file>