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jpeg" ContentType="image/jpeg"/>
  <Override PartName="/ppt/media/%E5%A4%9C%E8%8E%BA.wav" ContentType="audio/x-wav"/>
  <Override PartName="/ppt/media/image10.jpeg" ContentType="image/jpeg"/>
  <Override PartName="/ppt/media/image8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15.jpeg" ContentType="image/jpeg"/>
  <Override PartName="/ppt/media/type.wav" ContentType="audio/x-wav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cashreg.wav" ContentType="audio/x-wav"/>
  <Override PartName="/ppt/media/image12.jpeg" ContentType="image/jpeg"/>
  <Override PartName="/ppt/media/%E5%B8%83%E8%B0%B7%E9%B8%9F.wav" ContentType="audio/x-wav"/>
  <Override PartName="/ppt/media/camera.wav" ContentType="audio/x-wav"/>
  <Override PartName="/ppt/media/image1.jpeg" ContentType="image/jpeg"/>
  <Override PartName="/ppt/media/image9.jpeg" ContentType="image/jpeg"/>
  <Override PartName="/ppt/media/image11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CE1-CD7C-4BC4-8E7D-97B0902F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B30-6B6E-42E3-BB1D-4D411241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058-4122-4597-A5C3-643B4125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84D-5E47-48A1-8E13-70D016D6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194F-FCAB-4FAA-A554-32EB465D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16EB-A003-4FAC-A41C-86ED5D29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BF22-82D2-46F8-B3D8-D99AAE37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0E7B-DA29-48D1-AC1E-4D2A6801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8CFB-1290-4B86-AA4C-7C2123ED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8EF7-8431-40BB-958B-93DC843B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A9ED-2C38-49F3-AB04-4045DEAA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B5A-8167-4386-8424-362558C7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2324-C8BA-46CA-A53E-A7940956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D15B-5656-4184-B2B1-5182F069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569A-0B1E-4651-B1FF-076C0CD2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D63A-942F-4964-B82C-3582C903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55D9-6B2F-4B46-AFAC-E56DCB05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908-B48A-47F3-AE2B-E5AB6EFE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B068-EA3A-47C9-BD6B-294F417E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FFF-6EEB-4EE3-9006-D1DECC37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84F-69DB-42E2-BEA4-673B786D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5FE-A78B-4DC5-95FF-1F4277EA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5B8-5CB0-45D8-915E-AD615052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15E-5167-49AC-9B5F-1C30C1F7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2585-395F-46EF-B184-B17134755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15CB-9ECE-4707-98F3-95EAE430F2C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8108-44DE-440B-9C9B-8086652D16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270,15,&#24187;&#28783;&#29255; 15" TargetMode="External"/><Relationship Id="rId3" Type="http://schemas.openxmlformats.org/officeDocument/2006/relationships/hyperlink" Target="270,15,&#24187;&#28783;&#29255; 15" TargetMode="External"/><Relationship Id="rId4" Type="http://schemas.openxmlformats.org/officeDocument/2006/relationships/hyperlink" Target="270,15,&#24187;&#28783;&#29255; 15" TargetMode="External"/><Relationship Id="rId5" Type="http://schemas.openxmlformats.org/officeDocument/2006/relationships/hyperlink" Target="270,15,&#24187;&#28783;&#29255; 15" TargetMode="External"/><Relationship Id="rId6" Type="http://schemas.openxmlformats.org/officeDocument/2006/relationships/hyperlink" Target="270,15,&#24187;&#28783;&#29255; 15" TargetMode="External"/><Relationship Id="rId7" Type="http://schemas.openxmlformats.org/officeDocument/2006/relationships/hyperlink" Target="270,15,&#24187;&#28783;&#29255; 15" TargetMode="External"/><Relationship Id="rId8" Type="http://schemas.openxmlformats.org/officeDocument/2006/relationships/hyperlink" Target="266,16,&#24187;&#28783;&#29255; 16" TargetMode="External"/><Relationship Id="rId9" Type="http://schemas.openxmlformats.org/officeDocument/2006/relationships/hyperlink" Target="266,16,&#24187;&#28783;&#29255; 16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audio" Target="../media/chimes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audio" Target="../media/&#22812;&#33722;.wav"/><Relationship Id="rId5" Type="http://schemas.openxmlformats.org/officeDocument/2006/relationships/audio" Target="../media/&#22812;&#33722;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&#24067;&#35895;&#40479;.wav"/><Relationship Id="rId5" Type="http://schemas.openxmlformats.org/officeDocument/2006/relationships/audio" Target="../media/&#24067;&#35895;&#40479;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72,8,&#24187;&#28783;&#29255; 8" TargetMode="External"/><Relationship Id="rId2" Type="http://schemas.openxmlformats.org/officeDocument/2006/relationships/hyperlink" Target="272,8,&#24187;&#28783;&#29255; 8" TargetMode="External"/><Relationship Id="rId3" Type="http://schemas.openxmlformats.org/officeDocument/2006/relationships/hyperlink" Target="273,9,&#24187;&#28783;&#29255; 9" TargetMode="External"/><Relationship Id="rId4" Type="http://schemas.openxmlformats.org/officeDocument/2006/relationships/hyperlink" Target="273,9,&#24187;&#28783;&#29255; 9" TargetMode="External"/><Relationship Id="rId5" Type="http://schemas.openxmlformats.org/officeDocument/2006/relationships/hyperlink" Target="274,11,&#24187;&#28783;&#29255; 11" TargetMode="External"/><Relationship Id="rId6" Type="http://schemas.openxmlformats.org/officeDocument/2006/relationships/hyperlink" Target="274,11,&#24187;&#28783;&#29255; 11" TargetMode="External"/><Relationship Id="rId7" Type="http://schemas.openxmlformats.org/officeDocument/2006/relationships/hyperlink" Target="275,12,&#24187;&#28783;&#29255; 12" TargetMode="External"/><Relationship Id="rId8" Type="http://schemas.openxmlformats.org/officeDocument/2006/relationships/hyperlink" Target="275,12,&#24187;&#28783;&#29255; 12" TargetMode="External"/><Relationship Id="rId9" Type="http://schemas.openxmlformats.org/officeDocument/2006/relationships/hyperlink" Target="278,13,&#24187;&#28783;&#29255; 13" TargetMode="External"/><Relationship Id="rId10" Type="http://schemas.openxmlformats.org/officeDocument/2006/relationships/hyperlink" Target="278,13,&#24187;&#28783;&#29255; 13" TargetMode="External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 Box 3" descr=""/>
          <p:cNvPicPr/>
          <p:nvPr/>
        </p:nvPicPr>
        <p:blipFill>
          <a:blip r:embed="rId2"/>
          <a:stretch/>
        </p:blipFill>
        <p:spPr>
          <a:xfrm>
            <a:off x="395280" y="1555920"/>
            <a:ext cx="8174160" cy="744480"/>
          </a:xfrm>
          <a:prstGeom prst="rect">
            <a:avLst/>
          </a:prstGeom>
          <a:ln w="0">
            <a:noFill/>
          </a:ln>
        </p:spPr>
      </p:pic>
      <p:pic>
        <p:nvPicPr>
          <p:cNvPr id="83" name="民族乐曲.MID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5"/>
                            </p:stCondLst>
                            <p:childTnLst>
                              <p:par>
                                <p:cTn id="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75"/>
                            </p:stCondLst>
                            <p:childTnLst>
                              <p:par>
                                <p:cTn id="1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27"/>
          <p:cNvSpPr/>
          <p:nvPr/>
        </p:nvSpPr>
        <p:spPr>
          <a:xfrm>
            <a:off x="1752480" y="1600200"/>
            <a:ext cx="6248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部分写了小夜莺引诱德国兵，并主动和敌人接近，巧妙地回答德国军官的盘问，让敌人取得对他的信任，让他带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28" descr="tn004"/>
          <p:cNvPicPr/>
          <p:nvPr/>
        </p:nvPicPr>
        <p:blipFill>
          <a:blip r:embed="rId1"/>
          <a:stretch/>
        </p:blipFill>
        <p:spPr>
          <a:xfrm>
            <a:off x="990720" y="609480"/>
            <a:ext cx="167616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29"/>
          <p:cNvSpPr/>
          <p:nvPr/>
        </p:nvSpPr>
        <p:spPr>
          <a:xfrm>
            <a:off x="1219320" y="9144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1066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676520" y="1143000"/>
            <a:ext cx="63244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带路时，小夜莺有时学夜莺唱，有时学杜鹃叫，是为了让德国兵知道，这是自己的习惯爱好，用来麻痹敌人，以后他用鸟声和游击队联系时就不会引起怀疑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夜莺边走边打路旁树枝，拾球果踢，回                                           答问话时就打岔说别的，也都是为了让德国兵认为他贪玩而不加警惕，从而顺利地跟着自己走进游击队的埋伏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600200" y="1219320"/>
            <a:ext cx="64008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游击队员听到小夜莺的叫声，知道他已经把敌人带来，通过有节奏的夜莺歌声知道了鬼子人数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，用两声杜鹃叫是报告有两挺机关枪。一声夜莺叫代表一个敌人，一声杜鹃叫代表一挺机枪，由此可以想到，小夜莺同游击队用这种方式联系，已经不止一次了，他曾多次协助游击队消灭敌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27"/>
          <p:cNvSpPr/>
          <p:nvPr/>
        </p:nvSpPr>
        <p:spPr>
          <a:xfrm>
            <a:off x="1676520" y="1295280"/>
            <a:ext cx="6172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文的开头和结尾是相互照应，首尾连贯的。（即首尾呼应）都是说小男孩在发出夜莺的歌声，以便配合游击队歼灭敌人。这样更加突出了“小夜莺”的机智勇敢和爱国主义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028"/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tn005"/>
          <p:cNvPicPr/>
          <p:nvPr/>
        </p:nvPicPr>
        <p:blipFill>
          <a:blip r:embed="rId1"/>
          <a:stretch/>
        </p:blipFill>
        <p:spPr>
          <a:xfrm>
            <a:off x="2743200" y="914400"/>
            <a:ext cx="320040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276720" y="1143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总结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133720" y="2514600"/>
            <a:ext cx="6248160" cy="176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2"/>
              </a:rPr>
              <a:t>1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3"/>
              </a:rPr>
              <a:t>课题为什么叫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4"/>
              </a:rPr>
              <a:t>“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5"/>
              </a:rPr>
              <a:t>夜莺的歌声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6"/>
              </a:rPr>
              <a:t>”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7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8"/>
              </a:rPr>
              <a:t>2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9"/>
              </a:rPr>
              <a:t>读了这篇课文后，小夜莺给你留下了怎样的印象？或者你喜欢、佩服小夜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文本框 8200"/>
          <p:cNvSpPr/>
          <p:nvPr/>
        </p:nvSpPr>
        <p:spPr>
          <a:xfrm>
            <a:off x="3348000" y="494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0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1" name="chimes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295280" y="1219320"/>
            <a:ext cx="67057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含两个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是孩子用夜莺的歌声向游击队报告情况，帮助游击队歼灭了德国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是孩子被游击队员亲切地称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夜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夜莺的歌声是动听的，美好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">
            <a:hlinkClick r:id="" action="ppaction://hlinkshowjump?jump=previous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6880" y="2209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机智、勇敢、热爱祖国。是个小英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F815-9854-40F2-878D-7643195202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523880" y="1371600"/>
            <a:ext cx="6019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划去下面括号里不正确的读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削木头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āo   xu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    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ōng   kò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ào     sà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声        木  屑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āo     xi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在括号里填上适当的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）的小路                  （       ）地回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）的空地                  （       ）地站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）的焦木                  （       ）地唱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5435640" y="227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夜莺又名黄鸟，体长二十五厘米左右，它不但模样漂亮，且善鸣啭，歌喉清脆甜美，是鸟类中有名的歌唱家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27鸟"/>
          <p:cNvPicPr/>
          <p:nvPr/>
        </p:nvPicPr>
        <p:blipFill>
          <a:blip r:embed="rId1"/>
          <a:stretch/>
        </p:blipFill>
        <p:spPr>
          <a:xfrm>
            <a:off x="4764240" y="1981080"/>
            <a:ext cx="3578040" cy="3962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BANR003"/>
          <p:cNvPicPr/>
          <p:nvPr/>
        </p:nvPicPr>
        <p:blipFill>
          <a:blip r:embed="rId2"/>
          <a:stretch/>
        </p:blipFill>
        <p:spPr>
          <a:xfrm>
            <a:off x="1219320" y="609480"/>
            <a:ext cx="7086600" cy="1052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1981080" y="76212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夜     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3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A4%9C%E8%8E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250"/>
                            </p:stCondLst>
                            <p:childTnLst>
                              <p:par>
                                <p:cTn id="30" dur="indefinite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A4%9C%E8%8E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杜鹃又名布谷、郭公，属于夏候鸟，也就是说它们夏季在我国境内繁殖，秋季迁往印度和我国南方温暖地区越冬。杜鹃的体形有点像鸽子，只是更细长些。它们喜欢栖居在开阔的林地，常常隐在茂密的树上鸣叫，声音响亮，但很少会让人看见。可谓“不见其人，只闻其声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4" descr="28鸟"/>
          <p:cNvPicPr/>
          <p:nvPr/>
        </p:nvPicPr>
        <p:blipFill>
          <a:blip r:embed="rId1"/>
          <a:stretch/>
        </p:blipFill>
        <p:spPr>
          <a:xfrm>
            <a:off x="4648320" y="1828800"/>
            <a:ext cx="363384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BANR011"/>
          <p:cNvPicPr/>
          <p:nvPr/>
        </p:nvPicPr>
        <p:blipFill>
          <a:blip r:embed="rId2"/>
          <a:stretch/>
        </p:blipFill>
        <p:spPr>
          <a:xfrm>
            <a:off x="1143000" y="457200"/>
            <a:ext cx="701028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7"/>
          <p:cNvSpPr/>
          <p:nvPr/>
        </p:nvSpPr>
        <p:spPr>
          <a:xfrm>
            <a:off x="1600200" y="60948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杜       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3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B8%83%E8%B0%B7%E9%B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B8%83%E8%B0%B7%E9%B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teac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438280" y="1905120"/>
            <a:ext cx="411480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41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，德国法西斯在已经占领了欧洲许多国家之后，突然进攻苏联。苏联人民在以斯大林为首的党和政府的领导下，开始了卫国战争。第二次世界大战进入了新的阶段，后来苏联军队经过在莫斯科和斯大林格勒的大会战，歼灭了德军主力，根本扭转了战局，转入反攻。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44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，苏联发起总反攻，全部收复沦陷的土地，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45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，苏军攻克柏林，迫使德国无条件投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BANR012"/>
          <p:cNvPicPr/>
          <p:nvPr/>
        </p:nvPicPr>
        <p:blipFill>
          <a:blip r:embed="rId2"/>
          <a:stretch/>
        </p:blipFill>
        <p:spPr>
          <a:xfrm>
            <a:off x="2057400" y="1219320"/>
            <a:ext cx="5257800" cy="609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362320" y="1295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   代   背   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3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685800" y="10666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自学步骤方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09480" y="1523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14400" y="2133720"/>
            <a:ext cx="6477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初读，学字词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再读，知结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细读，明中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精读，表情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028" descr="2"/>
          <p:cNvPicPr/>
          <p:nvPr/>
        </p:nvPicPr>
        <p:blipFill>
          <a:blip r:embed="rId1"/>
          <a:stretch/>
        </p:blipFill>
        <p:spPr>
          <a:xfrm>
            <a:off x="611280" y="476280"/>
            <a:ext cx="7632720" cy="604836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8200"/>
          <p:cNvSpPr/>
          <p:nvPr/>
        </p:nvSpPr>
        <p:spPr>
          <a:xfrm>
            <a:off x="2482920" y="645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3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27"/>
          <p:cNvSpPr/>
          <p:nvPr/>
        </p:nvSpPr>
        <p:spPr>
          <a:xfrm>
            <a:off x="5791320" y="3429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思考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30"/>
          <p:cNvSpPr/>
          <p:nvPr/>
        </p:nvSpPr>
        <p:spPr>
          <a:xfrm>
            <a:off x="685800" y="685800"/>
            <a:ext cx="7696080" cy="5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1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说说课文讲了一件什么事？分几部分写的？你是怎么分的？课文的重点部分写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32"/>
          <p:cNvSpPr/>
          <p:nvPr/>
        </p:nvSpPr>
        <p:spPr>
          <a:xfrm>
            <a:off x="685800" y="1600200"/>
            <a:ext cx="7696080" cy="5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2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找出小男孩回答德国兵的话，想想是什么意思？说明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33"/>
          <p:cNvSpPr/>
          <p:nvPr/>
        </p:nvSpPr>
        <p:spPr>
          <a:xfrm>
            <a:off x="685800" y="2514600"/>
            <a:ext cx="4495680" cy="100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3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在给敌人带路时，小男孩有哪些言行？你从中体会到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34"/>
          <p:cNvSpPr/>
          <p:nvPr/>
        </p:nvSpPr>
        <p:spPr>
          <a:xfrm>
            <a:off x="685800" y="3886200"/>
            <a:ext cx="4495680" cy="100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4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游击队员是怎么知道敌人情况的？说明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5"/>
          <p:cNvSpPr/>
          <p:nvPr/>
        </p:nvSpPr>
        <p:spPr>
          <a:xfrm>
            <a:off x="685800" y="4800600"/>
            <a:ext cx="4495680" cy="100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5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文的开头和结尾都写了夜莺的歌声，说说开头和结尾有什么联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1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09480" y="1066680"/>
            <a:ext cx="75438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篇课文写在苏联卫国战争时期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小男孩帮助游击队消灭一伙德国法西斯强盗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事。文章是按照事情发展的顺序写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按起因、经过、结果分为三部分，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文的重点部分写小男孩是怎样帮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游击队歼灭德国兵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>
            <a:hlinkClick r:id="" action="ppaction://hlinkshowjump?jump=previousslide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19320" y="1295280"/>
            <a:ext cx="6705360" cy="28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回答德国兵的问话时，“怎么会剩下我一个？这里有麻雀、乌鸦、猫头鹰，多着呢。夜莺倒只有我一个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回答德国军官的盘问，“刚刚一开战，村子就着火了，大家都喊：‘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野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野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都跑了。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用这些话来戏弄敌人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说明他是个沉着机智的孩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883908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9:1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55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