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4.wmf" ContentType="image/x-wmf"/>
  <Override PartName="/ppt/media/image3.jpeg" ContentType="image/jpeg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3D31D-3FA3-4882-871B-355A1C70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9CAF0-782D-4C51-98A8-994D55E7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C112CA-8D18-48E3-9AE1-4D9E5C7C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9D4AA4-29A3-4C35-A4E0-976241C7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AB463E-2C5A-4822-A1E6-2A34CE60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E6D01F-DFD2-450D-A8FD-CA862EEA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1D4CC8-09C6-47E3-B4C5-135D8ADC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35338D-DD6A-4E2C-B4C9-0B3C8812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F2D692-00B5-40DD-B4AE-E56DBC3B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F6A051-D930-42CE-94AE-D42F54E4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4CEBA5-CE08-48A8-8D72-1520A75A9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8A5E23-2B3E-4078-B4AB-CA9E3026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6A8D5-6FDE-4ADB-86F3-143A6AD5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029DD6-8A4D-41AD-8A2A-6114F02A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BB4E4A-86A6-4E98-9EF9-16974FC2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A6B8FA-9E53-4029-9266-AB8432CD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B43E46-0FDD-4F88-A605-21C00E94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C5BE9F-D679-4058-9FE2-01D4E6FF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AC9F7E-CEC4-4C78-B9EC-B1AB6B1D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7CB98D-05C7-4C27-B22A-1F88473A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3AA896-3FE8-4C6B-93F2-25CDCA3B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14C61F-2147-4091-AB03-CC3EDF9E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24C266-6FE2-457D-A354-E448628E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3961B-6C57-473A-8A9C-BB6C98E0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2B78F4-FD47-468D-A7C2-4300F4D7B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E97FB16-7B98-40B9-8D89-E40FDB3FF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CABB3F-5064-47B9-B39F-4CA35B6E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52040D-2D8D-4482-8BC8-EB4F6E8F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040F29-DE90-4E65-A913-6C87AD65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68DA88-687B-441A-A584-0A0BAE9C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BD043D-98FD-4971-993B-506A2151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A8270E-9E9A-4F56-9CC9-1B5F33CE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F1715B-8223-4B59-8D97-DC946C4A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57D046-5BD2-4CFD-99D8-7F34D633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018F0-FEBE-43B0-8B61-AB0A3571F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EE1C2B-E708-4239-A1B2-61B919D0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7A1EE9-FBB7-4FB0-B46F-A8F1B0573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D4A4FF-155F-4C41-AC6A-D9D09CDEB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9347A1-EEA2-4493-AEB3-5F7D9CF3C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9F0E77-6AF5-472B-A512-4E2C1223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0290788-49BA-4879-9AC6-6201F488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4B7E15F-20B6-4DC4-AD36-5695FCA1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3B8529-44E9-4434-92E2-26AC6A66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373348A-7592-46DC-9D0A-96FB5A90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614944-63BC-45CF-A741-22D2B8C9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430BE-9B59-4D77-8C8A-7955726D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9C04D0F-2225-4B6F-BA79-4A2E472E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8481C7-EB85-4F4D-8AE0-3F0911BE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543D007-D862-4D46-A701-A6A8BED8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40E4BF9-7799-4BD9-B18D-C7ED9D6C4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9BF8FF2-30B6-4A5A-BDF5-2C70D112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B7CB86-4939-4C89-A5E9-B709A4B4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BB7B54-AC61-46DF-8E31-1E5D2600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4E3DE3-1C7C-4091-B0C0-71E26B02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C1849C-F6DC-4060-A1B7-57FAB494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D0D88C-6154-446B-85AD-198A3140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38F20-07E9-4875-B275-549E04E0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211329-8F93-4CEC-BECF-0F9F352C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C2B8FF-FC80-474D-81CD-368727F7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B478A6-954E-4B0F-9668-BD5B306A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87A13C-9D3C-4E4A-BACA-83CF3EA8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FABAC5-D930-4F4F-BE61-EB36E75A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186E7E-A27B-4033-BC8F-B291C11D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D6F994-1A34-423E-8993-FD2FB92F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DC2177E-D8A9-4C00-8D11-030C0C453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C7B1D61-6AA5-46F5-9433-29416E3C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5DDB4C7-9696-4D7F-9B26-7409E4B6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245F1-C612-4C20-9C8D-F5B90F46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3924A3C-6B2A-464A-B318-74BF8BF8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10491C7-72DC-4461-835B-A0B8AD2F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363A14C-7987-4EF5-A965-B1FFDB0C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7DA99D9-0373-4410-897A-57BE6B9E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EF0EA94-0C43-44DE-91B0-BF4CCBE5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4919FED-8AB7-40ED-895A-92CEEEBE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6B1545F-CD43-4289-B891-2A7C83D0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241587C-8C26-4315-AA1A-F1933EC35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3838345-953D-4DE1-90C2-E009DC5B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24D350-0AEA-4939-B3B1-64B9DBB1C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A014F-DB41-4430-93A8-9BAC8652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1629B7-FF53-40D4-9C71-126D8F4C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6A1610-CE08-46B2-91A0-63CD78E6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493E82-65A2-4C37-9FCE-1860CD13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3A28AD-E4DA-4102-AA0F-D807B4AE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30E6C1-2010-426B-AF34-12935BA7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F6D8D0-9C24-4229-90DB-3138593E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DFD62D-E807-4095-B166-D31ED5BF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3ACE33-0B85-41AA-BA01-CDDF09BE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CCA5BE-2CF7-4070-A542-4C15552A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6C395E-DF99-47B9-80BC-205C52437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90B2D-0546-4447-85C4-A7D8BF19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7456D0-24C3-4ECB-9524-A4432086F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8032D0D-2974-49A3-B2F5-4683BB87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8DDCB3C-DD06-4522-9309-54F41554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EA6E5DA-521D-4E6B-A938-F8348EE1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33682D5-2B63-4CBD-BFCA-922D7A77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50FFF45-1CEF-4809-B295-19D7A38C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A892349-6FCF-4FF9-ADE2-0F7C5789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3683D76-5E93-463D-A816-9F6FFB0E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F16590D-14FA-425D-94D6-42A85F8B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346C7D1-C137-471C-84FA-263635EE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FB6E0-D123-433F-B14C-63F5B1BD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E985F4E-8830-4370-A547-A75CB4C4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5F80FDD-88DA-4171-A990-1E6074DCE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044B3E4-FF43-431A-B39A-A2EE8573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305E7A2-8DBA-47A8-B496-315D06F9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5A6C743-AEBE-4781-9632-0D669ABD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5488FC4-8EF5-4703-8DAE-CC9BB4CE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D06D15A-AC1D-423C-9D20-23C5607E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2EBAA54-97E4-4298-821D-96587676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0301470-8517-4E1B-90EC-748324C5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D84016E-2022-4B1C-8E62-D2970F63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1397D-2BB3-40BD-AECB-6AAD1CC3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A7308-2E10-41B0-A0C1-5DB7F406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BB712F0-AA50-4183-B640-E3039A67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C0E2143-2F58-449F-A079-4C2DF23D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28061E4-3A54-4B9A-AF85-4478B593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986944C-6D66-4EB7-9A09-D0354A98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B1AB24D-3AE7-45BE-AF64-D5A0276E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F105F99-2C6B-4763-8FBB-F63267531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28345D3-C036-4CD4-9CB6-2B8533A0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E51552A-22CA-42E9-84AF-D3856409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C0B3C6C-388A-4EA1-83B5-8ED1EF9D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C9CEE94-9533-4845-BA49-FE2553BA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90FEC-79AD-47C1-B66F-1DF8CDC3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51A1A7D-BA0D-45AA-A1DB-30760DD5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493DABA-3411-4EC8-863E-880CB1D2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EE94082-97B6-42EB-9CBF-F61377A3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D15476B-0BD9-438A-8320-61DCB685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DDFA52D-1CE9-404F-8052-973D8E2F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22C8670-8F9E-45D3-B46B-8BA3C794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82B5A31-5210-4AD1-A8C9-A85DF1855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E5F80B6-0C36-4FAD-BA0C-54759402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84B5D8B-3EA0-4AA0-9C8F-FDB6DF93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A679FEE-3887-4885-AEBC-08714B8E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E42B8-6237-4D4C-B488-0F872614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9C2B7A9-0B61-4B51-A436-1055A1CC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FC2A73B-3667-4E20-9377-55DD0940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48C13A1-C6EF-4946-817B-7A589398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FD1B2B0-0FFA-4F7F-B503-B0D6802B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D2AC6F5-5D12-46DC-A73E-F88B2C0A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715B16E-4E71-43B0-B614-0D1A7E2D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F6EC538-2D32-4390-8B97-421E008F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C7285C9-B55D-41A1-A2A2-8DED43387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C4238BA-3D3D-4DD2-8880-6E40B544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38D2D8F-F68D-404C-BA0D-47396AC9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97763-B6C9-4220-B78B-D1772704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78027FD-017B-44D8-9922-FFFE1415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CA23C7C-E21A-43C4-886C-AC3BFB9A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04D48B8-5011-4599-834E-EE44AFBA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C0D19FB-65DC-44D9-A996-85AF2CEA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6F30AC1-1E01-45D7-8E34-99BC2049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6A4C18C-D88A-4DA5-A2AF-275047C3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B4D863B-3D54-429F-927D-B766AE16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6464EFE-C1E8-41CA-9FD7-339892E7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F001E9E-651A-4003-9F83-87A072DD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52D9CBD-E83B-403E-9813-2AE0597F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58EDB-CEF1-453A-A596-89E04EF1D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1127A66-E4A2-4906-96FE-6A538D7D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968072A-8445-42AB-8F71-D29F2C7A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DC7CEAC-ABD5-4503-8C7D-E4620D0C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7F811F0-80B7-4AAA-A169-BF051461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EF14355-8555-4664-9555-BC26A21C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54B999D-CCF5-4AD7-A5DA-89C8A0C8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2D56C4A-4D2D-4753-BAE4-F1ABE03D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E54E2B9-8B34-488E-BDEB-BAC68337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95AAF9F-DD22-40ED-A330-8F5D0488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62FFAC0-58ED-41A7-86E0-869CEA28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52BE8-BC11-4148-B41E-CC4A2F58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73D7A83-F387-41C3-91B4-0601E228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995E5EE-A194-484C-B0F7-45EA48CEF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DCAC80C-40B9-43AF-853D-E5E53F66E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D765A53-E59D-4037-8892-521E31B3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D016EC2-D1FD-41CC-8235-7A8BD66D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D9F45DD-1109-49D8-A785-84E388EA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EB341F3-5E46-4CC3-85E4-B7813F5C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B721389-4DDB-42D1-9891-5A972C5D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C946288-DAEB-49D5-BDD0-230415BE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3B946B9-EA21-4198-B909-A4E63FA0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116DE-DA24-43B4-BFDD-0B4ABC6A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68D0805-4004-429E-BF8E-21B45DA3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B98E6F1-FC9D-44F9-B2F4-D78E89D9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E8AF714-5D54-473C-8C1F-C451BA00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3273B3D-D72C-4D4E-A15C-E420F21BB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9703567-7959-4D1F-8E1A-324C567B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DBBC9E1-BCA0-4145-8623-81D2D1C3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6A00D22-5518-403F-B5AE-2814A3ED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15641DA-5FEA-429F-9C5C-8958CA0E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F672DD1-5D2E-4F33-971B-10CF7927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CF5D297-8859-41DB-A7F0-1DC67F86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0915B-944A-478D-9102-E72EB38F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C1391B2-BECA-4B6B-AF97-0E6ACFDF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36094FB-5461-4395-A3C0-5FAC9678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EBF4F45-5968-4AF2-96C8-04DA2201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AD66E1F-E459-4C7D-9BB9-D26F9A7E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08B5AF6-3E9F-460F-895A-0864371D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FD7A7E4-9E6B-4B16-9505-418D8A4C7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7A692EB-6B09-47EA-A604-402335406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E943874-33BB-4418-834A-C0311C0B4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C417509-996B-4D54-A331-6714E8A3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C0256AE-BC43-4038-B97B-CB70660F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4DAF3-6FF5-4F08-B2C9-F179B01E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04C764B-AE7B-4198-ADF7-7FC33B5A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1658EAD-AA39-431F-99B2-C14599DA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682E256-D0AF-44D1-94AD-85C17548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F8E9601-B170-4F1A-A691-81623177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D37C6BA-258E-4A63-9219-DDCAB5CA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0B04C1C-1687-46D1-A1F1-466AC25C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50551EF-2B60-4FF9-A522-16A66B2B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807FF97-A9B0-4721-905C-93D3BB117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89C94FA-CE66-4CFB-9CEA-61989AE08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ED6C590-F6C6-480D-8B34-7DBAF33C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3B91C-F850-4088-B497-907362AA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8386B27-1E8F-43CB-A948-AA384441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3E9C26D-0E86-43B6-A6B2-D730DD33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2E6B31C-2A98-4646-9B08-0A7FAEEB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512DE77-4C6F-4335-9292-D0E78119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51DCEDC-CE43-4EE4-8D60-4717C19C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371A02D-E502-40B5-B481-E40AEEE6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90DFBD9-933E-426A-B6A7-D3D89822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F11FF26-2716-4DE7-8722-A3388B4F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9CFD2A0-8B49-44F0-AAA7-4A88BA67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6816733-161F-47E7-872A-8406D0F0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C469A-8E5B-4B3D-BA9F-E51F6903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11EBC-24CB-4431-A7A1-10053BB3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7177A14-58C5-427C-99E3-FF7EEF5CA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6D3A4-CD39-44C2-B901-CA9B9EB3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FF3B3-419A-4187-B987-4D02EDD1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9D803-8180-4340-9CD3-D801FD9C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D8B09-6AC9-4CDD-8C4E-90B2D02D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2A693-8400-4247-BE8F-F1F554909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F9B1D-AC17-4F79-B80F-04414919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E838E-9242-4694-B8D9-8D65874D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F53C6-BC63-4D7F-A887-E97C4082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4B2DA-3CB2-44A0-A3E1-93F5ED53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18DDD-80AB-4891-AE2E-D32E006D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4D7AC-EEF7-4384-A376-EB4BF9FE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77B42-1445-410C-91DE-0E8583A5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5C07F-E372-4C79-80E1-88375474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FCFAD-8F8C-4716-BA6D-7CBB3828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8BA39-0255-47D8-8E92-96E7016F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70403-4BA8-4DBA-8DA9-889BDF06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A8AF5-0329-4FC6-BFCF-D76C0C37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686DD-1131-483E-8B58-AC943AF80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76C42-D48B-419F-8D90-0B4A46AA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6BFA9D-CB62-42A0-A44B-55ADA88F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BB61F-F864-4583-9D32-0B9E943F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B1C09A-9166-42D5-B271-D04ABA3D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2DCD9C-55C8-43BC-8E6C-9ABE4A83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83208E-66FA-4C36-BD65-C0A3B636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6D9D09-65E4-49DD-8273-C281743E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525ECB-1D06-4228-8C74-CEC52A7A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701739-51A5-4BE9-997B-83284B28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AA0B38-6711-4BFA-9CFE-28C5A06C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4BEB46-6F58-4F29-A9E5-9FAA6EB0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BB4F7C-6F09-4DCA-B7B2-A9B58723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52A98C-3B05-4649-BFAE-10EB4AE0F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AD614-D3CA-4486-9E1B-0070D394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395DDE-4B35-40EF-B5C5-CB621926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1C699C-AB86-4346-AF03-ABAF6459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12847B-D935-4CDB-BE14-7AFDAB38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285DEE-D108-4D6A-BD5D-77AF179D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25E268-1428-4FFF-A3F4-3F8C22DA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2D64DC-863F-4A7F-BC3D-B4034DDC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AB36EE-302F-4C9B-BB7D-320A478A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21F686-FA97-4E70-9815-879DC780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92C5C7-05AB-4D7A-9A45-1099C350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6101F7-7D98-49DA-8CB1-B9209B55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91C42-098B-4603-A7F1-D5E5EEE4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BF187D-D61B-4FCF-B29B-43A7E0C6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9EE705-4DB8-4941-8553-0910C8D3A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9D0A9B-3D6F-4B8F-BD24-D021F7D8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0AEF99-1583-4EEC-8444-03895A54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5D280D-E2AF-4D17-A612-87A3A31B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229531-29D9-418B-918E-727565D0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71AB8F-05C2-44A7-BF51-79944F6F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320864-1BB5-44F1-A1B4-D331B598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82DCE7-989B-4B16-9EC3-C872A3CB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BD9A43-786C-44F3-8F01-B4A33427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7AEBE-6D3D-4958-9B2F-0985CF65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AE5D6C-146D-45B2-A24B-93085345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FFC125-F9E5-4C33-8816-3D2503AA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DD8AE0-D093-44FD-AAD8-311C747D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F290EF-30EC-4D9C-9442-B3C2F057B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912A0D-BE10-4BD0-AD11-A604ABB67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BB8D74-2535-4F40-9BC9-6DB4C7B3A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D9BA6F-7FA5-41B7-BDA9-891A4D75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A5E6C3-155E-4A81-B1F4-154008BC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2B92EC-60F0-4E8D-8190-310F3C5C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F8A649-F5E7-4DE6-A1C5-ED42EA77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34E4A-C4E5-4060-985F-3584832B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106436-E3F2-4F3E-8873-922A4197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5E83B0-3DC3-4E1E-BD3E-348D4E51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143300-5D0F-431E-BC23-247EDF80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5DD8C1-2B29-460D-9D8E-DEBEE96E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384540-F649-47AC-852E-1FF6DC26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B865A2-540E-4763-AAB1-FEFD7A399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653EC3-143D-42C4-AD16-ACAF3BDB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B0F0C7-C7E6-486A-A259-2444F52D2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48E543-7746-48DF-BF2F-0F81D540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7DA7ED-8C7E-464A-9159-26306186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8B0A-CD74-4CB1-A4E4-8455361FA7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FE7D-50A9-4519-94F9-28FC815C86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99A5-1014-4286-94DC-1EB0E3328B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dt" idx="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A4CD-0F7A-40C5-B656-EC60E8E059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37D7-CC07-45F5-90B5-BD81CE057C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dt" idx="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DFC0-28A1-4FC8-B011-332397060A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442D-D5C6-4C13-9B83-C0024AE254A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ftr" idx="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6433-5135-4764-A7F0-4780B294ED1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 type="ftr" idx="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 type="sldNum" idx="5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A3E5-D525-4133-893D-F0CCE0C5F9D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 type="dt" idx="5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ftr" idx="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sldNum" idx="5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6C20-665B-466D-B518-40700BA70EE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dt" idx="5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ftr" idx="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sldNum" idx="5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7DF0-009E-45F9-8789-DFE91489ACC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dt" idx="5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6960-A773-46FF-BAA5-B1D0B286E59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 type="ftr" idx="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sldNum" idx="5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4065-4438-43C7-8790-00D8A2BB824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 type="dt" idx="6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 type="ftr" idx="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 type="sldNum" idx="6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FFE3-7554-4965-B579-2A3B887D1DA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 type="dt" idx="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ftr" idx="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sldNum" idx="6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3AB3-2890-414F-8EC7-26F6C363D5A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 type="dt" idx="6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 type="ftr" idx="6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 type="sldNum" idx="6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D982-F787-4A16-B4BA-9F06F1643EC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 type="dt" idx="6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 type="ftr" idx="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 type="sldNum" idx="7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3949-D774-4368-95D8-7813077D8A0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 type="dt" idx="7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 type="ftr" idx="7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 type="sldNum" idx="7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89EE-640A-437B-AF62-5975599197D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 type="dt" idx="7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7F0E-31E4-4916-A583-5B6575A2655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4B1F-B45A-4BB5-B96E-EF0E8C6622A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6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FCA3-6B36-4111-9B73-A10B109ED4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203B-DF63-45D8-A0C0-8FFB173C10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24BB-E995-4FA5-A532-B6EC85F86F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CE94-7EA4-485A-B651-778781CEC0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B1B0-09E2-407C-B859-29D9B63AE0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DB60-BF47-496B-B566-0B6BD6A165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png"/><Relationship Id="rId17" Type="http://schemas.openxmlformats.org/officeDocument/2006/relationships/image" Target="../media/image3.jpeg"/><Relationship Id="rId18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矩形 8"/>
          <p:cNvSpPr/>
          <p:nvPr/>
        </p:nvSpPr>
        <p:spPr>
          <a:xfrm>
            <a:off x="2050920" y="2997360"/>
            <a:ext cx="6494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4" name="矩形 1" descr=""/>
          <p:cNvPicPr/>
          <p:nvPr/>
        </p:nvPicPr>
        <p:blipFill>
          <a:blip r:embed="rId16"/>
          <a:stretch/>
        </p:blipFill>
        <p:spPr>
          <a:xfrm>
            <a:off x="755640" y="836640"/>
            <a:ext cx="7842240" cy="700200"/>
          </a:xfrm>
          <a:prstGeom prst="rect">
            <a:avLst/>
          </a:prstGeom>
          <a:ln w="0">
            <a:noFill/>
          </a:ln>
        </p:spPr>
      </p:pic>
      <p:pic>
        <p:nvPicPr>
          <p:cNvPr id="1115" name="图片 5" descr=""/>
          <p:cNvPicPr/>
          <p:nvPr/>
        </p:nvPicPr>
        <p:blipFill>
          <a:blip r:embed="rId17"/>
          <a:stretch/>
        </p:blipFill>
        <p:spPr>
          <a:xfrm>
            <a:off x="1558800" y="2205000"/>
            <a:ext cx="6204240" cy="3722760"/>
          </a:xfrm>
          <a:prstGeom prst="rect">
            <a:avLst/>
          </a:prstGeom>
          <a:ln w="0">
            <a:noFill/>
          </a:ln>
        </p:spPr>
      </p:pic>
      <p:sp>
        <p:nvSpPr>
          <p:cNvPr id="111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Text Box 2"/>
          <p:cNvSpPr/>
          <p:nvPr/>
        </p:nvSpPr>
        <p:spPr>
          <a:xfrm>
            <a:off x="4695840" y="270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方正小标宋简体"/>
              </a:rPr>
              <a:t>场景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5" name="Text Box 3"/>
          <p:cNvSpPr/>
          <p:nvPr/>
        </p:nvSpPr>
        <p:spPr>
          <a:xfrm>
            <a:off x="4716360" y="3102120"/>
            <a:ext cx="15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方正小标宋简体"/>
              </a:rPr>
              <a:t>场景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6" name="Text Box 4"/>
          <p:cNvSpPr/>
          <p:nvPr/>
        </p:nvSpPr>
        <p:spPr>
          <a:xfrm>
            <a:off x="4716360" y="3500280"/>
            <a:ext cx="15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方正小标宋简体"/>
              </a:rPr>
              <a:t>场景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7" name="Text Box 5"/>
          <p:cNvSpPr/>
          <p:nvPr/>
        </p:nvSpPr>
        <p:spPr>
          <a:xfrm>
            <a:off x="4716360" y="3860640"/>
            <a:ext cx="15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方正小标宋简体"/>
              </a:rPr>
              <a:t>场景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8" name="Text Box 6"/>
          <p:cNvSpPr/>
          <p:nvPr/>
        </p:nvSpPr>
        <p:spPr>
          <a:xfrm>
            <a:off x="4716360" y="4246560"/>
            <a:ext cx="15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方正小标宋简体"/>
              </a:rPr>
              <a:t>场景五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49" name="Group 7"/>
          <p:cNvGrpSpPr/>
          <p:nvPr/>
        </p:nvGrpSpPr>
        <p:grpSpPr>
          <a:xfrm>
            <a:off x="4282920" y="2995560"/>
            <a:ext cx="504720" cy="1368360"/>
            <a:chOff x="4282920" y="2995560"/>
            <a:chExt cx="504720" cy="1368360"/>
          </a:xfrm>
        </p:grpSpPr>
        <p:grpSp>
          <p:nvGrpSpPr>
            <p:cNvPr id="1150" name=""/>
            <p:cNvGrpSpPr/>
            <p:nvPr/>
          </p:nvGrpSpPr>
          <p:grpSpPr>
            <a:xfrm>
              <a:off x="4282920" y="2995560"/>
              <a:ext cx="504720" cy="1152360"/>
              <a:chOff x="4282920" y="2995560"/>
              <a:chExt cx="504720" cy="1152360"/>
            </a:xfrm>
          </p:grpSpPr>
          <p:sp>
            <p:nvSpPr>
              <p:cNvPr id="1151" name="Line 8"/>
              <p:cNvSpPr/>
              <p:nvPr/>
            </p:nvSpPr>
            <p:spPr>
              <a:xfrm flipH="1">
                <a:off x="4282920" y="2995560"/>
                <a:ext cx="504720" cy="1152360"/>
              </a:xfrm>
              <a:prstGeom prst="line">
                <a:avLst/>
              </a:prstGeom>
              <a:ln w="38160">
                <a:solidFill>
                  <a:srgbClr val="e13f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2" name=""/>
              <p:cNvSpPr txBox="1"/>
              <p:nvPr/>
            </p:nvSpPr>
            <p:spPr>
              <a:xfrm>
                <a:off x="4282920" y="2995560"/>
                <a:ext cx="504720" cy="115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4282920" y="3427200"/>
              <a:ext cx="504720" cy="720720"/>
              <a:chOff x="4282920" y="3427200"/>
              <a:chExt cx="504720" cy="720720"/>
            </a:xfrm>
          </p:grpSpPr>
          <p:sp>
            <p:nvSpPr>
              <p:cNvPr id="1154" name="Line 9"/>
              <p:cNvSpPr/>
              <p:nvPr/>
            </p:nvSpPr>
            <p:spPr>
              <a:xfrm flipH="1">
                <a:off x="4282920" y="3427200"/>
                <a:ext cx="504720" cy="720720"/>
              </a:xfrm>
              <a:prstGeom prst="line">
                <a:avLst/>
              </a:prstGeom>
              <a:ln w="38160">
                <a:solidFill>
                  <a:srgbClr val="e13f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5" name=""/>
              <p:cNvSpPr txBox="1"/>
              <p:nvPr/>
            </p:nvSpPr>
            <p:spPr>
              <a:xfrm>
                <a:off x="4282920" y="3427200"/>
                <a:ext cx="504720" cy="72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4282920" y="3716280"/>
              <a:ext cx="504720" cy="431640"/>
              <a:chOff x="4282920" y="3716280"/>
              <a:chExt cx="504720" cy="431640"/>
            </a:xfrm>
          </p:grpSpPr>
          <p:sp>
            <p:nvSpPr>
              <p:cNvPr id="1157" name="Line 10"/>
              <p:cNvSpPr/>
              <p:nvPr/>
            </p:nvSpPr>
            <p:spPr>
              <a:xfrm flipH="1">
                <a:off x="4282920" y="3716280"/>
                <a:ext cx="504720" cy="431640"/>
              </a:xfrm>
              <a:prstGeom prst="line">
                <a:avLst/>
              </a:prstGeom>
              <a:ln w="38160">
                <a:solidFill>
                  <a:srgbClr val="e13f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8" name=""/>
              <p:cNvSpPr txBox="1"/>
              <p:nvPr/>
            </p:nvSpPr>
            <p:spPr>
              <a:xfrm>
                <a:off x="4282920" y="3716280"/>
                <a:ext cx="50472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59" name=""/>
            <p:cNvGrpSpPr/>
            <p:nvPr/>
          </p:nvGrpSpPr>
          <p:grpSpPr>
            <a:xfrm>
              <a:off x="4282920" y="4003560"/>
              <a:ext cx="504720" cy="144360"/>
              <a:chOff x="4282920" y="4003560"/>
              <a:chExt cx="504720" cy="144360"/>
            </a:xfrm>
          </p:grpSpPr>
          <p:sp>
            <p:nvSpPr>
              <p:cNvPr id="1160" name="Line 11"/>
              <p:cNvSpPr/>
              <p:nvPr/>
            </p:nvSpPr>
            <p:spPr>
              <a:xfrm flipH="1">
                <a:off x="4282920" y="4003560"/>
                <a:ext cx="504720" cy="144360"/>
              </a:xfrm>
              <a:prstGeom prst="line">
                <a:avLst/>
              </a:prstGeom>
              <a:ln w="38160">
                <a:solidFill>
                  <a:srgbClr val="e13f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1" name=""/>
              <p:cNvSpPr txBox="1"/>
              <p:nvPr/>
            </p:nvSpPr>
            <p:spPr>
              <a:xfrm>
                <a:off x="4282920" y="4003560"/>
                <a:ext cx="504720" cy="14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4282920" y="4147920"/>
              <a:ext cx="504720" cy="216000"/>
              <a:chOff x="4282920" y="4147920"/>
              <a:chExt cx="504720" cy="216000"/>
            </a:xfrm>
          </p:grpSpPr>
          <p:sp>
            <p:nvSpPr>
              <p:cNvPr id="1163" name="Line 12"/>
              <p:cNvSpPr/>
              <p:nvPr/>
            </p:nvSpPr>
            <p:spPr>
              <a:xfrm flipH="1" flipV="1">
                <a:off x="4282920" y="4147920"/>
                <a:ext cx="504720" cy="216000"/>
              </a:xfrm>
              <a:prstGeom prst="line">
                <a:avLst/>
              </a:prstGeom>
              <a:ln w="38160">
                <a:solidFill>
                  <a:srgbClr val="e13f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4" name=""/>
              <p:cNvSpPr txBox="1"/>
              <p:nvPr/>
            </p:nvSpPr>
            <p:spPr>
              <a:xfrm rot="10800000">
                <a:off x="4282920" y="4147920"/>
                <a:ext cx="50472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165" name="Text Box 13"/>
          <p:cNvSpPr/>
          <p:nvPr/>
        </p:nvSpPr>
        <p:spPr>
          <a:xfrm>
            <a:off x="900000" y="155736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aa68"/>
                </a:solidFill>
                <a:latin typeface="Arial"/>
                <a:ea typeface="方正小标宋简体"/>
              </a:rPr>
              <a:t>一、清晰的可视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6" name="Text Box 14"/>
          <p:cNvSpPr/>
          <p:nvPr/>
        </p:nvSpPr>
        <p:spPr>
          <a:xfrm>
            <a:off x="2411280" y="38606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aa68"/>
                </a:solidFill>
                <a:latin typeface="Arial"/>
                <a:ea typeface="方正小标宋简体"/>
              </a:rPr>
              <a:t>捕捉镜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7" name="AutoShape 15"/>
          <p:cNvSpPr/>
          <p:nvPr/>
        </p:nvSpPr>
        <p:spPr>
          <a:xfrm>
            <a:off x="8244000" y="6093000"/>
            <a:ext cx="215640" cy="2156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68" name="Group 16"/>
          <p:cNvGrpSpPr/>
          <p:nvPr/>
        </p:nvGrpSpPr>
        <p:grpSpPr>
          <a:xfrm>
            <a:off x="7956720" y="-100080"/>
            <a:ext cx="1368360" cy="5761080"/>
            <a:chOff x="7956720" y="-100080"/>
            <a:chExt cx="1368360" cy="5761080"/>
          </a:xfrm>
        </p:grpSpPr>
        <p:sp>
          <p:nvSpPr>
            <p:cNvPr id="1169" name="Freeform 17"/>
            <p:cNvSpPr/>
            <p:nvPr/>
          </p:nvSpPr>
          <p:spPr>
            <a:xfrm>
              <a:off x="8101080" y="-100080"/>
              <a:ext cx="1224000" cy="5761080"/>
            </a:xfrm>
            <a:custGeom>
              <a:avLst/>
              <a:gdLst/>
              <a:ahLst/>
              <a:rect l="l" t="t" r="r" b="b"/>
              <a:pathLst>
                <a:path w="819" h="4451">
                  <a:moveTo>
                    <a:pt x="39" y="54"/>
                  </a:moveTo>
                  <a:cubicBezTo>
                    <a:pt x="46" y="91"/>
                    <a:pt x="56" y="122"/>
                    <a:pt x="67" y="157"/>
                  </a:cubicBezTo>
                  <a:cubicBezTo>
                    <a:pt x="63" y="175"/>
                    <a:pt x="33" y="234"/>
                    <a:pt x="58" y="250"/>
                  </a:cubicBezTo>
                  <a:cubicBezTo>
                    <a:pt x="79" y="264"/>
                    <a:pt x="108" y="260"/>
                    <a:pt x="132" y="268"/>
                  </a:cubicBezTo>
                  <a:cubicBezTo>
                    <a:pt x="129" y="290"/>
                    <a:pt x="133" y="313"/>
                    <a:pt x="123" y="333"/>
                  </a:cubicBezTo>
                  <a:cubicBezTo>
                    <a:pt x="118" y="342"/>
                    <a:pt x="12" y="361"/>
                    <a:pt x="11" y="361"/>
                  </a:cubicBezTo>
                  <a:cubicBezTo>
                    <a:pt x="24" y="509"/>
                    <a:pt x="0" y="493"/>
                    <a:pt x="141" y="510"/>
                  </a:cubicBezTo>
                  <a:cubicBezTo>
                    <a:pt x="150" y="513"/>
                    <a:pt x="165" y="510"/>
                    <a:pt x="169" y="519"/>
                  </a:cubicBezTo>
                  <a:cubicBezTo>
                    <a:pt x="185" y="557"/>
                    <a:pt x="151" y="559"/>
                    <a:pt x="132" y="565"/>
                  </a:cubicBezTo>
                  <a:cubicBezTo>
                    <a:pt x="129" y="574"/>
                    <a:pt x="121" y="583"/>
                    <a:pt x="123" y="593"/>
                  </a:cubicBezTo>
                  <a:cubicBezTo>
                    <a:pt x="125" y="604"/>
                    <a:pt x="137" y="611"/>
                    <a:pt x="141" y="621"/>
                  </a:cubicBezTo>
                  <a:cubicBezTo>
                    <a:pt x="149" y="639"/>
                    <a:pt x="154" y="658"/>
                    <a:pt x="160" y="677"/>
                  </a:cubicBezTo>
                  <a:cubicBezTo>
                    <a:pt x="166" y="696"/>
                    <a:pt x="178" y="733"/>
                    <a:pt x="178" y="733"/>
                  </a:cubicBezTo>
                  <a:cubicBezTo>
                    <a:pt x="169" y="742"/>
                    <a:pt x="161" y="753"/>
                    <a:pt x="150" y="760"/>
                  </a:cubicBezTo>
                  <a:cubicBezTo>
                    <a:pt x="121" y="779"/>
                    <a:pt x="106" y="758"/>
                    <a:pt x="150" y="788"/>
                  </a:cubicBezTo>
                  <a:cubicBezTo>
                    <a:pt x="147" y="801"/>
                    <a:pt x="149" y="816"/>
                    <a:pt x="141" y="826"/>
                  </a:cubicBezTo>
                  <a:cubicBezTo>
                    <a:pt x="135" y="834"/>
                    <a:pt x="117" y="826"/>
                    <a:pt x="113" y="835"/>
                  </a:cubicBezTo>
                  <a:cubicBezTo>
                    <a:pt x="69" y="933"/>
                    <a:pt x="153" y="901"/>
                    <a:pt x="48" y="918"/>
                  </a:cubicBezTo>
                  <a:cubicBezTo>
                    <a:pt x="130" y="973"/>
                    <a:pt x="72" y="1094"/>
                    <a:pt x="58" y="1179"/>
                  </a:cubicBezTo>
                  <a:cubicBezTo>
                    <a:pt x="61" y="1219"/>
                    <a:pt x="60" y="1260"/>
                    <a:pt x="67" y="1299"/>
                  </a:cubicBezTo>
                  <a:cubicBezTo>
                    <a:pt x="69" y="1310"/>
                    <a:pt x="82" y="1316"/>
                    <a:pt x="85" y="1327"/>
                  </a:cubicBezTo>
                  <a:cubicBezTo>
                    <a:pt x="92" y="1357"/>
                    <a:pt x="90" y="1389"/>
                    <a:pt x="95" y="1420"/>
                  </a:cubicBezTo>
                  <a:cubicBezTo>
                    <a:pt x="97" y="1433"/>
                    <a:pt x="101" y="1445"/>
                    <a:pt x="104" y="1457"/>
                  </a:cubicBezTo>
                  <a:cubicBezTo>
                    <a:pt x="98" y="1557"/>
                    <a:pt x="69" y="1693"/>
                    <a:pt x="132" y="1782"/>
                  </a:cubicBezTo>
                  <a:cubicBezTo>
                    <a:pt x="135" y="1795"/>
                    <a:pt x="133" y="1810"/>
                    <a:pt x="141" y="1820"/>
                  </a:cubicBezTo>
                  <a:cubicBezTo>
                    <a:pt x="147" y="1828"/>
                    <a:pt x="163" y="1821"/>
                    <a:pt x="169" y="1829"/>
                  </a:cubicBezTo>
                  <a:cubicBezTo>
                    <a:pt x="183" y="1847"/>
                    <a:pt x="180" y="1873"/>
                    <a:pt x="188" y="1894"/>
                  </a:cubicBezTo>
                  <a:cubicBezTo>
                    <a:pt x="159" y="2000"/>
                    <a:pt x="208" y="1862"/>
                    <a:pt x="132" y="1940"/>
                  </a:cubicBezTo>
                  <a:cubicBezTo>
                    <a:pt x="121" y="1951"/>
                    <a:pt x="126" y="1971"/>
                    <a:pt x="123" y="1987"/>
                  </a:cubicBezTo>
                  <a:cubicBezTo>
                    <a:pt x="130" y="2053"/>
                    <a:pt x="134" y="2085"/>
                    <a:pt x="113" y="2145"/>
                  </a:cubicBezTo>
                  <a:cubicBezTo>
                    <a:pt x="122" y="2151"/>
                    <a:pt x="134" y="2154"/>
                    <a:pt x="141" y="2163"/>
                  </a:cubicBezTo>
                  <a:cubicBezTo>
                    <a:pt x="160" y="2186"/>
                    <a:pt x="124" y="2281"/>
                    <a:pt x="113" y="2312"/>
                  </a:cubicBezTo>
                  <a:cubicBezTo>
                    <a:pt x="134" y="2405"/>
                    <a:pt x="142" y="2412"/>
                    <a:pt x="132" y="2507"/>
                  </a:cubicBezTo>
                  <a:cubicBezTo>
                    <a:pt x="108" y="2408"/>
                    <a:pt x="132" y="2532"/>
                    <a:pt x="132" y="2433"/>
                  </a:cubicBezTo>
                  <a:cubicBezTo>
                    <a:pt x="132" y="2423"/>
                    <a:pt x="126" y="2452"/>
                    <a:pt x="123" y="2461"/>
                  </a:cubicBezTo>
                  <a:cubicBezTo>
                    <a:pt x="120" y="2470"/>
                    <a:pt x="116" y="2479"/>
                    <a:pt x="113" y="2488"/>
                  </a:cubicBezTo>
                  <a:cubicBezTo>
                    <a:pt x="134" y="2641"/>
                    <a:pt x="86" y="2617"/>
                    <a:pt x="169" y="2637"/>
                  </a:cubicBezTo>
                  <a:cubicBezTo>
                    <a:pt x="181" y="2655"/>
                    <a:pt x="212" y="2686"/>
                    <a:pt x="178" y="2711"/>
                  </a:cubicBezTo>
                  <a:cubicBezTo>
                    <a:pt x="169" y="2718"/>
                    <a:pt x="159" y="2699"/>
                    <a:pt x="150" y="2693"/>
                  </a:cubicBezTo>
                  <a:cubicBezTo>
                    <a:pt x="153" y="2684"/>
                    <a:pt x="170" y="2665"/>
                    <a:pt x="160" y="2665"/>
                  </a:cubicBezTo>
                  <a:cubicBezTo>
                    <a:pt x="149" y="2665"/>
                    <a:pt x="143" y="2682"/>
                    <a:pt x="141" y="2693"/>
                  </a:cubicBezTo>
                  <a:cubicBezTo>
                    <a:pt x="139" y="2703"/>
                    <a:pt x="147" y="2712"/>
                    <a:pt x="150" y="2721"/>
                  </a:cubicBezTo>
                  <a:cubicBezTo>
                    <a:pt x="133" y="2791"/>
                    <a:pt x="74" y="2906"/>
                    <a:pt x="160" y="2934"/>
                  </a:cubicBezTo>
                  <a:cubicBezTo>
                    <a:pt x="169" y="2943"/>
                    <a:pt x="184" y="2949"/>
                    <a:pt x="188" y="2962"/>
                  </a:cubicBezTo>
                  <a:cubicBezTo>
                    <a:pt x="193" y="2980"/>
                    <a:pt x="143" y="3065"/>
                    <a:pt x="132" y="3083"/>
                  </a:cubicBezTo>
                  <a:cubicBezTo>
                    <a:pt x="135" y="3099"/>
                    <a:pt x="135" y="3115"/>
                    <a:pt x="141" y="3130"/>
                  </a:cubicBezTo>
                  <a:cubicBezTo>
                    <a:pt x="145" y="3140"/>
                    <a:pt x="159" y="3146"/>
                    <a:pt x="160" y="3157"/>
                  </a:cubicBezTo>
                  <a:cubicBezTo>
                    <a:pt x="162" y="3171"/>
                    <a:pt x="146" y="3215"/>
                    <a:pt x="141" y="3232"/>
                  </a:cubicBezTo>
                  <a:cubicBezTo>
                    <a:pt x="150" y="3238"/>
                    <a:pt x="167" y="3239"/>
                    <a:pt x="169" y="3250"/>
                  </a:cubicBezTo>
                  <a:cubicBezTo>
                    <a:pt x="181" y="3323"/>
                    <a:pt x="146" y="3421"/>
                    <a:pt x="123" y="3492"/>
                  </a:cubicBezTo>
                  <a:cubicBezTo>
                    <a:pt x="126" y="3514"/>
                    <a:pt x="124" y="3537"/>
                    <a:pt x="132" y="3557"/>
                  </a:cubicBezTo>
                  <a:cubicBezTo>
                    <a:pt x="137" y="3569"/>
                    <a:pt x="153" y="3574"/>
                    <a:pt x="160" y="3585"/>
                  </a:cubicBezTo>
                  <a:cubicBezTo>
                    <a:pt x="166" y="3596"/>
                    <a:pt x="166" y="3610"/>
                    <a:pt x="169" y="3622"/>
                  </a:cubicBezTo>
                  <a:cubicBezTo>
                    <a:pt x="166" y="3744"/>
                    <a:pt x="238" y="3946"/>
                    <a:pt x="123" y="3984"/>
                  </a:cubicBezTo>
                  <a:cubicBezTo>
                    <a:pt x="106" y="4032"/>
                    <a:pt x="133" y="4029"/>
                    <a:pt x="160" y="4068"/>
                  </a:cubicBezTo>
                  <a:cubicBezTo>
                    <a:pt x="180" y="4129"/>
                    <a:pt x="190" y="4176"/>
                    <a:pt x="150" y="4235"/>
                  </a:cubicBezTo>
                  <a:cubicBezTo>
                    <a:pt x="153" y="4300"/>
                    <a:pt x="138" y="4369"/>
                    <a:pt x="160" y="4430"/>
                  </a:cubicBezTo>
                  <a:cubicBezTo>
                    <a:pt x="168" y="4451"/>
                    <a:pt x="203" y="4439"/>
                    <a:pt x="225" y="4439"/>
                  </a:cubicBezTo>
                  <a:cubicBezTo>
                    <a:pt x="414" y="4439"/>
                    <a:pt x="602" y="4433"/>
                    <a:pt x="791" y="4430"/>
                  </a:cubicBezTo>
                  <a:cubicBezTo>
                    <a:pt x="769" y="4225"/>
                    <a:pt x="795" y="4021"/>
                    <a:pt x="810" y="3817"/>
                  </a:cubicBezTo>
                  <a:cubicBezTo>
                    <a:pt x="773" y="3253"/>
                    <a:pt x="809" y="2682"/>
                    <a:pt x="819" y="2117"/>
                  </a:cubicBezTo>
                  <a:cubicBezTo>
                    <a:pt x="811" y="1822"/>
                    <a:pt x="816" y="1813"/>
                    <a:pt x="764" y="1597"/>
                  </a:cubicBezTo>
                  <a:cubicBezTo>
                    <a:pt x="753" y="1488"/>
                    <a:pt x="760" y="1388"/>
                    <a:pt x="810" y="1290"/>
                  </a:cubicBezTo>
                  <a:cubicBezTo>
                    <a:pt x="804" y="878"/>
                    <a:pt x="812" y="465"/>
                    <a:pt x="791" y="54"/>
                  </a:cubicBezTo>
                  <a:cubicBezTo>
                    <a:pt x="790" y="38"/>
                    <a:pt x="760" y="48"/>
                    <a:pt x="745" y="45"/>
                  </a:cubicBezTo>
                  <a:cubicBezTo>
                    <a:pt x="723" y="40"/>
                    <a:pt x="702" y="28"/>
                    <a:pt x="680" y="27"/>
                  </a:cubicBezTo>
                  <a:cubicBezTo>
                    <a:pt x="497" y="21"/>
                    <a:pt x="315" y="20"/>
                    <a:pt x="132" y="17"/>
                  </a:cubicBezTo>
                  <a:cubicBezTo>
                    <a:pt x="39" y="28"/>
                    <a:pt x="57" y="0"/>
                    <a:pt x="39" y="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2aa68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170" name="Picture 18" descr="j0217698"/>
            <p:cNvPicPr/>
            <p:nvPr/>
          </p:nvPicPr>
          <p:blipFill>
            <a:blip r:embed="rId1"/>
            <a:stretch/>
          </p:blipFill>
          <p:spPr>
            <a:xfrm>
              <a:off x="7956720" y="1052640"/>
              <a:ext cx="792000" cy="766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1" name="文本框 8197"/>
          <p:cNvSpPr/>
          <p:nvPr/>
        </p:nvSpPr>
        <p:spPr>
          <a:xfrm>
            <a:off x="1114560" y="9810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ebf25a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153" dur="indefinite" restart="never" nodeType="tmRoot">
          <p:childTnLst>
            <p:seq>
              <p:cTn id="154" restart="whenNotActive" nodeType="interactiveSeq" fill="hold">
                <p:stCondLst>
                  <p:cond evt="onClick">
                    <p:tgtEl>
                      <p:spTgt spid="1165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165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1166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1166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evt="onClick">
                          <p:tgtEl>
                            <p:spTgt spid="1166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evt="onClick">
                          <p:tgtEl>
                            <p:spTgt spid="1166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evt="onClick">
                          <p:tgtEl>
                            <p:spTgt spid="1166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evt="onClick">
                          <p:tgtEl>
                            <p:spTgt spid="1166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evt="onClick">
                          <p:tgtEl>
                            <p:spTgt spid="1166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Text Box 2"/>
          <p:cNvSpPr/>
          <p:nvPr/>
        </p:nvSpPr>
        <p:spPr>
          <a:xfrm>
            <a:off x="2124000" y="2924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方正小标宋简体"/>
              </a:rPr>
              <a:t>环境音响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3" name="Text Box 3"/>
          <p:cNvSpPr/>
          <p:nvPr/>
        </p:nvSpPr>
        <p:spPr>
          <a:xfrm>
            <a:off x="2839320" y="1773360"/>
            <a:ext cx="254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aa68"/>
                </a:solidFill>
                <a:latin typeface="Arial"/>
                <a:ea typeface="方正小标宋简体"/>
              </a:rPr>
              <a:t>二、生动的可听性</a:t>
            </a:r>
            <a:r>
              <a:rPr b="1" lang="en-US" sz="2800" spc="-1" strike="noStrike">
                <a:solidFill>
                  <a:srgbClr val="f2aa68"/>
                </a:solidFill>
                <a:latin typeface="Arial"/>
                <a:ea typeface="方正小标宋简体"/>
              </a:rPr>
              <a:t>(</a:t>
            </a:r>
            <a:r>
              <a:rPr b="1" lang="zh-CN" sz="2800" spc="-1" strike="noStrike">
                <a:solidFill>
                  <a:srgbClr val="f2aa68"/>
                </a:solidFill>
                <a:latin typeface="Arial"/>
                <a:ea typeface="方正小标宋简体"/>
              </a:rPr>
              <a:t>环境描写烘托气氛</a:t>
            </a:r>
            <a:r>
              <a:rPr b="1" lang="en-US" sz="2800" spc="-1" strike="noStrike">
                <a:solidFill>
                  <a:srgbClr val="f2aa68"/>
                </a:solidFill>
                <a:latin typeface="Arial"/>
                <a:ea typeface="方正小标宋简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4" name="Text Box 4"/>
          <p:cNvSpPr/>
          <p:nvPr/>
        </p:nvSpPr>
        <p:spPr>
          <a:xfrm>
            <a:off x="1908000" y="370188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方正小标宋简体"/>
              </a:rPr>
              <a:t>旗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5" name="Text Box 5"/>
          <p:cNvSpPr/>
          <p:nvPr/>
        </p:nvSpPr>
        <p:spPr>
          <a:xfrm>
            <a:off x="3348000" y="3716280"/>
            <a:ext cx="136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方正小标宋简体"/>
              </a:rPr>
              <a:t>雨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6" name="Text Box 6"/>
          <p:cNvSpPr/>
          <p:nvPr/>
        </p:nvSpPr>
        <p:spPr>
          <a:xfrm>
            <a:off x="4572000" y="3716280"/>
            <a:ext cx="190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方正小标宋简体"/>
              </a:rPr>
              <a:t>讲话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7" name="Text Box 7"/>
          <p:cNvSpPr/>
          <p:nvPr/>
        </p:nvSpPr>
        <p:spPr>
          <a:xfrm>
            <a:off x="6124680" y="3716280"/>
            <a:ext cx="190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方正小标宋简体"/>
              </a:rPr>
              <a:t>乐曲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8" name="AutoShape 8"/>
          <p:cNvSpPr/>
          <p:nvPr/>
        </p:nvSpPr>
        <p:spPr>
          <a:xfrm>
            <a:off x="8244000" y="6093000"/>
            <a:ext cx="215640" cy="2156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79" name="Group 9"/>
          <p:cNvGrpSpPr/>
          <p:nvPr/>
        </p:nvGrpSpPr>
        <p:grpSpPr>
          <a:xfrm>
            <a:off x="7956720" y="-100080"/>
            <a:ext cx="1368360" cy="5761080"/>
            <a:chOff x="7956720" y="-100080"/>
            <a:chExt cx="1368360" cy="5761080"/>
          </a:xfrm>
        </p:grpSpPr>
        <p:sp>
          <p:nvSpPr>
            <p:cNvPr id="1180" name="Freeform 10"/>
            <p:cNvSpPr/>
            <p:nvPr/>
          </p:nvSpPr>
          <p:spPr>
            <a:xfrm>
              <a:off x="8101080" y="-100080"/>
              <a:ext cx="1224000" cy="5761080"/>
            </a:xfrm>
            <a:custGeom>
              <a:avLst/>
              <a:gdLst/>
              <a:ahLst/>
              <a:rect l="l" t="t" r="r" b="b"/>
              <a:pathLst>
                <a:path w="819" h="4451">
                  <a:moveTo>
                    <a:pt x="39" y="54"/>
                  </a:moveTo>
                  <a:cubicBezTo>
                    <a:pt x="46" y="91"/>
                    <a:pt x="56" y="122"/>
                    <a:pt x="67" y="157"/>
                  </a:cubicBezTo>
                  <a:cubicBezTo>
                    <a:pt x="63" y="175"/>
                    <a:pt x="33" y="234"/>
                    <a:pt x="58" y="250"/>
                  </a:cubicBezTo>
                  <a:cubicBezTo>
                    <a:pt x="79" y="264"/>
                    <a:pt x="108" y="260"/>
                    <a:pt x="132" y="268"/>
                  </a:cubicBezTo>
                  <a:cubicBezTo>
                    <a:pt x="129" y="290"/>
                    <a:pt x="133" y="313"/>
                    <a:pt x="123" y="333"/>
                  </a:cubicBezTo>
                  <a:cubicBezTo>
                    <a:pt x="118" y="342"/>
                    <a:pt x="12" y="361"/>
                    <a:pt x="11" y="361"/>
                  </a:cubicBezTo>
                  <a:cubicBezTo>
                    <a:pt x="24" y="509"/>
                    <a:pt x="0" y="493"/>
                    <a:pt x="141" y="510"/>
                  </a:cubicBezTo>
                  <a:cubicBezTo>
                    <a:pt x="150" y="513"/>
                    <a:pt x="165" y="510"/>
                    <a:pt x="169" y="519"/>
                  </a:cubicBezTo>
                  <a:cubicBezTo>
                    <a:pt x="185" y="557"/>
                    <a:pt x="151" y="559"/>
                    <a:pt x="132" y="565"/>
                  </a:cubicBezTo>
                  <a:cubicBezTo>
                    <a:pt x="129" y="574"/>
                    <a:pt x="121" y="583"/>
                    <a:pt x="123" y="593"/>
                  </a:cubicBezTo>
                  <a:cubicBezTo>
                    <a:pt x="125" y="604"/>
                    <a:pt x="137" y="611"/>
                    <a:pt x="141" y="621"/>
                  </a:cubicBezTo>
                  <a:cubicBezTo>
                    <a:pt x="149" y="639"/>
                    <a:pt x="154" y="658"/>
                    <a:pt x="160" y="677"/>
                  </a:cubicBezTo>
                  <a:cubicBezTo>
                    <a:pt x="166" y="696"/>
                    <a:pt x="178" y="733"/>
                    <a:pt x="178" y="733"/>
                  </a:cubicBezTo>
                  <a:cubicBezTo>
                    <a:pt x="169" y="742"/>
                    <a:pt x="161" y="753"/>
                    <a:pt x="150" y="760"/>
                  </a:cubicBezTo>
                  <a:cubicBezTo>
                    <a:pt x="121" y="779"/>
                    <a:pt x="106" y="758"/>
                    <a:pt x="150" y="788"/>
                  </a:cubicBezTo>
                  <a:cubicBezTo>
                    <a:pt x="147" y="801"/>
                    <a:pt x="149" y="816"/>
                    <a:pt x="141" y="826"/>
                  </a:cubicBezTo>
                  <a:cubicBezTo>
                    <a:pt x="135" y="834"/>
                    <a:pt x="117" y="826"/>
                    <a:pt x="113" y="835"/>
                  </a:cubicBezTo>
                  <a:cubicBezTo>
                    <a:pt x="69" y="933"/>
                    <a:pt x="153" y="901"/>
                    <a:pt x="48" y="918"/>
                  </a:cubicBezTo>
                  <a:cubicBezTo>
                    <a:pt x="130" y="973"/>
                    <a:pt x="72" y="1094"/>
                    <a:pt x="58" y="1179"/>
                  </a:cubicBezTo>
                  <a:cubicBezTo>
                    <a:pt x="61" y="1219"/>
                    <a:pt x="60" y="1260"/>
                    <a:pt x="67" y="1299"/>
                  </a:cubicBezTo>
                  <a:cubicBezTo>
                    <a:pt x="69" y="1310"/>
                    <a:pt x="82" y="1316"/>
                    <a:pt x="85" y="1327"/>
                  </a:cubicBezTo>
                  <a:cubicBezTo>
                    <a:pt x="92" y="1357"/>
                    <a:pt x="90" y="1389"/>
                    <a:pt x="95" y="1420"/>
                  </a:cubicBezTo>
                  <a:cubicBezTo>
                    <a:pt x="97" y="1433"/>
                    <a:pt x="101" y="1445"/>
                    <a:pt x="104" y="1457"/>
                  </a:cubicBezTo>
                  <a:cubicBezTo>
                    <a:pt x="98" y="1557"/>
                    <a:pt x="69" y="1693"/>
                    <a:pt x="132" y="1782"/>
                  </a:cubicBezTo>
                  <a:cubicBezTo>
                    <a:pt x="135" y="1795"/>
                    <a:pt x="133" y="1810"/>
                    <a:pt x="141" y="1820"/>
                  </a:cubicBezTo>
                  <a:cubicBezTo>
                    <a:pt x="147" y="1828"/>
                    <a:pt x="163" y="1821"/>
                    <a:pt x="169" y="1829"/>
                  </a:cubicBezTo>
                  <a:cubicBezTo>
                    <a:pt x="183" y="1847"/>
                    <a:pt x="180" y="1873"/>
                    <a:pt x="188" y="1894"/>
                  </a:cubicBezTo>
                  <a:cubicBezTo>
                    <a:pt x="159" y="2000"/>
                    <a:pt x="208" y="1862"/>
                    <a:pt x="132" y="1940"/>
                  </a:cubicBezTo>
                  <a:cubicBezTo>
                    <a:pt x="121" y="1951"/>
                    <a:pt x="126" y="1971"/>
                    <a:pt x="123" y="1987"/>
                  </a:cubicBezTo>
                  <a:cubicBezTo>
                    <a:pt x="130" y="2053"/>
                    <a:pt x="134" y="2085"/>
                    <a:pt x="113" y="2145"/>
                  </a:cubicBezTo>
                  <a:cubicBezTo>
                    <a:pt x="122" y="2151"/>
                    <a:pt x="134" y="2154"/>
                    <a:pt x="141" y="2163"/>
                  </a:cubicBezTo>
                  <a:cubicBezTo>
                    <a:pt x="160" y="2186"/>
                    <a:pt x="124" y="2281"/>
                    <a:pt x="113" y="2312"/>
                  </a:cubicBezTo>
                  <a:cubicBezTo>
                    <a:pt x="134" y="2405"/>
                    <a:pt x="142" y="2412"/>
                    <a:pt x="132" y="2507"/>
                  </a:cubicBezTo>
                  <a:cubicBezTo>
                    <a:pt x="108" y="2408"/>
                    <a:pt x="132" y="2532"/>
                    <a:pt x="132" y="2433"/>
                  </a:cubicBezTo>
                  <a:cubicBezTo>
                    <a:pt x="132" y="2423"/>
                    <a:pt x="126" y="2452"/>
                    <a:pt x="123" y="2461"/>
                  </a:cubicBezTo>
                  <a:cubicBezTo>
                    <a:pt x="120" y="2470"/>
                    <a:pt x="116" y="2479"/>
                    <a:pt x="113" y="2488"/>
                  </a:cubicBezTo>
                  <a:cubicBezTo>
                    <a:pt x="134" y="2641"/>
                    <a:pt x="86" y="2617"/>
                    <a:pt x="169" y="2637"/>
                  </a:cubicBezTo>
                  <a:cubicBezTo>
                    <a:pt x="181" y="2655"/>
                    <a:pt x="212" y="2686"/>
                    <a:pt x="178" y="2711"/>
                  </a:cubicBezTo>
                  <a:cubicBezTo>
                    <a:pt x="169" y="2718"/>
                    <a:pt x="159" y="2699"/>
                    <a:pt x="150" y="2693"/>
                  </a:cubicBezTo>
                  <a:cubicBezTo>
                    <a:pt x="153" y="2684"/>
                    <a:pt x="170" y="2665"/>
                    <a:pt x="160" y="2665"/>
                  </a:cubicBezTo>
                  <a:cubicBezTo>
                    <a:pt x="149" y="2665"/>
                    <a:pt x="143" y="2682"/>
                    <a:pt x="141" y="2693"/>
                  </a:cubicBezTo>
                  <a:cubicBezTo>
                    <a:pt x="139" y="2703"/>
                    <a:pt x="147" y="2712"/>
                    <a:pt x="150" y="2721"/>
                  </a:cubicBezTo>
                  <a:cubicBezTo>
                    <a:pt x="133" y="2791"/>
                    <a:pt x="74" y="2906"/>
                    <a:pt x="160" y="2934"/>
                  </a:cubicBezTo>
                  <a:cubicBezTo>
                    <a:pt x="169" y="2943"/>
                    <a:pt x="184" y="2949"/>
                    <a:pt x="188" y="2962"/>
                  </a:cubicBezTo>
                  <a:cubicBezTo>
                    <a:pt x="193" y="2980"/>
                    <a:pt x="143" y="3065"/>
                    <a:pt x="132" y="3083"/>
                  </a:cubicBezTo>
                  <a:cubicBezTo>
                    <a:pt x="135" y="3099"/>
                    <a:pt x="135" y="3115"/>
                    <a:pt x="141" y="3130"/>
                  </a:cubicBezTo>
                  <a:cubicBezTo>
                    <a:pt x="145" y="3140"/>
                    <a:pt x="159" y="3146"/>
                    <a:pt x="160" y="3157"/>
                  </a:cubicBezTo>
                  <a:cubicBezTo>
                    <a:pt x="162" y="3171"/>
                    <a:pt x="146" y="3215"/>
                    <a:pt x="141" y="3232"/>
                  </a:cubicBezTo>
                  <a:cubicBezTo>
                    <a:pt x="150" y="3238"/>
                    <a:pt x="167" y="3239"/>
                    <a:pt x="169" y="3250"/>
                  </a:cubicBezTo>
                  <a:cubicBezTo>
                    <a:pt x="181" y="3323"/>
                    <a:pt x="146" y="3421"/>
                    <a:pt x="123" y="3492"/>
                  </a:cubicBezTo>
                  <a:cubicBezTo>
                    <a:pt x="126" y="3514"/>
                    <a:pt x="124" y="3537"/>
                    <a:pt x="132" y="3557"/>
                  </a:cubicBezTo>
                  <a:cubicBezTo>
                    <a:pt x="137" y="3569"/>
                    <a:pt x="153" y="3574"/>
                    <a:pt x="160" y="3585"/>
                  </a:cubicBezTo>
                  <a:cubicBezTo>
                    <a:pt x="166" y="3596"/>
                    <a:pt x="166" y="3610"/>
                    <a:pt x="169" y="3622"/>
                  </a:cubicBezTo>
                  <a:cubicBezTo>
                    <a:pt x="166" y="3744"/>
                    <a:pt x="238" y="3946"/>
                    <a:pt x="123" y="3984"/>
                  </a:cubicBezTo>
                  <a:cubicBezTo>
                    <a:pt x="106" y="4032"/>
                    <a:pt x="133" y="4029"/>
                    <a:pt x="160" y="4068"/>
                  </a:cubicBezTo>
                  <a:cubicBezTo>
                    <a:pt x="180" y="4129"/>
                    <a:pt x="190" y="4176"/>
                    <a:pt x="150" y="4235"/>
                  </a:cubicBezTo>
                  <a:cubicBezTo>
                    <a:pt x="153" y="4300"/>
                    <a:pt x="138" y="4369"/>
                    <a:pt x="160" y="4430"/>
                  </a:cubicBezTo>
                  <a:cubicBezTo>
                    <a:pt x="168" y="4451"/>
                    <a:pt x="203" y="4439"/>
                    <a:pt x="225" y="4439"/>
                  </a:cubicBezTo>
                  <a:cubicBezTo>
                    <a:pt x="414" y="4439"/>
                    <a:pt x="602" y="4433"/>
                    <a:pt x="791" y="4430"/>
                  </a:cubicBezTo>
                  <a:cubicBezTo>
                    <a:pt x="769" y="4225"/>
                    <a:pt x="795" y="4021"/>
                    <a:pt x="810" y="3817"/>
                  </a:cubicBezTo>
                  <a:cubicBezTo>
                    <a:pt x="773" y="3253"/>
                    <a:pt x="809" y="2682"/>
                    <a:pt x="819" y="2117"/>
                  </a:cubicBezTo>
                  <a:cubicBezTo>
                    <a:pt x="811" y="1822"/>
                    <a:pt x="816" y="1813"/>
                    <a:pt x="764" y="1597"/>
                  </a:cubicBezTo>
                  <a:cubicBezTo>
                    <a:pt x="753" y="1488"/>
                    <a:pt x="760" y="1388"/>
                    <a:pt x="810" y="1290"/>
                  </a:cubicBezTo>
                  <a:cubicBezTo>
                    <a:pt x="804" y="878"/>
                    <a:pt x="812" y="465"/>
                    <a:pt x="791" y="54"/>
                  </a:cubicBezTo>
                  <a:cubicBezTo>
                    <a:pt x="790" y="38"/>
                    <a:pt x="760" y="48"/>
                    <a:pt x="745" y="45"/>
                  </a:cubicBezTo>
                  <a:cubicBezTo>
                    <a:pt x="723" y="40"/>
                    <a:pt x="702" y="28"/>
                    <a:pt x="680" y="27"/>
                  </a:cubicBezTo>
                  <a:cubicBezTo>
                    <a:pt x="497" y="21"/>
                    <a:pt x="315" y="20"/>
                    <a:pt x="132" y="17"/>
                  </a:cubicBezTo>
                  <a:cubicBezTo>
                    <a:pt x="39" y="28"/>
                    <a:pt x="57" y="0"/>
                    <a:pt x="39" y="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2aa68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181" name="Picture 11" descr="j0217698"/>
            <p:cNvPicPr/>
            <p:nvPr/>
          </p:nvPicPr>
          <p:blipFill>
            <a:blip r:embed="rId1"/>
            <a:stretch/>
          </p:blipFill>
          <p:spPr>
            <a:xfrm>
              <a:off x="7956720" y="1052640"/>
              <a:ext cx="792000" cy="766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vert"/>
  </p:transition>
  <p:timing>
    <p:tnLst>
      <p:par>
        <p:cTn id="191" dur="indefinite" restart="never" nodeType="tmRoot">
          <p:childTnLst>
            <p:seq>
              <p:cTn id="192" restart="whenNotActive" nodeType="interactiveSeq" fill="hold">
                <p:stCondLst>
                  <p:cond evt="onClick">
                    <p:tgtEl>
                      <p:spTgt spid="1173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1173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172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172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Text Box 2"/>
          <p:cNvSpPr/>
          <p:nvPr/>
        </p:nvSpPr>
        <p:spPr>
          <a:xfrm>
            <a:off x="900000" y="1341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aa68"/>
                </a:solidFill>
                <a:latin typeface="Arial"/>
                <a:ea typeface="方正小标宋简体"/>
              </a:rPr>
              <a:t>三、清新强烈的动态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3" name="Text Box 3"/>
          <p:cNvSpPr/>
          <p:nvPr/>
        </p:nvSpPr>
        <p:spPr>
          <a:xfrm>
            <a:off x="1835280" y="242100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方正小标宋简体"/>
              </a:rPr>
              <a:t>背景与现场对比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4" name="AutoShape 4"/>
          <p:cNvSpPr/>
          <p:nvPr/>
        </p:nvSpPr>
        <p:spPr>
          <a:xfrm>
            <a:off x="8244000" y="6093000"/>
            <a:ext cx="215640" cy="2156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5" name="Text Box 5"/>
          <p:cNvSpPr/>
          <p:nvPr/>
        </p:nvSpPr>
        <p:spPr>
          <a:xfrm>
            <a:off x="1979640" y="3284640"/>
            <a:ext cx="32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aa68"/>
                </a:solidFill>
                <a:latin typeface="Arial"/>
                <a:ea typeface="方正小标宋简体"/>
              </a:rPr>
              <a:t>米字旗插上港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6" name="Text Box 6"/>
          <p:cNvSpPr/>
          <p:nvPr/>
        </p:nvSpPr>
        <p:spPr>
          <a:xfrm>
            <a:off x="1979640" y="39337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方正小标宋简体"/>
              </a:rPr>
              <a:t>五星红旗在香港升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7" name="Text Box 7"/>
          <p:cNvSpPr/>
          <p:nvPr/>
        </p:nvSpPr>
        <p:spPr>
          <a:xfrm>
            <a:off x="2031840" y="4714920"/>
            <a:ext cx="37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aa68"/>
                </a:solidFill>
                <a:latin typeface="Arial"/>
                <a:ea typeface="方正小标宋简体"/>
              </a:rPr>
              <a:t>大英帝国从海上来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8" name="Text Box 8"/>
          <p:cNvSpPr/>
          <p:nvPr/>
        </p:nvSpPr>
        <p:spPr>
          <a:xfrm>
            <a:off x="2031840" y="5291280"/>
            <a:ext cx="24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方正小标宋简体"/>
              </a:rPr>
              <a:t>又从海上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AutoShape 9"/>
          <p:cNvSpPr/>
          <p:nvPr/>
        </p:nvSpPr>
        <p:spPr>
          <a:xfrm>
            <a:off x="1187280" y="3500280"/>
            <a:ext cx="576360" cy="865440"/>
          </a:xfrm>
          <a:custGeom>
            <a:avLst/>
            <a:gdLst>
              <a:gd name="textAreaLeft" fmla="*/ 77040 w 576360"/>
              <a:gd name="textAreaRight" fmla="*/ 499320 w 576360"/>
              <a:gd name="textAreaTop" fmla="*/ 151200 h 865440"/>
              <a:gd name="textAreaBottom" fmla="*/ 627480 h 8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3175"/>
                <a:lnTo>
                  <a:pt x="14402" y="21168"/>
                </a:lnTo>
                <a:lnTo>
                  <a:pt x="21600" y="17280"/>
                </a:lnTo>
                <a:lnTo>
                  <a:pt x="14402" y="12528"/>
                </a:lnTo>
                <a:lnTo>
                  <a:pt x="14402" y="14688"/>
                </a:lnTo>
                <a:arcTo wR="21600" hR="7560" stAng="8116825" swAng="2325740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0" name="AutoShape 10"/>
          <p:cNvSpPr/>
          <p:nvPr/>
        </p:nvSpPr>
        <p:spPr>
          <a:xfrm>
            <a:off x="1187280" y="4869000"/>
            <a:ext cx="576360" cy="865080"/>
          </a:xfrm>
          <a:custGeom>
            <a:avLst/>
            <a:gdLst>
              <a:gd name="textAreaLeft" fmla="*/ 77040 w 576360"/>
              <a:gd name="textAreaRight" fmla="*/ 499320 w 576360"/>
              <a:gd name="textAreaTop" fmla="*/ 151200 h 865080"/>
              <a:gd name="textAreaBottom" fmla="*/ 62712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3175"/>
                <a:lnTo>
                  <a:pt x="14402" y="21168"/>
                </a:lnTo>
                <a:lnTo>
                  <a:pt x="21600" y="17280"/>
                </a:lnTo>
                <a:lnTo>
                  <a:pt x="14402" y="12528"/>
                </a:lnTo>
                <a:lnTo>
                  <a:pt x="14402" y="14688"/>
                </a:lnTo>
                <a:arcTo wR="21600" hR="7560" stAng="8116825" swAng="2325740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91" name="Group 11"/>
          <p:cNvGrpSpPr/>
          <p:nvPr/>
        </p:nvGrpSpPr>
        <p:grpSpPr>
          <a:xfrm>
            <a:off x="7956720" y="-100080"/>
            <a:ext cx="1368360" cy="5761080"/>
            <a:chOff x="7956720" y="-100080"/>
            <a:chExt cx="1368360" cy="5761080"/>
          </a:xfrm>
        </p:grpSpPr>
        <p:sp>
          <p:nvSpPr>
            <p:cNvPr id="1192" name="Freeform 12"/>
            <p:cNvSpPr/>
            <p:nvPr/>
          </p:nvSpPr>
          <p:spPr>
            <a:xfrm>
              <a:off x="8101080" y="-100080"/>
              <a:ext cx="1224000" cy="5761080"/>
            </a:xfrm>
            <a:custGeom>
              <a:avLst/>
              <a:gdLst/>
              <a:ahLst/>
              <a:rect l="l" t="t" r="r" b="b"/>
              <a:pathLst>
                <a:path w="819" h="4451">
                  <a:moveTo>
                    <a:pt x="39" y="54"/>
                  </a:moveTo>
                  <a:cubicBezTo>
                    <a:pt x="46" y="91"/>
                    <a:pt x="56" y="122"/>
                    <a:pt x="67" y="157"/>
                  </a:cubicBezTo>
                  <a:cubicBezTo>
                    <a:pt x="63" y="175"/>
                    <a:pt x="33" y="234"/>
                    <a:pt x="58" y="250"/>
                  </a:cubicBezTo>
                  <a:cubicBezTo>
                    <a:pt x="79" y="264"/>
                    <a:pt x="108" y="260"/>
                    <a:pt x="132" y="268"/>
                  </a:cubicBezTo>
                  <a:cubicBezTo>
                    <a:pt x="129" y="290"/>
                    <a:pt x="133" y="313"/>
                    <a:pt x="123" y="333"/>
                  </a:cubicBezTo>
                  <a:cubicBezTo>
                    <a:pt x="118" y="342"/>
                    <a:pt x="12" y="361"/>
                    <a:pt x="11" y="361"/>
                  </a:cubicBezTo>
                  <a:cubicBezTo>
                    <a:pt x="24" y="509"/>
                    <a:pt x="0" y="493"/>
                    <a:pt x="141" y="510"/>
                  </a:cubicBezTo>
                  <a:cubicBezTo>
                    <a:pt x="150" y="513"/>
                    <a:pt x="165" y="510"/>
                    <a:pt x="169" y="519"/>
                  </a:cubicBezTo>
                  <a:cubicBezTo>
                    <a:pt x="185" y="557"/>
                    <a:pt x="151" y="559"/>
                    <a:pt x="132" y="565"/>
                  </a:cubicBezTo>
                  <a:cubicBezTo>
                    <a:pt x="129" y="574"/>
                    <a:pt x="121" y="583"/>
                    <a:pt x="123" y="593"/>
                  </a:cubicBezTo>
                  <a:cubicBezTo>
                    <a:pt x="125" y="604"/>
                    <a:pt x="137" y="611"/>
                    <a:pt x="141" y="621"/>
                  </a:cubicBezTo>
                  <a:cubicBezTo>
                    <a:pt x="149" y="639"/>
                    <a:pt x="154" y="658"/>
                    <a:pt x="160" y="677"/>
                  </a:cubicBezTo>
                  <a:cubicBezTo>
                    <a:pt x="166" y="696"/>
                    <a:pt x="178" y="733"/>
                    <a:pt x="178" y="733"/>
                  </a:cubicBezTo>
                  <a:cubicBezTo>
                    <a:pt x="169" y="742"/>
                    <a:pt x="161" y="753"/>
                    <a:pt x="150" y="760"/>
                  </a:cubicBezTo>
                  <a:cubicBezTo>
                    <a:pt x="121" y="779"/>
                    <a:pt x="106" y="758"/>
                    <a:pt x="150" y="788"/>
                  </a:cubicBezTo>
                  <a:cubicBezTo>
                    <a:pt x="147" y="801"/>
                    <a:pt x="149" y="816"/>
                    <a:pt x="141" y="826"/>
                  </a:cubicBezTo>
                  <a:cubicBezTo>
                    <a:pt x="135" y="834"/>
                    <a:pt x="117" y="826"/>
                    <a:pt x="113" y="835"/>
                  </a:cubicBezTo>
                  <a:cubicBezTo>
                    <a:pt x="69" y="933"/>
                    <a:pt x="153" y="901"/>
                    <a:pt x="48" y="918"/>
                  </a:cubicBezTo>
                  <a:cubicBezTo>
                    <a:pt x="130" y="973"/>
                    <a:pt x="72" y="1094"/>
                    <a:pt x="58" y="1179"/>
                  </a:cubicBezTo>
                  <a:cubicBezTo>
                    <a:pt x="61" y="1219"/>
                    <a:pt x="60" y="1260"/>
                    <a:pt x="67" y="1299"/>
                  </a:cubicBezTo>
                  <a:cubicBezTo>
                    <a:pt x="69" y="1310"/>
                    <a:pt x="82" y="1316"/>
                    <a:pt x="85" y="1327"/>
                  </a:cubicBezTo>
                  <a:cubicBezTo>
                    <a:pt x="92" y="1357"/>
                    <a:pt x="90" y="1389"/>
                    <a:pt x="95" y="1420"/>
                  </a:cubicBezTo>
                  <a:cubicBezTo>
                    <a:pt x="97" y="1433"/>
                    <a:pt x="101" y="1445"/>
                    <a:pt x="104" y="1457"/>
                  </a:cubicBezTo>
                  <a:cubicBezTo>
                    <a:pt x="98" y="1557"/>
                    <a:pt x="69" y="1693"/>
                    <a:pt x="132" y="1782"/>
                  </a:cubicBezTo>
                  <a:cubicBezTo>
                    <a:pt x="135" y="1795"/>
                    <a:pt x="133" y="1810"/>
                    <a:pt x="141" y="1820"/>
                  </a:cubicBezTo>
                  <a:cubicBezTo>
                    <a:pt x="147" y="1828"/>
                    <a:pt x="163" y="1821"/>
                    <a:pt x="169" y="1829"/>
                  </a:cubicBezTo>
                  <a:cubicBezTo>
                    <a:pt x="183" y="1847"/>
                    <a:pt x="180" y="1873"/>
                    <a:pt x="188" y="1894"/>
                  </a:cubicBezTo>
                  <a:cubicBezTo>
                    <a:pt x="159" y="2000"/>
                    <a:pt x="208" y="1862"/>
                    <a:pt x="132" y="1940"/>
                  </a:cubicBezTo>
                  <a:cubicBezTo>
                    <a:pt x="121" y="1951"/>
                    <a:pt x="126" y="1971"/>
                    <a:pt x="123" y="1987"/>
                  </a:cubicBezTo>
                  <a:cubicBezTo>
                    <a:pt x="130" y="2053"/>
                    <a:pt x="134" y="2085"/>
                    <a:pt x="113" y="2145"/>
                  </a:cubicBezTo>
                  <a:cubicBezTo>
                    <a:pt x="122" y="2151"/>
                    <a:pt x="134" y="2154"/>
                    <a:pt x="141" y="2163"/>
                  </a:cubicBezTo>
                  <a:cubicBezTo>
                    <a:pt x="160" y="2186"/>
                    <a:pt x="124" y="2281"/>
                    <a:pt x="113" y="2312"/>
                  </a:cubicBezTo>
                  <a:cubicBezTo>
                    <a:pt x="134" y="2405"/>
                    <a:pt x="142" y="2412"/>
                    <a:pt x="132" y="2507"/>
                  </a:cubicBezTo>
                  <a:cubicBezTo>
                    <a:pt x="108" y="2408"/>
                    <a:pt x="132" y="2532"/>
                    <a:pt x="132" y="2433"/>
                  </a:cubicBezTo>
                  <a:cubicBezTo>
                    <a:pt x="132" y="2423"/>
                    <a:pt x="126" y="2452"/>
                    <a:pt x="123" y="2461"/>
                  </a:cubicBezTo>
                  <a:cubicBezTo>
                    <a:pt x="120" y="2470"/>
                    <a:pt x="116" y="2479"/>
                    <a:pt x="113" y="2488"/>
                  </a:cubicBezTo>
                  <a:cubicBezTo>
                    <a:pt x="134" y="2641"/>
                    <a:pt x="86" y="2617"/>
                    <a:pt x="169" y="2637"/>
                  </a:cubicBezTo>
                  <a:cubicBezTo>
                    <a:pt x="181" y="2655"/>
                    <a:pt x="212" y="2686"/>
                    <a:pt x="178" y="2711"/>
                  </a:cubicBezTo>
                  <a:cubicBezTo>
                    <a:pt x="169" y="2718"/>
                    <a:pt x="159" y="2699"/>
                    <a:pt x="150" y="2693"/>
                  </a:cubicBezTo>
                  <a:cubicBezTo>
                    <a:pt x="153" y="2684"/>
                    <a:pt x="170" y="2665"/>
                    <a:pt x="160" y="2665"/>
                  </a:cubicBezTo>
                  <a:cubicBezTo>
                    <a:pt x="149" y="2665"/>
                    <a:pt x="143" y="2682"/>
                    <a:pt x="141" y="2693"/>
                  </a:cubicBezTo>
                  <a:cubicBezTo>
                    <a:pt x="139" y="2703"/>
                    <a:pt x="147" y="2712"/>
                    <a:pt x="150" y="2721"/>
                  </a:cubicBezTo>
                  <a:cubicBezTo>
                    <a:pt x="133" y="2791"/>
                    <a:pt x="74" y="2906"/>
                    <a:pt x="160" y="2934"/>
                  </a:cubicBezTo>
                  <a:cubicBezTo>
                    <a:pt x="169" y="2943"/>
                    <a:pt x="184" y="2949"/>
                    <a:pt x="188" y="2962"/>
                  </a:cubicBezTo>
                  <a:cubicBezTo>
                    <a:pt x="193" y="2980"/>
                    <a:pt x="143" y="3065"/>
                    <a:pt x="132" y="3083"/>
                  </a:cubicBezTo>
                  <a:cubicBezTo>
                    <a:pt x="135" y="3099"/>
                    <a:pt x="135" y="3115"/>
                    <a:pt x="141" y="3130"/>
                  </a:cubicBezTo>
                  <a:cubicBezTo>
                    <a:pt x="145" y="3140"/>
                    <a:pt x="159" y="3146"/>
                    <a:pt x="160" y="3157"/>
                  </a:cubicBezTo>
                  <a:cubicBezTo>
                    <a:pt x="162" y="3171"/>
                    <a:pt x="146" y="3215"/>
                    <a:pt x="141" y="3232"/>
                  </a:cubicBezTo>
                  <a:cubicBezTo>
                    <a:pt x="150" y="3238"/>
                    <a:pt x="167" y="3239"/>
                    <a:pt x="169" y="3250"/>
                  </a:cubicBezTo>
                  <a:cubicBezTo>
                    <a:pt x="181" y="3323"/>
                    <a:pt x="146" y="3421"/>
                    <a:pt x="123" y="3492"/>
                  </a:cubicBezTo>
                  <a:cubicBezTo>
                    <a:pt x="126" y="3514"/>
                    <a:pt x="124" y="3537"/>
                    <a:pt x="132" y="3557"/>
                  </a:cubicBezTo>
                  <a:cubicBezTo>
                    <a:pt x="137" y="3569"/>
                    <a:pt x="153" y="3574"/>
                    <a:pt x="160" y="3585"/>
                  </a:cubicBezTo>
                  <a:cubicBezTo>
                    <a:pt x="166" y="3596"/>
                    <a:pt x="166" y="3610"/>
                    <a:pt x="169" y="3622"/>
                  </a:cubicBezTo>
                  <a:cubicBezTo>
                    <a:pt x="166" y="3744"/>
                    <a:pt x="238" y="3946"/>
                    <a:pt x="123" y="3984"/>
                  </a:cubicBezTo>
                  <a:cubicBezTo>
                    <a:pt x="106" y="4032"/>
                    <a:pt x="133" y="4029"/>
                    <a:pt x="160" y="4068"/>
                  </a:cubicBezTo>
                  <a:cubicBezTo>
                    <a:pt x="180" y="4129"/>
                    <a:pt x="190" y="4176"/>
                    <a:pt x="150" y="4235"/>
                  </a:cubicBezTo>
                  <a:cubicBezTo>
                    <a:pt x="153" y="4300"/>
                    <a:pt x="138" y="4369"/>
                    <a:pt x="160" y="4430"/>
                  </a:cubicBezTo>
                  <a:cubicBezTo>
                    <a:pt x="168" y="4451"/>
                    <a:pt x="203" y="4439"/>
                    <a:pt x="225" y="4439"/>
                  </a:cubicBezTo>
                  <a:cubicBezTo>
                    <a:pt x="414" y="4439"/>
                    <a:pt x="602" y="4433"/>
                    <a:pt x="791" y="4430"/>
                  </a:cubicBezTo>
                  <a:cubicBezTo>
                    <a:pt x="769" y="4225"/>
                    <a:pt x="795" y="4021"/>
                    <a:pt x="810" y="3817"/>
                  </a:cubicBezTo>
                  <a:cubicBezTo>
                    <a:pt x="773" y="3253"/>
                    <a:pt x="809" y="2682"/>
                    <a:pt x="819" y="2117"/>
                  </a:cubicBezTo>
                  <a:cubicBezTo>
                    <a:pt x="811" y="1822"/>
                    <a:pt x="816" y="1813"/>
                    <a:pt x="764" y="1597"/>
                  </a:cubicBezTo>
                  <a:cubicBezTo>
                    <a:pt x="753" y="1488"/>
                    <a:pt x="760" y="1388"/>
                    <a:pt x="810" y="1290"/>
                  </a:cubicBezTo>
                  <a:cubicBezTo>
                    <a:pt x="804" y="878"/>
                    <a:pt x="812" y="465"/>
                    <a:pt x="791" y="54"/>
                  </a:cubicBezTo>
                  <a:cubicBezTo>
                    <a:pt x="790" y="38"/>
                    <a:pt x="760" y="48"/>
                    <a:pt x="745" y="45"/>
                  </a:cubicBezTo>
                  <a:cubicBezTo>
                    <a:pt x="723" y="40"/>
                    <a:pt x="702" y="28"/>
                    <a:pt x="680" y="27"/>
                  </a:cubicBezTo>
                  <a:cubicBezTo>
                    <a:pt x="497" y="21"/>
                    <a:pt x="315" y="20"/>
                    <a:pt x="132" y="17"/>
                  </a:cubicBezTo>
                  <a:cubicBezTo>
                    <a:pt x="39" y="28"/>
                    <a:pt x="57" y="0"/>
                    <a:pt x="39" y="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2aa68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193" name="Picture 13" descr="j0217698"/>
            <p:cNvPicPr/>
            <p:nvPr/>
          </p:nvPicPr>
          <p:blipFill>
            <a:blip r:embed="rId1"/>
            <a:stretch/>
          </p:blipFill>
          <p:spPr>
            <a:xfrm>
              <a:off x="7956720" y="1052640"/>
              <a:ext cx="792000" cy="766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vert"/>
  </p:transition>
  <p:timing>
    <p:tnLst>
      <p:par>
        <p:cTn id="213" dur="indefinite" restart="never" nodeType="tmRoot">
          <p:childTnLst>
            <p:seq>
              <p:cTn id="214" restart="whenNotActive" nodeType="interactiveSeq" fill="hold">
                <p:stCondLst>
                  <p:cond evt="onClick">
                    <p:tgtEl>
                      <p:spTgt spid="1182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182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183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183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evt="onClick">
                          <p:tgtEl>
                            <p:spTgt spid="1183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185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1185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1189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1189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187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187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190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190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Text Box 2"/>
          <p:cNvSpPr/>
          <p:nvPr/>
        </p:nvSpPr>
        <p:spPr>
          <a:xfrm>
            <a:off x="1116000" y="148428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aa68"/>
                </a:solidFill>
                <a:latin typeface="Arial"/>
                <a:ea typeface="方正小标宋简体"/>
              </a:rPr>
              <a:t>四、对比强烈的色彩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5" name="Text Box 3"/>
          <p:cNvSpPr/>
          <p:nvPr/>
        </p:nvSpPr>
        <p:spPr>
          <a:xfrm>
            <a:off x="1908000" y="2637000"/>
            <a:ext cx="51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方正小标宋简体"/>
              </a:rPr>
              <a:t>画面色彩交错    色彩明快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6" name="AutoShape 4"/>
          <p:cNvSpPr/>
          <p:nvPr/>
        </p:nvSpPr>
        <p:spPr>
          <a:xfrm>
            <a:off x="8028000" y="6237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7" name="AutoShape 5"/>
          <p:cNvSpPr/>
          <p:nvPr/>
        </p:nvSpPr>
        <p:spPr>
          <a:xfrm>
            <a:off x="8459640" y="6237360"/>
            <a:ext cx="217800" cy="216000"/>
          </a:xfrm>
          <a:custGeom>
            <a:avLst/>
            <a:gdLst>
              <a:gd name="textAreaLeft" fmla="*/ 13680 w 217800"/>
              <a:gd name="textAreaRight" fmla="*/ 204120 w 2178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780" h="21600">
                <a:moveTo>
                  <a:pt x="0" y="0"/>
                </a:moveTo>
                <a:lnTo>
                  <a:pt x="21780" y="0"/>
                </a:lnTo>
                <a:lnTo>
                  <a:pt x="21780" y="21600"/>
                </a:lnTo>
                <a:lnTo>
                  <a:pt x="0" y="21600"/>
                </a:lnTo>
                <a:close/>
              </a:path>
              <a:path fill="lightenLess" w="21780" h="21600">
                <a:moveTo>
                  <a:pt x="0" y="0"/>
                </a:moveTo>
                <a:lnTo>
                  <a:pt x="21780" y="0"/>
                </a:lnTo>
                <a:lnTo>
                  <a:pt x="20380" y="1400"/>
                </a:lnTo>
                <a:lnTo>
                  <a:pt x="1400" y="1400"/>
                </a:lnTo>
                <a:close/>
              </a:path>
              <a:path fill="darken" w="21780" h="21600">
                <a:moveTo>
                  <a:pt x="21780" y="0"/>
                </a:moveTo>
                <a:lnTo>
                  <a:pt x="21780" y="21600"/>
                </a:lnTo>
                <a:lnTo>
                  <a:pt x="20380" y="20200"/>
                </a:lnTo>
                <a:lnTo>
                  <a:pt x="20380" y="1400"/>
                </a:lnTo>
                <a:close/>
              </a:path>
              <a:path fill="darkenLess" w="21780" h="21600">
                <a:moveTo>
                  <a:pt x="21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80" y="20200"/>
                </a:lnTo>
                <a:close/>
              </a:path>
              <a:path fill="lighten" w="21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80" h="21600">
                <a:moveTo>
                  <a:pt x="10890" y="3837"/>
                </a:moveTo>
                <a:lnTo>
                  <a:pt x="13466" y="6448"/>
                </a:lnTo>
                <a:lnTo>
                  <a:pt x="13466" y="4707"/>
                </a:lnTo>
                <a:lnTo>
                  <a:pt x="15242" y="4707"/>
                </a:lnTo>
                <a:lnTo>
                  <a:pt x="15242" y="8224"/>
                </a:lnTo>
                <a:lnTo>
                  <a:pt x="17853" y="10800"/>
                </a:lnTo>
                <a:lnTo>
                  <a:pt x="16199" y="10800"/>
                </a:lnTo>
                <a:lnTo>
                  <a:pt x="16199" y="17989"/>
                </a:lnTo>
                <a:lnTo>
                  <a:pt x="5581" y="17989"/>
                </a:lnTo>
                <a:lnTo>
                  <a:pt x="5581" y="10800"/>
                </a:lnTo>
                <a:lnTo>
                  <a:pt x="3927" y="10800"/>
                </a:lnTo>
                <a:close/>
              </a:path>
              <a:path fill="darkenLess" w="21780" h="21600">
                <a:moveTo>
                  <a:pt x="13466" y="6448"/>
                </a:moveTo>
                <a:lnTo>
                  <a:pt x="13466" y="4707"/>
                </a:lnTo>
                <a:lnTo>
                  <a:pt x="15242" y="4707"/>
                </a:lnTo>
                <a:lnTo>
                  <a:pt x="15242" y="8224"/>
                </a:lnTo>
                <a:close/>
              </a:path>
              <a:path fill="darkenLess" w="21780" h="21600">
                <a:moveTo>
                  <a:pt x="9967" y="14299"/>
                </a:moveTo>
                <a:lnTo>
                  <a:pt x="11812" y="14299"/>
                </a:lnTo>
                <a:lnTo>
                  <a:pt x="11812" y="17989"/>
                </a:lnTo>
                <a:lnTo>
                  <a:pt x="16199" y="17989"/>
                </a:lnTo>
                <a:lnTo>
                  <a:pt x="16199" y="10800"/>
                </a:lnTo>
                <a:lnTo>
                  <a:pt x="5581" y="10800"/>
                </a:lnTo>
                <a:lnTo>
                  <a:pt x="5581" y="17989"/>
                </a:lnTo>
                <a:lnTo>
                  <a:pt x="9967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8" name="Text Box 6"/>
          <p:cNvSpPr/>
          <p:nvPr/>
        </p:nvSpPr>
        <p:spPr>
          <a:xfrm>
            <a:off x="1258920" y="3573360"/>
            <a:ext cx="70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方正小标宋简体"/>
                <a:ea typeface="方正小标宋简体"/>
              </a:rPr>
              <a:t>黑色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方正小标宋简体"/>
              </a:rPr>
              <a:t>“</a:t>
            </a:r>
            <a:r>
              <a:rPr b="1" lang="zh-CN" sz="2800" spc="-1" strike="noStrike">
                <a:solidFill>
                  <a:srgbClr val="ffff00"/>
                </a:solidFill>
                <a:latin typeface="方正小标宋简体"/>
                <a:ea typeface="方正小标宋简体"/>
              </a:rPr>
              <a:t>劳斯莱斯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方正小标宋简体"/>
              </a:rPr>
              <a:t>”</a:t>
            </a:r>
            <a:r>
              <a:rPr b="1" lang="zh-CN" sz="2800" spc="-1" strike="noStrike">
                <a:solidFill>
                  <a:srgbClr val="ffff00"/>
                </a:solidFill>
                <a:latin typeface="方正小标宋简体"/>
                <a:ea typeface="方正小标宋简体"/>
              </a:rPr>
              <a:t>    广场上灯光渐</a:t>
            </a:r>
            <a:r>
              <a:rPr b="1" lang="zh-CN" sz="2800" spc="-1" strike="noStrike">
                <a:solidFill>
                  <a:srgbClr val="3399ff"/>
                </a:solidFill>
                <a:latin typeface="方正小标宋简体"/>
                <a:ea typeface="方正小标宋简体"/>
              </a:rPr>
              <a:t>暗</a:t>
            </a:r>
            <a:r>
              <a:rPr b="1" lang="zh-CN" sz="2800" spc="-1" strike="noStrike">
                <a:solidFill>
                  <a:srgbClr val="ffff00"/>
                </a:solidFill>
                <a:latin typeface="方正小标宋简体"/>
                <a:ea typeface="方正小标宋简体"/>
              </a:rPr>
              <a:t>    </a:t>
            </a:r>
            <a:r>
              <a:rPr b="1" lang="zh-CN" sz="2800" spc="-1" strike="noStrike">
                <a:solidFill>
                  <a:srgbClr val="3399ff"/>
                </a:solidFill>
                <a:latin typeface="方正小标宋简体"/>
                <a:ea typeface="方正小标宋简体"/>
              </a:rPr>
              <a:t>绿</a:t>
            </a:r>
            <a:r>
              <a:rPr b="1" lang="zh-CN" sz="2800" spc="-1" strike="noStrike">
                <a:solidFill>
                  <a:srgbClr val="ffff00"/>
                </a:solidFill>
                <a:latin typeface="方正小标宋简体"/>
                <a:ea typeface="方正小标宋简体"/>
              </a:rPr>
              <a:t>树丛    </a:t>
            </a:r>
            <a:r>
              <a:rPr b="1" lang="zh-CN" sz="2800" spc="-1" strike="noStrike">
                <a:solidFill>
                  <a:srgbClr val="3399ff"/>
                </a:solidFill>
                <a:latin typeface="方正小标宋简体"/>
                <a:ea typeface="方正小标宋简体"/>
              </a:rPr>
              <a:t>白色</a:t>
            </a:r>
            <a:r>
              <a:rPr b="1" lang="zh-CN" sz="2800" spc="-1" strike="noStrike">
                <a:solidFill>
                  <a:srgbClr val="ffff00"/>
                </a:solidFill>
                <a:latin typeface="方正小标宋简体"/>
                <a:ea typeface="方正小标宋简体"/>
              </a:rPr>
              <a:t>建筑    南海的</a:t>
            </a:r>
            <a:r>
              <a:rPr b="1" lang="zh-CN" sz="2800" spc="-1" strike="noStrike">
                <a:solidFill>
                  <a:srgbClr val="3399ff"/>
                </a:solidFill>
                <a:latin typeface="方正小标宋简体"/>
                <a:ea typeface="方正小标宋简体"/>
              </a:rPr>
              <a:t>夜幕</a:t>
            </a:r>
            <a:r>
              <a:rPr b="1" lang="zh-CN" sz="2800" spc="-1" strike="noStrike">
                <a:solidFill>
                  <a:srgbClr val="ffff00"/>
                </a:solidFill>
                <a:latin typeface="方正小标宋简体"/>
                <a:ea typeface="方正小标宋简体"/>
              </a:rPr>
              <a:t>    巨幅紫荆</a:t>
            </a:r>
            <a:r>
              <a:rPr b="1" lang="zh-CN" sz="2800" spc="-1" strike="noStrike">
                <a:solidFill>
                  <a:srgbClr val="3399ff"/>
                </a:solidFill>
                <a:latin typeface="方正小标宋简体"/>
                <a:ea typeface="方正小标宋简体"/>
              </a:rPr>
              <a:t>花</a:t>
            </a:r>
            <a:r>
              <a:rPr b="1" lang="zh-CN" sz="2800" spc="-1" strike="noStrike">
                <a:solidFill>
                  <a:srgbClr val="ffff00"/>
                </a:solidFill>
                <a:latin typeface="方正小标宋简体"/>
                <a:ea typeface="方正小标宋简体"/>
              </a:rPr>
              <a:t>图案    五星</a:t>
            </a:r>
            <a:r>
              <a:rPr b="1" lang="zh-CN" sz="2800" spc="-1" strike="noStrike">
                <a:solidFill>
                  <a:srgbClr val="3399ff"/>
                </a:solidFill>
                <a:latin typeface="方正小标宋简体"/>
                <a:ea typeface="方正小标宋简体"/>
              </a:rPr>
              <a:t>红</a:t>
            </a:r>
            <a:r>
              <a:rPr b="1" lang="zh-CN" sz="2800" spc="-1" strike="noStrike">
                <a:solidFill>
                  <a:srgbClr val="ffff00"/>
                </a:solidFill>
                <a:latin typeface="方正小标宋简体"/>
                <a:ea typeface="方正小标宋简体"/>
              </a:rPr>
              <a:t>旗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99" name="Group 7"/>
          <p:cNvGrpSpPr/>
          <p:nvPr/>
        </p:nvGrpSpPr>
        <p:grpSpPr>
          <a:xfrm>
            <a:off x="7956720" y="-100080"/>
            <a:ext cx="1368360" cy="5761080"/>
            <a:chOff x="7956720" y="-100080"/>
            <a:chExt cx="1368360" cy="5761080"/>
          </a:xfrm>
        </p:grpSpPr>
        <p:sp>
          <p:nvSpPr>
            <p:cNvPr id="1200" name="Freeform 8"/>
            <p:cNvSpPr/>
            <p:nvPr/>
          </p:nvSpPr>
          <p:spPr>
            <a:xfrm>
              <a:off x="8101080" y="-100080"/>
              <a:ext cx="1224000" cy="5761080"/>
            </a:xfrm>
            <a:custGeom>
              <a:avLst/>
              <a:gdLst/>
              <a:ahLst/>
              <a:rect l="l" t="t" r="r" b="b"/>
              <a:pathLst>
                <a:path w="819" h="4451">
                  <a:moveTo>
                    <a:pt x="39" y="54"/>
                  </a:moveTo>
                  <a:cubicBezTo>
                    <a:pt x="46" y="91"/>
                    <a:pt x="56" y="122"/>
                    <a:pt x="67" y="157"/>
                  </a:cubicBezTo>
                  <a:cubicBezTo>
                    <a:pt x="63" y="175"/>
                    <a:pt x="33" y="234"/>
                    <a:pt x="58" y="250"/>
                  </a:cubicBezTo>
                  <a:cubicBezTo>
                    <a:pt x="79" y="264"/>
                    <a:pt x="108" y="260"/>
                    <a:pt x="132" y="268"/>
                  </a:cubicBezTo>
                  <a:cubicBezTo>
                    <a:pt x="129" y="290"/>
                    <a:pt x="133" y="313"/>
                    <a:pt x="123" y="333"/>
                  </a:cubicBezTo>
                  <a:cubicBezTo>
                    <a:pt x="118" y="342"/>
                    <a:pt x="12" y="361"/>
                    <a:pt x="11" y="361"/>
                  </a:cubicBezTo>
                  <a:cubicBezTo>
                    <a:pt x="24" y="509"/>
                    <a:pt x="0" y="493"/>
                    <a:pt x="141" y="510"/>
                  </a:cubicBezTo>
                  <a:cubicBezTo>
                    <a:pt x="150" y="513"/>
                    <a:pt x="165" y="510"/>
                    <a:pt x="169" y="519"/>
                  </a:cubicBezTo>
                  <a:cubicBezTo>
                    <a:pt x="185" y="557"/>
                    <a:pt x="151" y="559"/>
                    <a:pt x="132" y="565"/>
                  </a:cubicBezTo>
                  <a:cubicBezTo>
                    <a:pt x="129" y="574"/>
                    <a:pt x="121" y="583"/>
                    <a:pt x="123" y="593"/>
                  </a:cubicBezTo>
                  <a:cubicBezTo>
                    <a:pt x="125" y="604"/>
                    <a:pt x="137" y="611"/>
                    <a:pt x="141" y="621"/>
                  </a:cubicBezTo>
                  <a:cubicBezTo>
                    <a:pt x="149" y="639"/>
                    <a:pt x="154" y="658"/>
                    <a:pt x="160" y="677"/>
                  </a:cubicBezTo>
                  <a:cubicBezTo>
                    <a:pt x="166" y="696"/>
                    <a:pt x="178" y="733"/>
                    <a:pt x="178" y="733"/>
                  </a:cubicBezTo>
                  <a:cubicBezTo>
                    <a:pt x="169" y="742"/>
                    <a:pt x="161" y="753"/>
                    <a:pt x="150" y="760"/>
                  </a:cubicBezTo>
                  <a:cubicBezTo>
                    <a:pt x="121" y="779"/>
                    <a:pt x="106" y="758"/>
                    <a:pt x="150" y="788"/>
                  </a:cubicBezTo>
                  <a:cubicBezTo>
                    <a:pt x="147" y="801"/>
                    <a:pt x="149" y="816"/>
                    <a:pt x="141" y="826"/>
                  </a:cubicBezTo>
                  <a:cubicBezTo>
                    <a:pt x="135" y="834"/>
                    <a:pt x="117" y="826"/>
                    <a:pt x="113" y="835"/>
                  </a:cubicBezTo>
                  <a:cubicBezTo>
                    <a:pt x="69" y="933"/>
                    <a:pt x="153" y="901"/>
                    <a:pt x="48" y="918"/>
                  </a:cubicBezTo>
                  <a:cubicBezTo>
                    <a:pt x="130" y="973"/>
                    <a:pt x="72" y="1094"/>
                    <a:pt x="58" y="1179"/>
                  </a:cubicBezTo>
                  <a:cubicBezTo>
                    <a:pt x="61" y="1219"/>
                    <a:pt x="60" y="1260"/>
                    <a:pt x="67" y="1299"/>
                  </a:cubicBezTo>
                  <a:cubicBezTo>
                    <a:pt x="69" y="1310"/>
                    <a:pt x="82" y="1316"/>
                    <a:pt x="85" y="1327"/>
                  </a:cubicBezTo>
                  <a:cubicBezTo>
                    <a:pt x="92" y="1357"/>
                    <a:pt x="90" y="1389"/>
                    <a:pt x="95" y="1420"/>
                  </a:cubicBezTo>
                  <a:cubicBezTo>
                    <a:pt x="97" y="1433"/>
                    <a:pt x="101" y="1445"/>
                    <a:pt x="104" y="1457"/>
                  </a:cubicBezTo>
                  <a:cubicBezTo>
                    <a:pt x="98" y="1557"/>
                    <a:pt x="69" y="1693"/>
                    <a:pt x="132" y="1782"/>
                  </a:cubicBezTo>
                  <a:cubicBezTo>
                    <a:pt x="135" y="1795"/>
                    <a:pt x="133" y="1810"/>
                    <a:pt x="141" y="1820"/>
                  </a:cubicBezTo>
                  <a:cubicBezTo>
                    <a:pt x="147" y="1828"/>
                    <a:pt x="163" y="1821"/>
                    <a:pt x="169" y="1829"/>
                  </a:cubicBezTo>
                  <a:cubicBezTo>
                    <a:pt x="183" y="1847"/>
                    <a:pt x="180" y="1873"/>
                    <a:pt x="188" y="1894"/>
                  </a:cubicBezTo>
                  <a:cubicBezTo>
                    <a:pt x="159" y="2000"/>
                    <a:pt x="208" y="1862"/>
                    <a:pt x="132" y="1940"/>
                  </a:cubicBezTo>
                  <a:cubicBezTo>
                    <a:pt x="121" y="1951"/>
                    <a:pt x="126" y="1971"/>
                    <a:pt x="123" y="1987"/>
                  </a:cubicBezTo>
                  <a:cubicBezTo>
                    <a:pt x="130" y="2053"/>
                    <a:pt x="134" y="2085"/>
                    <a:pt x="113" y="2145"/>
                  </a:cubicBezTo>
                  <a:cubicBezTo>
                    <a:pt x="122" y="2151"/>
                    <a:pt x="134" y="2154"/>
                    <a:pt x="141" y="2163"/>
                  </a:cubicBezTo>
                  <a:cubicBezTo>
                    <a:pt x="160" y="2186"/>
                    <a:pt x="124" y="2281"/>
                    <a:pt x="113" y="2312"/>
                  </a:cubicBezTo>
                  <a:cubicBezTo>
                    <a:pt x="134" y="2405"/>
                    <a:pt x="142" y="2412"/>
                    <a:pt x="132" y="2507"/>
                  </a:cubicBezTo>
                  <a:cubicBezTo>
                    <a:pt x="108" y="2408"/>
                    <a:pt x="132" y="2532"/>
                    <a:pt x="132" y="2433"/>
                  </a:cubicBezTo>
                  <a:cubicBezTo>
                    <a:pt x="132" y="2423"/>
                    <a:pt x="126" y="2452"/>
                    <a:pt x="123" y="2461"/>
                  </a:cubicBezTo>
                  <a:cubicBezTo>
                    <a:pt x="120" y="2470"/>
                    <a:pt x="116" y="2479"/>
                    <a:pt x="113" y="2488"/>
                  </a:cubicBezTo>
                  <a:cubicBezTo>
                    <a:pt x="134" y="2641"/>
                    <a:pt x="86" y="2617"/>
                    <a:pt x="169" y="2637"/>
                  </a:cubicBezTo>
                  <a:cubicBezTo>
                    <a:pt x="181" y="2655"/>
                    <a:pt x="212" y="2686"/>
                    <a:pt x="178" y="2711"/>
                  </a:cubicBezTo>
                  <a:cubicBezTo>
                    <a:pt x="169" y="2718"/>
                    <a:pt x="159" y="2699"/>
                    <a:pt x="150" y="2693"/>
                  </a:cubicBezTo>
                  <a:cubicBezTo>
                    <a:pt x="153" y="2684"/>
                    <a:pt x="170" y="2665"/>
                    <a:pt x="160" y="2665"/>
                  </a:cubicBezTo>
                  <a:cubicBezTo>
                    <a:pt x="149" y="2665"/>
                    <a:pt x="143" y="2682"/>
                    <a:pt x="141" y="2693"/>
                  </a:cubicBezTo>
                  <a:cubicBezTo>
                    <a:pt x="139" y="2703"/>
                    <a:pt x="147" y="2712"/>
                    <a:pt x="150" y="2721"/>
                  </a:cubicBezTo>
                  <a:cubicBezTo>
                    <a:pt x="133" y="2791"/>
                    <a:pt x="74" y="2906"/>
                    <a:pt x="160" y="2934"/>
                  </a:cubicBezTo>
                  <a:cubicBezTo>
                    <a:pt x="169" y="2943"/>
                    <a:pt x="184" y="2949"/>
                    <a:pt x="188" y="2962"/>
                  </a:cubicBezTo>
                  <a:cubicBezTo>
                    <a:pt x="193" y="2980"/>
                    <a:pt x="143" y="3065"/>
                    <a:pt x="132" y="3083"/>
                  </a:cubicBezTo>
                  <a:cubicBezTo>
                    <a:pt x="135" y="3099"/>
                    <a:pt x="135" y="3115"/>
                    <a:pt x="141" y="3130"/>
                  </a:cubicBezTo>
                  <a:cubicBezTo>
                    <a:pt x="145" y="3140"/>
                    <a:pt x="159" y="3146"/>
                    <a:pt x="160" y="3157"/>
                  </a:cubicBezTo>
                  <a:cubicBezTo>
                    <a:pt x="162" y="3171"/>
                    <a:pt x="146" y="3215"/>
                    <a:pt x="141" y="3232"/>
                  </a:cubicBezTo>
                  <a:cubicBezTo>
                    <a:pt x="150" y="3238"/>
                    <a:pt x="167" y="3239"/>
                    <a:pt x="169" y="3250"/>
                  </a:cubicBezTo>
                  <a:cubicBezTo>
                    <a:pt x="181" y="3323"/>
                    <a:pt x="146" y="3421"/>
                    <a:pt x="123" y="3492"/>
                  </a:cubicBezTo>
                  <a:cubicBezTo>
                    <a:pt x="126" y="3514"/>
                    <a:pt x="124" y="3537"/>
                    <a:pt x="132" y="3557"/>
                  </a:cubicBezTo>
                  <a:cubicBezTo>
                    <a:pt x="137" y="3569"/>
                    <a:pt x="153" y="3574"/>
                    <a:pt x="160" y="3585"/>
                  </a:cubicBezTo>
                  <a:cubicBezTo>
                    <a:pt x="166" y="3596"/>
                    <a:pt x="166" y="3610"/>
                    <a:pt x="169" y="3622"/>
                  </a:cubicBezTo>
                  <a:cubicBezTo>
                    <a:pt x="166" y="3744"/>
                    <a:pt x="238" y="3946"/>
                    <a:pt x="123" y="3984"/>
                  </a:cubicBezTo>
                  <a:cubicBezTo>
                    <a:pt x="106" y="4032"/>
                    <a:pt x="133" y="4029"/>
                    <a:pt x="160" y="4068"/>
                  </a:cubicBezTo>
                  <a:cubicBezTo>
                    <a:pt x="180" y="4129"/>
                    <a:pt x="190" y="4176"/>
                    <a:pt x="150" y="4235"/>
                  </a:cubicBezTo>
                  <a:cubicBezTo>
                    <a:pt x="153" y="4300"/>
                    <a:pt x="138" y="4369"/>
                    <a:pt x="160" y="4430"/>
                  </a:cubicBezTo>
                  <a:cubicBezTo>
                    <a:pt x="168" y="4451"/>
                    <a:pt x="203" y="4439"/>
                    <a:pt x="225" y="4439"/>
                  </a:cubicBezTo>
                  <a:cubicBezTo>
                    <a:pt x="414" y="4439"/>
                    <a:pt x="602" y="4433"/>
                    <a:pt x="791" y="4430"/>
                  </a:cubicBezTo>
                  <a:cubicBezTo>
                    <a:pt x="769" y="4225"/>
                    <a:pt x="795" y="4021"/>
                    <a:pt x="810" y="3817"/>
                  </a:cubicBezTo>
                  <a:cubicBezTo>
                    <a:pt x="773" y="3253"/>
                    <a:pt x="809" y="2682"/>
                    <a:pt x="819" y="2117"/>
                  </a:cubicBezTo>
                  <a:cubicBezTo>
                    <a:pt x="811" y="1822"/>
                    <a:pt x="816" y="1813"/>
                    <a:pt x="764" y="1597"/>
                  </a:cubicBezTo>
                  <a:cubicBezTo>
                    <a:pt x="753" y="1488"/>
                    <a:pt x="760" y="1388"/>
                    <a:pt x="810" y="1290"/>
                  </a:cubicBezTo>
                  <a:cubicBezTo>
                    <a:pt x="804" y="878"/>
                    <a:pt x="812" y="465"/>
                    <a:pt x="791" y="54"/>
                  </a:cubicBezTo>
                  <a:cubicBezTo>
                    <a:pt x="790" y="38"/>
                    <a:pt x="760" y="48"/>
                    <a:pt x="745" y="45"/>
                  </a:cubicBezTo>
                  <a:cubicBezTo>
                    <a:pt x="723" y="40"/>
                    <a:pt x="702" y="28"/>
                    <a:pt x="680" y="27"/>
                  </a:cubicBezTo>
                  <a:cubicBezTo>
                    <a:pt x="497" y="21"/>
                    <a:pt x="315" y="20"/>
                    <a:pt x="132" y="17"/>
                  </a:cubicBezTo>
                  <a:cubicBezTo>
                    <a:pt x="39" y="28"/>
                    <a:pt x="57" y="0"/>
                    <a:pt x="39" y="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2aa68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201" name="Picture 9" descr="j0217698"/>
            <p:cNvPicPr/>
            <p:nvPr/>
          </p:nvPicPr>
          <p:blipFill>
            <a:blip r:embed="rId1"/>
            <a:stretch/>
          </p:blipFill>
          <p:spPr>
            <a:xfrm>
              <a:off x="7956720" y="1052640"/>
              <a:ext cx="792000" cy="766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vert"/>
  </p:transition>
  <p:timing>
    <p:tnLst>
      <p:par>
        <p:cTn id="255" dur="indefinite" restart="never" nodeType="tmRoot">
          <p:childTnLst>
            <p:seq>
              <p:cTn id="256" restart="whenNotActive" nodeType="interactiveSeq" fill="hold">
                <p:stCondLst>
                  <p:cond evt="onClick">
                    <p:tgtEl>
                      <p:spTgt spid="1194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1194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1195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1195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2" name="Picture 2" descr="前港督府"/>
          <p:cNvPicPr/>
          <p:nvPr/>
        </p:nvPicPr>
        <p:blipFill>
          <a:blip r:embed="rId1"/>
          <a:stretch/>
        </p:blipFill>
        <p:spPr>
          <a:xfrm rot="20458200">
            <a:off x="0" y="404280"/>
            <a:ext cx="4897440" cy="2891160"/>
          </a:xfrm>
          <a:prstGeom prst="rect">
            <a:avLst/>
          </a:prstGeom>
          <a:ln w="0">
            <a:noFill/>
          </a:ln>
        </p:spPr>
      </p:pic>
      <p:pic>
        <p:nvPicPr>
          <p:cNvPr id="1203" name="Picture 3" descr="最后一任港督彭定康撤离港督府"/>
          <p:cNvPicPr/>
          <p:nvPr/>
        </p:nvPicPr>
        <p:blipFill>
          <a:blip r:embed="rId2"/>
          <a:stretch/>
        </p:blipFill>
        <p:spPr>
          <a:xfrm>
            <a:off x="3917880" y="549360"/>
            <a:ext cx="4257720" cy="5400720"/>
          </a:xfrm>
          <a:prstGeom prst="rect">
            <a:avLst/>
          </a:prstGeom>
          <a:ln w="0">
            <a:noFill/>
          </a:ln>
        </p:spPr>
      </p:pic>
      <p:sp>
        <p:nvSpPr>
          <p:cNvPr id="1204" name="Text Box 4"/>
          <p:cNvSpPr/>
          <p:nvPr/>
        </p:nvSpPr>
        <p:spPr>
          <a:xfrm rot="20478600">
            <a:off x="1683000" y="3373200"/>
            <a:ext cx="21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方正小标宋简体"/>
              </a:rPr>
              <a:t>前港督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Text Box 5"/>
          <p:cNvSpPr/>
          <p:nvPr/>
        </p:nvSpPr>
        <p:spPr>
          <a:xfrm>
            <a:off x="1547640" y="6093000"/>
            <a:ext cx="63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方正小标宋简体"/>
              </a:rPr>
              <a:t>最后一任港督彭定康离开港督府庭院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6" name="AutoShape 6"/>
          <p:cNvSpPr/>
          <p:nvPr/>
        </p:nvSpPr>
        <p:spPr>
          <a:xfrm>
            <a:off x="8459640" y="6237360"/>
            <a:ext cx="287640" cy="287280"/>
          </a:xfrm>
          <a:custGeom>
            <a:avLst/>
            <a:gdLst>
              <a:gd name="textAreaLeft" fmla="*/ 18360 w 287640"/>
              <a:gd name="textAreaRight" fmla="*/ 269280 w 28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3807" y="7493"/>
                </a:moveTo>
                <a:lnTo>
                  <a:pt x="7315" y="7493"/>
                </a:lnTo>
                <a:lnTo>
                  <a:pt x="7315" y="12828"/>
                </a:lnTo>
                <a:cubicBezTo>
                  <a:pt x="7315" y="13751"/>
                  <a:pt x="8115" y="14482"/>
                  <a:pt x="9151" y="14482"/>
                </a:cubicBezTo>
                <a:lnTo>
                  <a:pt x="10814" y="14482"/>
                </a:lnTo>
                <a:cubicBezTo>
                  <a:pt x="11849" y="14482"/>
                  <a:pt x="12650" y="13751"/>
                  <a:pt x="12650" y="12828"/>
                </a:cubicBezTo>
                <a:lnTo>
                  <a:pt x="12650" y="7493"/>
                </a:lnTo>
                <a:lnTo>
                  <a:pt x="10814" y="7493"/>
                </a:lnTo>
                <a:lnTo>
                  <a:pt x="14321" y="3985"/>
                </a:lnTo>
                <a:lnTo>
                  <a:pt x="17994" y="7493"/>
                </a:lnTo>
                <a:lnTo>
                  <a:pt x="16158" y="7493"/>
                </a:lnTo>
                <a:lnTo>
                  <a:pt x="16158" y="12828"/>
                </a:lnTo>
                <a:cubicBezTo>
                  <a:pt x="16158" y="15596"/>
                  <a:pt x="13581" y="18155"/>
                  <a:pt x="10814" y="18155"/>
                </a:cubicBezTo>
                <a:lnTo>
                  <a:pt x="9151" y="18155"/>
                </a:lnTo>
                <a:cubicBezTo>
                  <a:pt x="6383" y="18155"/>
                  <a:pt x="3807" y="15596"/>
                  <a:pt x="3807" y="12828"/>
                </a:cubicBezTo>
                <a:close/>
              </a:path>
            </a:pathLst>
          </a:custGeom>
          <a:solidFill>
            <a:srgbClr val="f2a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07" name="Group 7"/>
          <p:cNvGrpSpPr/>
          <p:nvPr/>
        </p:nvGrpSpPr>
        <p:grpSpPr>
          <a:xfrm>
            <a:off x="7956720" y="-100080"/>
            <a:ext cx="1368360" cy="5761080"/>
            <a:chOff x="7956720" y="-100080"/>
            <a:chExt cx="1368360" cy="5761080"/>
          </a:xfrm>
        </p:grpSpPr>
        <p:sp>
          <p:nvSpPr>
            <p:cNvPr id="1208" name="Freeform 8"/>
            <p:cNvSpPr/>
            <p:nvPr/>
          </p:nvSpPr>
          <p:spPr>
            <a:xfrm>
              <a:off x="8101080" y="-100080"/>
              <a:ext cx="1224000" cy="5761080"/>
            </a:xfrm>
            <a:custGeom>
              <a:avLst/>
              <a:gdLst/>
              <a:ahLst/>
              <a:rect l="l" t="t" r="r" b="b"/>
              <a:pathLst>
                <a:path w="819" h="4451">
                  <a:moveTo>
                    <a:pt x="39" y="54"/>
                  </a:moveTo>
                  <a:cubicBezTo>
                    <a:pt x="46" y="91"/>
                    <a:pt x="56" y="122"/>
                    <a:pt x="67" y="157"/>
                  </a:cubicBezTo>
                  <a:cubicBezTo>
                    <a:pt x="63" y="175"/>
                    <a:pt x="33" y="234"/>
                    <a:pt x="58" y="250"/>
                  </a:cubicBezTo>
                  <a:cubicBezTo>
                    <a:pt x="79" y="264"/>
                    <a:pt x="108" y="260"/>
                    <a:pt x="132" y="268"/>
                  </a:cubicBezTo>
                  <a:cubicBezTo>
                    <a:pt x="129" y="290"/>
                    <a:pt x="133" y="313"/>
                    <a:pt x="123" y="333"/>
                  </a:cubicBezTo>
                  <a:cubicBezTo>
                    <a:pt x="118" y="342"/>
                    <a:pt x="12" y="361"/>
                    <a:pt x="11" y="361"/>
                  </a:cubicBezTo>
                  <a:cubicBezTo>
                    <a:pt x="24" y="509"/>
                    <a:pt x="0" y="493"/>
                    <a:pt x="141" y="510"/>
                  </a:cubicBezTo>
                  <a:cubicBezTo>
                    <a:pt x="150" y="513"/>
                    <a:pt x="165" y="510"/>
                    <a:pt x="169" y="519"/>
                  </a:cubicBezTo>
                  <a:cubicBezTo>
                    <a:pt x="185" y="557"/>
                    <a:pt x="151" y="559"/>
                    <a:pt x="132" y="565"/>
                  </a:cubicBezTo>
                  <a:cubicBezTo>
                    <a:pt x="129" y="574"/>
                    <a:pt x="121" y="583"/>
                    <a:pt x="123" y="593"/>
                  </a:cubicBezTo>
                  <a:cubicBezTo>
                    <a:pt x="125" y="604"/>
                    <a:pt x="137" y="611"/>
                    <a:pt x="141" y="621"/>
                  </a:cubicBezTo>
                  <a:cubicBezTo>
                    <a:pt x="149" y="639"/>
                    <a:pt x="154" y="658"/>
                    <a:pt x="160" y="677"/>
                  </a:cubicBezTo>
                  <a:cubicBezTo>
                    <a:pt x="166" y="696"/>
                    <a:pt x="178" y="733"/>
                    <a:pt x="178" y="733"/>
                  </a:cubicBezTo>
                  <a:cubicBezTo>
                    <a:pt x="169" y="742"/>
                    <a:pt x="161" y="753"/>
                    <a:pt x="150" y="760"/>
                  </a:cubicBezTo>
                  <a:cubicBezTo>
                    <a:pt x="121" y="779"/>
                    <a:pt x="106" y="758"/>
                    <a:pt x="150" y="788"/>
                  </a:cubicBezTo>
                  <a:cubicBezTo>
                    <a:pt x="147" y="801"/>
                    <a:pt x="149" y="816"/>
                    <a:pt x="141" y="826"/>
                  </a:cubicBezTo>
                  <a:cubicBezTo>
                    <a:pt x="135" y="834"/>
                    <a:pt x="117" y="826"/>
                    <a:pt x="113" y="835"/>
                  </a:cubicBezTo>
                  <a:cubicBezTo>
                    <a:pt x="69" y="933"/>
                    <a:pt x="153" y="901"/>
                    <a:pt x="48" y="918"/>
                  </a:cubicBezTo>
                  <a:cubicBezTo>
                    <a:pt x="130" y="973"/>
                    <a:pt x="72" y="1094"/>
                    <a:pt x="58" y="1179"/>
                  </a:cubicBezTo>
                  <a:cubicBezTo>
                    <a:pt x="61" y="1219"/>
                    <a:pt x="60" y="1260"/>
                    <a:pt x="67" y="1299"/>
                  </a:cubicBezTo>
                  <a:cubicBezTo>
                    <a:pt x="69" y="1310"/>
                    <a:pt x="82" y="1316"/>
                    <a:pt x="85" y="1327"/>
                  </a:cubicBezTo>
                  <a:cubicBezTo>
                    <a:pt x="92" y="1357"/>
                    <a:pt x="90" y="1389"/>
                    <a:pt x="95" y="1420"/>
                  </a:cubicBezTo>
                  <a:cubicBezTo>
                    <a:pt x="97" y="1433"/>
                    <a:pt x="101" y="1445"/>
                    <a:pt x="104" y="1457"/>
                  </a:cubicBezTo>
                  <a:cubicBezTo>
                    <a:pt x="98" y="1557"/>
                    <a:pt x="69" y="1693"/>
                    <a:pt x="132" y="1782"/>
                  </a:cubicBezTo>
                  <a:cubicBezTo>
                    <a:pt x="135" y="1795"/>
                    <a:pt x="133" y="1810"/>
                    <a:pt x="141" y="1820"/>
                  </a:cubicBezTo>
                  <a:cubicBezTo>
                    <a:pt x="147" y="1828"/>
                    <a:pt x="163" y="1821"/>
                    <a:pt x="169" y="1829"/>
                  </a:cubicBezTo>
                  <a:cubicBezTo>
                    <a:pt x="183" y="1847"/>
                    <a:pt x="180" y="1873"/>
                    <a:pt x="188" y="1894"/>
                  </a:cubicBezTo>
                  <a:cubicBezTo>
                    <a:pt x="159" y="2000"/>
                    <a:pt x="208" y="1862"/>
                    <a:pt x="132" y="1940"/>
                  </a:cubicBezTo>
                  <a:cubicBezTo>
                    <a:pt x="121" y="1951"/>
                    <a:pt x="126" y="1971"/>
                    <a:pt x="123" y="1987"/>
                  </a:cubicBezTo>
                  <a:cubicBezTo>
                    <a:pt x="130" y="2053"/>
                    <a:pt x="134" y="2085"/>
                    <a:pt x="113" y="2145"/>
                  </a:cubicBezTo>
                  <a:cubicBezTo>
                    <a:pt x="122" y="2151"/>
                    <a:pt x="134" y="2154"/>
                    <a:pt x="141" y="2163"/>
                  </a:cubicBezTo>
                  <a:cubicBezTo>
                    <a:pt x="160" y="2186"/>
                    <a:pt x="124" y="2281"/>
                    <a:pt x="113" y="2312"/>
                  </a:cubicBezTo>
                  <a:cubicBezTo>
                    <a:pt x="134" y="2405"/>
                    <a:pt x="142" y="2412"/>
                    <a:pt x="132" y="2507"/>
                  </a:cubicBezTo>
                  <a:cubicBezTo>
                    <a:pt x="108" y="2408"/>
                    <a:pt x="132" y="2532"/>
                    <a:pt x="132" y="2433"/>
                  </a:cubicBezTo>
                  <a:cubicBezTo>
                    <a:pt x="132" y="2423"/>
                    <a:pt x="126" y="2452"/>
                    <a:pt x="123" y="2461"/>
                  </a:cubicBezTo>
                  <a:cubicBezTo>
                    <a:pt x="120" y="2470"/>
                    <a:pt x="116" y="2479"/>
                    <a:pt x="113" y="2488"/>
                  </a:cubicBezTo>
                  <a:cubicBezTo>
                    <a:pt x="134" y="2641"/>
                    <a:pt x="86" y="2617"/>
                    <a:pt x="169" y="2637"/>
                  </a:cubicBezTo>
                  <a:cubicBezTo>
                    <a:pt x="181" y="2655"/>
                    <a:pt x="212" y="2686"/>
                    <a:pt x="178" y="2711"/>
                  </a:cubicBezTo>
                  <a:cubicBezTo>
                    <a:pt x="169" y="2718"/>
                    <a:pt x="159" y="2699"/>
                    <a:pt x="150" y="2693"/>
                  </a:cubicBezTo>
                  <a:cubicBezTo>
                    <a:pt x="153" y="2684"/>
                    <a:pt x="170" y="2665"/>
                    <a:pt x="160" y="2665"/>
                  </a:cubicBezTo>
                  <a:cubicBezTo>
                    <a:pt x="149" y="2665"/>
                    <a:pt x="143" y="2682"/>
                    <a:pt x="141" y="2693"/>
                  </a:cubicBezTo>
                  <a:cubicBezTo>
                    <a:pt x="139" y="2703"/>
                    <a:pt x="147" y="2712"/>
                    <a:pt x="150" y="2721"/>
                  </a:cubicBezTo>
                  <a:cubicBezTo>
                    <a:pt x="133" y="2791"/>
                    <a:pt x="74" y="2906"/>
                    <a:pt x="160" y="2934"/>
                  </a:cubicBezTo>
                  <a:cubicBezTo>
                    <a:pt x="169" y="2943"/>
                    <a:pt x="184" y="2949"/>
                    <a:pt x="188" y="2962"/>
                  </a:cubicBezTo>
                  <a:cubicBezTo>
                    <a:pt x="193" y="2980"/>
                    <a:pt x="143" y="3065"/>
                    <a:pt x="132" y="3083"/>
                  </a:cubicBezTo>
                  <a:cubicBezTo>
                    <a:pt x="135" y="3099"/>
                    <a:pt x="135" y="3115"/>
                    <a:pt x="141" y="3130"/>
                  </a:cubicBezTo>
                  <a:cubicBezTo>
                    <a:pt x="145" y="3140"/>
                    <a:pt x="159" y="3146"/>
                    <a:pt x="160" y="3157"/>
                  </a:cubicBezTo>
                  <a:cubicBezTo>
                    <a:pt x="162" y="3171"/>
                    <a:pt x="146" y="3215"/>
                    <a:pt x="141" y="3232"/>
                  </a:cubicBezTo>
                  <a:cubicBezTo>
                    <a:pt x="150" y="3238"/>
                    <a:pt x="167" y="3239"/>
                    <a:pt x="169" y="3250"/>
                  </a:cubicBezTo>
                  <a:cubicBezTo>
                    <a:pt x="181" y="3323"/>
                    <a:pt x="146" y="3421"/>
                    <a:pt x="123" y="3492"/>
                  </a:cubicBezTo>
                  <a:cubicBezTo>
                    <a:pt x="126" y="3514"/>
                    <a:pt x="124" y="3537"/>
                    <a:pt x="132" y="3557"/>
                  </a:cubicBezTo>
                  <a:cubicBezTo>
                    <a:pt x="137" y="3569"/>
                    <a:pt x="153" y="3574"/>
                    <a:pt x="160" y="3585"/>
                  </a:cubicBezTo>
                  <a:cubicBezTo>
                    <a:pt x="166" y="3596"/>
                    <a:pt x="166" y="3610"/>
                    <a:pt x="169" y="3622"/>
                  </a:cubicBezTo>
                  <a:cubicBezTo>
                    <a:pt x="166" y="3744"/>
                    <a:pt x="238" y="3946"/>
                    <a:pt x="123" y="3984"/>
                  </a:cubicBezTo>
                  <a:cubicBezTo>
                    <a:pt x="106" y="4032"/>
                    <a:pt x="133" y="4029"/>
                    <a:pt x="160" y="4068"/>
                  </a:cubicBezTo>
                  <a:cubicBezTo>
                    <a:pt x="180" y="4129"/>
                    <a:pt x="190" y="4176"/>
                    <a:pt x="150" y="4235"/>
                  </a:cubicBezTo>
                  <a:cubicBezTo>
                    <a:pt x="153" y="4300"/>
                    <a:pt x="138" y="4369"/>
                    <a:pt x="160" y="4430"/>
                  </a:cubicBezTo>
                  <a:cubicBezTo>
                    <a:pt x="168" y="4451"/>
                    <a:pt x="203" y="4439"/>
                    <a:pt x="225" y="4439"/>
                  </a:cubicBezTo>
                  <a:cubicBezTo>
                    <a:pt x="414" y="4439"/>
                    <a:pt x="602" y="4433"/>
                    <a:pt x="791" y="4430"/>
                  </a:cubicBezTo>
                  <a:cubicBezTo>
                    <a:pt x="769" y="4225"/>
                    <a:pt x="795" y="4021"/>
                    <a:pt x="810" y="3817"/>
                  </a:cubicBezTo>
                  <a:cubicBezTo>
                    <a:pt x="773" y="3253"/>
                    <a:pt x="809" y="2682"/>
                    <a:pt x="819" y="2117"/>
                  </a:cubicBezTo>
                  <a:cubicBezTo>
                    <a:pt x="811" y="1822"/>
                    <a:pt x="816" y="1813"/>
                    <a:pt x="764" y="1597"/>
                  </a:cubicBezTo>
                  <a:cubicBezTo>
                    <a:pt x="753" y="1488"/>
                    <a:pt x="760" y="1388"/>
                    <a:pt x="810" y="1290"/>
                  </a:cubicBezTo>
                  <a:cubicBezTo>
                    <a:pt x="804" y="878"/>
                    <a:pt x="812" y="465"/>
                    <a:pt x="791" y="54"/>
                  </a:cubicBezTo>
                  <a:cubicBezTo>
                    <a:pt x="790" y="38"/>
                    <a:pt x="760" y="48"/>
                    <a:pt x="745" y="45"/>
                  </a:cubicBezTo>
                  <a:cubicBezTo>
                    <a:pt x="723" y="40"/>
                    <a:pt x="702" y="28"/>
                    <a:pt x="680" y="27"/>
                  </a:cubicBezTo>
                  <a:cubicBezTo>
                    <a:pt x="497" y="21"/>
                    <a:pt x="315" y="20"/>
                    <a:pt x="132" y="17"/>
                  </a:cubicBezTo>
                  <a:cubicBezTo>
                    <a:pt x="39" y="28"/>
                    <a:pt x="57" y="0"/>
                    <a:pt x="39" y="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2aa68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209" name="Picture 9" descr="j0217698"/>
            <p:cNvPicPr/>
            <p:nvPr/>
          </p:nvPicPr>
          <p:blipFill>
            <a:blip r:embed="rId3"/>
            <a:stretch/>
          </p:blipFill>
          <p:spPr>
            <a:xfrm>
              <a:off x="7956720" y="1052640"/>
              <a:ext cx="792000" cy="766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ver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900"/>
                            </p:stCondLst>
                            <p:childTnLst>
                              <p:par>
                                <p:cTn id="281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900"/>
                            </p:stCondLst>
                            <p:childTnLst>
                              <p:par>
                                <p:cTn id="292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0" name="Picture 2" descr="一九九七年六月三十日午夜将至,英国旗徐徐降下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3873600"/>
          </a:xfrm>
          <a:prstGeom prst="rect">
            <a:avLst/>
          </a:prstGeom>
          <a:ln w="0">
            <a:noFill/>
          </a:ln>
        </p:spPr>
      </p:pic>
      <p:sp>
        <p:nvSpPr>
          <p:cNvPr id="1211" name="Text Box 3"/>
          <p:cNvSpPr/>
          <p:nvPr/>
        </p:nvSpPr>
        <p:spPr>
          <a:xfrm>
            <a:off x="1258920" y="537372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方正华隶简体"/>
                <a:ea typeface="方正华隶简体"/>
              </a:rPr>
              <a:t>一九九七年六月三十日午夜将至</a:t>
            </a:r>
            <a:r>
              <a:rPr b="1" lang="en-US" sz="2400" spc="-1" strike="noStrike">
                <a:solidFill>
                  <a:srgbClr val="800000"/>
                </a:solidFill>
                <a:latin typeface="方正华隶简体"/>
                <a:ea typeface="方正华隶简体"/>
              </a:rPr>
              <a:t>,</a:t>
            </a:r>
            <a:r>
              <a:rPr b="1" lang="zh-CN" sz="2400" spc="-1" strike="noStrike">
                <a:solidFill>
                  <a:srgbClr val="800000"/>
                </a:solidFill>
                <a:latin typeface="方正华隶简体"/>
                <a:ea typeface="方正华隶简体"/>
              </a:rPr>
              <a:t>英国旗徐徐降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2" name="Text Box 4"/>
          <p:cNvSpPr/>
          <p:nvPr/>
        </p:nvSpPr>
        <p:spPr>
          <a:xfrm>
            <a:off x="684360" y="380880"/>
            <a:ext cx="56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2aa68"/>
                </a:solidFill>
                <a:latin typeface="Arial"/>
                <a:ea typeface="方正小标宋简体"/>
              </a:rPr>
              <a:t>米字旗徐徐降下</a:t>
            </a:r>
            <a:r>
              <a:rPr b="1" lang="en-US" sz="4400" spc="-1" strike="noStrike">
                <a:solidFill>
                  <a:srgbClr val="f2aa68"/>
                </a:solidFill>
                <a:latin typeface="Arial"/>
                <a:ea typeface="方正小标宋简体"/>
              </a:rPr>
              <a:t>…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13" name="Group 5"/>
          <p:cNvGrpSpPr/>
          <p:nvPr/>
        </p:nvGrpSpPr>
        <p:grpSpPr>
          <a:xfrm>
            <a:off x="8101080" y="-100080"/>
            <a:ext cx="1224000" cy="6337440"/>
            <a:chOff x="8101080" y="-100080"/>
            <a:chExt cx="1224000" cy="6337440"/>
          </a:xfrm>
        </p:grpSpPr>
        <p:sp>
          <p:nvSpPr>
            <p:cNvPr id="1214" name="Freeform 6"/>
            <p:cNvSpPr/>
            <p:nvPr/>
          </p:nvSpPr>
          <p:spPr>
            <a:xfrm>
              <a:off x="8294760" y="-100080"/>
              <a:ext cx="1030320" cy="6337440"/>
            </a:xfrm>
            <a:custGeom>
              <a:avLst/>
              <a:gdLst/>
              <a:ahLst/>
              <a:rect l="l" t="t" r="r" b="b"/>
              <a:pathLst>
                <a:path w="819" h="4451">
                  <a:moveTo>
                    <a:pt x="39" y="54"/>
                  </a:moveTo>
                  <a:cubicBezTo>
                    <a:pt x="46" y="91"/>
                    <a:pt x="56" y="122"/>
                    <a:pt x="67" y="157"/>
                  </a:cubicBezTo>
                  <a:cubicBezTo>
                    <a:pt x="63" y="175"/>
                    <a:pt x="33" y="234"/>
                    <a:pt x="58" y="250"/>
                  </a:cubicBezTo>
                  <a:cubicBezTo>
                    <a:pt x="79" y="264"/>
                    <a:pt x="108" y="260"/>
                    <a:pt x="132" y="268"/>
                  </a:cubicBezTo>
                  <a:cubicBezTo>
                    <a:pt x="129" y="290"/>
                    <a:pt x="133" y="313"/>
                    <a:pt x="123" y="333"/>
                  </a:cubicBezTo>
                  <a:cubicBezTo>
                    <a:pt x="118" y="342"/>
                    <a:pt x="12" y="361"/>
                    <a:pt x="11" y="361"/>
                  </a:cubicBezTo>
                  <a:cubicBezTo>
                    <a:pt x="24" y="509"/>
                    <a:pt x="0" y="493"/>
                    <a:pt x="141" y="510"/>
                  </a:cubicBezTo>
                  <a:cubicBezTo>
                    <a:pt x="150" y="513"/>
                    <a:pt x="165" y="510"/>
                    <a:pt x="169" y="519"/>
                  </a:cubicBezTo>
                  <a:cubicBezTo>
                    <a:pt x="185" y="557"/>
                    <a:pt x="151" y="559"/>
                    <a:pt x="132" y="565"/>
                  </a:cubicBezTo>
                  <a:cubicBezTo>
                    <a:pt x="129" y="574"/>
                    <a:pt x="121" y="583"/>
                    <a:pt x="123" y="593"/>
                  </a:cubicBezTo>
                  <a:cubicBezTo>
                    <a:pt x="125" y="604"/>
                    <a:pt x="137" y="611"/>
                    <a:pt x="141" y="621"/>
                  </a:cubicBezTo>
                  <a:cubicBezTo>
                    <a:pt x="149" y="639"/>
                    <a:pt x="154" y="658"/>
                    <a:pt x="160" y="677"/>
                  </a:cubicBezTo>
                  <a:cubicBezTo>
                    <a:pt x="166" y="696"/>
                    <a:pt x="178" y="733"/>
                    <a:pt x="178" y="733"/>
                  </a:cubicBezTo>
                  <a:cubicBezTo>
                    <a:pt x="169" y="742"/>
                    <a:pt x="161" y="753"/>
                    <a:pt x="150" y="760"/>
                  </a:cubicBezTo>
                  <a:cubicBezTo>
                    <a:pt x="121" y="779"/>
                    <a:pt x="106" y="758"/>
                    <a:pt x="150" y="788"/>
                  </a:cubicBezTo>
                  <a:cubicBezTo>
                    <a:pt x="147" y="801"/>
                    <a:pt x="149" y="816"/>
                    <a:pt x="141" y="826"/>
                  </a:cubicBezTo>
                  <a:cubicBezTo>
                    <a:pt x="135" y="834"/>
                    <a:pt x="117" y="826"/>
                    <a:pt x="113" y="835"/>
                  </a:cubicBezTo>
                  <a:cubicBezTo>
                    <a:pt x="69" y="933"/>
                    <a:pt x="153" y="901"/>
                    <a:pt x="48" y="918"/>
                  </a:cubicBezTo>
                  <a:cubicBezTo>
                    <a:pt x="130" y="973"/>
                    <a:pt x="72" y="1094"/>
                    <a:pt x="58" y="1179"/>
                  </a:cubicBezTo>
                  <a:cubicBezTo>
                    <a:pt x="61" y="1219"/>
                    <a:pt x="60" y="1260"/>
                    <a:pt x="67" y="1299"/>
                  </a:cubicBezTo>
                  <a:cubicBezTo>
                    <a:pt x="69" y="1310"/>
                    <a:pt x="82" y="1316"/>
                    <a:pt x="85" y="1327"/>
                  </a:cubicBezTo>
                  <a:cubicBezTo>
                    <a:pt x="92" y="1357"/>
                    <a:pt x="90" y="1389"/>
                    <a:pt x="95" y="1420"/>
                  </a:cubicBezTo>
                  <a:cubicBezTo>
                    <a:pt x="97" y="1433"/>
                    <a:pt x="101" y="1445"/>
                    <a:pt x="104" y="1457"/>
                  </a:cubicBezTo>
                  <a:cubicBezTo>
                    <a:pt x="98" y="1557"/>
                    <a:pt x="69" y="1693"/>
                    <a:pt x="132" y="1782"/>
                  </a:cubicBezTo>
                  <a:cubicBezTo>
                    <a:pt x="135" y="1795"/>
                    <a:pt x="133" y="1810"/>
                    <a:pt x="141" y="1820"/>
                  </a:cubicBezTo>
                  <a:cubicBezTo>
                    <a:pt x="147" y="1828"/>
                    <a:pt x="163" y="1821"/>
                    <a:pt x="169" y="1829"/>
                  </a:cubicBezTo>
                  <a:cubicBezTo>
                    <a:pt x="183" y="1847"/>
                    <a:pt x="180" y="1873"/>
                    <a:pt x="188" y="1894"/>
                  </a:cubicBezTo>
                  <a:cubicBezTo>
                    <a:pt x="159" y="2000"/>
                    <a:pt x="208" y="1862"/>
                    <a:pt x="132" y="1940"/>
                  </a:cubicBezTo>
                  <a:cubicBezTo>
                    <a:pt x="121" y="1951"/>
                    <a:pt x="126" y="1971"/>
                    <a:pt x="123" y="1987"/>
                  </a:cubicBezTo>
                  <a:cubicBezTo>
                    <a:pt x="130" y="2053"/>
                    <a:pt x="134" y="2085"/>
                    <a:pt x="113" y="2145"/>
                  </a:cubicBezTo>
                  <a:cubicBezTo>
                    <a:pt x="122" y="2151"/>
                    <a:pt x="134" y="2154"/>
                    <a:pt x="141" y="2163"/>
                  </a:cubicBezTo>
                  <a:cubicBezTo>
                    <a:pt x="160" y="2186"/>
                    <a:pt x="124" y="2281"/>
                    <a:pt x="113" y="2312"/>
                  </a:cubicBezTo>
                  <a:cubicBezTo>
                    <a:pt x="134" y="2405"/>
                    <a:pt x="142" y="2412"/>
                    <a:pt x="132" y="2507"/>
                  </a:cubicBezTo>
                  <a:cubicBezTo>
                    <a:pt x="108" y="2408"/>
                    <a:pt x="132" y="2532"/>
                    <a:pt x="132" y="2433"/>
                  </a:cubicBezTo>
                  <a:cubicBezTo>
                    <a:pt x="132" y="2423"/>
                    <a:pt x="126" y="2452"/>
                    <a:pt x="123" y="2461"/>
                  </a:cubicBezTo>
                  <a:cubicBezTo>
                    <a:pt x="120" y="2470"/>
                    <a:pt x="116" y="2479"/>
                    <a:pt x="113" y="2488"/>
                  </a:cubicBezTo>
                  <a:cubicBezTo>
                    <a:pt x="134" y="2641"/>
                    <a:pt x="86" y="2617"/>
                    <a:pt x="169" y="2637"/>
                  </a:cubicBezTo>
                  <a:cubicBezTo>
                    <a:pt x="181" y="2655"/>
                    <a:pt x="212" y="2686"/>
                    <a:pt x="178" y="2711"/>
                  </a:cubicBezTo>
                  <a:cubicBezTo>
                    <a:pt x="169" y="2718"/>
                    <a:pt x="159" y="2699"/>
                    <a:pt x="150" y="2693"/>
                  </a:cubicBezTo>
                  <a:cubicBezTo>
                    <a:pt x="153" y="2684"/>
                    <a:pt x="170" y="2665"/>
                    <a:pt x="160" y="2665"/>
                  </a:cubicBezTo>
                  <a:cubicBezTo>
                    <a:pt x="149" y="2665"/>
                    <a:pt x="143" y="2682"/>
                    <a:pt x="141" y="2693"/>
                  </a:cubicBezTo>
                  <a:cubicBezTo>
                    <a:pt x="139" y="2703"/>
                    <a:pt x="147" y="2712"/>
                    <a:pt x="150" y="2721"/>
                  </a:cubicBezTo>
                  <a:cubicBezTo>
                    <a:pt x="133" y="2791"/>
                    <a:pt x="74" y="2906"/>
                    <a:pt x="160" y="2934"/>
                  </a:cubicBezTo>
                  <a:cubicBezTo>
                    <a:pt x="169" y="2943"/>
                    <a:pt x="184" y="2949"/>
                    <a:pt x="188" y="2962"/>
                  </a:cubicBezTo>
                  <a:cubicBezTo>
                    <a:pt x="193" y="2980"/>
                    <a:pt x="143" y="3065"/>
                    <a:pt x="132" y="3083"/>
                  </a:cubicBezTo>
                  <a:cubicBezTo>
                    <a:pt x="135" y="3099"/>
                    <a:pt x="135" y="3115"/>
                    <a:pt x="141" y="3130"/>
                  </a:cubicBezTo>
                  <a:cubicBezTo>
                    <a:pt x="145" y="3140"/>
                    <a:pt x="159" y="3146"/>
                    <a:pt x="160" y="3157"/>
                  </a:cubicBezTo>
                  <a:cubicBezTo>
                    <a:pt x="162" y="3171"/>
                    <a:pt x="146" y="3215"/>
                    <a:pt x="141" y="3232"/>
                  </a:cubicBezTo>
                  <a:cubicBezTo>
                    <a:pt x="150" y="3238"/>
                    <a:pt x="167" y="3239"/>
                    <a:pt x="169" y="3250"/>
                  </a:cubicBezTo>
                  <a:cubicBezTo>
                    <a:pt x="181" y="3323"/>
                    <a:pt x="146" y="3421"/>
                    <a:pt x="123" y="3492"/>
                  </a:cubicBezTo>
                  <a:cubicBezTo>
                    <a:pt x="126" y="3514"/>
                    <a:pt x="124" y="3537"/>
                    <a:pt x="132" y="3557"/>
                  </a:cubicBezTo>
                  <a:cubicBezTo>
                    <a:pt x="137" y="3569"/>
                    <a:pt x="153" y="3574"/>
                    <a:pt x="160" y="3585"/>
                  </a:cubicBezTo>
                  <a:cubicBezTo>
                    <a:pt x="166" y="3596"/>
                    <a:pt x="166" y="3610"/>
                    <a:pt x="169" y="3622"/>
                  </a:cubicBezTo>
                  <a:cubicBezTo>
                    <a:pt x="166" y="3744"/>
                    <a:pt x="238" y="3946"/>
                    <a:pt x="123" y="3984"/>
                  </a:cubicBezTo>
                  <a:cubicBezTo>
                    <a:pt x="106" y="4032"/>
                    <a:pt x="133" y="4029"/>
                    <a:pt x="160" y="4068"/>
                  </a:cubicBezTo>
                  <a:cubicBezTo>
                    <a:pt x="180" y="4129"/>
                    <a:pt x="190" y="4176"/>
                    <a:pt x="150" y="4235"/>
                  </a:cubicBezTo>
                  <a:cubicBezTo>
                    <a:pt x="153" y="4300"/>
                    <a:pt x="138" y="4369"/>
                    <a:pt x="160" y="4430"/>
                  </a:cubicBezTo>
                  <a:cubicBezTo>
                    <a:pt x="168" y="4451"/>
                    <a:pt x="203" y="4439"/>
                    <a:pt x="225" y="4439"/>
                  </a:cubicBezTo>
                  <a:cubicBezTo>
                    <a:pt x="414" y="4439"/>
                    <a:pt x="602" y="4433"/>
                    <a:pt x="791" y="4430"/>
                  </a:cubicBezTo>
                  <a:cubicBezTo>
                    <a:pt x="769" y="4225"/>
                    <a:pt x="795" y="4021"/>
                    <a:pt x="810" y="3817"/>
                  </a:cubicBezTo>
                  <a:cubicBezTo>
                    <a:pt x="773" y="3253"/>
                    <a:pt x="809" y="2682"/>
                    <a:pt x="819" y="2117"/>
                  </a:cubicBezTo>
                  <a:cubicBezTo>
                    <a:pt x="811" y="1822"/>
                    <a:pt x="816" y="1813"/>
                    <a:pt x="764" y="1597"/>
                  </a:cubicBezTo>
                  <a:cubicBezTo>
                    <a:pt x="753" y="1488"/>
                    <a:pt x="760" y="1388"/>
                    <a:pt x="810" y="1290"/>
                  </a:cubicBezTo>
                  <a:cubicBezTo>
                    <a:pt x="804" y="878"/>
                    <a:pt x="812" y="465"/>
                    <a:pt x="791" y="54"/>
                  </a:cubicBezTo>
                  <a:cubicBezTo>
                    <a:pt x="790" y="38"/>
                    <a:pt x="760" y="48"/>
                    <a:pt x="745" y="45"/>
                  </a:cubicBezTo>
                  <a:cubicBezTo>
                    <a:pt x="723" y="40"/>
                    <a:pt x="702" y="28"/>
                    <a:pt x="680" y="27"/>
                  </a:cubicBezTo>
                  <a:cubicBezTo>
                    <a:pt x="497" y="21"/>
                    <a:pt x="315" y="20"/>
                    <a:pt x="132" y="17"/>
                  </a:cubicBezTo>
                  <a:cubicBezTo>
                    <a:pt x="39" y="28"/>
                    <a:pt x="57" y="0"/>
                    <a:pt x="39" y="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2aa68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215" name="Picture 7" descr="j0217698"/>
            <p:cNvPicPr/>
            <p:nvPr/>
          </p:nvPicPr>
          <p:blipFill>
            <a:blip r:embed="rId2"/>
            <a:stretch/>
          </p:blipFill>
          <p:spPr>
            <a:xfrm>
              <a:off x="8101080" y="1341360"/>
              <a:ext cx="738000" cy="669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16" name="Picture 8" descr="j0285410"/>
          <p:cNvPicPr/>
          <p:nvPr/>
        </p:nvPicPr>
        <p:blipFill>
          <a:blip r:embed="rId3"/>
          <a:stretch/>
        </p:blipFill>
        <p:spPr>
          <a:xfrm>
            <a:off x="8317080" y="6157800"/>
            <a:ext cx="428400" cy="408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3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3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7" name="Picture 2" descr="手捧刚刚降下的英国国旗，彭定康神情黯然"/>
          <p:cNvPicPr/>
          <p:nvPr/>
        </p:nvPicPr>
        <p:blipFill>
          <a:blip r:embed="rId1"/>
          <a:stretch/>
        </p:blipFill>
        <p:spPr>
          <a:xfrm>
            <a:off x="1619280" y="0"/>
            <a:ext cx="6033960" cy="6858000"/>
          </a:xfrm>
          <a:prstGeom prst="rect">
            <a:avLst/>
          </a:prstGeom>
          <a:ln w="0">
            <a:noFill/>
          </a:ln>
        </p:spPr>
      </p:pic>
      <p:sp>
        <p:nvSpPr>
          <p:cNvPr id="1218" name="Text Box 3"/>
          <p:cNvSpPr/>
          <p:nvPr/>
        </p:nvSpPr>
        <p:spPr>
          <a:xfrm>
            <a:off x="177120" y="549360"/>
            <a:ext cx="91188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aa68"/>
                </a:solidFill>
                <a:latin typeface="Arial"/>
                <a:ea typeface="方正小标宋简体"/>
              </a:rPr>
              <a:t>手捧刚刚降下的英国国旗，彭定康神情黯然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19" name="Group 4"/>
          <p:cNvGrpSpPr/>
          <p:nvPr/>
        </p:nvGrpSpPr>
        <p:grpSpPr>
          <a:xfrm>
            <a:off x="8101080" y="-100080"/>
            <a:ext cx="1224000" cy="6337440"/>
            <a:chOff x="8101080" y="-100080"/>
            <a:chExt cx="1224000" cy="6337440"/>
          </a:xfrm>
        </p:grpSpPr>
        <p:sp>
          <p:nvSpPr>
            <p:cNvPr id="1220" name="Freeform 5"/>
            <p:cNvSpPr/>
            <p:nvPr/>
          </p:nvSpPr>
          <p:spPr>
            <a:xfrm>
              <a:off x="8294760" y="-100080"/>
              <a:ext cx="1030320" cy="6337440"/>
            </a:xfrm>
            <a:custGeom>
              <a:avLst/>
              <a:gdLst/>
              <a:ahLst/>
              <a:rect l="l" t="t" r="r" b="b"/>
              <a:pathLst>
                <a:path w="819" h="4451">
                  <a:moveTo>
                    <a:pt x="39" y="54"/>
                  </a:moveTo>
                  <a:cubicBezTo>
                    <a:pt x="46" y="91"/>
                    <a:pt x="56" y="122"/>
                    <a:pt x="67" y="157"/>
                  </a:cubicBezTo>
                  <a:cubicBezTo>
                    <a:pt x="63" y="175"/>
                    <a:pt x="33" y="234"/>
                    <a:pt x="58" y="250"/>
                  </a:cubicBezTo>
                  <a:cubicBezTo>
                    <a:pt x="79" y="264"/>
                    <a:pt x="108" y="260"/>
                    <a:pt x="132" y="268"/>
                  </a:cubicBezTo>
                  <a:cubicBezTo>
                    <a:pt x="129" y="290"/>
                    <a:pt x="133" y="313"/>
                    <a:pt x="123" y="333"/>
                  </a:cubicBezTo>
                  <a:cubicBezTo>
                    <a:pt x="118" y="342"/>
                    <a:pt x="12" y="361"/>
                    <a:pt x="11" y="361"/>
                  </a:cubicBezTo>
                  <a:cubicBezTo>
                    <a:pt x="24" y="509"/>
                    <a:pt x="0" y="493"/>
                    <a:pt x="141" y="510"/>
                  </a:cubicBezTo>
                  <a:cubicBezTo>
                    <a:pt x="150" y="513"/>
                    <a:pt x="165" y="510"/>
                    <a:pt x="169" y="519"/>
                  </a:cubicBezTo>
                  <a:cubicBezTo>
                    <a:pt x="185" y="557"/>
                    <a:pt x="151" y="559"/>
                    <a:pt x="132" y="565"/>
                  </a:cubicBezTo>
                  <a:cubicBezTo>
                    <a:pt x="129" y="574"/>
                    <a:pt x="121" y="583"/>
                    <a:pt x="123" y="593"/>
                  </a:cubicBezTo>
                  <a:cubicBezTo>
                    <a:pt x="125" y="604"/>
                    <a:pt x="137" y="611"/>
                    <a:pt x="141" y="621"/>
                  </a:cubicBezTo>
                  <a:cubicBezTo>
                    <a:pt x="149" y="639"/>
                    <a:pt x="154" y="658"/>
                    <a:pt x="160" y="677"/>
                  </a:cubicBezTo>
                  <a:cubicBezTo>
                    <a:pt x="166" y="696"/>
                    <a:pt x="178" y="733"/>
                    <a:pt x="178" y="733"/>
                  </a:cubicBezTo>
                  <a:cubicBezTo>
                    <a:pt x="169" y="742"/>
                    <a:pt x="161" y="753"/>
                    <a:pt x="150" y="760"/>
                  </a:cubicBezTo>
                  <a:cubicBezTo>
                    <a:pt x="121" y="779"/>
                    <a:pt x="106" y="758"/>
                    <a:pt x="150" y="788"/>
                  </a:cubicBezTo>
                  <a:cubicBezTo>
                    <a:pt x="147" y="801"/>
                    <a:pt x="149" y="816"/>
                    <a:pt x="141" y="826"/>
                  </a:cubicBezTo>
                  <a:cubicBezTo>
                    <a:pt x="135" y="834"/>
                    <a:pt x="117" y="826"/>
                    <a:pt x="113" y="835"/>
                  </a:cubicBezTo>
                  <a:cubicBezTo>
                    <a:pt x="69" y="933"/>
                    <a:pt x="153" y="901"/>
                    <a:pt x="48" y="918"/>
                  </a:cubicBezTo>
                  <a:cubicBezTo>
                    <a:pt x="130" y="973"/>
                    <a:pt x="72" y="1094"/>
                    <a:pt x="58" y="1179"/>
                  </a:cubicBezTo>
                  <a:cubicBezTo>
                    <a:pt x="61" y="1219"/>
                    <a:pt x="60" y="1260"/>
                    <a:pt x="67" y="1299"/>
                  </a:cubicBezTo>
                  <a:cubicBezTo>
                    <a:pt x="69" y="1310"/>
                    <a:pt x="82" y="1316"/>
                    <a:pt x="85" y="1327"/>
                  </a:cubicBezTo>
                  <a:cubicBezTo>
                    <a:pt x="92" y="1357"/>
                    <a:pt x="90" y="1389"/>
                    <a:pt x="95" y="1420"/>
                  </a:cubicBezTo>
                  <a:cubicBezTo>
                    <a:pt x="97" y="1433"/>
                    <a:pt x="101" y="1445"/>
                    <a:pt x="104" y="1457"/>
                  </a:cubicBezTo>
                  <a:cubicBezTo>
                    <a:pt x="98" y="1557"/>
                    <a:pt x="69" y="1693"/>
                    <a:pt x="132" y="1782"/>
                  </a:cubicBezTo>
                  <a:cubicBezTo>
                    <a:pt x="135" y="1795"/>
                    <a:pt x="133" y="1810"/>
                    <a:pt x="141" y="1820"/>
                  </a:cubicBezTo>
                  <a:cubicBezTo>
                    <a:pt x="147" y="1828"/>
                    <a:pt x="163" y="1821"/>
                    <a:pt x="169" y="1829"/>
                  </a:cubicBezTo>
                  <a:cubicBezTo>
                    <a:pt x="183" y="1847"/>
                    <a:pt x="180" y="1873"/>
                    <a:pt x="188" y="1894"/>
                  </a:cubicBezTo>
                  <a:cubicBezTo>
                    <a:pt x="159" y="2000"/>
                    <a:pt x="208" y="1862"/>
                    <a:pt x="132" y="1940"/>
                  </a:cubicBezTo>
                  <a:cubicBezTo>
                    <a:pt x="121" y="1951"/>
                    <a:pt x="126" y="1971"/>
                    <a:pt x="123" y="1987"/>
                  </a:cubicBezTo>
                  <a:cubicBezTo>
                    <a:pt x="130" y="2053"/>
                    <a:pt x="134" y="2085"/>
                    <a:pt x="113" y="2145"/>
                  </a:cubicBezTo>
                  <a:cubicBezTo>
                    <a:pt x="122" y="2151"/>
                    <a:pt x="134" y="2154"/>
                    <a:pt x="141" y="2163"/>
                  </a:cubicBezTo>
                  <a:cubicBezTo>
                    <a:pt x="160" y="2186"/>
                    <a:pt x="124" y="2281"/>
                    <a:pt x="113" y="2312"/>
                  </a:cubicBezTo>
                  <a:cubicBezTo>
                    <a:pt x="134" y="2405"/>
                    <a:pt x="142" y="2412"/>
                    <a:pt x="132" y="2507"/>
                  </a:cubicBezTo>
                  <a:cubicBezTo>
                    <a:pt x="108" y="2408"/>
                    <a:pt x="132" y="2532"/>
                    <a:pt x="132" y="2433"/>
                  </a:cubicBezTo>
                  <a:cubicBezTo>
                    <a:pt x="132" y="2423"/>
                    <a:pt x="126" y="2452"/>
                    <a:pt x="123" y="2461"/>
                  </a:cubicBezTo>
                  <a:cubicBezTo>
                    <a:pt x="120" y="2470"/>
                    <a:pt x="116" y="2479"/>
                    <a:pt x="113" y="2488"/>
                  </a:cubicBezTo>
                  <a:cubicBezTo>
                    <a:pt x="134" y="2641"/>
                    <a:pt x="86" y="2617"/>
                    <a:pt x="169" y="2637"/>
                  </a:cubicBezTo>
                  <a:cubicBezTo>
                    <a:pt x="181" y="2655"/>
                    <a:pt x="212" y="2686"/>
                    <a:pt x="178" y="2711"/>
                  </a:cubicBezTo>
                  <a:cubicBezTo>
                    <a:pt x="169" y="2718"/>
                    <a:pt x="159" y="2699"/>
                    <a:pt x="150" y="2693"/>
                  </a:cubicBezTo>
                  <a:cubicBezTo>
                    <a:pt x="153" y="2684"/>
                    <a:pt x="170" y="2665"/>
                    <a:pt x="160" y="2665"/>
                  </a:cubicBezTo>
                  <a:cubicBezTo>
                    <a:pt x="149" y="2665"/>
                    <a:pt x="143" y="2682"/>
                    <a:pt x="141" y="2693"/>
                  </a:cubicBezTo>
                  <a:cubicBezTo>
                    <a:pt x="139" y="2703"/>
                    <a:pt x="147" y="2712"/>
                    <a:pt x="150" y="2721"/>
                  </a:cubicBezTo>
                  <a:cubicBezTo>
                    <a:pt x="133" y="2791"/>
                    <a:pt x="74" y="2906"/>
                    <a:pt x="160" y="2934"/>
                  </a:cubicBezTo>
                  <a:cubicBezTo>
                    <a:pt x="169" y="2943"/>
                    <a:pt x="184" y="2949"/>
                    <a:pt x="188" y="2962"/>
                  </a:cubicBezTo>
                  <a:cubicBezTo>
                    <a:pt x="193" y="2980"/>
                    <a:pt x="143" y="3065"/>
                    <a:pt x="132" y="3083"/>
                  </a:cubicBezTo>
                  <a:cubicBezTo>
                    <a:pt x="135" y="3099"/>
                    <a:pt x="135" y="3115"/>
                    <a:pt x="141" y="3130"/>
                  </a:cubicBezTo>
                  <a:cubicBezTo>
                    <a:pt x="145" y="3140"/>
                    <a:pt x="159" y="3146"/>
                    <a:pt x="160" y="3157"/>
                  </a:cubicBezTo>
                  <a:cubicBezTo>
                    <a:pt x="162" y="3171"/>
                    <a:pt x="146" y="3215"/>
                    <a:pt x="141" y="3232"/>
                  </a:cubicBezTo>
                  <a:cubicBezTo>
                    <a:pt x="150" y="3238"/>
                    <a:pt x="167" y="3239"/>
                    <a:pt x="169" y="3250"/>
                  </a:cubicBezTo>
                  <a:cubicBezTo>
                    <a:pt x="181" y="3323"/>
                    <a:pt x="146" y="3421"/>
                    <a:pt x="123" y="3492"/>
                  </a:cubicBezTo>
                  <a:cubicBezTo>
                    <a:pt x="126" y="3514"/>
                    <a:pt x="124" y="3537"/>
                    <a:pt x="132" y="3557"/>
                  </a:cubicBezTo>
                  <a:cubicBezTo>
                    <a:pt x="137" y="3569"/>
                    <a:pt x="153" y="3574"/>
                    <a:pt x="160" y="3585"/>
                  </a:cubicBezTo>
                  <a:cubicBezTo>
                    <a:pt x="166" y="3596"/>
                    <a:pt x="166" y="3610"/>
                    <a:pt x="169" y="3622"/>
                  </a:cubicBezTo>
                  <a:cubicBezTo>
                    <a:pt x="166" y="3744"/>
                    <a:pt x="238" y="3946"/>
                    <a:pt x="123" y="3984"/>
                  </a:cubicBezTo>
                  <a:cubicBezTo>
                    <a:pt x="106" y="4032"/>
                    <a:pt x="133" y="4029"/>
                    <a:pt x="160" y="4068"/>
                  </a:cubicBezTo>
                  <a:cubicBezTo>
                    <a:pt x="180" y="4129"/>
                    <a:pt x="190" y="4176"/>
                    <a:pt x="150" y="4235"/>
                  </a:cubicBezTo>
                  <a:cubicBezTo>
                    <a:pt x="153" y="4300"/>
                    <a:pt x="138" y="4369"/>
                    <a:pt x="160" y="4430"/>
                  </a:cubicBezTo>
                  <a:cubicBezTo>
                    <a:pt x="168" y="4451"/>
                    <a:pt x="203" y="4439"/>
                    <a:pt x="225" y="4439"/>
                  </a:cubicBezTo>
                  <a:cubicBezTo>
                    <a:pt x="414" y="4439"/>
                    <a:pt x="602" y="4433"/>
                    <a:pt x="791" y="4430"/>
                  </a:cubicBezTo>
                  <a:cubicBezTo>
                    <a:pt x="769" y="4225"/>
                    <a:pt x="795" y="4021"/>
                    <a:pt x="810" y="3817"/>
                  </a:cubicBezTo>
                  <a:cubicBezTo>
                    <a:pt x="773" y="3253"/>
                    <a:pt x="809" y="2682"/>
                    <a:pt x="819" y="2117"/>
                  </a:cubicBezTo>
                  <a:cubicBezTo>
                    <a:pt x="811" y="1822"/>
                    <a:pt x="816" y="1813"/>
                    <a:pt x="764" y="1597"/>
                  </a:cubicBezTo>
                  <a:cubicBezTo>
                    <a:pt x="753" y="1488"/>
                    <a:pt x="760" y="1388"/>
                    <a:pt x="810" y="1290"/>
                  </a:cubicBezTo>
                  <a:cubicBezTo>
                    <a:pt x="804" y="878"/>
                    <a:pt x="812" y="465"/>
                    <a:pt x="791" y="54"/>
                  </a:cubicBezTo>
                  <a:cubicBezTo>
                    <a:pt x="790" y="38"/>
                    <a:pt x="760" y="48"/>
                    <a:pt x="745" y="45"/>
                  </a:cubicBezTo>
                  <a:cubicBezTo>
                    <a:pt x="723" y="40"/>
                    <a:pt x="702" y="28"/>
                    <a:pt x="680" y="27"/>
                  </a:cubicBezTo>
                  <a:cubicBezTo>
                    <a:pt x="497" y="21"/>
                    <a:pt x="315" y="20"/>
                    <a:pt x="132" y="17"/>
                  </a:cubicBezTo>
                  <a:cubicBezTo>
                    <a:pt x="39" y="28"/>
                    <a:pt x="57" y="0"/>
                    <a:pt x="39" y="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2aa68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221" name="Picture 6" descr="j0217698"/>
            <p:cNvPicPr/>
            <p:nvPr/>
          </p:nvPicPr>
          <p:blipFill>
            <a:blip r:embed="rId2"/>
            <a:stretch/>
          </p:blipFill>
          <p:spPr>
            <a:xfrm>
              <a:off x="8101080" y="1341360"/>
              <a:ext cx="738000" cy="669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22" name="Picture 7" descr="j0285410"/>
          <p:cNvPicPr/>
          <p:nvPr/>
        </p:nvPicPr>
        <p:blipFill>
          <a:blip r:embed="rId3"/>
          <a:stretch/>
        </p:blipFill>
        <p:spPr>
          <a:xfrm>
            <a:off x="8244000" y="6093000"/>
            <a:ext cx="428400" cy="407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400"/>
                            </p:stCondLst>
                            <p:childTnLst>
                              <p:par>
                                <p:cTn id="328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3" name="Picture 2" descr="1997年7月1日英军卷旗走人"/>
          <p:cNvPicPr/>
          <p:nvPr/>
        </p:nvPicPr>
        <p:blipFill>
          <a:blip r:embed="rId1"/>
          <a:stretch/>
        </p:blipFill>
        <p:spPr>
          <a:xfrm>
            <a:off x="1692360" y="0"/>
            <a:ext cx="5221080" cy="6858000"/>
          </a:xfrm>
          <a:prstGeom prst="rect">
            <a:avLst/>
          </a:prstGeom>
          <a:ln w="0">
            <a:noFill/>
          </a:ln>
        </p:spPr>
      </p:pic>
      <p:sp>
        <p:nvSpPr>
          <p:cNvPr id="1224" name="Text Box 3"/>
          <p:cNvSpPr/>
          <p:nvPr/>
        </p:nvSpPr>
        <p:spPr>
          <a:xfrm>
            <a:off x="826920" y="404640"/>
            <a:ext cx="59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aa68"/>
                </a:solidFill>
                <a:latin typeface="方正小标宋简体"/>
                <a:ea typeface="方正小标宋简体"/>
              </a:rPr>
              <a:t>1997</a:t>
            </a:r>
            <a:r>
              <a:rPr b="1" lang="zh-CN" sz="3200" spc="-1" strike="noStrike">
                <a:solidFill>
                  <a:srgbClr val="f2aa68"/>
                </a:solidFill>
                <a:latin typeface="方正小标宋简体"/>
                <a:ea typeface="方正小标宋简体"/>
              </a:rPr>
              <a:t>年</a:t>
            </a:r>
            <a:r>
              <a:rPr b="1" lang="en-US" sz="3200" spc="-1" strike="noStrike">
                <a:solidFill>
                  <a:srgbClr val="f2aa68"/>
                </a:solidFill>
                <a:latin typeface="方正小标宋简体"/>
                <a:ea typeface="方正小标宋简体"/>
              </a:rPr>
              <a:t>7</a:t>
            </a:r>
            <a:r>
              <a:rPr b="1" lang="zh-CN" sz="3200" spc="-1" strike="noStrike">
                <a:solidFill>
                  <a:srgbClr val="f2aa68"/>
                </a:solidFill>
                <a:latin typeface="方正小标宋简体"/>
                <a:ea typeface="方正小标宋简体"/>
              </a:rPr>
              <a:t>月</a:t>
            </a:r>
            <a:r>
              <a:rPr b="1" lang="en-US" sz="3200" spc="-1" strike="noStrike">
                <a:solidFill>
                  <a:srgbClr val="f2aa68"/>
                </a:solidFill>
                <a:latin typeface="方正小标宋简体"/>
                <a:ea typeface="方正小标宋简体"/>
              </a:rPr>
              <a:t>1</a:t>
            </a:r>
            <a:r>
              <a:rPr b="1" lang="zh-CN" sz="3200" spc="-1" strike="noStrike">
                <a:solidFill>
                  <a:srgbClr val="f2aa68"/>
                </a:solidFill>
                <a:latin typeface="方正小标宋简体"/>
                <a:ea typeface="方正小标宋简体"/>
              </a:rPr>
              <a:t>日英军卷旗走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25" name="Group 4"/>
          <p:cNvGrpSpPr/>
          <p:nvPr/>
        </p:nvGrpSpPr>
        <p:grpSpPr>
          <a:xfrm>
            <a:off x="8101080" y="-100080"/>
            <a:ext cx="1224000" cy="6337440"/>
            <a:chOff x="8101080" y="-100080"/>
            <a:chExt cx="1224000" cy="6337440"/>
          </a:xfrm>
        </p:grpSpPr>
        <p:sp>
          <p:nvSpPr>
            <p:cNvPr id="1226" name="Freeform 5"/>
            <p:cNvSpPr/>
            <p:nvPr/>
          </p:nvSpPr>
          <p:spPr>
            <a:xfrm>
              <a:off x="8294760" y="-100080"/>
              <a:ext cx="1030320" cy="6337440"/>
            </a:xfrm>
            <a:custGeom>
              <a:avLst/>
              <a:gdLst/>
              <a:ahLst/>
              <a:rect l="l" t="t" r="r" b="b"/>
              <a:pathLst>
                <a:path w="819" h="4451">
                  <a:moveTo>
                    <a:pt x="39" y="54"/>
                  </a:moveTo>
                  <a:cubicBezTo>
                    <a:pt x="46" y="91"/>
                    <a:pt x="56" y="122"/>
                    <a:pt x="67" y="157"/>
                  </a:cubicBezTo>
                  <a:cubicBezTo>
                    <a:pt x="63" y="175"/>
                    <a:pt x="33" y="234"/>
                    <a:pt x="58" y="250"/>
                  </a:cubicBezTo>
                  <a:cubicBezTo>
                    <a:pt x="79" y="264"/>
                    <a:pt x="108" y="260"/>
                    <a:pt x="132" y="268"/>
                  </a:cubicBezTo>
                  <a:cubicBezTo>
                    <a:pt x="129" y="290"/>
                    <a:pt x="133" y="313"/>
                    <a:pt x="123" y="333"/>
                  </a:cubicBezTo>
                  <a:cubicBezTo>
                    <a:pt x="118" y="342"/>
                    <a:pt x="12" y="361"/>
                    <a:pt x="11" y="361"/>
                  </a:cubicBezTo>
                  <a:cubicBezTo>
                    <a:pt x="24" y="509"/>
                    <a:pt x="0" y="493"/>
                    <a:pt x="141" y="510"/>
                  </a:cubicBezTo>
                  <a:cubicBezTo>
                    <a:pt x="150" y="513"/>
                    <a:pt x="165" y="510"/>
                    <a:pt x="169" y="519"/>
                  </a:cubicBezTo>
                  <a:cubicBezTo>
                    <a:pt x="185" y="557"/>
                    <a:pt x="151" y="559"/>
                    <a:pt x="132" y="565"/>
                  </a:cubicBezTo>
                  <a:cubicBezTo>
                    <a:pt x="129" y="574"/>
                    <a:pt x="121" y="583"/>
                    <a:pt x="123" y="593"/>
                  </a:cubicBezTo>
                  <a:cubicBezTo>
                    <a:pt x="125" y="604"/>
                    <a:pt x="137" y="611"/>
                    <a:pt x="141" y="621"/>
                  </a:cubicBezTo>
                  <a:cubicBezTo>
                    <a:pt x="149" y="639"/>
                    <a:pt x="154" y="658"/>
                    <a:pt x="160" y="677"/>
                  </a:cubicBezTo>
                  <a:cubicBezTo>
                    <a:pt x="166" y="696"/>
                    <a:pt x="178" y="733"/>
                    <a:pt x="178" y="733"/>
                  </a:cubicBezTo>
                  <a:cubicBezTo>
                    <a:pt x="169" y="742"/>
                    <a:pt x="161" y="753"/>
                    <a:pt x="150" y="760"/>
                  </a:cubicBezTo>
                  <a:cubicBezTo>
                    <a:pt x="121" y="779"/>
                    <a:pt x="106" y="758"/>
                    <a:pt x="150" y="788"/>
                  </a:cubicBezTo>
                  <a:cubicBezTo>
                    <a:pt x="147" y="801"/>
                    <a:pt x="149" y="816"/>
                    <a:pt x="141" y="826"/>
                  </a:cubicBezTo>
                  <a:cubicBezTo>
                    <a:pt x="135" y="834"/>
                    <a:pt x="117" y="826"/>
                    <a:pt x="113" y="835"/>
                  </a:cubicBezTo>
                  <a:cubicBezTo>
                    <a:pt x="69" y="933"/>
                    <a:pt x="153" y="901"/>
                    <a:pt x="48" y="918"/>
                  </a:cubicBezTo>
                  <a:cubicBezTo>
                    <a:pt x="130" y="973"/>
                    <a:pt x="72" y="1094"/>
                    <a:pt x="58" y="1179"/>
                  </a:cubicBezTo>
                  <a:cubicBezTo>
                    <a:pt x="61" y="1219"/>
                    <a:pt x="60" y="1260"/>
                    <a:pt x="67" y="1299"/>
                  </a:cubicBezTo>
                  <a:cubicBezTo>
                    <a:pt x="69" y="1310"/>
                    <a:pt x="82" y="1316"/>
                    <a:pt x="85" y="1327"/>
                  </a:cubicBezTo>
                  <a:cubicBezTo>
                    <a:pt x="92" y="1357"/>
                    <a:pt x="90" y="1389"/>
                    <a:pt x="95" y="1420"/>
                  </a:cubicBezTo>
                  <a:cubicBezTo>
                    <a:pt x="97" y="1433"/>
                    <a:pt x="101" y="1445"/>
                    <a:pt x="104" y="1457"/>
                  </a:cubicBezTo>
                  <a:cubicBezTo>
                    <a:pt x="98" y="1557"/>
                    <a:pt x="69" y="1693"/>
                    <a:pt x="132" y="1782"/>
                  </a:cubicBezTo>
                  <a:cubicBezTo>
                    <a:pt x="135" y="1795"/>
                    <a:pt x="133" y="1810"/>
                    <a:pt x="141" y="1820"/>
                  </a:cubicBezTo>
                  <a:cubicBezTo>
                    <a:pt x="147" y="1828"/>
                    <a:pt x="163" y="1821"/>
                    <a:pt x="169" y="1829"/>
                  </a:cubicBezTo>
                  <a:cubicBezTo>
                    <a:pt x="183" y="1847"/>
                    <a:pt x="180" y="1873"/>
                    <a:pt x="188" y="1894"/>
                  </a:cubicBezTo>
                  <a:cubicBezTo>
                    <a:pt x="159" y="2000"/>
                    <a:pt x="208" y="1862"/>
                    <a:pt x="132" y="1940"/>
                  </a:cubicBezTo>
                  <a:cubicBezTo>
                    <a:pt x="121" y="1951"/>
                    <a:pt x="126" y="1971"/>
                    <a:pt x="123" y="1987"/>
                  </a:cubicBezTo>
                  <a:cubicBezTo>
                    <a:pt x="130" y="2053"/>
                    <a:pt x="134" y="2085"/>
                    <a:pt x="113" y="2145"/>
                  </a:cubicBezTo>
                  <a:cubicBezTo>
                    <a:pt x="122" y="2151"/>
                    <a:pt x="134" y="2154"/>
                    <a:pt x="141" y="2163"/>
                  </a:cubicBezTo>
                  <a:cubicBezTo>
                    <a:pt x="160" y="2186"/>
                    <a:pt x="124" y="2281"/>
                    <a:pt x="113" y="2312"/>
                  </a:cubicBezTo>
                  <a:cubicBezTo>
                    <a:pt x="134" y="2405"/>
                    <a:pt x="142" y="2412"/>
                    <a:pt x="132" y="2507"/>
                  </a:cubicBezTo>
                  <a:cubicBezTo>
                    <a:pt x="108" y="2408"/>
                    <a:pt x="132" y="2532"/>
                    <a:pt x="132" y="2433"/>
                  </a:cubicBezTo>
                  <a:cubicBezTo>
                    <a:pt x="132" y="2423"/>
                    <a:pt x="126" y="2452"/>
                    <a:pt x="123" y="2461"/>
                  </a:cubicBezTo>
                  <a:cubicBezTo>
                    <a:pt x="120" y="2470"/>
                    <a:pt x="116" y="2479"/>
                    <a:pt x="113" y="2488"/>
                  </a:cubicBezTo>
                  <a:cubicBezTo>
                    <a:pt x="134" y="2641"/>
                    <a:pt x="86" y="2617"/>
                    <a:pt x="169" y="2637"/>
                  </a:cubicBezTo>
                  <a:cubicBezTo>
                    <a:pt x="181" y="2655"/>
                    <a:pt x="212" y="2686"/>
                    <a:pt x="178" y="2711"/>
                  </a:cubicBezTo>
                  <a:cubicBezTo>
                    <a:pt x="169" y="2718"/>
                    <a:pt x="159" y="2699"/>
                    <a:pt x="150" y="2693"/>
                  </a:cubicBezTo>
                  <a:cubicBezTo>
                    <a:pt x="153" y="2684"/>
                    <a:pt x="170" y="2665"/>
                    <a:pt x="160" y="2665"/>
                  </a:cubicBezTo>
                  <a:cubicBezTo>
                    <a:pt x="149" y="2665"/>
                    <a:pt x="143" y="2682"/>
                    <a:pt x="141" y="2693"/>
                  </a:cubicBezTo>
                  <a:cubicBezTo>
                    <a:pt x="139" y="2703"/>
                    <a:pt x="147" y="2712"/>
                    <a:pt x="150" y="2721"/>
                  </a:cubicBezTo>
                  <a:cubicBezTo>
                    <a:pt x="133" y="2791"/>
                    <a:pt x="74" y="2906"/>
                    <a:pt x="160" y="2934"/>
                  </a:cubicBezTo>
                  <a:cubicBezTo>
                    <a:pt x="169" y="2943"/>
                    <a:pt x="184" y="2949"/>
                    <a:pt x="188" y="2962"/>
                  </a:cubicBezTo>
                  <a:cubicBezTo>
                    <a:pt x="193" y="2980"/>
                    <a:pt x="143" y="3065"/>
                    <a:pt x="132" y="3083"/>
                  </a:cubicBezTo>
                  <a:cubicBezTo>
                    <a:pt x="135" y="3099"/>
                    <a:pt x="135" y="3115"/>
                    <a:pt x="141" y="3130"/>
                  </a:cubicBezTo>
                  <a:cubicBezTo>
                    <a:pt x="145" y="3140"/>
                    <a:pt x="159" y="3146"/>
                    <a:pt x="160" y="3157"/>
                  </a:cubicBezTo>
                  <a:cubicBezTo>
                    <a:pt x="162" y="3171"/>
                    <a:pt x="146" y="3215"/>
                    <a:pt x="141" y="3232"/>
                  </a:cubicBezTo>
                  <a:cubicBezTo>
                    <a:pt x="150" y="3238"/>
                    <a:pt x="167" y="3239"/>
                    <a:pt x="169" y="3250"/>
                  </a:cubicBezTo>
                  <a:cubicBezTo>
                    <a:pt x="181" y="3323"/>
                    <a:pt x="146" y="3421"/>
                    <a:pt x="123" y="3492"/>
                  </a:cubicBezTo>
                  <a:cubicBezTo>
                    <a:pt x="126" y="3514"/>
                    <a:pt x="124" y="3537"/>
                    <a:pt x="132" y="3557"/>
                  </a:cubicBezTo>
                  <a:cubicBezTo>
                    <a:pt x="137" y="3569"/>
                    <a:pt x="153" y="3574"/>
                    <a:pt x="160" y="3585"/>
                  </a:cubicBezTo>
                  <a:cubicBezTo>
                    <a:pt x="166" y="3596"/>
                    <a:pt x="166" y="3610"/>
                    <a:pt x="169" y="3622"/>
                  </a:cubicBezTo>
                  <a:cubicBezTo>
                    <a:pt x="166" y="3744"/>
                    <a:pt x="238" y="3946"/>
                    <a:pt x="123" y="3984"/>
                  </a:cubicBezTo>
                  <a:cubicBezTo>
                    <a:pt x="106" y="4032"/>
                    <a:pt x="133" y="4029"/>
                    <a:pt x="160" y="4068"/>
                  </a:cubicBezTo>
                  <a:cubicBezTo>
                    <a:pt x="180" y="4129"/>
                    <a:pt x="190" y="4176"/>
                    <a:pt x="150" y="4235"/>
                  </a:cubicBezTo>
                  <a:cubicBezTo>
                    <a:pt x="153" y="4300"/>
                    <a:pt x="138" y="4369"/>
                    <a:pt x="160" y="4430"/>
                  </a:cubicBezTo>
                  <a:cubicBezTo>
                    <a:pt x="168" y="4451"/>
                    <a:pt x="203" y="4439"/>
                    <a:pt x="225" y="4439"/>
                  </a:cubicBezTo>
                  <a:cubicBezTo>
                    <a:pt x="414" y="4439"/>
                    <a:pt x="602" y="4433"/>
                    <a:pt x="791" y="4430"/>
                  </a:cubicBezTo>
                  <a:cubicBezTo>
                    <a:pt x="769" y="4225"/>
                    <a:pt x="795" y="4021"/>
                    <a:pt x="810" y="3817"/>
                  </a:cubicBezTo>
                  <a:cubicBezTo>
                    <a:pt x="773" y="3253"/>
                    <a:pt x="809" y="2682"/>
                    <a:pt x="819" y="2117"/>
                  </a:cubicBezTo>
                  <a:cubicBezTo>
                    <a:pt x="811" y="1822"/>
                    <a:pt x="816" y="1813"/>
                    <a:pt x="764" y="1597"/>
                  </a:cubicBezTo>
                  <a:cubicBezTo>
                    <a:pt x="753" y="1488"/>
                    <a:pt x="760" y="1388"/>
                    <a:pt x="810" y="1290"/>
                  </a:cubicBezTo>
                  <a:cubicBezTo>
                    <a:pt x="804" y="878"/>
                    <a:pt x="812" y="465"/>
                    <a:pt x="791" y="54"/>
                  </a:cubicBezTo>
                  <a:cubicBezTo>
                    <a:pt x="790" y="38"/>
                    <a:pt x="760" y="48"/>
                    <a:pt x="745" y="45"/>
                  </a:cubicBezTo>
                  <a:cubicBezTo>
                    <a:pt x="723" y="40"/>
                    <a:pt x="702" y="28"/>
                    <a:pt x="680" y="27"/>
                  </a:cubicBezTo>
                  <a:cubicBezTo>
                    <a:pt x="497" y="21"/>
                    <a:pt x="315" y="20"/>
                    <a:pt x="132" y="17"/>
                  </a:cubicBezTo>
                  <a:cubicBezTo>
                    <a:pt x="39" y="28"/>
                    <a:pt x="57" y="0"/>
                    <a:pt x="39" y="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2aa68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227" name="Picture 6" descr="j0217698"/>
            <p:cNvPicPr/>
            <p:nvPr/>
          </p:nvPicPr>
          <p:blipFill>
            <a:blip r:embed="rId2"/>
            <a:stretch/>
          </p:blipFill>
          <p:spPr>
            <a:xfrm>
              <a:off x="8101080" y="1341360"/>
              <a:ext cx="738000" cy="66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8" name="AutoShape 7"/>
          <p:cNvSpPr/>
          <p:nvPr/>
        </p:nvSpPr>
        <p:spPr>
          <a:xfrm>
            <a:off x="8317080" y="602136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2a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9" name="Picture 2" descr="五星红旗和香港特别行政区区旗冉冉升起"/>
          <p:cNvPicPr/>
          <p:nvPr/>
        </p:nvPicPr>
        <p:blipFill>
          <a:blip r:embed="rId1"/>
          <a:stretch/>
        </p:blipFill>
        <p:spPr>
          <a:xfrm>
            <a:off x="0" y="620640"/>
            <a:ext cx="8748720" cy="4981680"/>
          </a:xfrm>
          <a:prstGeom prst="rect">
            <a:avLst/>
          </a:prstGeom>
          <a:ln w="0">
            <a:noFill/>
          </a:ln>
        </p:spPr>
      </p:pic>
      <p:sp>
        <p:nvSpPr>
          <p:cNvPr id="1230" name="Text Box 3"/>
          <p:cNvSpPr/>
          <p:nvPr/>
        </p:nvSpPr>
        <p:spPr>
          <a:xfrm>
            <a:off x="539640" y="587700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aa68"/>
                </a:solidFill>
                <a:latin typeface="Arial"/>
                <a:ea typeface="方正小标宋简体"/>
              </a:rPr>
              <a:t>五星红旗和香港特别行政区区旗冉冉升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AutoShape 4"/>
          <p:cNvSpPr/>
          <p:nvPr/>
        </p:nvSpPr>
        <p:spPr>
          <a:xfrm>
            <a:off x="8388360" y="623736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2a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32" name="Group 5"/>
          <p:cNvGrpSpPr/>
          <p:nvPr/>
        </p:nvGrpSpPr>
        <p:grpSpPr>
          <a:xfrm>
            <a:off x="8317080" y="-100080"/>
            <a:ext cx="1008000" cy="6337440"/>
            <a:chOff x="8317080" y="-100080"/>
            <a:chExt cx="1008000" cy="6337440"/>
          </a:xfrm>
        </p:grpSpPr>
        <p:sp>
          <p:nvSpPr>
            <p:cNvPr id="1233" name="Freeform 6"/>
            <p:cNvSpPr/>
            <p:nvPr/>
          </p:nvSpPr>
          <p:spPr>
            <a:xfrm>
              <a:off x="8476560" y="-100080"/>
              <a:ext cx="848520" cy="6337440"/>
            </a:xfrm>
            <a:custGeom>
              <a:avLst/>
              <a:gdLst/>
              <a:ahLst/>
              <a:rect l="l" t="t" r="r" b="b"/>
              <a:pathLst>
                <a:path w="819" h="4451">
                  <a:moveTo>
                    <a:pt x="39" y="54"/>
                  </a:moveTo>
                  <a:cubicBezTo>
                    <a:pt x="46" y="91"/>
                    <a:pt x="56" y="122"/>
                    <a:pt x="67" y="157"/>
                  </a:cubicBezTo>
                  <a:cubicBezTo>
                    <a:pt x="63" y="175"/>
                    <a:pt x="33" y="234"/>
                    <a:pt x="58" y="250"/>
                  </a:cubicBezTo>
                  <a:cubicBezTo>
                    <a:pt x="79" y="264"/>
                    <a:pt x="108" y="260"/>
                    <a:pt x="132" y="268"/>
                  </a:cubicBezTo>
                  <a:cubicBezTo>
                    <a:pt x="129" y="290"/>
                    <a:pt x="133" y="313"/>
                    <a:pt x="123" y="333"/>
                  </a:cubicBezTo>
                  <a:cubicBezTo>
                    <a:pt x="118" y="342"/>
                    <a:pt x="12" y="361"/>
                    <a:pt x="11" y="361"/>
                  </a:cubicBezTo>
                  <a:cubicBezTo>
                    <a:pt x="24" y="509"/>
                    <a:pt x="0" y="493"/>
                    <a:pt x="141" y="510"/>
                  </a:cubicBezTo>
                  <a:cubicBezTo>
                    <a:pt x="150" y="513"/>
                    <a:pt x="165" y="510"/>
                    <a:pt x="169" y="519"/>
                  </a:cubicBezTo>
                  <a:cubicBezTo>
                    <a:pt x="185" y="557"/>
                    <a:pt x="151" y="559"/>
                    <a:pt x="132" y="565"/>
                  </a:cubicBezTo>
                  <a:cubicBezTo>
                    <a:pt x="129" y="574"/>
                    <a:pt x="121" y="583"/>
                    <a:pt x="123" y="593"/>
                  </a:cubicBezTo>
                  <a:cubicBezTo>
                    <a:pt x="125" y="604"/>
                    <a:pt x="137" y="611"/>
                    <a:pt x="141" y="621"/>
                  </a:cubicBezTo>
                  <a:cubicBezTo>
                    <a:pt x="149" y="639"/>
                    <a:pt x="154" y="658"/>
                    <a:pt x="160" y="677"/>
                  </a:cubicBezTo>
                  <a:cubicBezTo>
                    <a:pt x="166" y="696"/>
                    <a:pt x="178" y="733"/>
                    <a:pt x="178" y="733"/>
                  </a:cubicBezTo>
                  <a:cubicBezTo>
                    <a:pt x="169" y="742"/>
                    <a:pt x="161" y="753"/>
                    <a:pt x="150" y="760"/>
                  </a:cubicBezTo>
                  <a:cubicBezTo>
                    <a:pt x="121" y="779"/>
                    <a:pt x="106" y="758"/>
                    <a:pt x="150" y="788"/>
                  </a:cubicBezTo>
                  <a:cubicBezTo>
                    <a:pt x="147" y="801"/>
                    <a:pt x="149" y="816"/>
                    <a:pt x="141" y="826"/>
                  </a:cubicBezTo>
                  <a:cubicBezTo>
                    <a:pt x="135" y="834"/>
                    <a:pt x="117" y="826"/>
                    <a:pt x="113" y="835"/>
                  </a:cubicBezTo>
                  <a:cubicBezTo>
                    <a:pt x="69" y="933"/>
                    <a:pt x="153" y="901"/>
                    <a:pt x="48" y="918"/>
                  </a:cubicBezTo>
                  <a:cubicBezTo>
                    <a:pt x="130" y="973"/>
                    <a:pt x="72" y="1094"/>
                    <a:pt x="58" y="1179"/>
                  </a:cubicBezTo>
                  <a:cubicBezTo>
                    <a:pt x="61" y="1219"/>
                    <a:pt x="60" y="1260"/>
                    <a:pt x="67" y="1299"/>
                  </a:cubicBezTo>
                  <a:cubicBezTo>
                    <a:pt x="69" y="1310"/>
                    <a:pt x="82" y="1316"/>
                    <a:pt x="85" y="1327"/>
                  </a:cubicBezTo>
                  <a:cubicBezTo>
                    <a:pt x="92" y="1357"/>
                    <a:pt x="90" y="1389"/>
                    <a:pt x="95" y="1420"/>
                  </a:cubicBezTo>
                  <a:cubicBezTo>
                    <a:pt x="97" y="1433"/>
                    <a:pt x="101" y="1445"/>
                    <a:pt x="104" y="1457"/>
                  </a:cubicBezTo>
                  <a:cubicBezTo>
                    <a:pt x="98" y="1557"/>
                    <a:pt x="69" y="1693"/>
                    <a:pt x="132" y="1782"/>
                  </a:cubicBezTo>
                  <a:cubicBezTo>
                    <a:pt x="135" y="1795"/>
                    <a:pt x="133" y="1810"/>
                    <a:pt x="141" y="1820"/>
                  </a:cubicBezTo>
                  <a:cubicBezTo>
                    <a:pt x="147" y="1828"/>
                    <a:pt x="163" y="1821"/>
                    <a:pt x="169" y="1829"/>
                  </a:cubicBezTo>
                  <a:cubicBezTo>
                    <a:pt x="183" y="1847"/>
                    <a:pt x="180" y="1873"/>
                    <a:pt x="188" y="1894"/>
                  </a:cubicBezTo>
                  <a:cubicBezTo>
                    <a:pt x="159" y="2000"/>
                    <a:pt x="208" y="1862"/>
                    <a:pt x="132" y="1940"/>
                  </a:cubicBezTo>
                  <a:cubicBezTo>
                    <a:pt x="121" y="1951"/>
                    <a:pt x="126" y="1971"/>
                    <a:pt x="123" y="1987"/>
                  </a:cubicBezTo>
                  <a:cubicBezTo>
                    <a:pt x="130" y="2053"/>
                    <a:pt x="134" y="2085"/>
                    <a:pt x="113" y="2145"/>
                  </a:cubicBezTo>
                  <a:cubicBezTo>
                    <a:pt x="122" y="2151"/>
                    <a:pt x="134" y="2154"/>
                    <a:pt x="141" y="2163"/>
                  </a:cubicBezTo>
                  <a:cubicBezTo>
                    <a:pt x="160" y="2186"/>
                    <a:pt x="124" y="2281"/>
                    <a:pt x="113" y="2312"/>
                  </a:cubicBezTo>
                  <a:cubicBezTo>
                    <a:pt x="134" y="2405"/>
                    <a:pt x="142" y="2412"/>
                    <a:pt x="132" y="2507"/>
                  </a:cubicBezTo>
                  <a:cubicBezTo>
                    <a:pt x="108" y="2408"/>
                    <a:pt x="132" y="2532"/>
                    <a:pt x="132" y="2433"/>
                  </a:cubicBezTo>
                  <a:cubicBezTo>
                    <a:pt x="132" y="2423"/>
                    <a:pt x="126" y="2452"/>
                    <a:pt x="123" y="2461"/>
                  </a:cubicBezTo>
                  <a:cubicBezTo>
                    <a:pt x="120" y="2470"/>
                    <a:pt x="116" y="2479"/>
                    <a:pt x="113" y="2488"/>
                  </a:cubicBezTo>
                  <a:cubicBezTo>
                    <a:pt x="134" y="2641"/>
                    <a:pt x="86" y="2617"/>
                    <a:pt x="169" y="2637"/>
                  </a:cubicBezTo>
                  <a:cubicBezTo>
                    <a:pt x="181" y="2655"/>
                    <a:pt x="212" y="2686"/>
                    <a:pt x="178" y="2711"/>
                  </a:cubicBezTo>
                  <a:cubicBezTo>
                    <a:pt x="169" y="2718"/>
                    <a:pt x="159" y="2699"/>
                    <a:pt x="150" y="2693"/>
                  </a:cubicBezTo>
                  <a:cubicBezTo>
                    <a:pt x="153" y="2684"/>
                    <a:pt x="170" y="2665"/>
                    <a:pt x="160" y="2665"/>
                  </a:cubicBezTo>
                  <a:cubicBezTo>
                    <a:pt x="149" y="2665"/>
                    <a:pt x="143" y="2682"/>
                    <a:pt x="141" y="2693"/>
                  </a:cubicBezTo>
                  <a:cubicBezTo>
                    <a:pt x="139" y="2703"/>
                    <a:pt x="147" y="2712"/>
                    <a:pt x="150" y="2721"/>
                  </a:cubicBezTo>
                  <a:cubicBezTo>
                    <a:pt x="133" y="2791"/>
                    <a:pt x="74" y="2906"/>
                    <a:pt x="160" y="2934"/>
                  </a:cubicBezTo>
                  <a:cubicBezTo>
                    <a:pt x="169" y="2943"/>
                    <a:pt x="184" y="2949"/>
                    <a:pt x="188" y="2962"/>
                  </a:cubicBezTo>
                  <a:cubicBezTo>
                    <a:pt x="193" y="2980"/>
                    <a:pt x="143" y="3065"/>
                    <a:pt x="132" y="3083"/>
                  </a:cubicBezTo>
                  <a:cubicBezTo>
                    <a:pt x="135" y="3099"/>
                    <a:pt x="135" y="3115"/>
                    <a:pt x="141" y="3130"/>
                  </a:cubicBezTo>
                  <a:cubicBezTo>
                    <a:pt x="145" y="3140"/>
                    <a:pt x="159" y="3146"/>
                    <a:pt x="160" y="3157"/>
                  </a:cubicBezTo>
                  <a:cubicBezTo>
                    <a:pt x="162" y="3171"/>
                    <a:pt x="146" y="3215"/>
                    <a:pt x="141" y="3232"/>
                  </a:cubicBezTo>
                  <a:cubicBezTo>
                    <a:pt x="150" y="3238"/>
                    <a:pt x="167" y="3239"/>
                    <a:pt x="169" y="3250"/>
                  </a:cubicBezTo>
                  <a:cubicBezTo>
                    <a:pt x="181" y="3323"/>
                    <a:pt x="146" y="3421"/>
                    <a:pt x="123" y="3492"/>
                  </a:cubicBezTo>
                  <a:cubicBezTo>
                    <a:pt x="126" y="3514"/>
                    <a:pt x="124" y="3537"/>
                    <a:pt x="132" y="3557"/>
                  </a:cubicBezTo>
                  <a:cubicBezTo>
                    <a:pt x="137" y="3569"/>
                    <a:pt x="153" y="3574"/>
                    <a:pt x="160" y="3585"/>
                  </a:cubicBezTo>
                  <a:cubicBezTo>
                    <a:pt x="166" y="3596"/>
                    <a:pt x="166" y="3610"/>
                    <a:pt x="169" y="3622"/>
                  </a:cubicBezTo>
                  <a:cubicBezTo>
                    <a:pt x="166" y="3744"/>
                    <a:pt x="238" y="3946"/>
                    <a:pt x="123" y="3984"/>
                  </a:cubicBezTo>
                  <a:cubicBezTo>
                    <a:pt x="106" y="4032"/>
                    <a:pt x="133" y="4029"/>
                    <a:pt x="160" y="4068"/>
                  </a:cubicBezTo>
                  <a:cubicBezTo>
                    <a:pt x="180" y="4129"/>
                    <a:pt x="190" y="4176"/>
                    <a:pt x="150" y="4235"/>
                  </a:cubicBezTo>
                  <a:cubicBezTo>
                    <a:pt x="153" y="4300"/>
                    <a:pt x="138" y="4369"/>
                    <a:pt x="160" y="4430"/>
                  </a:cubicBezTo>
                  <a:cubicBezTo>
                    <a:pt x="168" y="4451"/>
                    <a:pt x="203" y="4439"/>
                    <a:pt x="225" y="4439"/>
                  </a:cubicBezTo>
                  <a:cubicBezTo>
                    <a:pt x="414" y="4439"/>
                    <a:pt x="602" y="4433"/>
                    <a:pt x="791" y="4430"/>
                  </a:cubicBezTo>
                  <a:cubicBezTo>
                    <a:pt x="769" y="4225"/>
                    <a:pt x="795" y="4021"/>
                    <a:pt x="810" y="3817"/>
                  </a:cubicBezTo>
                  <a:cubicBezTo>
                    <a:pt x="773" y="3253"/>
                    <a:pt x="809" y="2682"/>
                    <a:pt x="819" y="2117"/>
                  </a:cubicBezTo>
                  <a:cubicBezTo>
                    <a:pt x="811" y="1822"/>
                    <a:pt x="816" y="1813"/>
                    <a:pt x="764" y="1597"/>
                  </a:cubicBezTo>
                  <a:cubicBezTo>
                    <a:pt x="753" y="1488"/>
                    <a:pt x="760" y="1388"/>
                    <a:pt x="810" y="1290"/>
                  </a:cubicBezTo>
                  <a:cubicBezTo>
                    <a:pt x="804" y="878"/>
                    <a:pt x="812" y="465"/>
                    <a:pt x="791" y="54"/>
                  </a:cubicBezTo>
                  <a:cubicBezTo>
                    <a:pt x="790" y="38"/>
                    <a:pt x="760" y="48"/>
                    <a:pt x="745" y="45"/>
                  </a:cubicBezTo>
                  <a:cubicBezTo>
                    <a:pt x="723" y="40"/>
                    <a:pt x="702" y="28"/>
                    <a:pt x="680" y="27"/>
                  </a:cubicBezTo>
                  <a:cubicBezTo>
                    <a:pt x="497" y="21"/>
                    <a:pt x="315" y="20"/>
                    <a:pt x="132" y="17"/>
                  </a:cubicBezTo>
                  <a:cubicBezTo>
                    <a:pt x="39" y="28"/>
                    <a:pt x="57" y="0"/>
                    <a:pt x="39" y="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2aa68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234" name="Picture 7" descr="j0217698"/>
            <p:cNvPicPr/>
            <p:nvPr/>
          </p:nvPicPr>
          <p:blipFill>
            <a:blip r:embed="rId2"/>
            <a:stretch/>
          </p:blipFill>
          <p:spPr>
            <a:xfrm>
              <a:off x="8317080" y="1341360"/>
              <a:ext cx="607680" cy="669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vert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Picture 2" descr="美丽迷人的维多利亚港夜色"/>
          <p:cNvPicPr/>
          <p:nvPr/>
        </p:nvPicPr>
        <p:blipFill>
          <a:blip r:embed="rId1"/>
          <a:srcRect l="0" t="0" r="0" b="186"/>
          <a:stretch/>
        </p:blipFill>
        <p:spPr>
          <a:xfrm>
            <a:off x="0" y="476280"/>
            <a:ext cx="8675640" cy="5329080"/>
          </a:xfrm>
          <a:prstGeom prst="rect">
            <a:avLst/>
          </a:prstGeom>
          <a:ln w="0">
            <a:noFill/>
          </a:ln>
        </p:spPr>
      </p:pic>
      <p:sp>
        <p:nvSpPr>
          <p:cNvPr id="1236" name="AutoShape 3"/>
          <p:cNvSpPr/>
          <p:nvPr/>
        </p:nvSpPr>
        <p:spPr>
          <a:xfrm>
            <a:off x="8604360" y="630864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2a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7" name="Text Box 4"/>
          <p:cNvSpPr/>
          <p:nvPr/>
        </p:nvSpPr>
        <p:spPr>
          <a:xfrm>
            <a:off x="1742400" y="6021360"/>
            <a:ext cx="478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00"/>
                </a:solidFill>
                <a:latin typeface="Arial"/>
                <a:ea typeface="方正小标宋简体"/>
              </a:rPr>
              <a:t>游轮与邻近大厦上的紫荆花图案，恰好构成“日落仪式”的背景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38" name="Group 5"/>
          <p:cNvGrpSpPr/>
          <p:nvPr/>
        </p:nvGrpSpPr>
        <p:grpSpPr>
          <a:xfrm>
            <a:off x="8101080" y="-100080"/>
            <a:ext cx="1224000" cy="6337440"/>
            <a:chOff x="8101080" y="-100080"/>
            <a:chExt cx="1224000" cy="6337440"/>
          </a:xfrm>
        </p:grpSpPr>
        <p:sp>
          <p:nvSpPr>
            <p:cNvPr id="1239" name="Freeform 6"/>
            <p:cNvSpPr/>
            <p:nvPr/>
          </p:nvSpPr>
          <p:spPr>
            <a:xfrm>
              <a:off x="8294760" y="-100080"/>
              <a:ext cx="1030320" cy="6337440"/>
            </a:xfrm>
            <a:custGeom>
              <a:avLst/>
              <a:gdLst/>
              <a:ahLst/>
              <a:rect l="l" t="t" r="r" b="b"/>
              <a:pathLst>
                <a:path w="819" h="4451">
                  <a:moveTo>
                    <a:pt x="39" y="54"/>
                  </a:moveTo>
                  <a:cubicBezTo>
                    <a:pt x="46" y="91"/>
                    <a:pt x="56" y="122"/>
                    <a:pt x="67" y="157"/>
                  </a:cubicBezTo>
                  <a:cubicBezTo>
                    <a:pt x="63" y="175"/>
                    <a:pt x="33" y="234"/>
                    <a:pt x="58" y="250"/>
                  </a:cubicBezTo>
                  <a:cubicBezTo>
                    <a:pt x="79" y="264"/>
                    <a:pt x="108" y="260"/>
                    <a:pt x="132" y="268"/>
                  </a:cubicBezTo>
                  <a:cubicBezTo>
                    <a:pt x="129" y="290"/>
                    <a:pt x="133" y="313"/>
                    <a:pt x="123" y="333"/>
                  </a:cubicBezTo>
                  <a:cubicBezTo>
                    <a:pt x="118" y="342"/>
                    <a:pt x="12" y="361"/>
                    <a:pt x="11" y="361"/>
                  </a:cubicBezTo>
                  <a:cubicBezTo>
                    <a:pt x="24" y="509"/>
                    <a:pt x="0" y="493"/>
                    <a:pt x="141" y="510"/>
                  </a:cubicBezTo>
                  <a:cubicBezTo>
                    <a:pt x="150" y="513"/>
                    <a:pt x="165" y="510"/>
                    <a:pt x="169" y="519"/>
                  </a:cubicBezTo>
                  <a:cubicBezTo>
                    <a:pt x="185" y="557"/>
                    <a:pt x="151" y="559"/>
                    <a:pt x="132" y="565"/>
                  </a:cubicBezTo>
                  <a:cubicBezTo>
                    <a:pt x="129" y="574"/>
                    <a:pt x="121" y="583"/>
                    <a:pt x="123" y="593"/>
                  </a:cubicBezTo>
                  <a:cubicBezTo>
                    <a:pt x="125" y="604"/>
                    <a:pt x="137" y="611"/>
                    <a:pt x="141" y="621"/>
                  </a:cubicBezTo>
                  <a:cubicBezTo>
                    <a:pt x="149" y="639"/>
                    <a:pt x="154" y="658"/>
                    <a:pt x="160" y="677"/>
                  </a:cubicBezTo>
                  <a:cubicBezTo>
                    <a:pt x="166" y="696"/>
                    <a:pt x="178" y="733"/>
                    <a:pt x="178" y="733"/>
                  </a:cubicBezTo>
                  <a:cubicBezTo>
                    <a:pt x="169" y="742"/>
                    <a:pt x="161" y="753"/>
                    <a:pt x="150" y="760"/>
                  </a:cubicBezTo>
                  <a:cubicBezTo>
                    <a:pt x="121" y="779"/>
                    <a:pt x="106" y="758"/>
                    <a:pt x="150" y="788"/>
                  </a:cubicBezTo>
                  <a:cubicBezTo>
                    <a:pt x="147" y="801"/>
                    <a:pt x="149" y="816"/>
                    <a:pt x="141" y="826"/>
                  </a:cubicBezTo>
                  <a:cubicBezTo>
                    <a:pt x="135" y="834"/>
                    <a:pt x="117" y="826"/>
                    <a:pt x="113" y="835"/>
                  </a:cubicBezTo>
                  <a:cubicBezTo>
                    <a:pt x="69" y="933"/>
                    <a:pt x="153" y="901"/>
                    <a:pt x="48" y="918"/>
                  </a:cubicBezTo>
                  <a:cubicBezTo>
                    <a:pt x="130" y="973"/>
                    <a:pt x="72" y="1094"/>
                    <a:pt x="58" y="1179"/>
                  </a:cubicBezTo>
                  <a:cubicBezTo>
                    <a:pt x="61" y="1219"/>
                    <a:pt x="60" y="1260"/>
                    <a:pt x="67" y="1299"/>
                  </a:cubicBezTo>
                  <a:cubicBezTo>
                    <a:pt x="69" y="1310"/>
                    <a:pt x="82" y="1316"/>
                    <a:pt x="85" y="1327"/>
                  </a:cubicBezTo>
                  <a:cubicBezTo>
                    <a:pt x="92" y="1357"/>
                    <a:pt x="90" y="1389"/>
                    <a:pt x="95" y="1420"/>
                  </a:cubicBezTo>
                  <a:cubicBezTo>
                    <a:pt x="97" y="1433"/>
                    <a:pt x="101" y="1445"/>
                    <a:pt x="104" y="1457"/>
                  </a:cubicBezTo>
                  <a:cubicBezTo>
                    <a:pt x="98" y="1557"/>
                    <a:pt x="69" y="1693"/>
                    <a:pt x="132" y="1782"/>
                  </a:cubicBezTo>
                  <a:cubicBezTo>
                    <a:pt x="135" y="1795"/>
                    <a:pt x="133" y="1810"/>
                    <a:pt x="141" y="1820"/>
                  </a:cubicBezTo>
                  <a:cubicBezTo>
                    <a:pt x="147" y="1828"/>
                    <a:pt x="163" y="1821"/>
                    <a:pt x="169" y="1829"/>
                  </a:cubicBezTo>
                  <a:cubicBezTo>
                    <a:pt x="183" y="1847"/>
                    <a:pt x="180" y="1873"/>
                    <a:pt x="188" y="1894"/>
                  </a:cubicBezTo>
                  <a:cubicBezTo>
                    <a:pt x="159" y="2000"/>
                    <a:pt x="208" y="1862"/>
                    <a:pt x="132" y="1940"/>
                  </a:cubicBezTo>
                  <a:cubicBezTo>
                    <a:pt x="121" y="1951"/>
                    <a:pt x="126" y="1971"/>
                    <a:pt x="123" y="1987"/>
                  </a:cubicBezTo>
                  <a:cubicBezTo>
                    <a:pt x="130" y="2053"/>
                    <a:pt x="134" y="2085"/>
                    <a:pt x="113" y="2145"/>
                  </a:cubicBezTo>
                  <a:cubicBezTo>
                    <a:pt x="122" y="2151"/>
                    <a:pt x="134" y="2154"/>
                    <a:pt x="141" y="2163"/>
                  </a:cubicBezTo>
                  <a:cubicBezTo>
                    <a:pt x="160" y="2186"/>
                    <a:pt x="124" y="2281"/>
                    <a:pt x="113" y="2312"/>
                  </a:cubicBezTo>
                  <a:cubicBezTo>
                    <a:pt x="134" y="2405"/>
                    <a:pt x="142" y="2412"/>
                    <a:pt x="132" y="2507"/>
                  </a:cubicBezTo>
                  <a:cubicBezTo>
                    <a:pt x="108" y="2408"/>
                    <a:pt x="132" y="2532"/>
                    <a:pt x="132" y="2433"/>
                  </a:cubicBezTo>
                  <a:cubicBezTo>
                    <a:pt x="132" y="2423"/>
                    <a:pt x="126" y="2452"/>
                    <a:pt x="123" y="2461"/>
                  </a:cubicBezTo>
                  <a:cubicBezTo>
                    <a:pt x="120" y="2470"/>
                    <a:pt x="116" y="2479"/>
                    <a:pt x="113" y="2488"/>
                  </a:cubicBezTo>
                  <a:cubicBezTo>
                    <a:pt x="134" y="2641"/>
                    <a:pt x="86" y="2617"/>
                    <a:pt x="169" y="2637"/>
                  </a:cubicBezTo>
                  <a:cubicBezTo>
                    <a:pt x="181" y="2655"/>
                    <a:pt x="212" y="2686"/>
                    <a:pt x="178" y="2711"/>
                  </a:cubicBezTo>
                  <a:cubicBezTo>
                    <a:pt x="169" y="2718"/>
                    <a:pt x="159" y="2699"/>
                    <a:pt x="150" y="2693"/>
                  </a:cubicBezTo>
                  <a:cubicBezTo>
                    <a:pt x="153" y="2684"/>
                    <a:pt x="170" y="2665"/>
                    <a:pt x="160" y="2665"/>
                  </a:cubicBezTo>
                  <a:cubicBezTo>
                    <a:pt x="149" y="2665"/>
                    <a:pt x="143" y="2682"/>
                    <a:pt x="141" y="2693"/>
                  </a:cubicBezTo>
                  <a:cubicBezTo>
                    <a:pt x="139" y="2703"/>
                    <a:pt x="147" y="2712"/>
                    <a:pt x="150" y="2721"/>
                  </a:cubicBezTo>
                  <a:cubicBezTo>
                    <a:pt x="133" y="2791"/>
                    <a:pt x="74" y="2906"/>
                    <a:pt x="160" y="2934"/>
                  </a:cubicBezTo>
                  <a:cubicBezTo>
                    <a:pt x="169" y="2943"/>
                    <a:pt x="184" y="2949"/>
                    <a:pt x="188" y="2962"/>
                  </a:cubicBezTo>
                  <a:cubicBezTo>
                    <a:pt x="193" y="2980"/>
                    <a:pt x="143" y="3065"/>
                    <a:pt x="132" y="3083"/>
                  </a:cubicBezTo>
                  <a:cubicBezTo>
                    <a:pt x="135" y="3099"/>
                    <a:pt x="135" y="3115"/>
                    <a:pt x="141" y="3130"/>
                  </a:cubicBezTo>
                  <a:cubicBezTo>
                    <a:pt x="145" y="3140"/>
                    <a:pt x="159" y="3146"/>
                    <a:pt x="160" y="3157"/>
                  </a:cubicBezTo>
                  <a:cubicBezTo>
                    <a:pt x="162" y="3171"/>
                    <a:pt x="146" y="3215"/>
                    <a:pt x="141" y="3232"/>
                  </a:cubicBezTo>
                  <a:cubicBezTo>
                    <a:pt x="150" y="3238"/>
                    <a:pt x="167" y="3239"/>
                    <a:pt x="169" y="3250"/>
                  </a:cubicBezTo>
                  <a:cubicBezTo>
                    <a:pt x="181" y="3323"/>
                    <a:pt x="146" y="3421"/>
                    <a:pt x="123" y="3492"/>
                  </a:cubicBezTo>
                  <a:cubicBezTo>
                    <a:pt x="126" y="3514"/>
                    <a:pt x="124" y="3537"/>
                    <a:pt x="132" y="3557"/>
                  </a:cubicBezTo>
                  <a:cubicBezTo>
                    <a:pt x="137" y="3569"/>
                    <a:pt x="153" y="3574"/>
                    <a:pt x="160" y="3585"/>
                  </a:cubicBezTo>
                  <a:cubicBezTo>
                    <a:pt x="166" y="3596"/>
                    <a:pt x="166" y="3610"/>
                    <a:pt x="169" y="3622"/>
                  </a:cubicBezTo>
                  <a:cubicBezTo>
                    <a:pt x="166" y="3744"/>
                    <a:pt x="238" y="3946"/>
                    <a:pt x="123" y="3984"/>
                  </a:cubicBezTo>
                  <a:cubicBezTo>
                    <a:pt x="106" y="4032"/>
                    <a:pt x="133" y="4029"/>
                    <a:pt x="160" y="4068"/>
                  </a:cubicBezTo>
                  <a:cubicBezTo>
                    <a:pt x="180" y="4129"/>
                    <a:pt x="190" y="4176"/>
                    <a:pt x="150" y="4235"/>
                  </a:cubicBezTo>
                  <a:cubicBezTo>
                    <a:pt x="153" y="4300"/>
                    <a:pt x="138" y="4369"/>
                    <a:pt x="160" y="4430"/>
                  </a:cubicBezTo>
                  <a:cubicBezTo>
                    <a:pt x="168" y="4451"/>
                    <a:pt x="203" y="4439"/>
                    <a:pt x="225" y="4439"/>
                  </a:cubicBezTo>
                  <a:cubicBezTo>
                    <a:pt x="414" y="4439"/>
                    <a:pt x="602" y="4433"/>
                    <a:pt x="791" y="4430"/>
                  </a:cubicBezTo>
                  <a:cubicBezTo>
                    <a:pt x="769" y="4225"/>
                    <a:pt x="795" y="4021"/>
                    <a:pt x="810" y="3817"/>
                  </a:cubicBezTo>
                  <a:cubicBezTo>
                    <a:pt x="773" y="3253"/>
                    <a:pt x="809" y="2682"/>
                    <a:pt x="819" y="2117"/>
                  </a:cubicBezTo>
                  <a:cubicBezTo>
                    <a:pt x="811" y="1822"/>
                    <a:pt x="816" y="1813"/>
                    <a:pt x="764" y="1597"/>
                  </a:cubicBezTo>
                  <a:cubicBezTo>
                    <a:pt x="753" y="1488"/>
                    <a:pt x="760" y="1388"/>
                    <a:pt x="810" y="1290"/>
                  </a:cubicBezTo>
                  <a:cubicBezTo>
                    <a:pt x="804" y="878"/>
                    <a:pt x="812" y="465"/>
                    <a:pt x="791" y="54"/>
                  </a:cubicBezTo>
                  <a:cubicBezTo>
                    <a:pt x="790" y="38"/>
                    <a:pt x="760" y="48"/>
                    <a:pt x="745" y="45"/>
                  </a:cubicBezTo>
                  <a:cubicBezTo>
                    <a:pt x="723" y="40"/>
                    <a:pt x="702" y="28"/>
                    <a:pt x="680" y="27"/>
                  </a:cubicBezTo>
                  <a:cubicBezTo>
                    <a:pt x="497" y="21"/>
                    <a:pt x="315" y="20"/>
                    <a:pt x="132" y="17"/>
                  </a:cubicBezTo>
                  <a:cubicBezTo>
                    <a:pt x="39" y="28"/>
                    <a:pt x="57" y="0"/>
                    <a:pt x="39" y="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2aa68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240" name="Picture 7" descr="j0217698"/>
            <p:cNvPicPr/>
            <p:nvPr/>
          </p:nvPicPr>
          <p:blipFill>
            <a:blip r:embed="rId2"/>
            <a:stretch/>
          </p:blipFill>
          <p:spPr>
            <a:xfrm>
              <a:off x="8101080" y="1341360"/>
              <a:ext cx="738000" cy="669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ffcc"/>
                </a:solidFill>
                <a:latin typeface="Tahoma"/>
              </a:rPr>
              <a:t>教学目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、了解通讯与消息的区别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、掌握通讯结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、结合课文内容，培养学生的爱国主义情感，增强民族责任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Picture 2" descr="7月1日凌晨，天安门广场万众欢腾，喜迎香港回归祖国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400720"/>
          </a:xfrm>
          <a:prstGeom prst="rect">
            <a:avLst/>
          </a:prstGeom>
          <a:ln w="0">
            <a:noFill/>
          </a:ln>
        </p:spPr>
      </p:pic>
      <p:sp>
        <p:nvSpPr>
          <p:cNvPr id="1242" name="Text Box 3"/>
          <p:cNvSpPr/>
          <p:nvPr/>
        </p:nvSpPr>
        <p:spPr>
          <a:xfrm>
            <a:off x="1420920" y="6093000"/>
            <a:ext cx="668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aa68"/>
                </a:solidFill>
                <a:latin typeface="方正小标宋简体"/>
                <a:ea typeface="方正小标宋简体"/>
              </a:rPr>
              <a:t>7</a:t>
            </a:r>
            <a:r>
              <a:rPr b="1" lang="zh-CN" sz="2000" spc="-1" strike="noStrike">
                <a:solidFill>
                  <a:srgbClr val="f2aa68"/>
                </a:solidFill>
                <a:latin typeface="方正小标宋简体"/>
                <a:ea typeface="方正小标宋简体"/>
              </a:rPr>
              <a:t>月</a:t>
            </a:r>
            <a:r>
              <a:rPr b="1" lang="en-US" sz="2000" spc="-1" strike="noStrike">
                <a:solidFill>
                  <a:srgbClr val="f2aa68"/>
                </a:solidFill>
                <a:latin typeface="方正小标宋简体"/>
                <a:ea typeface="方正小标宋简体"/>
              </a:rPr>
              <a:t>1</a:t>
            </a:r>
            <a:r>
              <a:rPr b="1" lang="zh-CN" sz="2000" spc="-1" strike="noStrike">
                <a:solidFill>
                  <a:srgbClr val="f2aa68"/>
                </a:solidFill>
                <a:latin typeface="方正小标宋简体"/>
                <a:ea typeface="方正小标宋简体"/>
              </a:rPr>
              <a:t>日凌晨，天安门广场万众欢腾，喜迎香港回归祖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43" name="Group 4"/>
          <p:cNvGrpSpPr/>
          <p:nvPr/>
        </p:nvGrpSpPr>
        <p:grpSpPr>
          <a:xfrm>
            <a:off x="8101080" y="-100080"/>
            <a:ext cx="1224000" cy="6337440"/>
            <a:chOff x="8101080" y="-100080"/>
            <a:chExt cx="1224000" cy="6337440"/>
          </a:xfrm>
        </p:grpSpPr>
        <p:sp>
          <p:nvSpPr>
            <p:cNvPr id="1244" name="Freeform 5"/>
            <p:cNvSpPr/>
            <p:nvPr/>
          </p:nvSpPr>
          <p:spPr>
            <a:xfrm>
              <a:off x="8294760" y="-100080"/>
              <a:ext cx="1030320" cy="6337440"/>
            </a:xfrm>
            <a:custGeom>
              <a:avLst/>
              <a:gdLst/>
              <a:ahLst/>
              <a:rect l="l" t="t" r="r" b="b"/>
              <a:pathLst>
                <a:path w="819" h="4451">
                  <a:moveTo>
                    <a:pt x="39" y="54"/>
                  </a:moveTo>
                  <a:cubicBezTo>
                    <a:pt x="46" y="91"/>
                    <a:pt x="56" y="122"/>
                    <a:pt x="67" y="157"/>
                  </a:cubicBezTo>
                  <a:cubicBezTo>
                    <a:pt x="63" y="175"/>
                    <a:pt x="33" y="234"/>
                    <a:pt x="58" y="250"/>
                  </a:cubicBezTo>
                  <a:cubicBezTo>
                    <a:pt x="79" y="264"/>
                    <a:pt x="108" y="260"/>
                    <a:pt x="132" y="268"/>
                  </a:cubicBezTo>
                  <a:cubicBezTo>
                    <a:pt x="129" y="290"/>
                    <a:pt x="133" y="313"/>
                    <a:pt x="123" y="333"/>
                  </a:cubicBezTo>
                  <a:cubicBezTo>
                    <a:pt x="118" y="342"/>
                    <a:pt x="12" y="361"/>
                    <a:pt x="11" y="361"/>
                  </a:cubicBezTo>
                  <a:cubicBezTo>
                    <a:pt x="24" y="509"/>
                    <a:pt x="0" y="493"/>
                    <a:pt x="141" y="510"/>
                  </a:cubicBezTo>
                  <a:cubicBezTo>
                    <a:pt x="150" y="513"/>
                    <a:pt x="165" y="510"/>
                    <a:pt x="169" y="519"/>
                  </a:cubicBezTo>
                  <a:cubicBezTo>
                    <a:pt x="185" y="557"/>
                    <a:pt x="151" y="559"/>
                    <a:pt x="132" y="565"/>
                  </a:cubicBezTo>
                  <a:cubicBezTo>
                    <a:pt x="129" y="574"/>
                    <a:pt x="121" y="583"/>
                    <a:pt x="123" y="593"/>
                  </a:cubicBezTo>
                  <a:cubicBezTo>
                    <a:pt x="125" y="604"/>
                    <a:pt x="137" y="611"/>
                    <a:pt x="141" y="621"/>
                  </a:cubicBezTo>
                  <a:cubicBezTo>
                    <a:pt x="149" y="639"/>
                    <a:pt x="154" y="658"/>
                    <a:pt x="160" y="677"/>
                  </a:cubicBezTo>
                  <a:cubicBezTo>
                    <a:pt x="166" y="696"/>
                    <a:pt x="178" y="733"/>
                    <a:pt x="178" y="733"/>
                  </a:cubicBezTo>
                  <a:cubicBezTo>
                    <a:pt x="169" y="742"/>
                    <a:pt x="161" y="753"/>
                    <a:pt x="150" y="760"/>
                  </a:cubicBezTo>
                  <a:cubicBezTo>
                    <a:pt x="121" y="779"/>
                    <a:pt x="106" y="758"/>
                    <a:pt x="150" y="788"/>
                  </a:cubicBezTo>
                  <a:cubicBezTo>
                    <a:pt x="147" y="801"/>
                    <a:pt x="149" y="816"/>
                    <a:pt x="141" y="826"/>
                  </a:cubicBezTo>
                  <a:cubicBezTo>
                    <a:pt x="135" y="834"/>
                    <a:pt x="117" y="826"/>
                    <a:pt x="113" y="835"/>
                  </a:cubicBezTo>
                  <a:cubicBezTo>
                    <a:pt x="69" y="933"/>
                    <a:pt x="153" y="901"/>
                    <a:pt x="48" y="918"/>
                  </a:cubicBezTo>
                  <a:cubicBezTo>
                    <a:pt x="130" y="973"/>
                    <a:pt x="72" y="1094"/>
                    <a:pt x="58" y="1179"/>
                  </a:cubicBezTo>
                  <a:cubicBezTo>
                    <a:pt x="61" y="1219"/>
                    <a:pt x="60" y="1260"/>
                    <a:pt x="67" y="1299"/>
                  </a:cubicBezTo>
                  <a:cubicBezTo>
                    <a:pt x="69" y="1310"/>
                    <a:pt x="82" y="1316"/>
                    <a:pt x="85" y="1327"/>
                  </a:cubicBezTo>
                  <a:cubicBezTo>
                    <a:pt x="92" y="1357"/>
                    <a:pt x="90" y="1389"/>
                    <a:pt x="95" y="1420"/>
                  </a:cubicBezTo>
                  <a:cubicBezTo>
                    <a:pt x="97" y="1433"/>
                    <a:pt x="101" y="1445"/>
                    <a:pt x="104" y="1457"/>
                  </a:cubicBezTo>
                  <a:cubicBezTo>
                    <a:pt x="98" y="1557"/>
                    <a:pt x="69" y="1693"/>
                    <a:pt x="132" y="1782"/>
                  </a:cubicBezTo>
                  <a:cubicBezTo>
                    <a:pt x="135" y="1795"/>
                    <a:pt x="133" y="1810"/>
                    <a:pt x="141" y="1820"/>
                  </a:cubicBezTo>
                  <a:cubicBezTo>
                    <a:pt x="147" y="1828"/>
                    <a:pt x="163" y="1821"/>
                    <a:pt x="169" y="1829"/>
                  </a:cubicBezTo>
                  <a:cubicBezTo>
                    <a:pt x="183" y="1847"/>
                    <a:pt x="180" y="1873"/>
                    <a:pt x="188" y="1894"/>
                  </a:cubicBezTo>
                  <a:cubicBezTo>
                    <a:pt x="159" y="2000"/>
                    <a:pt x="208" y="1862"/>
                    <a:pt x="132" y="1940"/>
                  </a:cubicBezTo>
                  <a:cubicBezTo>
                    <a:pt x="121" y="1951"/>
                    <a:pt x="126" y="1971"/>
                    <a:pt x="123" y="1987"/>
                  </a:cubicBezTo>
                  <a:cubicBezTo>
                    <a:pt x="130" y="2053"/>
                    <a:pt x="134" y="2085"/>
                    <a:pt x="113" y="2145"/>
                  </a:cubicBezTo>
                  <a:cubicBezTo>
                    <a:pt x="122" y="2151"/>
                    <a:pt x="134" y="2154"/>
                    <a:pt x="141" y="2163"/>
                  </a:cubicBezTo>
                  <a:cubicBezTo>
                    <a:pt x="160" y="2186"/>
                    <a:pt x="124" y="2281"/>
                    <a:pt x="113" y="2312"/>
                  </a:cubicBezTo>
                  <a:cubicBezTo>
                    <a:pt x="134" y="2405"/>
                    <a:pt x="142" y="2412"/>
                    <a:pt x="132" y="2507"/>
                  </a:cubicBezTo>
                  <a:cubicBezTo>
                    <a:pt x="108" y="2408"/>
                    <a:pt x="132" y="2532"/>
                    <a:pt x="132" y="2433"/>
                  </a:cubicBezTo>
                  <a:cubicBezTo>
                    <a:pt x="132" y="2423"/>
                    <a:pt x="126" y="2452"/>
                    <a:pt x="123" y="2461"/>
                  </a:cubicBezTo>
                  <a:cubicBezTo>
                    <a:pt x="120" y="2470"/>
                    <a:pt x="116" y="2479"/>
                    <a:pt x="113" y="2488"/>
                  </a:cubicBezTo>
                  <a:cubicBezTo>
                    <a:pt x="134" y="2641"/>
                    <a:pt x="86" y="2617"/>
                    <a:pt x="169" y="2637"/>
                  </a:cubicBezTo>
                  <a:cubicBezTo>
                    <a:pt x="181" y="2655"/>
                    <a:pt x="212" y="2686"/>
                    <a:pt x="178" y="2711"/>
                  </a:cubicBezTo>
                  <a:cubicBezTo>
                    <a:pt x="169" y="2718"/>
                    <a:pt x="159" y="2699"/>
                    <a:pt x="150" y="2693"/>
                  </a:cubicBezTo>
                  <a:cubicBezTo>
                    <a:pt x="153" y="2684"/>
                    <a:pt x="170" y="2665"/>
                    <a:pt x="160" y="2665"/>
                  </a:cubicBezTo>
                  <a:cubicBezTo>
                    <a:pt x="149" y="2665"/>
                    <a:pt x="143" y="2682"/>
                    <a:pt x="141" y="2693"/>
                  </a:cubicBezTo>
                  <a:cubicBezTo>
                    <a:pt x="139" y="2703"/>
                    <a:pt x="147" y="2712"/>
                    <a:pt x="150" y="2721"/>
                  </a:cubicBezTo>
                  <a:cubicBezTo>
                    <a:pt x="133" y="2791"/>
                    <a:pt x="74" y="2906"/>
                    <a:pt x="160" y="2934"/>
                  </a:cubicBezTo>
                  <a:cubicBezTo>
                    <a:pt x="169" y="2943"/>
                    <a:pt x="184" y="2949"/>
                    <a:pt x="188" y="2962"/>
                  </a:cubicBezTo>
                  <a:cubicBezTo>
                    <a:pt x="193" y="2980"/>
                    <a:pt x="143" y="3065"/>
                    <a:pt x="132" y="3083"/>
                  </a:cubicBezTo>
                  <a:cubicBezTo>
                    <a:pt x="135" y="3099"/>
                    <a:pt x="135" y="3115"/>
                    <a:pt x="141" y="3130"/>
                  </a:cubicBezTo>
                  <a:cubicBezTo>
                    <a:pt x="145" y="3140"/>
                    <a:pt x="159" y="3146"/>
                    <a:pt x="160" y="3157"/>
                  </a:cubicBezTo>
                  <a:cubicBezTo>
                    <a:pt x="162" y="3171"/>
                    <a:pt x="146" y="3215"/>
                    <a:pt x="141" y="3232"/>
                  </a:cubicBezTo>
                  <a:cubicBezTo>
                    <a:pt x="150" y="3238"/>
                    <a:pt x="167" y="3239"/>
                    <a:pt x="169" y="3250"/>
                  </a:cubicBezTo>
                  <a:cubicBezTo>
                    <a:pt x="181" y="3323"/>
                    <a:pt x="146" y="3421"/>
                    <a:pt x="123" y="3492"/>
                  </a:cubicBezTo>
                  <a:cubicBezTo>
                    <a:pt x="126" y="3514"/>
                    <a:pt x="124" y="3537"/>
                    <a:pt x="132" y="3557"/>
                  </a:cubicBezTo>
                  <a:cubicBezTo>
                    <a:pt x="137" y="3569"/>
                    <a:pt x="153" y="3574"/>
                    <a:pt x="160" y="3585"/>
                  </a:cubicBezTo>
                  <a:cubicBezTo>
                    <a:pt x="166" y="3596"/>
                    <a:pt x="166" y="3610"/>
                    <a:pt x="169" y="3622"/>
                  </a:cubicBezTo>
                  <a:cubicBezTo>
                    <a:pt x="166" y="3744"/>
                    <a:pt x="238" y="3946"/>
                    <a:pt x="123" y="3984"/>
                  </a:cubicBezTo>
                  <a:cubicBezTo>
                    <a:pt x="106" y="4032"/>
                    <a:pt x="133" y="4029"/>
                    <a:pt x="160" y="4068"/>
                  </a:cubicBezTo>
                  <a:cubicBezTo>
                    <a:pt x="180" y="4129"/>
                    <a:pt x="190" y="4176"/>
                    <a:pt x="150" y="4235"/>
                  </a:cubicBezTo>
                  <a:cubicBezTo>
                    <a:pt x="153" y="4300"/>
                    <a:pt x="138" y="4369"/>
                    <a:pt x="160" y="4430"/>
                  </a:cubicBezTo>
                  <a:cubicBezTo>
                    <a:pt x="168" y="4451"/>
                    <a:pt x="203" y="4439"/>
                    <a:pt x="225" y="4439"/>
                  </a:cubicBezTo>
                  <a:cubicBezTo>
                    <a:pt x="414" y="4439"/>
                    <a:pt x="602" y="4433"/>
                    <a:pt x="791" y="4430"/>
                  </a:cubicBezTo>
                  <a:cubicBezTo>
                    <a:pt x="769" y="4225"/>
                    <a:pt x="795" y="4021"/>
                    <a:pt x="810" y="3817"/>
                  </a:cubicBezTo>
                  <a:cubicBezTo>
                    <a:pt x="773" y="3253"/>
                    <a:pt x="809" y="2682"/>
                    <a:pt x="819" y="2117"/>
                  </a:cubicBezTo>
                  <a:cubicBezTo>
                    <a:pt x="811" y="1822"/>
                    <a:pt x="816" y="1813"/>
                    <a:pt x="764" y="1597"/>
                  </a:cubicBezTo>
                  <a:cubicBezTo>
                    <a:pt x="753" y="1488"/>
                    <a:pt x="760" y="1388"/>
                    <a:pt x="810" y="1290"/>
                  </a:cubicBezTo>
                  <a:cubicBezTo>
                    <a:pt x="804" y="878"/>
                    <a:pt x="812" y="465"/>
                    <a:pt x="791" y="54"/>
                  </a:cubicBezTo>
                  <a:cubicBezTo>
                    <a:pt x="790" y="38"/>
                    <a:pt x="760" y="48"/>
                    <a:pt x="745" y="45"/>
                  </a:cubicBezTo>
                  <a:cubicBezTo>
                    <a:pt x="723" y="40"/>
                    <a:pt x="702" y="28"/>
                    <a:pt x="680" y="27"/>
                  </a:cubicBezTo>
                  <a:cubicBezTo>
                    <a:pt x="497" y="21"/>
                    <a:pt x="315" y="20"/>
                    <a:pt x="132" y="17"/>
                  </a:cubicBezTo>
                  <a:cubicBezTo>
                    <a:pt x="39" y="28"/>
                    <a:pt x="57" y="0"/>
                    <a:pt x="39" y="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2aa68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245" name="Picture 6" descr="j0217698"/>
            <p:cNvPicPr/>
            <p:nvPr/>
          </p:nvPicPr>
          <p:blipFill>
            <a:blip r:embed="rId2"/>
            <a:stretch/>
          </p:blipFill>
          <p:spPr>
            <a:xfrm>
              <a:off x="8101080" y="1341360"/>
              <a:ext cx="738000" cy="669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46" name="Picture 7" descr="j0285410"/>
          <p:cNvPicPr/>
          <p:nvPr/>
        </p:nvPicPr>
        <p:blipFill>
          <a:blip r:embed="rId3"/>
          <a:stretch/>
        </p:blipFill>
        <p:spPr>
          <a:xfrm>
            <a:off x="8172360" y="6021360"/>
            <a:ext cx="573120" cy="544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7D51-7321-4D95-97D8-159FC18759FE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AutoShape 2"/>
          <p:cNvSpPr/>
          <p:nvPr/>
        </p:nvSpPr>
        <p:spPr>
          <a:xfrm>
            <a:off x="8604360" y="630864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2a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2" name="Picture 3" descr="０时４５分，“不列颠尼亚号”驶离码头"/>
          <p:cNvPicPr/>
          <p:nvPr/>
        </p:nvPicPr>
        <p:blipFill>
          <a:blip r:embed="rId1"/>
          <a:srcRect l="0" t="0" r="138" b="241"/>
          <a:stretch/>
        </p:blipFill>
        <p:spPr>
          <a:xfrm>
            <a:off x="0" y="577800"/>
            <a:ext cx="8748720" cy="5346720"/>
          </a:xfrm>
          <a:prstGeom prst="rect">
            <a:avLst/>
          </a:prstGeom>
          <a:ln w="0">
            <a:noFill/>
          </a:ln>
        </p:spPr>
      </p:pic>
      <p:sp>
        <p:nvSpPr>
          <p:cNvPr id="1253" name="Text Box 4"/>
          <p:cNvSpPr/>
          <p:nvPr/>
        </p:nvSpPr>
        <p:spPr>
          <a:xfrm>
            <a:off x="1632240" y="6021360"/>
            <a:ext cx="529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方正小标宋简体"/>
                <a:ea typeface="方正小标宋简体"/>
              </a:rPr>
              <a:t>0</a:t>
            </a:r>
            <a:r>
              <a:rPr b="1" lang="zh-CN" sz="2400" spc="-1" strike="noStrike">
                <a:solidFill>
                  <a:srgbClr val="ffff00"/>
                </a:solidFill>
                <a:latin typeface="方正小标宋简体"/>
                <a:ea typeface="方正小标宋简体"/>
              </a:rPr>
              <a:t>点</a:t>
            </a:r>
            <a:r>
              <a:rPr b="1" lang="en-US" sz="2400" spc="-1" strike="noStrike">
                <a:solidFill>
                  <a:srgbClr val="ffff00"/>
                </a:solidFill>
                <a:latin typeface="方正小标宋简体"/>
                <a:ea typeface="方正小标宋简体"/>
              </a:rPr>
              <a:t>40</a:t>
            </a:r>
            <a:r>
              <a:rPr b="1" lang="zh-CN" sz="2400" spc="-1" strike="noStrike">
                <a:solidFill>
                  <a:srgbClr val="ffff00"/>
                </a:solidFill>
                <a:latin typeface="方正小标宋简体"/>
                <a:ea typeface="方正小标宋简体"/>
              </a:rPr>
              <a:t>分，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方正小标宋简体"/>
              </a:rPr>
              <a:t>“</a:t>
            </a:r>
            <a:r>
              <a:rPr b="1" lang="zh-CN" sz="2400" spc="-1" strike="noStrike">
                <a:solidFill>
                  <a:srgbClr val="ffff00"/>
                </a:solidFill>
                <a:latin typeface="方正小标宋简体"/>
                <a:ea typeface="方正小标宋简体"/>
              </a:rPr>
              <a:t>不列颠尼亚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方正小标宋简体"/>
              </a:rPr>
              <a:t>”</a:t>
            </a:r>
            <a:r>
              <a:rPr b="1" lang="zh-CN" sz="2400" spc="-1" strike="noStrike">
                <a:solidFill>
                  <a:srgbClr val="ffff00"/>
                </a:solidFill>
                <a:latin typeface="方正小标宋简体"/>
                <a:ea typeface="方正小标宋简体"/>
              </a:rPr>
              <a:t>号驶离港湾，消失在南海夜幕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54" name="Group 5"/>
          <p:cNvGrpSpPr/>
          <p:nvPr/>
        </p:nvGrpSpPr>
        <p:grpSpPr>
          <a:xfrm>
            <a:off x="8101080" y="-100080"/>
            <a:ext cx="1224000" cy="6337440"/>
            <a:chOff x="8101080" y="-100080"/>
            <a:chExt cx="1224000" cy="6337440"/>
          </a:xfrm>
        </p:grpSpPr>
        <p:sp>
          <p:nvSpPr>
            <p:cNvPr id="1255" name="Freeform 6"/>
            <p:cNvSpPr/>
            <p:nvPr/>
          </p:nvSpPr>
          <p:spPr>
            <a:xfrm>
              <a:off x="8294760" y="-100080"/>
              <a:ext cx="1030320" cy="6337440"/>
            </a:xfrm>
            <a:custGeom>
              <a:avLst/>
              <a:gdLst/>
              <a:ahLst/>
              <a:rect l="l" t="t" r="r" b="b"/>
              <a:pathLst>
                <a:path w="819" h="4451">
                  <a:moveTo>
                    <a:pt x="39" y="54"/>
                  </a:moveTo>
                  <a:cubicBezTo>
                    <a:pt x="46" y="91"/>
                    <a:pt x="56" y="122"/>
                    <a:pt x="67" y="157"/>
                  </a:cubicBezTo>
                  <a:cubicBezTo>
                    <a:pt x="63" y="175"/>
                    <a:pt x="33" y="234"/>
                    <a:pt x="58" y="250"/>
                  </a:cubicBezTo>
                  <a:cubicBezTo>
                    <a:pt x="79" y="264"/>
                    <a:pt x="108" y="260"/>
                    <a:pt x="132" y="268"/>
                  </a:cubicBezTo>
                  <a:cubicBezTo>
                    <a:pt x="129" y="290"/>
                    <a:pt x="133" y="313"/>
                    <a:pt x="123" y="333"/>
                  </a:cubicBezTo>
                  <a:cubicBezTo>
                    <a:pt x="118" y="342"/>
                    <a:pt x="12" y="361"/>
                    <a:pt x="11" y="361"/>
                  </a:cubicBezTo>
                  <a:cubicBezTo>
                    <a:pt x="24" y="509"/>
                    <a:pt x="0" y="493"/>
                    <a:pt x="141" y="510"/>
                  </a:cubicBezTo>
                  <a:cubicBezTo>
                    <a:pt x="150" y="513"/>
                    <a:pt x="165" y="510"/>
                    <a:pt x="169" y="519"/>
                  </a:cubicBezTo>
                  <a:cubicBezTo>
                    <a:pt x="185" y="557"/>
                    <a:pt x="151" y="559"/>
                    <a:pt x="132" y="565"/>
                  </a:cubicBezTo>
                  <a:cubicBezTo>
                    <a:pt x="129" y="574"/>
                    <a:pt x="121" y="583"/>
                    <a:pt x="123" y="593"/>
                  </a:cubicBezTo>
                  <a:cubicBezTo>
                    <a:pt x="125" y="604"/>
                    <a:pt x="137" y="611"/>
                    <a:pt x="141" y="621"/>
                  </a:cubicBezTo>
                  <a:cubicBezTo>
                    <a:pt x="149" y="639"/>
                    <a:pt x="154" y="658"/>
                    <a:pt x="160" y="677"/>
                  </a:cubicBezTo>
                  <a:cubicBezTo>
                    <a:pt x="166" y="696"/>
                    <a:pt x="178" y="733"/>
                    <a:pt x="178" y="733"/>
                  </a:cubicBezTo>
                  <a:cubicBezTo>
                    <a:pt x="169" y="742"/>
                    <a:pt x="161" y="753"/>
                    <a:pt x="150" y="760"/>
                  </a:cubicBezTo>
                  <a:cubicBezTo>
                    <a:pt x="121" y="779"/>
                    <a:pt x="106" y="758"/>
                    <a:pt x="150" y="788"/>
                  </a:cubicBezTo>
                  <a:cubicBezTo>
                    <a:pt x="147" y="801"/>
                    <a:pt x="149" y="816"/>
                    <a:pt x="141" y="826"/>
                  </a:cubicBezTo>
                  <a:cubicBezTo>
                    <a:pt x="135" y="834"/>
                    <a:pt x="117" y="826"/>
                    <a:pt x="113" y="835"/>
                  </a:cubicBezTo>
                  <a:cubicBezTo>
                    <a:pt x="69" y="933"/>
                    <a:pt x="153" y="901"/>
                    <a:pt x="48" y="918"/>
                  </a:cubicBezTo>
                  <a:cubicBezTo>
                    <a:pt x="130" y="973"/>
                    <a:pt x="72" y="1094"/>
                    <a:pt x="58" y="1179"/>
                  </a:cubicBezTo>
                  <a:cubicBezTo>
                    <a:pt x="61" y="1219"/>
                    <a:pt x="60" y="1260"/>
                    <a:pt x="67" y="1299"/>
                  </a:cubicBezTo>
                  <a:cubicBezTo>
                    <a:pt x="69" y="1310"/>
                    <a:pt x="82" y="1316"/>
                    <a:pt x="85" y="1327"/>
                  </a:cubicBezTo>
                  <a:cubicBezTo>
                    <a:pt x="92" y="1357"/>
                    <a:pt x="90" y="1389"/>
                    <a:pt x="95" y="1420"/>
                  </a:cubicBezTo>
                  <a:cubicBezTo>
                    <a:pt x="97" y="1433"/>
                    <a:pt x="101" y="1445"/>
                    <a:pt x="104" y="1457"/>
                  </a:cubicBezTo>
                  <a:cubicBezTo>
                    <a:pt x="98" y="1557"/>
                    <a:pt x="69" y="1693"/>
                    <a:pt x="132" y="1782"/>
                  </a:cubicBezTo>
                  <a:cubicBezTo>
                    <a:pt x="135" y="1795"/>
                    <a:pt x="133" y="1810"/>
                    <a:pt x="141" y="1820"/>
                  </a:cubicBezTo>
                  <a:cubicBezTo>
                    <a:pt x="147" y="1828"/>
                    <a:pt x="163" y="1821"/>
                    <a:pt x="169" y="1829"/>
                  </a:cubicBezTo>
                  <a:cubicBezTo>
                    <a:pt x="183" y="1847"/>
                    <a:pt x="180" y="1873"/>
                    <a:pt x="188" y="1894"/>
                  </a:cubicBezTo>
                  <a:cubicBezTo>
                    <a:pt x="159" y="2000"/>
                    <a:pt x="208" y="1862"/>
                    <a:pt x="132" y="1940"/>
                  </a:cubicBezTo>
                  <a:cubicBezTo>
                    <a:pt x="121" y="1951"/>
                    <a:pt x="126" y="1971"/>
                    <a:pt x="123" y="1987"/>
                  </a:cubicBezTo>
                  <a:cubicBezTo>
                    <a:pt x="130" y="2053"/>
                    <a:pt x="134" y="2085"/>
                    <a:pt x="113" y="2145"/>
                  </a:cubicBezTo>
                  <a:cubicBezTo>
                    <a:pt x="122" y="2151"/>
                    <a:pt x="134" y="2154"/>
                    <a:pt x="141" y="2163"/>
                  </a:cubicBezTo>
                  <a:cubicBezTo>
                    <a:pt x="160" y="2186"/>
                    <a:pt x="124" y="2281"/>
                    <a:pt x="113" y="2312"/>
                  </a:cubicBezTo>
                  <a:cubicBezTo>
                    <a:pt x="134" y="2405"/>
                    <a:pt x="142" y="2412"/>
                    <a:pt x="132" y="2507"/>
                  </a:cubicBezTo>
                  <a:cubicBezTo>
                    <a:pt x="108" y="2408"/>
                    <a:pt x="132" y="2532"/>
                    <a:pt x="132" y="2433"/>
                  </a:cubicBezTo>
                  <a:cubicBezTo>
                    <a:pt x="132" y="2423"/>
                    <a:pt x="126" y="2452"/>
                    <a:pt x="123" y="2461"/>
                  </a:cubicBezTo>
                  <a:cubicBezTo>
                    <a:pt x="120" y="2470"/>
                    <a:pt x="116" y="2479"/>
                    <a:pt x="113" y="2488"/>
                  </a:cubicBezTo>
                  <a:cubicBezTo>
                    <a:pt x="134" y="2641"/>
                    <a:pt x="86" y="2617"/>
                    <a:pt x="169" y="2637"/>
                  </a:cubicBezTo>
                  <a:cubicBezTo>
                    <a:pt x="181" y="2655"/>
                    <a:pt x="212" y="2686"/>
                    <a:pt x="178" y="2711"/>
                  </a:cubicBezTo>
                  <a:cubicBezTo>
                    <a:pt x="169" y="2718"/>
                    <a:pt x="159" y="2699"/>
                    <a:pt x="150" y="2693"/>
                  </a:cubicBezTo>
                  <a:cubicBezTo>
                    <a:pt x="153" y="2684"/>
                    <a:pt x="170" y="2665"/>
                    <a:pt x="160" y="2665"/>
                  </a:cubicBezTo>
                  <a:cubicBezTo>
                    <a:pt x="149" y="2665"/>
                    <a:pt x="143" y="2682"/>
                    <a:pt x="141" y="2693"/>
                  </a:cubicBezTo>
                  <a:cubicBezTo>
                    <a:pt x="139" y="2703"/>
                    <a:pt x="147" y="2712"/>
                    <a:pt x="150" y="2721"/>
                  </a:cubicBezTo>
                  <a:cubicBezTo>
                    <a:pt x="133" y="2791"/>
                    <a:pt x="74" y="2906"/>
                    <a:pt x="160" y="2934"/>
                  </a:cubicBezTo>
                  <a:cubicBezTo>
                    <a:pt x="169" y="2943"/>
                    <a:pt x="184" y="2949"/>
                    <a:pt x="188" y="2962"/>
                  </a:cubicBezTo>
                  <a:cubicBezTo>
                    <a:pt x="193" y="2980"/>
                    <a:pt x="143" y="3065"/>
                    <a:pt x="132" y="3083"/>
                  </a:cubicBezTo>
                  <a:cubicBezTo>
                    <a:pt x="135" y="3099"/>
                    <a:pt x="135" y="3115"/>
                    <a:pt x="141" y="3130"/>
                  </a:cubicBezTo>
                  <a:cubicBezTo>
                    <a:pt x="145" y="3140"/>
                    <a:pt x="159" y="3146"/>
                    <a:pt x="160" y="3157"/>
                  </a:cubicBezTo>
                  <a:cubicBezTo>
                    <a:pt x="162" y="3171"/>
                    <a:pt x="146" y="3215"/>
                    <a:pt x="141" y="3232"/>
                  </a:cubicBezTo>
                  <a:cubicBezTo>
                    <a:pt x="150" y="3238"/>
                    <a:pt x="167" y="3239"/>
                    <a:pt x="169" y="3250"/>
                  </a:cubicBezTo>
                  <a:cubicBezTo>
                    <a:pt x="181" y="3323"/>
                    <a:pt x="146" y="3421"/>
                    <a:pt x="123" y="3492"/>
                  </a:cubicBezTo>
                  <a:cubicBezTo>
                    <a:pt x="126" y="3514"/>
                    <a:pt x="124" y="3537"/>
                    <a:pt x="132" y="3557"/>
                  </a:cubicBezTo>
                  <a:cubicBezTo>
                    <a:pt x="137" y="3569"/>
                    <a:pt x="153" y="3574"/>
                    <a:pt x="160" y="3585"/>
                  </a:cubicBezTo>
                  <a:cubicBezTo>
                    <a:pt x="166" y="3596"/>
                    <a:pt x="166" y="3610"/>
                    <a:pt x="169" y="3622"/>
                  </a:cubicBezTo>
                  <a:cubicBezTo>
                    <a:pt x="166" y="3744"/>
                    <a:pt x="238" y="3946"/>
                    <a:pt x="123" y="3984"/>
                  </a:cubicBezTo>
                  <a:cubicBezTo>
                    <a:pt x="106" y="4032"/>
                    <a:pt x="133" y="4029"/>
                    <a:pt x="160" y="4068"/>
                  </a:cubicBezTo>
                  <a:cubicBezTo>
                    <a:pt x="180" y="4129"/>
                    <a:pt x="190" y="4176"/>
                    <a:pt x="150" y="4235"/>
                  </a:cubicBezTo>
                  <a:cubicBezTo>
                    <a:pt x="153" y="4300"/>
                    <a:pt x="138" y="4369"/>
                    <a:pt x="160" y="4430"/>
                  </a:cubicBezTo>
                  <a:cubicBezTo>
                    <a:pt x="168" y="4451"/>
                    <a:pt x="203" y="4439"/>
                    <a:pt x="225" y="4439"/>
                  </a:cubicBezTo>
                  <a:cubicBezTo>
                    <a:pt x="414" y="4439"/>
                    <a:pt x="602" y="4433"/>
                    <a:pt x="791" y="4430"/>
                  </a:cubicBezTo>
                  <a:cubicBezTo>
                    <a:pt x="769" y="4225"/>
                    <a:pt x="795" y="4021"/>
                    <a:pt x="810" y="3817"/>
                  </a:cubicBezTo>
                  <a:cubicBezTo>
                    <a:pt x="773" y="3253"/>
                    <a:pt x="809" y="2682"/>
                    <a:pt x="819" y="2117"/>
                  </a:cubicBezTo>
                  <a:cubicBezTo>
                    <a:pt x="811" y="1822"/>
                    <a:pt x="816" y="1813"/>
                    <a:pt x="764" y="1597"/>
                  </a:cubicBezTo>
                  <a:cubicBezTo>
                    <a:pt x="753" y="1488"/>
                    <a:pt x="760" y="1388"/>
                    <a:pt x="810" y="1290"/>
                  </a:cubicBezTo>
                  <a:cubicBezTo>
                    <a:pt x="804" y="878"/>
                    <a:pt x="812" y="465"/>
                    <a:pt x="791" y="54"/>
                  </a:cubicBezTo>
                  <a:cubicBezTo>
                    <a:pt x="790" y="38"/>
                    <a:pt x="760" y="48"/>
                    <a:pt x="745" y="45"/>
                  </a:cubicBezTo>
                  <a:cubicBezTo>
                    <a:pt x="723" y="40"/>
                    <a:pt x="702" y="28"/>
                    <a:pt x="680" y="27"/>
                  </a:cubicBezTo>
                  <a:cubicBezTo>
                    <a:pt x="497" y="21"/>
                    <a:pt x="315" y="20"/>
                    <a:pt x="132" y="17"/>
                  </a:cubicBezTo>
                  <a:cubicBezTo>
                    <a:pt x="39" y="28"/>
                    <a:pt x="57" y="0"/>
                    <a:pt x="39" y="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2aa68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256" name="Picture 7" descr="j0217698"/>
            <p:cNvPicPr/>
            <p:nvPr/>
          </p:nvPicPr>
          <p:blipFill>
            <a:blip r:embed="rId2"/>
            <a:stretch/>
          </p:blipFill>
          <p:spPr>
            <a:xfrm>
              <a:off x="8101080" y="1341360"/>
              <a:ext cx="738000" cy="669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ver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30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cc"/>
                </a:solidFill>
                <a:latin typeface="Tahoma"/>
              </a:rPr>
              <a:t>通讯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0" name=""/>
          <p:cNvSpPr txBox="1"/>
          <p:nvPr/>
        </p:nvSpPr>
        <p:spPr>
          <a:xfrm>
            <a:off x="395280" y="907920"/>
            <a:ext cx="79884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报刊常用的基本体裁之一。分为</a:t>
            </a:r>
            <a:r>
              <a:rPr b="1" lang="zh-CN" sz="3600" spc="-1" strike="noStrike">
                <a:solidFill>
                  <a:srgbClr val="ebf25a"/>
                </a:solidFill>
                <a:latin typeface="Tahoma"/>
              </a:rPr>
              <a:t>人物   通讯和事件通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新闻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通讯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的主要区别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新闻中 的事实一般是概括性的；通讯则要求通过</a:t>
            </a:r>
            <a:r>
              <a:rPr b="1" lang="zh-CN" sz="3600" spc="-1" strike="noStrike">
                <a:solidFill>
                  <a:srgbClr val="ebf25a"/>
                </a:solidFill>
                <a:latin typeface="Tahoma"/>
              </a:rPr>
              <a:t>具体的人物和事件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反映现实生活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新闻叙述要简洁、明快，篇幅短小；通讯则要有</a:t>
            </a:r>
            <a:r>
              <a:rPr b="1" lang="zh-CN" sz="3600" spc="-1" strike="noStrike">
                <a:solidFill>
                  <a:srgbClr val="ebf25a"/>
                </a:solidFill>
                <a:latin typeface="Tahoma"/>
              </a:rPr>
              <a:t>细致的描写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，往往还含有</a:t>
            </a:r>
            <a:r>
              <a:rPr b="1" lang="zh-CN" sz="3600" spc="-1" strike="noStrike">
                <a:solidFill>
                  <a:srgbClr val="ebf25a"/>
                </a:solidFill>
                <a:latin typeface="Tahoma"/>
              </a:rPr>
              <a:t>作者的议论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，一般篇幅比较长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新闻的时效性比通讯更强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76212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304920" y="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Tahoma"/>
              </a:rPr>
              <a:t>标题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别了，不列颠尼亚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特点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⒈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活用毛泽东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《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别了，司徒雷登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》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题目，旧题新用，别致，有新意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   ⒉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用英国皇家游轮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不列颠尼亚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，代表英国在香港的统治，有象征意义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   ⒊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用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别了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一语表明英国在香港统治的结束，有讽刺意味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76212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304920" y="30492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Tahoma"/>
              </a:rPr>
              <a:t>导语（第一自然段）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重点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⒈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点题。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不列颠尼亚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号将最后完成接载英国王子查尔斯和港督撤离的使命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  ⒉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揭示全文主旨，在香港飘扬了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156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年的英国米字旗即将下降，香港即将回归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  ⒊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指出这是英国撤离的最后时刻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8088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609480" y="228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Tahoma"/>
              </a:rPr>
              <a:t>主体（</a:t>
            </a:r>
            <a:r>
              <a:rPr b="1" lang="en-US" sz="4000" spc="-1" strike="noStrike">
                <a:solidFill>
                  <a:srgbClr val="ff5050"/>
                </a:solidFill>
                <a:latin typeface="Tahoma"/>
              </a:rPr>
              <a:t>2-10</a:t>
            </a:r>
            <a:r>
              <a:rPr b="1" lang="zh-CN" sz="4000" spc="-1" strike="noStrike">
                <a:solidFill>
                  <a:srgbClr val="ff5050"/>
                </a:solidFill>
                <a:latin typeface="Tahoma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Tahoma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以时间为线索，记叙了英国告别仪式的全过程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-360" y="-1676520"/>
            <a:ext cx="89154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9" name=""/>
          <p:cNvGraphicFramePr/>
          <p:nvPr/>
        </p:nvGraphicFramePr>
        <p:xfrm>
          <a:off x="304920" y="304920"/>
          <a:ext cx="8610480" cy="6298920"/>
        </p:xfrm>
        <a:graphic>
          <a:graphicData uri="http://schemas.openxmlformats.org/drawingml/2006/table">
            <a:tbl>
              <a:tblPr/>
              <a:tblGrid>
                <a:gridCol w="2209680"/>
                <a:gridCol w="2133720"/>
                <a:gridCol w="4267080"/>
              </a:tblGrid>
              <a:tr h="450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时      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地     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主 要 事 件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7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年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月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日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下午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点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港督府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彭定康注视着港督旗帜降下旗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5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7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年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月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日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下午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点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港督府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彭定康乘车最后一次离开港督府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3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7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年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月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日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下午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点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距英军总部不远的添马舰东面的广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举行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告别仪式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，查尔斯宣读英女王赠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7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年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月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日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下午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点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5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威尔士亲王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军营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举行第二次降旗仪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7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年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月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日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最后一分钟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中英香港交接仪式现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米字旗在香港最后一次降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4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新的一天来临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第一分钟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中英香港交接仪式现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五星红旗伴着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《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义勇军进行曲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》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冉冉升起，与此同时，五星红旗在英军添马舰营区升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7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年零点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中国南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查尔斯和彭定康登上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不列颠尼亚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消失在南海的夜幕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858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Tahoma"/>
              </a:rPr>
              <a:t>结尾（</a:t>
            </a:r>
            <a:r>
              <a:rPr b="1" lang="en-US" sz="4000" spc="-1" strike="noStrike">
                <a:solidFill>
                  <a:srgbClr val="ff5050"/>
                </a:solidFill>
                <a:latin typeface="Tahoma"/>
              </a:rPr>
              <a:t>11</a:t>
            </a:r>
            <a:r>
              <a:rPr b="1" lang="zh-CN" sz="4000" spc="-1" strike="noStrike">
                <a:solidFill>
                  <a:srgbClr val="ff5050"/>
                </a:solidFill>
                <a:latin typeface="Tahoma"/>
              </a:rPr>
              <a:t>、</a:t>
            </a:r>
            <a:r>
              <a:rPr b="1" lang="en-US" sz="4000" spc="-1" strike="noStrike">
                <a:solidFill>
                  <a:srgbClr val="ff5050"/>
                </a:solidFill>
                <a:latin typeface="Tahoma"/>
              </a:rPr>
              <a:t>12</a:t>
            </a:r>
            <a:r>
              <a:rPr b="1" lang="zh-CN" sz="4000" spc="-1" strike="noStrike">
                <a:solidFill>
                  <a:srgbClr val="ff5050"/>
                </a:solidFill>
                <a:latin typeface="Tahoma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Tahoma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以时间为线索，为英国在香港统治的历史做了小结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156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个月零四天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耻辱的历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大英帝国从海上来，又从海上去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呼应题目，暗含讽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帝国主义的必然结局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Text Box 2"/>
          <p:cNvSpPr/>
          <p:nvPr/>
        </p:nvSpPr>
        <p:spPr>
          <a:xfrm>
            <a:off x="611280" y="47628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Wingdings 2"/>
                <a:ea typeface="Wingdings 2"/>
              </a:rPr>
              <a:t></a:t>
            </a:r>
            <a:r>
              <a:rPr b="1" lang="en-US" sz="4000" spc="-1" strike="noStrike">
                <a:solidFill>
                  <a:srgbClr val="ffff00"/>
                </a:solidFill>
                <a:latin typeface="方正小标宋简体"/>
                <a:ea typeface="方正小标宋简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方正小标宋简体"/>
                <a:ea typeface="方正小标宋简体"/>
              </a:rPr>
              <a:t>构思创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3" name="Picture 3" descr="j0285410"/>
          <p:cNvPicPr/>
          <p:nvPr/>
        </p:nvPicPr>
        <p:blipFill>
          <a:blip r:embed="rId1"/>
          <a:stretch/>
        </p:blipFill>
        <p:spPr>
          <a:xfrm>
            <a:off x="8172360" y="6021360"/>
            <a:ext cx="573120" cy="544680"/>
          </a:xfrm>
          <a:prstGeom prst="rect">
            <a:avLst/>
          </a:prstGeom>
          <a:ln w="0">
            <a:noFill/>
          </a:ln>
        </p:spPr>
      </p:pic>
      <p:sp>
        <p:nvSpPr>
          <p:cNvPr id="1134" name="Text Box 4"/>
          <p:cNvSpPr/>
          <p:nvPr/>
        </p:nvSpPr>
        <p:spPr>
          <a:xfrm>
            <a:off x="1116000" y="22622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bf25a"/>
                </a:solidFill>
                <a:latin typeface="Arial"/>
                <a:ea typeface="方正小标宋简体"/>
              </a:rPr>
              <a:t>借鉴价值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Text Box 5"/>
          <p:cNvSpPr/>
          <p:nvPr/>
        </p:nvSpPr>
        <p:spPr>
          <a:xfrm>
            <a:off x="2987640" y="2276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bf25a"/>
                </a:solidFill>
                <a:latin typeface="Arial"/>
                <a:ea typeface="方正小标宋简体"/>
              </a:rPr>
              <a:t>极强的实录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6" name="Text Box 6"/>
          <p:cNvSpPr/>
          <p:nvPr/>
        </p:nvSpPr>
        <p:spPr>
          <a:xfrm>
            <a:off x="1311120" y="3141720"/>
            <a:ext cx="42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aa68"/>
                </a:solidFill>
                <a:latin typeface="Arial"/>
                <a:ea typeface="方正小标宋简体"/>
              </a:rPr>
              <a:t>一、清晰的可视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7" name="Text Box 7"/>
          <p:cNvSpPr/>
          <p:nvPr/>
        </p:nvSpPr>
        <p:spPr>
          <a:xfrm>
            <a:off x="1332000" y="378936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aa68"/>
                </a:solidFill>
                <a:latin typeface="Arial"/>
                <a:ea typeface="方正小标宋简体"/>
              </a:rPr>
              <a:t>二、生动的可听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8" name="Text Box 8"/>
          <p:cNvSpPr/>
          <p:nvPr/>
        </p:nvSpPr>
        <p:spPr>
          <a:xfrm>
            <a:off x="1332000" y="4422600"/>
            <a:ext cx="45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aa68"/>
                </a:solidFill>
                <a:latin typeface="Arial"/>
                <a:ea typeface="方正小标宋简体"/>
              </a:rPr>
              <a:t>三、清新强烈的动态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9" name="Text Box 9"/>
          <p:cNvSpPr/>
          <p:nvPr/>
        </p:nvSpPr>
        <p:spPr>
          <a:xfrm>
            <a:off x="1332000" y="4997520"/>
            <a:ext cx="45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aa68"/>
                </a:solidFill>
                <a:latin typeface="Arial"/>
                <a:ea typeface="方正小标宋简体"/>
              </a:rPr>
              <a:t>四、对比强烈的色彩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40" name="Group 10"/>
          <p:cNvGrpSpPr/>
          <p:nvPr/>
        </p:nvGrpSpPr>
        <p:grpSpPr>
          <a:xfrm>
            <a:off x="7956720" y="-100080"/>
            <a:ext cx="1368360" cy="5761080"/>
            <a:chOff x="7956720" y="-100080"/>
            <a:chExt cx="1368360" cy="5761080"/>
          </a:xfrm>
        </p:grpSpPr>
        <p:sp>
          <p:nvSpPr>
            <p:cNvPr id="1141" name="Freeform 11"/>
            <p:cNvSpPr/>
            <p:nvPr/>
          </p:nvSpPr>
          <p:spPr>
            <a:xfrm>
              <a:off x="8101080" y="-100080"/>
              <a:ext cx="1224000" cy="5761080"/>
            </a:xfrm>
            <a:custGeom>
              <a:avLst/>
              <a:gdLst/>
              <a:ahLst/>
              <a:rect l="l" t="t" r="r" b="b"/>
              <a:pathLst>
                <a:path w="819" h="4451">
                  <a:moveTo>
                    <a:pt x="39" y="54"/>
                  </a:moveTo>
                  <a:cubicBezTo>
                    <a:pt x="46" y="91"/>
                    <a:pt x="56" y="122"/>
                    <a:pt x="67" y="157"/>
                  </a:cubicBezTo>
                  <a:cubicBezTo>
                    <a:pt x="63" y="175"/>
                    <a:pt x="33" y="234"/>
                    <a:pt x="58" y="250"/>
                  </a:cubicBezTo>
                  <a:cubicBezTo>
                    <a:pt x="79" y="264"/>
                    <a:pt x="108" y="260"/>
                    <a:pt x="132" y="268"/>
                  </a:cubicBezTo>
                  <a:cubicBezTo>
                    <a:pt x="129" y="290"/>
                    <a:pt x="133" y="313"/>
                    <a:pt x="123" y="333"/>
                  </a:cubicBezTo>
                  <a:cubicBezTo>
                    <a:pt x="118" y="342"/>
                    <a:pt x="12" y="361"/>
                    <a:pt x="11" y="361"/>
                  </a:cubicBezTo>
                  <a:cubicBezTo>
                    <a:pt x="24" y="509"/>
                    <a:pt x="0" y="493"/>
                    <a:pt x="141" y="510"/>
                  </a:cubicBezTo>
                  <a:cubicBezTo>
                    <a:pt x="150" y="513"/>
                    <a:pt x="165" y="510"/>
                    <a:pt x="169" y="519"/>
                  </a:cubicBezTo>
                  <a:cubicBezTo>
                    <a:pt x="185" y="557"/>
                    <a:pt x="151" y="559"/>
                    <a:pt x="132" y="565"/>
                  </a:cubicBezTo>
                  <a:cubicBezTo>
                    <a:pt x="129" y="574"/>
                    <a:pt x="121" y="583"/>
                    <a:pt x="123" y="593"/>
                  </a:cubicBezTo>
                  <a:cubicBezTo>
                    <a:pt x="125" y="604"/>
                    <a:pt x="137" y="611"/>
                    <a:pt x="141" y="621"/>
                  </a:cubicBezTo>
                  <a:cubicBezTo>
                    <a:pt x="149" y="639"/>
                    <a:pt x="154" y="658"/>
                    <a:pt x="160" y="677"/>
                  </a:cubicBezTo>
                  <a:cubicBezTo>
                    <a:pt x="166" y="696"/>
                    <a:pt x="178" y="733"/>
                    <a:pt x="178" y="733"/>
                  </a:cubicBezTo>
                  <a:cubicBezTo>
                    <a:pt x="169" y="742"/>
                    <a:pt x="161" y="753"/>
                    <a:pt x="150" y="760"/>
                  </a:cubicBezTo>
                  <a:cubicBezTo>
                    <a:pt x="121" y="779"/>
                    <a:pt x="106" y="758"/>
                    <a:pt x="150" y="788"/>
                  </a:cubicBezTo>
                  <a:cubicBezTo>
                    <a:pt x="147" y="801"/>
                    <a:pt x="149" y="816"/>
                    <a:pt x="141" y="826"/>
                  </a:cubicBezTo>
                  <a:cubicBezTo>
                    <a:pt x="135" y="834"/>
                    <a:pt x="117" y="826"/>
                    <a:pt x="113" y="835"/>
                  </a:cubicBezTo>
                  <a:cubicBezTo>
                    <a:pt x="69" y="933"/>
                    <a:pt x="153" y="901"/>
                    <a:pt x="48" y="918"/>
                  </a:cubicBezTo>
                  <a:cubicBezTo>
                    <a:pt x="130" y="973"/>
                    <a:pt x="72" y="1094"/>
                    <a:pt x="58" y="1179"/>
                  </a:cubicBezTo>
                  <a:cubicBezTo>
                    <a:pt x="61" y="1219"/>
                    <a:pt x="60" y="1260"/>
                    <a:pt x="67" y="1299"/>
                  </a:cubicBezTo>
                  <a:cubicBezTo>
                    <a:pt x="69" y="1310"/>
                    <a:pt x="82" y="1316"/>
                    <a:pt x="85" y="1327"/>
                  </a:cubicBezTo>
                  <a:cubicBezTo>
                    <a:pt x="92" y="1357"/>
                    <a:pt x="90" y="1389"/>
                    <a:pt x="95" y="1420"/>
                  </a:cubicBezTo>
                  <a:cubicBezTo>
                    <a:pt x="97" y="1433"/>
                    <a:pt x="101" y="1445"/>
                    <a:pt x="104" y="1457"/>
                  </a:cubicBezTo>
                  <a:cubicBezTo>
                    <a:pt x="98" y="1557"/>
                    <a:pt x="69" y="1693"/>
                    <a:pt x="132" y="1782"/>
                  </a:cubicBezTo>
                  <a:cubicBezTo>
                    <a:pt x="135" y="1795"/>
                    <a:pt x="133" y="1810"/>
                    <a:pt x="141" y="1820"/>
                  </a:cubicBezTo>
                  <a:cubicBezTo>
                    <a:pt x="147" y="1828"/>
                    <a:pt x="163" y="1821"/>
                    <a:pt x="169" y="1829"/>
                  </a:cubicBezTo>
                  <a:cubicBezTo>
                    <a:pt x="183" y="1847"/>
                    <a:pt x="180" y="1873"/>
                    <a:pt x="188" y="1894"/>
                  </a:cubicBezTo>
                  <a:cubicBezTo>
                    <a:pt x="159" y="2000"/>
                    <a:pt x="208" y="1862"/>
                    <a:pt x="132" y="1940"/>
                  </a:cubicBezTo>
                  <a:cubicBezTo>
                    <a:pt x="121" y="1951"/>
                    <a:pt x="126" y="1971"/>
                    <a:pt x="123" y="1987"/>
                  </a:cubicBezTo>
                  <a:cubicBezTo>
                    <a:pt x="130" y="2053"/>
                    <a:pt x="134" y="2085"/>
                    <a:pt x="113" y="2145"/>
                  </a:cubicBezTo>
                  <a:cubicBezTo>
                    <a:pt x="122" y="2151"/>
                    <a:pt x="134" y="2154"/>
                    <a:pt x="141" y="2163"/>
                  </a:cubicBezTo>
                  <a:cubicBezTo>
                    <a:pt x="160" y="2186"/>
                    <a:pt x="124" y="2281"/>
                    <a:pt x="113" y="2312"/>
                  </a:cubicBezTo>
                  <a:cubicBezTo>
                    <a:pt x="134" y="2405"/>
                    <a:pt x="142" y="2412"/>
                    <a:pt x="132" y="2507"/>
                  </a:cubicBezTo>
                  <a:cubicBezTo>
                    <a:pt x="108" y="2408"/>
                    <a:pt x="132" y="2532"/>
                    <a:pt x="132" y="2433"/>
                  </a:cubicBezTo>
                  <a:cubicBezTo>
                    <a:pt x="132" y="2423"/>
                    <a:pt x="126" y="2452"/>
                    <a:pt x="123" y="2461"/>
                  </a:cubicBezTo>
                  <a:cubicBezTo>
                    <a:pt x="120" y="2470"/>
                    <a:pt x="116" y="2479"/>
                    <a:pt x="113" y="2488"/>
                  </a:cubicBezTo>
                  <a:cubicBezTo>
                    <a:pt x="134" y="2641"/>
                    <a:pt x="86" y="2617"/>
                    <a:pt x="169" y="2637"/>
                  </a:cubicBezTo>
                  <a:cubicBezTo>
                    <a:pt x="181" y="2655"/>
                    <a:pt x="212" y="2686"/>
                    <a:pt x="178" y="2711"/>
                  </a:cubicBezTo>
                  <a:cubicBezTo>
                    <a:pt x="169" y="2718"/>
                    <a:pt x="159" y="2699"/>
                    <a:pt x="150" y="2693"/>
                  </a:cubicBezTo>
                  <a:cubicBezTo>
                    <a:pt x="153" y="2684"/>
                    <a:pt x="170" y="2665"/>
                    <a:pt x="160" y="2665"/>
                  </a:cubicBezTo>
                  <a:cubicBezTo>
                    <a:pt x="149" y="2665"/>
                    <a:pt x="143" y="2682"/>
                    <a:pt x="141" y="2693"/>
                  </a:cubicBezTo>
                  <a:cubicBezTo>
                    <a:pt x="139" y="2703"/>
                    <a:pt x="147" y="2712"/>
                    <a:pt x="150" y="2721"/>
                  </a:cubicBezTo>
                  <a:cubicBezTo>
                    <a:pt x="133" y="2791"/>
                    <a:pt x="74" y="2906"/>
                    <a:pt x="160" y="2934"/>
                  </a:cubicBezTo>
                  <a:cubicBezTo>
                    <a:pt x="169" y="2943"/>
                    <a:pt x="184" y="2949"/>
                    <a:pt x="188" y="2962"/>
                  </a:cubicBezTo>
                  <a:cubicBezTo>
                    <a:pt x="193" y="2980"/>
                    <a:pt x="143" y="3065"/>
                    <a:pt x="132" y="3083"/>
                  </a:cubicBezTo>
                  <a:cubicBezTo>
                    <a:pt x="135" y="3099"/>
                    <a:pt x="135" y="3115"/>
                    <a:pt x="141" y="3130"/>
                  </a:cubicBezTo>
                  <a:cubicBezTo>
                    <a:pt x="145" y="3140"/>
                    <a:pt x="159" y="3146"/>
                    <a:pt x="160" y="3157"/>
                  </a:cubicBezTo>
                  <a:cubicBezTo>
                    <a:pt x="162" y="3171"/>
                    <a:pt x="146" y="3215"/>
                    <a:pt x="141" y="3232"/>
                  </a:cubicBezTo>
                  <a:cubicBezTo>
                    <a:pt x="150" y="3238"/>
                    <a:pt x="167" y="3239"/>
                    <a:pt x="169" y="3250"/>
                  </a:cubicBezTo>
                  <a:cubicBezTo>
                    <a:pt x="181" y="3323"/>
                    <a:pt x="146" y="3421"/>
                    <a:pt x="123" y="3492"/>
                  </a:cubicBezTo>
                  <a:cubicBezTo>
                    <a:pt x="126" y="3514"/>
                    <a:pt x="124" y="3537"/>
                    <a:pt x="132" y="3557"/>
                  </a:cubicBezTo>
                  <a:cubicBezTo>
                    <a:pt x="137" y="3569"/>
                    <a:pt x="153" y="3574"/>
                    <a:pt x="160" y="3585"/>
                  </a:cubicBezTo>
                  <a:cubicBezTo>
                    <a:pt x="166" y="3596"/>
                    <a:pt x="166" y="3610"/>
                    <a:pt x="169" y="3622"/>
                  </a:cubicBezTo>
                  <a:cubicBezTo>
                    <a:pt x="166" y="3744"/>
                    <a:pt x="238" y="3946"/>
                    <a:pt x="123" y="3984"/>
                  </a:cubicBezTo>
                  <a:cubicBezTo>
                    <a:pt x="106" y="4032"/>
                    <a:pt x="133" y="4029"/>
                    <a:pt x="160" y="4068"/>
                  </a:cubicBezTo>
                  <a:cubicBezTo>
                    <a:pt x="180" y="4129"/>
                    <a:pt x="190" y="4176"/>
                    <a:pt x="150" y="4235"/>
                  </a:cubicBezTo>
                  <a:cubicBezTo>
                    <a:pt x="153" y="4300"/>
                    <a:pt x="138" y="4369"/>
                    <a:pt x="160" y="4430"/>
                  </a:cubicBezTo>
                  <a:cubicBezTo>
                    <a:pt x="168" y="4451"/>
                    <a:pt x="203" y="4439"/>
                    <a:pt x="225" y="4439"/>
                  </a:cubicBezTo>
                  <a:cubicBezTo>
                    <a:pt x="414" y="4439"/>
                    <a:pt x="602" y="4433"/>
                    <a:pt x="791" y="4430"/>
                  </a:cubicBezTo>
                  <a:cubicBezTo>
                    <a:pt x="769" y="4225"/>
                    <a:pt x="795" y="4021"/>
                    <a:pt x="810" y="3817"/>
                  </a:cubicBezTo>
                  <a:cubicBezTo>
                    <a:pt x="773" y="3253"/>
                    <a:pt x="809" y="2682"/>
                    <a:pt x="819" y="2117"/>
                  </a:cubicBezTo>
                  <a:cubicBezTo>
                    <a:pt x="811" y="1822"/>
                    <a:pt x="816" y="1813"/>
                    <a:pt x="764" y="1597"/>
                  </a:cubicBezTo>
                  <a:cubicBezTo>
                    <a:pt x="753" y="1488"/>
                    <a:pt x="760" y="1388"/>
                    <a:pt x="810" y="1290"/>
                  </a:cubicBezTo>
                  <a:cubicBezTo>
                    <a:pt x="804" y="878"/>
                    <a:pt x="812" y="465"/>
                    <a:pt x="791" y="54"/>
                  </a:cubicBezTo>
                  <a:cubicBezTo>
                    <a:pt x="790" y="38"/>
                    <a:pt x="760" y="48"/>
                    <a:pt x="745" y="45"/>
                  </a:cubicBezTo>
                  <a:cubicBezTo>
                    <a:pt x="723" y="40"/>
                    <a:pt x="702" y="28"/>
                    <a:pt x="680" y="27"/>
                  </a:cubicBezTo>
                  <a:cubicBezTo>
                    <a:pt x="497" y="21"/>
                    <a:pt x="315" y="20"/>
                    <a:pt x="132" y="17"/>
                  </a:cubicBezTo>
                  <a:cubicBezTo>
                    <a:pt x="39" y="28"/>
                    <a:pt x="57" y="0"/>
                    <a:pt x="39" y="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2aa68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142" name="Picture 12" descr="j0217698"/>
            <p:cNvPicPr/>
            <p:nvPr/>
          </p:nvPicPr>
          <p:blipFill>
            <a:blip r:embed="rId2"/>
            <a:stretch/>
          </p:blipFill>
          <p:spPr>
            <a:xfrm>
              <a:off x="7956720" y="1052640"/>
              <a:ext cx="792000" cy="766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Text Box 13"/>
          <p:cNvSpPr/>
          <p:nvPr/>
        </p:nvSpPr>
        <p:spPr>
          <a:xfrm>
            <a:off x="684360" y="1268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aa68"/>
                </a:solidFill>
                <a:latin typeface="Arial"/>
                <a:ea typeface="方正小标宋简体"/>
              </a:rPr>
              <a:t>描述现实场景时，兼顾历史的回顾，增加作品的厚重感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134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134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135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135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evt="onClick">
                          <p:tgtEl>
                            <p:spTgt spid="1135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evt="onClick">
                          <p:tgtEl>
                            <p:spTgt spid="1135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evt="onClick">
                          <p:tgtEl>
                            <p:spTgt spid="1135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03:51:0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2:59Z</dcterms:modified>
  <cp:revision>2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