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9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16.jpeg" ContentType="image/jpeg"/>
  <Override PartName="/ppt/media/NOTIFY.WAV" ContentType="audio/x-wav"/>
  <Override PartName="/ppt/media/image24.jpeg" ContentType="image/jpeg"/>
  <Override PartName="/ppt/media/chimes.wav" ContentType="audio/x-wav"/>
  <Override PartName="/ppt/media/image21.jpeg" ContentType="image/jpeg"/>
  <Override PartName="/ppt/media/RECYCLE.WAV" ContentType="audio/x-wav"/>
  <Override PartName="/ppt/media/image4.jpeg" ContentType="image/jpeg"/>
  <Override PartName="/ppt/media/image25.jpeg" ContentType="image/jpeg"/>
  <Override PartName="/ppt/media/DING.WAV" ContentType="audio/x-wav"/>
  <Override PartName="/ppt/media/image5.jpeg" ContentType="image/jpeg"/>
  <Override PartName="/ppt/media/image22.jpeg" ContentType="image/jpeg"/>
  <Override PartName="/ppt/media/UNDERW~4.WAV" ContentType="audio/x-wav"/>
  <Override PartName="/ppt/media/image1.jpeg" ContentType="image/jpeg"/>
  <Override PartName="/ppt/media/image23.jpeg" ContentType="image/jpeg"/>
  <Override PartName="/ppt/media/image3.jpeg" ContentType="image/jpeg"/>
  <Override PartName="/ppt/media/CHIMES.WAV" ContentType="audio/x-wav"/>
  <Override PartName="/ppt/media/%E6%8F%90%E7%A4%BA%E6%97%B6%E5%A5%8F%E5%B9%BB%E6%83%B3%E7%A9%BA%E9%97%B4.WAV" ContentType="audio/x-wav"/>
  <Override PartName="/ppt/media/LOGOFF.WAV" ContentType="audio/x-wav"/>
  <Override PartName="/ppt/media/image8.jpeg" ContentType="image/jpeg"/>
  <Override PartName="/ppt/media/image10.jpeg" ContentType="image/jpeg"/>
  <Override PartName="/ppt/media/image7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%E5%90%91%E4%B8%8A%E8%BF%98%E5%8E%9F%E6%97%B6%E5%A5%8F%E5%B9%BB%E6%83%B3%E7%A9%BA%E9%97%B4.wav" ContentType="audio/x-wav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2E95-8942-49B9-AADE-3FE0739B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2157-B3A9-41B1-8999-57E4C1C6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0D97-82CD-4EC2-B887-372E5F04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1525-0CF8-40A5-BFED-297BC371F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4C04-7835-4304-A6C7-0D27F14B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7780-98A8-4EAF-B6C5-0585007F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9ED6-4560-456C-886D-D24EEC92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40E6-8FEB-4ABA-8A6A-8CE4A748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EDFD-89F0-4DA1-85BF-F59AE443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EE12-1AF7-4AAB-A07B-BBD5E88D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3564-57BA-44EE-9024-5372D735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17BB-32CE-4586-8A54-ADDACEF2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9FE5-4600-40BB-8058-AC41989C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AB7F-13F0-41DB-857F-CF75421B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CB70-246F-42C3-B81A-5C8C935A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00C9-E018-4357-A63D-C28F772F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626E-9E19-442E-9607-275FA10E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A82F-24BD-4B64-84D6-5B6048BF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6412-7B6F-4B25-92E5-4BE56C81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B980-C187-4B81-8C02-FD75EA3D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ACC0-7EB4-428A-B626-40E1FBC4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282C-FA74-4102-B1F9-CC7EBF31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BEE4-5DFD-447E-B86C-B09E32A2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726A-C833-45D5-A7B7-94485E4F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BEF8-A599-46E5-8316-BB0F95C04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9E51-088B-44EC-B81B-6F3956BA161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1A0A-6903-44FE-B876-6256CB54D14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OGOFF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RECYCLE.WAV"/><Relationship Id="rId4" Type="http://schemas.openxmlformats.org/officeDocument/2006/relationships/audio" Target="../media/RECYCLE.WAV"/><Relationship Id="rId5" Type="http://schemas.openxmlformats.org/officeDocument/2006/relationships/audio" Target="../media/RECYCLE.WAV"/><Relationship Id="rId6" Type="http://schemas.openxmlformats.org/officeDocument/2006/relationships/audio" Target="../media/RECYCLE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audio" Target="../media/RECYCL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RECYCLE.WAV"/><Relationship Id="rId3" Type="http://schemas.openxmlformats.org/officeDocument/2006/relationships/audio" Target="../media/RECYCLE.WAV"/><Relationship Id="rId4" Type="http://schemas.openxmlformats.org/officeDocument/2006/relationships/audio" Target="../media/RECYCLE.WAV"/><Relationship Id="rId5" Type="http://schemas.openxmlformats.org/officeDocument/2006/relationships/audio" Target="../media/RECYCLE.WAV"/><Relationship Id="rId6" Type="http://schemas.openxmlformats.org/officeDocument/2006/relationships/audio" Target="../media/RECYCLE.WAV"/><Relationship Id="rId7" Type="http://schemas.openxmlformats.org/officeDocument/2006/relationships/audio" Target="../media/RECYCLE.WAV"/><Relationship Id="rId8" Type="http://schemas.openxmlformats.org/officeDocument/2006/relationships/audio" Target="../media/RECYCLE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RECYCLE.WAV"/><Relationship Id="rId3" Type="http://schemas.openxmlformats.org/officeDocument/2006/relationships/audio" Target="../media/chimes.wav"/><Relationship Id="rId4" Type="http://schemas.openxmlformats.org/officeDocument/2006/relationships/audio" Target="../media/&#21521;&#19978;&#36824;&#21407;&#26102;&#22863;&#24187;&#24819;&#31354;&#38388;.wav"/><Relationship Id="rId5" Type="http://schemas.openxmlformats.org/officeDocument/2006/relationships/audio" Target="../media/&#21521;&#19978;&#36824;&#21407;&#26102;&#22863;&#24187;&#24819;&#31354;&#38388;.wav"/><Relationship Id="rId6" Type="http://schemas.openxmlformats.org/officeDocument/2006/relationships/audio" Target="../media/&#21521;&#19978;&#36824;&#21407;&#26102;&#22863;&#24187;&#24819;&#31354;&#38388;.wav"/><Relationship Id="rId7" Type="http://schemas.openxmlformats.org/officeDocument/2006/relationships/audio" Target="../media/&#21521;&#19978;&#36824;&#21407;&#26102;&#22863;&#24187;&#24819;&#31354;&#38388;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NOTIFY.WAV"/><Relationship Id="rId3" Type="http://schemas.openxmlformats.org/officeDocument/2006/relationships/audio" Target="../media/RECYCL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audio" Target="../media/NOTIFY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RECYCL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DING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audio" Target="../media/NOTIFY.WAV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audio" Target="../media/RECYCL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&#25552;&#31034;&#26102;&#22863;&#24187;&#24819;&#31354;&#38388;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audio" Target="../media/NOTIFY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NOTIFY.WAV"/><Relationship Id="rId3" Type="http://schemas.openxmlformats.org/officeDocument/2006/relationships/audio" Target="../media/RECYCLE.WAV"/><Relationship Id="rId4" Type="http://schemas.openxmlformats.org/officeDocument/2006/relationships/audio" Target="../media/RECYCL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audio" Target="../media/UNDERW~4.WAV"/><Relationship Id="rId5" Type="http://schemas.openxmlformats.org/officeDocument/2006/relationships/audio" Target="../media/UNDERW~4.WAV"/><Relationship Id="rId6" Type="http://schemas.openxmlformats.org/officeDocument/2006/relationships/audio" Target="../media/DING.WAV"/><Relationship Id="rId7" Type="http://schemas.openxmlformats.org/officeDocument/2006/relationships/audio" Target="../media/NOTIFY.WAV"/><Relationship Id="rId8" Type="http://schemas.openxmlformats.org/officeDocument/2006/relationships/audio" Target="../media/NOTIFY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RECYCL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RECYCLE.WAV"/><Relationship Id="rId4" Type="http://schemas.openxmlformats.org/officeDocument/2006/relationships/audio" Target="../media/DING.WAV"/><Relationship Id="rId5" Type="http://schemas.openxmlformats.org/officeDocument/2006/relationships/audio" Target="../media/RECYCL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audio" Target="../media/NOTIFY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RECYCLE.WAV"/><Relationship Id="rId4" Type="http://schemas.openxmlformats.org/officeDocument/2006/relationships/audio" Target="../media/RECYCLE.WAV"/><Relationship Id="rId5" Type="http://schemas.openxmlformats.org/officeDocument/2006/relationships/audio" Target="../media/RECYCLE.WAV"/><Relationship Id="rId6" Type="http://schemas.openxmlformats.org/officeDocument/2006/relationships/audio" Target="../media/RECYCLE.WAV"/><Relationship Id="rId7" Type="http://schemas.openxmlformats.org/officeDocument/2006/relationships/audio" Target="../media/RECYCLE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audio" Target="../media/NOTIFY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20094168293448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079640" y="1197000"/>
            <a:ext cx="76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宋体"/>
              </a:rPr>
              <a:t>鱼游到了纸上课件</a:t>
            </a:r>
            <a:r>
              <a:rPr b="0" lang="en-US" sz="4000" spc="-1" strike="noStrike">
                <a:solidFill>
                  <a:srgbClr val="003366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003366"/>
                </a:solidFill>
                <a:latin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OG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6" descr="p200991122411239632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4132800" y="2666880"/>
            <a:ext cx="89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他老是一个人呆呆地站在金鱼缸边，静静地看着金鱼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水里游动，而且从来不说一句话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371600" y="3124080"/>
            <a:ext cx="457200" cy="360"/>
            <a:chOff x="1371600" y="3124080"/>
            <a:chExt cx="457200" cy="360"/>
          </a:xfrm>
        </p:grpSpPr>
        <p:sp>
          <p:nvSpPr>
            <p:cNvPr id="184" name="Line 10"/>
            <p:cNvSpPr/>
            <p:nvPr/>
          </p:nvSpPr>
          <p:spPr>
            <a:xfrm>
              <a:off x="1371600" y="3124080"/>
              <a:ext cx="457200" cy="0"/>
            </a:xfrm>
            <a:prstGeom prst="line">
              <a:avLst/>
            </a:prstGeom>
            <a:ln cap="rnd" w="28440">
              <a:solidFill>
                <a:srgbClr val="99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1371600" y="31240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895480" y="3124080"/>
            <a:ext cx="457200" cy="360"/>
            <a:chOff x="2895480" y="3124080"/>
            <a:chExt cx="457200" cy="360"/>
          </a:xfrm>
        </p:grpSpPr>
        <p:sp>
          <p:nvSpPr>
            <p:cNvPr id="187" name="Line 11"/>
            <p:cNvSpPr/>
            <p:nvPr/>
          </p:nvSpPr>
          <p:spPr>
            <a:xfrm>
              <a:off x="2895480" y="3124080"/>
              <a:ext cx="457200" cy="0"/>
            </a:xfrm>
            <a:prstGeom prst="line">
              <a:avLst/>
            </a:prstGeom>
            <a:ln cap="rnd" w="28440">
              <a:solidFill>
                <a:srgbClr val="99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2895480" y="31240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943600" y="3124080"/>
            <a:ext cx="457200" cy="360"/>
            <a:chOff x="5943600" y="3124080"/>
            <a:chExt cx="457200" cy="360"/>
          </a:xfrm>
        </p:grpSpPr>
        <p:sp>
          <p:nvSpPr>
            <p:cNvPr id="190" name="Line 12"/>
            <p:cNvSpPr/>
            <p:nvPr/>
          </p:nvSpPr>
          <p:spPr>
            <a:xfrm>
              <a:off x="5943600" y="3124080"/>
              <a:ext cx="457200" cy="0"/>
            </a:xfrm>
            <a:prstGeom prst="line">
              <a:avLst/>
            </a:prstGeom>
            <a:ln cap="rnd" w="28440">
              <a:solidFill>
                <a:srgbClr val="99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5943600" y="31240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048120" y="3809880"/>
            <a:ext cx="457200" cy="360"/>
            <a:chOff x="3048120" y="3809880"/>
            <a:chExt cx="457200" cy="360"/>
          </a:xfrm>
        </p:grpSpPr>
        <p:sp>
          <p:nvSpPr>
            <p:cNvPr id="193" name="Line 13"/>
            <p:cNvSpPr/>
            <p:nvPr/>
          </p:nvSpPr>
          <p:spPr>
            <a:xfrm>
              <a:off x="3048120" y="3809880"/>
              <a:ext cx="457200" cy="0"/>
            </a:xfrm>
            <a:prstGeom prst="line">
              <a:avLst/>
            </a:prstGeom>
            <a:ln cap="rnd" w="28440">
              <a:solidFill>
                <a:srgbClr val="99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3048120" y="38098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Text Box 14"/>
          <p:cNvSpPr/>
          <p:nvPr/>
        </p:nvSpPr>
        <p:spPr>
          <a:xfrm>
            <a:off x="1392840" y="13240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有感情的朗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679560" y="1981080"/>
            <a:ext cx="16131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读</a:t>
            </a:r>
            <a:endParaRPr b="0" lang="en-US" sz="1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8" descr="2009624233359250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1327320" y="7034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轻读课文思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523880" y="1828800"/>
            <a:ext cx="67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哪些句子具体描写了青年画鱼画得很好，用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[      ]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标出并读一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533520" y="1676520"/>
            <a:ext cx="83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0" dur="1" fill="hold"/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14" descr="200912502019446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4"/>
          <p:cNvSpPr/>
          <p:nvPr/>
        </p:nvSpPr>
        <p:spPr>
          <a:xfrm>
            <a:off x="990720" y="60948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他有时工笔细描，把金鱼的每个部位一丝不苟地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出来，像姑娘绣花那样细致；有时又挥笔速写，很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地画出金鱼的动态，仿佛金鱼在纸上流动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533520" y="3048120"/>
            <a:ext cx="83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496600" y="3394080"/>
            <a:ext cx="27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什么叫“工笔细描”？请读有关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533520" y="4648320"/>
            <a:ext cx="83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2588760" y="5049720"/>
            <a:ext cx="27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什么叫“挥笔速写”？请读有关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733920" y="1066680"/>
            <a:ext cx="4114800" cy="360"/>
            <a:chOff x="3733920" y="1066680"/>
            <a:chExt cx="4114800" cy="360"/>
          </a:xfrm>
        </p:grpSpPr>
        <p:sp>
          <p:nvSpPr>
            <p:cNvPr id="210" name="Line 10"/>
            <p:cNvSpPr/>
            <p:nvPr/>
          </p:nvSpPr>
          <p:spPr>
            <a:xfrm>
              <a:off x="3733920" y="1066680"/>
              <a:ext cx="4114800" cy="0"/>
            </a:xfrm>
            <a:prstGeom prst="line">
              <a:avLst/>
            </a:prstGeom>
            <a:ln cap="rnd" w="28440">
              <a:solidFill>
                <a:srgbClr val="99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3733920" y="1066680"/>
              <a:ext cx="4114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143000" y="1752480"/>
            <a:ext cx="3505320" cy="360"/>
            <a:chOff x="1143000" y="1752480"/>
            <a:chExt cx="3505320" cy="360"/>
          </a:xfrm>
        </p:grpSpPr>
        <p:sp>
          <p:nvSpPr>
            <p:cNvPr id="213" name="Line 11"/>
            <p:cNvSpPr/>
            <p:nvPr/>
          </p:nvSpPr>
          <p:spPr>
            <a:xfrm>
              <a:off x="1143000" y="1752480"/>
              <a:ext cx="3505320" cy="0"/>
            </a:xfrm>
            <a:prstGeom prst="line">
              <a:avLst/>
            </a:prstGeom>
            <a:ln cap="rnd" w="28440">
              <a:solidFill>
                <a:srgbClr val="99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1143000" y="1752480"/>
              <a:ext cx="3505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143000" y="2514600"/>
            <a:ext cx="2438280" cy="360"/>
            <a:chOff x="1143000" y="2514600"/>
            <a:chExt cx="2438280" cy="360"/>
          </a:xfrm>
        </p:grpSpPr>
        <p:sp>
          <p:nvSpPr>
            <p:cNvPr id="216" name="Line 12"/>
            <p:cNvSpPr/>
            <p:nvPr/>
          </p:nvSpPr>
          <p:spPr>
            <a:xfrm>
              <a:off x="1143000" y="2514600"/>
              <a:ext cx="2438280" cy="0"/>
            </a:xfrm>
            <a:prstGeom prst="line">
              <a:avLst/>
            </a:prstGeom>
            <a:ln cap="rnd" w="28440">
              <a:solidFill>
                <a:srgbClr val="99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1143000" y="2514600"/>
              <a:ext cx="2438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543800" y="1828800"/>
            <a:ext cx="457200" cy="360"/>
            <a:chOff x="7543800" y="1828800"/>
            <a:chExt cx="457200" cy="360"/>
          </a:xfrm>
        </p:grpSpPr>
        <p:sp>
          <p:nvSpPr>
            <p:cNvPr id="219" name="Line 13"/>
            <p:cNvSpPr/>
            <p:nvPr/>
          </p:nvSpPr>
          <p:spPr>
            <a:xfrm>
              <a:off x="7543800" y="1828800"/>
              <a:ext cx="457200" cy="0"/>
            </a:xfrm>
            <a:prstGeom prst="line">
              <a:avLst/>
            </a:prstGeom>
            <a:ln cap="rnd" w="28440">
              <a:solidFill>
                <a:srgbClr val="99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7543800" y="18288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12" descr="20094301336727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990720" y="60948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他有时工笔细描，把金鱼的每个部位一丝不苟地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出来，像姑娘绣花那样细致；有时又挥笔速写，很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地画出金鱼的动态，仿佛金鱼在纸上流动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2292840" y="312408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选择正确的解释并说明选择的理由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3765960" y="3962520"/>
            <a:ext cx="7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、说明青年看鱼看得很专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3864960" y="457200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、说明青年看鱼、画鱼很勤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1981080" y="51814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、说明青年画鱼很细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3630240" y="571500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、说明青年画鱼画得很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1315800" y="2620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讨论交流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5%90%91%E4%B8%8A%E8%BF%98%E5%8E%9F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5%90%91%E4%B8%8A%E8%BF%98%E5%8E%9F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5%90%91%E4%B8%8A%E8%BF%98%E5%8E%9F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5%90%91%E4%B8%8A%E8%BF%98%E5%8E%9F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4" descr="p20098821335395127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"/>
          <p:cNvSpPr/>
          <p:nvPr/>
        </p:nvSpPr>
        <p:spPr>
          <a:xfrm>
            <a:off x="914400" y="289548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他有时工笔细描，把金鱼的每个部位一丝不苟地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出来，像姑娘绣花那样细致；有时又挥笔速写，很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地画出金鱼的动态，仿佛金鱼在纸上流动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611520" y="1295280"/>
            <a:ext cx="185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华文新魏"/>
              </a:rPr>
              <a:t>朗        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21" descr="20091129151214417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"/>
          <p:cNvSpPr/>
          <p:nvPr/>
        </p:nvSpPr>
        <p:spPr>
          <a:xfrm>
            <a:off x="2744640" y="1676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纸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741760" y="3733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心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276360" y="2133360"/>
            <a:ext cx="360" cy="1447560"/>
            <a:chOff x="3276360" y="2133360"/>
            <a:chExt cx="360" cy="1447560"/>
          </a:xfrm>
        </p:grpSpPr>
        <p:sp>
          <p:nvSpPr>
            <p:cNvPr id="239" name="Line 5"/>
            <p:cNvSpPr/>
            <p:nvPr/>
          </p:nvSpPr>
          <p:spPr>
            <a:xfrm flipV="1">
              <a:off x="3276720" y="2133360"/>
              <a:ext cx="0" cy="1447560"/>
            </a:xfrm>
            <a:prstGeom prst="line">
              <a:avLst/>
            </a:prstGeom>
            <a:ln w="15840">
              <a:solidFill>
                <a:srgbClr val="0066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 rot="10800000">
              <a:off x="3276360" y="213336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Text Box 6"/>
          <p:cNvSpPr/>
          <p:nvPr/>
        </p:nvSpPr>
        <p:spPr>
          <a:xfrm>
            <a:off x="4512600" y="1676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画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450936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看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262040" y="23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勤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4262040" y="290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6773400" y="1638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6168600" y="268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6930720" y="2743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17" descr="fesh"/>
          <p:cNvPicPr/>
          <p:nvPr/>
        </p:nvPicPr>
        <p:blipFill>
          <a:blip r:embed="rId2"/>
          <a:stretch/>
        </p:blipFill>
        <p:spPr>
          <a:xfrm>
            <a:off x="1238400" y="3581280"/>
            <a:ext cx="1047600" cy="744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8" descr="fesh"/>
          <p:cNvPicPr/>
          <p:nvPr/>
        </p:nvPicPr>
        <p:blipFill>
          <a:blip r:embed="rId3"/>
          <a:stretch/>
        </p:blipFill>
        <p:spPr>
          <a:xfrm>
            <a:off x="1371600" y="1600200"/>
            <a:ext cx="1047600" cy="7444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9"/>
          <p:cNvSpPr/>
          <p:nvPr/>
        </p:nvSpPr>
        <p:spPr>
          <a:xfrm>
            <a:off x="1029600" y="2127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七、鱼游到了纸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0" y="609480"/>
            <a:ext cx="9144000" cy="360"/>
            <a:chOff x="0" y="609480"/>
            <a:chExt cx="9144000" cy="360"/>
          </a:xfrm>
        </p:grpSpPr>
        <p:sp>
          <p:nvSpPr>
            <p:cNvPr id="252" name="Line 20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0" y="60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3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6" descr="p20096130405582536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143000" y="28195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围观的人越来越多，大家赞叹着，议论着，唯一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有任何反应的是他自己。他好像和游鱼已经融为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体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356840" y="1324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朗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22" descr="p20093115544266290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18"/>
          <p:cNvGrpSpPr/>
          <p:nvPr/>
        </p:nvGrpSpPr>
        <p:grpSpPr>
          <a:xfrm>
            <a:off x="2209680" y="3886200"/>
            <a:ext cx="1471680" cy="2057400"/>
            <a:chOff x="2209680" y="3886200"/>
            <a:chExt cx="1471680" cy="2057400"/>
          </a:xfrm>
        </p:grpSpPr>
        <p:pic>
          <p:nvPicPr>
            <p:cNvPr id="261" name="Object 15" descr=""/>
            <p:cNvPicPr/>
            <p:nvPr/>
          </p:nvPicPr>
          <p:blipFill>
            <a:blip r:embed="rId2"/>
            <a:stretch/>
          </p:blipFill>
          <p:spPr>
            <a:xfrm>
              <a:off x="2209680" y="4419720"/>
              <a:ext cx="14716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16"/>
            <p:cNvSpPr/>
            <p:nvPr/>
          </p:nvSpPr>
          <p:spPr>
            <a:xfrm>
              <a:off x="2678760" y="38862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c0099"/>
                  </a:solidFill>
                  <a:latin typeface="Times New Roman"/>
                </a:rPr>
                <a:t>？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Text Box 17"/>
          <p:cNvSpPr/>
          <p:nvPr/>
        </p:nvSpPr>
        <p:spPr>
          <a:xfrm>
            <a:off x="4191120" y="4495680"/>
            <a:ext cx="40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Times New Roman"/>
              </a:rPr>
              <a:t>青年是个怎样的人？你从哪些句子可以看出来？请找出直接描写的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goldfish.mp3.MP3" descr=""/>
          <p:cNvPicPr/>
          <p:nvPr/>
        </p:nvPicPr>
        <p:blipFill>
          <a:blip r:embed="rId3"/>
          <a:stretch/>
        </p:blipFill>
        <p:spPr>
          <a:xfrm>
            <a:off x="4800600" y="1523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1" descr=""/>
          <p:cNvPicPr/>
          <p:nvPr/>
        </p:nvPicPr>
        <p:blipFill>
          <a:blip r:embed="rId4"/>
          <a:stretch/>
        </p:blipFill>
        <p:spPr>
          <a:xfrm>
            <a:off x="2286000" y="1371600"/>
            <a:ext cx="1330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7" dur="1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27" descr="p200912191813773846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744640" y="1676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纸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2741760" y="3733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心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276360" y="2133360"/>
            <a:ext cx="360" cy="1447560"/>
            <a:chOff x="3276360" y="2133360"/>
            <a:chExt cx="360" cy="1447560"/>
          </a:xfrm>
        </p:grpSpPr>
        <p:sp>
          <p:nvSpPr>
            <p:cNvPr id="271" name="Line 8"/>
            <p:cNvSpPr/>
            <p:nvPr/>
          </p:nvSpPr>
          <p:spPr>
            <a:xfrm flipV="1">
              <a:off x="3276720" y="2133360"/>
              <a:ext cx="0" cy="1447560"/>
            </a:xfrm>
            <a:prstGeom prst="line">
              <a:avLst/>
            </a:prstGeom>
            <a:ln w="15840">
              <a:solidFill>
                <a:srgbClr val="0066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 rot="10800000">
              <a:off x="3276360" y="213336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Text Box 9"/>
          <p:cNvSpPr/>
          <p:nvPr/>
        </p:nvSpPr>
        <p:spPr>
          <a:xfrm>
            <a:off x="4512600" y="1676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画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450936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看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4262040" y="23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勤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4"/>
          <p:cNvSpPr/>
          <p:nvPr/>
        </p:nvSpPr>
        <p:spPr>
          <a:xfrm>
            <a:off x="4262040" y="290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6773400" y="1638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6"/>
          <p:cNvSpPr/>
          <p:nvPr/>
        </p:nvSpPr>
        <p:spPr>
          <a:xfrm>
            <a:off x="6168600" y="268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6930720" y="2666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7616520" y="2666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22" descr="fesh"/>
          <p:cNvPicPr/>
          <p:nvPr/>
        </p:nvPicPr>
        <p:blipFill>
          <a:blip r:embed="rId2"/>
          <a:stretch/>
        </p:blipFill>
        <p:spPr>
          <a:xfrm>
            <a:off x="1219320" y="3581280"/>
            <a:ext cx="1047600" cy="7444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3" descr="fesh"/>
          <p:cNvPicPr/>
          <p:nvPr/>
        </p:nvPicPr>
        <p:blipFill>
          <a:blip r:embed="rId3"/>
          <a:stretch/>
        </p:blipFill>
        <p:spPr>
          <a:xfrm>
            <a:off x="1219320" y="3581280"/>
            <a:ext cx="1047600" cy="744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4" descr="fesh"/>
          <p:cNvPicPr/>
          <p:nvPr/>
        </p:nvPicPr>
        <p:blipFill>
          <a:blip r:embed="rId4"/>
          <a:stretch/>
        </p:blipFill>
        <p:spPr>
          <a:xfrm>
            <a:off x="1295280" y="1600200"/>
            <a:ext cx="1047960" cy="7444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25"/>
          <p:cNvSpPr/>
          <p:nvPr/>
        </p:nvSpPr>
        <p:spPr>
          <a:xfrm>
            <a:off x="1029600" y="2127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七、鱼游到了纸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609480"/>
            <a:ext cx="9144000" cy="360"/>
            <a:chOff x="0" y="609480"/>
            <a:chExt cx="9144000" cy="360"/>
          </a:xfrm>
        </p:grpSpPr>
        <p:sp>
          <p:nvSpPr>
            <p:cNvPr id="286" name="Line 26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0" y="60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文本框 1"/>
          <p:cNvSpPr/>
          <p:nvPr/>
        </p:nvSpPr>
        <p:spPr>
          <a:xfrm>
            <a:off x="2255040" y="3200400"/>
            <a:ext cx="463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5"/>
              </a:rPr>
              <a:t>ppt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hlinkClick r:id="rId6"/>
              </a:rPr>
              <a:t>模版免费下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8" descr="20091229185744511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4"/>
          <p:cNvSpPr/>
          <p:nvPr/>
        </p:nvSpPr>
        <p:spPr>
          <a:xfrm>
            <a:off x="1763640" y="3124080"/>
            <a:ext cx="63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鱼游到了心里”和“鱼游到了纸上”有什么关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2268360" y="979560"/>
            <a:ext cx="597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Times New Roman"/>
                <a:ea typeface="方正舒体"/>
              </a:rPr>
              <a:t>让我想一想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3"/>
          <p:cNvSpPr/>
          <p:nvPr/>
        </p:nvSpPr>
        <p:spPr>
          <a:xfrm>
            <a:off x="826920" y="399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" descr="2009127174743721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905120" y="2438280"/>
            <a:ext cx="5746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这篇课文主要讲作者在（          ）观鱼时，发现了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位（                 ）的青年，他（              ）看得非常专心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（             ）画得活灵活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87692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玉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762920" y="388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举止特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225760" y="3809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看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4158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画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4191120" y="23302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cc0099"/>
                </a:solidFill>
                <a:latin typeface="Times New Roman"/>
                <a:ea typeface="华文彩云"/>
              </a:rPr>
              <a:t>？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1449360" y="1187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填空练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4191120" y="23302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cc0099"/>
                </a:solidFill>
                <a:latin typeface="Times New Roman"/>
                <a:ea typeface="华文彩云"/>
              </a:rPr>
              <a:t>？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F%90%E7%A4%BA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evt="end">
                                        <p:tn val="21"/>
                                      </p:cond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evt="end">
                                        <p:tn val="26"/>
                                      </p:cond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21" descr="20091127163332384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4"/>
          <p:cNvSpPr/>
          <p:nvPr/>
        </p:nvSpPr>
        <p:spPr>
          <a:xfrm>
            <a:off x="2744640" y="1676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纸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2741760" y="3733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心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276360" y="2133360"/>
            <a:ext cx="360" cy="1447560"/>
            <a:chOff x="3276360" y="2133360"/>
            <a:chExt cx="360" cy="1447560"/>
          </a:xfrm>
        </p:grpSpPr>
        <p:sp>
          <p:nvSpPr>
            <p:cNvPr id="298" name="Line 6"/>
            <p:cNvSpPr/>
            <p:nvPr/>
          </p:nvSpPr>
          <p:spPr>
            <a:xfrm flipV="1">
              <a:off x="3276720" y="2133360"/>
              <a:ext cx="0" cy="1447560"/>
            </a:xfrm>
            <a:prstGeom prst="line">
              <a:avLst/>
            </a:prstGeom>
            <a:ln w="15840">
              <a:solidFill>
                <a:srgbClr val="0066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 rot="10800000">
              <a:off x="3276360" y="213336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Text Box 7"/>
          <p:cNvSpPr/>
          <p:nvPr/>
        </p:nvSpPr>
        <p:spPr>
          <a:xfrm>
            <a:off x="4512600" y="1676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画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450936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看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4262040" y="23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勤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4262040" y="290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6773400" y="1638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6168600" y="268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930720" y="2666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7616520" y="2666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15" descr="fesh"/>
          <p:cNvPicPr/>
          <p:nvPr/>
        </p:nvPicPr>
        <p:blipFill>
          <a:blip r:embed="rId2"/>
          <a:stretch/>
        </p:blipFill>
        <p:spPr>
          <a:xfrm>
            <a:off x="1219320" y="3581280"/>
            <a:ext cx="1047600" cy="7444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6" descr="fesh"/>
          <p:cNvPicPr/>
          <p:nvPr/>
        </p:nvPicPr>
        <p:blipFill>
          <a:blip r:embed="rId3"/>
          <a:stretch/>
        </p:blipFill>
        <p:spPr>
          <a:xfrm>
            <a:off x="1219320" y="3581280"/>
            <a:ext cx="1047600" cy="7444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7" descr="fesh"/>
          <p:cNvPicPr/>
          <p:nvPr/>
        </p:nvPicPr>
        <p:blipFill>
          <a:blip r:embed="rId4"/>
          <a:stretch/>
        </p:blipFill>
        <p:spPr>
          <a:xfrm>
            <a:off x="1295280" y="1600200"/>
            <a:ext cx="1047960" cy="7444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8"/>
          <p:cNvSpPr/>
          <p:nvPr/>
        </p:nvSpPr>
        <p:spPr>
          <a:xfrm>
            <a:off x="1029600" y="2127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七、鱼游到了纸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0" y="609480"/>
            <a:ext cx="9144000" cy="360"/>
            <a:chOff x="0" y="609480"/>
            <a:chExt cx="9144000" cy="360"/>
          </a:xfrm>
        </p:grpSpPr>
        <p:sp>
          <p:nvSpPr>
            <p:cNvPr id="313" name="Line 19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0" y="60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Text Box 20"/>
          <p:cNvSpPr/>
          <p:nvPr/>
        </p:nvSpPr>
        <p:spPr>
          <a:xfrm>
            <a:off x="6722640" y="3726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Times New Roman"/>
              </a:rPr>
              <a:t>勤动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E0D5-055C-4678-995D-A471F19A224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Picture 11" descr="2009810191717142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6"/>
          <p:cNvSpPr/>
          <p:nvPr/>
        </p:nvSpPr>
        <p:spPr>
          <a:xfrm>
            <a:off x="3096720" y="17524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把带点的词语写具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2367720" y="289548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围观的人越来越多，大家赞叹着，议论着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876920" y="3276720"/>
            <a:ext cx="761760" cy="360"/>
            <a:chOff x="4876920" y="3276720"/>
            <a:chExt cx="761760" cy="360"/>
          </a:xfrm>
        </p:grpSpPr>
        <p:sp>
          <p:nvSpPr>
            <p:cNvPr id="325" name="Line 8"/>
            <p:cNvSpPr/>
            <p:nvPr/>
          </p:nvSpPr>
          <p:spPr>
            <a:xfrm>
              <a:off x="4876920" y="3276720"/>
              <a:ext cx="761760" cy="0"/>
            </a:xfrm>
            <a:prstGeom prst="line">
              <a:avLst/>
            </a:prstGeom>
            <a:ln cap="rnd" w="28440">
              <a:solidFill>
                <a:srgbClr val="99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4876920" y="3276720"/>
              <a:ext cx="76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019920" y="3276720"/>
            <a:ext cx="838080" cy="360"/>
            <a:chOff x="6019920" y="3276720"/>
            <a:chExt cx="838080" cy="360"/>
          </a:xfrm>
        </p:grpSpPr>
        <p:sp>
          <p:nvSpPr>
            <p:cNvPr id="328" name="Line 9"/>
            <p:cNvSpPr/>
            <p:nvPr/>
          </p:nvSpPr>
          <p:spPr>
            <a:xfrm>
              <a:off x="6019920" y="3276720"/>
              <a:ext cx="838080" cy="0"/>
            </a:xfrm>
            <a:prstGeom prst="line">
              <a:avLst/>
            </a:prstGeom>
            <a:ln cap="rnd" w="28440">
              <a:solidFill>
                <a:srgbClr val="99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6019920" y="327672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Text Box 10"/>
          <p:cNvSpPr/>
          <p:nvPr/>
        </p:nvSpPr>
        <p:spPr>
          <a:xfrm>
            <a:off x="1525680" y="685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方正舒体"/>
              </a:rPr>
              <a:t>该练习了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3" descr="2009112175111793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1127160" y="213372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、课文中哪个句子最能说明青年画鱼画得好。用“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~~~”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线在 文中标出来。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57200" y="990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轻声朗读课文，边读边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219320" y="3789360"/>
            <a:ext cx="74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、哪个句子最能说明青年看鱼很专心。用“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——”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线在文中标出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04920" y="1905120"/>
            <a:ext cx="83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304920" y="3716280"/>
            <a:ext cx="83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2" descr="2009610857158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8"/>
          <p:cNvSpPr/>
          <p:nvPr/>
        </p:nvSpPr>
        <p:spPr>
          <a:xfrm>
            <a:off x="2948040" y="1467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Times New Roman"/>
              </a:rPr>
              <a:t>游到了纸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2948040" y="35244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Times New Roman"/>
              </a:rPr>
              <a:t>游到了心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276360" y="2133360"/>
            <a:ext cx="360" cy="1447560"/>
            <a:chOff x="3276360" y="2133360"/>
            <a:chExt cx="360" cy="1447560"/>
          </a:xfrm>
        </p:grpSpPr>
        <p:sp>
          <p:nvSpPr>
            <p:cNvPr id="108" name="Line 31"/>
            <p:cNvSpPr/>
            <p:nvPr/>
          </p:nvSpPr>
          <p:spPr>
            <a:xfrm flipV="1">
              <a:off x="3276720" y="2133360"/>
              <a:ext cx="0" cy="1447560"/>
            </a:xfrm>
            <a:prstGeom prst="line">
              <a:avLst/>
            </a:prstGeom>
            <a:ln w="15840">
              <a:solidFill>
                <a:srgbClr val="0066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 rot="10800000">
              <a:off x="3276360" y="213336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Text Box 32"/>
          <p:cNvSpPr/>
          <p:nvPr/>
        </p:nvSpPr>
        <p:spPr>
          <a:xfrm>
            <a:off x="5195880" y="1467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Times New Roman"/>
              </a:rPr>
              <a:t>（画鱼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5427720" y="3524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Times New Roman"/>
              </a:rPr>
              <a:t>（看鱼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5"/>
          <p:cNvSpPr/>
          <p:nvPr/>
        </p:nvSpPr>
        <p:spPr>
          <a:xfrm>
            <a:off x="7537680" y="14810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99"/>
                </a:solidFill>
                <a:latin typeface="Times New Roman"/>
                <a:ea typeface="幼圆"/>
              </a:rPr>
              <a:t>观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6"/>
          <p:cNvSpPr/>
          <p:nvPr/>
        </p:nvSpPr>
        <p:spPr>
          <a:xfrm>
            <a:off x="7122960" y="2492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99"/>
                </a:solidFill>
                <a:latin typeface="Times New Roman"/>
                <a:ea typeface="幼圆"/>
              </a:rPr>
              <a:t>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7" descr="fesh"/>
          <p:cNvPicPr/>
          <p:nvPr/>
        </p:nvPicPr>
        <p:blipFill>
          <a:blip r:embed="rId2"/>
          <a:stretch/>
        </p:blipFill>
        <p:spPr>
          <a:xfrm>
            <a:off x="1219320" y="1617840"/>
            <a:ext cx="1047600" cy="744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8" descr="fesh"/>
          <p:cNvPicPr/>
          <p:nvPr/>
        </p:nvPicPr>
        <p:blipFill>
          <a:blip r:embed="rId3"/>
          <a:stretch/>
        </p:blipFill>
        <p:spPr>
          <a:xfrm>
            <a:off x="1219320" y="3581280"/>
            <a:ext cx="1047600" cy="7444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0"/>
          <p:cNvSpPr/>
          <p:nvPr/>
        </p:nvSpPr>
        <p:spPr>
          <a:xfrm>
            <a:off x="1029600" y="2127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七、鱼游到了纸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0" y="609480"/>
            <a:ext cx="9144000" cy="360"/>
            <a:chOff x="0" y="609480"/>
            <a:chExt cx="9144000" cy="360"/>
          </a:xfrm>
        </p:grpSpPr>
        <p:sp>
          <p:nvSpPr>
            <p:cNvPr id="118" name="Line 41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0" y="60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UNDERW~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UNDERW~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9" descr="20094168293448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316880" y="7984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默读课文思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042920" y="205740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66"/>
                </a:solidFill>
                <a:latin typeface="Times New Roman"/>
              </a:rPr>
              <a:t>课文哪些句子描写出了青年爱鱼达到了忘我的境界，用（     ）标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80880" y="1949400"/>
            <a:ext cx="83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4" descr="2010130212721416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4209120" y="1143000"/>
            <a:ext cx="89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他老是一个人呆呆地站在金鱼缸边，静静地看着金鱼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水里游动，而且从来不说一句话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25320" y="2320920"/>
            <a:ext cx="83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2696040" y="2549520"/>
            <a:ext cx="43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“他”指谁？长得怎样，请找出有关句子读一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371600" y="304812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（他高高的身材，长得很秀气，一对大眼睛明亮得就像玉泉的水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2373840" y="4191120"/>
            <a:ext cx="33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“老是”是什么意思？说明了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625320" y="3768840"/>
            <a:ext cx="83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9" descr="2009102617592262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2"/>
          <p:cNvSpPr/>
          <p:nvPr/>
        </p:nvSpPr>
        <p:spPr>
          <a:xfrm>
            <a:off x="4642920" y="2286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勤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2744640" y="1676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纸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741760" y="3733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心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276360" y="2133360"/>
            <a:ext cx="360" cy="1447560"/>
            <a:chOff x="3276360" y="2133360"/>
            <a:chExt cx="360" cy="1447560"/>
          </a:xfrm>
        </p:grpSpPr>
        <p:sp>
          <p:nvSpPr>
            <p:cNvPr id="139" name="Line 20"/>
            <p:cNvSpPr/>
            <p:nvPr/>
          </p:nvSpPr>
          <p:spPr>
            <a:xfrm flipV="1">
              <a:off x="3276720" y="2133360"/>
              <a:ext cx="0" cy="1447560"/>
            </a:xfrm>
            <a:prstGeom prst="line">
              <a:avLst/>
            </a:prstGeom>
            <a:ln w="15840">
              <a:solidFill>
                <a:srgbClr val="0066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 rot="10800000">
              <a:off x="3276360" y="213336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Text Box 21"/>
          <p:cNvSpPr/>
          <p:nvPr/>
        </p:nvSpPr>
        <p:spPr>
          <a:xfrm>
            <a:off x="4512600" y="1676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画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2"/>
          <p:cNvSpPr/>
          <p:nvPr/>
        </p:nvSpPr>
        <p:spPr>
          <a:xfrm>
            <a:off x="450936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看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6773400" y="1638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6168600" y="268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25" descr="fesh"/>
          <p:cNvPicPr/>
          <p:nvPr/>
        </p:nvPicPr>
        <p:blipFill>
          <a:blip r:embed="rId2"/>
          <a:stretch/>
        </p:blipFill>
        <p:spPr>
          <a:xfrm>
            <a:off x="1219320" y="1617840"/>
            <a:ext cx="1047600" cy="744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6" descr="fesh"/>
          <p:cNvPicPr/>
          <p:nvPr/>
        </p:nvPicPr>
        <p:blipFill>
          <a:blip r:embed="rId3"/>
          <a:stretch/>
        </p:blipFill>
        <p:spPr>
          <a:xfrm>
            <a:off x="1219320" y="3581280"/>
            <a:ext cx="1047600" cy="7444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7"/>
          <p:cNvSpPr/>
          <p:nvPr/>
        </p:nvSpPr>
        <p:spPr>
          <a:xfrm>
            <a:off x="1029600" y="2127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七、鱼游到了纸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0" y="609480"/>
            <a:ext cx="9144000" cy="360"/>
            <a:chOff x="0" y="609480"/>
            <a:chExt cx="9144000" cy="360"/>
          </a:xfrm>
        </p:grpSpPr>
        <p:sp>
          <p:nvSpPr>
            <p:cNvPr id="149" name="Line 28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0" y="60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文本框 1"/>
          <p:cNvSpPr/>
          <p:nvPr/>
        </p:nvSpPr>
        <p:spPr>
          <a:xfrm>
            <a:off x="2255040" y="3200400"/>
            <a:ext cx="463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hlinkClick r:id="rId5"/>
              </a:rPr>
              <a:t>模版免费下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6" descr="p2009325013392089"/>
          <p:cNvPicPr/>
          <p:nvPr/>
        </p:nvPicPr>
        <p:blipFill>
          <a:blip r:embed="rId1"/>
          <a:stretch/>
        </p:blipFill>
        <p:spPr>
          <a:xfrm>
            <a:off x="0" y="0"/>
            <a:ext cx="9144000" cy="69897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4129560" y="762120"/>
            <a:ext cx="89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他老是一个人呆呆地站在金鱼缸边，静静地看着金鱼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水里游动，而且从来不说一句话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282040" y="24685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选择正确的解释并说明你选择的理由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078000" y="316548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说明青年画鱼画得很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935080" y="403848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说明青年看鱼很专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941560" y="480060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说明青年画鱼很细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3706560" y="548640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说明青年爱鱼达到了忘我的境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1265040" y="1905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讨论交流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26" descr="2009915225655979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9"/>
          <p:cNvSpPr/>
          <p:nvPr/>
        </p:nvSpPr>
        <p:spPr>
          <a:xfrm>
            <a:off x="2744640" y="1676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纸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2741760" y="3733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心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276360" y="2133360"/>
            <a:ext cx="360" cy="1447560"/>
            <a:chOff x="3276360" y="2133360"/>
            <a:chExt cx="360" cy="1447560"/>
          </a:xfrm>
        </p:grpSpPr>
        <p:sp>
          <p:nvSpPr>
            <p:cNvPr id="166" name="Line 12"/>
            <p:cNvSpPr/>
            <p:nvPr/>
          </p:nvSpPr>
          <p:spPr>
            <a:xfrm flipV="1">
              <a:off x="3276720" y="2133360"/>
              <a:ext cx="0" cy="1447560"/>
            </a:xfrm>
            <a:prstGeom prst="line">
              <a:avLst/>
            </a:prstGeom>
            <a:ln w="15840">
              <a:solidFill>
                <a:srgbClr val="0066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 rot="10800000">
              <a:off x="3276360" y="213336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Text Box 13"/>
          <p:cNvSpPr/>
          <p:nvPr/>
        </p:nvSpPr>
        <p:spPr>
          <a:xfrm>
            <a:off x="4512600" y="1676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画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450936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看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4262040" y="23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勤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4262040" y="290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专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6773400" y="1638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6168600" y="268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2" descr="fesh"/>
          <p:cNvPicPr/>
          <p:nvPr/>
        </p:nvPicPr>
        <p:blipFill>
          <a:blip r:embed="rId2"/>
          <a:stretch/>
        </p:blipFill>
        <p:spPr>
          <a:xfrm>
            <a:off x="1295280" y="1600200"/>
            <a:ext cx="1047960" cy="744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3" descr="fesh"/>
          <p:cNvPicPr/>
          <p:nvPr/>
        </p:nvPicPr>
        <p:blipFill>
          <a:blip r:embed="rId3"/>
          <a:stretch/>
        </p:blipFill>
        <p:spPr>
          <a:xfrm>
            <a:off x="1219320" y="3581280"/>
            <a:ext cx="1047600" cy="7444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4"/>
          <p:cNvSpPr/>
          <p:nvPr/>
        </p:nvSpPr>
        <p:spPr>
          <a:xfrm>
            <a:off x="1029600" y="2127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七、鱼游到了纸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0" y="609480"/>
            <a:ext cx="9144000" cy="360"/>
            <a:chOff x="0" y="609480"/>
            <a:chExt cx="9144000" cy="360"/>
          </a:xfrm>
        </p:grpSpPr>
        <p:sp>
          <p:nvSpPr>
            <p:cNvPr id="178" name="Line 25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0" y="60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1:37:0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3:19Z</dcterms:modified>
  <cp:revision>9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