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A9FA-EF57-4559-B2BF-589BD00EC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C16C-ED8C-4FFA-BE29-B2A6B1E48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0CFB-7C19-44B2-B8DC-AD70F7F0B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9769-222B-4E72-9EAB-C0E7AD4A0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A084D-ED65-4ADC-B4C3-635B3F503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67BB0-CC3F-46E7-B1FE-F0878CEEE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66A4D-1B11-4335-9FBA-2D3F2ACBE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1057F-8744-4CA3-937C-7BF405A20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D9D3D-44B8-4645-B0D4-B4A51A179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03208-CBD9-4BD3-AA25-86B10E881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9624C-7C98-4AB0-8B65-10DCD5A6A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5C09-A705-4072-9611-7FA8E7BB8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ADA47-87BE-4355-A2D1-44034912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FC042-F8F1-4056-9E4B-9A064281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3AFC1-1516-4C18-AA42-D478296E0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5CDB0-9D01-4611-99E7-5CB7DF2E1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199CB-40E4-4C86-BCA7-425BBBDC8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24634-2AEB-4DBB-9CCB-262F58563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B904E-FF7C-4D48-A079-EF7F130EB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F19E3-E0A4-4A6E-B183-8E28B285F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EDC3D-34D8-4BEE-A98C-1C393EA13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EC35F-6479-4B47-B8AE-87A8817F5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6ADE-F510-49A0-ACE8-593735FC0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09000-B8B9-49E3-9E07-7B99937AE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EEA31-0130-4510-BF3B-6560AD95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8FD94-3164-4C17-AE99-0049624EB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2034D-515D-4EE6-A8CF-6254B9D90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BCDC7-645D-4752-97A0-B6ADE2A46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451E1-8C82-4183-804A-56724137D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A0460-C506-4B38-9567-E414AD0D2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3BD2-F795-4A58-9E50-EA9D11428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81BD-7F04-444F-99F8-FDB3AD71A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6023-A292-4994-9317-1A0E49245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02F6-12F2-4E54-8270-B76D9A68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7561-C82E-4915-8B4A-EE48A0A60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4B3F-2274-4F69-B7C9-12777827D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2A0B4-35AB-46A8-A573-4CDCE375D8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B990E-2427-438D-A10B-70886235665E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DEF16-0918-46C5-92F7-3244F4726F8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A4975-78E0-4DAA-975F-D92229F2BAD8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7.jpeg"/><Relationship Id="rId6" Type="http://schemas.openxmlformats.org/officeDocument/2006/relationships/image" Target="../media/image1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257,9,&#24187;&#28783;&#29255; 9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560" y="1052280"/>
            <a:ext cx="8713800" cy="25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燕子语文课件</a:t>
            </a:r>
            <a:r>
              <a:rPr b="1" lang="en-US" sz="4000" spc="-1" strike="noStrike">
                <a:solidFill>
                  <a:srgbClr val="ffff00"/>
                </a:solidFill>
                <a:latin typeface="宋体"/>
              </a:rPr>
              <a:t>PPT</a:t>
            </a: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模板下载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7a77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7a77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4"/>
          <p:cNvSpPr/>
          <p:nvPr/>
        </p:nvSpPr>
        <p:spPr>
          <a:xfrm>
            <a:off x="0" y="0"/>
            <a:ext cx="882324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隶书"/>
                <a:ea typeface="隶书"/>
              </a:rPr>
              <a:t>燕子  乌黑  轻快    翅膀  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隶书"/>
                <a:ea typeface="隶书"/>
              </a:rPr>
              <a:t>剪刀  尾巴  活泼    机灵  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隶书"/>
                <a:ea typeface="隶书"/>
              </a:rPr>
              <a:t>微风  赶集  聚拢    增添  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隶书"/>
                <a:ea typeface="隶书"/>
              </a:rPr>
              <a:t>生机  掠过  稻田    偶尔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隶书"/>
                <a:ea typeface="隶书"/>
              </a:rPr>
              <a:t>一圈  音符  演奏    赞歌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隶书"/>
                <a:ea typeface="隶书"/>
              </a:rPr>
              <a:t>  </a:t>
            </a:r>
            <a:r>
              <a:rPr b="1" lang="zh-CN" sz="4800" spc="-1" strike="noStrike">
                <a:solidFill>
                  <a:srgbClr val="007a77"/>
                </a:solidFill>
                <a:latin typeface="隶书"/>
                <a:ea typeface="隶书"/>
              </a:rPr>
              <a:t>光彩夺目           一转眼</a:t>
            </a:r>
            <a:r>
              <a:rPr b="0" lang="zh-CN" sz="4800" spc="-1" strike="noStrike">
                <a:solidFill>
                  <a:srgbClr val="007a77"/>
                </a:solidFill>
                <a:latin typeface="隶书"/>
                <a:ea typeface="隶书"/>
              </a:rPr>
              <a:t> 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文本框 8199"/>
          <p:cNvSpPr/>
          <p:nvPr/>
        </p:nvSpPr>
        <p:spPr>
          <a:xfrm>
            <a:off x="898560" y="47260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dc5900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dc5900"/>
                </a:solidFill>
                <a:uFillTx/>
                <a:latin typeface="Arial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7a77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4"/>
          <p:cNvSpPr/>
          <p:nvPr/>
        </p:nvSpPr>
        <p:spPr>
          <a:xfrm>
            <a:off x="179280" y="0"/>
            <a:ext cx="896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 </a:t>
            </a:r>
            <a:r>
              <a:rPr b="1" lang="zh-CN" sz="7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一身</a:t>
            </a:r>
            <a:r>
              <a:rPr b="1" lang="zh-CN" sz="7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乌黑光亮</a:t>
            </a:r>
            <a:r>
              <a:rPr b="1" lang="zh-CN" sz="7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的羽毛，一对</a:t>
            </a:r>
            <a:r>
              <a:rPr b="1" lang="zh-CN" sz="7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俊俏轻快</a:t>
            </a:r>
            <a:r>
              <a:rPr b="1" lang="zh-CN" sz="7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的翅膀，加上</a:t>
            </a:r>
            <a:r>
              <a:rPr b="1" lang="zh-CN" sz="7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剪刀似</a:t>
            </a:r>
            <a:r>
              <a:rPr b="1" lang="zh-CN" sz="7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的尾巴，凑成了</a:t>
            </a:r>
            <a:r>
              <a:rPr b="1" lang="zh-CN" sz="7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活泼可爱</a:t>
            </a:r>
            <a:r>
              <a:rPr b="1" lang="zh-CN" sz="7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的小燕子。</a:t>
            </a:r>
            <a:endParaRPr b="0" lang="en-US" sz="7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2f9cbdcc4e57bf0301e92886"/>
          <p:cNvPicPr/>
          <p:nvPr/>
        </p:nvPicPr>
        <p:blipFill>
          <a:blip r:embed="rId1"/>
          <a:stretch/>
        </p:blipFill>
        <p:spPr>
          <a:xfrm>
            <a:off x="0" y="0"/>
            <a:ext cx="3251160" cy="6858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200810192114010940"/>
          <p:cNvPicPr/>
          <p:nvPr/>
        </p:nvPicPr>
        <p:blipFill>
          <a:blip r:embed="rId2"/>
          <a:stretch/>
        </p:blipFill>
        <p:spPr>
          <a:xfrm>
            <a:off x="3200400" y="0"/>
            <a:ext cx="5943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179280" y="189000"/>
            <a:ext cx="8964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 </a:t>
            </a:r>
            <a:r>
              <a:rPr b="1" lang="zh-CN" sz="6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才下过几阵</a:t>
            </a:r>
            <a:r>
              <a:rPr b="1" lang="zh-CN" sz="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蒙蒙的细</a:t>
            </a:r>
            <a:r>
              <a:rPr b="1" lang="zh-CN" sz="6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雨。</a:t>
            </a:r>
            <a:r>
              <a:rPr b="1" lang="zh-CN" sz="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微</a:t>
            </a:r>
            <a:r>
              <a:rPr b="1" lang="zh-CN" sz="6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风吹拂着</a:t>
            </a:r>
            <a:r>
              <a:rPr b="1" lang="zh-CN" sz="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千万条才展开带黄色的嫩叶的</a:t>
            </a:r>
            <a:r>
              <a:rPr b="1" lang="zh-CN" sz="6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柳丝。</a:t>
            </a:r>
            <a:r>
              <a:rPr b="1" lang="zh-CN" sz="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青的</a:t>
            </a:r>
            <a:r>
              <a:rPr b="1" lang="zh-CN" sz="6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草，</a:t>
            </a:r>
            <a:r>
              <a:rPr b="1" lang="zh-CN" sz="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绿的</a:t>
            </a:r>
            <a:r>
              <a:rPr b="1" lang="zh-CN" sz="6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叶，</a:t>
            </a:r>
            <a:r>
              <a:rPr b="1" lang="zh-CN" sz="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各色鲜艳的</a:t>
            </a:r>
            <a:r>
              <a:rPr b="1" lang="zh-CN" sz="6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花，</a:t>
            </a:r>
            <a:r>
              <a:rPr b="1" lang="zh-CN" sz="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都像赶集似的</a:t>
            </a:r>
            <a:r>
              <a:rPr b="1" lang="zh-CN" sz="6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聚拢来，形成了</a:t>
            </a:r>
            <a:r>
              <a:rPr b="1" lang="zh-CN" sz="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光彩夺目的</a:t>
            </a:r>
            <a:r>
              <a:rPr b="1" lang="zh-CN" sz="6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春天。</a:t>
            </a:r>
            <a:r>
              <a:rPr b="0" lang="zh-CN" sz="6000" spc="-1" strike="noStrike">
                <a:solidFill>
                  <a:srgbClr val="007a77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017"/>
          <p:cNvPicPr/>
          <p:nvPr/>
        </p:nvPicPr>
        <p:blipFill>
          <a:blip r:embed="rId1"/>
          <a:stretch/>
        </p:blipFill>
        <p:spPr>
          <a:xfrm>
            <a:off x="0" y="3429000"/>
            <a:ext cx="3124080" cy="3429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NATUR018"/>
          <p:cNvPicPr/>
          <p:nvPr/>
        </p:nvPicPr>
        <p:blipFill>
          <a:blip r:embed="rId2"/>
          <a:stretch/>
        </p:blipFill>
        <p:spPr>
          <a:xfrm>
            <a:off x="5943600" y="3429000"/>
            <a:ext cx="3200400" cy="3429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P20020917151845"/>
          <p:cNvPicPr/>
          <p:nvPr/>
        </p:nvPicPr>
        <p:blipFill>
          <a:blip r:embed="rId3"/>
          <a:stretch/>
        </p:blipFill>
        <p:spPr>
          <a:xfrm>
            <a:off x="0" y="0"/>
            <a:ext cx="3160800" cy="3429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SSGP5834"/>
          <p:cNvPicPr/>
          <p:nvPr/>
        </p:nvPicPr>
        <p:blipFill>
          <a:blip r:embed="rId4"/>
          <a:stretch/>
        </p:blipFill>
        <p:spPr>
          <a:xfrm>
            <a:off x="3124080" y="1828800"/>
            <a:ext cx="2819520" cy="16002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V2-012"/>
          <p:cNvPicPr/>
          <p:nvPr/>
        </p:nvPicPr>
        <p:blipFill>
          <a:blip r:embed="rId5"/>
          <a:stretch/>
        </p:blipFill>
        <p:spPr>
          <a:xfrm>
            <a:off x="5943600" y="0"/>
            <a:ext cx="3200400" cy="3429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V2-019"/>
          <p:cNvPicPr/>
          <p:nvPr/>
        </p:nvPicPr>
        <p:blipFill>
          <a:blip r:embed="rId6"/>
          <a:stretch/>
        </p:blipFill>
        <p:spPr>
          <a:xfrm>
            <a:off x="3124080" y="3429000"/>
            <a:ext cx="2857680" cy="3429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V2-081"/>
          <p:cNvPicPr/>
          <p:nvPr/>
        </p:nvPicPr>
        <p:blipFill>
          <a:blip r:embed="rId7"/>
          <a:stretch/>
        </p:blipFill>
        <p:spPr>
          <a:xfrm>
            <a:off x="3124080" y="0"/>
            <a:ext cx="281952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380880" y="5335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Times New Roman"/>
                <a:ea typeface="华文琥珀"/>
              </a:rPr>
              <a:t>比较一下，说说哪句写得好，好在哪里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457200" y="17524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一身羽毛，一对翅膀，加上尾巴，凑成了小燕子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457200" y="345744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一身乌黑光亮的羽毛，一对俊俏轻快的翅膀，加上剪刀似的尾巴，凑成了活泼可爱的小燕子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457200" y="34416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一身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乌黑光亮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的羽毛，一对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俊俏轻快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的翅膀，加上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剪刀似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的尾巴，凑成了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活泼可爱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的小燕子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380880" y="17524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才下过几阵雨，风吹拂着柳丝，草、叶、花聚拢来，形成了春天。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380880" y="5335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Times New Roman"/>
                <a:ea typeface="华文琥珀"/>
              </a:rPr>
              <a:t>比较一下，说说哪句写得好，好在哪里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380880" y="3152880"/>
            <a:ext cx="822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才下过几阵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蒙蒙的细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雨。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微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风吹拂着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千万条才展开带黄色的嫩叶的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柳丝。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青的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草，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绿的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叶，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各色鲜艳的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花，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都像赶集似的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聚拢来，形成了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光彩夺目的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春天。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7620120" y="5791320"/>
            <a:ext cx="914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c5900"/>
                </a:solidFill>
                <a:uFillTx/>
                <a:latin typeface="Times New Roman"/>
                <a:ea typeface="华文行楷"/>
                <a:hlinkClick r:id="rId1"/>
              </a:rPr>
              <a:t>返回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415800" y="1038240"/>
            <a:ext cx="831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　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　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在微风中，在阳光中，燕子斜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着身子在天空中掠过，唧唧地叫着，有的由这边的稻田上，一转眼飞到了那边的柳树下边；有的横掠过湖面，尾巴偶尔沾了一下水面，就看到波纹一圈一圈地荡漾开去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415800" y="1038240"/>
            <a:ext cx="8312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　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　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在微风中，在阳光中，燕子斜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着身子在天空中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掠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过，唧唧地叫着，有的由这边的稻田上，一转眼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飞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到了那边的柳树下边；有的横掠过湖面，尾巴偶尔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沾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了一下水面，就看到波纹一圈一圈地荡漾开去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2082960" y="1371600"/>
            <a:ext cx="49874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Times New Roman"/>
              </a:rPr>
              <a:t>　　</a:t>
            </a:r>
            <a:r>
              <a:rPr b="1" lang="zh-CN" sz="44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几对燕子飞倦了，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落</a:t>
            </a:r>
            <a:r>
              <a:rPr b="1" lang="zh-CN" sz="44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在电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线上。蓝蓝的天空，电杆之间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连着几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痕</a:t>
            </a:r>
            <a:r>
              <a:rPr b="1" lang="zh-CN" sz="44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细线，多么像五线谱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啊。停着的燕子成了音符，谱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出一支正待演奏的春天的赞歌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1" name="文本框 8199"/>
          <p:cNvSpPr/>
          <p:nvPr/>
        </p:nvSpPr>
        <p:spPr>
          <a:xfrm>
            <a:off x="898560" y="48690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dc5900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dc5900"/>
                </a:solidFill>
                <a:uFillTx/>
                <a:latin typeface="Arial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7a77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矩形 5"/>
          <p:cNvSpPr/>
          <p:nvPr/>
        </p:nvSpPr>
        <p:spPr>
          <a:xfrm>
            <a:off x="1619280" y="8366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26" name="Picture 2" descr="SSGP58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2087640" y="1371600"/>
            <a:ext cx="4987440" cy="3445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Times New Roman"/>
              </a:rPr>
              <a:t>　　</a:t>
            </a:r>
            <a:r>
              <a:rPr b="1" lang="zh-CN" sz="44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几对燕子飞倦了，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落</a:t>
            </a:r>
            <a:r>
              <a:rPr b="1" lang="zh-CN" sz="44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在电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线上。</a:t>
            </a:r>
            <a:r>
              <a:rPr b="1" lang="zh-CN" sz="4400" spc="-1" strike="noStrike" u="sng">
                <a:solidFill>
                  <a:srgbClr val="007a77"/>
                </a:solidFill>
                <a:uFillTx/>
                <a:latin typeface="Times New Roman"/>
                <a:ea typeface="楷体_GB2312"/>
              </a:rPr>
              <a:t>蓝蓝的天空，电杆之间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7a77"/>
                </a:solidFill>
                <a:uFillTx/>
                <a:latin typeface="Times New Roman"/>
                <a:ea typeface="楷体_GB2312"/>
              </a:rPr>
              <a:t>连着几</a:t>
            </a:r>
            <a:r>
              <a:rPr b="1" lang="zh-CN" sz="4400" spc="-1" strike="noStrike" u="sng">
                <a:solidFill>
                  <a:srgbClr val="ff3300"/>
                </a:solidFill>
                <a:uFillTx/>
                <a:latin typeface="Times New Roman"/>
                <a:ea typeface="楷体_GB2312"/>
              </a:rPr>
              <a:t>痕</a:t>
            </a:r>
            <a:r>
              <a:rPr b="1" lang="zh-CN" sz="4400" spc="-1" strike="noStrike" u="sng">
                <a:solidFill>
                  <a:srgbClr val="007a77"/>
                </a:solidFill>
                <a:uFillTx/>
                <a:latin typeface="Times New Roman"/>
                <a:ea typeface="楷体_GB2312"/>
              </a:rPr>
              <a:t>细线，多么像五线谱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7a77"/>
                </a:solidFill>
                <a:uFillTx/>
                <a:latin typeface="Times New Roman"/>
                <a:ea typeface="楷体_GB2312"/>
              </a:rPr>
              <a:t>啊。</a:t>
            </a:r>
            <a:r>
              <a:rPr b="1" lang="zh-CN" sz="44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停着的燕子成了音符，谱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出一支正待演奏的春天的赞歌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2008103110281941_2"/>
          <p:cNvPicPr/>
          <p:nvPr/>
        </p:nvPicPr>
        <p:blipFill>
          <a:blip r:embed="rId1"/>
          <a:stretch/>
        </p:blipFill>
        <p:spPr>
          <a:xfrm>
            <a:off x="-304920" y="-30492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2087640" y="1371600"/>
            <a:ext cx="4987440" cy="3445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Times New Roman"/>
              </a:rPr>
              <a:t>　　</a:t>
            </a:r>
            <a:r>
              <a:rPr b="1" lang="zh-CN" sz="44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几对燕子飞倦了，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落</a:t>
            </a:r>
            <a:r>
              <a:rPr b="1" lang="zh-CN" sz="44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在电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线上。</a:t>
            </a:r>
            <a:r>
              <a:rPr b="1" lang="zh-CN" sz="4400" spc="-1" strike="noStrike" u="sng">
                <a:solidFill>
                  <a:srgbClr val="007a77"/>
                </a:solidFill>
                <a:uFillTx/>
                <a:latin typeface="Times New Roman"/>
                <a:ea typeface="楷体_GB2312"/>
              </a:rPr>
              <a:t>蓝蓝的天空，电杆之间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7a77"/>
                </a:solidFill>
                <a:uFillTx/>
                <a:latin typeface="Times New Roman"/>
                <a:ea typeface="楷体_GB2312"/>
              </a:rPr>
              <a:t>连着几</a:t>
            </a:r>
            <a:r>
              <a:rPr b="1" lang="zh-CN" sz="4400" spc="-1" strike="noStrike" u="sng">
                <a:solidFill>
                  <a:srgbClr val="ff3300"/>
                </a:solidFill>
                <a:uFillTx/>
                <a:latin typeface="Times New Roman"/>
                <a:ea typeface="楷体_GB2312"/>
              </a:rPr>
              <a:t>痕</a:t>
            </a:r>
            <a:r>
              <a:rPr b="1" lang="zh-CN" sz="4400" spc="-1" strike="noStrike" u="sng">
                <a:solidFill>
                  <a:srgbClr val="007a77"/>
                </a:solidFill>
                <a:uFillTx/>
                <a:latin typeface="Times New Roman"/>
                <a:ea typeface="楷体_GB2312"/>
              </a:rPr>
              <a:t>细线，多么像五线谱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7a77"/>
                </a:solidFill>
                <a:uFillTx/>
                <a:latin typeface="Times New Roman"/>
                <a:ea typeface="楷体_GB2312"/>
              </a:rPr>
              <a:t>啊。</a:t>
            </a:r>
            <a:r>
              <a:rPr b="1" lang="zh-CN" sz="44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停着的燕子成了音符，谱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出一支正待演奏的春天的赞歌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7a77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E41A9-E2E8-4EA3-8742-5A59A925C110}" type="slidenum">
              <a:rPr b="0" lang="zh-CN" sz="1400" spc="-1" strike="noStrike">
                <a:solidFill>
                  <a:srgbClr val="007a77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2136960" y="1413000"/>
            <a:ext cx="4987440" cy="3445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Times New Roman"/>
              </a:rPr>
              <a:t>　　</a:t>
            </a:r>
            <a:r>
              <a:rPr b="1" lang="zh-CN" sz="44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几对燕子飞倦了，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落</a:t>
            </a:r>
            <a:r>
              <a:rPr b="1" lang="zh-CN" sz="44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在电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线上。</a:t>
            </a:r>
            <a:r>
              <a:rPr b="1" lang="zh-CN" sz="4400" spc="-1" strike="noStrike" u="sng">
                <a:solidFill>
                  <a:srgbClr val="007a77"/>
                </a:solidFill>
                <a:uFillTx/>
                <a:latin typeface="Times New Roman"/>
                <a:ea typeface="楷体_GB2312"/>
              </a:rPr>
              <a:t>蓝蓝的天空，电杆之间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7a77"/>
                </a:solidFill>
                <a:uFillTx/>
                <a:latin typeface="Times New Roman"/>
                <a:ea typeface="楷体_GB2312"/>
              </a:rPr>
              <a:t>连着几</a:t>
            </a:r>
            <a:r>
              <a:rPr b="1" lang="zh-CN" sz="4400" spc="-1" strike="noStrike" u="sng">
                <a:solidFill>
                  <a:srgbClr val="ff3300"/>
                </a:solidFill>
                <a:uFillTx/>
                <a:latin typeface="Times New Roman"/>
                <a:ea typeface="楷体_GB2312"/>
              </a:rPr>
              <a:t>痕</a:t>
            </a:r>
            <a:r>
              <a:rPr b="1" lang="zh-CN" sz="4400" spc="-1" strike="noStrike" u="sng">
                <a:solidFill>
                  <a:srgbClr val="007a77"/>
                </a:solidFill>
                <a:uFillTx/>
                <a:latin typeface="Times New Roman"/>
                <a:ea typeface="楷体_GB2312"/>
              </a:rPr>
              <a:t>细线，多么像五线谱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7a77"/>
                </a:solidFill>
                <a:uFillTx/>
                <a:latin typeface="Times New Roman"/>
                <a:ea typeface="楷体_GB2312"/>
              </a:rPr>
              <a:t>啊。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停着的燕子成了音符，谱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出一支正待演奏的春天的赞歌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026" descr="P2002091715184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026" descr="V2-0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V2-0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WordArt 7"/>
          <p:cNvSpPr txBox="1"/>
          <p:nvPr/>
        </p:nvSpPr>
        <p:spPr>
          <a:xfrm>
            <a:off x="6300720" y="4365720"/>
            <a:ext cx="1657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翼尖</a:t>
            </a:r>
            <a:endParaRPr b="1" lang="en-US" sz="4800" spc="-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31" name="WordArt 9"/>
          <p:cNvSpPr txBox="1"/>
          <p:nvPr/>
        </p:nvSpPr>
        <p:spPr>
          <a:xfrm>
            <a:off x="826920" y="4292640"/>
            <a:ext cx="1657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掠过</a:t>
            </a:r>
            <a:endParaRPr b="1" lang="en-US" sz="4800" spc="-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32" name="WordArt 11"/>
          <p:cNvSpPr txBox="1"/>
          <p:nvPr/>
        </p:nvSpPr>
        <p:spPr>
          <a:xfrm>
            <a:off x="6300720" y="1916280"/>
            <a:ext cx="1657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聚拢</a:t>
            </a:r>
            <a:endParaRPr b="1" lang="en-US" sz="4800" spc="-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33" name="WordArt 12"/>
          <p:cNvSpPr txBox="1"/>
          <p:nvPr/>
        </p:nvSpPr>
        <p:spPr>
          <a:xfrm>
            <a:off x="3564000" y="4292640"/>
            <a:ext cx="1657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稻田</a:t>
            </a:r>
            <a:endParaRPr b="1" lang="en-US" sz="4800" spc="-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34" name="WordArt 14"/>
          <p:cNvSpPr txBox="1"/>
          <p:nvPr/>
        </p:nvSpPr>
        <p:spPr>
          <a:xfrm>
            <a:off x="900000" y="1989000"/>
            <a:ext cx="1657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唧唧</a:t>
            </a:r>
            <a:endParaRPr b="1" lang="en-US" sz="4800" spc="-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35" name="WordArt 16"/>
          <p:cNvSpPr txBox="1"/>
          <p:nvPr/>
        </p:nvSpPr>
        <p:spPr>
          <a:xfrm>
            <a:off x="1042920" y="134136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jī</a:t>
            </a:r>
            <a:endParaRPr b="0" lang="en-US" sz="18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36" name="WordArt 18"/>
          <p:cNvSpPr txBox="1"/>
          <p:nvPr/>
        </p:nvSpPr>
        <p:spPr>
          <a:xfrm>
            <a:off x="6343560" y="134136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jù lǒng </a:t>
            </a:r>
            <a:endParaRPr b="0" lang="en-US" sz="18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37" name="WordArt 20"/>
          <p:cNvSpPr txBox="1"/>
          <p:nvPr/>
        </p:nvSpPr>
        <p:spPr>
          <a:xfrm>
            <a:off x="3598920" y="3645000"/>
            <a:ext cx="685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dào</a:t>
            </a:r>
            <a:endParaRPr b="0" lang="en-US" sz="18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38" name="WordArt 21"/>
          <p:cNvSpPr txBox="1"/>
          <p:nvPr/>
        </p:nvSpPr>
        <p:spPr>
          <a:xfrm>
            <a:off x="6443640" y="376380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yì</a:t>
            </a:r>
            <a:endParaRPr b="0" lang="en-US" sz="18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WordArt 4"/>
          <p:cNvSpPr txBox="1"/>
          <p:nvPr/>
        </p:nvSpPr>
        <p:spPr>
          <a:xfrm>
            <a:off x="900000" y="4437000"/>
            <a:ext cx="1657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几痕</a:t>
            </a:r>
            <a:endParaRPr b="1" lang="en-US" sz="4800" spc="-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40" name="WordArt 5"/>
          <p:cNvSpPr txBox="1"/>
          <p:nvPr/>
        </p:nvSpPr>
        <p:spPr>
          <a:xfrm>
            <a:off x="6443640" y="1773360"/>
            <a:ext cx="1657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荡漾</a:t>
            </a:r>
            <a:endParaRPr b="1" lang="en-US" sz="4800" spc="-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41" name="WordArt 6"/>
          <p:cNvSpPr txBox="1"/>
          <p:nvPr/>
        </p:nvSpPr>
        <p:spPr>
          <a:xfrm>
            <a:off x="900000" y="1844640"/>
            <a:ext cx="1657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沾水</a:t>
            </a:r>
            <a:endParaRPr b="1" lang="en-US" sz="4800" spc="-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42" name="WordArt 9"/>
          <p:cNvSpPr txBox="1"/>
          <p:nvPr/>
        </p:nvSpPr>
        <p:spPr>
          <a:xfrm>
            <a:off x="6372360" y="4292640"/>
            <a:ext cx="1657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映衬</a:t>
            </a:r>
            <a:endParaRPr b="1" lang="en-US" sz="4800" spc="-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43" name="WordArt 11"/>
          <p:cNvSpPr txBox="1"/>
          <p:nvPr/>
        </p:nvSpPr>
        <p:spPr>
          <a:xfrm>
            <a:off x="826920" y="12682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zhān</a:t>
            </a:r>
            <a:endParaRPr b="0" lang="en-US" sz="18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44" name="WordArt 12"/>
          <p:cNvSpPr txBox="1"/>
          <p:nvPr/>
        </p:nvSpPr>
        <p:spPr>
          <a:xfrm>
            <a:off x="7236000" y="119700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yàng</a:t>
            </a:r>
            <a:endParaRPr b="0" lang="en-US" sz="18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45" name="WordArt 13"/>
          <p:cNvSpPr txBox="1"/>
          <p:nvPr/>
        </p:nvSpPr>
        <p:spPr>
          <a:xfrm>
            <a:off x="1763640" y="3789360"/>
            <a:ext cx="673200" cy="52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hén</a:t>
            </a:r>
            <a:endParaRPr b="0" lang="en-US" sz="18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46" name="WordArt 15"/>
          <p:cNvSpPr txBox="1"/>
          <p:nvPr/>
        </p:nvSpPr>
        <p:spPr>
          <a:xfrm>
            <a:off x="6300720" y="3789360"/>
            <a:ext cx="1676520" cy="45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yìng chèn</a:t>
            </a:r>
            <a:endParaRPr b="0" lang="en-US" sz="18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1T13:11:1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1:30Z</dcterms:modified>
  <cp:revision>3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