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E2E5-2B7E-4BFF-9810-C8F67AA8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883C-3A55-49D4-8B7F-DC1C4486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C2B-EEAA-4069-BF0A-074DD655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5C7-48E2-4ECD-9842-F84007EA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AE34-87C7-4C86-9332-7ED5026D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8781-49AB-4CD0-AC28-B8DC18B8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D8C7-7635-4350-A6E6-7C0E69E2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FCF1-FECC-4332-B35C-85325355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EA5B-D354-4832-AED8-2BCB6FF6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7D90-A474-477A-BBFD-17494772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2540-737F-4684-BF63-D97D1167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CDFA-6FA3-40E5-A449-FE4E41D4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504C-A84F-4D26-8D15-8B1698E3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9174-D5E1-4ACB-B9FC-8FE92159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81EE-76B3-483A-A292-52D40E9D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02BD-9BF4-4CF2-A90C-4DC540DD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C306-B9F1-4C5F-A5EA-16F2F014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0B41-F466-4540-9BAB-D11C38D6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A06-41E1-48BF-8243-C239BD6F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2BA-4C11-4934-8793-ACE09916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309-90EE-40F4-A312-1CA3B231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23F-A2F1-4577-8141-580442AF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CE7-A21A-45A2-8138-C043C470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3050-FE70-4C3C-9251-B36F5588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64BB-4D4D-4F50-A141-615B23DFD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858C-0149-4E48-ADBA-16EFDFDC25A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3E26-753C-4201-A58D-12AC2E0B9B1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rcRect l="0" t="0" r="0" b="45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7"/>
          <p:cNvSpPr txBox="1"/>
          <p:nvPr/>
        </p:nvSpPr>
        <p:spPr>
          <a:xfrm>
            <a:off x="1332000" y="2492280"/>
            <a:ext cx="6481800" cy="168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7f7f7f"/>
                  </a:outerShdw>
                </a:effectLst>
                <a:latin typeface="华文中宋"/>
              </a:rPr>
              <a:t>燕子专列语文课件</a:t>
            </a:r>
            <a:r>
              <a:rPr b="1" lang="en-US" sz="40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7f7f7f"/>
                  </a:outerShdw>
                </a:effectLst>
                <a:latin typeface="华文中宋"/>
              </a:rPr>
              <a:t>PPT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7f7f7f"/>
                  </a:outerShdw>
                </a:effectLst>
                <a:latin typeface="华文中宋"/>
              </a:rPr>
              <a:t>模板下载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7f7f7f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192400" y="404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教版小学语文第六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132000" y="5661000"/>
            <a:ext cx="395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taiyan"/>
          <p:cNvPicPr/>
          <p:nvPr/>
        </p:nvPicPr>
        <p:blipFill>
          <a:blip r:embed="rId2"/>
          <a:stretch/>
        </p:blipFill>
        <p:spPr>
          <a:xfrm>
            <a:off x="685800" y="5867280"/>
            <a:ext cx="617400" cy="571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1886760" y="1143000"/>
            <a:ext cx="536220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叫贝蒂的小姑娘，听到广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，和爸爸妈妈一起，在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覆盖着皑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白雪的山间岩缝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寻找冻僵的燕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天下来，她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一个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救护了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十几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燕子。她的脸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冻得通红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手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冻得僵硬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但她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一点也不在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课文插图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2400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祝福小燕子们无论到什么地方，都永远幸福快乐！因为我们人类都关爱着你们！再见了，燕子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128E-13AB-4A99-90A3-138A59534F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课文插图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324000" y="18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468360" y="0"/>
            <a:ext cx="9178920" cy="3284640"/>
          </a:xfrm>
          <a:prstGeom prst="cloudCallout">
            <a:avLst>
              <a:gd name="adj1" fmla="val -41958"/>
              <a:gd name="adj2" fmla="val -43814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这是心的呼唤，这是爱的奉献， 这是人间的春风， 这是生命的源泉 ，再没有心的沙漠 ，再没有爱的荒原， 死神也望而却步 ，幸福之花处处开遍 ，啊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――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只要人人都献出一点爱， 世界将变成美好的人间 ！</a:t>
            </a:r>
            <a:br>
              <a:rPr sz="2400"/>
            </a:b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啊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――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只要人人都献出一点爱， 世界将变成美好的人间 ！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黑鸭子合唱组-爱的奉献.mp3" descr=""/>
          <p:cNvPicPr/>
          <p:nvPr/>
        </p:nvPicPr>
        <p:blipFill>
          <a:blip r:embed="rId2"/>
          <a:stretch/>
        </p:blipFill>
        <p:spPr>
          <a:xfrm>
            <a:off x="7667640" y="5950080"/>
            <a:ext cx="936720" cy="792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3446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1081800" y="488880"/>
            <a:ext cx="6764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欧洲  瑞士  舒适  载着  政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启程  特殊　麻烦  骤降  救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疲劳  饥寒交迫　　料峭　呼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濒临　皑皑白雪　　跋涉　踏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78920" y="404640"/>
            <a:ext cx="87138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这年春天，成千上万只燕子从南方飞回北方时，在瑞士境内遇到了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麻烦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当地气温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骤降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风雪不止，几乎所有昆虫都被冻死了。燕子经过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长途跋涉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已经非常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疲劳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再加上找不到食物，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饥寒交迫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濒临死亡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0"/>
          <p:cNvSpPr/>
          <p:nvPr/>
        </p:nvSpPr>
        <p:spPr>
          <a:xfrm>
            <a:off x="1692360" y="83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taiyan"/>
          <p:cNvPicPr/>
          <p:nvPr/>
        </p:nvPicPr>
        <p:blipFill>
          <a:blip r:embed="rId2"/>
          <a:stretch/>
        </p:blipFill>
        <p:spPr>
          <a:xfrm>
            <a:off x="685800" y="5867280"/>
            <a:ext cx="617400" cy="57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taiyan"/>
          <p:cNvPicPr/>
          <p:nvPr/>
        </p:nvPicPr>
        <p:blipFill>
          <a:blip r:embed="rId3"/>
          <a:stretch/>
        </p:blipFill>
        <p:spPr>
          <a:xfrm>
            <a:off x="1820880" y="5867280"/>
            <a:ext cx="617400" cy="571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taiyan"/>
          <p:cNvPicPr/>
          <p:nvPr/>
        </p:nvPicPr>
        <p:blipFill>
          <a:blip r:embed="rId4"/>
          <a:stretch/>
        </p:blipFill>
        <p:spPr>
          <a:xfrm>
            <a:off x="3048120" y="5867280"/>
            <a:ext cx="617400" cy="571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taiyan"/>
          <p:cNvPicPr/>
          <p:nvPr/>
        </p:nvPicPr>
        <p:blipFill>
          <a:blip r:embed="rId5"/>
          <a:stretch/>
        </p:blipFill>
        <p:spPr>
          <a:xfrm>
            <a:off x="4343400" y="5905440"/>
            <a:ext cx="617400" cy="571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taiyan"/>
          <p:cNvPicPr/>
          <p:nvPr/>
        </p:nvPicPr>
        <p:blipFill>
          <a:blip r:embed="rId6"/>
          <a:stretch/>
        </p:blipFill>
        <p:spPr>
          <a:xfrm>
            <a:off x="5707080" y="5905440"/>
            <a:ext cx="617400" cy="571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taiyan"/>
          <p:cNvPicPr/>
          <p:nvPr/>
        </p:nvPicPr>
        <p:blipFill>
          <a:blip r:embed="rId2"/>
          <a:stretch/>
        </p:blipFill>
        <p:spPr>
          <a:xfrm>
            <a:off x="685800" y="5867280"/>
            <a:ext cx="617400" cy="571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1630080" y="2133720"/>
            <a:ext cx="62964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列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漂亮舒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空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列车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准备启程，站台上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站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送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taiyan"/>
          <p:cNvPicPr/>
          <p:nvPr/>
        </p:nvPicPr>
        <p:blipFill>
          <a:blip r:embed="rId2"/>
          <a:stretch/>
        </p:blipFill>
        <p:spPr>
          <a:xfrm>
            <a:off x="685800" y="5867280"/>
            <a:ext cx="617400" cy="571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421280" y="1981080"/>
            <a:ext cx="670320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瑞士政府知道了这个情况，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火车把这些燕子送到温暖的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taiyan"/>
          <p:cNvPicPr/>
          <p:nvPr/>
        </p:nvPicPr>
        <p:blipFill>
          <a:blip r:embed="rId2"/>
          <a:stretch/>
        </p:blipFill>
        <p:spPr>
          <a:xfrm>
            <a:off x="685800" y="5867280"/>
            <a:ext cx="617400" cy="5716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1395000" y="1752480"/>
            <a:ext cx="63982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于是，政府通过电视和广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呼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们立即行动起来，寻找燕子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它们送到火车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文本框 8200"/>
          <p:cNvSpPr/>
          <p:nvPr/>
        </p:nvSpPr>
        <p:spPr>
          <a:xfrm>
            <a:off x="4861080" y="3141720"/>
            <a:ext cx="3800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taiyan"/>
          <p:cNvPicPr/>
          <p:nvPr/>
        </p:nvPicPr>
        <p:blipFill>
          <a:blip r:embed="rId2"/>
          <a:stretch/>
        </p:blipFill>
        <p:spPr>
          <a:xfrm>
            <a:off x="685800" y="5867280"/>
            <a:ext cx="617400" cy="5716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1350720" y="1523880"/>
            <a:ext cx="670284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到消息后，居民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纷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家门，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冒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料峭的春寒，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顶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满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飞舞的大雪，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踏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冻得坚硬的山路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四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寻找冻僵的燕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8200"/>
          <p:cNvSpPr/>
          <p:nvPr/>
        </p:nvSpPr>
        <p:spPr>
          <a:xfrm>
            <a:off x="900000" y="227664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6:56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27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