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253F-DE90-4D16-B955-CC5227D4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27E3-4A4C-4BDD-86EC-06B400EF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07C-DDFA-49A4-8BDD-640CCD05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BE8D-8943-4841-9DBB-49DAF24A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3EE22-8DE8-4CA4-8808-088AFC1AF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99E9-04B2-45B4-98B9-400C7443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DCE6-81CA-4224-83C1-FB7995B4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3D96-3471-4670-8F3E-3AB367A99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629F-A248-4130-9337-F517F11CA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D0EF-8F35-4798-B296-29FFFFE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0C1-0F9C-422E-BB93-0C0652F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8A6C-7CF3-4193-AE4E-A279FFB0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644A-92D3-4496-887D-18431547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320E-1C65-4230-8801-437FFC60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4D2BA-733C-42AE-A6A2-994D12C6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E2F26-B8F7-4CDB-8A3F-63AAF7CA2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CDCD-5AF7-4AA5-A4BF-90A5FAFA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6E4-8441-4928-8E4B-57377FB3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21C1-A95A-4C9A-8142-A8EE560C7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651-934B-4079-B1D3-5FDD1ADE1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8D5F-565B-4B9D-ACF3-2585FC29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EC91-03B1-4972-A33C-90E650C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8032-818B-4849-A313-4DD31047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4435-AFFC-4540-9EEE-D093AC460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EF8B-22D5-4921-9677-A2B0596E0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D716-E00D-45BE-B2E1-BFBE2BA42F0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D1FE-A383-4478-A4A7-D94C8B862D6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730600" y="501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1" descr=""/>
          <p:cNvPicPr/>
          <p:nvPr/>
        </p:nvPicPr>
        <p:blipFill>
          <a:blip r:embed="rId1"/>
          <a:srcRect l="10309" t="0" r="7244" b="3842"/>
          <a:stretch/>
        </p:blipFill>
        <p:spPr>
          <a:xfrm>
            <a:off x="2081160" y="2133720"/>
            <a:ext cx="4942080" cy="3832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1887480" y="1417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900000" y="765000"/>
            <a:ext cx="750276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宋体"/>
              </a:rPr>
              <a:t>走遍天下书为侣语文课件</a:t>
            </a:r>
            <a:r>
              <a:rPr b="1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宋体"/>
              </a:rPr>
              <a:t>PPT</a:t>
            </a:r>
            <a:r>
              <a:rPr b="1" lang="zh-CN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0" dir="0" blurRad="0" rotWithShape="0">
                    <a:srgbClr val="000000"/>
                  </a:outerShdw>
                </a:effectLst>
                <a:latin typeface="宋体"/>
              </a:rPr>
              <a:t>模板下载 </a:t>
            </a:r>
            <a:endParaRPr b="1" lang="en-US" sz="1800" spc="-1" strike="noStrike">
              <a:ln w="0">
                <a:noFill/>
              </a:ln>
              <a:solidFill>
                <a:srgbClr val="ff0000"/>
              </a:solidFill>
              <a:effectLst>
                <a:outerShdw dist="0" dir="0" blurRad="0" rotWithShape="0">
                  <a:srgbClr val="00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582560" y="981000"/>
            <a:ext cx="6582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娱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乐  　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盒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　犹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豫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趟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背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诵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侣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零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编　　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某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种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900000" y="476280"/>
            <a:ext cx="7417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你总能从一本书中发现新东西，不管你看过多少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我愿意坐在自己的船里，一遍又一遍地读那本书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一本你喜爱的书就是一位朋友，也是一处你随时想去就去的故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8194"/>
          <p:cNvSpPr/>
          <p:nvPr/>
        </p:nvSpPr>
        <p:spPr>
          <a:xfrm>
            <a:off x="1260360" y="38606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9407-BF3D-473D-9820-74E9790AFD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042920" y="595440"/>
            <a:ext cx="7489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这有什么关系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以前见过你有朋友就不愿再见到他们了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你不会因为熟悉家中的一切就弃家而去吧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23:1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3:02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