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AA9-4929-4039-9611-9765A210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406-5AA5-4D8A-96ED-6F41A4ED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4F2-DF6B-468A-AF35-CC38AA54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09B-5B7E-495E-99CF-FF7F4338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677A-42F0-48D1-BC14-994E313D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76CF-842B-425E-A5A2-A3E83265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94D4-097A-4B8D-A9D0-D597CEB2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427-0C48-49ED-9772-394A97E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5831-9A13-4FE1-A07E-EC1DBE46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0DC4-5067-4BE8-B2D9-67C15DF5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A509-B040-4137-9E4B-7E707FD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CD6-FFAA-4200-933B-6D0803D9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19B8-139D-405C-B848-5FDBD36C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E9FF-10E7-42EE-8921-0C9FC9F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008E-5876-4F94-9977-F2DA24D3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08C4-98E9-45BA-AA64-DD78CE26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5BA1-E04D-46C5-B6DA-513B5C1C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CFDF-4164-4320-90D5-3FE24BE7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74D8-3C1B-4F8C-BB1F-4BAD874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6B1A-C73D-43B7-9164-281883DA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5B5F-2D39-44DE-94F3-C0387440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CEAB-595E-42B7-84CD-58AA1AEF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7D3-B8E3-4592-B6E1-BBBBA5CB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C27E-6683-4BFA-80A0-B2BAA646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A655-C77E-4C83-9AE8-6A2408F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3DEC-509A-4A55-BFEE-77C76E49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5657-66F9-4E62-8979-AD069FC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CAB0-462E-46E9-99B0-3E625C0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8CB4-7376-43B5-AFB7-E6B00ECE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BC9B-F3E1-4360-9718-EC8A411E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B5B-510D-4F9F-9F03-8F0FC27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852-D7FE-4898-BF9C-5A6D0E5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6C5-4FE6-4AA1-B711-C4DB522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BB6-4E5B-4010-AC43-22E12AC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EF0-5119-4140-B684-6229D5C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508-DD63-4D8C-BC35-2325EDDC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B6B7-2A43-4AE3-83F0-20FF11AB5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184B-21E9-4836-ABD0-F96B375CD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CED8-6217-4A14-BFAE-7D8777583E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987-2E5B-4605-8464-335C7EF615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20013;&#24425;&#37027;&#22825;.swf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19中彩那天插图1"/>
          <p:cNvPicPr/>
          <p:nvPr/>
        </p:nvPicPr>
        <p:blipFill>
          <a:blip r:embed="rId1"/>
          <a:stretch/>
        </p:blipFill>
        <p:spPr>
          <a:xfrm>
            <a:off x="34920" y="0"/>
            <a:ext cx="65451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755640" y="907920"/>
            <a:ext cx="730872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中彩那天课件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30200" y="198900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）：母亲的话语及父亲最大的心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二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）：父亲中奖的车得而复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三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）：成年的我读懂母亲的教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09480" y="685800"/>
            <a:ext cx="835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围绕这件事，可以把文章分几部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正直是这么美妙的东西，重金难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　　　　　　　　　　　──会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正直和诚实还没有发现代用品，人们缺少它就没法取得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　　　　　　　　　　　──布雷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没有一种遗产能像诚实那样丰富的了。　　　　　　　　　　　　　　　　　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               ──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对自己忠实，才不会对别人欺诈。　　　　　　　　　　　　　　　　　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               ──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3132000" y="765000"/>
            <a:ext cx="3024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诚信与正直</a:t>
            </a:r>
            <a:endParaRPr b="0" lang="en-US" sz="1800" spc="1" strike="noStrike">
              <a:ln w="12600">
                <a:solidFill>
                  <a:srgbClr val="99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F007-C6C3-42FF-A073-60F4B1AE39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xtd24"/>
          <p:cNvPicPr/>
          <p:nvPr/>
        </p:nvPicPr>
        <p:blipFill>
          <a:blip r:embed="rId1"/>
          <a:stretch/>
        </p:blipFill>
        <p:spPr>
          <a:xfrm>
            <a:off x="179280" y="5964120"/>
            <a:ext cx="8748720" cy="89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0" y="177408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人不仅需要物质上的富有，更需要精神的的富有。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                 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──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2050920" y="549360"/>
            <a:ext cx="49690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8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看诚实，我看正直</a:t>
            </a:r>
            <a:endParaRPr b="1" lang="en-US" sz="1800" spc="1" strike="noStrike">
              <a:ln w="12600">
                <a:solidFill>
                  <a:srgbClr val="00808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8459640" y="5734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xtd24"/>
          <p:cNvPicPr/>
          <p:nvPr/>
        </p:nvPicPr>
        <p:blipFill>
          <a:blip r:embed="rId1"/>
          <a:stretch/>
        </p:blipFill>
        <p:spPr>
          <a:xfrm>
            <a:off x="179280" y="5964120"/>
            <a:ext cx="8748720" cy="89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68360" y="1628640"/>
            <a:ext cx="84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其  道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德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难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题  拮据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精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崭新  馈赠  彩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票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存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根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迷惑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号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码  回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忆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梦寐以求 闷闷不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Xing2"/>
          <p:cNvPicPr/>
          <p:nvPr/>
        </p:nvPicPr>
        <p:blipFill>
          <a:blip r:embed="rId2"/>
          <a:stretch/>
        </p:blipFill>
        <p:spPr>
          <a:xfrm>
            <a:off x="468360" y="4302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Xing2"/>
          <p:cNvPicPr/>
          <p:nvPr/>
        </p:nvPicPr>
        <p:blipFill>
          <a:blip r:embed="rId3"/>
          <a:stretch/>
        </p:blipFill>
        <p:spPr>
          <a:xfrm>
            <a:off x="5003640" y="2397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Xing2"/>
          <p:cNvPicPr/>
          <p:nvPr/>
        </p:nvPicPr>
        <p:blipFill>
          <a:blip r:embed="rId4"/>
          <a:stretch/>
        </p:blipFill>
        <p:spPr>
          <a:xfrm>
            <a:off x="3635280" y="7174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Xing2"/>
          <p:cNvPicPr/>
          <p:nvPr/>
        </p:nvPicPr>
        <p:blipFill>
          <a:blip r:embed="rId5"/>
          <a:stretch/>
        </p:blipFill>
        <p:spPr>
          <a:xfrm>
            <a:off x="8101080" y="404640"/>
            <a:ext cx="8157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19中彩那天插图1"/>
          <p:cNvPicPr/>
          <p:nvPr/>
        </p:nvPicPr>
        <p:blipFill>
          <a:blip r:embed="rId1"/>
          <a:stretch/>
        </p:blipFill>
        <p:spPr>
          <a:xfrm>
            <a:off x="324000" y="189000"/>
            <a:ext cx="6076800" cy="52610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95280" y="5303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不一会儿，我看见父亲开着车从拥挤的人群中缓缓驶过。只是，他的神情严肃，看不出中彩带给他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98920" y="0"/>
            <a:ext cx="3745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我几次兴奋地想上车与父亲共享这幸福的时刻，都被他赶了下来。”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39640" y="981000"/>
            <a:ext cx="835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父亲中了大奖，却为什么神情严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26920" y="1916280"/>
            <a:ext cx="777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因为他正面临着一个道德难题。父亲很希望拥有自己的车，但恰恰是自己帮同事库伯买的彩票中了奖，车不是自己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Xing2"/>
          <p:cNvPicPr/>
          <p:nvPr/>
        </p:nvPicPr>
        <p:blipFill>
          <a:blip r:embed="rId1"/>
          <a:stretch/>
        </p:blipFill>
        <p:spPr>
          <a:xfrm>
            <a:off x="250920" y="47628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Xing2"/>
          <p:cNvPicPr/>
          <p:nvPr/>
        </p:nvPicPr>
        <p:blipFill>
          <a:blip r:embed="rId2"/>
          <a:stretch/>
        </p:blipFill>
        <p:spPr>
          <a:xfrm>
            <a:off x="2771640" y="404640"/>
            <a:ext cx="816120" cy="816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Xing2"/>
          <p:cNvPicPr/>
          <p:nvPr/>
        </p:nvPicPr>
        <p:blipFill>
          <a:blip r:embed="rId3"/>
          <a:stretch/>
        </p:blipFill>
        <p:spPr>
          <a:xfrm>
            <a:off x="6516720" y="4076640"/>
            <a:ext cx="816120" cy="816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Xing2"/>
          <p:cNvPicPr/>
          <p:nvPr/>
        </p:nvPicPr>
        <p:blipFill>
          <a:blip r:embed="rId4"/>
          <a:stretch/>
        </p:blipFill>
        <p:spPr>
          <a:xfrm>
            <a:off x="7667640" y="5013360"/>
            <a:ext cx="816120" cy="816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Xing2"/>
          <p:cNvPicPr/>
          <p:nvPr/>
        </p:nvPicPr>
        <p:blipFill>
          <a:blip r:embed="rId5"/>
          <a:stretch/>
        </p:blipFill>
        <p:spPr>
          <a:xfrm>
            <a:off x="611280" y="2060640"/>
            <a:ext cx="815760" cy="81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Xing2"/>
          <p:cNvPicPr/>
          <p:nvPr/>
        </p:nvPicPr>
        <p:blipFill>
          <a:blip r:embed="rId6"/>
          <a:stretch/>
        </p:blipFill>
        <p:spPr>
          <a:xfrm>
            <a:off x="7885080" y="170028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Xing2"/>
          <p:cNvPicPr/>
          <p:nvPr/>
        </p:nvPicPr>
        <p:blipFill>
          <a:blip r:embed="rId7"/>
          <a:stretch/>
        </p:blipFill>
        <p:spPr>
          <a:xfrm>
            <a:off x="1187280" y="5084640"/>
            <a:ext cx="816120" cy="816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Xing2"/>
          <p:cNvPicPr/>
          <p:nvPr/>
        </p:nvPicPr>
        <p:blipFill>
          <a:blip r:embed="rId8"/>
          <a:stretch/>
        </p:blipFill>
        <p:spPr>
          <a:xfrm>
            <a:off x="5508720" y="5229360"/>
            <a:ext cx="815760" cy="8157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4"/>
          <p:cNvSpPr txBox="1"/>
          <p:nvPr/>
        </p:nvSpPr>
        <p:spPr>
          <a:xfrm>
            <a:off x="2340000" y="4653000"/>
            <a:ext cx="43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要？还是不要？</a:t>
            </a:r>
            <a:endParaRPr b="1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9" name="文本框 8200"/>
          <p:cNvSpPr/>
          <p:nvPr/>
        </p:nvSpPr>
        <p:spPr>
          <a:xfrm>
            <a:off x="1908000" y="5805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19中彩那天插图1"/>
          <p:cNvPicPr/>
          <p:nvPr/>
        </p:nvPicPr>
        <p:blipFill>
          <a:blip r:embed="rId1"/>
          <a:stretch/>
        </p:blipFill>
        <p:spPr>
          <a:xfrm>
            <a:off x="0" y="1596960"/>
            <a:ext cx="6076800" cy="5261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3564000" y="1844640"/>
            <a:ext cx="525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可是，库伯是有钱人，我们家穷呀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！</a:t>
            </a:r>
            <a:r>
              <a:rPr b="0" lang="zh-CN" sz="4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xt16"/>
          <p:cNvPicPr/>
          <p:nvPr/>
        </p:nvPicPr>
        <p:blipFill>
          <a:blip r:embed="rId1"/>
          <a:stretch/>
        </p:blipFill>
        <p:spPr>
          <a:xfrm>
            <a:off x="0" y="526572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84360" y="1773360"/>
            <a:ext cx="784836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个人只要活得诚实，有信用，就等于有了一大笔财富。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0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位普通的母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Xing2"/>
          <p:cNvPicPr/>
          <p:nvPr/>
        </p:nvPicPr>
        <p:blipFill>
          <a:blip r:embed="rId2"/>
          <a:stretch/>
        </p:blipFill>
        <p:spPr>
          <a:xfrm>
            <a:off x="4572000" y="152280"/>
            <a:ext cx="816120" cy="816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Xing2"/>
          <p:cNvPicPr/>
          <p:nvPr/>
        </p:nvPicPr>
        <p:blipFill>
          <a:blip r:embed="rId3"/>
          <a:stretch/>
        </p:blipFill>
        <p:spPr>
          <a:xfrm>
            <a:off x="6084720" y="18900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Xing2"/>
          <p:cNvPicPr/>
          <p:nvPr/>
        </p:nvPicPr>
        <p:blipFill>
          <a:blip r:embed="rId4"/>
          <a:stretch/>
        </p:blipFill>
        <p:spPr>
          <a:xfrm>
            <a:off x="2340000" y="18900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Xing2"/>
          <p:cNvPicPr/>
          <p:nvPr/>
        </p:nvPicPr>
        <p:blipFill>
          <a:blip r:embed="rId5"/>
          <a:stretch/>
        </p:blipFill>
        <p:spPr>
          <a:xfrm>
            <a:off x="3276720" y="26028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Xing2"/>
          <p:cNvPicPr/>
          <p:nvPr/>
        </p:nvPicPr>
        <p:blipFill>
          <a:blip r:embed="rId6"/>
          <a:stretch/>
        </p:blipFill>
        <p:spPr>
          <a:xfrm>
            <a:off x="611280" y="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Xing2"/>
          <p:cNvPicPr/>
          <p:nvPr/>
        </p:nvPicPr>
        <p:blipFill>
          <a:blip r:embed="rId7"/>
          <a:stretch/>
        </p:blipFill>
        <p:spPr>
          <a:xfrm>
            <a:off x="7740720" y="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Xing2"/>
          <p:cNvPicPr/>
          <p:nvPr/>
        </p:nvPicPr>
        <p:blipFill>
          <a:blip r:embed="rId8"/>
          <a:stretch/>
        </p:blipFill>
        <p:spPr>
          <a:xfrm>
            <a:off x="2556000" y="40464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Xing2"/>
          <p:cNvPicPr/>
          <p:nvPr/>
        </p:nvPicPr>
        <p:blipFill>
          <a:blip r:embed="rId9"/>
          <a:stretch/>
        </p:blipFill>
        <p:spPr>
          <a:xfrm>
            <a:off x="5508720" y="76500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Xing2"/>
          <p:cNvPicPr/>
          <p:nvPr/>
        </p:nvPicPr>
        <p:blipFill>
          <a:blip r:embed="rId10"/>
          <a:stretch/>
        </p:blipFill>
        <p:spPr>
          <a:xfrm>
            <a:off x="395280" y="69228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Xing2"/>
          <p:cNvPicPr/>
          <p:nvPr/>
        </p:nvPicPr>
        <p:blipFill>
          <a:blip r:embed="rId11"/>
          <a:stretch/>
        </p:blipFill>
        <p:spPr>
          <a:xfrm>
            <a:off x="1619280" y="1052640"/>
            <a:ext cx="8161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而父亲最终是怎么做的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09480" y="19051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父亲把车还给了库伯。虽然，别人不知道这事，父亲有将车据为己有的很好的机会，但“诚实、有信用”的做人原则又不允许把车留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xt16"/>
          <p:cNvPicPr/>
          <p:nvPr/>
        </p:nvPicPr>
        <p:blipFill>
          <a:blip r:embed="rId1"/>
          <a:stretch/>
        </p:blipFill>
        <p:spPr>
          <a:xfrm>
            <a:off x="0" y="526572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179280" y="119700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个人只要活得诚实，有信用，就等于有了一大笔财富。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</a:t>
            </a:r>
            <a:br>
              <a:rPr sz="36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Xing2"/>
          <p:cNvPicPr/>
          <p:nvPr/>
        </p:nvPicPr>
        <p:blipFill>
          <a:blip r:embed="rId2"/>
          <a:stretch/>
        </p:blipFill>
        <p:spPr>
          <a:xfrm>
            <a:off x="4572000" y="152280"/>
            <a:ext cx="816120" cy="816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Xing2"/>
          <p:cNvPicPr/>
          <p:nvPr/>
        </p:nvPicPr>
        <p:blipFill>
          <a:blip r:embed="rId3"/>
          <a:stretch/>
        </p:blipFill>
        <p:spPr>
          <a:xfrm>
            <a:off x="6084720" y="18900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Xing2"/>
          <p:cNvPicPr/>
          <p:nvPr/>
        </p:nvPicPr>
        <p:blipFill>
          <a:blip r:embed="rId4"/>
          <a:stretch/>
        </p:blipFill>
        <p:spPr>
          <a:xfrm>
            <a:off x="2340000" y="18900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Xing2"/>
          <p:cNvPicPr/>
          <p:nvPr/>
        </p:nvPicPr>
        <p:blipFill>
          <a:blip r:embed="rId5"/>
          <a:stretch/>
        </p:blipFill>
        <p:spPr>
          <a:xfrm>
            <a:off x="3276720" y="26028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Xing2"/>
          <p:cNvPicPr/>
          <p:nvPr/>
        </p:nvPicPr>
        <p:blipFill>
          <a:blip r:embed="rId6"/>
          <a:stretch/>
        </p:blipFill>
        <p:spPr>
          <a:xfrm>
            <a:off x="611280" y="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Xing2"/>
          <p:cNvPicPr/>
          <p:nvPr/>
        </p:nvPicPr>
        <p:blipFill>
          <a:blip r:embed="rId7"/>
          <a:stretch/>
        </p:blipFill>
        <p:spPr>
          <a:xfrm>
            <a:off x="7740720" y="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Xing2"/>
          <p:cNvPicPr/>
          <p:nvPr/>
        </p:nvPicPr>
        <p:blipFill>
          <a:blip r:embed="rId8"/>
          <a:stretch/>
        </p:blipFill>
        <p:spPr>
          <a:xfrm>
            <a:off x="2556000" y="40464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Xing2"/>
          <p:cNvPicPr/>
          <p:nvPr/>
        </p:nvPicPr>
        <p:blipFill>
          <a:blip r:embed="rId9"/>
          <a:stretch/>
        </p:blipFill>
        <p:spPr>
          <a:xfrm>
            <a:off x="5508720" y="765000"/>
            <a:ext cx="815760" cy="816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Xing2"/>
          <p:cNvPicPr/>
          <p:nvPr/>
        </p:nvPicPr>
        <p:blipFill>
          <a:blip r:embed="rId10"/>
          <a:stretch/>
        </p:blipFill>
        <p:spPr>
          <a:xfrm>
            <a:off x="395280" y="69228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Xing2"/>
          <p:cNvPicPr/>
          <p:nvPr/>
        </p:nvPicPr>
        <p:blipFill>
          <a:blip r:embed="rId11"/>
          <a:stretch/>
        </p:blipFill>
        <p:spPr>
          <a:xfrm>
            <a:off x="1619280" y="1052640"/>
            <a:ext cx="816120" cy="8157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395280" y="141300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个人只要活得诚实，有信用，就等于有了一大笔财富。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</a:t>
            </a:r>
            <a:br>
              <a:rPr sz="36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19中彩那天插图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0"/>
            <a:ext cx="6095880" cy="5243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57200" y="53341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成年以后，回忆往事，我对母亲的教诲有了深刻的体会。是呀，中彩那天父亲打电话的时候，是我家最富有的时刻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6" descr=""/>
          <p:cNvPicPr/>
          <p:nvPr/>
        </p:nvPicPr>
        <p:blipFill>
          <a:blip r:embed="rId3"/>
          <a:stretch/>
        </p:blipFill>
        <p:spPr>
          <a:xfrm>
            <a:off x="5494320" y="3927600"/>
            <a:ext cx="33591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04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7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