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D92-75F6-4D29-983A-53FE6E94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0F7-F5ED-48CB-A83A-6B131C6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8EE-1CF8-4E08-ACF3-060E0171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AF5-CB0D-4D05-A8B6-51BE50D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756B-119D-4AAA-9CA8-6937D92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C05D-D2EC-49DD-A147-2EFC8999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7049-61DB-42AF-8011-CD3C95B5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74F8-0912-43AB-93FC-F4DF239A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995C-AA66-46D5-ACC2-391C8A40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2A14-84D0-4B16-8F1A-CEAC7869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C1F0-9769-44F1-B2B4-E9BA8EF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40C-C559-42DD-A4A2-E7566A5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340-B481-4816-8D69-463F66A4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862D-1EA1-4F20-9D25-65FE236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4FB5-25D4-4AC0-9059-68119CFF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5B3F-0E29-4289-99A4-7C3F48D2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B0EB-3D74-40DF-9BE9-DF01E755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170-7BF8-4318-8CB9-1B4F477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869-74D0-4B02-8FEA-0D96CDCC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131-8969-4D6C-9BB4-D7D0FEA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8AE-C4AA-4649-91C5-B1A51D24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81F-014B-420A-A8F4-CBF304E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5AB-A4B2-4DEE-8652-69634D87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DC8-9210-4D2C-87F2-D9AD0DAD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6C0-EC51-4BB2-B0AC-A8E786874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156-81F6-4949-BB20-0B4D40637C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2AE-0C52-4B04-967F-6757E02749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200951002414722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6" descr=""/>
          <p:cNvPicPr/>
          <p:nvPr/>
        </p:nvPicPr>
        <p:blipFill>
          <a:blip r:embed="rId2"/>
          <a:stretch/>
        </p:blipFill>
        <p:spPr>
          <a:xfrm>
            <a:off x="1554120" y="1031760"/>
            <a:ext cx="5981760" cy="7146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20098722283876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539640" y="1170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喜欢谁？喜欢他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B8F5-57E0-4941-8F5B-08CFEDAF1E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2009131033238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2268360" y="112536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Arial"/>
                <a:ea typeface="黑体"/>
              </a:rPr>
              <a:t>请珍视同学之间的友情，让友谊之树长青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7"/>
          <p:cNvSpPr/>
          <p:nvPr/>
        </p:nvSpPr>
        <p:spPr>
          <a:xfrm>
            <a:off x="2585880" y="3096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200811270205345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6"/>
          <p:cNvSpPr txBox="1"/>
          <p:nvPr/>
        </p:nvSpPr>
        <p:spPr>
          <a:xfrm>
            <a:off x="250920" y="0"/>
            <a:ext cx="1657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想一想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620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课文讲了一件什么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0" y="2997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是按（       ）顺序写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24000" y="11970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文讲了“我”和克莱谛因为本子被弄脏而发生争吵，最后和好如初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916360" y="2997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事情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357336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起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403280" y="3573360"/>
            <a:ext cx="77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87280" y="364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克莱谛不小心弄脏了“我”的本子，“我”想报复他，也故意弄脏他的本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494172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经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187280" y="494172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克莱谛主动与“我”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0" y="573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258920" y="57340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父亲严厉批评“我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2009640193623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900000" y="549360"/>
            <a:ext cx="45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下列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1905120"/>
            <a:ext cx="8748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争吵       嫉 妒     伸缩       服侍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缘故     原谅     瞟一眼     防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00000" y="1484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0360" y="141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í    d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64000" y="1413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667640" y="14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2565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916360" y="256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202280" y="25653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524720" y="2565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2010126044233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0" y="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下列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90512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争吵       嫉 妒     伸缩       服侍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缘故     原谅     瞟一眼     防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20099122455917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324000" y="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描写“我”内心活动的段落找出来，体会一下“我”是一个怎样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979640" y="119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是非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332000" y="184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胆子小、爱面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3577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克莱谛又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619280" y="4221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胸怀广阔、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763640" y="2565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知错能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200941301219490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143000" y="730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吵架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”的心里是怎么想的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38080" y="31240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为吵架而感到不安和后悔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但是又没有勇气去承认错误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1044720" y="465300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009810024318496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304920" y="1111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克莱谛又是怎么做的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90720" y="31240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莱谛用自己的友善化解了双方的矛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”两个人又重归于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200952401933289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403280" y="907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文有几处出现父亲的话？画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258920" y="2852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”在哪方面做到了父亲的要求，哪方面没做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2009523035419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9144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父亲知道这件事情后</a:t>
            </a:r>
            <a:r>
              <a:rPr b="1" lang="en-US" sz="3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是怎么做的呢</a:t>
            </a:r>
            <a:r>
              <a:rPr b="1" lang="en-US" sz="3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14130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父亲把脸一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然你错了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应该第一个伸过手去请他原谅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不应该向一个比你高尚的朋友举起尺子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着从我手里夺过尺子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折成两段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墙角扔去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200"/>
          <p:cNvSpPr/>
          <p:nvPr/>
        </p:nvSpPr>
        <p:spPr>
          <a:xfrm>
            <a:off x="1908000" y="4581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1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7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