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AF4-CB4A-41E9-98D3-D8E99893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3D7-B1C2-4934-A460-F59674E4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3AA-BE1E-49CF-8D94-15A05E04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0B2-3CAD-4731-80A4-DA2631D9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57B4-7F74-4AA4-97BC-FEFEC9A5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9D71-A91B-4920-B330-83D6812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CA66-CB2D-4320-A7B2-7BDCA564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8808-EE65-4DC9-A051-22BE46A3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5752-CF7A-4058-8403-2A81AB6D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F8BF-6AB7-41FF-9E89-3D586BB0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EE52-23BC-4891-91D8-FE815C8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57A-D1CD-4D4C-8A17-A399A6A3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C466-4794-44B3-96A1-5EBEF79D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6884-10F0-489D-9D66-A0CA106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24E7-D37D-4775-B939-F72A2DBC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A98B-380A-47B2-9174-BD0DB2D8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618F-BEAD-4AE2-B43D-4487CE9E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817-B688-4E4C-BBF8-5550E787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F06-46C2-4860-BD94-589331BA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FEC-C347-4D3F-9564-1DFDEE83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19A-5930-4BCA-A2BF-4EB09231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7E3-A6CC-449C-A83F-69D4D479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B20-86A0-4977-9662-40DC9DD2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01B-B206-4141-BF45-E943308C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DECC-53C5-4A74-A5EE-EFBB80359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5D14-A23C-40A9-B0EC-D919EC484F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982B-F1CE-47E9-836F-1BD1A36E9C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539640" y="1270080"/>
            <a:ext cx="8064720" cy="16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中国国际救援队，真棒！课件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553967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mg209565639"/>
          <p:cNvPicPr/>
          <p:nvPr/>
        </p:nvPicPr>
        <p:blipFill>
          <a:blip r:embed="rId1"/>
          <a:stretch/>
        </p:blipFill>
        <p:spPr>
          <a:xfrm>
            <a:off x="468360" y="620640"/>
            <a:ext cx="8064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826920" y="2492280"/>
            <a:ext cx="7417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中国国际救援队，真棒！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5280" y="2637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是那名在废墟中挣扎了三天的小孩，你会对中国救援队说些什么？或者，你是小孩的亲人，又甚至你是目睹这一切的路人，你又会对中国救援队说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95280" y="1268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请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200"/>
          <p:cNvSpPr/>
          <p:nvPr/>
        </p:nvSpPr>
        <p:spPr>
          <a:xfrm>
            <a:off x="1979640" y="184464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55640" y="256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，阿尔及利亚群众在送别中国国际救援部队时，用一句话表达了发自他们内心的祝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····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132000" y="357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中国万岁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24000" y="476280"/>
            <a:ext cx="828036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场突如其来的灾难给印尼、斯里兰卡、泰国、印度，马尔代夫等国造成巨大的人员伤亡和财产损失。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为止的统计数据显示，印度洋大地震和海啸已经造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死亡，这可能是世界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年来死伤最惨重的海啸灾难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3789360"/>
            <a:ext cx="8425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印度洋海啸灾情前所未有地触动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香港市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他们踊跃为灾民捐款。港人这次赈灾捐款，除了打破香港有史以来的捐款纪录外，也创造了以单一城市及人均捐款计算的全球之冠。据了解，香港各界已筹得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港元的赈灾款项，平均每位香港市民捐款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港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502E-58B2-463A-B9A4-5113DCEFE7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95280" y="3429000"/>
            <a:ext cx="78487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欧洲国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德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官方救援款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欧元增加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，居世界之首。德国总理施罗德率先提议延缓甚至减免受灾国的债务，得到法英意的支持。德国还主张欧盟成员国同受灾国建立持久的伙伴关系，帮助它们重建。施罗德在中断圣诞休假赶回国后，号召民众把过新年的钱省下来捐给灾区。他说，即使小额捐款也同样重要和弥足珍贵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50920" y="836640"/>
            <a:ext cx="806616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印度洋大海啸，在欧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美国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起前所未有的震撼和人道救援总动员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中午，所有欧盟国家都为海啸罹难者举行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的默哀。美国总统布什也宣布，本周美国将降半旗，“为一场惨痛悲剧的死难者志哀”。灾难发生后，各种各样的赈灾计划陆续出台，如火如荼的募捐活动在欧美全面展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2268360" y="11970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1044P1T1D7958633F21DT20051009200720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s_l_043"/>
          <p:cNvPicPr/>
          <p:nvPr/>
        </p:nvPicPr>
        <p:blipFill>
          <a:blip r:embed="rId1"/>
          <a:stretch/>
        </p:blipFill>
        <p:spPr>
          <a:xfrm>
            <a:off x="108000" y="163440"/>
            <a:ext cx="89280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62864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异国他乡，一位非洲少年对中国人民非常友好。下面的课文讲的也是发生在中国人民和外国人民之间的事情。让我们默读下面的课文，想想课文讲了一件什么事，表达了怎样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9640" y="8510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阅读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79280" y="54936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文主要讲了一件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1484280"/>
            <a:ext cx="81374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地时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, 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生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,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成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迅速赶往灾区现场，展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,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后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63528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2133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尔及利亚北部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19640" y="2133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里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级地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547640" y="2781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千二百多人死亡，一万多人受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3284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国际救援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24000" y="39337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紧张的救援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24000" y="4508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满地完成了抢险救援任务，载誉返回中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177336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国国际救援队在到达阿尔及利亚之后具体表现如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请用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”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划出相关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526-algeria-clapsedhouse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xinsrc_ccc5f9522260413f8b2e71582288ed88"/>
          <p:cNvPicPr/>
          <p:nvPr/>
        </p:nvPicPr>
        <p:blipFill>
          <a:blip r:embed="rId1"/>
          <a:stretch/>
        </p:blipFill>
        <p:spPr>
          <a:xfrm>
            <a:off x="179280" y="476280"/>
            <a:ext cx="8569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xinsrc_9a138e699b8342a1a6b2f28d9dfea05e"/>
          <p:cNvPicPr/>
          <p:nvPr/>
        </p:nvPicPr>
        <p:blipFill>
          <a:blip r:embed="rId1"/>
          <a:stretch/>
        </p:blipFill>
        <p:spPr>
          <a:xfrm>
            <a:off x="250920" y="615960"/>
            <a:ext cx="8353440" cy="56214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8200"/>
          <p:cNvSpPr/>
          <p:nvPr/>
        </p:nvSpPr>
        <p:spPr>
          <a:xfrm>
            <a:off x="466560" y="64533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6:18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46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