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820-D83A-446A-A822-536BCC2B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2C5-C071-43F2-97F8-E55B32C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0A1-88D6-481E-9E1B-C4DF8168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A06-93B2-4234-9B7E-C3C3353A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29CA-FE52-414D-B4F3-D1BAF6A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B2C-833D-477C-B94E-5F6AE879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7E2-C204-45F3-A37F-300A27A9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7473-850E-4C7C-862A-6E59B1E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44D9-AAD5-48DD-8412-A4460483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8CD-B5CA-44C9-9F34-B1DB3F1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359-2FD2-416E-847A-20C648D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070-3D9B-427A-89E6-3705CA0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7C3-1038-4747-BA1B-B8A5378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E13-6B0D-4EA2-A671-A27F3F3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9F3-4AD8-4637-90B8-9DB98E4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8E5E-3E52-49B5-A6AA-A5E05804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3F6-5DDE-46EF-9696-144FB30F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771-D655-4F23-A2B8-4D208F5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053-60DA-4525-91E0-98D4008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C60-8D3E-4E5B-86ED-173D448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EA9-F4EC-4470-B6BA-8C81D37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036-66DF-496A-AD50-5FB4784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7AF-6518-452C-B50E-CE0E354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095-279D-49B5-8299-098B1AFD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D2A1-348D-4488-B7FF-A63F16BB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2F6-3ACA-42AF-AFAB-B4E2C2D983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D17-0D90-4B64-8AC8-9E3DDBE3E0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揠苗助长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829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揠苗助长语文课件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8028000" y="6021360"/>
            <a:ext cx="43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3C0-C2E2-46E0-9AAC-68A92F267D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807560" y="3573360"/>
            <a:ext cx="51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第二年，农夫又种下了禾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可是到头来，禾苗又全都死了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=4086263523,2950318769&amp;fm=0&amp;gp=34"/>
          <p:cNvPicPr/>
          <p:nvPr/>
        </p:nvPicPr>
        <p:blipFill>
          <a:blip r:embed="rId1"/>
          <a:stretch/>
        </p:blipFill>
        <p:spPr>
          <a:xfrm>
            <a:off x="4500720" y="1230480"/>
            <a:ext cx="2808000" cy="16538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/>
          <p:cNvSpPr/>
          <p:nvPr/>
        </p:nvSpPr>
        <p:spPr>
          <a:xfrm>
            <a:off x="250920" y="836640"/>
            <a:ext cx="3600360" cy="1512720"/>
          </a:xfrm>
          <a:prstGeom prst="wedgeRoundRectCallout">
            <a:avLst>
              <a:gd name="adj1" fmla="val -10138"/>
              <a:gd name="adj2" fmla="val 116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我也会写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8"/>
          <p:cNvSpPr/>
          <p:nvPr/>
        </p:nvSpPr>
        <p:spPr>
          <a:xfrm>
            <a:off x="5754600" y="84456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27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转来转去   自言自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55640" y="4149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巴望         焦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8520" y="544500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揠苗助长  筋疲力尽  寓言  喘气  枯死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房子"/>
          <p:cNvPicPr/>
          <p:nvPr/>
        </p:nvPicPr>
        <p:blipFill>
          <a:blip r:embed="rId1"/>
          <a:stretch/>
        </p:blipFill>
        <p:spPr>
          <a:xfrm>
            <a:off x="4140360" y="0"/>
            <a:ext cx="410508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9"/>
          <p:cNvSpPr/>
          <p:nvPr/>
        </p:nvSpPr>
        <p:spPr>
          <a:xfrm>
            <a:off x="324000" y="476280"/>
            <a:ext cx="3456000" cy="968400"/>
          </a:xfrm>
          <a:prstGeom prst="wedgeRoundRectCallout">
            <a:avLst>
              <a:gd name="adj1" fmla="val 65574"/>
              <a:gd name="adj2" fmla="val 109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词语宝宝回家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苹果"/>
          <p:cNvPicPr/>
          <p:nvPr/>
        </p:nvPicPr>
        <p:blipFill>
          <a:blip r:embed="rId2"/>
          <a:stretch/>
        </p:blipFill>
        <p:spPr>
          <a:xfrm>
            <a:off x="0" y="2708280"/>
            <a:ext cx="795240" cy="81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苹果"/>
          <p:cNvPicPr/>
          <p:nvPr/>
        </p:nvPicPr>
        <p:blipFill>
          <a:blip r:embed="rId3"/>
          <a:stretch/>
        </p:blipFill>
        <p:spPr>
          <a:xfrm>
            <a:off x="0" y="4076640"/>
            <a:ext cx="795240" cy="81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苹果"/>
          <p:cNvPicPr/>
          <p:nvPr/>
        </p:nvPicPr>
        <p:blipFill>
          <a:blip r:embed="rId4"/>
          <a:stretch/>
        </p:blipFill>
        <p:spPr>
          <a:xfrm>
            <a:off x="0" y="5516640"/>
            <a:ext cx="795240" cy="811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3"/>
          <p:cNvSpPr/>
          <p:nvPr/>
        </p:nvSpPr>
        <p:spPr>
          <a:xfrm>
            <a:off x="2896560" y="39528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ji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059280" y="378936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789440" y="522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93236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85800" y="5133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901440" y="508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24000" y="1773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他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巴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己田里的禾苗长得快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4000" y="2852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他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希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己田里的禾苗长得快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hinaps_net52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077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90560" y="1700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古时候有个人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他巴望自己田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的禾苗长得快些，天天到田边去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可是一天，两天，三天，禾苗好像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点儿也没有长高。他在田边焦急地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来转去，自言自语地说：“我得想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办法帮它们长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928520" y="76500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天天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到田边去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50920" y="21337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他在田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焦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转来转去，自言自语地说：“我得想个办法帮它长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400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可是一天，两天，三天，禾苗好像一点儿也没有长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hinaps_net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900000" y="2421000"/>
            <a:ext cx="7269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天，他终于想出了办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就急忙跑到田里，把禾苗一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棵往高里拔，从中午一直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到太阳落山，弄得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筋疲力尽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199"/>
          <p:cNvSpPr/>
          <p:nvPr/>
        </p:nvSpPr>
        <p:spPr>
          <a:xfrm>
            <a:off x="1908000" y="55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揠苗助长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0" y="126828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把禾苗一棵一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往高里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060213112510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900000" y="256536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他回到家里，一边喘气一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说：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今天可把我累坏了！力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总算没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白费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禾苗都长高了一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截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476360" y="328464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假如我是农夫的儿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会这样对父亲说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假如我是这个农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会这样长叹道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揠苗助长6"/>
          <p:cNvPicPr/>
          <p:nvPr/>
        </p:nvPicPr>
        <p:blipFill>
          <a:blip r:embed="rId1"/>
          <a:stretch/>
        </p:blipFill>
        <p:spPr>
          <a:xfrm>
            <a:off x="2268360" y="1146240"/>
            <a:ext cx="2880000" cy="1778040"/>
          </a:xfrm>
          <a:prstGeom prst="rect">
            <a:avLst/>
          </a:prstGeom>
          <a:ln w="0">
            <a:noFill/>
          </a:ln>
        </p:spPr>
      </p:pic>
      <p:pic>
        <p:nvPicPr>
          <p:cNvPr id="127" name="罗迷欧与朱丽叶.mp3" descr=""/>
          <p:cNvPicPr/>
          <p:nvPr/>
        </p:nvPicPr>
        <p:blipFill>
          <a:blip r:embed="rId2"/>
          <a:stretch/>
        </p:blipFill>
        <p:spPr>
          <a:xfrm>
            <a:off x="25092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4108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5:21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46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