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583-6FAF-4761-8643-2E68FD40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ED8-F869-44B8-8D2D-A9FDDCAA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F8F47-009F-4519-83A7-EC3FC7E7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8B727-AD78-4B44-B832-E2868EA9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DF806-5B26-41C5-8B8A-8A62AD82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4D077-C22F-4C82-8584-82C41BC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0F60-D44D-4E71-B829-73DF030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238E5-82DF-4695-978D-09C29F7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22DFD-B322-44ED-91B4-8CAAFE7D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E5779-0632-48E4-BB59-4C3685B5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9299B-334D-4364-A7B4-FD6473B2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88B86-7F11-4EE8-A169-6E46625C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36D-48FC-46AD-858D-3722AC6E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155FF-CFAA-4887-A6B3-A9697614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AA690-DCD8-4582-B27C-C011949E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0995A-4D38-4CEC-A51A-D7F16B4D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CCF8-797B-477A-801D-C7770D56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76AB4-5327-4621-ABB3-79229F4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07EA8-8BC5-4129-BAE5-F46C6F8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1F480-9B61-403E-BAB7-1023DDF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9141-7E82-42F5-A1E0-3E1950B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46816-DD85-4CED-A98D-7BA56DB2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39AA5-F5E6-4092-BA4C-0B5193DD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D2B-2504-41AD-824D-1B5BB56C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C88A4-A3ED-4B6C-BAE8-5C9FB730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9744-2694-4A9C-9C7E-00AA9AB2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C6920-AEE4-4F3C-B15C-070908BD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DA6A9-F56C-4E2B-A1E3-E8DF217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A7992-6F68-4CDC-9A41-794BA85D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F8C0-6A3B-4B8B-AE80-4A3BC39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65D49-C26E-43CB-9543-E2B892A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5F92-42D6-41BC-AF52-BC74883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50C71-AAC1-499F-8AB3-4C4660B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26E09-0B31-42BC-9F84-030C7CD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19E-537C-44E0-876F-BC3516D4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AC38-F1AE-4058-BC5D-1DD74115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49B04-672C-4984-960A-8ADD69F5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E04E-077D-451B-8BDA-3CC7947C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6A77F-C5BA-4D7E-B8A7-E1F4DBAB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6BD1F-788F-4029-8C25-568F7E7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A8EF2-EDD8-452A-8D8B-2C83166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1B5ED-E0B3-42E7-A84C-25EED7D7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52108-AADE-4F14-883C-8D73583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1F83B-10A1-4B4A-A107-6B817E3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10224-71A4-4C41-BF43-EA4D9B9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6220-A480-4F80-A4D0-00589FA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C5F37-7A7D-4E65-A012-BAF62E24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FB5A3-6383-4CC1-BD46-32B1056A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B4DAC-02A8-45FA-BE21-980C0419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535E1-1329-4011-8969-0B35BD76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0E2F8-D4F4-4729-B2A2-C6AD6A1E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EBA8D-1F5A-47A7-B650-9063E593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210DD-8094-4298-B6C4-E82CAD9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34D31-4C28-465A-9046-0E18EC95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58DE8-D192-4302-88CE-3DCCA013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3B430-7BE1-4CF4-A5E4-93DE027D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E9B-284E-43F1-8962-F4D5CF4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F35FD-7192-446A-AEBE-8D268A0E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898D1-6A24-4BAA-9FAA-E97B3A3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B0245-2A48-40BC-8E2B-58758F6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84AD0-0BB5-4F1F-B2FC-88E0FB3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B14D8-6227-4C1F-8E6F-5299C49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E8F57-2C70-40A1-9F49-079CA5EB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1CA1B-D74D-417A-997A-D14B5404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906C0-D983-42B7-A61A-CCEFCA89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53D27-170F-4D96-B852-33870C1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F0C51-4711-4E46-B0C2-259D693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941B-7CD8-4AFC-A6EC-8208ABA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B5807-18A7-4013-8FD8-9A846984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49262-74A8-46CC-A171-A0031E8F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4B9FE-1C40-4121-9C01-4FF4BB3A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B65AF-3FC7-400E-BE95-2AC98E8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A92D9-16D6-4788-9E0B-40E5987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D8DFD-B522-4FA3-90DF-3607D7D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02139-F516-40CB-8A4D-8AE6CD13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A1066-DA57-4939-9DA6-A22F4B8C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5D9F1-D952-4FE1-BB4E-4F4BFEA2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0BAF2-67FD-4DE0-AFB2-9F8E5604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0DD1-C74D-469E-B34E-5EC10B1F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55A5C-7156-4695-A44D-B147997F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458A6-2568-40AB-88C3-413BEF8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584A6-ED9A-4BE2-A882-CA0C1115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D4747-4C25-4ED0-9A50-93573C36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CF504-1B9C-42C9-A694-1EF90CF5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23177-64CA-4B3A-A13B-7BEAB96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575B1-C804-4BD4-AACD-6B65C37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0B877-590E-4473-9DDF-9E8D7E3D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134C4-9B86-40F3-8754-92A02BF9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82EA4-8AAA-4AEA-A6D9-A19B544C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CBC6-8B64-4E6B-AD92-07AB668F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B7C75-5F0C-4EDC-9F12-9C6F5E4B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6754-8DB2-4787-9BD3-78F5176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BAD-0C7C-4922-B6D4-E0C40F3F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11FA-7DB0-4670-8C47-5286E11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DC8-9BC6-47E5-86B0-083FBEF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86EC-D758-456C-B67F-88A3ABD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DE8-D94F-4EB0-9F99-57A68B9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7300-BB3C-42D7-8AD6-AEA55BB8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DCDE-11EB-419E-A7FD-6F6330BC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39A1-EA97-4AD0-9AE3-7CE323A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2874-B6AA-4A8C-B3D7-3768064A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37CA-46C2-434E-A988-9D179BB7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125E-14FE-4606-91E3-32C3586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8BD-A6D3-4669-A9AF-7E355DD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DA7E-7BC0-4BEB-8451-B74EA9A4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9BC5-D6E4-4951-A7F3-82F1CDC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971C-F736-4041-B951-671A789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BBCA-87A7-49F4-9EA6-5927630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9843-8561-4837-8FBC-CCDD3D9F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59BB-9A9C-4B76-9885-B627D80B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E2B8-853B-46C8-A84B-A31BF23F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A575-F3CF-445D-A261-A68DDFAB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3C77-C085-4D19-ACA7-BDEF3976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9ED5-1D48-48A0-A77B-C0F7F2E1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11B-1749-4310-9E66-8E9A8D4A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B7BB-7450-44A0-8F5F-F6917BE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7FAF-8750-4E75-ACAA-90D553A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2888-8EC8-4443-AE6D-75C232C2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33EB-41CD-406B-97E2-FC05B46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6C18-09B8-4FF1-9F55-BCB0E06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C084-1855-4F03-9AF2-C3B6D2DF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018C-C258-4A78-BEB6-688FEEF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7125-68EC-4B34-8E85-A02D8BE1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9956-D4E7-40F5-A308-8523D396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B1E9-01B2-4523-A314-F8485CC0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FCB-A946-4E52-A682-9808BB6D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B4EF-EDB6-4DC3-AC46-79CA9D6C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02C6-1B2A-4531-A753-0CA9F713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E993F-85E6-4059-9224-DB45C69F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258F-54FF-494E-B6C2-F52CECD3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2B51F-025B-4284-A9DF-EF17EDD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9AE26-98DF-445B-8FBC-8DF60C9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7CCAA-549E-41BB-8A0F-3EB2F8D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9C2C-73F2-4542-A775-7034B2C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25672-6423-4ADB-B459-8F520E6B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AD7D-08B6-4881-ABA4-752B50EF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44A-88CB-4045-8256-F2B1C2BB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35A2-2F4C-4F9B-BA0A-ED566147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A9A1-7D78-44E0-9B3A-D54F46BE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A4AA-BAE0-4DAB-ABDB-21525294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EEA82-7457-48F3-ACBF-0765E49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0F92E-EF77-4127-9A5A-EF044214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595F-323D-41F2-90A7-AC16C9C4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28742-40EE-4A52-941A-2C7C5170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1A66-02D6-481B-8E9F-842035A2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DAE1-4E89-4E3B-A2CD-AA11C40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4165-3123-4908-949F-F058FD50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365-7F4E-4408-8754-CB1F03F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DE1CF-B539-4540-915D-7387F1DB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426A-B74A-4AF2-9547-BB4FB5DF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2026-D176-4C1B-8E30-0F057169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ECFC-358D-444F-A0C2-811E4D35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DB3E-944B-4CBE-97C8-64C876D1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F325-0898-4850-9F55-D5FA1F79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29FC-B4B5-418C-B33B-99C8C158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5546-BD99-48DC-8A42-E4C807CF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830F6-C0CB-44AB-B6D9-9708D01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0D66-5303-4992-A9D2-686315E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B81-A91A-4ABB-A94B-B3701F5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ED8A-A9DA-43AD-9C4F-87401D7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E490-0A2C-4DCA-8E6D-A2E9156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86CE7-FC70-4A92-9217-825CABBC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7275-775C-4F78-A10C-10133FFA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3C90F-785F-462F-9011-4C55ADC5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19849-8BFA-45B7-A982-0CEC2C16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1C96-AC3E-4CE2-A08A-9A872369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98C0-49B2-4119-936B-97559345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96489-D3D7-4F37-BA63-9ABB65F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543F8-324B-48F6-B3F9-83A7F40C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C4B-DBBD-4F94-A15B-7E6B36A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4CF2-556B-404A-9A5C-851E352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607B8-3523-4F29-B5B1-A06EF7E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774E-8E21-4EE2-8F8D-C1B5BEB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4041A-2D6E-48F9-A781-326E5FA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2C041-9B67-44CD-8C95-FD31A6DF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455D-5FCF-4357-8002-43073097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C4F56-48AB-4BEB-8C2F-B954B647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2A614-7B10-4878-89C7-04934E91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2D54-161C-4F43-9E19-FC84D00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3C979-1095-4683-B716-7E457D68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490-BBD0-407B-988C-72F88C1D13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6576-8F89-4398-AE8B-AC671EDB943F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782-A894-411A-A105-FABB4ACD1710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987-665E-4899-B56C-AC77367AFA63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94D4-2D9F-4FEC-B93A-54EDD54E76E0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22C9-3BA9-4EC6-8983-DC505CC5C01B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3EF-6932-4A07-B3B4-14032C261F81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05E8-182C-45FA-A566-D063E1A4B9A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45E-0B6D-4896-9E6F-D0ABB75AB9F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81DB-681A-4D57-9AE5-59DB6D086B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3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7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6D9B-E3C8-40A8-ADE8-D5606EE2AE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AAC-74B9-48C8-8B7F-60221E05410B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2FF-BB75-44D9-9AA7-A17BDBF30EEB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21F5-A660-43D9-A938-34A6B344E730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8317-7ED1-48DE-B6D1-F6105AA14BA6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F4B5-DE06-4672-988C-EE3BD8BCE5B1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83,6,&#24187;&#28783;&#29255; 6" TargetMode="External"/><Relationship Id="rId2" Type="http://schemas.openxmlformats.org/officeDocument/2006/relationships/hyperlink" Target="271,7,&#24187;&#28783;&#29255; 7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图像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Text Box 3" descr=""/>
          <p:cNvPicPr/>
          <p:nvPr/>
        </p:nvPicPr>
        <p:blipFill>
          <a:blip r:embed="rId2"/>
          <a:stretch/>
        </p:blipFill>
        <p:spPr>
          <a:xfrm>
            <a:off x="254160" y="1447920"/>
            <a:ext cx="8327880" cy="701640"/>
          </a:xfrm>
          <a:prstGeom prst="rect">
            <a:avLst/>
          </a:prstGeom>
          <a:ln w="0">
            <a:noFill/>
          </a:ln>
        </p:spPr>
      </p:pic>
      <p:sp>
        <p:nvSpPr>
          <p:cNvPr id="6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380880" y="1981080"/>
            <a:ext cx="7848720" cy="33858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平洋绿龟名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地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幼龟体重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幼龟长大后的体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巢时间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巢目的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临的危险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981080" y="5410080"/>
            <a:ext cx="4246560" cy="173988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嘲鸫  海鸥  鲣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1157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1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162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，一只幼龟把头探出巢穴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        ，似乎在侦察外面是否安全。正当幼龟        时，一只嘲鸫突然飞来，它用尖嘴啄幼龟的头，企图把它拉到沙滩上去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3124080" y="99072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欲出又止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819520" y="1066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欲出又止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2057400" y="2590920"/>
            <a:ext cx="30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踌躇不前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2057400" y="259092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踌躇不前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向导却若无其事地答道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叼就叼去吧，自然之道，就是这样的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762120" y="4267080"/>
            <a:ext cx="329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901800" y="3357720"/>
            <a:ext cx="64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893520" y="1447920"/>
            <a:ext cx="611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向导这样说是因为向导认为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____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4"/>
          <p:cNvSpPr/>
          <p:nvPr/>
        </p:nvSpPr>
        <p:spPr>
          <a:xfrm>
            <a:off x="0" y="89856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0" y="17524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向导极不情愿地抱起那只小龟，朝大海走去。那只嘲鸫眼见到手的美食丢掉，只好颓丧地飞走了。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们干了一件愚不可及的蠢事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762120" y="4267080"/>
            <a:ext cx="329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们干了一件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愚不可及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的蠢事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762120" y="4267080"/>
            <a:ext cx="329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6858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533520" y="320040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-304920" y="380880"/>
            <a:ext cx="30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1785600" y="1600200"/>
            <a:ext cx="55299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向导抱走幼龟不久，成群的幼龟从巢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那只先出来的幼龟，原来是龟群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察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一旦遇到危险，便会返回龟巢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那只幼龟被向导引向大海，巢中的幼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得到错误信息，以为外面很安全，于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地         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10"/>
          <p:cNvSpPr/>
          <p:nvPr/>
        </p:nvSpPr>
        <p:spPr>
          <a:xfrm>
            <a:off x="411120" y="2081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鱼贯而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11"/>
          <p:cNvSpPr/>
          <p:nvPr/>
        </p:nvSpPr>
        <p:spPr>
          <a:xfrm>
            <a:off x="411120" y="5105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争先恐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12"/>
          <p:cNvSpPr/>
          <p:nvPr/>
        </p:nvSpPr>
        <p:spPr>
          <a:xfrm>
            <a:off x="2925720" y="5105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结伴而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4"/>
          <p:cNvSpPr/>
          <p:nvPr/>
        </p:nvSpPr>
        <p:spPr>
          <a:xfrm>
            <a:off x="304920" y="105084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1173600" y="1066680"/>
            <a:ext cx="609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是万物之灵。然而，当人自作聪明时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一切都可能走向反面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伯罗蒙赛尔（美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1616760" y="1176480"/>
            <a:ext cx="568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是多么可怕的后果啊，当你想到这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后果的时候，你想说什么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我想说 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042920" y="620640"/>
            <a:ext cx="708048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只有遵循自然规律，</a:t>
            </a:r>
            <a:r>
              <a:rPr b="1" lang="zh-CN" sz="60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大自然才不会受到伤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们干了一件愚不可及的蠢事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762120" y="4267080"/>
            <a:ext cx="329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9F69-34C0-446A-B77D-87A32828E9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1" name="图片 9" descr=""/>
          <p:cNvPicPr/>
          <p:nvPr/>
        </p:nvPicPr>
        <p:blipFill>
          <a:blip r:embed="rId16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4" name="Picture 10" descr="png-0644"/>
          <p:cNvPicPr/>
          <p:nvPr/>
        </p:nvPicPr>
        <p:blipFill>
          <a:blip r:embed="rId17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1" descr="png-0652"/>
          <p:cNvPicPr/>
          <p:nvPr/>
        </p:nvPicPr>
        <p:blipFill>
          <a:blip r:embed="rId18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76320" y="-11064600"/>
            <a:ext cx="152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144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0" y="762120"/>
            <a:ext cx="883908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自学要求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结合课文内容思考课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之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读准字音，读通句子，难读的句子多读几遍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想想课文出现了哪些对象，他们之间发生了一件什么事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76320" y="-110646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 txBox="1"/>
          <p:nvPr/>
        </p:nvSpPr>
        <p:spPr>
          <a:xfrm rot="10800000">
            <a:off x="0" y="38016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1290600" y="2162160"/>
            <a:ext cx="66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道：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道路  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道理，规律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道家，道教。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说  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量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AutoShape 12">
            <a:hlinkClick r:id="" action="ppaction://hlinkshowjump?jump=previousslide"/>
          </p:cNvPr>
          <p:cNvSpPr/>
          <p:nvPr/>
        </p:nvSpPr>
        <p:spPr>
          <a:xfrm>
            <a:off x="8381880" y="6119640"/>
            <a:ext cx="762120" cy="738360"/>
          </a:xfrm>
          <a:custGeom>
            <a:avLst/>
            <a:gdLst>
              <a:gd name="textAreaLeft" fmla="*/ 47880 w 762120"/>
              <a:gd name="textAreaRight" fmla="*/ 714600 w 7621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2295" h="21600">
                <a:moveTo>
                  <a:pt x="0" y="0"/>
                </a:moveTo>
                <a:lnTo>
                  <a:pt x="22295" y="0"/>
                </a:lnTo>
                <a:lnTo>
                  <a:pt x="22295" y="21600"/>
                </a:lnTo>
                <a:lnTo>
                  <a:pt x="0" y="21600"/>
                </a:lnTo>
                <a:close/>
              </a:path>
              <a:path fill="lightenLess" w="22295" h="21600">
                <a:moveTo>
                  <a:pt x="0" y="0"/>
                </a:moveTo>
                <a:lnTo>
                  <a:pt x="22295" y="0"/>
                </a:lnTo>
                <a:lnTo>
                  <a:pt x="20895" y="1400"/>
                </a:lnTo>
                <a:lnTo>
                  <a:pt x="1400" y="1400"/>
                </a:lnTo>
                <a:close/>
              </a:path>
              <a:path fill="darken" w="22295" h="21600">
                <a:moveTo>
                  <a:pt x="22295" y="0"/>
                </a:moveTo>
                <a:lnTo>
                  <a:pt x="22295" y="21600"/>
                </a:lnTo>
                <a:lnTo>
                  <a:pt x="20895" y="20200"/>
                </a:lnTo>
                <a:lnTo>
                  <a:pt x="20895" y="1400"/>
                </a:lnTo>
                <a:close/>
              </a:path>
              <a:path fill="darkenLess" w="22295" h="21600">
                <a:moveTo>
                  <a:pt x="2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95" y="20200"/>
                </a:lnTo>
                <a:close/>
              </a:path>
              <a:path fill="lighten" w="2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95" h="21600">
                <a:moveTo>
                  <a:pt x="4141" y="10800"/>
                </a:moveTo>
                <a:lnTo>
                  <a:pt x="18154" y="3794"/>
                </a:lnTo>
                <a:lnTo>
                  <a:pt x="1815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4"/>
          <p:cNvSpPr/>
          <p:nvPr/>
        </p:nvSpPr>
        <p:spPr>
          <a:xfrm>
            <a:off x="9748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0" y="19810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巢穴      侦察      颓丧      蠢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欲出又止  踌躇不前   响彻云霄  气喘吁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若无其事  见死不救  愚不可及 鱼贯而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0" y="464832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672120" y="3733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嘲鸫   海鸥    鲣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742320" y="2286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太平洋绿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1033560" y="1066680"/>
            <a:ext cx="62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    七个同伴    生物学家向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6177960" y="3697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（食肉鸟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876040" y="5334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加拉巴哥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8" name="Picture 3" descr="40934_12496383214A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5" descr="TXT-200833234915630"/>
          <p:cNvPicPr/>
          <p:nvPr/>
        </p:nvPicPr>
        <p:blipFill>
          <a:blip r:embed="rId1"/>
          <a:stretch/>
        </p:blipFill>
        <p:spPr>
          <a:xfrm>
            <a:off x="457200" y="-71280"/>
            <a:ext cx="746748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3" descr="Tortuga%20Island_03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4:12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8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