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887-8CE5-4DB7-ADBA-71A50BAD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A34-7178-4A27-8C55-38D9CC49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D6C-1E96-48A8-B8BE-A28B115C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1D8-8DD7-42A3-938C-E7DDC707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E85D-402A-4E7B-8DDB-BCC4DF6A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9EAE-1A18-404E-8790-6E463AF2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7EB0-E422-4F0C-A94B-04CDA82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E6C8-573E-48EC-8F71-1B4275E2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552-F341-492E-88E3-49505941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232C-8F0F-4DBD-BAD3-2AD172E2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B4AB-8238-4749-B5C7-AF90C73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0D6-5F92-4BFE-890A-F9422D91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E221-82C6-48A6-A9D3-F539E19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3B0A-F903-439C-B7A6-2D8FE1F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6523-7EE1-487B-9F3F-0E74B970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E707-C626-4C6B-914F-0A572A45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EB0C-4781-4A90-A6E5-ABBA166A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6CE-F903-480A-8EFC-4F73ED5F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B73-1B9B-4BAF-B182-1645269F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279-B707-4D27-B87D-C53F053C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DC3-07A0-48D3-86FF-CAAFC519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D51-1C21-4ADA-B0AB-8F14408A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3D5-D49D-462E-96B9-E42A6E6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720-4F6C-42E3-8498-EA4F8D08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1332-1CFD-44E7-848D-AD82991C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6A85-7DF1-4631-9F62-CEC4B783036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01AD-A1F9-4170-8CA7-11AB4A7DEC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D:\资源库\五年级\第七单元\25.珍珠鸟\《珍珠鸟》插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258920" y="549360"/>
            <a:ext cx="702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珍珠鸟语文课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71840" y="272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形容词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49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57800" y="9586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事物的形状、性质、状态等的词叫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356200" y="1873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下列句子中的形容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189960" y="2505240"/>
            <a:ext cx="301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样，它完全放心了，索性用那涂了蜡似的、角质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红嘴，“嗒嗒”啄着我颤动的笔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79080" y="37242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 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45600" y="4387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请找出第七自然段的所有形容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图象 1 in 珍珠鸟 副本.jpg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3048120" y="5335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000080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1" lang="en-US" sz="2800" spc="1" strike="noStrike">
              <a:ln cap="sq" w="12600">
                <a:solidFill>
                  <a:srgbClr val="000080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04000" y="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99"/>
                </a:solidFill>
                <a:latin typeface="Times New Roman"/>
              </a:rPr>
              <a:t>问题研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02480" y="2971800"/>
            <a:ext cx="49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为什么文章在开始部分用单独一段强调珍珠鸟“是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怕人的鸟”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890000" y="1143000"/>
            <a:ext cx="559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朗读课文，画出文中交代“我”的举动的语句。说说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”的努力下，“我”和珍珠鸟之间的信赖关系是怎样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建立起来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039920" y="4410000"/>
            <a:ext cx="12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作者在对小鸟神态、动作的描写之中融入了自己的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爱之情。请从文章中选择一两个例子，加以分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5800" y="18572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珍珠鸟在“我”的照料与呵护下发生了哪些变化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5800" y="3533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作者写这篇文章想告诉我们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62120" y="5335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读后想一想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C:\Program Files\Common Files\Microsoft Shared\Clipart\themes1\Lines\BD21427_.GIF"/>
          <p:cNvPicPr/>
          <p:nvPr/>
        </p:nvPicPr>
        <p:blipFill>
          <a:blip r:embed="rId1"/>
          <a:stretch/>
        </p:blipFill>
        <p:spPr>
          <a:xfrm>
            <a:off x="990720" y="5291280"/>
            <a:ext cx="7391160" cy="8222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762120" y="3284640"/>
            <a:ext cx="231444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信赖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8" name="Picture 4" descr="D:\资源库\五年级\第七单元\25.珍珠鸟\金山珍珠.gif"/>
          <p:cNvPicPr/>
          <p:nvPr/>
        </p:nvPicPr>
        <p:blipFill>
          <a:blip r:embed="rId3"/>
          <a:stretch/>
        </p:blipFill>
        <p:spPr>
          <a:xfrm>
            <a:off x="2805120" y="0"/>
            <a:ext cx="6338880" cy="449280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685800" y="15318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信赖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838080" y="4884840"/>
            <a:ext cx="800100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往往创造出美好的境界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685800" y="24462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信赖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1676520"/>
            <a:ext cx="88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信赖，往往创造出美好的境界。”在你看来，为了在人与自然、人与人之间创造这种境界，我们应该做些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12760" y="32076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99"/>
                </a:solidFill>
                <a:latin typeface="Times New Roman"/>
              </a:rPr>
              <a:t>课外扩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808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86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86960" y="3038400"/>
            <a:ext cx="407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作者将自己对珍珠鸟的喜爱之情融注在对珍珠鸟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写之中，把 人的灵性赋予无知的小鸟。请仿照这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式写一个状物的片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02000" y="-141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3399"/>
                </a:solidFill>
                <a:latin typeface="Times New Roman"/>
                <a:ea typeface="隶书"/>
              </a:rPr>
              <a:t>汉语知识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46560" y="609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名词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94000" y="1219320"/>
            <a:ext cx="282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人或事物（包括具体事物、抽象事物、时间、处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位等）的名称的词叫名词。如人、书本、语文、数学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表示具体事物；科学、理想、见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表示抽象事物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、星期日、早上、去年等是表示时间的，外面、里头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方、上面等是表示处所的，东、西、前、后、中间等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方位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135440" y="38862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找出下列句子中的名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591560" y="4495680"/>
            <a:ext cx="535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真好！朋友送我一对珍珠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三个月后，那一团越发茂盛的绿蔓里边，发出一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尖细又娇嫩的鸣叫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333080" y="571500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名词：朋友    你   里边   珍珠鸟     月    绿蔓     鸣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507760" y="6172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找出第三自然段的所有名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文本框 8197"/>
          <p:cNvSpPr/>
          <p:nvPr/>
        </p:nvSpPr>
        <p:spPr>
          <a:xfrm>
            <a:off x="2484360" y="692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50520" y="196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978560" y="95868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动作行为、发展变化、心理活动、可能意愿等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词叫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86840" y="2178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找出下列句子里的动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205160" y="2809800"/>
            <a:ext cx="78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很少扒开叶蔓瞧它们，它们便渐渐敢伸出小脑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瞅瞅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渐渐它胆子大了，就落在我的书桌上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046160" y="448632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：扒开     瞧     伸出    瞅瞅   敢   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184040" y="51498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请找出第八自然段所有动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F7E5-C15F-4A2A-9496-B65E6392E4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09:20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4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