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chimes.wav" ContentType="audio/x-wav"/>
  <Override PartName="/ppt/media/image7.png" ContentType="image/png"/>
  <Override PartName="/ppt/media/projctor.wav" ContentType="audio/x-wav"/>
  <Override PartName="/ppt/media/drumroll.wav" ContentType="audio/x-wav"/>
  <Override PartName="/ppt/media/applause.wav" ContentType="audio/x-wav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93A-BEAF-489B-8F5F-652D8DE1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D28-E8B3-41F7-92FD-04214B4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4EE98-15A4-4A7A-B307-5EF2D76E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D33DB-3BF5-42F8-8C8F-098E1D03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182C8-F84E-44BF-9B1A-C0CD0DC7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A1DC6-2F25-4F92-9636-A1580D6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2A9F0-D709-4EA7-91EF-EE2CEAB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545DC-C6BA-4BD1-92C6-1637F557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B581A-6ABA-4C56-9833-EEA28F72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C14B-8205-4A16-8130-7C4B96B9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FA693-9E78-4804-B9A8-DB72B8D4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63C80-F3E5-4F58-8796-0C26CDB6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602-6D5F-4941-8442-67328B28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9F6C3-B82A-4716-AE02-B82EE44D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F7729-D4A4-4F26-9659-41D842D3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EAEF7-B2A2-431C-891A-50FEA39F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B3CAC-F803-4C42-B0AE-92C885DA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E3131-7AD4-4F5A-81C0-5CCED1D1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95318-73D1-434C-A7BD-3A7D0790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3AC7C-94DA-4B8B-B039-4BCE363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12631-65CC-4AD2-BEA5-23F9A235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30708-733D-4C2C-AAAE-E18F464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6B13A-5FDC-4FA9-AB34-BFEACD69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C2D-C5E2-494E-81FD-7B2ACE91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23638-70F4-4A7B-BF23-63895367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CC01E-CA5C-4B29-9DF3-88A80EC5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1C727-3D55-44DE-8CF8-838A2420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7A6CB-531E-4DB4-9F46-8E49CDB8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96DB1-6AE7-40AF-8860-AE2746F3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6D17B-D6DC-4D64-9F61-A60D16BA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1C063-3223-46C1-B378-42688922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2E8CA-522E-4C5C-864D-84328BD7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83EA2-A149-41FA-B249-8E412D2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A7B79-0906-4937-A3B3-A4978BA9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3020-ADD1-4222-BC78-8125E0D6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E65CB-E2E7-4902-A452-D2ACEAF9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583C6-EBB8-4507-B843-79A966BC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D1DE8-63FD-476B-AAA0-AA03F0F8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A41C0-4766-4699-969F-57A41183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72C58-DC13-478A-BAB5-C119CC9F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BF19D-2D2B-4A14-A92D-98C9B8D1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D6076-F0FE-4CB9-8E2E-8F7A1AD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93D1B-8731-4C8F-8C17-C09A29B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D820A-F735-43AD-94C1-9739D518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EC615-FF57-428E-8207-1EE001B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A746-82C3-4A68-89B6-7F62A53D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6DCB4-FF9E-4E4B-B5C6-BF4C9537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EFEF3-79AE-4100-99A2-8E4608A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42718-261B-4946-80C7-ABD1D5B2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C9CEB-E5A9-40A9-B15A-27A6787B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CCEFF-0724-4F7F-914C-607951D1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B573E-6671-43BF-AB4E-9352FECF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B6BED-E39B-47B3-A305-6F41E2C1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3356C-BD97-4EB1-B405-6ACCD6F1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0BEC6-3E4D-4130-893E-61492D5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04C0B-509C-4B6F-B9C1-3DD25DDE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FA2-E7CA-410E-BB0D-D1DD7ED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A2F98-BDBF-4396-AE52-DA8697E6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C66EF-6EDA-46CC-BF2F-787CDDD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23E7C-3B22-4168-AC88-E89EFBE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C8C63-8324-435B-B763-61FE559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6B680-941E-4592-91F1-989D6C8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5BC08-8236-45D7-8DE1-A7C53966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F00AE-1F67-4D2D-AFA1-4A72B78B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EBF2-87A3-4D55-864E-06D79FCA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92D3-DF2F-4CD7-80FC-CAF12FC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72F-01DD-4AF3-9ABB-24E4F5F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8191-E578-40B7-A9A0-BB2F31D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361-7775-4FC7-AF8F-0FF480CD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9C7A-35AD-43AD-A212-95089AC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5070-03AC-4FBA-B212-EA782879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104E-A1A4-4123-9BFB-B17773FC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EE6A-F324-4EAC-9847-A49A28AC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B3C7-30B8-4F41-A602-1DDC3DC7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ADC6-D6C0-472B-B2AC-A85B5518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3B5E-34B8-4C80-9CBA-A9AEEDA6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04F8-FF01-48DA-9D92-7BCDFDE0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4A40-D839-43CD-9E77-36D61803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8C48-23AD-41F9-ABD2-B909ABF1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4FE-6E9E-415C-ACAB-402490E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E12C-756D-4A84-9EF7-A3C0538E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3823-AE50-4D88-B07D-7C4E0E96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6846-296D-46A1-8304-15A07C9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9E43-2C9C-4E45-84D1-A2F25D8C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DEC2-BD97-4670-ABB4-227253F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F340-B2D7-4BB9-A993-DD140BEA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3D68-3F4A-4BAD-A234-9C75AA69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8885-55FC-49DF-BA65-F1B29FCC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FB28-BCDA-4279-B6C0-1F64074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F50C6-96A0-4BFD-8970-81280D99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9BB-7C9B-4FD6-955B-A908EE5B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9243-2D96-479B-833D-BAC2440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13C2-25B2-4D7E-A5F4-9C99C0A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DE44-5850-4B5C-A6AC-E5349D73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CAB2-0690-4701-936B-1B89E31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B181-9E83-44D5-83E0-1182BC8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38AA-FDBC-4616-8461-534445C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4960-EA9E-4558-B9A1-9A6673BF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02B7-5B27-477B-AECD-22771F68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5949A-DDCE-46D0-B1BA-82274CC5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093E-6026-4127-B5AC-B617C111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E71-1C00-4704-AAD8-8380C69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7E4F-DBA7-4653-BA44-AC3577D0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9288-06F9-4C8D-B94A-AD35AAF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0295-60FD-4C05-8B79-EC5A871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4CDD-41E7-4D26-B2D0-110EDFD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8C2CC-F159-452D-9526-A9EDE3A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A8815-3FE3-401E-9783-FA52204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4BA39-AE15-4DCD-BCAF-3D1F84E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1018E-97F1-4B95-8DFC-86D9C047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E9B6-CE0A-4AC2-9643-EC34D3A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784A-645B-4A26-B151-5AABD560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D51-77CC-47B5-8600-BF2F3C48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6C2C-018F-4F35-A0E3-369CE333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E753-F84F-4971-9E11-9B479A6E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1925-53AF-43F7-A67B-177EA06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A5E0-C0B3-4672-9E6A-AD0615D0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41AE-4120-4D76-AEEF-360057E2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02E0-5587-43BA-8AD2-BEFD8E76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F06C2-7DF5-47AF-B4D9-F8EA1DB4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CE2D-464C-4452-9F58-141D2B5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C8156-543F-4396-93A0-1B7BEAD6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B3C7-EEDB-4B48-B155-F4D9DD5E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24B-7F04-4517-8B7F-147E295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B1730-AF85-4597-AD34-651C6F0F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14ADE-C533-419C-9F98-C2199EBB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87D2-23BE-49F6-82B1-A81D8E34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9323-B7BD-4F3B-B667-9823A02D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C7B0F-C5C0-445C-8B6E-07EDA575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8D8A-EEEA-4FB9-9F29-54B9BFCB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3DA6C-74C4-4CBE-B3AF-9614B648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7427C-EE0B-4402-8D93-0CFB2AB5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BE272-F47F-410C-A817-6D54EC83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5E0A6-39BD-49E2-9850-B0EAA17B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D1D-D9CF-4B2D-B181-B20E90B0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DB8E2-2C98-44CE-B2EE-ACBE9F2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899A-1601-45E7-BEEE-96F86F00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FD52-1EA5-4D8D-8CC2-7C928AEC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134AB-1129-47D2-A41E-637FD6BC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F1582-C33F-45FE-AB87-897F1C0B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90F38-AC7C-42CA-BC4F-911879A8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29FD7-900D-43F7-B8D1-CB5145F1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DCF4-7A66-4DB9-8D81-2E1A57B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B1A45-BB9D-4B05-8FAC-9C183181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DF0DF-027A-48F4-9085-B7DCAA08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14D-1A2E-4DB9-ADD4-B1579392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9CA7B-82DE-43E2-8640-E3B5558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45B30-8B57-417E-9D17-3C52AF9F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D7BBB-748C-4D4B-9B52-1C7D0F83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76DC7-FD41-4B33-9EFD-EDFDFDD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C8825-2688-46BC-B597-417D7F22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8B3D-7FD2-4B01-88C4-15D3C37A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20BC2-C97E-4C36-8AC5-424A85DC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FDC9B-0582-44E5-9264-D72FDB5B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A9312-55A0-4504-9DBB-05E6350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E76C0-7853-40A7-A4A3-A918E3D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772B-30DD-4DB0-811C-BD8132604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351B-01AE-4492-8F4F-57C367F2D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551-AE6E-4B73-84E8-A331D0CE2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5AF-A3C1-4537-9898-9E7256036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9153-348A-4E12-8364-1B4A41E4443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DD1D-0A39-4095-9F69-65BC0DB6F03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942-04FE-4F69-A4A1-CB978F4BEE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10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33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0DAC-D1B5-4BC4-95C6-402C9785A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F326-512D-4E0B-9778-A30448BE4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14DC-8E4E-4973-A949-195592BD3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B00-B4CA-48B4-AC66-42A9B6A24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E773-BF9A-4DD4-B624-B22AB4074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3F0-4034-42D5-B5B3-1490BE221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31D-06EC-4D69-82CF-AADFAF70B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7"/>
          <p:cNvSpPr txBox="1"/>
          <p:nvPr/>
        </p:nvSpPr>
        <p:spPr>
          <a:xfrm>
            <a:off x="1763640" y="1496880"/>
            <a:ext cx="5791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ff0000"/>
                </a:solidFill>
                <a:latin typeface="宋体"/>
              </a:rPr>
              <a:t>珍珠泉</a:t>
            </a:r>
            <a:r>
              <a:rPr b="0" lang="en-US" sz="4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ff0000"/>
                </a:solidFill>
                <a:latin typeface="宋体"/>
              </a:rPr>
              <a:t>课件模板下载</a:t>
            </a:r>
            <a:endParaRPr b="0" lang="en-US" sz="40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45472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545472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3"/>
          <p:cNvSpPr/>
          <p:nvPr/>
        </p:nvSpPr>
        <p:spPr>
          <a:xfrm>
            <a:off x="76320" y="609480"/>
            <a:ext cx="906768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一、初读课文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自由朗读课文，要求读准字音，遇到生字拼读两遍，读通句子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93600" y="2590920"/>
            <a:ext cx="8839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二、细读课文，了解叙述顺序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默读课文，想想课文先讲什么，再讲什么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最后讲什么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80880" y="4746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作者描述的泉水是什么样子的？先在小组上说一说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4"/>
          <p:cNvSpPr/>
          <p:nvPr/>
        </p:nvSpPr>
        <p:spPr>
          <a:xfrm>
            <a:off x="2484360" y="28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3" name="Object 3" descr=""/>
          <p:cNvPicPr/>
          <p:nvPr/>
        </p:nvPicPr>
        <p:blipFill>
          <a:blip r:embed="rId1"/>
          <a:stretch/>
        </p:blipFill>
        <p:spPr>
          <a:xfrm>
            <a:off x="826920" y="963720"/>
            <a:ext cx="6553440" cy="46195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"/>
          <p:cNvSpPr/>
          <p:nvPr/>
        </p:nvSpPr>
        <p:spPr>
          <a:xfrm>
            <a:off x="7299000" y="380880"/>
            <a:ext cx="15210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珍珠泉</a:t>
            </a:r>
            <a:endParaRPr b="0" lang="en-US" sz="8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5" name="文本框 8200"/>
          <p:cNvSpPr/>
          <p:nvPr/>
        </p:nvSpPr>
        <p:spPr>
          <a:xfrm>
            <a:off x="1979640" y="580536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533520" y="914400"/>
            <a:ext cx="8076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三、精读课文，理解课文内容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小组合作选择学习自己喜欢的段落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采用自己喜欢的方式读课文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在小组上交流自己读懂了什么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不懂的地方提出来讨论，合作解决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0" y="2895480"/>
            <a:ext cx="93726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362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533520" y="160020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、珍珠泉水有什么特点？你是从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那句话中看出来的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533520" y="3657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、泉水是怎样从潭底冒出来的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304920" y="3808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45472"/>
                </a:solidFill>
                <a:latin typeface="Times New Roman"/>
              </a:rPr>
              <a:t>讨论：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09480" y="4724280"/>
            <a:ext cx="746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、这泉水为什么叫“珍珠泉”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文本框 8200"/>
          <p:cNvSpPr/>
          <p:nvPr/>
        </p:nvSpPr>
        <p:spPr>
          <a:xfrm>
            <a:off x="2266920" y="558972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45472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838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这就是美丽的珍珠，这就是我们村的珍珠泉！”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0" y="3505320"/>
            <a:ext cx="8229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、这句话在文中起什么作用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、表达了作者怎样的感情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0" y="685800"/>
            <a:ext cx="91440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巩固练习：填空，读一读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这是一潭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的泉水。水是那样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，绿得像是被周围的绿树、绿草染过的。水是那样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，又是那样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，清清得能看见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的清褐色的石头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水泡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的，射出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，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，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，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光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多像一串一串彩色的</a:t>
            </a: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[           ]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啊！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2971800" y="1371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深绿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7391520" y="1523880"/>
            <a:ext cx="761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7391520" y="1371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7467480" y="1447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绿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822960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深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1828800" y="2438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28600" y="33447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220968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闪亮闪亮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5715000" y="4038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586728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红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7924680" y="3581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黄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1066680" y="4114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绿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3124080" y="41148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紫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609480" y="457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珍珠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3" name="Text Box 23"/>
          <p:cNvSpPr/>
          <p:nvPr/>
        </p:nvSpPr>
        <p:spPr>
          <a:xfrm>
            <a:off x="5410080" y="2438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潭底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0DF-CA5E-4CDE-82CE-908F7DA18839}" type="slidenum">
              <a:rPr b="0" lang="zh-CN" sz="1400" spc="-1" strike="noStrike">
                <a:solidFill>
                  <a:srgbClr val="545472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d0d11"/>
                </a:solidFill>
                <a:latin typeface="Tahoma"/>
              </a:rPr>
              <a:t>（九）课堂延伸：建议阅读</a:t>
            </a:r>
            <a:r>
              <a:rPr b="1" lang="en-US" sz="4400" spc="-1" strike="noStrike">
                <a:solidFill>
                  <a:srgbClr val="0d0d11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0d0d11"/>
                </a:solidFill>
                <a:latin typeface="Tahoma"/>
              </a:rPr>
              <a:t>当代中国游记一百篇</a:t>
            </a:r>
            <a:r>
              <a:rPr b="1" lang="en-US" sz="4400" spc="-1" strike="noStrike">
                <a:solidFill>
                  <a:srgbClr val="0d0d11"/>
                </a:solidFill>
                <a:latin typeface="Tahoma"/>
              </a:rPr>
              <a:t>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380880" y="3809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45472"/>
                </a:solidFill>
                <a:latin typeface="Times New Roman"/>
                <a:ea typeface="方正舒体"/>
              </a:rPr>
              <a:t>    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方正舒体"/>
              </a:rPr>
              <a:t>谢谢各位家长的支持、合作！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2:53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6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