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type.wav" ContentType="audio/x-wav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click.wav" ContentType="audio/x-wav"/>
  <Override PartName="/ppt/media/image18.jpeg" ContentType="image/jpeg"/>
  <Override PartName="/ppt/media/image16.png" ContentType="image/png"/>
  <Override PartName="/ppt/media/image15.gif" ContentType="image/gif"/>
  <Override PartName="/ppt/media/image1.png" ContentType="image/png"/>
  <Override PartName="/ppt/media/hammer.wav" ContentType="audio/x-wav"/>
  <Override PartName="/ppt/media/image13.png" ContentType="image/png"/>
  <Override PartName="/ppt/media/image12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4FA-F11C-47F7-9BB8-0AF1B156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C88-BCA4-4227-8376-F5699E89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573-C688-43A2-8C84-0809B7F1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752-177A-45B2-8FAF-3B599BA3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B8BB-29C3-44E4-AF13-63AFF1F5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64AE-F1A6-4105-A34D-9AA7109A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9344-6003-4782-BBEA-D8B97C38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DA5C-3413-4EFC-B593-AB42CD3A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DF15-808C-4B1B-A401-E16F7BA2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6338-3CCE-4426-8553-FBB012AF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3C1D-53F7-4E2D-9272-4A75AFCE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0B1-F12A-4CFF-BC25-6F1D8415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415B-F987-4CF2-B8FA-159CEEFA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BDEA-ABDE-4B0A-AB90-926B0318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E689-679A-4175-A403-9DB58928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B456-9582-41C5-BD8A-8B09702C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4C64-2D9D-4FE2-B60F-FC10FABF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39F3-5910-4EAE-B668-4CCEF838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D592-A5BB-4C51-B01C-A107E7E4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8013-1DAA-4BFF-B525-85FE4355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6062-C463-4628-BF95-E7B19943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DBBC-B2B6-47A7-815B-9F38E569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AB0-695D-4C72-A5A5-2779724C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EC89-4D78-4B43-B6F1-4F13B42B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14222-203C-4A43-B144-CF8BD11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0343-B767-4D3B-AF68-E86B732C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CFFD-2355-4F3D-85E3-5DC56D17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EB35-064C-4C44-9A53-B3180545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60E0-867A-485F-98C5-35C0F3F5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BC0A-56A2-4B74-87BF-FE1CF46F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685A-4E3B-4361-97D2-A5355500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3E2C7-8AD8-42BF-864E-E489497D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A4B5-F865-4DC7-AA68-E6FDE84F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973-D2CB-4FE0-BE8E-AB5D3604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4418F-F2BD-4BE5-A323-51F5508B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E679-7FAB-48F7-8FC7-FD0109E9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F69E-3871-485C-9923-8D552AA9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BCF0-C8B3-4557-BB79-A46B6DB7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237E-CC4C-4C9C-B260-5F31748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EF6AB-65A9-4334-9D19-A1E5C7D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01CC-C023-48AE-A3FC-867124FD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6256-CEEB-41E0-8626-A56C90EF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A19F1-A62B-42AB-A460-7E51639D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02AC-8ED0-4DF7-99D7-67548D98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79C-63FC-4618-A920-13E95C5B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D94B1-13E6-48C9-8DF2-565C62CD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C4E6-E6D8-4E98-AF62-A1F532F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7A3A8-20B1-4356-9185-AF708C2B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DFD7-E8AE-4841-8CB7-E395B74D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9256-EED6-4899-BD17-939F969C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52564-9EFD-4ABA-94E8-1B7B80BA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68D9-6094-4C57-B992-FE6D9C7B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283A6-35DD-4B26-9DDD-E0D801F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56D55-A498-46E7-9058-2012559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3CEE-034C-42BB-ABE0-CA9D4412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9AA-20BB-4B7E-8904-D2D46A71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4A9C-3D03-4082-80F2-0804217A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F5B4E-FE06-44B8-B6E7-A1184A9C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5BB78-E68C-4ECC-8611-0CB895E1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67F6-FBF8-40F9-999E-F27A84FB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4FFC-AFB8-4458-BE05-C4FD8E0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62A6-65C9-4742-BA4A-213E1C0F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6D198-5339-4278-9AF0-4F952BB8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273F3-E5F1-4DE7-A594-2CDC3E94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81156-2C34-4EB1-B8FA-747FB25E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8B994-A3F9-4A6C-B314-3B4DFF3C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401-0063-4925-BFE3-C2635ED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C2DBD-750D-41B9-973C-5634FDA0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0B9AB-2CEA-464B-9FCF-497564E5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60006-86E1-4A71-B486-14A7BC2F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B3A-A7B6-4296-8B1F-168197FB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71D-9899-4A7A-B3CA-F40DFE08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Perpetu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5B44-F524-4F22-B57D-B68B0EF80175}" type="datetime">
              <a:rPr b="0" lang="zh-CN" sz="1400" spc="-1" strike="noStrike">
                <a:solidFill>
                  <a:srgbClr val="696464"/>
                </a:solidFill>
                <a:latin typeface="Perpetua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9A18-A265-46BE-8C4A-FBF60B2DFF83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F8F1-FD21-467E-B71C-76F17B6415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圆角矩形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3360" y="117792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3360" y="1125360"/>
            <a:ext cx="9020160" cy="11916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63360" y="2705040"/>
            <a:ext cx="9020160" cy="1094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Perpetu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141D-D365-49C1-BDFF-539BE6A50962}" type="datetime">
              <a:rPr b="0" lang="zh-CN" sz="1400" spc="-1" strike="noStrike">
                <a:solidFill>
                  <a:srgbClr val="696464"/>
                </a:solidFill>
                <a:latin typeface="Perpetua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8C3-0125-4821-AB41-7261A619E291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圆角矩形 9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矩形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Perpetu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FA30-E2E0-47E4-9853-BB6E612F29BD}" type="datetime">
              <a:rPr b="0" lang="zh-CN" sz="1400" spc="-1" strike="noStrike">
                <a:solidFill>
                  <a:srgbClr val="696464"/>
                </a:solidFill>
                <a:latin typeface="Perpetua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0C8D-49F3-4F2A-B1A9-2EB8AC5CECEB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圆角矩形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Perpetu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9DAA-F2B9-4491-9A5C-98CEB6850F7B}" type="datetime">
              <a:rPr b="0" lang="zh-CN" sz="1400" spc="-1" strike="noStrike">
                <a:solidFill>
                  <a:srgbClr val="696464"/>
                </a:solidFill>
                <a:latin typeface="Perpetua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E80E-55A4-4BF6-AEC2-101FD087FD0F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矩形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矩形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Perpetu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2A9D-E1BE-420A-9CF8-4DA40B504B82}" type="datetime">
              <a:rPr b="0" lang="zh-CN" sz="1400" spc="-1" strike="noStrike">
                <a:solidFill>
                  <a:srgbClr val="696464"/>
                </a:solidFill>
                <a:latin typeface="Perpetua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3959-5ADA-4128-9434-28A5D6683C3A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5.gif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Book"/>
              </a:rPr>
              <a:t>第一课  珍惜无价的自尊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8" name="WordArt 5" descr=""/>
          <p:cNvPicPr/>
          <p:nvPr/>
        </p:nvPicPr>
        <p:blipFill>
          <a:blip r:embed="rId1"/>
          <a:stretch/>
        </p:blipFill>
        <p:spPr>
          <a:xfrm>
            <a:off x="898560" y="3068640"/>
            <a:ext cx="7442280" cy="1036800"/>
          </a:xfrm>
          <a:prstGeom prst="rect">
            <a:avLst/>
          </a:prstGeom>
          <a:ln w="0">
            <a:noFill/>
          </a:ln>
        </p:spPr>
      </p:pic>
      <p:sp>
        <p:nvSpPr>
          <p:cNvPr id="26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763200"/>
            <a:ext cx="8362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Perpetua"/>
              </a:rPr>
              <a:t>自尊要适度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Perpetua"/>
              </a:rPr>
              <a:t>适度的自尊</a:t>
            </a:r>
            <a:r>
              <a:rPr b="0" lang="zh-CN" sz="3200" spc="-1" strike="noStrike">
                <a:solidFill>
                  <a:srgbClr val="000000"/>
                </a:solidFill>
                <a:latin typeface="Perpetua"/>
              </a:rPr>
              <a:t>，有助于我们面对别人的批评，改正自己的缺点和错误；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Perpetua"/>
              </a:rPr>
              <a:t>过度的自尊</a:t>
            </a:r>
            <a:r>
              <a:rPr b="0" lang="zh-CN" sz="3200" spc="-1" strike="noStrike">
                <a:solidFill>
                  <a:srgbClr val="000000"/>
                </a:solidFill>
                <a:latin typeface="Perpetua"/>
              </a:rPr>
              <a:t>则会使我们过于敏感，作茧自缚，体验不到生活的乐趣。（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P14</a:t>
            </a:r>
            <a:r>
              <a:rPr b="0" lang="zh-CN" sz="3200" spc="-1" strike="noStrike">
                <a:solidFill>
                  <a:srgbClr val="000000"/>
                </a:solidFill>
                <a:latin typeface="Perpetua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</a:rPr>
              <a:t>对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Perpetua"/>
              </a:rPr>
              <a:t>恶意</a:t>
            </a:r>
            <a:r>
              <a:rPr b="0" lang="zh-CN" sz="3200" spc="-1" strike="noStrike">
                <a:solidFill>
                  <a:srgbClr val="000000"/>
                </a:solidFill>
                <a:latin typeface="Perpetua"/>
              </a:rPr>
              <a:t>的侮辱与诋毁，必要时我们可以运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Perpetua"/>
              </a:rPr>
              <a:t>法律武器</a:t>
            </a:r>
            <a:r>
              <a:rPr b="0" lang="zh-CN" sz="3200" spc="-1" strike="noStrike">
                <a:solidFill>
                  <a:srgbClr val="000000"/>
                </a:solidFill>
                <a:latin typeface="Perpetua"/>
              </a:rPr>
              <a:t>捍卫自尊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457200" y="16765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696464"/>
                </a:solidFill>
                <a:latin typeface="黑体"/>
                <a:ea typeface="黑体"/>
              </a:rPr>
              <a:t>、尊重他人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最基本的表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304920" y="39625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696464"/>
                </a:solidFill>
                <a:latin typeface="黑体"/>
                <a:ea typeface="黑体"/>
              </a:rPr>
              <a:t>真正做到尊重他人，就要善于站在对方的角度，感同身受，推己及人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华文楷体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696464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696464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696464"/>
                </a:solidFill>
                <a:latin typeface="华文楷体"/>
                <a:ea typeface="华文楷体"/>
              </a:rPr>
              <a:t>）要善于欣赏、接纳他人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华文楷体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696464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696464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696464"/>
                </a:solidFill>
                <a:latin typeface="华文楷体"/>
                <a:ea typeface="华文楷体"/>
              </a:rPr>
              <a:t>）还要不做有损他人人格的事情。</a:t>
            </a:r>
            <a:r>
              <a:rPr b="0" lang="zh-CN" sz="2800" spc="-1" strike="noStrike">
                <a:solidFill>
                  <a:srgbClr val="69646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04920" y="3276720"/>
            <a:ext cx="814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96464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696464"/>
                </a:solidFill>
                <a:latin typeface="黑体"/>
                <a:ea typeface="黑体"/>
              </a:rPr>
              <a:t>怎样来尊重他人呢？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457200" y="2514600"/>
            <a:ext cx="814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华文行楷"/>
                <a:ea typeface="华文行楷"/>
              </a:rPr>
              <a:t>对人有礼貌，尊重他人的劳动，尊重他人的人格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Picture 8" descr="校徽"/>
          <p:cNvPicPr/>
          <p:nvPr/>
        </p:nvPicPr>
        <p:blipFill>
          <a:blip r:embed="rId1"/>
          <a:stretch/>
        </p:blipFill>
        <p:spPr>
          <a:xfrm>
            <a:off x="8686800" y="84240"/>
            <a:ext cx="380880" cy="372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未标题-3"/>
          <p:cNvPicPr/>
          <p:nvPr/>
        </p:nvPicPr>
        <p:blipFill>
          <a:blip r:embed="rId2"/>
          <a:stretch/>
        </p:blipFill>
        <p:spPr>
          <a:xfrm>
            <a:off x="914400" y="685800"/>
            <a:ext cx="6734160" cy="6573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8196"/>
          <p:cNvSpPr/>
          <p:nvPr/>
        </p:nvSpPr>
        <p:spPr>
          <a:xfrm>
            <a:off x="914400" y="21798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7" name="Picture 3" descr="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464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" descr="1"/>
            <p:cNvPicPr/>
            <p:nvPr/>
          </p:nvPicPr>
          <p:blipFill>
            <a:blip r:embed="rId2"/>
            <a:stretch/>
          </p:blipFill>
          <p:spPr>
            <a:xfrm>
              <a:off x="9360" y="1371600"/>
              <a:ext cx="913464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5" descr="1"/>
            <p:cNvPicPr/>
            <p:nvPr/>
          </p:nvPicPr>
          <p:blipFill>
            <a:blip r:embed="rId3"/>
            <a:stretch/>
          </p:blipFill>
          <p:spPr>
            <a:xfrm>
              <a:off x="9360" y="2743200"/>
              <a:ext cx="913464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6" descr="1"/>
            <p:cNvPicPr/>
            <p:nvPr/>
          </p:nvPicPr>
          <p:blipFill>
            <a:blip r:embed="rId4"/>
            <a:stretch/>
          </p:blipFill>
          <p:spPr>
            <a:xfrm>
              <a:off x="9360" y="4114800"/>
              <a:ext cx="913464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7" descr="1"/>
            <p:cNvPicPr/>
            <p:nvPr/>
          </p:nvPicPr>
          <p:blipFill>
            <a:blip r:embed="rId5"/>
            <a:stretch/>
          </p:blipFill>
          <p:spPr>
            <a:xfrm>
              <a:off x="0" y="5457960"/>
              <a:ext cx="9134640" cy="14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Text Box 8"/>
          <p:cNvSpPr/>
          <p:nvPr/>
        </p:nvSpPr>
        <p:spPr>
          <a:xfrm>
            <a:off x="684360" y="765000"/>
            <a:ext cx="68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彼此尊重才能赢得尊重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1187280" y="836640"/>
            <a:ext cx="216000" cy="496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240 h 4967280"/>
              <a:gd name="textAreaBottom" fmla="*/ 4838040 h 49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1403280" y="62064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b2d1f"/>
                </a:solidFill>
                <a:latin typeface="Times New Roman"/>
                <a:ea typeface="楷体_GB2312"/>
              </a:rPr>
              <a:t>维护人格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重要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2916360" y="1125360"/>
            <a:ext cx="720720" cy="216000"/>
          </a:xfrm>
          <a:prstGeom prst="rightArrow">
            <a:avLst>
              <a:gd name="adj1" fmla="val 50000"/>
              <a:gd name="adj2" fmla="val 83386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3564000" y="90792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尊的人最看重的自己的人格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1332000" y="2708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尊者豁达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AutoShape 14"/>
          <p:cNvSpPr/>
          <p:nvPr/>
        </p:nvSpPr>
        <p:spPr>
          <a:xfrm>
            <a:off x="3276720" y="2781360"/>
            <a:ext cx="503280" cy="358560"/>
          </a:xfrm>
          <a:prstGeom prst="rightArrow">
            <a:avLst>
              <a:gd name="adj1" fmla="val 50000"/>
              <a:gd name="adj2" fmla="val 35071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3924360" y="306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尊要适度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AutoShape 16"/>
          <p:cNvSpPr/>
          <p:nvPr/>
        </p:nvSpPr>
        <p:spPr>
          <a:xfrm>
            <a:off x="3851280" y="2565360"/>
            <a:ext cx="144360" cy="93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1332000" y="5084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善于尊重他人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3564000" y="4292640"/>
            <a:ext cx="71280" cy="1728720"/>
          </a:xfrm>
          <a:custGeom>
            <a:avLst/>
            <a:gdLst>
              <a:gd name="textAreaLeft" fmla="*/ 45720 w 71280"/>
              <a:gd name="textAreaRight" fmla="*/ 71640 w 71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3564000" y="400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最基本表现：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4788000" y="4941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善于欣赏接纳他人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788000" y="573408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不做有损他人人格的事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3924360" y="242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彼此尊重，就要宽容大度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Text Box 28"/>
          <p:cNvSpPr/>
          <p:nvPr/>
        </p:nvSpPr>
        <p:spPr>
          <a:xfrm>
            <a:off x="3635280" y="530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做法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AutoShape 29"/>
          <p:cNvSpPr/>
          <p:nvPr/>
        </p:nvSpPr>
        <p:spPr>
          <a:xfrm>
            <a:off x="4572000" y="5229360"/>
            <a:ext cx="144360" cy="93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9" name="Picture 30" descr="10550_5"/>
          <p:cNvPicPr/>
          <p:nvPr/>
        </p:nvPicPr>
        <p:blipFill>
          <a:blip r:embed="rId6"/>
          <a:stretch/>
        </p:blipFill>
        <p:spPr>
          <a:xfrm>
            <a:off x="8058240" y="0"/>
            <a:ext cx="10857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图片1。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96464"/>
                </a:solidFill>
                <a:latin typeface="Franklin Gothic Book"/>
              </a:rPr>
              <a:t>课堂训练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5330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600" spc="-1" strike="noStrike">
                <a:solidFill>
                  <a:srgbClr val="000000"/>
                </a:solidFill>
                <a:latin typeface="Perpetua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晏子使楚</a:t>
            </a:r>
            <a:r>
              <a:rPr b="1" lang="zh-CN" sz="2600" spc="-1" strike="noStrike">
                <a:solidFill>
                  <a:srgbClr val="000000"/>
                </a:solidFill>
                <a:latin typeface="Perpetua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则故事告诉我们（　　 ）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自己尊重自己，别人才会尊重你  ②一切应以国家利益为重，个人自尊不算什么  ③不懂得尊重他人也得不到他人的尊重  ④自尊的人最看重自己的人格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②③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③④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②③④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④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在日常生活中，我们尊重他人最基本的表现是（ 　　）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人有礼貌  ②尊重他人的劳动  ③接受他人的观点  ④尊重他人的人格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②④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②③④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①③④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②④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6019920" y="762120"/>
            <a:ext cx="93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4817"/>
                </a:solidFill>
                <a:latin typeface="Times New Roman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cc9900"/>
                </a:solidFill>
                <a:latin typeface="Times New Roman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914400" y="3581280"/>
            <a:ext cx="93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34817"/>
                </a:solidFill>
                <a:latin typeface="Times New Roman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黑体"/>
              </a:rPr>
              <a:t>Ａ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C3D5-860C-4914-9CF5-2C1D5ACC33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图片1。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696464"/>
                </a:solidFill>
                <a:latin typeface="Franklin Gothic Book"/>
                <a:ea typeface="楷体_GB2312"/>
              </a:rPr>
              <a:t>阅读材料，回答问题</a:t>
            </a:r>
            <a:endParaRPr b="0" lang="en-US" sz="3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材料一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伟同学是班上的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差生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但老师并没有在全班同学面前批评他，而是寻找机会帮助他。一次在课堂上，老师发现他肯动脑筋，就点名让他回答问题，他的独到见解受到大家赞扬。之后，在老师和同学们进一步帮助下，他转变了，学习非常努力，上课主动举手发言，还能自觉遵守纪律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4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材料二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6372360" y="765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3" name="Picture 8" descr="THUA120C"/>
          <p:cNvPicPr/>
          <p:nvPr/>
        </p:nvPicPr>
        <p:blipFill>
          <a:blip r:embed="rId2"/>
          <a:stretch/>
        </p:blipFill>
        <p:spPr>
          <a:xfrm>
            <a:off x="0" y="3586320"/>
            <a:ext cx="4724280" cy="32716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9"/>
          <p:cNvSpPr/>
          <p:nvPr/>
        </p:nvSpPr>
        <p:spPr>
          <a:xfrm>
            <a:off x="4572000" y="2637000"/>
            <a:ext cx="48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一和二中的老师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样对待差生的自尊的？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则材料启示我们应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对待他人的自尊？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矩形 7"/>
          <p:cNvSpPr/>
          <p:nvPr/>
        </p:nvSpPr>
        <p:spPr>
          <a:xfrm>
            <a:off x="4643280" y="3357720"/>
            <a:ext cx="45007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材料一中老师在学习中及时发现学生的长处，由衷欣赏和赞美他的优点、长处，使他感到被尊重的快乐，唤醒人的良知，从而乐于学习。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材料二中老师用不正确的方法对待学生，不尊重学生，上海了学生的自尊，不利于学生的学习。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要善于尊重他人。与人相处时，能由衷地欣赏和赞美别人的优点、长处，允许他人有超越自己的地方。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2484360" y="-171360"/>
            <a:ext cx="3527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96464"/>
                </a:solidFill>
                <a:latin typeface="Franklin Gothic Book"/>
                <a:ea typeface="幼圆"/>
              </a:rPr>
              <a:t>复习导入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3132000" y="2205000"/>
            <a:ext cx="792360" cy="287280"/>
          </a:xfrm>
          <a:prstGeom prst="rightArrow">
            <a:avLst>
              <a:gd name="adj1" fmla="val 50000"/>
              <a:gd name="adj2" fmla="val 68928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59280" y="3645000"/>
            <a:ext cx="792000" cy="287280"/>
          </a:xfrm>
          <a:prstGeom prst="rightArrow">
            <a:avLst>
              <a:gd name="adj1" fmla="val 50000"/>
              <a:gd name="adj2" fmla="val 68884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32000" y="5084640"/>
            <a:ext cx="792360" cy="287640"/>
          </a:xfrm>
          <a:prstGeom prst="rightArrow">
            <a:avLst>
              <a:gd name="adj1" fmla="val 50000"/>
              <a:gd name="adj2" fmla="val 6884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3851280" y="206064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Perpetua"/>
              </a:rPr>
              <a:t>自尊是人人都需要的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3780000" y="3429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Perpetua"/>
              </a:rPr>
              <a:t>尊重他人是我的需要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4140360" y="479736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Perpetua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1763640" y="2781360"/>
            <a:ext cx="217440" cy="503280"/>
          </a:xfrm>
          <a:prstGeom prst="downArrow">
            <a:avLst>
              <a:gd name="adj1" fmla="val 50000"/>
              <a:gd name="adj2" fmla="val 57843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1692360" y="4292640"/>
            <a:ext cx="217440" cy="503280"/>
          </a:xfrm>
          <a:prstGeom prst="downArrow">
            <a:avLst>
              <a:gd name="adj1" fmla="val 50000"/>
              <a:gd name="adj2" fmla="val 57843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971640" y="206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Perpetua"/>
              </a:rPr>
              <a:t>是什么？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971640" y="3429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Perpetua"/>
              </a:rPr>
              <a:t>为什么？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900000" y="4941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Perpetua"/>
              </a:rPr>
              <a:t>怎么样？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AutoShape 18"/>
          <p:cNvSpPr/>
          <p:nvPr/>
        </p:nvSpPr>
        <p:spPr>
          <a:xfrm>
            <a:off x="900000" y="2421000"/>
            <a:ext cx="142920" cy="287964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-364680" y="2349360"/>
            <a:ext cx="1277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珍惜无价的自尊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4038480" y="762120"/>
            <a:ext cx="470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晏子为什么要坚持从大门进城？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晏子是用什么样的方法维护自己的自尊的呢？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AutoShape 4"/>
          <p:cNvSpPr/>
          <p:nvPr/>
        </p:nvSpPr>
        <p:spPr>
          <a:xfrm flipH="1">
            <a:off x="2208960" y="228600"/>
            <a:ext cx="2133720" cy="838080"/>
          </a:xfrm>
          <a:prstGeom prst="cloudCallout">
            <a:avLst>
              <a:gd name="adj1" fmla="val -42337"/>
              <a:gd name="adj2" fmla="val 237120"/>
            </a:avLst>
          </a:pr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请问：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85800" y="5486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Perpetua"/>
                <a:ea typeface="楷体_GB2312"/>
              </a:rPr>
              <a:t>晏子使楚</a:t>
            </a:r>
            <a:r>
              <a:rPr b="1" lang="zh-CN" sz="2000" spc="-1" strike="noStrike">
                <a:solidFill>
                  <a:srgbClr val="0000ff"/>
                </a:solidFill>
                <a:latin typeface="Perpetua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课本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P12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Picture 6" descr="215308"/>
          <p:cNvPicPr/>
          <p:nvPr/>
        </p:nvPicPr>
        <p:blipFill>
          <a:blip r:embed="rId1"/>
          <a:stretch/>
        </p:blipFill>
        <p:spPr>
          <a:xfrm>
            <a:off x="3657600" y="5932440"/>
            <a:ext cx="5486400" cy="925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215308"/>
          <p:cNvPicPr/>
          <p:nvPr/>
        </p:nvPicPr>
        <p:blipFill>
          <a:blip r:embed="rId2"/>
          <a:stretch/>
        </p:blipFill>
        <p:spPr>
          <a:xfrm>
            <a:off x="0" y="5932440"/>
            <a:ext cx="5486400" cy="9255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"/>
          <p:cNvSpPr/>
          <p:nvPr/>
        </p:nvSpPr>
        <p:spPr>
          <a:xfrm>
            <a:off x="4191120" y="1905120"/>
            <a:ext cx="4495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Perpetua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cc9900"/>
                </a:solidFill>
                <a:latin typeface="Perpetua"/>
                <a:ea typeface="楷体_GB2312"/>
              </a:rPr>
              <a:t>晏子为了维护自己的自尊和国家的尊严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Perpetua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cc9900"/>
                </a:solidFill>
                <a:latin typeface="Perpetua"/>
                <a:ea typeface="楷体_GB2312"/>
              </a:rPr>
              <a:t>晏子的行为说明他把自己的人格和国格看得比什么都重要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Perpetua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cc9900"/>
                </a:solidFill>
                <a:latin typeface="Perpetua"/>
                <a:ea typeface="楷体_GB2312"/>
              </a:rPr>
              <a:t>晏子是通过</a:t>
            </a:r>
            <a:r>
              <a:rPr b="1" lang="zh-CN" sz="2400" spc="-1" strike="noStrike" u="sng">
                <a:solidFill>
                  <a:srgbClr val="cc9900"/>
                </a:solidFill>
                <a:uFillTx/>
                <a:latin typeface="Perpetua"/>
                <a:ea typeface="楷体_GB2312"/>
              </a:rPr>
              <a:t>机智巧妙</a:t>
            </a:r>
            <a:r>
              <a:rPr b="1" lang="zh-CN" sz="2400" spc="-1" strike="noStrike">
                <a:solidFill>
                  <a:srgbClr val="cc9900"/>
                </a:solidFill>
                <a:latin typeface="Perpetua"/>
                <a:ea typeface="楷体_GB2312"/>
              </a:rPr>
              <a:t>的回击楚灵王的种种刁难和侮辱来维护自己的自尊的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0" name="Picture 12" descr="未标题-1"/>
          <p:cNvPicPr/>
          <p:nvPr/>
        </p:nvPicPr>
        <p:blipFill>
          <a:blip r:embed="rId3"/>
          <a:stretch/>
        </p:blipFill>
        <p:spPr>
          <a:xfrm>
            <a:off x="228600" y="1219320"/>
            <a:ext cx="407664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23640" y="115920"/>
            <a:ext cx="83962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:08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地点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届世界室内田径锦标赛冠军领奖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事件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赛事组织者放错了国歌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请同学们想象处理方式和结果：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结果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重新举行颁奖仪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国际田联将书面道歉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6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现场响起了热烈的掌声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Picture 5" descr="xinsrc_07209040214341253149210"/>
          <p:cNvPicPr/>
          <p:nvPr/>
        </p:nvPicPr>
        <p:blipFill>
          <a:blip r:embed="rId1"/>
          <a:stretch/>
        </p:blipFill>
        <p:spPr>
          <a:xfrm>
            <a:off x="6084720" y="1162080"/>
            <a:ext cx="2843280" cy="21225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1689120" y="3716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从以上的故事我们可以看出：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250920" y="43657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自尊的人最看重自己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格</a:t>
            </a: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。为了维护自尊，可以舍弃很多东西，但决不可丧失人格，做有损人格的事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9"/>
          <p:cNvSpPr/>
          <p:nvPr/>
        </p:nvSpPr>
        <p:spPr>
          <a:xfrm>
            <a:off x="2916360" y="3284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557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12" descr="未标题-1"/>
          <p:cNvPicPr/>
          <p:nvPr/>
        </p:nvPicPr>
        <p:blipFill>
          <a:blip r:embed="rId1"/>
          <a:stretch/>
        </p:blipFill>
        <p:spPr>
          <a:xfrm>
            <a:off x="1371600" y="179280"/>
            <a:ext cx="6734160" cy="657360"/>
          </a:xfrm>
          <a:prstGeom prst="rect">
            <a:avLst/>
          </a:prstGeom>
          <a:ln w="0">
            <a:noFill/>
          </a:ln>
        </p:spPr>
      </p:pic>
      <p:sp>
        <p:nvSpPr>
          <p:cNvPr id="298" name="矩形 6"/>
          <p:cNvSpPr/>
          <p:nvPr/>
        </p:nvSpPr>
        <p:spPr>
          <a:xfrm>
            <a:off x="179280" y="1341360"/>
            <a:ext cx="8785440" cy="17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b2d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护人格：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方面要做到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富贵不能淫，贫贱不能移，威武不能屈。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方面要做到不沾染不良习气，不做有损人格的事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9" name="矩形 7" descr=""/>
          <p:cNvPicPr/>
          <p:nvPr/>
        </p:nvPicPr>
        <p:blipFill>
          <a:blip r:embed="rId2"/>
          <a:stretch/>
        </p:blipFill>
        <p:spPr>
          <a:xfrm>
            <a:off x="539640" y="4560840"/>
            <a:ext cx="8089920" cy="800280"/>
          </a:xfrm>
          <a:prstGeom prst="rect">
            <a:avLst/>
          </a:prstGeom>
          <a:ln w="0">
            <a:noFill/>
          </a:ln>
        </p:spPr>
      </p:pic>
      <p:sp>
        <p:nvSpPr>
          <p:cNvPr id="300" name="文本框 8196"/>
          <p:cNvSpPr/>
          <p:nvPr/>
        </p:nvSpPr>
        <p:spPr>
          <a:xfrm>
            <a:off x="2459160" y="2548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5640" y="-1000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96464"/>
                </a:solidFill>
                <a:latin typeface="Franklin Gothic Book"/>
              </a:rPr>
              <a:t>胯下之辱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4920" y="4220640"/>
            <a:ext cx="8497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Perpetua"/>
              </a:rPr>
              <a:t>秦朝末年，淮阴人韩信年轻时文质彬彬，十分斯文。有一个恶少见韩信软弱可欺就纠集一帮人围攻他，让他求饶必须从恶少胯下钻过，韩信见寡不敌众就只好忍一时之气，从恶少胯下爬过。后来他成为一个大谋略家，帮助刘邦成就大业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89600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684360" y="476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韩信的行为是不知耻，还是有自尊？他表现出来的是一种什么心态？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5" name="Group 7"/>
          <p:cNvGrpSpPr/>
          <p:nvPr/>
        </p:nvGrpSpPr>
        <p:grpSpPr>
          <a:xfrm>
            <a:off x="539640" y="1700280"/>
            <a:ext cx="6703920" cy="2751120"/>
            <a:chOff x="539640" y="1700280"/>
            <a:chExt cx="6703920" cy="2751120"/>
          </a:xfrm>
        </p:grpSpPr>
        <p:sp>
          <p:nvSpPr>
            <p:cNvPr id="306" name="Text Box 4"/>
            <p:cNvSpPr/>
            <p:nvPr/>
          </p:nvSpPr>
          <p:spPr>
            <a:xfrm>
              <a:off x="1452240" y="1700280"/>
              <a:ext cx="579132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自尊。</a:t>
              </a:r>
              <a:endParaRPr b="0" lang="en-US" sz="3600" spc="-1" strike="noStrike">
                <a:solidFill>
                  <a:srgbClr val="000000"/>
                </a:solidFill>
                <a:latin typeface="Perpetua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是一种豁达的心态。</a:t>
              </a:r>
              <a:r>
                <a:rPr b="0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pic>
          <p:nvPicPr>
            <p:cNvPr id="307" name="Picture 6" descr="教师副本"/>
            <p:cNvPicPr/>
            <p:nvPr/>
          </p:nvPicPr>
          <p:blipFill>
            <a:blip r:embed="rId1"/>
            <a:stretch/>
          </p:blipFill>
          <p:spPr>
            <a:xfrm>
              <a:off x="539640" y="2075040"/>
              <a:ext cx="1000080" cy="23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3"/>
          <p:cNvSpPr/>
          <p:nvPr/>
        </p:nvSpPr>
        <p:spPr>
          <a:xfrm>
            <a:off x="684360" y="38275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华文彩云"/>
                <a:ea typeface="华文彩云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华文彩云"/>
                <a:ea typeface="华文彩云"/>
              </a:rPr>
              <a:t>自尊的人要懂得宽容，用豁达、开朗的生活态度去化解彼此的矛盾，</a:t>
            </a:r>
            <a:r>
              <a:rPr b="1" lang="en-US" sz="3200" spc="-1" strike="noStrike">
                <a:solidFill>
                  <a:srgbClr val="cc00cc"/>
                </a:solidFill>
                <a:latin typeface="华文彩云"/>
                <a:ea typeface="华文彩云"/>
              </a:rPr>
              <a:t>(</a:t>
            </a:r>
            <a:r>
              <a:rPr b="1" lang="zh-CN" sz="3200" spc="-1" strike="noStrike">
                <a:solidFill>
                  <a:srgbClr val="cc00cc"/>
                </a:solidFill>
                <a:latin typeface="华文彩云"/>
                <a:ea typeface="华文彩云"/>
              </a:rPr>
              <a:t>学会用幽默去化解生活中的一些不愉快和尴尬</a:t>
            </a:r>
            <a:r>
              <a:rPr b="1" lang="en-US" sz="3200" spc="-1" strike="noStrike">
                <a:solidFill>
                  <a:srgbClr val="cc00cc"/>
                </a:solidFill>
                <a:latin typeface="华文彩云"/>
                <a:ea typeface="华文彩云"/>
              </a:rPr>
              <a:t>),</a:t>
            </a:r>
            <a:r>
              <a:rPr b="1" lang="zh-CN" sz="3200" spc="-1" strike="noStrike">
                <a:solidFill>
                  <a:srgbClr val="cc00cc"/>
                </a:solidFill>
                <a:latin typeface="华文彩云"/>
                <a:ea typeface="华文彩云"/>
              </a:rPr>
              <a:t>还可以更多地欣赏来自他人的智慧。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34920" y="115920"/>
            <a:ext cx="9037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活中有很多的尴尬情景，与同学分享你所知道的运用幽默、机智化解矛盾的故事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4920" y="1341360"/>
            <a:ext cx="9109080" cy="48996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德国诗人歌德在公园里散步，与一位批评家在一条仅能让一人通过的小路上相遇。批评家说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从来不给蠢货让路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德笑着退到路边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恰恰相反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0" y="2781360"/>
            <a:ext cx="9144000" cy="12819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拉第是近代电磁学的奠基人，他的科学发现为电的应用开拓了广阔的道路。但是，在电灯、电话、电动机发明前，不少人怀疑的电的用处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，法拉第做完电磁感应理论讲演后，一位贵妇人有意挖苦他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授，你讲的东西有什么用处呢？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拉第诙谐地反问道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  <a:ea typeface="宋体"/>
              </a:rPr>
              <a:t>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夫人，你能告诉我，刚生下的孩子有什么用吗？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3" name="矩形 6" descr=""/>
          <p:cNvPicPr/>
          <p:nvPr/>
        </p:nvPicPr>
        <p:blipFill>
          <a:blip r:embed="rId2"/>
          <a:stretch/>
        </p:blipFill>
        <p:spPr>
          <a:xfrm>
            <a:off x="270000" y="5662440"/>
            <a:ext cx="869472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2195640" y="152280"/>
            <a:ext cx="475272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于议论和批评</a:t>
            </a:r>
            <a:endParaRPr b="1" lang="en-US" sz="5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2205000"/>
            <a:ext cx="2268360" cy="22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6464"/>
                </a:solidFill>
                <a:latin typeface="Times New Roman"/>
              </a:rPr>
              <a:t>不能太在意他人的议论和评价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68360" y="2133360"/>
            <a:ext cx="914400" cy="533160"/>
            <a:chOff x="2268360" y="2133360"/>
            <a:chExt cx="914400" cy="533160"/>
          </a:xfrm>
        </p:grpSpPr>
        <p:sp>
          <p:nvSpPr>
            <p:cNvPr id="317" name="Line 4"/>
            <p:cNvSpPr/>
            <p:nvPr/>
          </p:nvSpPr>
          <p:spPr>
            <a:xfrm flipV="1">
              <a:off x="2268360" y="21333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 rot="10800000">
              <a:off x="2268360" y="21333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268360" y="3284640"/>
            <a:ext cx="990720" cy="360"/>
            <a:chOff x="2268360" y="3284640"/>
            <a:chExt cx="990720" cy="360"/>
          </a:xfrm>
        </p:grpSpPr>
        <p:sp>
          <p:nvSpPr>
            <p:cNvPr id="320" name="Line 5"/>
            <p:cNvSpPr/>
            <p:nvPr/>
          </p:nvSpPr>
          <p:spPr>
            <a:xfrm>
              <a:off x="2268360" y="32846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268360" y="328464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268360" y="3933720"/>
            <a:ext cx="990720" cy="381240"/>
            <a:chOff x="2268360" y="3933720"/>
            <a:chExt cx="990720" cy="381240"/>
          </a:xfrm>
        </p:grpSpPr>
        <p:sp>
          <p:nvSpPr>
            <p:cNvPr id="323" name="Line 6"/>
            <p:cNvSpPr/>
            <p:nvPr/>
          </p:nvSpPr>
          <p:spPr>
            <a:xfrm>
              <a:off x="2268360" y="39337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2268360" y="3933720"/>
              <a:ext cx="99072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25" name="Text Box 7"/>
          <p:cNvSpPr/>
          <p:nvPr/>
        </p:nvSpPr>
        <p:spPr>
          <a:xfrm>
            <a:off x="3203640" y="1484280"/>
            <a:ext cx="5562360" cy="520560"/>
          </a:xfrm>
          <a:prstGeom prst="rect">
            <a:avLst/>
          </a:prstGeom>
          <a:solidFill>
            <a:srgbClr val="e8fc70"/>
          </a:solidFill>
          <a:ln w="936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  <a:ea typeface="宋体"/>
              </a:rPr>
              <a:t>议论只能代表个别人的意见，未必正确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3276720" y="2708280"/>
            <a:ext cx="5018040" cy="520560"/>
          </a:xfrm>
          <a:prstGeom prst="rect">
            <a:avLst/>
          </a:prstGeom>
          <a:solidFill>
            <a:srgbClr val="e8fc70"/>
          </a:solidFill>
          <a:ln w="936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  <a:ea typeface="宋体"/>
              </a:rPr>
              <a:t>批评是对事不对人。我们应该做到“有则改之，无则加勉”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3276720" y="4005360"/>
            <a:ext cx="5562360" cy="1334880"/>
          </a:xfrm>
          <a:prstGeom prst="rect">
            <a:avLst/>
          </a:prstGeom>
          <a:solidFill>
            <a:srgbClr val="e8fc70"/>
          </a:solidFill>
          <a:ln w="936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斤斤计较，得理不饶人，情绪冲动。不仅不能维护你的自尊，反而破坏了你的修养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2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12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