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jpeg" ContentType="image/jpeg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cashreg.wav" ContentType="audio/x-wav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8D0-802A-4225-A61B-5DDF64CB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ADB-4AEB-4E72-8B8A-870497FA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0A4-9223-4E9E-9EF4-0268CCF6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EF9-C553-4ED9-B371-A44094FC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0548-E10A-4AC8-9740-6DBCFC63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772D-CC24-4EC3-A7ED-2990CCCC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D93F-E978-45FF-93CA-96E728D7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150A-8B40-493B-840E-35B7D053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410E-B6B6-460A-80A9-5A1923B4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5314-3915-4FC2-AE4B-D6796243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4C30-B4C0-42DD-A4D3-C4BD2A7E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4A6-5896-4119-8C7E-EF4A3DD4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F0A0-3FEF-49C7-80F5-1B70C1C3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F2C3-0037-43E7-9A1A-A67BB6B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9796-E722-4691-9E82-37E7CE64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202C-DE94-4771-A35D-50B0A8CB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4D33-432B-4458-ACA8-5639317C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B159-BFB6-4DFA-BAC0-839BE1D5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9C2F-28E9-412A-A703-63FB0153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16A4-D170-4B01-83E8-21368D9A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11BAF-8CD5-4ACE-B972-69527F49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783A-43B9-4042-A318-32E788A5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65F-0F65-4A4F-ADED-F08B06FF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5AF5-7EF4-4341-9F89-4A132461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86C5-FABB-4B0D-9A4B-38A1523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D732-5A23-4885-BBBA-8F2289C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E912-48B8-4B0F-B94A-51A399D2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1DA1-AD9F-4A1A-A30F-F7015981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BB61-29BA-4670-847F-89154190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80FF-6B38-4D90-840E-3F587823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9446F-3546-4624-A32C-2A97CB88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A2071-4455-48A3-B8B0-4F38CEE9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73CF-09DF-4D91-9654-1CA6C09F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BE3-51E3-4FD7-AC53-1512CE4F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34C8-1B89-4CC3-A3F8-CA4E763A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53EC-A291-433A-8908-7452AB92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AEC1-79DD-4821-960D-3CF77FD2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C009-072A-49E6-8323-87471AD2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BB31-C27D-444C-B06D-3965465C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06BBF-8C86-4E3F-9255-36491F49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5F73-8CCB-4550-94DD-3B547F83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47138-E334-438B-BA05-73439330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B6AED-99A8-4F50-87C6-73D0FAA4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3A085-0AA1-4B3C-BD8C-12B1529A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F7D-C648-445F-ABDE-4458C9E2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46A43-E452-4955-99A2-1624B7CE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61A5A-8675-4BBD-B8BF-A137EF44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D7E8C-A54F-4B01-94D3-B7B650F8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E6804-278C-40AA-88CC-8412A99F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FF4F5-4A6C-4C5B-9E99-7E33B662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4BAF2-EDCF-420B-9A28-C322EA29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411C9-9080-4DCE-87DF-24193851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99A9-8AF0-48F5-8D6F-F54AF884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E2325-D4A1-42C6-95DF-33474F77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888BD-AB09-407C-BAFA-A142B64B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2C6-3AF4-42F6-AB29-9526CB33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F815-66A3-4230-84B2-34F3EE66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4F3-C92F-4257-AA23-3642E664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29C-4CE5-459C-8747-CDF06276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933-6991-4B47-B024-0718608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99840" y="6426000"/>
            <a:ext cx="1079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426000"/>
            <a:ext cx="1079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26000"/>
            <a:ext cx="1079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AE19-F31D-4285-99B7-9576B9002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D9C7-672F-4857-B29E-D1BEFF602B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5090-ADEA-40FE-8B59-33D7DDB7C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1599840" y="6426000"/>
            <a:ext cx="1079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895120" y="6426000"/>
            <a:ext cx="1079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426000"/>
            <a:ext cx="1079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61D7-0C4D-4BDA-B9D6-5A710DB0C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1599840" y="6426000"/>
            <a:ext cx="1079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895120" y="6426000"/>
            <a:ext cx="1079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426000"/>
            <a:ext cx="1079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830E-7A64-4CE2-8EC8-BF27A0BBD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9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838080" y="15238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不等式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4" descr="GIFXS012"/>
          <p:cNvPicPr/>
          <p:nvPr/>
        </p:nvPicPr>
        <p:blipFill>
          <a:blip r:embed="rId1"/>
          <a:stretch/>
        </p:blipFill>
        <p:spPr>
          <a:xfrm>
            <a:off x="2971800" y="3657600"/>
            <a:ext cx="3635280" cy="2147760"/>
          </a:xfrm>
          <a:prstGeom prst="rect">
            <a:avLst/>
          </a:prstGeom>
          <a:ln w="0">
            <a:noFill/>
          </a:ln>
        </p:spPr>
      </p:pic>
      <p:sp>
        <p:nvSpPr>
          <p:cNvPr id="211" name="矩形 2"/>
          <p:cNvSpPr/>
          <p:nvPr/>
        </p:nvSpPr>
        <p:spPr>
          <a:xfrm>
            <a:off x="3480120" y="584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不等式与不等式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80010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03720" y="1670760"/>
            <a:ext cx="8055000" cy="1306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8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是不等式                的解吗？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5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呢？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呢？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Object 5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1295280" cy="93348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10"/>
          <p:cNvSpPr/>
          <p:nvPr/>
        </p:nvSpPr>
        <p:spPr>
          <a:xfrm>
            <a:off x="609480" y="3200400"/>
            <a:ext cx="8001000" cy="327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3880" indent="-623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解：当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8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时，                              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23880" indent="-623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不等式成立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23880" indent="-623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所以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8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是不等式                      的解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23880" indent="-623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Object 11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3200400" cy="944640"/>
          </a:xfrm>
          <a:prstGeom prst="rect">
            <a:avLst/>
          </a:prstGeom>
          <a:ln w="0">
            <a:noFill/>
          </a:ln>
        </p:spPr>
      </p:pic>
      <p:pic>
        <p:nvPicPr>
          <p:cNvPr id="350" name="Object 18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12952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5"/>
          <p:cNvSpPr/>
          <p:nvPr/>
        </p:nvSpPr>
        <p:spPr>
          <a:xfrm>
            <a:off x="990720" y="3124080"/>
            <a:ext cx="7619760" cy="2971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3880" indent="-623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解：当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5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时，                   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23880" indent="-623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不等式不成立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23880" indent="-623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所以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5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不是不等式                的解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533520" y="106668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533520" y="1600200"/>
            <a:ext cx="819612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8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是不等式                的解吗？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5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呢？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呢？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Object 8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355" name="Object 9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1182600" cy="871560"/>
          </a:xfrm>
          <a:prstGeom prst="rect">
            <a:avLst/>
          </a:prstGeom>
          <a:ln w="0">
            <a:noFill/>
          </a:ln>
        </p:spPr>
      </p:pic>
      <p:pic>
        <p:nvPicPr>
          <p:cNvPr id="356" name="Object 10" descr=""/>
          <p:cNvPicPr/>
          <p:nvPr/>
        </p:nvPicPr>
        <p:blipFill>
          <a:blip r:embed="rId3"/>
          <a:stretch/>
        </p:blipFill>
        <p:spPr>
          <a:xfrm>
            <a:off x="5486400" y="5105520"/>
            <a:ext cx="12952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5"/>
          <p:cNvSpPr/>
          <p:nvPr/>
        </p:nvSpPr>
        <p:spPr>
          <a:xfrm>
            <a:off x="533520" y="106668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533520" y="1600200"/>
            <a:ext cx="819612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8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是不等式                的解吗？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5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呢？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呢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Object 7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1295280" cy="9334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762120" y="3124080"/>
            <a:ext cx="7924680" cy="3200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3880" indent="-623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解：当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时，                                    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23880" indent="-623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不等式不成立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23880" indent="-623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所以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x=72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也不是不等式                    的解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Object 9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2982960" cy="871560"/>
          </a:xfrm>
          <a:prstGeom prst="rect">
            <a:avLst/>
          </a:prstGeom>
          <a:ln w="0">
            <a:noFill/>
          </a:ln>
        </p:spPr>
      </p:pic>
      <p:pic>
        <p:nvPicPr>
          <p:cNvPr id="362" name="Object 10" descr=""/>
          <p:cNvPicPr/>
          <p:nvPr/>
        </p:nvPicPr>
        <p:blipFill>
          <a:blip r:embed="rId3"/>
          <a:stretch/>
        </p:blipFill>
        <p:spPr>
          <a:xfrm>
            <a:off x="5638680" y="4952880"/>
            <a:ext cx="12956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277812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学指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学课本第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2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页从思考到这一页结束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找出：什么是不等式的解集及什么叫解不等式。并用笔画出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找出：怎样用数轴表示不等式的解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5"/>
          <p:cNvSpPr/>
          <p:nvPr/>
        </p:nvSpPr>
        <p:spPr>
          <a:xfrm>
            <a:off x="533520" y="175248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下列数中哪些是不等式                的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6 , 73 , 79 , 80, 74.9 , 75, 75.1, 90 , 60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还能找出这个不等式的其他解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不等式有多少个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说出他的解集吗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04920" y="4267080"/>
            <a:ext cx="4114800" cy="19051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2209680" y="5105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609480" y="1066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AutoShape 29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30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31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32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33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WordArt 36"/>
          <p:cNvSpPr txBox="1"/>
          <p:nvPr/>
        </p:nvSpPr>
        <p:spPr>
          <a:xfrm>
            <a:off x="4724280" y="441972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解的集合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2" name="WordArt 37"/>
          <p:cNvSpPr txBox="1"/>
          <p:nvPr/>
        </p:nvSpPr>
        <p:spPr>
          <a:xfrm>
            <a:off x="4800600" y="5562720"/>
            <a:ext cx="1447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解集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3" name="Rectangle 38"/>
          <p:cNvSpPr/>
          <p:nvPr/>
        </p:nvSpPr>
        <p:spPr>
          <a:xfrm>
            <a:off x="6783480" y="480060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&gt;7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Object 39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1511280" cy="10890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41"/>
          <p:cNvSpPr/>
          <p:nvPr/>
        </p:nvSpPr>
        <p:spPr>
          <a:xfrm>
            <a:off x="838080" y="4572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42"/>
          <p:cNvSpPr/>
          <p:nvPr/>
        </p:nvSpPr>
        <p:spPr>
          <a:xfrm>
            <a:off x="1600200" y="4572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43"/>
          <p:cNvSpPr/>
          <p:nvPr/>
        </p:nvSpPr>
        <p:spPr>
          <a:xfrm>
            <a:off x="2362320" y="45720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124080" y="4572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.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1143000" y="5181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4114800" y="8380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zh-CN" sz="4400" spc="-1" strike="noStrike">
                <a:solidFill>
                  <a:srgbClr val="000000"/>
                </a:solidFill>
                <a:latin typeface="Calibri"/>
              </a:rPr>
              <a:t>不等式的解集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795240" y="2014560"/>
            <a:ext cx="75535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的，一个含有未知数的不等式的所有的解组成这个不等式的解集。求不等式的解集的过程叫解不等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685800" y="449568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想一想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不等式的解和不等式的解集是一样的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不等式的解与解不等式一样吗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AutoShape 16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AutoShape 17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AutoShape 18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9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AutoShape 20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Oval 23"/>
          <p:cNvSpPr/>
          <p:nvPr/>
        </p:nvSpPr>
        <p:spPr>
          <a:xfrm>
            <a:off x="1371600" y="2895480"/>
            <a:ext cx="1600200" cy="990720"/>
          </a:xfrm>
          <a:prstGeom prst="ellipse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Oval 24"/>
          <p:cNvSpPr/>
          <p:nvPr/>
        </p:nvSpPr>
        <p:spPr>
          <a:xfrm>
            <a:off x="6248520" y="2971800"/>
            <a:ext cx="990360" cy="914400"/>
          </a:xfrm>
          <a:prstGeom prst="ellipse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Oval 25"/>
          <p:cNvSpPr/>
          <p:nvPr/>
        </p:nvSpPr>
        <p:spPr>
          <a:xfrm>
            <a:off x="3809880" y="3657600"/>
            <a:ext cx="990720" cy="914400"/>
          </a:xfrm>
          <a:prstGeom prst="ellipse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列说法正确的是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. x=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x+1&gt;5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的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. x=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x+1&gt;5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的唯一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. x=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不是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x+1&gt;5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的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. x=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x+1&gt;5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的解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4724280" y="1752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11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AutoShape 12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AutoShape 13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AutoShape 14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AutoShape 15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16"/>
          <p:cNvSpPr/>
          <p:nvPr/>
        </p:nvSpPr>
        <p:spPr>
          <a:xfrm>
            <a:off x="609480" y="99072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尝试练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1600200" y="762120"/>
            <a:ext cx="701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zh-CN" sz="4400" spc="-1" strike="noStrike">
                <a:solidFill>
                  <a:srgbClr val="000000"/>
                </a:solidFill>
                <a:latin typeface="Calibri"/>
              </a:rPr>
              <a:t>解集的表示方法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066680" y="28954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式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&gt;2)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用最简形式的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&gt;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&lt;a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AutoShape 10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AutoShape 12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AutoShape 14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15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1932480" y="4495680"/>
            <a:ext cx="503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不等式                       的解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用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&gt;7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表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Object 17" descr=""/>
          <p:cNvPicPr/>
          <p:nvPr/>
        </p:nvPicPr>
        <p:blipFill>
          <a:blip r:embed="rId1"/>
          <a:stretch/>
        </p:blipFill>
        <p:spPr>
          <a:xfrm>
            <a:off x="4267080" y="4419720"/>
            <a:ext cx="15112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4"/>
          <p:cNvSpPr/>
          <p:nvPr/>
        </p:nvSpPr>
        <p:spPr>
          <a:xfrm>
            <a:off x="1447920" y="213372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接想出不等式的解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2&gt;6   ⑵ 3x&gt;9   ⑶ 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&gt;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676520" y="3962520"/>
            <a:ext cx="26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⑴ x&gt;4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2286000" y="464832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&gt;3 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2286000" y="525780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⑶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&gt;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AutoShape 9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AutoShape 10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AutoShape 11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AutoShape 12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AutoShape 13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AutoShape 14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ctangle 16"/>
          <p:cNvSpPr/>
          <p:nvPr/>
        </p:nvSpPr>
        <p:spPr>
          <a:xfrm>
            <a:off x="609480" y="105084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尝试练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65"/>
          <p:cNvSpPr/>
          <p:nvPr/>
        </p:nvSpPr>
        <p:spPr>
          <a:xfrm>
            <a:off x="1295280" y="28195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数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出数轴上某一区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中的点对应的数值都是不等式的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AutoShape 66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AutoShape 67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AutoShape 68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AutoShape 69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AutoShape 70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AutoShape 71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组合 3"/>
          <p:cNvGrpSpPr/>
          <p:nvPr/>
        </p:nvGrpSpPr>
        <p:grpSpPr>
          <a:xfrm>
            <a:off x="838080" y="2590560"/>
            <a:ext cx="6480360" cy="863640"/>
            <a:chOff x="838080" y="2590560"/>
            <a:chExt cx="6480360" cy="863640"/>
          </a:xfrm>
        </p:grpSpPr>
        <p:sp>
          <p:nvSpPr>
            <p:cNvPr id="214" name="自选图形 4"/>
            <p:cNvSpPr/>
            <p:nvPr/>
          </p:nvSpPr>
          <p:spPr>
            <a:xfrm rot="16200000">
              <a:off x="3646440" y="-217440"/>
              <a:ext cx="863640" cy="6480360"/>
            </a:xfrm>
            <a:prstGeom prst="can">
              <a:avLst>
                <a:gd name="adj" fmla="val 133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3b2c1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  <a:effectLst>
              <a:outerShdw dist="153753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文本框 5"/>
            <p:cNvSpPr/>
            <p:nvPr/>
          </p:nvSpPr>
          <p:spPr>
            <a:xfrm>
              <a:off x="1051920" y="2745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66ff"/>
                  </a:solidFill>
                  <a:latin typeface="comic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" name="组合 3"/>
          <p:cNvGrpSpPr/>
          <p:nvPr/>
        </p:nvGrpSpPr>
        <p:grpSpPr>
          <a:xfrm>
            <a:off x="838080" y="3504960"/>
            <a:ext cx="6480360" cy="863640"/>
            <a:chOff x="838080" y="3504960"/>
            <a:chExt cx="6480360" cy="863640"/>
          </a:xfrm>
        </p:grpSpPr>
        <p:sp>
          <p:nvSpPr>
            <p:cNvPr id="217" name="自选图形 4"/>
            <p:cNvSpPr/>
            <p:nvPr/>
          </p:nvSpPr>
          <p:spPr>
            <a:xfrm rot="16200000">
              <a:off x="3646440" y="696600"/>
              <a:ext cx="863640" cy="6480360"/>
            </a:xfrm>
            <a:prstGeom prst="can">
              <a:avLst>
                <a:gd name="adj" fmla="val 133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3b2c1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  <a:effectLst>
              <a:outerShdw dist="153753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文本框 5"/>
            <p:cNvSpPr/>
            <p:nvPr/>
          </p:nvSpPr>
          <p:spPr>
            <a:xfrm>
              <a:off x="1051920" y="36594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comic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9" name="组合 3"/>
          <p:cNvGrpSpPr/>
          <p:nvPr/>
        </p:nvGrpSpPr>
        <p:grpSpPr>
          <a:xfrm>
            <a:off x="838080" y="4419360"/>
            <a:ext cx="6480360" cy="863640"/>
            <a:chOff x="838080" y="4419360"/>
            <a:chExt cx="6480360" cy="863640"/>
          </a:xfrm>
        </p:grpSpPr>
        <p:sp>
          <p:nvSpPr>
            <p:cNvPr id="220" name="自选图形 4"/>
            <p:cNvSpPr/>
            <p:nvPr/>
          </p:nvSpPr>
          <p:spPr>
            <a:xfrm rot="16200000">
              <a:off x="3646440" y="1611000"/>
              <a:ext cx="863640" cy="6480360"/>
            </a:xfrm>
            <a:prstGeom prst="can">
              <a:avLst>
                <a:gd name="adj" fmla="val 133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3b2c1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  <a:effectLst>
              <a:outerShdw dist="153753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文本框 5"/>
            <p:cNvSpPr/>
            <p:nvPr/>
          </p:nvSpPr>
          <p:spPr>
            <a:xfrm>
              <a:off x="1051920" y="45738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ff"/>
                  </a:solidFill>
                  <a:latin typeface="comic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2" name="组合 3"/>
          <p:cNvGrpSpPr/>
          <p:nvPr/>
        </p:nvGrpSpPr>
        <p:grpSpPr>
          <a:xfrm>
            <a:off x="838080" y="5333760"/>
            <a:ext cx="6480360" cy="863640"/>
            <a:chOff x="838080" y="5333760"/>
            <a:chExt cx="6480360" cy="863640"/>
          </a:xfrm>
        </p:grpSpPr>
        <p:sp>
          <p:nvSpPr>
            <p:cNvPr id="223" name="自选图形 4"/>
            <p:cNvSpPr/>
            <p:nvPr/>
          </p:nvSpPr>
          <p:spPr>
            <a:xfrm rot="16200000">
              <a:off x="3646440" y="2525400"/>
              <a:ext cx="863640" cy="6480360"/>
            </a:xfrm>
            <a:prstGeom prst="can">
              <a:avLst>
                <a:gd name="adj" fmla="val 133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3b2c1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  <a:effectLst>
              <a:outerShdw dist="153753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文本框 5"/>
            <p:cNvSpPr/>
            <p:nvPr/>
          </p:nvSpPr>
          <p:spPr>
            <a:xfrm>
              <a:off x="1051920" y="5488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omic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5" name="Text Box 6"/>
          <p:cNvSpPr/>
          <p:nvPr/>
        </p:nvSpPr>
        <p:spPr>
          <a:xfrm>
            <a:off x="2544480" y="2633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黑体"/>
              </a:rPr>
              <a:t>不等式的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625840" y="3559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黑体"/>
              </a:rPr>
              <a:t>不等式的解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150720" y="54864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黑体"/>
              </a:rPr>
              <a:t>一元一次不等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948040" y="4572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黑体"/>
              </a:rPr>
              <a:t>不等式解集的表示方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组合 3"/>
          <p:cNvGrpSpPr/>
          <p:nvPr/>
        </p:nvGrpSpPr>
        <p:grpSpPr>
          <a:xfrm>
            <a:off x="838080" y="1676160"/>
            <a:ext cx="6480360" cy="863640"/>
            <a:chOff x="838080" y="1676160"/>
            <a:chExt cx="6480360" cy="863640"/>
          </a:xfrm>
        </p:grpSpPr>
        <p:sp>
          <p:nvSpPr>
            <p:cNvPr id="230" name="自选图形 4"/>
            <p:cNvSpPr/>
            <p:nvPr/>
          </p:nvSpPr>
          <p:spPr>
            <a:xfrm rot="16200000">
              <a:off x="3646440" y="-1131840"/>
              <a:ext cx="863640" cy="6480360"/>
            </a:xfrm>
            <a:prstGeom prst="can">
              <a:avLst>
                <a:gd name="adj" fmla="val 133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3b2c1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  <a:effectLst>
              <a:outerShdw dist="153753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文本框 5"/>
            <p:cNvSpPr/>
            <p:nvPr/>
          </p:nvSpPr>
          <p:spPr>
            <a:xfrm>
              <a:off x="1051920" y="18306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omic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文本框 6"/>
          <p:cNvSpPr/>
          <p:nvPr/>
        </p:nvSpPr>
        <p:spPr>
          <a:xfrm>
            <a:off x="2379240" y="170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黑体"/>
              </a:rPr>
              <a:t>不等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5105520" y="533520"/>
            <a:ext cx="358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Calibri"/>
              </a:rPr>
              <a:t>本节学习内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1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ShockwaveFlash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55"/>
          <p:cNvSpPr/>
          <p:nvPr/>
        </p:nvSpPr>
        <p:spPr>
          <a:xfrm>
            <a:off x="533520" y="2133720"/>
            <a:ext cx="8229600" cy="3538440"/>
          </a:xfrm>
          <a:custGeom>
            <a:avLst/>
            <a:gdLst>
              <a:gd name="textAreaLeft" fmla="*/ 0 w 8229600"/>
              <a:gd name="textAreaRight" fmla="*/ 8229960 w 8229600"/>
              <a:gd name="textAreaTop" fmla="*/ 322560 h 3538440"/>
              <a:gd name="textAreaBottom" fmla="*/ 3215880 h 3538440"/>
            </a:gdLst>
            <a:ahLst/>
            <a:rect l="textAreaLeft" t="textAreaTop" r="textAreaRight" b="textAreaBottom"/>
            <a:pathLst>
              <a:path w="21600" h="21600">
                <a:moveTo>
                  <a:pt x="0" y="985"/>
                </a:moveTo>
                <a:cubicBezTo>
                  <a:pt x="7200" y="-2504"/>
                  <a:pt x="14400" y="4474"/>
                  <a:pt x="21600" y="985"/>
                </a:cubicBezTo>
                <a:lnTo>
                  <a:pt x="21600" y="20615"/>
                </a:lnTo>
                <a:cubicBezTo>
                  <a:pt x="14400" y="24104"/>
                  <a:pt x="7200" y="17126"/>
                  <a:pt x="0" y="20615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数轴表示不等式的解集的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数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边界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方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数轴表示不等式的解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记住下面的规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于向右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于向左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等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≥ ,≤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实心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等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&gt;,&lt;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空心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0" name="Group 68"/>
          <p:cNvGrpSpPr/>
          <p:nvPr/>
        </p:nvGrpSpPr>
        <p:grpSpPr>
          <a:xfrm>
            <a:off x="6705720" y="762120"/>
            <a:ext cx="2438280" cy="1787040"/>
            <a:chOff x="6705720" y="762120"/>
            <a:chExt cx="2438280" cy="1787040"/>
          </a:xfrm>
        </p:grpSpPr>
        <p:sp>
          <p:nvSpPr>
            <p:cNvPr id="451" name="AutoShape 69"/>
            <p:cNvSpPr/>
            <p:nvPr/>
          </p:nvSpPr>
          <p:spPr>
            <a:xfrm>
              <a:off x="6705720" y="762120"/>
              <a:ext cx="2438280" cy="1787040"/>
            </a:xfrm>
            <a:prstGeom prst="irregularSeal2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Rectangle 70"/>
            <p:cNvSpPr/>
            <p:nvPr/>
          </p:nvSpPr>
          <p:spPr>
            <a:xfrm>
              <a:off x="7223040" y="1208520"/>
              <a:ext cx="132984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ff0000"/>
                  </a:solidFill>
                  <a:latin typeface="Verdana"/>
                  <a:ea typeface="华文新魏"/>
                </a:rPr>
                <a:t>注意</a:t>
              </a:r>
              <a:endParaRPr b="0" lang="en-US" sz="3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3" name="AutoShape 71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AutoShape 72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AutoShape 73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AutoShape 74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AutoShape 75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AutoShape 76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5"/>
          <p:cNvSpPr/>
          <p:nvPr/>
        </p:nvSpPr>
        <p:spPr>
          <a:xfrm>
            <a:off x="685800" y="196524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数轴上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的是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133720" y="2803680"/>
            <a:ext cx="360" cy="360"/>
            <a:chOff x="2133720" y="2803680"/>
            <a:chExt cx="360" cy="360"/>
          </a:xfrm>
        </p:grpSpPr>
        <p:sp>
          <p:nvSpPr>
            <p:cNvPr id="461" name="Line 6"/>
            <p:cNvSpPr/>
            <p:nvPr/>
          </p:nvSpPr>
          <p:spPr>
            <a:xfrm>
              <a:off x="2133720" y="280368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2133720" y="2803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981080" y="2803680"/>
            <a:ext cx="360" cy="360"/>
            <a:chOff x="1981080" y="2803680"/>
            <a:chExt cx="360" cy="360"/>
          </a:xfrm>
        </p:grpSpPr>
        <p:sp>
          <p:nvSpPr>
            <p:cNvPr id="464" name="Line 7"/>
            <p:cNvSpPr/>
            <p:nvPr/>
          </p:nvSpPr>
          <p:spPr>
            <a:xfrm>
              <a:off x="1981080" y="280368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1981080" y="2803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Text Box 8"/>
          <p:cNvSpPr/>
          <p:nvPr/>
        </p:nvSpPr>
        <p:spPr>
          <a:xfrm>
            <a:off x="990720" y="341316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066680" y="3565440"/>
            <a:ext cx="2819520" cy="360"/>
            <a:chOff x="1066680" y="3565440"/>
            <a:chExt cx="2819520" cy="360"/>
          </a:xfrm>
        </p:grpSpPr>
        <p:sp>
          <p:nvSpPr>
            <p:cNvPr id="468" name="Line 9"/>
            <p:cNvSpPr/>
            <p:nvPr/>
          </p:nvSpPr>
          <p:spPr>
            <a:xfrm>
              <a:off x="1066680" y="356544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1066680" y="3565440"/>
              <a:ext cx="281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057040" y="3184200"/>
            <a:ext cx="360" cy="304920"/>
            <a:chOff x="2057040" y="3184200"/>
            <a:chExt cx="360" cy="304920"/>
          </a:xfrm>
        </p:grpSpPr>
        <p:sp>
          <p:nvSpPr>
            <p:cNvPr id="471" name="Line 10"/>
            <p:cNvSpPr/>
            <p:nvPr/>
          </p:nvSpPr>
          <p:spPr>
            <a:xfrm flipV="1">
              <a:off x="2057400" y="3184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 rot="10800000">
              <a:off x="2057040" y="31842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057400" y="3184560"/>
            <a:ext cx="1600200" cy="360"/>
            <a:chOff x="2057400" y="3184560"/>
            <a:chExt cx="1600200" cy="360"/>
          </a:xfrm>
        </p:grpSpPr>
        <p:sp>
          <p:nvSpPr>
            <p:cNvPr id="474" name="Line 11"/>
            <p:cNvSpPr/>
            <p:nvPr/>
          </p:nvSpPr>
          <p:spPr>
            <a:xfrm>
              <a:off x="2057400" y="318456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2057400" y="318456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6" name="Text Box 12"/>
          <p:cNvSpPr/>
          <p:nvPr/>
        </p:nvSpPr>
        <p:spPr>
          <a:xfrm>
            <a:off x="1828800" y="3565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2133720" y="3946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248520" y="3489480"/>
            <a:ext cx="360" cy="75960"/>
            <a:chOff x="6248520" y="3489480"/>
            <a:chExt cx="360" cy="75960"/>
          </a:xfrm>
        </p:grpSpPr>
        <p:sp>
          <p:nvSpPr>
            <p:cNvPr id="479" name="Line 14"/>
            <p:cNvSpPr/>
            <p:nvPr/>
          </p:nvSpPr>
          <p:spPr>
            <a:xfrm>
              <a:off x="6248520" y="348948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6248520" y="3489480"/>
              <a:ext cx="36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1" name="Text Box 15"/>
          <p:cNvSpPr/>
          <p:nvPr/>
        </p:nvSpPr>
        <p:spPr>
          <a:xfrm>
            <a:off x="5486400" y="34131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2" name="Group 16"/>
          <p:cNvGrpSpPr/>
          <p:nvPr/>
        </p:nvGrpSpPr>
        <p:grpSpPr>
          <a:xfrm>
            <a:off x="5410080" y="3260880"/>
            <a:ext cx="1523880" cy="749160"/>
            <a:chOff x="5410080" y="3260880"/>
            <a:chExt cx="1523880" cy="749160"/>
          </a:xfrm>
        </p:grpSpPr>
        <p:grpSp>
          <p:nvGrpSpPr>
            <p:cNvPr id="483" name=""/>
            <p:cNvGrpSpPr/>
            <p:nvPr/>
          </p:nvGrpSpPr>
          <p:grpSpPr>
            <a:xfrm>
              <a:off x="5638680" y="3260880"/>
              <a:ext cx="360" cy="304920"/>
              <a:chOff x="5638680" y="3260880"/>
              <a:chExt cx="360" cy="304920"/>
            </a:xfrm>
          </p:grpSpPr>
          <p:sp>
            <p:nvSpPr>
              <p:cNvPr id="484" name="Line 17"/>
              <p:cNvSpPr/>
              <p:nvPr/>
            </p:nvSpPr>
            <p:spPr>
              <a:xfrm>
                <a:off x="5638680" y="32608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5638680" y="32608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5638680" y="3260880"/>
              <a:ext cx="1295280" cy="360"/>
              <a:chOff x="5638680" y="3260880"/>
              <a:chExt cx="1295280" cy="360"/>
            </a:xfrm>
          </p:grpSpPr>
          <p:sp>
            <p:nvSpPr>
              <p:cNvPr id="487" name="Line 18"/>
              <p:cNvSpPr/>
              <p:nvPr/>
            </p:nvSpPr>
            <p:spPr>
              <a:xfrm>
                <a:off x="5638680" y="326088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5638680" y="326088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9" name="Text Box 19"/>
            <p:cNvSpPr/>
            <p:nvPr/>
          </p:nvSpPr>
          <p:spPr>
            <a:xfrm>
              <a:off x="6095880" y="36417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Text Box 20"/>
            <p:cNvSpPr/>
            <p:nvPr/>
          </p:nvSpPr>
          <p:spPr>
            <a:xfrm>
              <a:off x="5410080" y="3641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1" name="Text Box 21"/>
          <p:cNvSpPr/>
          <p:nvPr/>
        </p:nvSpPr>
        <p:spPr>
          <a:xfrm>
            <a:off x="5715000" y="40226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572000" y="3565440"/>
            <a:ext cx="2514600" cy="360"/>
            <a:chOff x="4572000" y="3565440"/>
            <a:chExt cx="2514600" cy="360"/>
          </a:xfrm>
        </p:grpSpPr>
        <p:sp>
          <p:nvSpPr>
            <p:cNvPr id="493" name="Line 22"/>
            <p:cNvSpPr/>
            <p:nvPr/>
          </p:nvSpPr>
          <p:spPr>
            <a:xfrm>
              <a:off x="4572000" y="356544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4572000" y="356544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5" name="Text Box 23"/>
          <p:cNvSpPr/>
          <p:nvPr/>
        </p:nvSpPr>
        <p:spPr>
          <a:xfrm>
            <a:off x="1905120" y="341316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1752480" y="486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○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762120" y="478476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914400" y="5013360"/>
            <a:ext cx="2590920" cy="360"/>
            <a:chOff x="914400" y="5013360"/>
            <a:chExt cx="2590920" cy="360"/>
          </a:xfrm>
        </p:grpSpPr>
        <p:sp>
          <p:nvSpPr>
            <p:cNvPr id="499" name="Line 26"/>
            <p:cNvSpPr/>
            <p:nvPr/>
          </p:nvSpPr>
          <p:spPr>
            <a:xfrm>
              <a:off x="914400" y="501336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914400" y="501336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514600" y="4937040"/>
            <a:ext cx="360" cy="76320"/>
            <a:chOff x="2514600" y="4937040"/>
            <a:chExt cx="360" cy="76320"/>
          </a:xfrm>
        </p:grpSpPr>
        <p:sp>
          <p:nvSpPr>
            <p:cNvPr id="502" name="Line 27"/>
            <p:cNvSpPr/>
            <p:nvPr/>
          </p:nvSpPr>
          <p:spPr>
            <a:xfrm>
              <a:off x="2514600" y="493704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2514600" y="4937040"/>
              <a:ext cx="36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905120" y="4632480"/>
            <a:ext cx="360" cy="304560"/>
            <a:chOff x="1905120" y="4632480"/>
            <a:chExt cx="360" cy="304560"/>
          </a:xfrm>
        </p:grpSpPr>
        <p:sp>
          <p:nvSpPr>
            <p:cNvPr id="505" name="Line 28"/>
            <p:cNvSpPr/>
            <p:nvPr/>
          </p:nvSpPr>
          <p:spPr>
            <a:xfrm>
              <a:off x="1905120" y="46324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1905120" y="463248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905120" y="4632480"/>
            <a:ext cx="1295280" cy="360"/>
            <a:chOff x="1905120" y="4632480"/>
            <a:chExt cx="1295280" cy="360"/>
          </a:xfrm>
        </p:grpSpPr>
        <p:sp>
          <p:nvSpPr>
            <p:cNvPr id="508" name="Line 29"/>
            <p:cNvSpPr/>
            <p:nvPr/>
          </p:nvSpPr>
          <p:spPr>
            <a:xfrm>
              <a:off x="1905120" y="463248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1905120" y="463248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0" name="Text Box 30"/>
          <p:cNvSpPr/>
          <p:nvPr/>
        </p:nvSpPr>
        <p:spPr>
          <a:xfrm>
            <a:off x="2362320" y="50133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31"/>
          <p:cNvSpPr/>
          <p:nvPr/>
        </p:nvSpPr>
        <p:spPr>
          <a:xfrm>
            <a:off x="1676520" y="5013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32"/>
          <p:cNvSpPr/>
          <p:nvPr/>
        </p:nvSpPr>
        <p:spPr>
          <a:xfrm>
            <a:off x="1981080" y="547056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Group 33"/>
          <p:cNvGrpSpPr/>
          <p:nvPr/>
        </p:nvGrpSpPr>
        <p:grpSpPr>
          <a:xfrm>
            <a:off x="4267080" y="4632480"/>
            <a:ext cx="3504960" cy="1160640"/>
            <a:chOff x="4267080" y="4632480"/>
            <a:chExt cx="3504960" cy="1160640"/>
          </a:xfrm>
        </p:grpSpPr>
        <p:grpSp>
          <p:nvGrpSpPr>
            <p:cNvPr id="514" name="Group 34"/>
            <p:cNvGrpSpPr/>
            <p:nvPr/>
          </p:nvGrpSpPr>
          <p:grpSpPr>
            <a:xfrm>
              <a:off x="4267080" y="4632480"/>
              <a:ext cx="3504960" cy="749160"/>
              <a:chOff x="4267080" y="4632480"/>
              <a:chExt cx="3504960" cy="749160"/>
            </a:xfrm>
          </p:grpSpPr>
          <p:grpSp>
            <p:nvGrpSpPr>
              <p:cNvPr id="515" name="Group 35"/>
              <p:cNvGrpSpPr/>
              <p:nvPr/>
            </p:nvGrpSpPr>
            <p:grpSpPr>
              <a:xfrm>
                <a:off x="4267080" y="4784760"/>
                <a:ext cx="3504960" cy="366840"/>
                <a:chOff x="4267080" y="4784760"/>
                <a:chExt cx="3504960" cy="366840"/>
              </a:xfrm>
            </p:grpSpPr>
            <p:sp>
              <p:nvSpPr>
                <p:cNvPr id="516" name="Text Box 36"/>
                <p:cNvSpPr/>
                <p:nvPr/>
              </p:nvSpPr>
              <p:spPr>
                <a:xfrm>
                  <a:off x="4267080" y="4784760"/>
                  <a:ext cx="35049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4419000" y="5013360"/>
                  <a:ext cx="2590560" cy="360"/>
                  <a:chOff x="4419000" y="5013360"/>
                  <a:chExt cx="2590560" cy="360"/>
                </a:xfrm>
              </p:grpSpPr>
              <p:sp>
                <p:nvSpPr>
                  <p:cNvPr id="518" name="Line 37"/>
                  <p:cNvSpPr/>
                  <p:nvPr/>
                </p:nvSpPr>
                <p:spPr>
                  <a:xfrm>
                    <a:off x="4419000" y="5013360"/>
                    <a:ext cx="2590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9" name=""/>
                  <p:cNvSpPr txBox="1"/>
                  <p:nvPr/>
                </p:nvSpPr>
                <p:spPr>
                  <a:xfrm>
                    <a:off x="4419000" y="5013360"/>
                    <a:ext cx="2590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019200" y="4937400"/>
                  <a:ext cx="360" cy="75960"/>
                  <a:chOff x="6019200" y="4937400"/>
                  <a:chExt cx="360" cy="75960"/>
                </a:xfrm>
              </p:grpSpPr>
              <p:sp>
                <p:nvSpPr>
                  <p:cNvPr id="521" name="Line 38"/>
                  <p:cNvSpPr/>
                  <p:nvPr/>
                </p:nvSpPr>
                <p:spPr>
                  <a:xfrm>
                    <a:off x="6019200" y="4937400"/>
                    <a:ext cx="0" cy="75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2" name=""/>
                  <p:cNvSpPr txBox="1"/>
                  <p:nvPr/>
                </p:nvSpPr>
                <p:spPr>
                  <a:xfrm>
                    <a:off x="6019200" y="493740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23" name="Text Box 39"/>
                <p:cNvSpPr/>
                <p:nvPr/>
              </p:nvSpPr>
              <p:spPr>
                <a:xfrm>
                  <a:off x="5257440" y="4861080"/>
                  <a:ext cx="30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●</a:t>
                  </a: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24" name="Group 40"/>
              <p:cNvGrpSpPr/>
              <p:nvPr/>
            </p:nvGrpSpPr>
            <p:grpSpPr>
              <a:xfrm>
                <a:off x="5181120" y="4632480"/>
                <a:ext cx="1523160" cy="749160"/>
                <a:chOff x="5181120" y="4632480"/>
                <a:chExt cx="1523160" cy="74916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5409360" y="4632480"/>
                  <a:ext cx="360" cy="304920"/>
                  <a:chOff x="5409360" y="4632480"/>
                  <a:chExt cx="360" cy="304920"/>
                </a:xfrm>
              </p:grpSpPr>
              <p:sp>
                <p:nvSpPr>
                  <p:cNvPr id="526" name="Line 41"/>
                  <p:cNvSpPr/>
                  <p:nvPr/>
                </p:nvSpPr>
                <p:spPr>
                  <a:xfrm>
                    <a:off x="5409360" y="4632480"/>
                    <a:ext cx="0" cy="30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7" name=""/>
                  <p:cNvSpPr txBox="1"/>
                  <p:nvPr/>
                </p:nvSpPr>
                <p:spPr>
                  <a:xfrm>
                    <a:off x="5409360" y="4632480"/>
                    <a:ext cx="3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5409360" y="4632480"/>
                  <a:ext cx="1294920" cy="360"/>
                  <a:chOff x="5409360" y="4632480"/>
                  <a:chExt cx="1294920" cy="360"/>
                </a:xfrm>
              </p:grpSpPr>
              <p:sp>
                <p:nvSpPr>
                  <p:cNvPr id="529" name="Line 42"/>
                  <p:cNvSpPr/>
                  <p:nvPr/>
                </p:nvSpPr>
                <p:spPr>
                  <a:xfrm>
                    <a:off x="5409360" y="4632480"/>
                    <a:ext cx="129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0" name=""/>
                  <p:cNvSpPr txBox="1"/>
                  <p:nvPr/>
                </p:nvSpPr>
                <p:spPr>
                  <a:xfrm>
                    <a:off x="5409360" y="4632480"/>
                    <a:ext cx="1294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531" name="Text Box 43"/>
                <p:cNvSpPr/>
                <p:nvPr/>
              </p:nvSpPr>
              <p:spPr>
                <a:xfrm>
                  <a:off x="5866560" y="5013360"/>
                  <a:ext cx="30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2" name="Text Box 44"/>
                <p:cNvSpPr/>
                <p:nvPr/>
              </p:nvSpPr>
              <p:spPr>
                <a:xfrm>
                  <a:off x="5181120" y="5013360"/>
                  <a:ext cx="456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2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33" name="Text Box 45"/>
            <p:cNvSpPr/>
            <p:nvPr/>
          </p:nvSpPr>
          <p:spPr>
            <a:xfrm>
              <a:off x="5486040" y="539424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4" name="Text Box 46"/>
          <p:cNvSpPr/>
          <p:nvPr/>
        </p:nvSpPr>
        <p:spPr>
          <a:xfrm>
            <a:off x="64008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AutoShape 48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AutoShape 49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AutoShape 50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AutoShape 51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AutoShape 52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AutoShape 53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54"/>
          <p:cNvSpPr/>
          <p:nvPr/>
        </p:nvSpPr>
        <p:spPr>
          <a:xfrm>
            <a:off x="609480" y="105084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尝试练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AutoShape 6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AutoShape 7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AutoShape 8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AutoShape 9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AutoShape 10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AutoShape 11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9" name="ShockwaveFlash1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5"/>
          <p:cNvGrpSpPr/>
          <p:nvPr/>
        </p:nvGrpSpPr>
        <p:grpSpPr>
          <a:xfrm>
            <a:off x="685800" y="2133720"/>
            <a:ext cx="3124080" cy="1510920"/>
            <a:chOff x="685800" y="2133720"/>
            <a:chExt cx="3124080" cy="1510920"/>
          </a:xfrm>
        </p:grpSpPr>
        <p:grpSp>
          <p:nvGrpSpPr>
            <p:cNvPr id="551" name="Group 6"/>
            <p:cNvGrpSpPr/>
            <p:nvPr/>
          </p:nvGrpSpPr>
          <p:grpSpPr>
            <a:xfrm>
              <a:off x="685800" y="2133720"/>
              <a:ext cx="3124080" cy="1130040"/>
              <a:chOff x="685800" y="2133720"/>
              <a:chExt cx="3124080" cy="113004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1828440" y="2133720"/>
                <a:ext cx="360" cy="360"/>
                <a:chOff x="1828440" y="2133720"/>
                <a:chExt cx="360" cy="360"/>
              </a:xfrm>
            </p:grpSpPr>
            <p:sp>
              <p:nvSpPr>
                <p:cNvPr id="553" name="Line 7"/>
                <p:cNvSpPr/>
                <p:nvPr/>
              </p:nvSpPr>
              <p:spPr>
                <a:xfrm>
                  <a:off x="1828440" y="2133720"/>
                  <a:ext cx="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4" name=""/>
                <p:cNvSpPr txBox="1"/>
                <p:nvPr/>
              </p:nvSpPr>
              <p:spPr>
                <a:xfrm>
                  <a:off x="1828440" y="213372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1676160" y="2133720"/>
                <a:ext cx="360" cy="360"/>
                <a:chOff x="1676160" y="2133720"/>
                <a:chExt cx="360" cy="360"/>
              </a:xfrm>
            </p:grpSpPr>
            <p:sp>
              <p:nvSpPr>
                <p:cNvPr id="556" name="Line 8"/>
                <p:cNvSpPr/>
                <p:nvPr/>
              </p:nvSpPr>
              <p:spPr>
                <a:xfrm>
                  <a:off x="1676160" y="2133720"/>
                  <a:ext cx="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7" name=""/>
                <p:cNvSpPr txBox="1"/>
                <p:nvPr/>
              </p:nvSpPr>
              <p:spPr>
                <a:xfrm>
                  <a:off x="1676160" y="213372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58" name="Text Box 9"/>
              <p:cNvSpPr/>
              <p:nvPr/>
            </p:nvSpPr>
            <p:spPr>
              <a:xfrm>
                <a:off x="685800" y="2743200"/>
                <a:ext cx="3124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761760" y="2895480"/>
                <a:ext cx="2819160" cy="360"/>
                <a:chOff x="761760" y="2895480"/>
                <a:chExt cx="2819160" cy="360"/>
              </a:xfrm>
            </p:grpSpPr>
            <p:sp>
              <p:nvSpPr>
                <p:cNvPr id="560" name="Line 10"/>
                <p:cNvSpPr/>
                <p:nvPr/>
              </p:nvSpPr>
              <p:spPr>
                <a:xfrm>
                  <a:off x="761760" y="2895480"/>
                  <a:ext cx="281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1" name=""/>
                <p:cNvSpPr txBox="1"/>
                <p:nvPr/>
              </p:nvSpPr>
              <p:spPr>
                <a:xfrm>
                  <a:off x="761760" y="2895480"/>
                  <a:ext cx="2819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62" name="Text Box 11"/>
              <p:cNvSpPr/>
              <p:nvPr/>
            </p:nvSpPr>
            <p:spPr>
              <a:xfrm>
                <a:off x="1599840" y="2743200"/>
                <a:ext cx="30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3" name=""/>
              <p:cNvGrpSpPr/>
              <p:nvPr/>
            </p:nvGrpSpPr>
            <p:grpSpPr>
              <a:xfrm>
                <a:off x="2361960" y="2819520"/>
                <a:ext cx="360" cy="75960"/>
                <a:chOff x="2361960" y="2819520"/>
                <a:chExt cx="360" cy="75960"/>
              </a:xfrm>
            </p:grpSpPr>
            <p:sp>
              <p:nvSpPr>
                <p:cNvPr id="564" name="Line 12"/>
                <p:cNvSpPr/>
                <p:nvPr/>
              </p:nvSpPr>
              <p:spPr>
                <a:xfrm>
                  <a:off x="2361960" y="2819520"/>
                  <a:ext cx="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5" name=""/>
                <p:cNvSpPr txBox="1"/>
                <p:nvPr/>
              </p:nvSpPr>
              <p:spPr>
                <a:xfrm>
                  <a:off x="2361960" y="2819520"/>
                  <a:ext cx="36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1752120" y="2514240"/>
                <a:ext cx="360" cy="304920"/>
                <a:chOff x="1752120" y="2514240"/>
                <a:chExt cx="360" cy="304920"/>
              </a:xfrm>
            </p:grpSpPr>
            <p:sp>
              <p:nvSpPr>
                <p:cNvPr id="567" name="Line 13"/>
                <p:cNvSpPr/>
                <p:nvPr/>
              </p:nvSpPr>
              <p:spPr>
                <a:xfrm flipV="1">
                  <a:off x="1752480" y="2514240"/>
                  <a:ext cx="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8" name=""/>
                <p:cNvSpPr txBox="1"/>
                <p:nvPr/>
              </p:nvSpPr>
              <p:spPr>
                <a:xfrm rot="10800000">
                  <a:off x="1752120" y="251424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1752480" y="2514600"/>
                <a:ext cx="1599840" cy="360"/>
                <a:chOff x="1752480" y="2514600"/>
                <a:chExt cx="1599840" cy="360"/>
              </a:xfrm>
            </p:grpSpPr>
            <p:sp>
              <p:nvSpPr>
                <p:cNvPr id="570" name="Line 14"/>
                <p:cNvSpPr/>
                <p:nvPr/>
              </p:nvSpPr>
              <p:spPr>
                <a:xfrm>
                  <a:off x="1752480" y="2514600"/>
                  <a:ext cx="15998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1" name=""/>
                <p:cNvSpPr txBox="1"/>
                <p:nvPr/>
              </p:nvSpPr>
              <p:spPr>
                <a:xfrm>
                  <a:off x="1752480" y="2514600"/>
                  <a:ext cx="1599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72" name="Text Box 15"/>
              <p:cNvSpPr/>
              <p:nvPr/>
            </p:nvSpPr>
            <p:spPr>
              <a:xfrm>
                <a:off x="2209680" y="28954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Text Box 16"/>
              <p:cNvSpPr/>
              <p:nvPr/>
            </p:nvSpPr>
            <p:spPr>
              <a:xfrm>
                <a:off x="1523880" y="28954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74" name="Text Box 17"/>
            <p:cNvSpPr/>
            <p:nvPr/>
          </p:nvSpPr>
          <p:spPr>
            <a:xfrm>
              <a:off x="1828440" y="3276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⑴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5" name="Group 18"/>
          <p:cNvGrpSpPr/>
          <p:nvPr/>
        </p:nvGrpSpPr>
        <p:grpSpPr>
          <a:xfrm>
            <a:off x="762120" y="4114800"/>
            <a:ext cx="3124080" cy="1511280"/>
            <a:chOff x="762120" y="4114800"/>
            <a:chExt cx="3124080" cy="1511280"/>
          </a:xfrm>
        </p:grpSpPr>
        <p:grpSp>
          <p:nvGrpSpPr>
            <p:cNvPr id="576" name="Group 19"/>
            <p:cNvGrpSpPr/>
            <p:nvPr/>
          </p:nvGrpSpPr>
          <p:grpSpPr>
            <a:xfrm>
              <a:off x="762120" y="4114800"/>
              <a:ext cx="3124080" cy="1130040"/>
              <a:chOff x="762120" y="4114800"/>
              <a:chExt cx="3124080" cy="113004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1905120" y="4114800"/>
                <a:ext cx="360" cy="360"/>
                <a:chOff x="1905120" y="4114800"/>
                <a:chExt cx="360" cy="360"/>
              </a:xfrm>
            </p:grpSpPr>
            <p:sp>
              <p:nvSpPr>
                <p:cNvPr id="578" name="Line 20"/>
                <p:cNvSpPr/>
                <p:nvPr/>
              </p:nvSpPr>
              <p:spPr>
                <a:xfrm>
                  <a:off x="1905120" y="4114800"/>
                  <a:ext cx="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9" name=""/>
                <p:cNvSpPr txBox="1"/>
                <p:nvPr/>
              </p:nvSpPr>
              <p:spPr>
                <a:xfrm>
                  <a:off x="1905120" y="41148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1752480" y="4114800"/>
                <a:ext cx="360" cy="360"/>
                <a:chOff x="1752480" y="4114800"/>
                <a:chExt cx="360" cy="360"/>
              </a:xfrm>
            </p:grpSpPr>
            <p:sp>
              <p:nvSpPr>
                <p:cNvPr id="581" name="Line 21"/>
                <p:cNvSpPr/>
                <p:nvPr/>
              </p:nvSpPr>
              <p:spPr>
                <a:xfrm>
                  <a:off x="1752480" y="4114800"/>
                  <a:ext cx="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2" name=""/>
                <p:cNvSpPr txBox="1"/>
                <p:nvPr/>
              </p:nvSpPr>
              <p:spPr>
                <a:xfrm>
                  <a:off x="1752480" y="41148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83" name="Text Box 22"/>
              <p:cNvSpPr/>
              <p:nvPr/>
            </p:nvSpPr>
            <p:spPr>
              <a:xfrm>
                <a:off x="762120" y="4724280"/>
                <a:ext cx="3124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838080" y="4876560"/>
                <a:ext cx="2819520" cy="360"/>
                <a:chOff x="838080" y="4876560"/>
                <a:chExt cx="2819520" cy="360"/>
              </a:xfrm>
            </p:grpSpPr>
            <p:sp>
              <p:nvSpPr>
                <p:cNvPr id="585" name="Line 23"/>
                <p:cNvSpPr/>
                <p:nvPr/>
              </p:nvSpPr>
              <p:spPr>
                <a:xfrm>
                  <a:off x="838080" y="4876560"/>
                  <a:ext cx="2819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6" name=""/>
                <p:cNvSpPr txBox="1"/>
                <p:nvPr/>
              </p:nvSpPr>
              <p:spPr>
                <a:xfrm>
                  <a:off x="838080" y="4876560"/>
                  <a:ext cx="2819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87" name="Text Box 24"/>
              <p:cNvSpPr/>
              <p:nvPr/>
            </p:nvSpPr>
            <p:spPr>
              <a:xfrm>
                <a:off x="1676520" y="4724280"/>
                <a:ext cx="30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2438280" y="4800240"/>
                <a:ext cx="360" cy="75960"/>
                <a:chOff x="2438280" y="4800240"/>
                <a:chExt cx="360" cy="75960"/>
              </a:xfrm>
            </p:grpSpPr>
            <p:sp>
              <p:nvSpPr>
                <p:cNvPr id="589" name="Line 25"/>
                <p:cNvSpPr/>
                <p:nvPr/>
              </p:nvSpPr>
              <p:spPr>
                <a:xfrm>
                  <a:off x="2438280" y="4800240"/>
                  <a:ext cx="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>
                  <a:off x="2438280" y="4800240"/>
                  <a:ext cx="36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1828440" y="4495320"/>
                <a:ext cx="360" cy="304200"/>
                <a:chOff x="1828440" y="4495320"/>
                <a:chExt cx="360" cy="304200"/>
              </a:xfrm>
            </p:grpSpPr>
            <p:sp>
              <p:nvSpPr>
                <p:cNvPr id="592" name="Line 26"/>
                <p:cNvSpPr/>
                <p:nvPr/>
              </p:nvSpPr>
              <p:spPr>
                <a:xfrm flipV="1">
                  <a:off x="1828800" y="4495320"/>
                  <a:ext cx="0" cy="304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3" name=""/>
                <p:cNvSpPr txBox="1"/>
                <p:nvPr/>
              </p:nvSpPr>
              <p:spPr>
                <a:xfrm rot="10800000">
                  <a:off x="1828440" y="4495320"/>
                  <a:ext cx="360" cy="30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94" name="Text Box 27"/>
              <p:cNvSpPr/>
              <p:nvPr/>
            </p:nvSpPr>
            <p:spPr>
              <a:xfrm>
                <a:off x="2286000" y="48765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Text Box 28"/>
              <p:cNvSpPr/>
              <p:nvPr/>
            </p:nvSpPr>
            <p:spPr>
              <a:xfrm>
                <a:off x="1600200" y="48765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838080" y="4495680"/>
                <a:ext cx="990720" cy="360"/>
                <a:chOff x="838080" y="4495680"/>
                <a:chExt cx="990720" cy="360"/>
              </a:xfrm>
            </p:grpSpPr>
            <p:sp>
              <p:nvSpPr>
                <p:cNvPr id="597" name="Line 29"/>
                <p:cNvSpPr/>
                <p:nvPr/>
              </p:nvSpPr>
              <p:spPr>
                <a:xfrm flipH="1">
                  <a:off x="838080" y="4495680"/>
                  <a:ext cx="99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8" name=""/>
                <p:cNvSpPr txBox="1"/>
                <p:nvPr/>
              </p:nvSpPr>
              <p:spPr>
                <a:xfrm>
                  <a:off x="838080" y="4495680"/>
                  <a:ext cx="9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99" name="Text Box 30"/>
            <p:cNvSpPr/>
            <p:nvPr/>
          </p:nvSpPr>
          <p:spPr>
            <a:xfrm>
              <a:off x="1828800" y="5257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⑶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0" name="Group 31"/>
          <p:cNvGrpSpPr/>
          <p:nvPr/>
        </p:nvGrpSpPr>
        <p:grpSpPr>
          <a:xfrm>
            <a:off x="4495680" y="2590920"/>
            <a:ext cx="2590920" cy="1053720"/>
            <a:chOff x="4495680" y="2590920"/>
            <a:chExt cx="2590920" cy="1053720"/>
          </a:xfrm>
        </p:grpSpPr>
        <p:grpSp>
          <p:nvGrpSpPr>
            <p:cNvPr id="601" name=""/>
            <p:cNvGrpSpPr/>
            <p:nvPr/>
          </p:nvGrpSpPr>
          <p:grpSpPr>
            <a:xfrm>
              <a:off x="4495680" y="2895480"/>
              <a:ext cx="2590920" cy="360"/>
              <a:chOff x="4495680" y="2895480"/>
              <a:chExt cx="2590920" cy="360"/>
            </a:xfrm>
          </p:grpSpPr>
          <p:sp>
            <p:nvSpPr>
              <p:cNvPr id="602" name="Line 32"/>
              <p:cNvSpPr/>
              <p:nvPr/>
            </p:nvSpPr>
            <p:spPr>
              <a:xfrm>
                <a:off x="4495680" y="2895480"/>
                <a:ext cx="259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4495680" y="2895480"/>
                <a:ext cx="259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5486400" y="2819160"/>
              <a:ext cx="360" cy="75960"/>
              <a:chOff x="5486400" y="2819160"/>
              <a:chExt cx="360" cy="75960"/>
            </a:xfrm>
          </p:grpSpPr>
          <p:sp>
            <p:nvSpPr>
              <p:cNvPr id="605" name="Line 33"/>
              <p:cNvSpPr/>
              <p:nvPr/>
            </p:nvSpPr>
            <p:spPr>
              <a:xfrm>
                <a:off x="5486400" y="2819160"/>
                <a:ext cx="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5486400" y="2819160"/>
                <a:ext cx="36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7" name="Text Box 34"/>
            <p:cNvSpPr/>
            <p:nvPr/>
          </p:nvSpPr>
          <p:spPr>
            <a:xfrm>
              <a:off x="6019560" y="27432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6172200" y="2590920"/>
              <a:ext cx="360" cy="304560"/>
              <a:chOff x="6172200" y="2590920"/>
              <a:chExt cx="360" cy="304560"/>
            </a:xfrm>
          </p:grpSpPr>
          <p:sp>
            <p:nvSpPr>
              <p:cNvPr id="609" name="Line 35"/>
              <p:cNvSpPr/>
              <p:nvPr/>
            </p:nvSpPr>
            <p:spPr>
              <a:xfrm>
                <a:off x="6172200" y="25909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>
                <a:off x="6172200" y="25909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6172200" y="2590920"/>
              <a:ext cx="914400" cy="360"/>
              <a:chOff x="6172200" y="2590920"/>
              <a:chExt cx="914400" cy="360"/>
            </a:xfrm>
          </p:grpSpPr>
          <p:sp>
            <p:nvSpPr>
              <p:cNvPr id="612" name="Line 36"/>
              <p:cNvSpPr/>
              <p:nvPr/>
            </p:nvSpPr>
            <p:spPr>
              <a:xfrm>
                <a:off x="6172200" y="259092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3" name=""/>
              <p:cNvSpPr txBox="1"/>
              <p:nvPr/>
            </p:nvSpPr>
            <p:spPr>
              <a:xfrm>
                <a:off x="6172200" y="25909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14" name="Text Box 37"/>
            <p:cNvSpPr/>
            <p:nvPr/>
          </p:nvSpPr>
          <p:spPr>
            <a:xfrm>
              <a:off x="5333760" y="2895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Text Box 38"/>
            <p:cNvSpPr/>
            <p:nvPr/>
          </p:nvSpPr>
          <p:spPr>
            <a:xfrm>
              <a:off x="6019560" y="2895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Text Box 39"/>
            <p:cNvSpPr/>
            <p:nvPr/>
          </p:nvSpPr>
          <p:spPr>
            <a:xfrm>
              <a:off x="5562360" y="32763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7" name="Group 40"/>
          <p:cNvGrpSpPr/>
          <p:nvPr/>
        </p:nvGrpSpPr>
        <p:grpSpPr>
          <a:xfrm>
            <a:off x="4724280" y="4648320"/>
            <a:ext cx="2590920" cy="977760"/>
            <a:chOff x="4724280" y="4648320"/>
            <a:chExt cx="2590920" cy="977760"/>
          </a:xfrm>
        </p:grpSpPr>
        <p:grpSp>
          <p:nvGrpSpPr>
            <p:cNvPr id="618" name=""/>
            <p:cNvGrpSpPr/>
            <p:nvPr/>
          </p:nvGrpSpPr>
          <p:grpSpPr>
            <a:xfrm>
              <a:off x="4724280" y="4952880"/>
              <a:ext cx="2590920" cy="360"/>
              <a:chOff x="4724280" y="4952880"/>
              <a:chExt cx="2590920" cy="360"/>
            </a:xfrm>
          </p:grpSpPr>
          <p:sp>
            <p:nvSpPr>
              <p:cNvPr id="619" name="Line 41"/>
              <p:cNvSpPr/>
              <p:nvPr/>
            </p:nvSpPr>
            <p:spPr>
              <a:xfrm>
                <a:off x="4724280" y="4952880"/>
                <a:ext cx="259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>
                <a:off x="4724280" y="4952880"/>
                <a:ext cx="259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638680" y="4876920"/>
              <a:ext cx="360" cy="75960"/>
              <a:chOff x="5638680" y="4876920"/>
              <a:chExt cx="360" cy="75960"/>
            </a:xfrm>
          </p:grpSpPr>
          <p:sp>
            <p:nvSpPr>
              <p:cNvPr id="622" name="Line 42"/>
              <p:cNvSpPr/>
              <p:nvPr/>
            </p:nvSpPr>
            <p:spPr>
              <a:xfrm>
                <a:off x="5638680" y="4876920"/>
                <a:ext cx="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5638680" y="4876920"/>
                <a:ext cx="36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24" name="Text Box 43"/>
            <p:cNvSpPr/>
            <p:nvPr/>
          </p:nvSpPr>
          <p:spPr>
            <a:xfrm>
              <a:off x="6095880" y="48006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Text Box 44"/>
            <p:cNvSpPr/>
            <p:nvPr/>
          </p:nvSpPr>
          <p:spPr>
            <a:xfrm>
              <a:off x="5486400" y="4952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Text Box 45"/>
            <p:cNvSpPr/>
            <p:nvPr/>
          </p:nvSpPr>
          <p:spPr>
            <a:xfrm>
              <a:off x="609588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6248520" y="4648320"/>
              <a:ext cx="360" cy="304560"/>
              <a:chOff x="6248520" y="4648320"/>
              <a:chExt cx="360" cy="304560"/>
            </a:xfrm>
          </p:grpSpPr>
          <p:sp>
            <p:nvSpPr>
              <p:cNvPr id="628" name="Line 46"/>
              <p:cNvSpPr/>
              <p:nvPr/>
            </p:nvSpPr>
            <p:spPr>
              <a:xfrm>
                <a:off x="6248520" y="46483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6248520" y="46483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5028840" y="4648320"/>
              <a:ext cx="1219680" cy="360"/>
              <a:chOff x="5028840" y="4648320"/>
              <a:chExt cx="1219680" cy="360"/>
            </a:xfrm>
          </p:grpSpPr>
          <p:sp>
            <p:nvSpPr>
              <p:cNvPr id="631" name="Line 47"/>
              <p:cNvSpPr/>
              <p:nvPr/>
            </p:nvSpPr>
            <p:spPr>
              <a:xfrm flipH="1">
                <a:off x="5028840" y="4648320"/>
                <a:ext cx="1219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2" name=""/>
              <p:cNvSpPr txBox="1"/>
              <p:nvPr/>
            </p:nvSpPr>
            <p:spPr>
              <a:xfrm>
                <a:off x="5029200" y="4648320"/>
                <a:ext cx="121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33" name="Text Box 48"/>
            <p:cNvSpPr/>
            <p:nvPr/>
          </p:nvSpPr>
          <p:spPr>
            <a:xfrm>
              <a:off x="5638680" y="5257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4" name="Text Box 50"/>
          <p:cNvSpPr/>
          <p:nvPr/>
        </p:nvSpPr>
        <p:spPr>
          <a:xfrm>
            <a:off x="838080" y="17524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下列数轴所表示的不等式的解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Text Box 51"/>
          <p:cNvSpPr/>
          <p:nvPr/>
        </p:nvSpPr>
        <p:spPr>
          <a:xfrm>
            <a:off x="4572000" y="43434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Text Box 52"/>
          <p:cNvSpPr/>
          <p:nvPr/>
        </p:nvSpPr>
        <p:spPr>
          <a:xfrm>
            <a:off x="1447920" y="342900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 Box 53"/>
          <p:cNvSpPr/>
          <p:nvPr/>
        </p:nvSpPr>
        <p:spPr>
          <a:xfrm>
            <a:off x="1600200" y="3886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gt; -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Text Box 54"/>
          <p:cNvSpPr/>
          <p:nvPr/>
        </p:nvSpPr>
        <p:spPr>
          <a:xfrm>
            <a:off x="5410080" y="3733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≥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 Box 55"/>
          <p:cNvSpPr/>
          <p:nvPr/>
        </p:nvSpPr>
        <p:spPr>
          <a:xfrm>
            <a:off x="14479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Text Box 56"/>
          <p:cNvSpPr/>
          <p:nvPr/>
        </p:nvSpPr>
        <p:spPr>
          <a:xfrm>
            <a:off x="5486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AutoShape 59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AutoShape 60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AutoShape 61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AutoShape 64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609480" y="105084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尝试练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2"/>
          <p:cNvSpPr/>
          <p:nvPr/>
        </p:nvSpPr>
        <p:spPr>
          <a:xfrm>
            <a:off x="533520" y="10666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AutoShape 18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AutoShape 19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AutoShape 20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AutoShape 21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AutoShape 22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AutoShape 23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Rectangle 25"/>
          <p:cNvSpPr/>
          <p:nvPr/>
        </p:nvSpPr>
        <p:spPr>
          <a:xfrm>
            <a:off x="762120" y="25909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br>
              <a:rPr sz="2100"/>
            </a:br>
            <a:br>
              <a:rPr sz="2100"/>
            </a:b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所以汽车要在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之前驶过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地，车速必须大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千米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时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6" name="Object 30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1511280" cy="1089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31"/>
          <p:cNvSpPr/>
          <p:nvPr/>
        </p:nvSpPr>
        <p:spPr>
          <a:xfrm>
            <a:off x="4691160" y="2666880"/>
            <a:ext cx="18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得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&gt;7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Text Box 32"/>
          <p:cNvSpPr/>
          <p:nvPr/>
        </p:nvSpPr>
        <p:spPr>
          <a:xfrm>
            <a:off x="1066680" y="19051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设车速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根据题意，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0" name="Group 46"/>
          <p:cNvGrpSpPr/>
          <p:nvPr/>
        </p:nvGrpSpPr>
        <p:grpSpPr>
          <a:xfrm>
            <a:off x="2286000" y="3733920"/>
            <a:ext cx="4584600" cy="885960"/>
            <a:chOff x="2286000" y="3733920"/>
            <a:chExt cx="4584600" cy="885960"/>
          </a:xfrm>
        </p:grpSpPr>
        <p:grpSp>
          <p:nvGrpSpPr>
            <p:cNvPr id="661" name=""/>
            <p:cNvGrpSpPr/>
            <p:nvPr/>
          </p:nvGrpSpPr>
          <p:grpSpPr>
            <a:xfrm>
              <a:off x="2286000" y="4038480"/>
              <a:ext cx="4572000" cy="360"/>
              <a:chOff x="2286000" y="4038480"/>
              <a:chExt cx="4572000" cy="360"/>
            </a:xfrm>
          </p:grpSpPr>
          <p:sp>
            <p:nvSpPr>
              <p:cNvPr id="662" name="Line 35"/>
              <p:cNvSpPr/>
              <p:nvPr/>
            </p:nvSpPr>
            <p:spPr>
              <a:xfrm>
                <a:off x="2286000" y="4038480"/>
                <a:ext cx="457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3" name=""/>
              <p:cNvSpPr txBox="1"/>
              <p:nvPr/>
            </p:nvSpPr>
            <p:spPr>
              <a:xfrm>
                <a:off x="2286000" y="4038480"/>
                <a:ext cx="457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4033800" y="3962520"/>
              <a:ext cx="360" cy="75960"/>
              <a:chOff x="4033800" y="3962520"/>
              <a:chExt cx="360" cy="75960"/>
            </a:xfrm>
          </p:grpSpPr>
          <p:sp>
            <p:nvSpPr>
              <p:cNvPr id="665" name="Line 36"/>
              <p:cNvSpPr/>
              <p:nvPr/>
            </p:nvSpPr>
            <p:spPr>
              <a:xfrm>
                <a:off x="4033800" y="3962520"/>
                <a:ext cx="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6" name=""/>
              <p:cNvSpPr txBox="1"/>
              <p:nvPr/>
            </p:nvSpPr>
            <p:spPr>
              <a:xfrm>
                <a:off x="4033800" y="3962520"/>
                <a:ext cx="36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245200" y="3733920"/>
              <a:ext cx="360" cy="304560"/>
              <a:chOff x="5245200" y="3733920"/>
              <a:chExt cx="360" cy="304560"/>
            </a:xfrm>
          </p:grpSpPr>
          <p:sp>
            <p:nvSpPr>
              <p:cNvPr id="668" name="Line 38"/>
              <p:cNvSpPr/>
              <p:nvPr/>
            </p:nvSpPr>
            <p:spPr>
              <a:xfrm>
                <a:off x="5245200" y="37339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5245200" y="37339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5257800" y="3733920"/>
              <a:ext cx="1612800" cy="360"/>
              <a:chOff x="5257800" y="3733920"/>
              <a:chExt cx="1612800" cy="360"/>
            </a:xfrm>
          </p:grpSpPr>
          <p:sp>
            <p:nvSpPr>
              <p:cNvPr id="671" name="Line 39"/>
              <p:cNvSpPr/>
              <p:nvPr/>
            </p:nvSpPr>
            <p:spPr>
              <a:xfrm>
                <a:off x="5257800" y="3733920"/>
                <a:ext cx="161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5257800" y="3733920"/>
                <a:ext cx="1612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3" name="Text Box 40"/>
            <p:cNvSpPr/>
            <p:nvPr/>
          </p:nvSpPr>
          <p:spPr>
            <a:xfrm>
              <a:off x="3765600" y="403848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4" name="Text Box 41"/>
            <p:cNvSpPr/>
            <p:nvPr/>
          </p:nvSpPr>
          <p:spPr>
            <a:xfrm>
              <a:off x="4975200" y="4038480"/>
              <a:ext cx="134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45"/>
            <p:cNvSpPr/>
            <p:nvPr/>
          </p:nvSpPr>
          <p:spPr>
            <a:xfrm>
              <a:off x="5181480" y="3962520"/>
              <a:ext cx="1508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73738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我们知道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x+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叫做一元一次方程，那么你觉得不等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x+1&gt;5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应该如何命名吗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609480" y="99072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AutoShape 6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AutoShape 8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AutoShape 9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AutoShape 10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AutoShape 11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504960" y="914040"/>
            <a:ext cx="5187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zh-CN" sz="4400" spc="-1" strike="noStrike">
                <a:solidFill>
                  <a:srgbClr val="000000"/>
                </a:solidFill>
                <a:latin typeface="Calibri"/>
              </a:rPr>
              <a:t>一元一次不等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38280" y="2136240"/>
            <a:ext cx="7710480" cy="34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2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类似于一元一次方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含有一个未知数且未知数的次数是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的不等式叫做一元一次不等式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AutoShape 6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AutoShape 7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Oval 11"/>
          <p:cNvSpPr/>
          <p:nvPr/>
        </p:nvSpPr>
        <p:spPr>
          <a:xfrm>
            <a:off x="6705720" y="2514600"/>
            <a:ext cx="761760" cy="533520"/>
          </a:xfrm>
          <a:prstGeom prst="ellipse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Oval 12"/>
          <p:cNvSpPr/>
          <p:nvPr/>
        </p:nvSpPr>
        <p:spPr>
          <a:xfrm>
            <a:off x="2286000" y="3429000"/>
            <a:ext cx="3352680" cy="533520"/>
          </a:xfrm>
          <a:prstGeom prst="ellipse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Oval 13"/>
          <p:cNvSpPr/>
          <p:nvPr/>
        </p:nvSpPr>
        <p:spPr>
          <a:xfrm>
            <a:off x="2057400" y="2590920"/>
            <a:ext cx="1295280" cy="457200"/>
          </a:xfrm>
          <a:prstGeom prst="ellipse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3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3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124080" cy="4968720"/>
          </a:xfrm>
          <a:prstGeom prst="rect">
            <a:avLst/>
          </a:prstGeom>
          <a:noFill/>
          <a:ln w="7632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下列各式是一元一次不等式的是（    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. 4x-2y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≤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B.  x≥-11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.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-1≤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6" name="Object 4" descr=""/>
          <p:cNvPicPr/>
          <p:nvPr/>
        </p:nvPicPr>
        <p:blipFill>
          <a:blip r:embed="rId1"/>
          <a:stretch/>
        </p:blipFill>
        <p:spPr>
          <a:xfrm>
            <a:off x="1371600" y="5410080"/>
            <a:ext cx="1300320" cy="108900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11"/>
          <p:cNvSpPr/>
          <p:nvPr/>
        </p:nvSpPr>
        <p:spPr>
          <a:xfrm>
            <a:off x="4038480" y="1717560"/>
            <a:ext cx="4876920" cy="3919680"/>
          </a:xfrm>
          <a:custGeom>
            <a:avLst/>
            <a:gdLst>
              <a:gd name="textAreaLeft" fmla="*/ 0 w 4876920"/>
              <a:gd name="textAreaRight" fmla="*/ 4877280 w 4876920"/>
              <a:gd name="textAreaTop" fmla="*/ 402120 h 3919680"/>
              <a:gd name="textAreaBottom" fmla="*/ 3517560 h 3919680"/>
            </a:gdLst>
            <a:ahLst/>
            <a:rect l="textAreaLeft" t="textAreaTop" r="textAreaRight" b="textAreaBottom"/>
            <a:pathLst>
              <a:path w="21600" h="21600">
                <a:moveTo>
                  <a:pt x="0" y="1108"/>
                </a:moveTo>
                <a:cubicBezTo>
                  <a:pt x="7200" y="-2817"/>
                  <a:pt x="14400" y="5033"/>
                  <a:pt x="21600" y="1108"/>
                </a:cubicBezTo>
                <a:lnTo>
                  <a:pt x="21600" y="20492"/>
                </a:lnTo>
                <a:cubicBezTo>
                  <a:pt x="14400" y="24417"/>
                  <a:pt x="7200" y="16567"/>
                  <a:pt x="0" y="20492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判断一个式子是不是一元一次不等式，必须满足四个条件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隶书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式中只含有一个未知数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隶书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未知数的次数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隶书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式子用不等号连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隶书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母中不含未知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8" name="Group 12"/>
          <p:cNvGrpSpPr/>
          <p:nvPr/>
        </p:nvGrpSpPr>
        <p:grpSpPr>
          <a:xfrm>
            <a:off x="8934480" y="911160"/>
            <a:ext cx="209520" cy="55800"/>
            <a:chOff x="8934480" y="911160"/>
            <a:chExt cx="209520" cy="55800"/>
          </a:xfrm>
        </p:grpSpPr>
        <p:sp>
          <p:nvSpPr>
            <p:cNvPr id="699" name="AutoShape 13"/>
            <p:cNvSpPr/>
            <p:nvPr/>
          </p:nvSpPr>
          <p:spPr>
            <a:xfrm>
              <a:off x="8934480" y="911160"/>
              <a:ext cx="209520" cy="55800"/>
            </a:xfrm>
            <a:prstGeom prst="irregularSeal2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Rectangle 14"/>
            <p:cNvSpPr/>
            <p:nvPr/>
          </p:nvSpPr>
          <p:spPr>
            <a:xfrm>
              <a:off x="8978760" y="924840"/>
              <a:ext cx="11412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Verdana"/>
                  <a:ea typeface="华文新魏"/>
                </a:rPr>
                <a:t>注意</a:t>
              </a:r>
              <a:endParaRPr b="0" lang="en-US" sz="3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01" name="Rectangle 15"/>
          <p:cNvSpPr/>
          <p:nvPr/>
        </p:nvSpPr>
        <p:spPr>
          <a:xfrm>
            <a:off x="609480" y="99072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尝试练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AutoShape 17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AutoShape 18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AutoShape 19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AutoShape 20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AutoShape 21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AutoShape 22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Text Box 23"/>
          <p:cNvSpPr/>
          <p:nvPr/>
        </p:nvSpPr>
        <p:spPr>
          <a:xfrm>
            <a:off x="2156040" y="2819520"/>
            <a:ext cx="42012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19360" y="838080"/>
            <a:ext cx="425916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i="1" lang="zh-CN" sz="4400" spc="-1" strike="noStrike">
                <a:solidFill>
                  <a:srgbClr val="000000"/>
                </a:solidFill>
                <a:latin typeface="Calibri"/>
              </a:rPr>
              <a:t>当堂训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09480" y="18288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-446040">
              <a:lnSpc>
                <a:spcPct val="125000"/>
              </a:lnSpc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有下列数学表达式：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1&lt;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②3m-2n&gt;0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③x=4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④x≠7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⑤5x+4=x+5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其中是不等式的有 （ 　　　　　            ）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Verdana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Verdana"/>
              </a:rPr>
              <a:t> 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一元一次不等式的有（         ）（只填序号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4927320" y="2282760"/>
            <a:ext cx="214524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⑥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+xy+y</a:t>
            </a:r>
            <a:r>
              <a:rPr b="0" lang="en-US" sz="2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;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⑦x+2&gt;y+3;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⑧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&gt;4;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⑨3x-2&gt;4x-3;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⑩3+5&lt;7;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4784400" y="5029200"/>
            <a:ext cx="241020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①②④⑦⑧⑨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Text Box 14"/>
          <p:cNvSpPr/>
          <p:nvPr/>
        </p:nvSpPr>
        <p:spPr>
          <a:xfrm>
            <a:off x="4844160" y="5562720"/>
            <a:ext cx="81792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④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277812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学指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21337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学课本第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页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2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页倒数第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行及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26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页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上面一段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找出：什么是不等式。并用笔画出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419360" y="685440"/>
            <a:ext cx="42591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i="1" lang="zh-CN" sz="4400" spc="-1" strike="noStrike">
                <a:solidFill>
                  <a:srgbClr val="000000"/>
                </a:solidFill>
                <a:latin typeface="Calibri"/>
              </a:rPr>
              <a:t>当堂训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AutoShape 4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AutoShape 5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AutoShape 6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AutoShape 7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AutoShape 8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AutoShape 9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25000"/>
              </a:lnSpc>
              <a:spcBef>
                <a:spcPts val="675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下列说法中错误的是（    ）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不等式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x&lt;5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的解有无数个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不等式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x&lt;5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的正整数解有有限个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.x=-4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是不等式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-3x&gt;9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的一个解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.x&gt;5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是不等式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x+3&gt;6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的解集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4419720" y="17524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文本框 8200"/>
          <p:cNvSpPr/>
          <p:nvPr/>
        </p:nvSpPr>
        <p:spPr>
          <a:xfrm>
            <a:off x="1023840" y="1022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4"/>
          <p:cNvSpPr/>
          <p:nvPr/>
        </p:nvSpPr>
        <p:spPr>
          <a:xfrm>
            <a:off x="1752480" y="60948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i="1" lang="zh-CN" sz="4400" spc="-1" strike="noStrike">
                <a:solidFill>
                  <a:srgbClr val="000000"/>
                </a:solidFill>
                <a:latin typeface="Calibri"/>
              </a:rPr>
              <a:t>说说你的收获和体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1219320" y="1690560"/>
            <a:ext cx="594360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不等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不等式的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不等式的解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不等式解集的表示方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一元一次不等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AutoShape 6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AutoShape 8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AutoShape 9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AutoShape 10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AutoShape 11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Text Box 12"/>
          <p:cNvSpPr/>
          <p:nvPr/>
        </p:nvSpPr>
        <p:spPr>
          <a:xfrm>
            <a:off x="6261840" y="2438280"/>
            <a:ext cx="239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数学思想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类比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数形结合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048120" y="2133720"/>
            <a:ext cx="3200400" cy="1218960"/>
            <a:chOff x="3048120" y="2133720"/>
            <a:chExt cx="3200400" cy="1218960"/>
          </a:xfrm>
        </p:grpSpPr>
        <p:sp>
          <p:nvSpPr>
            <p:cNvPr id="740" name="Line 15"/>
            <p:cNvSpPr/>
            <p:nvPr/>
          </p:nvSpPr>
          <p:spPr>
            <a:xfrm flipH="1" flipV="1">
              <a:off x="3048120" y="2133720"/>
              <a:ext cx="3200400" cy="1218960"/>
            </a:xfrm>
            <a:prstGeom prst="line">
              <a:avLst/>
            </a:prstGeom>
            <a:ln w="7632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 rot="10800000">
              <a:off x="3048120" y="2133720"/>
              <a:ext cx="320040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3733560" y="2971800"/>
            <a:ext cx="2361960" cy="457200"/>
            <a:chOff x="3733560" y="2971800"/>
            <a:chExt cx="2361960" cy="457200"/>
          </a:xfrm>
        </p:grpSpPr>
        <p:sp>
          <p:nvSpPr>
            <p:cNvPr id="743" name="Line 16"/>
            <p:cNvSpPr/>
            <p:nvPr/>
          </p:nvSpPr>
          <p:spPr>
            <a:xfrm flipH="1" flipV="1">
              <a:off x="3733560" y="2971800"/>
              <a:ext cx="2361960" cy="457200"/>
            </a:xfrm>
            <a:prstGeom prst="line">
              <a:avLst/>
            </a:prstGeom>
            <a:ln w="7632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 rot="10800000">
              <a:off x="3733560" y="29718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4419720" y="3505320"/>
            <a:ext cx="1752480" cy="1828800"/>
            <a:chOff x="4419720" y="3505320"/>
            <a:chExt cx="1752480" cy="1828800"/>
          </a:xfrm>
        </p:grpSpPr>
        <p:sp>
          <p:nvSpPr>
            <p:cNvPr id="746" name="Line 17"/>
            <p:cNvSpPr/>
            <p:nvPr/>
          </p:nvSpPr>
          <p:spPr>
            <a:xfrm flipH="1">
              <a:off x="4419720" y="3505320"/>
              <a:ext cx="1752480" cy="1828800"/>
            </a:xfrm>
            <a:prstGeom prst="line">
              <a:avLst/>
            </a:prstGeom>
            <a:ln w="7632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4419720" y="3505320"/>
              <a:ext cx="175248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5714640" y="4267080"/>
            <a:ext cx="1524240" cy="381240"/>
            <a:chOff x="5714640" y="4267080"/>
            <a:chExt cx="1524240" cy="381240"/>
          </a:xfrm>
        </p:grpSpPr>
        <p:sp>
          <p:nvSpPr>
            <p:cNvPr id="749" name="Line 18"/>
            <p:cNvSpPr/>
            <p:nvPr/>
          </p:nvSpPr>
          <p:spPr>
            <a:xfrm flipH="1">
              <a:off x="5714640" y="4267080"/>
              <a:ext cx="1523880" cy="381240"/>
            </a:xfrm>
            <a:prstGeom prst="line">
              <a:avLst/>
            </a:prstGeom>
            <a:ln w="7632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5715000" y="42670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105160" y="609480"/>
            <a:ext cx="355572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i="1" lang="zh-CN" sz="4400" spc="-1" strike="noStrike">
                <a:solidFill>
                  <a:srgbClr val="000000"/>
                </a:solidFill>
                <a:latin typeface="Calibri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教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128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AutoShape 4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AutoShape 5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AutoShape 6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AutoShape 7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AutoShape 8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AutoShape 9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文本框 8200"/>
          <p:cNvSpPr/>
          <p:nvPr/>
        </p:nvSpPr>
        <p:spPr>
          <a:xfrm>
            <a:off x="1012680" y="3032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68580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和是正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和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⑶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的和是非负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积加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多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1676520" y="4419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+1&gt;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1676520" y="51055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y+1&lt;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1676520" y="5715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y+2x≥0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Text Box 6"/>
          <p:cNvSpPr/>
          <p:nvPr/>
        </p:nvSpPr>
        <p:spPr>
          <a:xfrm>
            <a:off x="4572000" y="4495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x+2≤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533520" y="10666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尝试练习：用不等式表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906120" y="4343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AutoShape 9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AutoShape 10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AutoShape 11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AutoShape 12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AutoShape 13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AutoShape 14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C671-150F-4F50-9C6F-F5E55AF033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914400" y="19051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数轴表示下列不等式的解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1143000" y="26049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; ⑵ x≥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; ⑶ x&lt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; ⑷ x≤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914400" y="3367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5"/>
          <p:cNvGrpSpPr/>
          <p:nvPr/>
        </p:nvGrpSpPr>
        <p:grpSpPr>
          <a:xfrm>
            <a:off x="1447920" y="3290760"/>
            <a:ext cx="3124080" cy="1511280"/>
            <a:chOff x="1447920" y="3290760"/>
            <a:chExt cx="3124080" cy="1511280"/>
          </a:xfrm>
        </p:grpSpPr>
        <p:grpSp>
          <p:nvGrpSpPr>
            <p:cNvPr id="781" name="Group 6"/>
            <p:cNvGrpSpPr/>
            <p:nvPr/>
          </p:nvGrpSpPr>
          <p:grpSpPr>
            <a:xfrm>
              <a:off x="1447920" y="3290760"/>
              <a:ext cx="3124080" cy="1130040"/>
              <a:chOff x="1447920" y="3290760"/>
              <a:chExt cx="3124080" cy="113004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2590560" y="3290760"/>
                <a:ext cx="360" cy="360"/>
                <a:chOff x="2590560" y="3290760"/>
                <a:chExt cx="360" cy="360"/>
              </a:xfrm>
            </p:grpSpPr>
            <p:sp>
              <p:nvSpPr>
                <p:cNvPr id="783" name="Line 7"/>
                <p:cNvSpPr/>
                <p:nvPr/>
              </p:nvSpPr>
              <p:spPr>
                <a:xfrm>
                  <a:off x="2590560" y="3290760"/>
                  <a:ext cx="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"/>
                <p:cNvSpPr txBox="1"/>
                <p:nvPr/>
              </p:nvSpPr>
              <p:spPr>
                <a:xfrm>
                  <a:off x="2590560" y="32907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2438280" y="3290760"/>
                <a:ext cx="360" cy="360"/>
                <a:chOff x="2438280" y="3290760"/>
                <a:chExt cx="360" cy="360"/>
              </a:xfrm>
            </p:grpSpPr>
            <p:sp>
              <p:nvSpPr>
                <p:cNvPr id="786" name="Line 8"/>
                <p:cNvSpPr/>
                <p:nvPr/>
              </p:nvSpPr>
              <p:spPr>
                <a:xfrm>
                  <a:off x="2438280" y="3290760"/>
                  <a:ext cx="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"/>
                <p:cNvSpPr txBox="1"/>
                <p:nvPr/>
              </p:nvSpPr>
              <p:spPr>
                <a:xfrm>
                  <a:off x="2438280" y="32907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88" name="Text Box 9"/>
              <p:cNvSpPr/>
              <p:nvPr/>
            </p:nvSpPr>
            <p:spPr>
              <a:xfrm>
                <a:off x="1447920" y="3900240"/>
                <a:ext cx="3124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9" name=""/>
              <p:cNvGrpSpPr/>
              <p:nvPr/>
            </p:nvGrpSpPr>
            <p:grpSpPr>
              <a:xfrm>
                <a:off x="1523880" y="4052520"/>
                <a:ext cx="2819160" cy="360"/>
                <a:chOff x="1523880" y="4052520"/>
                <a:chExt cx="2819160" cy="360"/>
              </a:xfrm>
            </p:grpSpPr>
            <p:sp>
              <p:nvSpPr>
                <p:cNvPr id="790" name="Line 10"/>
                <p:cNvSpPr/>
                <p:nvPr/>
              </p:nvSpPr>
              <p:spPr>
                <a:xfrm>
                  <a:off x="1523880" y="4052520"/>
                  <a:ext cx="2819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1" name=""/>
                <p:cNvSpPr txBox="1"/>
                <p:nvPr/>
              </p:nvSpPr>
              <p:spPr>
                <a:xfrm>
                  <a:off x="1523880" y="4052520"/>
                  <a:ext cx="2819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92" name="Text Box 11"/>
              <p:cNvSpPr/>
              <p:nvPr/>
            </p:nvSpPr>
            <p:spPr>
              <a:xfrm>
                <a:off x="2361960" y="3900240"/>
                <a:ext cx="30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3124080" y="3976560"/>
                <a:ext cx="360" cy="75960"/>
                <a:chOff x="3124080" y="3976560"/>
                <a:chExt cx="360" cy="75960"/>
              </a:xfrm>
            </p:grpSpPr>
            <p:sp>
              <p:nvSpPr>
                <p:cNvPr id="794" name="Line 12"/>
                <p:cNvSpPr/>
                <p:nvPr/>
              </p:nvSpPr>
              <p:spPr>
                <a:xfrm>
                  <a:off x="3124080" y="3976560"/>
                  <a:ext cx="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5" name=""/>
                <p:cNvSpPr txBox="1"/>
                <p:nvPr/>
              </p:nvSpPr>
              <p:spPr>
                <a:xfrm>
                  <a:off x="3124080" y="3976560"/>
                  <a:ext cx="36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2514240" y="3671280"/>
                <a:ext cx="360" cy="304920"/>
                <a:chOff x="2514240" y="3671280"/>
                <a:chExt cx="360" cy="304920"/>
              </a:xfrm>
            </p:grpSpPr>
            <p:sp>
              <p:nvSpPr>
                <p:cNvPr id="797" name="Line 13"/>
                <p:cNvSpPr/>
                <p:nvPr/>
              </p:nvSpPr>
              <p:spPr>
                <a:xfrm flipV="1">
                  <a:off x="2514600" y="3671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"/>
                <p:cNvSpPr txBox="1"/>
                <p:nvPr/>
              </p:nvSpPr>
              <p:spPr>
                <a:xfrm rot="10800000">
                  <a:off x="2514240" y="36712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2514600" y="3671640"/>
                <a:ext cx="1599840" cy="360"/>
                <a:chOff x="2514600" y="3671640"/>
                <a:chExt cx="1599840" cy="360"/>
              </a:xfrm>
            </p:grpSpPr>
            <p:sp>
              <p:nvSpPr>
                <p:cNvPr id="800" name="Line 14"/>
                <p:cNvSpPr/>
                <p:nvPr/>
              </p:nvSpPr>
              <p:spPr>
                <a:xfrm>
                  <a:off x="2514600" y="3671640"/>
                  <a:ext cx="159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"/>
                <p:cNvSpPr txBox="1"/>
                <p:nvPr/>
              </p:nvSpPr>
              <p:spPr>
                <a:xfrm>
                  <a:off x="2514600" y="3671640"/>
                  <a:ext cx="1599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2" name="Text Box 15"/>
              <p:cNvSpPr/>
              <p:nvPr/>
            </p:nvSpPr>
            <p:spPr>
              <a:xfrm>
                <a:off x="2971800" y="405252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3" name="Text Box 16"/>
              <p:cNvSpPr/>
              <p:nvPr/>
            </p:nvSpPr>
            <p:spPr>
              <a:xfrm>
                <a:off x="2286000" y="405252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04" name="Text Box 17"/>
            <p:cNvSpPr/>
            <p:nvPr/>
          </p:nvSpPr>
          <p:spPr>
            <a:xfrm>
              <a:off x="2590560" y="4433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⑴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5" name="Group 18"/>
          <p:cNvGrpSpPr/>
          <p:nvPr/>
        </p:nvGrpSpPr>
        <p:grpSpPr>
          <a:xfrm>
            <a:off x="4876920" y="3595680"/>
            <a:ext cx="3504960" cy="1130040"/>
            <a:chOff x="4876920" y="3595680"/>
            <a:chExt cx="3504960" cy="1130040"/>
          </a:xfrm>
        </p:grpSpPr>
        <p:grpSp>
          <p:nvGrpSpPr>
            <p:cNvPr id="806" name="Group 19"/>
            <p:cNvGrpSpPr/>
            <p:nvPr/>
          </p:nvGrpSpPr>
          <p:grpSpPr>
            <a:xfrm>
              <a:off x="4876920" y="3595680"/>
              <a:ext cx="3504960" cy="749160"/>
              <a:chOff x="4876920" y="3595680"/>
              <a:chExt cx="3504960" cy="749160"/>
            </a:xfrm>
          </p:grpSpPr>
          <p:grpSp>
            <p:nvGrpSpPr>
              <p:cNvPr id="807" name="Group 20"/>
              <p:cNvGrpSpPr/>
              <p:nvPr/>
            </p:nvGrpSpPr>
            <p:grpSpPr>
              <a:xfrm>
                <a:off x="4876920" y="3747960"/>
                <a:ext cx="3504960" cy="366840"/>
                <a:chOff x="4876920" y="3747960"/>
                <a:chExt cx="3504960" cy="366840"/>
              </a:xfrm>
            </p:grpSpPr>
            <p:sp>
              <p:nvSpPr>
                <p:cNvPr id="808" name="Text Box 21"/>
                <p:cNvSpPr/>
                <p:nvPr/>
              </p:nvSpPr>
              <p:spPr>
                <a:xfrm>
                  <a:off x="4876920" y="3747960"/>
                  <a:ext cx="35049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09" name=""/>
                <p:cNvGrpSpPr/>
                <p:nvPr/>
              </p:nvGrpSpPr>
              <p:grpSpPr>
                <a:xfrm>
                  <a:off x="5028840" y="3976560"/>
                  <a:ext cx="2590560" cy="360"/>
                  <a:chOff x="5028840" y="3976560"/>
                  <a:chExt cx="2590560" cy="360"/>
                </a:xfrm>
              </p:grpSpPr>
              <p:sp>
                <p:nvSpPr>
                  <p:cNvPr id="810" name="Line 22"/>
                  <p:cNvSpPr/>
                  <p:nvPr/>
                </p:nvSpPr>
                <p:spPr>
                  <a:xfrm>
                    <a:off x="5028840" y="3976560"/>
                    <a:ext cx="2590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1" name=""/>
                  <p:cNvSpPr txBox="1"/>
                  <p:nvPr/>
                </p:nvSpPr>
                <p:spPr>
                  <a:xfrm>
                    <a:off x="5028840" y="3976560"/>
                    <a:ext cx="2590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6629040" y="3900600"/>
                  <a:ext cx="360" cy="75960"/>
                  <a:chOff x="6629040" y="3900600"/>
                  <a:chExt cx="360" cy="75960"/>
                </a:xfrm>
              </p:grpSpPr>
              <p:sp>
                <p:nvSpPr>
                  <p:cNvPr id="813" name="Line 23"/>
                  <p:cNvSpPr/>
                  <p:nvPr/>
                </p:nvSpPr>
                <p:spPr>
                  <a:xfrm>
                    <a:off x="6629040" y="3900600"/>
                    <a:ext cx="0" cy="75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4" name=""/>
                  <p:cNvSpPr txBox="1"/>
                  <p:nvPr/>
                </p:nvSpPr>
                <p:spPr>
                  <a:xfrm>
                    <a:off x="6629040" y="390060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815" name="Text Box 24"/>
                <p:cNvSpPr/>
                <p:nvPr/>
              </p:nvSpPr>
              <p:spPr>
                <a:xfrm>
                  <a:off x="5867280" y="3824280"/>
                  <a:ext cx="30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●</a:t>
                  </a: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6" name="Group 25"/>
              <p:cNvGrpSpPr/>
              <p:nvPr/>
            </p:nvGrpSpPr>
            <p:grpSpPr>
              <a:xfrm>
                <a:off x="5790960" y="3595680"/>
                <a:ext cx="1523160" cy="749160"/>
                <a:chOff x="5790960" y="3595680"/>
                <a:chExt cx="1523160" cy="74916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6019200" y="3595680"/>
                  <a:ext cx="360" cy="304920"/>
                  <a:chOff x="6019200" y="3595680"/>
                  <a:chExt cx="360" cy="304920"/>
                </a:xfrm>
              </p:grpSpPr>
              <p:sp>
                <p:nvSpPr>
                  <p:cNvPr id="818" name="Line 26"/>
                  <p:cNvSpPr/>
                  <p:nvPr/>
                </p:nvSpPr>
                <p:spPr>
                  <a:xfrm>
                    <a:off x="6019200" y="3595680"/>
                    <a:ext cx="0" cy="30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9" name=""/>
                  <p:cNvSpPr txBox="1"/>
                  <p:nvPr/>
                </p:nvSpPr>
                <p:spPr>
                  <a:xfrm>
                    <a:off x="6019200" y="3595680"/>
                    <a:ext cx="3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20" name=""/>
                <p:cNvGrpSpPr/>
                <p:nvPr/>
              </p:nvGrpSpPr>
              <p:grpSpPr>
                <a:xfrm>
                  <a:off x="6019200" y="3595680"/>
                  <a:ext cx="1294920" cy="360"/>
                  <a:chOff x="6019200" y="3595680"/>
                  <a:chExt cx="1294920" cy="360"/>
                </a:xfrm>
              </p:grpSpPr>
              <p:sp>
                <p:nvSpPr>
                  <p:cNvPr id="821" name="Line 27"/>
                  <p:cNvSpPr/>
                  <p:nvPr/>
                </p:nvSpPr>
                <p:spPr>
                  <a:xfrm>
                    <a:off x="6019200" y="3595680"/>
                    <a:ext cx="129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2" name=""/>
                  <p:cNvSpPr txBox="1"/>
                  <p:nvPr/>
                </p:nvSpPr>
                <p:spPr>
                  <a:xfrm>
                    <a:off x="6019200" y="3595680"/>
                    <a:ext cx="1294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823" name="Text Box 28"/>
                <p:cNvSpPr/>
                <p:nvPr/>
              </p:nvSpPr>
              <p:spPr>
                <a:xfrm>
                  <a:off x="6476400" y="3976560"/>
                  <a:ext cx="30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4" name="Text Box 29"/>
                <p:cNvSpPr/>
                <p:nvPr/>
              </p:nvSpPr>
              <p:spPr>
                <a:xfrm>
                  <a:off x="5790960" y="3976560"/>
                  <a:ext cx="456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25" name="Text Box 30"/>
            <p:cNvSpPr/>
            <p:nvPr/>
          </p:nvSpPr>
          <p:spPr>
            <a:xfrm>
              <a:off x="6095880" y="43574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6" name="Group 31"/>
          <p:cNvGrpSpPr/>
          <p:nvPr/>
        </p:nvGrpSpPr>
        <p:grpSpPr>
          <a:xfrm>
            <a:off x="1600200" y="4586400"/>
            <a:ext cx="3124080" cy="1510920"/>
            <a:chOff x="1600200" y="4586400"/>
            <a:chExt cx="3124080" cy="1510920"/>
          </a:xfrm>
        </p:grpSpPr>
        <p:grpSp>
          <p:nvGrpSpPr>
            <p:cNvPr id="827" name="Group 32"/>
            <p:cNvGrpSpPr/>
            <p:nvPr/>
          </p:nvGrpSpPr>
          <p:grpSpPr>
            <a:xfrm>
              <a:off x="1600200" y="4586400"/>
              <a:ext cx="3124080" cy="1129680"/>
              <a:chOff x="1600200" y="4586400"/>
              <a:chExt cx="3124080" cy="1129680"/>
            </a:xfrm>
          </p:grpSpPr>
          <p:grpSp>
            <p:nvGrpSpPr>
              <p:cNvPr id="828" name=""/>
              <p:cNvGrpSpPr/>
              <p:nvPr/>
            </p:nvGrpSpPr>
            <p:grpSpPr>
              <a:xfrm>
                <a:off x="2743200" y="4586400"/>
                <a:ext cx="360" cy="360"/>
                <a:chOff x="2743200" y="4586400"/>
                <a:chExt cx="360" cy="360"/>
              </a:xfrm>
            </p:grpSpPr>
            <p:sp>
              <p:nvSpPr>
                <p:cNvPr id="829" name="Line 33"/>
                <p:cNvSpPr/>
                <p:nvPr/>
              </p:nvSpPr>
              <p:spPr>
                <a:xfrm>
                  <a:off x="2743200" y="4586400"/>
                  <a:ext cx="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"/>
                <p:cNvSpPr txBox="1"/>
                <p:nvPr/>
              </p:nvSpPr>
              <p:spPr>
                <a:xfrm>
                  <a:off x="2743200" y="4586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2590560" y="4586400"/>
                <a:ext cx="360" cy="360"/>
                <a:chOff x="2590560" y="4586400"/>
                <a:chExt cx="360" cy="360"/>
              </a:xfrm>
            </p:grpSpPr>
            <p:sp>
              <p:nvSpPr>
                <p:cNvPr id="832" name="Line 34"/>
                <p:cNvSpPr/>
                <p:nvPr/>
              </p:nvSpPr>
              <p:spPr>
                <a:xfrm>
                  <a:off x="2590560" y="4586400"/>
                  <a:ext cx="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"/>
                <p:cNvSpPr txBox="1"/>
                <p:nvPr/>
              </p:nvSpPr>
              <p:spPr>
                <a:xfrm>
                  <a:off x="2590560" y="4586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4" name="Text Box 35"/>
              <p:cNvSpPr/>
              <p:nvPr/>
            </p:nvSpPr>
            <p:spPr>
              <a:xfrm>
                <a:off x="1600200" y="5195520"/>
                <a:ext cx="3124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1676160" y="5347800"/>
                <a:ext cx="2819520" cy="360"/>
                <a:chOff x="1676160" y="5347800"/>
                <a:chExt cx="2819520" cy="360"/>
              </a:xfrm>
            </p:grpSpPr>
            <p:sp>
              <p:nvSpPr>
                <p:cNvPr id="836" name="Line 36"/>
                <p:cNvSpPr/>
                <p:nvPr/>
              </p:nvSpPr>
              <p:spPr>
                <a:xfrm>
                  <a:off x="1676160" y="5347800"/>
                  <a:ext cx="28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7" name=""/>
                <p:cNvSpPr txBox="1"/>
                <p:nvPr/>
              </p:nvSpPr>
              <p:spPr>
                <a:xfrm>
                  <a:off x="1676160" y="5347800"/>
                  <a:ext cx="2819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8" name="Text Box 37"/>
              <p:cNvSpPr/>
              <p:nvPr/>
            </p:nvSpPr>
            <p:spPr>
              <a:xfrm>
                <a:off x="2514600" y="5195520"/>
                <a:ext cx="30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39" name=""/>
              <p:cNvGrpSpPr/>
              <p:nvPr/>
            </p:nvGrpSpPr>
            <p:grpSpPr>
              <a:xfrm>
                <a:off x="3276360" y="5271480"/>
                <a:ext cx="360" cy="75960"/>
                <a:chOff x="3276360" y="5271480"/>
                <a:chExt cx="360" cy="75960"/>
              </a:xfrm>
            </p:grpSpPr>
            <p:sp>
              <p:nvSpPr>
                <p:cNvPr id="840" name="Line 38"/>
                <p:cNvSpPr/>
                <p:nvPr/>
              </p:nvSpPr>
              <p:spPr>
                <a:xfrm>
                  <a:off x="3276360" y="5271480"/>
                  <a:ext cx="0" cy="75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1" name=""/>
                <p:cNvSpPr txBox="1"/>
                <p:nvPr/>
              </p:nvSpPr>
              <p:spPr>
                <a:xfrm>
                  <a:off x="3276360" y="5271480"/>
                  <a:ext cx="36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2666520" y="4966920"/>
                <a:ext cx="360" cy="304200"/>
                <a:chOff x="2666520" y="4966920"/>
                <a:chExt cx="360" cy="304200"/>
              </a:xfrm>
            </p:grpSpPr>
            <p:sp>
              <p:nvSpPr>
                <p:cNvPr id="843" name="Line 39"/>
                <p:cNvSpPr/>
                <p:nvPr/>
              </p:nvSpPr>
              <p:spPr>
                <a:xfrm flipV="1">
                  <a:off x="2666880" y="4966920"/>
                  <a:ext cx="0" cy="30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4" name=""/>
                <p:cNvSpPr txBox="1"/>
                <p:nvPr/>
              </p:nvSpPr>
              <p:spPr>
                <a:xfrm rot="10800000">
                  <a:off x="2666520" y="4966920"/>
                  <a:ext cx="360" cy="30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45" name="Text Box 40"/>
              <p:cNvSpPr/>
              <p:nvPr/>
            </p:nvSpPr>
            <p:spPr>
              <a:xfrm>
                <a:off x="3124080" y="534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6" name="Text Box 41"/>
              <p:cNvSpPr/>
              <p:nvPr/>
            </p:nvSpPr>
            <p:spPr>
              <a:xfrm>
                <a:off x="2438280" y="53478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1676160" y="4967280"/>
                <a:ext cx="990720" cy="360"/>
                <a:chOff x="1676160" y="4967280"/>
                <a:chExt cx="990720" cy="360"/>
              </a:xfrm>
            </p:grpSpPr>
            <p:sp>
              <p:nvSpPr>
                <p:cNvPr id="848" name="Line 42"/>
                <p:cNvSpPr/>
                <p:nvPr/>
              </p:nvSpPr>
              <p:spPr>
                <a:xfrm flipH="1">
                  <a:off x="1676160" y="4967280"/>
                  <a:ext cx="990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9" name=""/>
                <p:cNvSpPr txBox="1"/>
                <p:nvPr/>
              </p:nvSpPr>
              <p:spPr>
                <a:xfrm>
                  <a:off x="1676160" y="4967280"/>
                  <a:ext cx="9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50" name="Text Box 43"/>
            <p:cNvSpPr/>
            <p:nvPr/>
          </p:nvSpPr>
          <p:spPr>
            <a:xfrm>
              <a:off x="2666880" y="5729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⑶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1" name="Group 44"/>
          <p:cNvGrpSpPr/>
          <p:nvPr/>
        </p:nvGrpSpPr>
        <p:grpSpPr>
          <a:xfrm>
            <a:off x="5029200" y="5043600"/>
            <a:ext cx="3504960" cy="1130040"/>
            <a:chOff x="5029200" y="5043600"/>
            <a:chExt cx="3504960" cy="1130040"/>
          </a:xfrm>
        </p:grpSpPr>
        <p:grpSp>
          <p:nvGrpSpPr>
            <p:cNvPr id="852" name="Group 45"/>
            <p:cNvGrpSpPr/>
            <p:nvPr/>
          </p:nvGrpSpPr>
          <p:grpSpPr>
            <a:xfrm>
              <a:off x="5029200" y="5043600"/>
              <a:ext cx="3504960" cy="748800"/>
              <a:chOff x="5029200" y="5043600"/>
              <a:chExt cx="3504960" cy="748800"/>
            </a:xfrm>
          </p:grpSpPr>
          <p:grpSp>
            <p:nvGrpSpPr>
              <p:cNvPr id="853" name="Group 46"/>
              <p:cNvGrpSpPr/>
              <p:nvPr/>
            </p:nvGrpSpPr>
            <p:grpSpPr>
              <a:xfrm>
                <a:off x="5029200" y="5195520"/>
                <a:ext cx="3504960" cy="366480"/>
                <a:chOff x="5029200" y="5195520"/>
                <a:chExt cx="3504960" cy="366480"/>
              </a:xfrm>
            </p:grpSpPr>
            <p:sp>
              <p:nvSpPr>
                <p:cNvPr id="854" name="Text Box 47"/>
                <p:cNvSpPr/>
                <p:nvPr/>
              </p:nvSpPr>
              <p:spPr>
                <a:xfrm>
                  <a:off x="5029200" y="5195520"/>
                  <a:ext cx="35049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5181120" y="5423760"/>
                  <a:ext cx="2590560" cy="360"/>
                  <a:chOff x="5181120" y="5423760"/>
                  <a:chExt cx="2590560" cy="360"/>
                </a:xfrm>
              </p:grpSpPr>
              <p:sp>
                <p:nvSpPr>
                  <p:cNvPr id="856" name="Line 48"/>
                  <p:cNvSpPr/>
                  <p:nvPr/>
                </p:nvSpPr>
                <p:spPr>
                  <a:xfrm>
                    <a:off x="5181120" y="5423760"/>
                    <a:ext cx="2590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7" name=""/>
                  <p:cNvSpPr txBox="1"/>
                  <p:nvPr/>
                </p:nvSpPr>
                <p:spPr>
                  <a:xfrm>
                    <a:off x="5181120" y="5423760"/>
                    <a:ext cx="2590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781320" y="5347800"/>
                  <a:ext cx="360" cy="75600"/>
                  <a:chOff x="6781320" y="5347800"/>
                  <a:chExt cx="360" cy="75600"/>
                </a:xfrm>
              </p:grpSpPr>
              <p:sp>
                <p:nvSpPr>
                  <p:cNvPr id="859" name="Line 49"/>
                  <p:cNvSpPr/>
                  <p:nvPr/>
                </p:nvSpPr>
                <p:spPr>
                  <a:xfrm>
                    <a:off x="6781320" y="5347800"/>
                    <a:ext cx="0" cy="75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60" name=""/>
                  <p:cNvSpPr txBox="1"/>
                  <p:nvPr/>
                </p:nvSpPr>
                <p:spPr>
                  <a:xfrm>
                    <a:off x="6781320" y="5347800"/>
                    <a:ext cx="360" cy="75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8800" bIns="28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861" name="Text Box 50"/>
                <p:cNvSpPr/>
                <p:nvPr/>
              </p:nvSpPr>
              <p:spPr>
                <a:xfrm>
                  <a:off x="6019560" y="5271480"/>
                  <a:ext cx="30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●</a:t>
                  </a: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2" name="Text Box 51"/>
              <p:cNvSpPr/>
              <p:nvPr/>
            </p:nvSpPr>
            <p:spPr>
              <a:xfrm>
                <a:off x="6629040" y="54241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3" name="Text Box 52"/>
              <p:cNvSpPr/>
              <p:nvPr/>
            </p:nvSpPr>
            <p:spPr>
              <a:xfrm>
                <a:off x="5943240" y="542412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6171840" y="5043600"/>
                <a:ext cx="360" cy="304200"/>
                <a:chOff x="6171840" y="5043600"/>
                <a:chExt cx="360" cy="304200"/>
              </a:xfrm>
            </p:grpSpPr>
            <p:sp>
              <p:nvSpPr>
                <p:cNvPr id="865" name="Line 53"/>
                <p:cNvSpPr/>
                <p:nvPr/>
              </p:nvSpPr>
              <p:spPr>
                <a:xfrm>
                  <a:off x="6171840" y="5043600"/>
                  <a:ext cx="0" cy="30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6" name=""/>
                <p:cNvSpPr txBox="1"/>
                <p:nvPr/>
              </p:nvSpPr>
              <p:spPr>
                <a:xfrm>
                  <a:off x="6171840" y="5043600"/>
                  <a:ext cx="360" cy="30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5181480" y="5043600"/>
                <a:ext cx="990000" cy="360"/>
                <a:chOff x="5181480" y="5043600"/>
                <a:chExt cx="990000" cy="360"/>
              </a:xfrm>
            </p:grpSpPr>
            <p:sp>
              <p:nvSpPr>
                <p:cNvPr id="868" name="Line 54"/>
                <p:cNvSpPr/>
                <p:nvPr/>
              </p:nvSpPr>
              <p:spPr>
                <a:xfrm flipH="1">
                  <a:off x="5181480" y="5043600"/>
                  <a:ext cx="990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9" name=""/>
                <p:cNvSpPr txBox="1"/>
                <p:nvPr/>
              </p:nvSpPr>
              <p:spPr>
                <a:xfrm>
                  <a:off x="5181480" y="5043600"/>
                  <a:ext cx="99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70" name="Text Box 55"/>
            <p:cNvSpPr/>
            <p:nvPr/>
          </p:nvSpPr>
          <p:spPr>
            <a:xfrm>
              <a:off x="6019560" y="58053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1" name="AutoShape 56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AutoShape 57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AutoShape 58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AutoShape 59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AutoShape 60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AutoShape 61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Rectangle 63"/>
          <p:cNvSpPr/>
          <p:nvPr/>
        </p:nvSpPr>
        <p:spPr>
          <a:xfrm>
            <a:off x="609480" y="99072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尝试练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一辆匀速行驶的汽车在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1 :2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距离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千米，要在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2 :0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之前驶过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地，车速应满足什么条件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142640" y="5105160"/>
            <a:ext cx="7163280" cy="360"/>
            <a:chOff x="1142640" y="5105160"/>
            <a:chExt cx="7163280" cy="360"/>
          </a:xfrm>
        </p:grpSpPr>
        <p:sp>
          <p:nvSpPr>
            <p:cNvPr id="244" name="Line 4"/>
            <p:cNvSpPr/>
            <p:nvPr/>
          </p:nvSpPr>
          <p:spPr>
            <a:xfrm>
              <a:off x="1143000" y="5105520"/>
              <a:ext cx="7162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 rot="10800000">
              <a:off x="1142640" y="5104800"/>
              <a:ext cx="716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Text Box 6"/>
          <p:cNvSpPr/>
          <p:nvPr/>
        </p:nvSpPr>
        <p:spPr>
          <a:xfrm>
            <a:off x="7010280" y="44197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123920" y="4952880"/>
            <a:ext cx="360" cy="144720"/>
            <a:chOff x="1123920" y="4952880"/>
            <a:chExt cx="360" cy="144720"/>
          </a:xfrm>
        </p:grpSpPr>
        <p:sp>
          <p:nvSpPr>
            <p:cNvPr id="248" name="Line 7"/>
            <p:cNvSpPr/>
            <p:nvPr/>
          </p:nvSpPr>
          <p:spPr>
            <a:xfrm>
              <a:off x="1123920" y="49528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123920" y="4952880"/>
              <a:ext cx="36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123920" y="5105520"/>
            <a:ext cx="360" cy="360360"/>
            <a:chOff x="1123920" y="5105520"/>
            <a:chExt cx="360" cy="360360"/>
          </a:xfrm>
        </p:grpSpPr>
        <p:sp>
          <p:nvSpPr>
            <p:cNvPr id="251" name="Line 8"/>
            <p:cNvSpPr/>
            <p:nvPr/>
          </p:nvSpPr>
          <p:spPr>
            <a:xfrm>
              <a:off x="1123920" y="5105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1123920" y="510552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240680" y="5025960"/>
            <a:ext cx="360" cy="432000"/>
            <a:chOff x="7240680" y="5025960"/>
            <a:chExt cx="360" cy="432000"/>
          </a:xfrm>
        </p:grpSpPr>
        <p:sp>
          <p:nvSpPr>
            <p:cNvPr id="254" name="Line 9"/>
            <p:cNvSpPr/>
            <p:nvPr/>
          </p:nvSpPr>
          <p:spPr>
            <a:xfrm>
              <a:off x="7240680" y="5025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7240680" y="502596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60320" y="5386320"/>
            <a:ext cx="360" cy="360"/>
            <a:chOff x="760320" y="5386320"/>
            <a:chExt cx="360" cy="360"/>
          </a:xfrm>
        </p:grpSpPr>
        <p:sp>
          <p:nvSpPr>
            <p:cNvPr id="257" name="Line 10"/>
            <p:cNvSpPr/>
            <p:nvPr/>
          </p:nvSpPr>
          <p:spPr>
            <a:xfrm>
              <a:off x="760320" y="5386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760320" y="5386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119240" y="5386320"/>
            <a:ext cx="2520720" cy="360"/>
            <a:chOff x="1119240" y="5386320"/>
            <a:chExt cx="2520720" cy="360"/>
          </a:xfrm>
        </p:grpSpPr>
        <p:sp>
          <p:nvSpPr>
            <p:cNvPr id="260" name="Line 11"/>
            <p:cNvSpPr/>
            <p:nvPr/>
          </p:nvSpPr>
          <p:spPr>
            <a:xfrm>
              <a:off x="1119240" y="538632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119240" y="5386320"/>
              <a:ext cx="25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719600" y="5386320"/>
            <a:ext cx="2519280" cy="23760"/>
            <a:chOff x="4719600" y="5386320"/>
            <a:chExt cx="2519280" cy="23760"/>
          </a:xfrm>
        </p:grpSpPr>
        <p:sp>
          <p:nvSpPr>
            <p:cNvPr id="263" name="Line 12"/>
            <p:cNvSpPr/>
            <p:nvPr/>
          </p:nvSpPr>
          <p:spPr>
            <a:xfrm>
              <a:off x="4719600" y="5386320"/>
              <a:ext cx="2519280" cy="23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4719600" y="5386320"/>
              <a:ext cx="2519280" cy="2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5" name="Text Box 13"/>
          <p:cNvSpPr/>
          <p:nvPr/>
        </p:nvSpPr>
        <p:spPr>
          <a:xfrm>
            <a:off x="3738600" y="53038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533520" y="10666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11280" y="556272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: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6935400" y="5486400"/>
            <a:ext cx="11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19" descr="小汽车侧面矢量白描"/>
          <p:cNvPicPr/>
          <p:nvPr/>
        </p:nvPicPr>
        <p:blipFill>
          <a:blip r:embed="rId1"/>
          <a:stretch/>
        </p:blipFill>
        <p:spPr>
          <a:xfrm>
            <a:off x="1143000" y="4114800"/>
            <a:ext cx="1735200" cy="80496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20"/>
          <p:cNvSpPr/>
          <p:nvPr/>
        </p:nvSpPr>
        <p:spPr>
          <a:xfrm>
            <a:off x="4952880" y="3124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21"/>
          <p:cNvSpPr/>
          <p:nvPr/>
        </p:nvSpPr>
        <p:spPr>
          <a:xfrm>
            <a:off x="5638680" y="3124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AutoShape 23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AutoShape 24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AutoShape 25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AutoShape 26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AutoShape 27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28"/>
          <p:cNvSpPr/>
          <p:nvPr/>
        </p:nvSpPr>
        <p:spPr>
          <a:xfrm>
            <a:off x="320040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8148E-006 L 0.66354 -0.00301 E">
                                      <p:cBhvr>
                                        <p:cTn id="6" dur="3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Object 4" descr=""/>
          <p:cNvPicPr/>
          <p:nvPr/>
        </p:nvPicPr>
        <p:blipFill>
          <a:blip r:embed="rId1"/>
          <a:stretch/>
        </p:blipFill>
        <p:spPr>
          <a:xfrm>
            <a:off x="1600200" y="4800600"/>
            <a:ext cx="1184400" cy="9651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762120" y="167652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车速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838080" y="2362320"/>
            <a:ext cx="3429000" cy="3097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看，汽车要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前驶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，则以这个速度行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所用的时间不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，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029200" y="2362320"/>
            <a:ext cx="3294000" cy="3097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路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看，汽车要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前驶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，则以这个速度行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的路程要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，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Object 8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1471680" cy="10270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1"/>
          <p:cNvSpPr/>
          <p:nvPr/>
        </p:nvSpPr>
        <p:spPr>
          <a:xfrm>
            <a:off x="3124080" y="495288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7620120" y="5181480"/>
            <a:ext cx="6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609480" y="99072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析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AutoShape 21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Oval 22"/>
          <p:cNvSpPr/>
          <p:nvPr/>
        </p:nvSpPr>
        <p:spPr>
          <a:xfrm>
            <a:off x="6172200" y="4038480"/>
            <a:ext cx="762120" cy="533520"/>
          </a:xfrm>
          <a:prstGeom prst="ellipse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3"/>
          <p:cNvSpPr/>
          <p:nvPr/>
        </p:nvSpPr>
        <p:spPr>
          <a:xfrm>
            <a:off x="1295280" y="4038480"/>
            <a:ext cx="762120" cy="533520"/>
          </a:xfrm>
          <a:prstGeom prst="ellipse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914400" y="3124080"/>
            <a:ext cx="731520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：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 表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大小关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式子，叫做不等式，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+2≠a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样用“ ≠”号表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不等关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式子也是不等式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533520" y="4495680"/>
            <a:ext cx="74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952880" y="914400"/>
            <a:ext cx="372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zh-CN" sz="4400" spc="-1" strike="noStrike">
                <a:solidFill>
                  <a:srgbClr val="000000"/>
                </a:solidFill>
                <a:latin typeface="Calibri"/>
              </a:rPr>
              <a:t>不等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Object 7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1219320" cy="1020600"/>
          </a:xfrm>
          <a:prstGeom prst="rect">
            <a:avLst/>
          </a:prstGeom>
          <a:ln w="0">
            <a:noFill/>
          </a:ln>
        </p:spPr>
      </p:pic>
      <p:pic>
        <p:nvPicPr>
          <p:cNvPr id="299" name="Object 8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1511280" cy="1089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9"/>
          <p:cNvSpPr/>
          <p:nvPr/>
        </p:nvSpPr>
        <p:spPr>
          <a:xfrm>
            <a:off x="3124080" y="1981080"/>
            <a:ext cx="6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7086600" y="1981080"/>
            <a:ext cx="62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228600" y="5562720"/>
            <a:ext cx="8763120" cy="520560"/>
          </a:xfrm>
          <a:prstGeom prst="rect">
            <a:avLst/>
          </a:prstGeom>
          <a:solidFill>
            <a:srgbClr val="ffff99">
              <a:alpha val="75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Verdana"/>
              </a:rPr>
              <a:t>注：“</a:t>
            </a:r>
            <a:r>
              <a:rPr b="1" lang="zh-CN" sz="2800" spc="-1" strike="noStrike">
                <a:solidFill>
                  <a:srgbClr val="990000"/>
                </a:solidFill>
                <a:latin typeface="Verdana"/>
              </a:rPr>
              <a:t>＜</a:t>
            </a:r>
            <a:r>
              <a:rPr b="1" lang="zh-CN" sz="2800" spc="-1" strike="noStrike">
                <a:solidFill>
                  <a:srgbClr val="009999"/>
                </a:solidFill>
                <a:latin typeface="Verdana"/>
              </a:rPr>
              <a:t>” 、“</a:t>
            </a:r>
            <a:r>
              <a:rPr b="1" lang="zh-CN" sz="2800" spc="-1" strike="noStrike">
                <a:solidFill>
                  <a:srgbClr val="990000"/>
                </a:solidFill>
                <a:latin typeface="Verdana"/>
              </a:rPr>
              <a:t>＞</a:t>
            </a:r>
            <a:r>
              <a:rPr b="1" lang="zh-CN" sz="2800" spc="-1" strike="noStrike">
                <a:solidFill>
                  <a:srgbClr val="009999"/>
                </a:solidFill>
                <a:latin typeface="Verdana"/>
              </a:rPr>
              <a:t>” </a:t>
            </a:r>
            <a:r>
              <a:rPr b="1" lang="zh-CN" sz="1600" spc="-1" strike="noStrike">
                <a:solidFill>
                  <a:srgbClr val="009999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009999"/>
                </a:solidFill>
                <a:latin typeface="Verdana"/>
              </a:rPr>
              <a:t>“</a:t>
            </a:r>
            <a:r>
              <a:rPr b="1" lang="zh-CN" sz="2800" spc="-1" strike="noStrike">
                <a:solidFill>
                  <a:srgbClr val="990000"/>
                </a:solidFill>
                <a:latin typeface="Verdana"/>
              </a:rPr>
              <a:t>≠</a:t>
            </a:r>
            <a:r>
              <a:rPr b="1" lang="zh-CN" sz="2800" spc="-1" strike="noStrike">
                <a:solidFill>
                  <a:srgbClr val="009999"/>
                </a:solidFill>
                <a:latin typeface="Verdana"/>
              </a:rPr>
              <a:t>”、“ </a:t>
            </a:r>
            <a:r>
              <a:rPr b="1" lang="zh-CN" sz="2800" spc="-1" strike="noStrike">
                <a:solidFill>
                  <a:srgbClr val="990000"/>
                </a:solidFill>
                <a:latin typeface="Verdana"/>
              </a:rPr>
              <a:t>≤</a:t>
            </a:r>
            <a:r>
              <a:rPr b="1" lang="zh-CN" sz="2800" spc="-1" strike="noStrike">
                <a:solidFill>
                  <a:srgbClr val="009999"/>
                </a:solidFill>
                <a:latin typeface="Verdana"/>
              </a:rPr>
              <a:t>”、“ </a:t>
            </a:r>
            <a:r>
              <a:rPr b="1" lang="zh-CN" sz="2800" spc="-1" strike="noStrike">
                <a:solidFill>
                  <a:srgbClr val="990000"/>
                </a:solidFill>
                <a:latin typeface="Verdana"/>
              </a:rPr>
              <a:t>≥</a:t>
            </a:r>
            <a:r>
              <a:rPr b="1" lang="zh-CN" sz="2800" spc="-1" strike="noStrike">
                <a:solidFill>
                  <a:srgbClr val="009999"/>
                </a:solidFill>
                <a:latin typeface="Verdana"/>
              </a:rPr>
              <a:t>”都是</a:t>
            </a:r>
            <a:r>
              <a:rPr b="1" lang="zh-CN" sz="2800" spc="-1" strike="noStrike">
                <a:solidFill>
                  <a:srgbClr val="990000"/>
                </a:solidFill>
                <a:latin typeface="Verdana"/>
              </a:rPr>
              <a:t>不等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685800" y="1700280"/>
            <a:ext cx="7696080" cy="3115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式子哪些是不等式？哪些不是不等式？为什么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+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x-2y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2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1523880" cy="8222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4343400" y="2438280"/>
            <a:ext cx="3703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+b≠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+3=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+4&lt;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733920" y="2514600"/>
            <a:ext cx="360" cy="2438280"/>
            <a:chOff x="3733920" y="2514600"/>
            <a:chExt cx="360" cy="2438280"/>
          </a:xfrm>
        </p:grpSpPr>
        <p:sp>
          <p:nvSpPr>
            <p:cNvPr id="313" name="Line 9"/>
            <p:cNvSpPr/>
            <p:nvPr/>
          </p:nvSpPr>
          <p:spPr>
            <a:xfrm>
              <a:off x="3733920" y="251460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3733920" y="2514600"/>
              <a:ext cx="360" cy="24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609480" y="99072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火眼金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762120" y="5638680"/>
            <a:ext cx="74674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：①②③⑤⑦⑧是不等式，④⑥不是，因为④不含不等号，⑥是等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277812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学指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学课本第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2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页倒数第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2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页思考上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找出：什么是不等式的解。并用笔画出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6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3"/>
          <p:cNvSpPr/>
          <p:nvPr/>
        </p:nvSpPr>
        <p:spPr>
          <a:xfrm>
            <a:off x="4114800" y="91440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i="1" lang="zh-CN" sz="4400" spc="-1" strike="noStrike">
                <a:solidFill>
                  <a:srgbClr val="000000"/>
                </a:solidFill>
                <a:latin typeface="Calibri"/>
              </a:rPr>
              <a:t>不等式的解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85800" y="1676520"/>
            <a:ext cx="79246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曾经学过“使方程两边相等的未知数的值就是方程的解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方程类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能使不等式成立的未知数的值叫不等式的解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914400" y="4800600"/>
            <a:ext cx="685800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代入法是检验某个值是否是不等式的解的简单、实用的方法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44"/>
          <p:cNvSpPr/>
          <p:nvPr/>
        </p:nvSpPr>
        <p:spPr>
          <a:xfrm>
            <a:off x="1676520" y="30492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AutoShape 45"/>
          <p:cNvSpPr/>
          <p:nvPr/>
        </p:nvSpPr>
        <p:spPr>
          <a:xfrm>
            <a:off x="274320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AutoShape 46"/>
          <p:cNvSpPr/>
          <p:nvPr/>
        </p:nvSpPr>
        <p:spPr>
          <a:xfrm>
            <a:off x="38098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47"/>
          <p:cNvSpPr/>
          <p:nvPr/>
        </p:nvSpPr>
        <p:spPr>
          <a:xfrm>
            <a:off x="4876920" y="304920"/>
            <a:ext cx="1633320" cy="431640"/>
          </a:xfrm>
          <a:custGeom>
            <a:avLst/>
            <a:gdLst>
              <a:gd name="textAreaLeft" fmla="*/ 27720 w 1633320"/>
              <a:gd name="textAreaRight" fmla="*/ 1605600 w 16333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1684" h="21600">
                <a:moveTo>
                  <a:pt x="0" y="0"/>
                </a:moveTo>
                <a:lnTo>
                  <a:pt x="81684" y="0"/>
                </a:lnTo>
                <a:lnTo>
                  <a:pt x="81684" y="21600"/>
                </a:lnTo>
                <a:lnTo>
                  <a:pt x="0" y="21600"/>
                </a:lnTo>
                <a:close/>
              </a:path>
              <a:path fill="lightenLess" w="81684" h="21600">
                <a:moveTo>
                  <a:pt x="0" y="0"/>
                </a:moveTo>
                <a:lnTo>
                  <a:pt x="81684" y="0"/>
                </a:lnTo>
                <a:lnTo>
                  <a:pt x="80284" y="1400"/>
                </a:lnTo>
                <a:lnTo>
                  <a:pt x="1400" y="1400"/>
                </a:lnTo>
                <a:close/>
              </a:path>
              <a:path fill="darken" w="81684" h="21600">
                <a:moveTo>
                  <a:pt x="81684" y="0"/>
                </a:moveTo>
                <a:lnTo>
                  <a:pt x="81684" y="21600"/>
                </a:lnTo>
                <a:lnTo>
                  <a:pt x="80284" y="20200"/>
                </a:lnTo>
                <a:lnTo>
                  <a:pt x="80284" y="1400"/>
                </a:lnTo>
                <a:close/>
              </a:path>
              <a:path fill="darkenLess" w="81684" h="21600">
                <a:moveTo>
                  <a:pt x="81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84" y="20200"/>
                </a:lnTo>
                <a:close/>
              </a:path>
              <a:path fill="lighten" w="81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解集的表示方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48"/>
          <p:cNvSpPr/>
          <p:nvPr/>
        </p:nvSpPr>
        <p:spPr>
          <a:xfrm>
            <a:off x="6858000" y="304920"/>
            <a:ext cx="1676520" cy="431640"/>
          </a:xfrm>
          <a:custGeom>
            <a:avLst/>
            <a:gdLst>
              <a:gd name="textAreaLeft" fmla="*/ 27720 w 1676520"/>
              <a:gd name="textAreaRight" fmla="*/ 1648800 w 1676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3844" h="21600">
                <a:moveTo>
                  <a:pt x="0" y="0"/>
                </a:moveTo>
                <a:lnTo>
                  <a:pt x="83844" y="0"/>
                </a:lnTo>
                <a:lnTo>
                  <a:pt x="83844" y="21600"/>
                </a:lnTo>
                <a:lnTo>
                  <a:pt x="0" y="21600"/>
                </a:lnTo>
                <a:close/>
              </a:path>
              <a:path fill="lightenLess" w="83844" h="21600">
                <a:moveTo>
                  <a:pt x="0" y="0"/>
                </a:moveTo>
                <a:lnTo>
                  <a:pt x="83844" y="0"/>
                </a:lnTo>
                <a:lnTo>
                  <a:pt x="82444" y="1400"/>
                </a:lnTo>
                <a:lnTo>
                  <a:pt x="1400" y="1400"/>
                </a:lnTo>
                <a:close/>
              </a:path>
              <a:path fill="darken" w="83844" h="21600">
                <a:moveTo>
                  <a:pt x="83844" y="0"/>
                </a:moveTo>
                <a:lnTo>
                  <a:pt x="83844" y="21600"/>
                </a:lnTo>
                <a:lnTo>
                  <a:pt x="82444" y="20200"/>
                </a:lnTo>
                <a:lnTo>
                  <a:pt x="82444" y="1400"/>
                </a:lnTo>
                <a:close/>
              </a:path>
              <a:path fill="darkenLess" w="83844" h="21600">
                <a:moveTo>
                  <a:pt x="8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444" y="20200"/>
                </a:lnTo>
                <a:close/>
              </a:path>
              <a:path fill="lighten" w="8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一元一次不等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AutoShape 49"/>
          <p:cNvSpPr/>
          <p:nvPr/>
        </p:nvSpPr>
        <p:spPr>
          <a:xfrm>
            <a:off x="609480" y="30492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导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Oval 50"/>
          <p:cNvSpPr/>
          <p:nvPr/>
        </p:nvSpPr>
        <p:spPr>
          <a:xfrm>
            <a:off x="7467480" y="2895480"/>
            <a:ext cx="914400" cy="685800"/>
          </a:xfrm>
          <a:prstGeom prst="ellipse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Oval 51"/>
          <p:cNvSpPr/>
          <p:nvPr/>
        </p:nvSpPr>
        <p:spPr>
          <a:xfrm>
            <a:off x="5334120" y="1905120"/>
            <a:ext cx="914400" cy="685800"/>
          </a:xfrm>
          <a:prstGeom prst="ellipse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Oval 52"/>
          <p:cNvSpPr/>
          <p:nvPr/>
        </p:nvSpPr>
        <p:spPr>
          <a:xfrm>
            <a:off x="1676520" y="4648320"/>
            <a:ext cx="1218960" cy="685800"/>
          </a:xfrm>
          <a:prstGeom prst="ellipse">
            <a:avLst/>
          </a:prstGeom>
          <a:solidFill>
            <a:srgbClr val="990000">
              <a:alpha val="3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AutoShape 53"/>
          <p:cNvSpPr/>
          <p:nvPr/>
        </p:nvSpPr>
        <p:spPr>
          <a:xfrm>
            <a:off x="7772400" y="624852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94" h="21600">
                <a:moveTo>
                  <a:pt x="17290" y="10800"/>
                </a:moveTo>
                <a:lnTo>
                  <a:pt x="31303" y="3794"/>
                </a:lnTo>
                <a:lnTo>
                  <a:pt x="31303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返回思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113-01-01T00:00:00Z</cp:lastPrinted>
  <dcterms:modified xsi:type="dcterms:W3CDTF">2016-06-30T08:41:41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