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124-0A3A-4E6D-A364-0B7817FC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9C2-6410-4617-9946-06459313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1836B-17F6-4EA8-BF95-26128365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C23D6-1B07-4548-A4EC-0EFED863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AD31E-105F-4E63-BF44-092A7512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FE826-B50F-4C1F-9411-107E2CC6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18057-8468-4343-84FB-BDE02AD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0A535-F203-4F60-9C3A-09ED2D83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50DB7-F112-466A-ADA5-B1746AA1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FF544-EA17-439C-A1D8-46CB3180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DFDD4-C8BD-47FF-A791-50180976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F98D9-EF85-4B51-BB15-5FF3135B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B0A-6107-4671-8E61-0D99F212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28C06-19B0-4612-8CFE-6DCE09EB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4D677-B212-43E6-A4F3-F7B02F88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C735B-88CD-4B0A-A256-E0781C0E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9D3F8-0BB0-4A98-AC1B-94FCAB4D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A0D1D-FE82-4DFA-B8CC-C59A22BB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8FE9E-B921-4D04-A148-694CD775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584ED-B3F0-47F6-8156-4BEDFA64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0EA7F-88DD-4C13-86C6-9BF943DE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E7735-40FD-4269-81F6-8B964975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467DD-7757-44FE-B57D-D3B9FA29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B55-84B9-4782-8BE5-6E4C8990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A5E6E-48C1-4262-9A88-065567E6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13CAE-3E14-43BD-8CFB-CBE7B08F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B14A7-E1F4-41F2-A874-FBE74511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61DDD-9E29-4FFD-BDA7-8BBD9901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E4AEB-3965-40C8-85E9-1810FA0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4AC8A-107B-4F23-9D12-49DF37C3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F8131-77ED-4905-83A2-B338FBD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B2DAE-0A32-4577-AC5C-9B29B05D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5CAD4-A3DE-447B-AA15-DF0DA5BC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F9B8E-B465-4D12-AFEC-F5DF249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6BD0-5B1B-44C8-BC25-76707426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FE389-74EE-43FD-859E-EC6A2A5B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F4559-FF06-44FD-8353-6B2A6F5A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E1E3-1FE4-4E99-A8FE-2A0ABBCA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5E06A-01BB-4180-A06C-C3C68942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08832-C2CC-4D48-9956-6BFD29C9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9436A-FCFF-4A0E-9995-B88ADD98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7EB67-C7EF-4B11-ABED-C9FAE09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48AC5-78CB-48EA-AC8A-C8402462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28930-8D57-4136-9C80-70E08EAF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C8AA3-791A-49B9-B6C9-2F5034D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7E58-DB8E-42AB-A3B3-EA8BCF0A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9BB9A-1E0C-49C1-991E-FC886343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B0BE1-E0AB-4C41-834F-17D7D011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D35F7-5500-451C-9D8D-429F9B14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212F9-1FDE-4045-8F6C-89BD0251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EF29B-1DEA-467B-AF10-14D359B1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930CB-45BB-4F6C-BAAD-67E0E7DB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29AC7-1EEA-437D-A8D0-A4C03497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74E67-BB9B-4E2A-889B-A098EB51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54029-AB20-4ABF-AC8C-8ECFB91F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DD8B4-C31F-4098-935C-E68874A2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5ED9-785B-456C-BF44-5E57FF28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F31C1-CC89-441B-887A-CB61E8F9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5B83A-B0E3-4422-90B0-B68288A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8A9A2-29A3-492B-8EC1-E2205CD6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0ED96-9EB9-46C3-87EB-BA831C65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AF28C-4146-47B3-8CE7-6EB770E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CD2F2-762D-405E-8460-7D9A9C1E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EEE6F-34EA-41C9-A861-4EC1F7E7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51273-5515-47A7-9822-4B66537C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07185-C3BC-43A5-B951-8A8FCE97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ADB67-8899-441F-928E-365D770A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E844-C142-44D3-9071-2B083BFB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63A2E-3A38-4F82-9F22-1AC47BD5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174E1-E0DF-4230-BB5C-6E592B95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CE09F-3899-4629-A34B-ED18A13B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1AB81-C996-4024-A73A-8CF7026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5E8A7-CC75-4525-96EE-D0A98EB1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BE04B-261D-4C50-8D49-0AB938A4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EA972-D627-4A94-BEC1-9A165EEA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657ED-883F-4E19-A7CF-1CFE7C2C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EAE89-E7A4-4B16-B177-A248F01D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47D6B-151A-47E0-BB19-3ED50D8D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947C-BF91-4ACC-BC89-319EC6F7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6D796-81EB-4953-A349-B9D02B4B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0936F-F827-4EA8-9550-ACB48133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3D594-3A15-4244-A27F-E87E53AC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D26CE-17A0-47F4-9424-153CC52F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3D231-B9D1-4B2C-943F-AFFDF8A8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2CA5D-B40D-44B5-93CE-9B586B65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063C3-B831-464B-BACA-D483B1F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A15C5-8AF5-43F9-B288-362EEAAD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E6472-4923-480E-BD76-3A436262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788DA-A816-4265-9F50-E2596054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D368-1808-42D0-B527-A778B39C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97EE3-E430-4C18-A1A3-9A065696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04755-C0A3-4AE9-84EB-DF29477A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2844D-4454-436F-9B19-0252AA57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A8781C-9B90-4ADD-A5F0-991126A6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0C903-07D2-495F-87E2-9A67E782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6DE46-3378-4EB6-8C7C-1BEEF6E3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21F1F-7FF8-4005-B940-A7B41ECB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39E6E-BC0C-49C6-921C-891AC14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5D889-E95F-4511-8A15-4D740BB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B1CCD-7842-4135-AC01-9B0DB590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14E7-8379-47DF-9F98-B0BEE390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2692E-1458-4CA3-A614-ACFC815D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6A7FD-F1DD-41ED-B2E9-2394774B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D1683-5ECD-49C1-99CE-BCB51153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A3D4F-96AC-4667-BAB3-65076CA7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D21C7-89E1-4636-8CD7-C8BA70E9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53CD6-1E3D-438A-8E56-35FFE376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74E07-A557-4915-8295-49FA187E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E7D09-459D-457E-8988-59311A97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18801-8E91-4A0E-8645-23901FD1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958B0-F1C0-400D-9BDD-C7E5F5C1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9F2-B0A7-49CC-86BD-E3CA550E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C554-7B46-4565-B42C-676B2A10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4B080-0761-4FED-A4F3-B7FDA7E0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36E14-E78B-450B-8CBB-283B93F6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79B81-333F-48AC-80AB-D5808F73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0A552-933A-43C5-A31D-4FC34818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BF944-59F8-4890-944C-736879F6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014BE-CE24-476F-AAC8-FD9239F8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0D2E7-5600-4EE2-8F2D-554181E0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AA488-77D7-488E-ACBF-99E444A3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D6C68-62CC-4CAB-A3EA-FE4CE3BB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58288-29F0-4659-AC7B-85E29E12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ABE9-D3A6-44FF-A7C9-6F89210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719E0E-5D39-4D0A-A0D1-4D3F9CD4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933DC-C842-41AE-AEF0-88A68F19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5331F-14CE-4649-9CFB-5068A143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9BD920-6656-42BD-BF20-3C8B0D7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B9B1A8-5F78-419D-8138-B2872721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51FC5-2D2A-4D4D-9538-CF41EF62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788946-E025-41FF-BB95-44D52150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492F7-079F-4764-ABBD-1F8DF062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7CF247-E930-44EE-AF03-88732447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78B15E-DB3D-4E53-A302-4384A613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7AF1-ADE2-40D2-B08C-EF4A689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5B25D-7757-434F-A34A-52EC9BD4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189E5C-87E7-4521-B774-7CD7BF09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90637-EC60-4691-ABAE-637767AC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94D0B8-40FE-474C-818E-801CE201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CF503-64BB-41EF-A9AE-B8BA902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F96A5-621E-4908-A8EC-28122AFF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B49C3-D1B0-4B72-8184-DE562618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171C2-D270-4A61-BFA7-04F27814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2C3EF-D2ED-4B4A-AB14-FAB64A47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2F4674-406A-4A01-AC01-6AB992BC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B924-D7B8-4774-AB6B-60C27831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6D460-AA9E-4BB1-93E8-BFD3DB93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0E179-2B55-4659-B502-F2F65476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B106DF-F67E-4C38-A86D-126A4B1C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F38ACB-5357-47A8-80A5-61412ABC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A1544-0D42-403E-92ED-126B5AFA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873BF2-CE61-4A00-9BE4-12BE3E4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D8D63-A2BB-4834-9955-E8355425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ECE8A-4229-405A-8A8D-7681619F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F6986C-01DB-40E3-B3CA-59E07C1F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B3CBA-55F2-4D6C-83E6-2D94DA70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664E-0DFB-4396-B4D1-0BBCC299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BF40E2-48E1-41CD-8A8E-519E7089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B14799-440A-46F6-A930-0DAA15EB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121D0-365B-4AD0-ABB7-93790180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2D1790-ECDF-45F3-BAFB-986D0247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8D88A-47FF-419C-B35F-67D843A1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19088C-04B7-4FC0-9F43-4A0DC701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BF67D-67A1-4D30-A870-658E1DB4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EDFA37-DFEA-4417-BDB9-B84EF5EE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64070-9E6E-4500-BBB4-D7B4AEA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3858C-DABD-4926-8D8B-AAE74BD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722A-1DC1-4064-8FD2-DC0EE548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48EA7-9A2B-4CC6-974F-C6E1C5D4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5AA7B8-B5AF-46F8-A4ED-A141C9ED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D5AC1-9336-4C3A-AC6B-71B11EC1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0FEB1-30D0-4303-B740-668037BF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80774-DA61-47A4-B8D1-CC24D401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569E56-7255-4CE6-ABBD-52558A46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7502EA-D8FF-4657-B03A-C051D79E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0B525C-E748-4D6D-8844-AC8144B8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80612C-9AAC-4D9B-9EF4-6FA42C8E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C2525B-014F-4884-B803-8372A3CF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7149C-8C1E-4EBE-9980-314A7A1F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C7E18A-E355-4481-A0C2-3F7E8CC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4C1D4B-E220-4287-A06F-7DE5F53F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2E1CC5-75FB-43B4-B0D3-E66B6897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08DED1-F0AE-4A46-A700-D163FD2F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C506F3-7B96-438F-B4A7-8E92741D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4EEA02-BAED-4FD8-86F2-D9B10296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762AD7-BC94-4FBF-9BE1-E6081E26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C7C1E7-7144-45C6-A050-56234694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1A1C73-1A14-466D-B80D-7695AF82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3A00EF-06BA-4620-A4A2-AC6AC791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BC0B-0967-4B39-87E7-011BE39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76FE88-A271-4658-BFF3-F6680C67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5BB2F7-804E-4A36-9E7C-9E38980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7F9992-D781-4B1B-9BEF-93A71318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01F44-670E-4F0C-BA6C-2CA336F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09A807-597C-4B45-A77A-CC131C58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7AC805-DF14-4C26-8576-D6D06014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9CB8DA-A59B-4225-85C3-965C34E6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468412-98C0-4AAF-BD1D-398B5D27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DC201D-3C2A-40E6-A0CE-F6F961CF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B36195-8CBC-4D5A-9B00-838A1B5C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DFDD-1AFF-4D09-BA4B-B4692E9F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FADE0B-334A-4DE9-BF12-B0E1C43F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F317CF-804B-416A-B6BE-6B5A2A41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CB938B-36B8-4F20-A564-7971CE86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F26143-6615-4C0D-935E-AE30BB39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BD061D-DABE-4528-95C8-08CC38A8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316D29-F33E-4CB5-81F1-D351C90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7FEE72-80D6-4BCA-85ED-86BE6014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F96598-3581-4AA5-8B7C-528A50F7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D494C-0B48-4897-A9ED-BABB1406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772A67-AA39-4B04-9BCE-C04D615F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2F62-6A46-4697-B498-1CC0B64C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440088-13CD-49FA-B1AF-89FAABDA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C94AD7-3391-4BD2-B2DB-306DE973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D4E4BB-1BAA-43F3-830A-9FE480D4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CBB7A1-2CD5-4BFD-8A46-9CD82C21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5D17ED-42A0-4829-84F2-E572256C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25B5FE-3B76-4C53-84C1-87C347D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F88F31-76B1-4CBA-8D50-B1CC24A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89FE3F-071C-4CE9-9365-F67E9541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45F48A-2C1A-4984-B96C-C38A3207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A8EBDE-F6C1-4D1A-9333-0C9C9885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26A-769E-4D47-A962-7ED0F507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4185-824D-47DF-8DFF-6C2D705D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209DBB-41DA-43B5-87B3-B7997A7A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E37210-C344-44CA-9069-A5826E1B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41A87-3976-4D1A-808E-3257A1CA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E19C1C-EF3D-40B5-B39A-3856E38A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004190-B8CB-4169-877C-05AF0690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19931E-F717-4E80-BA31-BAFFD1FC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016A56-42C9-49DE-9623-217B88C7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7D1939-74C0-4D6D-8872-5CDEBDDF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3DEAAE-5827-4A4A-AA5D-022C64BC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201D42-9676-4FB3-B9C5-E07F417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A1B4-0703-48BF-BE83-66BC8E6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D35FEC-DAD2-4A07-A36C-8B31ED1C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BCFCDE-A086-4E7C-9AF6-F59E79C4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F25E0-3B74-42C0-A10D-1919FFC8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3D822C-E174-4C92-AC98-2F1DBFA2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5D87C0-B542-491E-9DCE-0D93BB9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DA65CC-A8FD-45C9-AC90-9E8CBD0A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7EC65A-BBF3-4726-B897-A37A30A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750A9F-3EDA-4F15-A69F-51F57E2C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5CE2D9-F18B-490F-9E94-69356B03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47D590-E5DE-49BD-B0C8-0D79AB29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C00D-910C-462D-AFAD-503339C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10E970-B0D0-4A99-9FCA-1FE2708F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E7802F-020C-4269-AE2B-C9664F80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C5C57F-EAB5-48C7-9422-C2AFE379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A32B9B-4641-4B3E-9789-F77600C2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4DFD3A-BAE1-44B1-B645-A31B1B8D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AEE8A7-D40B-4CF7-9990-5B9A5D0E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936E93-C996-4261-A459-C2320296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E8B6EC-8318-4680-B91A-78E6BDC3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76783E-39C9-4441-BF95-7AD6220B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609FE8-3E84-49A7-9604-B303D9CC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5BB8-7542-417D-9BFE-4499D1FD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F39952-7AEF-439B-A22C-CA7A3762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A93236-34A9-4908-A767-064EF98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02CBA0-B842-4E8E-ADCC-9900DD2C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90F547-1973-489A-A761-E87A1F7E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EDFDEA-8292-4289-A58C-BC1861FF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DDB60F-8EE7-4AED-AEE8-F9E0EAAF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8B6AF8-D90C-4C77-B035-22A4CCD2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B6CAE0-AB9F-4A27-AFF7-5343F818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FEE4FF-B7E7-4A21-B91F-A4FBD63D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E43A80-A945-4596-B157-C7BF3450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58F1-381C-4F3C-9533-6B873E7B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623BFF-69BD-4475-BF36-994705E8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9260C2-7919-4757-8711-04CD7927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D4FF6C-49C3-4684-A808-F5916D9A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3D9356-4337-4423-B806-E54E1E57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AF9142-5DA3-42DE-BE8F-9E3FFAD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78DE94-AF82-42F3-B514-18C4DFCC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8E46A4-1127-4A76-B6F2-207E2ED9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A7C65A-FBBF-460D-902D-0123B364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0EB8CD-3ACE-4062-A1A4-9FCC0BB5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661EB1-EB82-4144-B716-EEE1F7F2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E984-8CCA-461A-803C-6B6BE107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7475AD-F97B-4933-86D4-798D534A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A809FC-F97F-4A9C-B730-3EACDC0C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3D33EA-FB94-4EFF-BBB4-82EF0BC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F0D8C6-4C8E-4773-A2E2-95AF8F21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318525-B753-4A9E-A72D-EC0D111D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D113D0-7DB8-4097-B696-A9CA1455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B7B8E8-6402-49D8-A0DB-5FFBC990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85267B-AFEC-4CA8-9AC5-EA5CF885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32ED47-1295-4DBA-BA2A-0BB85B65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8F703D-1605-4654-A484-0DCBCD49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2058-7657-4C8B-B1EA-21269BC5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D8F635-3B36-4AF2-B638-4A602CB5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47CF62-575B-41A6-9420-D300F155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EEBE63-3692-494C-A6A2-7C6BAFC7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325B9A-2505-4714-B8D8-D702DA33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0C2DD8-E26A-48EA-89B9-BE04306A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715134-4FF1-419A-9797-CAB4C74E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06DEBC-AA37-4F30-A3A4-4E15C588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265AB1-9CE2-4E31-9F25-4F1540B3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C4099A-0F02-4181-A92F-2FD02281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4E3B5F-A124-48A0-BA57-5F3777B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8AE5F-AE5E-4456-A1C8-6F6C2B94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70E3C4-9DFE-4011-B305-5544CDF9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FDA84B-C23C-4FCD-A515-4F37905B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46A169-07BB-41DA-8E19-D391EFC8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913DF3-D00D-4A4B-A9E1-876E7ADE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5CF9B7-991D-4E32-9DAF-C407F9AE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27DE2B-3235-4F2E-88E0-895B3FA2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34B6D7-74CA-474F-BBFC-2640BCAD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3F205A-9F08-4425-9CBF-89055264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5EF8DE-B4A7-4EDB-A022-24532799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44074B-E3C7-4151-9121-95B49933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68CE-59ED-4608-BE5B-98EC30DC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1CD0EA-C2E7-4360-BFC6-023E3130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8C39D5-3D50-4673-A730-40CB997D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E4F3F2-A2A9-488F-99F0-9C881FB9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E52646-FE10-4805-992F-9858F919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562116-6405-4BE0-8B81-0279DE18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0EFEB9-2A6C-4CC5-9E85-99613117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1CB9B3-3279-4FED-ACD8-DFEFC57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FDD3F8-2A1D-47BC-8BC2-5AC63BF6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ACC848-7479-467B-A871-EAD37F60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4A2B25-707D-4B5B-8378-A5D68247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C355-33DC-4665-9DC8-47735BFC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A66D57-7692-4819-8E53-19D68E6B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C7AD9D-99C2-4DB4-B5C3-7E95BDED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C7C743-65C6-4E77-9226-6513ADA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84F0D0-2095-4A4E-8F15-3F68C1A7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0FBF91-75CF-4ECA-AF96-4BB7AB02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29DB17-DF4A-4CBD-9E03-35854C24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DC92CA-CC4B-4A63-9A95-41FA90F2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DA3D36-94E4-4F2A-BFE7-480371F3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7F9937-CA2E-49AE-9428-51C30AFE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68207C-BC18-4385-86CD-7F06AD89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FA5-0356-48A7-8C40-DB1FECB7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30D9-8593-4F40-A7E9-9F4976D7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E1C76F-389F-49EC-886A-195437D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32EBA7-26D9-496E-88A7-C305CDDC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DB7DA5-2D54-4B3D-A721-12374CB5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7E1534-4FB7-4D3B-B68C-57B2AAB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494206-F6F1-489C-97CA-2FE8E2A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CA8D8B-FC17-4EF6-8CF6-9C8205F9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3C5EE8-C6D2-4672-B004-1DEEA57C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B0AC9E-43D9-4E39-B8F7-F45EFDE3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FCEF8C-7DD8-45D7-BA56-5D92B93B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CA0238-7B87-4E0C-BD13-88F242C7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819C-0C23-4287-BE10-F626BF1D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A3A677-00E9-4B28-A117-BF173051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01529A-1813-4CC3-A1BA-7750575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718093-8C94-486F-8972-EEFB909D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A84D5E-BBB6-44C5-98F7-57891829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D683B1-AB75-4E45-BD84-02D8C26E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23A785-8C55-46BC-9C5A-B418CA7A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2BC8B2-966C-4F6D-BAB7-E7F383E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E3F8E8-17AF-453A-84E4-7C61784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F99466-AE7C-4FFB-9132-BE161E57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40B952-324B-44E6-81C7-3CC68789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3B28-86D5-4BAF-A7D7-14111E37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408525-F964-43A0-B32E-424115AA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6473C7-AD34-4B89-8E3B-5DCB1139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F5FA05-F061-4975-8EBB-90D03512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044E45-B721-49B5-A6FB-676B416C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562486-5B2C-4B5D-B10D-6BCC210E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06845D-438C-4BBB-937C-BAE16727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9335E3-0B36-42B5-9BC0-768EFA59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AEB0FB-29E5-4757-A562-3C92F083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58D4B1-BC81-461F-8D59-E696A30D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424773-867A-4DC1-AFA6-4B90855E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9762-F818-4925-8D5C-D5D3B071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E93F18-EAC6-45F7-BEA3-7EA6F4D7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E39CA6-0C88-49CF-A992-E8827DAE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C174D7-4C51-4C14-913D-25A99890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351B21-3AD0-4F82-AA56-27703607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2B8C64-6EB8-4144-AB09-299157A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804F6C-E36E-417F-89D3-14BAD45C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E37B76-1D47-45BA-BFFC-96675355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D7CDE1-AB7A-4F3B-B578-1EFD7798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D25F12-AC1C-4017-8F59-9C6B119E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5B1628-C457-4226-8E16-4C454C9D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009F-8EFA-4DC0-8AA0-5E48A55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5BC783-7548-47CC-A228-7D9826C7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1DB4A9-6E28-4AD5-B598-63DF2AE2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25CDCF-96DA-4B37-84D5-E32AD8C7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2090B1-0B15-4CE6-8FA1-801E074F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2014BB-4FC4-4ADE-928A-D073F342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0459E0-79AD-4795-A4DC-2B1F2CFE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35390D-68FF-48D2-89CB-50EE48AA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359028-E781-4AEB-A2C2-268D30D3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1D472D-9C1E-4AF8-B5E1-C8265101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58BC7C-4213-4C79-8C30-54B05150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F0E5-5CF6-4B0A-B694-BF0B438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362F45-4BEC-4181-9051-E138B640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FF0834-899E-4151-BEAD-EC437ED3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8A127C-9CFC-46E5-9B12-CE330B9E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E56294-124C-4079-90FE-443E2C6D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F82B38-6799-480F-AF3D-12E4372C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425897-B0FA-43EE-A364-79CB41D2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41D654-71A7-4109-BE72-522750B9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875AE2-5F84-4238-8BCD-086CB6E2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CCD2DD-B0A1-4E68-A634-1B2C6456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E2745F1-4EF1-4260-BF82-8E0988FC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B743-4EE8-4619-998D-5769863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90D9921-12F6-4AD9-BE07-FF01FB97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17C23A-3529-498E-971B-F0AABC05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97ACC1-C242-417F-8DAE-7C8C194D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950810-0F5E-4A86-A9C2-40A24D28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19721BF-4F1A-46A4-ADA6-FF6CE4E0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11722F-373C-4A42-A582-0AEF845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E57489-63CC-4201-B893-B54D45E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3F650C-7DA4-4885-872F-F5614B88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EC4657-1ABF-4217-95F1-B05B9C40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3C5346-C869-4B3D-B434-8B105CBD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E286-BA3D-466E-A113-A8EAB8B5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83435D-CFDC-4736-A27E-A17BC32B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A16153-F7D5-431A-BFCA-8E8D66E6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80B978-4859-4096-903A-C00183A3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3B43B1-FC8A-494A-A343-0B8B3392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711C19-8742-45C5-B5DA-99402446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D24F1C-E7CD-4BFC-873F-E5B5C3CA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254556-A8D0-4E69-8632-D12C9C62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C02E36-B794-406F-AC51-06FFBAD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7A1E83-F49F-4039-A585-A6870AB5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8632B9-A93C-425C-9DF8-8B6BDE57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1945-28A3-49A7-B3EF-D3B51551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EA9C08-13A9-4490-9F41-15DECA8A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96BB3C0-AD47-4C64-AE62-3FD74E9E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63365A-68AB-4F0E-B5EF-2D2B9AA0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B4E0B2-0B75-44C2-AC1D-CA25C161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08F7B8-044C-49D0-B2FB-A0896DE2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71656B-AD20-421C-8498-D0D60C53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3A644C-785F-42F5-BEB3-3DD5FCB4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83E306-2A01-4249-A717-47F66DEB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5B73715-5119-4720-9B74-14DDAF8F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C06EB5-71A1-4871-AD58-A79CE75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61C79-87EB-45DC-A035-9AF70498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F87101-A905-4882-A51E-DC6ACC4A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B55F87-4BFB-4FBC-BE96-98F32F90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7FC110-356B-4C92-92D9-1C6F2147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15E547-954E-4183-A378-F46AE5E1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CBA3D3-8A06-4BF1-A4C8-F458DCA1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5AB27B-4A11-4D68-90A2-38568F3D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3A46979-7D0B-4837-86D6-CCD6FCA9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A0FBBF-B809-40DB-98F4-B08D3D26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67FA93-85A7-4AFB-AC9C-9F0CDE8E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7A5870-F644-4821-AD65-3D189AB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15E-5920-4874-9989-C9F2550F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9206F-90CC-441B-8D69-71A228B9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81A446-6693-4A9C-8E1E-29DAA727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DF3268-78BA-4B19-A675-6DC6FB63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F1168C-F6DB-445E-A244-286ADEDA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557BFD-71AF-4466-AFD6-875E5767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AF10D3-0782-435A-8849-8C083712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991541-55C3-48BF-BD3F-2E78E0BD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B080F0C-478B-45FA-87BC-CAD01D60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CF8FF5-436A-4E21-A8A0-3A7485F4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65AF43-2470-4541-ADC3-849582E9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840D76-1D94-406B-AA6D-63ED58B0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0992D-0E6C-40E6-B37F-1DD56B5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BA633C-A54C-4E06-AB92-281FEC92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0D20291-DF66-4A9B-AA6E-3DDCFF7B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5E06EE-9094-43F2-B1A4-9D31111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975E2F-4D67-4B53-9C38-CBD87D03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FC43B9-469F-4C44-9071-7329247C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4F8A1A6-07F3-4D9C-9900-CB39AE1A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8A1686-2C9A-430A-B4A4-851EE1EE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644944-B526-4EE4-AD41-C86BD569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238536-890E-4275-B14B-4712CA57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8478CC-B66E-4382-98BC-585EFD0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5F4D2-D3AA-40A0-A229-6AD37083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58677C-5448-4D12-841F-ECFBF9C5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3A81F7-E0DA-457C-B4FC-0EF9D0A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020B3A-F808-433D-A053-AFE2A95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D32979-0BCB-410C-B5AD-BDB13177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1C7469-480E-4781-9D7E-0337E605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7FC19C-B419-4747-A300-C197ED8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9BAF4C-FAD2-4341-9753-B63E8739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04D508-B97A-4F82-B425-184D394A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BB8DEBE-FA0F-4326-841E-9E51058B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ABA5DC-5676-4D4B-8C03-DF666CCA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56BB-AFC9-4A66-9C5D-26F0610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142279A-2A59-4CAF-9DC8-F00CDC78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D2A76DC-CDC8-4670-8883-93B57FC9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5B4CB37-2B9C-4AF4-B4F0-F6FAB6A7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CD0A90-9446-4B58-96EF-F808B713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F999A1-4698-4154-9F5D-98AE039A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7B42F3A-C4E3-4EA4-98D6-F552CFBD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F63A19-7589-4358-83CB-D001962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D806EAE-FD6C-42B5-9479-A8BE1144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F38CED-6B9B-4374-A579-B4B3168B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111225D-664F-4B24-902A-CD326403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026B9-A5F0-4397-A7E6-EDFFA47F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7623AC-714B-4F9E-BE18-9F3CD37D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888E68-4C0A-46B5-A4F6-5979333E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5A2016-1B5B-41E8-B47D-D7188D49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91E10F-A1A0-4395-8D8F-2903BAD7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30C5E8-790F-491E-9712-CC54C2ED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3098DE-1B05-4E8A-BC4A-EBD46417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9E27BCF-DA6E-496F-B891-E0407B62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444A13-B2A5-4CAD-81BE-CE0E3EE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B2DC87-E394-40D3-ABC2-BAB041EB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7DEC328-2214-4861-98A6-CD92EFC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44A31-54FD-4D2D-A7EC-75A0179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427627-52CA-4BC3-AE07-543172AC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F6B6E6-CE52-495B-A0B7-1DFF64AA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1C087CB-AF33-4BC0-91BD-CF08690D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FFEB0A-026E-4EA7-AA0F-B10F3A53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88F5F8-C048-4411-967E-3C73235A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0F5CE3-CD83-4A1C-95AE-9119E5DB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C1181C0-7FEC-47DB-B323-C7833835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28D7E41-26CC-4F43-9919-FB3B2E3A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66F6A1-A893-41BD-BF38-4DFC512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0AB891C-F1FF-499B-B484-B3055C3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0AC50-BECE-4F61-AA90-06BBF997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CF3850E-4769-46D0-977B-FFF5EFE4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F3E6E8-281D-4C45-962C-57907B70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84C7709-1261-4278-B660-FA511D7D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D999920-5852-4386-AEE9-4A63D5D4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AB76D9-9D05-4DD2-B9F1-CD88E0EB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22CF5ED-1EAE-46E3-A653-69472631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8A5AF2-C312-4BBD-BC56-E049F1F4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6A6352F-254D-433F-85B8-9EFCA77B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B39B22-42EA-49FE-A34D-1D2AAB91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75FCEB-752A-4AB9-B16B-D24B5EA9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94D9F-E267-476F-A26F-6C5527E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3CB2186-203D-443B-AD66-31019520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2041414-5FAC-4943-A6EC-7619CB4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E2CCFB-5FF5-4C25-A759-8293B289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BE9ADB1-4A1D-4AEB-ABFC-0CC71115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4DDBF4-8A39-4340-AC5E-2C4EA72D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3745E4A-DD24-48A4-AB88-9947E785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CF0545-1F3A-4C06-89D2-38CB9199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73D5037-52E9-43BD-9276-0C6AB925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02A97EA-8816-49F5-9DAF-51647957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57DDEE3-C13B-42A4-A118-069EDD17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D79D1-903D-4631-BBE2-4BCB529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9ADD64-A658-420F-9277-751EF9BA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9B37055-C5F6-48EF-AA15-09A6108C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9260074-CCF4-4972-99F8-01FCE2FD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5B48F7A-77A3-4F2D-9C65-E08CA028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B846B2B-D989-4CE2-8DCE-E67F617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114894F-EB7A-46C1-BBF3-337033CB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8C2D3A8-D043-43E6-91E7-8EE4D14C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3667CD-33F7-4EB7-805B-A60FB03C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4CE696-63D8-4A0C-A8F3-492F9B42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D1C0-EF76-4803-B8E4-CE69354A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A82-F5F5-41E9-BA8A-8B65D264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F6EC-6EA4-4319-9C4B-CE7E83E1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A7217-0AB7-47C8-9858-378876D7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EF78-37C8-4934-9383-CB56D85E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4D1EC-8AAA-4570-AD7A-F73EBAC6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BAF51-13C9-4C26-9091-FEFEF0E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D8CD2-8BF5-42ED-A519-F9BA81EF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F3FF-8507-4506-A6A1-DC212018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16033-D609-403D-9559-532F7B0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A922-9A84-4F18-A690-1D7970AF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FEEB-13B5-4D60-A056-4C5D71C9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565-3F95-44C0-ACD8-27DF176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8EFF6-9AF4-41A3-A5E7-04EC1573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AD2FB-58E4-45E9-92B4-67F7250B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F396-31CE-4CB8-9CCE-484E12FE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28A40-7B69-407E-B449-C032836A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3BD37-57F3-44C9-AC4E-7AF89528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4A827-F36E-42D9-B179-934B8B07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10664-00B7-4D23-9BC5-2CBFF59C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2AC69-8971-4230-8CF1-BDD4649E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DEE0F-DF6C-47B3-B7EC-0197FF18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2956F-939A-42C7-B7AA-1560D37B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06E-427A-4909-AE32-1C2E5EB1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D3B05-E240-4DD8-B19F-1FFD655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333B5-718A-4003-958A-9D481250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C99AD-6B35-4102-9091-2AC50C73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9EAEB-BC67-4E01-910E-22D69835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87C5E-F78E-49A5-8F2E-24EDBCE0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ACC7-38E7-4D4F-875E-09F787D6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CEDC9-33C6-41F5-A89D-73131687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4CEF4-FD8D-468D-9CCE-A6789E7A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A4D8A-A8F0-4819-8A12-C6B09C04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B4E51-D507-457C-B662-62A68CBC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D43-1F61-422E-B7FC-AC3FC061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91553-51AC-4BD5-A1AC-DA8FD225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7E74-2742-4355-9A61-B0E0EF9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E4D03-F031-4609-A8A7-9D4CD6FC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7960D-70B4-4F2B-984A-25E44C89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A6C78-69D7-4D10-AACF-90B43222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D3A69-F2E5-405B-8F6B-EEDE432A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C5B3F-537B-4889-9E17-D45E6B2F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16A00-F4C6-4CB8-915D-C10850AB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6A207-F849-425D-9EEC-C26555BE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49189-FC4B-4106-BBBF-E2561E3B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89CE-1F49-4563-99DD-7158259A0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1E28-F21D-4985-AFAD-F4FDF9A62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B833-44F9-4EB5-94E0-ED8CEA9C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F61F-54C6-425D-984B-DC4C6EE27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4DD5-8F9A-469C-AAA2-816D0798E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D768-A20F-4D32-B814-BD5926BE1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744A-39EB-4EA4-81F8-72F65B355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D1C2-6A2E-4705-9BAE-96A9CFF32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6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650bb7"/>
                </a:gs>
                <a:gs pos="100000">
                  <a:srgbClr val="4d4d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4E01-29F3-493C-A351-A7A047E7DF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6B2A-9500-4185-92AC-DDE4C6B50C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E52F-3B20-4952-9C34-D81CEB232F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650bb7"/>
                </a:gs>
                <a:gs pos="100000">
                  <a:srgbClr val="4d4d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E583-D90B-4563-9D9F-2A5819A6E2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B73B-3F23-4874-8205-A187850C15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9D0B-485D-4BCD-A106-135468A932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EA2A-5DD7-4584-8A75-A3C4B29502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DA73-68C2-4254-913A-5CA116ED37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C01E-95C2-4CFE-916B-F2EF9A8B44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15C1-4A91-4FDF-ABFD-9814E79F0F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CBF2-670F-433C-AEED-1C455C569C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26BC-FBBE-4990-BCE0-1D44C13A67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8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7B55-2CA0-4C3A-B0E7-4E82C47F6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85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86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87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357C-60BE-4188-87B8-8CF3D4C80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6847-8A0D-4C39-9684-0B2F25DB1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88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89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1816-844F-49CF-A59C-D64983313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9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9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C772-3E57-4830-9E0F-BD8CE58C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dt" idx="9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ftr" idx="9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8D37-D8FB-4A43-96F2-594413FB0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9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0BBB-1054-47CA-AF22-F8ECF710F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100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101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35DD-0C24-4EE0-B7BC-84FB08A6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103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104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C6A0-96DA-4943-9F49-53CBD0CA3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106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107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5239-CA42-4E37-83D6-958CB75BD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10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11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E7D9-A845-4986-886B-1269D5E49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112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113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6251-4947-47E7-9744-8E64A88F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11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E833-62B1-454E-8832-B5E037D0B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6652-EDBD-465E-9794-30E74D805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B4CD-FA8E-4EF7-B23B-800B90361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 type="dt" idx="12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 type="ftr" idx="12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 type="sldNum" idx="12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9E4E-D20F-4F30-BD4F-F349E696C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12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12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7EA8-795F-4AC1-A8C3-CF8546863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 type="dt" idx="12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 type="ftr" idx="12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 type="sldNum" idx="12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849D-9F20-41A0-A93D-AD70D188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dt" idx="13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ftr" idx="13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 type="sldNum" idx="13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DB09-ABF8-4547-BAD2-F0EABFC39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13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13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C142-44C1-424F-89A4-33EB580A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dt" idx="13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ftr" idx="13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 type="sldNum" idx="13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DF5C-A195-4FB3-88FD-E4105F3BA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dt" idx="13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ftr" idx="14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 type="sldNum" idx="14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6970-A506-4835-8768-3300B41F5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 type="dt" idx="142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 type="ftr" idx="143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 type="sldNum" idx="144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F793-2003-44BC-BAEB-F9306C167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4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ftr" idx="14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 type="sldNum" idx="14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0443-7B06-4BD9-B030-A1A7E65101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CF50-4164-495C-B375-9B1E3CA56E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C578-20BD-48DA-A6F8-9AF002134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19C3-090B-4377-A961-4496D314C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8FC1-ECF0-4FD2-87C1-2CBB8600A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E672-F40C-4BA8-8E0E-0FB10B356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rcoo.com/AI/Aridi13_Certificates_Awards_Frames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275,8,&#24187;&#28783;&#29255; 8" TargetMode="External"/><Relationship Id="rId3" Type="http://schemas.openxmlformats.org/officeDocument/2006/relationships/hyperlink" Target="269,10,&#24187;&#28783;&#29255; 10" TargetMode="External"/><Relationship Id="rId4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6" name="Picture 7" descr="10978937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358920" y="2133360"/>
            <a:ext cx="8426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半截蜡烛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语文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4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55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Text Box 4"/>
          <p:cNvSpPr/>
          <p:nvPr/>
        </p:nvSpPr>
        <p:spPr>
          <a:xfrm>
            <a:off x="990720" y="838080"/>
            <a:ext cx="7162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她看着两个脸色苍白的孩子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急忙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从厨房取出一盏油灯放在桌上。“瞧，先生们，这盏灯亮些。”说着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轻轻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把蜡烛吹灭。一场危机似乎过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8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59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Text Box 4"/>
          <p:cNvSpPr/>
          <p:nvPr/>
        </p:nvSpPr>
        <p:spPr>
          <a:xfrm>
            <a:off x="380880" y="22860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这时候，大儿子杰克慢慢地站起来，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天真冷。我到柴房去搬些柴来生个火吧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说着伸手端起烛台朝门口走去，屋子顿时暗了许多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Text Box 5"/>
          <p:cNvSpPr/>
          <p:nvPr/>
        </p:nvSpPr>
        <p:spPr>
          <a:xfrm>
            <a:off x="380880" y="3505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孩子是懂事的，他知道，厄运即将到来了。在斗争的最后时刻，他从容地搬回一捆木柴，生了火，默默地坐待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3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64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Text Box 4"/>
          <p:cNvSpPr/>
          <p:nvPr/>
        </p:nvSpPr>
        <p:spPr>
          <a:xfrm>
            <a:off x="380880" y="22860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这时候，大儿子杰克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慢慢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站起来，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天真冷。我到柴房去搬些柴来生个火吧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说着伸手端起烛台朝门口走去，屋子顿时暗了许多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Text Box 5"/>
          <p:cNvSpPr/>
          <p:nvPr/>
        </p:nvSpPr>
        <p:spPr>
          <a:xfrm>
            <a:off x="380880" y="3505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孩子是懂事的，他知道，厄运即将到来了。在斗争的最后时刻，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从容地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搬回一捆木柴，生了火，默默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坐待着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AutoShape 6"/>
          <p:cNvSpPr/>
          <p:nvPr/>
        </p:nvSpPr>
        <p:spPr>
          <a:xfrm>
            <a:off x="9907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文本框 8199"/>
          <p:cNvSpPr/>
          <p:nvPr/>
        </p:nvSpPr>
        <p:spPr>
          <a:xfrm>
            <a:off x="5003640" y="6381720"/>
            <a:ext cx="393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9e9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9e9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0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71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Text Box 4"/>
          <p:cNvSpPr/>
          <p:nvPr/>
        </p:nvSpPr>
        <p:spPr>
          <a:xfrm>
            <a:off x="914400" y="457200"/>
            <a:ext cx="7696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突然，小女儿杰奎琳娇声地对德国人说道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司令官先生，天晚了，楼上黑，我可以拿一盏等上楼睡觉吗？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少校瞧了瞧这位可爱的小姑娘，说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然可以。我家也有一个你这么大的小女儿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 杰奎琳镇定地把烛台端起来，向几位军官道过晚安，上楼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650b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4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75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Text Box 4"/>
          <p:cNvSpPr/>
          <p:nvPr/>
        </p:nvSpPr>
        <p:spPr>
          <a:xfrm>
            <a:off x="914400" y="457200"/>
            <a:ext cx="7696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突然，小女儿杰奎琳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娇声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对德国人说道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司令官先生，天晚了，楼上黑，我可以拿一盏等上楼睡觉吗？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少校瞧了瞧这位可爱的小姑娘，说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然可以。我家也有一个你这么大的小女儿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 杰奎琳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镇定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把烛台端起来，向几位军官道过晚安，上楼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650b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AutoShape 5"/>
          <p:cNvSpPr/>
          <p:nvPr/>
        </p:nvSpPr>
        <p:spPr>
          <a:xfrm>
            <a:off x="1143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2D47-87FF-4F58-9257-B29C31BA58A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83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4" name="Picture 4" descr="Borders_080BOR-C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66560"/>
            <a:ext cx="5410440" cy="4029120"/>
          </a:xfrm>
          <a:prstGeom prst="rect">
            <a:avLst/>
          </a:prstGeom>
          <a:ln w="0">
            <a:noFill/>
          </a:ln>
        </p:spPr>
      </p:pic>
      <p:sp>
        <p:nvSpPr>
          <p:cNvPr id="2085" name="Text Box 5"/>
          <p:cNvSpPr/>
          <p:nvPr/>
        </p:nvSpPr>
        <p:spPr>
          <a:xfrm>
            <a:off x="1454040" y="847800"/>
            <a:ext cx="3048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</a:t>
            </a:r>
            <a:r>
              <a:rPr b="0" lang="zh-CN" sz="4400" spc="-1" strike="noStrike">
                <a:solidFill>
                  <a:srgbClr val="650bb7"/>
                </a:solidFill>
                <a:latin typeface="Arial"/>
                <a:ea typeface="隶书"/>
              </a:rPr>
              <a:t>荣誉奖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50bb7"/>
                </a:solidFill>
                <a:latin typeface="Arial"/>
                <a:ea typeface="隶书"/>
              </a:rPr>
              <a:t>    </a:t>
            </a:r>
            <a:r>
              <a:rPr b="0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鉴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特授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彩云"/>
              </a:rPr>
              <a:t>生字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3240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50bb7"/>
                </a:solidFill>
                <a:latin typeface="Arial"/>
              </a:rPr>
              <a:t>烛  诺  熄  遭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50bb7"/>
                </a:solidFill>
                <a:latin typeface="Arial"/>
              </a:rPr>
              <a:t>厄  盯  琳  梯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50bb7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彩云"/>
              </a:rPr>
              <a:t>生词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11160" y="2276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0bb7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蜡烛   强盗   秘密   厄运   点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绝妙   微弱   绝密   镇定   熄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03360" y="227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烛（   ） 熄（   ） 镇（   ） 梯（   ） 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浊（   ） 息（   ） 慎（   ） 递（   ）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盯（   ） 钉（   ） 琳（   ） 淋（   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情报         一（  ）油灯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主意         一（  ）危机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心情         一（  ）烛台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姑娘         一（  ）晚上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东西         一（  ）木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50bb7"/>
                </a:solidFill>
                <a:latin typeface="Arial"/>
              </a:rPr>
              <a:t>问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 txBox="1"/>
          <p:nvPr/>
        </p:nvSpPr>
        <p:spPr>
          <a:xfrm>
            <a:off x="539280" y="1196640"/>
            <a:ext cx="8077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0bb7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650bb7"/>
                </a:solidFill>
                <a:latin typeface="Arial"/>
              </a:rPr>
              <a:t>说说伯诺德夫人一家在危急关头是怎样与德军周旋的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问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默读课文，圈出描写伯诺德夫人全家人的动作、神情、语言及心理活动的有关词句先读一读，再和小组同学合作将故事编成课本剧演一演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5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46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Text Box 4"/>
          <p:cNvSpPr/>
          <p:nvPr/>
        </p:nvSpPr>
        <p:spPr>
          <a:xfrm>
            <a:off x="1676520" y="1219320"/>
            <a:ext cx="58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Rectangle 5"/>
          <p:cNvSpPr/>
          <p:nvPr/>
        </p:nvSpPr>
        <p:spPr>
          <a:xfrm>
            <a:off x="380880" y="762120"/>
            <a:ext cx="853452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伯诺德夫人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2"/>
              </a:rPr>
              <a:t>杰克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3"/>
              </a:rPr>
              <a:t>杰奎琳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</a:t>
            </a:r>
            <a:r>
              <a:rPr b="0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0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51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Text Box 4"/>
          <p:cNvSpPr/>
          <p:nvPr/>
        </p:nvSpPr>
        <p:spPr>
          <a:xfrm>
            <a:off x="990720" y="83808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她看着两个脸色苍白的孩子，急忙从厨房取出一盏油灯放在桌上。“瞧，先生们，这盏灯亮些。”说着，轻轻把蜡烛吹灭。一场危机似乎过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12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04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