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9.png" ContentType="image/png"/>
  <Override PartName="/ppt/media/image12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3C20-B5C0-4C31-9D5C-BCD6D5CF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2860560"/>
            <a:ext cx="7772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6902-C75B-4D26-9EDD-4795FF08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286056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286056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3F53-C7DB-449E-86C9-802BB6F5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190512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190512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286056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286056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286056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B4B4-3A0C-4AE4-99FD-66E335A2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18EA-3749-48EA-8271-9756B3FD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2600" y="1905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2991-4195-463E-973D-936275CA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BF97-24EA-4732-8065-434BE50F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3D3B-987A-4FCC-99FF-E9E1FCBF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D7B2-C121-44EA-B064-94020501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50560" y="380880"/>
            <a:ext cx="77929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6469-3563-490D-A85B-D3F75446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2600" y="286056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5207-C0A0-46DF-835B-E9A0A557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1905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53C3-A2A9-41F9-BE1F-6BC37343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5280" y="286056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0121-EC39-4D33-A5E4-A9F96AB4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2600" y="2860560"/>
            <a:ext cx="7772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216E-AE2E-4845-A6B2-C33DF167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2600" y="2860560"/>
            <a:ext cx="7772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73C2-B3F0-467D-8DE2-4551829C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286056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5280" y="286056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5EFB-430F-4C6E-966F-0EA179FA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0600" y="190512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8240" y="190512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2600" y="286056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0600" y="286056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8240" y="286056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8B1B-9AFC-43CA-B678-D8504DA0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F0DE7-31EB-46B6-A42F-44C375D1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82600" y="1905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06303-F75C-407A-BBEF-5DA47CC9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5A458-DDD1-4D2B-9539-E6956283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9011A-21D0-4850-937D-D1460E1A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0B012-BFDB-4D00-801B-7B52E58E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F5B-B601-45F1-A556-B4466C66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150560" y="380880"/>
            <a:ext cx="77929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B774B-FAFB-4368-9EDE-A3E7816E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82600" y="286056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75802-1FAC-4988-AA4D-A74D3A1B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65280" y="286056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5171F-1021-482B-88C6-14B140CB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82600" y="2860560"/>
            <a:ext cx="7772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3F0B3-359B-4AC6-8AA3-370C8226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82600" y="2860560"/>
            <a:ext cx="7772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48E57-B803-4443-95DB-C46D2084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286056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165280" y="286056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35D8D-E0D8-4D70-88D2-8A48A0C6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10600" y="190512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438240" y="190512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182600" y="286056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810600" y="286056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438240" y="286056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12F6A-A635-477C-9052-253381AB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86C6-8669-4CE0-A1B6-85D5330B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DC92-09D8-48AD-8A4E-087C7858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380880"/>
            <a:ext cx="77929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468E-5451-4486-B011-39759261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286056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8CAD-6A83-4B68-A529-4ADCFBF5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286056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432E-0D5F-492F-9B3F-934CC493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2860560"/>
            <a:ext cx="7772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D08B-DB55-45C5-A319-FD378A06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905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19320" indent="-1227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491400" indent="-982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687960" indent="-982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884520" indent="-982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884520" indent="-982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884520" indent="-982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4E42-CFA2-417D-827F-D69BD3A89B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5F8E-2E88-481C-8FC9-C6B9F2AED0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83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84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6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87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182600" y="1905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19320" indent="-1227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491400" indent="-982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687960" indent="-982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884520" indent="-982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884520" indent="-982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884520" indent="-982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E020-2B49-4A3F-839E-E6DF23B197A9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gif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14"/>
          <p:cNvSpPr txBox="1"/>
          <p:nvPr/>
        </p:nvSpPr>
        <p:spPr>
          <a:xfrm>
            <a:off x="1403280" y="1773360"/>
            <a:ext cx="6658200" cy="119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333399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74f1fe">
                      <a:alpha val="50000"/>
                    </a:srgbClr>
                  </a:outerShdw>
                </a:effectLst>
                <a:latin typeface="华文行楷"/>
              </a:rPr>
              <a:t>斑羚飞渡语文课件</a:t>
            </a:r>
            <a:r>
              <a:rPr b="1" lang="en-US" sz="4000" spc="1" strike="noStrike">
                <a:ln w="9360">
                  <a:solidFill>
                    <a:srgbClr val="333399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74f1fe">
                      <a:alpha val="50000"/>
                    </a:srgbClr>
                  </a:outerShdw>
                </a:effectLst>
                <a:latin typeface="华文行楷"/>
              </a:rPr>
              <a:t>PPT</a:t>
            </a:r>
            <a:r>
              <a:rPr b="1" lang="zh-CN" sz="4000" spc="1" strike="noStrike">
                <a:ln w="9360">
                  <a:solidFill>
                    <a:srgbClr val="333399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74f1fe">
                      <a:alpha val="50000"/>
                    </a:srgbClr>
                  </a:outerShdw>
                </a:effectLst>
                <a:latin typeface="华文行楷"/>
              </a:rPr>
              <a:t>模板下载</a:t>
            </a:r>
            <a:endParaRPr b="1" lang="en-US" sz="4000" spc="1" strike="noStrike">
              <a:ln w="9360">
                <a:solidFill>
                  <a:srgbClr val="333399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74f1fe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34" name="Picture 19" descr="f3"/>
          <p:cNvPicPr/>
          <p:nvPr/>
        </p:nvPicPr>
        <p:blipFill>
          <a:blip r:embed="rId5"/>
          <a:stretch/>
        </p:blipFill>
        <p:spPr>
          <a:xfrm>
            <a:off x="7010280" y="380880"/>
            <a:ext cx="1143000" cy="857520"/>
          </a:xfrm>
          <a:prstGeom prst="rect">
            <a:avLst/>
          </a:prstGeom>
          <a:ln w="0">
            <a:noFill/>
          </a:ln>
        </p:spPr>
      </p:pic>
      <p:pic>
        <p:nvPicPr>
          <p:cNvPr id="135" name="cjhyy.mid" descr=""/>
          <p:cNvPicPr/>
          <p:nvPr/>
        </p:nvPicPr>
        <p:blipFill>
          <a:blip r:embed="rId6"/>
          <a:stretch/>
        </p:blipFill>
        <p:spPr>
          <a:xfrm>
            <a:off x="266760" y="333360"/>
            <a:ext cx="533520" cy="609480"/>
          </a:xfrm>
          <a:prstGeom prst="rect">
            <a:avLst/>
          </a:prstGeom>
          <a:ln w="0">
            <a:noFill/>
          </a:ln>
        </p:spPr>
      </p:pic>
      <p:sp>
        <p:nvSpPr>
          <p:cNvPr id="136" name="WordArt 46"/>
          <p:cNvSpPr txBox="1"/>
          <p:nvPr/>
        </p:nvSpPr>
        <p:spPr>
          <a:xfrm>
            <a:off x="3487680" y="3733920"/>
            <a:ext cx="2230560" cy="70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沈石溪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5"/>
          <p:cNvSpPr/>
          <p:nvPr/>
        </p:nvSpPr>
        <p:spPr>
          <a:xfrm>
            <a:off x="838080" y="144792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66"/>
                </a:solidFill>
                <a:latin typeface="Tahoma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00cc66"/>
                </a:solidFill>
                <a:latin typeface="Tahoma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cc66"/>
                </a:solidFill>
                <a:latin typeface="Tahoma"/>
                <a:ea typeface="华文新魏"/>
              </a:rPr>
              <a:t>、《人虎情》中共讲了几只虎的故事？作者是怎样称呼他们的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66"/>
                </a:solidFill>
                <a:latin typeface="Tahoma"/>
                <a:ea typeface="华文新魏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66"/>
                </a:solidFill>
                <a:latin typeface="Tahoma"/>
                <a:ea typeface="华文新魏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" name="Group 26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218" name="Group 27"/>
            <p:cNvGrpSpPr/>
            <p:nvPr/>
          </p:nvGrpSpPr>
          <p:grpSpPr>
            <a:xfrm>
              <a:off x="425520" y="565200"/>
              <a:ext cx="711360" cy="474840"/>
              <a:chOff x="425520" y="565200"/>
              <a:chExt cx="711360" cy="474840"/>
            </a:xfrm>
          </p:grpSpPr>
          <p:sp>
            <p:nvSpPr>
              <p:cNvPr id="219" name="Rectangle 28"/>
              <p:cNvSpPr/>
              <p:nvPr/>
            </p:nvSpPr>
            <p:spPr>
              <a:xfrm>
                <a:off x="425520" y="56520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29"/>
              <p:cNvSpPr/>
              <p:nvPr/>
            </p:nvSpPr>
            <p:spPr>
              <a:xfrm>
                <a:off x="808560" y="5652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1" name="Group 30"/>
            <p:cNvGrpSpPr/>
            <p:nvPr/>
          </p:nvGrpSpPr>
          <p:grpSpPr>
            <a:xfrm>
              <a:off x="549360" y="987480"/>
              <a:ext cx="737640" cy="474840"/>
              <a:chOff x="549360" y="987480"/>
              <a:chExt cx="737640" cy="474840"/>
            </a:xfrm>
          </p:grpSpPr>
          <p:sp>
            <p:nvSpPr>
              <p:cNvPr id="222" name="Rectangle 31"/>
              <p:cNvSpPr/>
              <p:nvPr/>
            </p:nvSpPr>
            <p:spPr>
              <a:xfrm>
                <a:off x="549360" y="98748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2"/>
              <p:cNvSpPr/>
              <p:nvPr/>
            </p:nvSpPr>
            <p:spPr>
              <a:xfrm>
                <a:off x="918000" y="9874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4" name="Rectangle 33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Rectangle 34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Rectangle 35"/>
            <p:cNvSpPr/>
            <p:nvPr/>
          </p:nvSpPr>
          <p:spPr>
            <a:xfrm flipV="1">
              <a:off x="451080" y="12794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7" name="Text Box 37"/>
          <p:cNvSpPr/>
          <p:nvPr/>
        </p:nvSpPr>
        <p:spPr>
          <a:xfrm>
            <a:off x="2592000" y="380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拓展阅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38"/>
          <p:cNvSpPr/>
          <p:nvPr/>
        </p:nvSpPr>
        <p:spPr>
          <a:xfrm>
            <a:off x="685800" y="312408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66"/>
                </a:solidFill>
                <a:latin typeface="Tahoma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00cc66"/>
                </a:solidFill>
                <a:latin typeface="Tahoma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cc66"/>
                </a:solidFill>
                <a:latin typeface="Tahoma"/>
                <a:ea typeface="华文新魏"/>
              </a:rPr>
              <a:t>、《人虎情》中主人公是怎样对待虎的？《斑羚飞渡》的主人公是怎样对待斑羚的？有什么区别吗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r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3"/>
          <p:cNvSpPr/>
          <p:nvPr/>
        </p:nvSpPr>
        <p:spPr>
          <a:xfrm>
            <a:off x="685800" y="1981080"/>
            <a:ext cx="81532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5"/>
          <p:cNvSpPr/>
          <p:nvPr/>
        </p:nvSpPr>
        <p:spPr>
          <a:xfrm>
            <a:off x="685800" y="1143000"/>
            <a:ext cx="773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66"/>
                </a:solidFill>
                <a:latin typeface="Tahoma"/>
                <a:ea typeface="华文新魏"/>
              </a:rPr>
              <a:t>3</a:t>
            </a:r>
            <a:r>
              <a:rPr b="1" lang="zh-CN" sz="4800" spc="-1" strike="noStrike">
                <a:solidFill>
                  <a:srgbClr val="00cc66"/>
                </a:solidFill>
                <a:latin typeface="Tahoma"/>
                <a:ea typeface="华文新魏"/>
              </a:rPr>
              <a:t>、《斑羚飞渡》歌颂了斑羚的哪种精神？《人虎情》赞扬了虎的什么品质？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2C54-4571-4CC3-A4C2-1CA51751C1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6" name="Picture 2067" descr="BIG-SKY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37" name="WordArt 2068" descr=""/>
          <p:cNvPicPr/>
          <p:nvPr/>
        </p:nvPicPr>
        <p:blipFill>
          <a:blip r:embed="rId3"/>
          <a:stretch/>
        </p:blipFill>
        <p:spPr>
          <a:xfrm>
            <a:off x="727200" y="1974960"/>
            <a:ext cx="8405640" cy="2679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1219320" y="685800"/>
            <a:ext cx="2895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隶书"/>
              </a:rPr>
              <a:t>学习目标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0" y="685800"/>
            <a:ext cx="9009000" cy="1052640"/>
            <a:chOff x="0" y="685800"/>
            <a:chExt cx="9009000" cy="1052640"/>
          </a:xfrm>
        </p:grpSpPr>
        <p:grpSp>
          <p:nvGrpSpPr>
            <p:cNvPr id="140" name="Group 4"/>
            <p:cNvGrpSpPr/>
            <p:nvPr/>
          </p:nvGrpSpPr>
          <p:grpSpPr>
            <a:xfrm>
              <a:off x="290520" y="793800"/>
              <a:ext cx="711360" cy="474840"/>
              <a:chOff x="290520" y="793800"/>
              <a:chExt cx="711360" cy="474840"/>
            </a:xfrm>
          </p:grpSpPr>
          <p:sp>
            <p:nvSpPr>
              <p:cNvPr id="141" name="Rectangle 5"/>
              <p:cNvSpPr/>
              <p:nvPr/>
            </p:nvSpPr>
            <p:spPr>
              <a:xfrm>
                <a:off x="290520" y="79380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Rectangle 6"/>
              <p:cNvSpPr/>
              <p:nvPr/>
            </p:nvSpPr>
            <p:spPr>
              <a:xfrm>
                <a:off x="673560" y="7938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3" name="Group 7"/>
            <p:cNvGrpSpPr/>
            <p:nvPr/>
          </p:nvGrpSpPr>
          <p:grpSpPr>
            <a:xfrm>
              <a:off x="414360" y="1216080"/>
              <a:ext cx="737640" cy="474840"/>
              <a:chOff x="414360" y="1216080"/>
              <a:chExt cx="737640" cy="474840"/>
            </a:xfrm>
          </p:grpSpPr>
          <p:sp>
            <p:nvSpPr>
              <p:cNvPr id="144" name="Rectangle 8"/>
              <p:cNvSpPr/>
              <p:nvPr/>
            </p:nvSpPr>
            <p:spPr>
              <a:xfrm>
                <a:off x="414360" y="121608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9"/>
              <p:cNvSpPr/>
              <p:nvPr/>
            </p:nvSpPr>
            <p:spPr>
              <a:xfrm>
                <a:off x="783000" y="12160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6" name="Rectangle 10"/>
            <p:cNvSpPr/>
            <p:nvPr/>
          </p:nvSpPr>
          <p:spPr>
            <a:xfrm>
              <a:off x="0" y="11430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635040" y="68580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 flipV="1">
              <a:off x="316080" y="15080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9" name="Rectangle 15"/>
          <p:cNvSpPr/>
          <p:nvPr/>
        </p:nvSpPr>
        <p:spPr>
          <a:xfrm>
            <a:off x="762120" y="175248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e5f1a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b74e07"/>
                </a:solidFill>
                <a:latin typeface="Times New Roman"/>
                <a:ea typeface="华文行楷"/>
              </a:rPr>
              <a:t>整体感知文章内容，学会复述生动的故事情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18" descr="ball010"/>
          <p:cNvPicPr/>
          <p:nvPr/>
        </p:nvPicPr>
        <p:blipFill>
          <a:blip r:embed="rId2"/>
          <a:stretch/>
        </p:blipFill>
        <p:spPr>
          <a:xfrm>
            <a:off x="380880" y="1981080"/>
            <a:ext cx="320760" cy="263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ball010"/>
          <p:cNvPicPr/>
          <p:nvPr/>
        </p:nvPicPr>
        <p:blipFill>
          <a:blip r:embed="rId3"/>
          <a:stretch/>
        </p:blipFill>
        <p:spPr>
          <a:xfrm>
            <a:off x="380880" y="3200400"/>
            <a:ext cx="320760" cy="2635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7"/>
          <p:cNvSpPr/>
          <p:nvPr/>
        </p:nvSpPr>
        <p:spPr>
          <a:xfrm>
            <a:off x="685800" y="312408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e5f1a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b74e07"/>
                </a:solidFill>
                <a:latin typeface="Times New Roman"/>
                <a:ea typeface="华文行楷"/>
              </a:rPr>
              <a:t>学会运用自主、合作、探究的学习方式研讨文章的内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29" descr="ball010"/>
          <p:cNvPicPr/>
          <p:nvPr/>
        </p:nvPicPr>
        <p:blipFill>
          <a:blip r:embed="rId4"/>
          <a:stretch/>
        </p:blipFill>
        <p:spPr>
          <a:xfrm>
            <a:off x="380880" y="4419720"/>
            <a:ext cx="320760" cy="2635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0"/>
          <p:cNvSpPr/>
          <p:nvPr/>
        </p:nvSpPr>
        <p:spPr>
          <a:xfrm>
            <a:off x="1066680" y="43434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31"/>
          <p:cNvSpPr/>
          <p:nvPr/>
        </p:nvSpPr>
        <p:spPr>
          <a:xfrm>
            <a:off x="701640" y="4267080"/>
            <a:ext cx="77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ahoma"/>
                <a:ea typeface="华文行楷"/>
              </a:rPr>
              <a:t>感悟作者热情赞扬的动物可贵的种族精神和整体精神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105"/>
          <p:cNvSpPr/>
          <p:nvPr/>
        </p:nvSpPr>
        <p:spPr>
          <a:xfrm>
            <a:off x="2803680" y="78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1106"/>
          <p:cNvSpPr/>
          <p:nvPr/>
        </p:nvSpPr>
        <p:spPr>
          <a:xfrm>
            <a:off x="1066680" y="1447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华文行楷"/>
              </a:rPr>
              <a:t>      </a:t>
            </a: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华文行楷"/>
              </a:rPr>
              <a:t>阅读课文时，把难记的内容和其他一些难记的词语画出来，强化记忆，就可以少化时间，又能复述清楚。复述时要突出重点，抓住关键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1107"/>
          <p:cNvSpPr/>
          <p:nvPr/>
        </p:nvSpPr>
        <p:spPr>
          <a:xfrm>
            <a:off x="1066680" y="380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华文行楷"/>
              </a:rPr>
              <a:t>复述方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文本框 8200"/>
          <p:cNvSpPr/>
          <p:nvPr/>
        </p:nvSpPr>
        <p:spPr>
          <a:xfrm>
            <a:off x="1547640" y="45813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hecker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7"/>
          <p:cNvSpPr/>
          <p:nvPr/>
        </p:nvSpPr>
        <p:spPr>
          <a:xfrm>
            <a:off x="4784760" y="20192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5122" descr="bb"/>
          <p:cNvPicPr/>
          <p:nvPr/>
        </p:nvPicPr>
        <p:blipFill>
          <a:blip r:embed="rId1"/>
          <a:stretch/>
        </p:blipFill>
        <p:spPr>
          <a:xfrm>
            <a:off x="2286000" y="990720"/>
            <a:ext cx="5659560" cy="5238720"/>
          </a:xfrm>
          <a:prstGeom prst="rect">
            <a:avLst/>
          </a:prstGeom>
          <a:ln w="0">
            <a:noFill/>
          </a:ln>
        </p:spPr>
      </p:pic>
      <p:sp>
        <p:nvSpPr>
          <p:cNvPr id="162" name="WordArt 5130"/>
          <p:cNvSpPr txBox="1"/>
          <p:nvPr/>
        </p:nvSpPr>
        <p:spPr>
          <a:xfrm>
            <a:off x="611280" y="230040"/>
            <a:ext cx="4113000" cy="23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概括场面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3" name="Text Box 5132"/>
          <p:cNvSpPr/>
          <p:nvPr/>
        </p:nvSpPr>
        <p:spPr>
          <a:xfrm>
            <a:off x="2133720" y="2666880"/>
            <a:ext cx="550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华文行楷"/>
              </a:rPr>
              <a:t>被逼绝境      一跳失败母羚绝望      分成两拨斑羚飞渡      走向彩虹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6"/>
          <p:cNvGrpSpPr/>
          <p:nvPr/>
        </p:nvGrpSpPr>
        <p:grpSpPr>
          <a:xfrm>
            <a:off x="135000" y="228600"/>
            <a:ext cx="9009000" cy="1052640"/>
            <a:chOff x="135000" y="228600"/>
            <a:chExt cx="9009000" cy="1052640"/>
          </a:xfrm>
        </p:grpSpPr>
        <p:grpSp>
          <p:nvGrpSpPr>
            <p:cNvPr id="165" name="Group 7"/>
            <p:cNvGrpSpPr/>
            <p:nvPr/>
          </p:nvGrpSpPr>
          <p:grpSpPr>
            <a:xfrm>
              <a:off x="425520" y="336600"/>
              <a:ext cx="711360" cy="474840"/>
              <a:chOff x="425520" y="336600"/>
              <a:chExt cx="711360" cy="474840"/>
            </a:xfrm>
          </p:grpSpPr>
          <p:sp>
            <p:nvSpPr>
              <p:cNvPr id="166" name="Rectangle 8"/>
              <p:cNvSpPr/>
              <p:nvPr/>
            </p:nvSpPr>
            <p:spPr>
              <a:xfrm>
                <a:off x="425520" y="33660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" name="Rectangle 9"/>
              <p:cNvSpPr/>
              <p:nvPr/>
            </p:nvSpPr>
            <p:spPr>
              <a:xfrm>
                <a:off x="808560" y="3366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8" name="Group 10"/>
            <p:cNvGrpSpPr/>
            <p:nvPr/>
          </p:nvGrpSpPr>
          <p:grpSpPr>
            <a:xfrm>
              <a:off x="549360" y="758880"/>
              <a:ext cx="737640" cy="474840"/>
              <a:chOff x="549360" y="758880"/>
              <a:chExt cx="737640" cy="474840"/>
            </a:xfrm>
          </p:grpSpPr>
          <p:sp>
            <p:nvSpPr>
              <p:cNvPr id="169" name="Rectangle 11"/>
              <p:cNvSpPr/>
              <p:nvPr/>
            </p:nvSpPr>
            <p:spPr>
              <a:xfrm>
                <a:off x="549360" y="75888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" name="Rectangle 12"/>
              <p:cNvSpPr/>
              <p:nvPr/>
            </p:nvSpPr>
            <p:spPr>
              <a:xfrm>
                <a:off x="918000" y="7588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1" name="Rectangle 13"/>
            <p:cNvSpPr/>
            <p:nvPr/>
          </p:nvSpPr>
          <p:spPr>
            <a:xfrm>
              <a:off x="135000" y="6858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Rectangle 14"/>
            <p:cNvSpPr/>
            <p:nvPr/>
          </p:nvSpPr>
          <p:spPr>
            <a:xfrm>
              <a:off x="770040" y="22860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Rectangle 15"/>
            <p:cNvSpPr/>
            <p:nvPr/>
          </p:nvSpPr>
          <p:spPr>
            <a:xfrm flipV="1">
              <a:off x="451080" y="10508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4" name="Picture 20" descr="beike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0666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8"/>
          <p:cNvSpPr/>
          <p:nvPr/>
        </p:nvSpPr>
        <p:spPr>
          <a:xfrm>
            <a:off x="2175120" y="304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66"/>
                </a:solidFill>
                <a:latin typeface="Tahoma"/>
                <a:ea typeface="楷体_GB2312"/>
              </a:rPr>
              <a:t>研讨课文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33"/>
          <p:cNvSpPr/>
          <p:nvPr/>
        </p:nvSpPr>
        <p:spPr>
          <a:xfrm>
            <a:off x="898560" y="1544760"/>
            <a:ext cx="542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34"/>
          <p:cNvSpPr/>
          <p:nvPr/>
        </p:nvSpPr>
        <p:spPr>
          <a:xfrm>
            <a:off x="1203480" y="177336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35"/>
          <p:cNvSpPr/>
          <p:nvPr/>
        </p:nvSpPr>
        <p:spPr>
          <a:xfrm>
            <a:off x="914400" y="1600200"/>
            <a:ext cx="73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华文行楷"/>
              </a:rPr>
              <a:t>      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华文行楷"/>
              </a:rPr>
              <a:t>斑羚没有姓名，这只斑羚，那只斑羚，是怎样说清楚的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38"/>
          <p:cNvSpPr/>
          <p:nvPr/>
        </p:nvSpPr>
        <p:spPr>
          <a:xfrm>
            <a:off x="1143000" y="2895480"/>
            <a:ext cx="7026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作者注意分类起了名目，又给个体起了名目，有了这些名目，就便于叙述了。分类的名目有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"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老年斑羚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""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年轻斑羚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""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小斑羚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""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公斑羚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""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母斑羚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"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等，个体的名目有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"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镰刀头羊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""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一只半大的斑羚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""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灰黑色母斑羚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"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等，有了这些名目，故事才叙述得清清楚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181" name="Group 5"/>
            <p:cNvGrpSpPr/>
            <p:nvPr/>
          </p:nvGrpSpPr>
          <p:grpSpPr>
            <a:xfrm>
              <a:off x="425520" y="565200"/>
              <a:ext cx="711360" cy="474840"/>
              <a:chOff x="425520" y="565200"/>
              <a:chExt cx="711360" cy="474840"/>
            </a:xfrm>
          </p:grpSpPr>
          <p:sp>
            <p:nvSpPr>
              <p:cNvPr id="182" name="Rectangle 6"/>
              <p:cNvSpPr/>
              <p:nvPr/>
            </p:nvSpPr>
            <p:spPr>
              <a:xfrm>
                <a:off x="425520" y="56520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" name="Rectangle 7"/>
              <p:cNvSpPr/>
              <p:nvPr/>
            </p:nvSpPr>
            <p:spPr>
              <a:xfrm>
                <a:off x="808560" y="5652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4" name="Group 8"/>
            <p:cNvGrpSpPr/>
            <p:nvPr/>
          </p:nvGrpSpPr>
          <p:grpSpPr>
            <a:xfrm>
              <a:off x="549360" y="987480"/>
              <a:ext cx="737640" cy="474840"/>
              <a:chOff x="549360" y="987480"/>
              <a:chExt cx="737640" cy="474840"/>
            </a:xfrm>
          </p:grpSpPr>
          <p:sp>
            <p:nvSpPr>
              <p:cNvPr id="185" name="Rectangle 9"/>
              <p:cNvSpPr/>
              <p:nvPr/>
            </p:nvSpPr>
            <p:spPr>
              <a:xfrm>
                <a:off x="549360" y="98748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" name="Rectangle 10"/>
              <p:cNvSpPr/>
              <p:nvPr/>
            </p:nvSpPr>
            <p:spPr>
              <a:xfrm>
                <a:off x="918000" y="9874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7" name="Rectangle 11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Rectangle 12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Rectangle 13"/>
            <p:cNvSpPr/>
            <p:nvPr/>
          </p:nvSpPr>
          <p:spPr>
            <a:xfrm flipV="1">
              <a:off x="451080" y="12794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90" name="Picture 15" descr="beike"/>
          <p:cNvPicPr/>
          <p:nvPr/>
        </p:nvPicPr>
        <p:blipFill>
          <a:blip r:embed="rId2"/>
          <a:stretch/>
        </p:blipFill>
        <p:spPr>
          <a:xfrm>
            <a:off x="7391520" y="0"/>
            <a:ext cx="1523880" cy="10666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25"/>
          <p:cNvSpPr/>
          <p:nvPr/>
        </p:nvSpPr>
        <p:spPr>
          <a:xfrm>
            <a:off x="2423880" y="30492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66"/>
                </a:solidFill>
                <a:latin typeface="Tahoma"/>
                <a:ea typeface="楷体_GB2312"/>
              </a:rPr>
              <a:t>发表你的观点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1355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30"/>
          <p:cNvSpPr/>
          <p:nvPr/>
        </p:nvSpPr>
        <p:spPr>
          <a:xfrm>
            <a:off x="838080" y="19051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华文行楷"/>
              </a:rPr>
              <a:t>     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华文行楷"/>
              </a:rPr>
              <a:t>七八十只斑羚 ，有三四十对，作者是怎样描写这次飞渡的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zoom dir="in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8"/>
          <p:cNvSpPr/>
          <p:nvPr/>
        </p:nvSpPr>
        <p:spPr>
          <a:xfrm>
            <a:off x="2734920" y="1295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华文行楷"/>
              </a:rPr>
              <a:t>画出文中有关彩虹描写的内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1066680" y="236232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一是斑羚身陷绝境时彩虹出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30"/>
          <p:cNvSpPr/>
          <p:nvPr/>
        </p:nvSpPr>
        <p:spPr>
          <a:xfrm>
            <a:off x="1962360" y="33526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二是斑羚飞渡时彩虹相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31"/>
          <p:cNvSpPr/>
          <p:nvPr/>
        </p:nvSpPr>
        <p:spPr>
          <a:xfrm>
            <a:off x="1900800" y="4191120"/>
            <a:ext cx="3974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三是头羊走向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"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那道绚丽的彩虹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2211480" y="9144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华文行楷"/>
              </a:rPr>
              <a:t>体会文中多次描写到彩虹的作用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914400" y="1828800"/>
            <a:ext cx="761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渲染一种神秘色彩，并推动情节发展，头羊之所以想出飞渡的办法，或许就是受了彩虹的神秘启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914400" y="36576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烘托飞渡的气势．渲染了飞渡的悲壮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066680" y="4724280"/>
            <a:ext cx="634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是渲染头羊自我牺牲的崇高之美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4"/>
          <p:cNvGrpSpPr/>
          <p:nvPr/>
        </p:nvGrpSpPr>
        <p:grpSpPr>
          <a:xfrm>
            <a:off x="135000" y="762120"/>
            <a:ext cx="9009000" cy="1052280"/>
            <a:chOff x="135000" y="762120"/>
            <a:chExt cx="9009000" cy="1052280"/>
          </a:xfrm>
        </p:grpSpPr>
        <p:grpSp>
          <p:nvGrpSpPr>
            <p:cNvPr id="204" name="Group 5"/>
            <p:cNvGrpSpPr/>
            <p:nvPr/>
          </p:nvGrpSpPr>
          <p:grpSpPr>
            <a:xfrm>
              <a:off x="425520" y="869760"/>
              <a:ext cx="711360" cy="474480"/>
              <a:chOff x="425520" y="869760"/>
              <a:chExt cx="711360" cy="474480"/>
            </a:xfrm>
          </p:grpSpPr>
          <p:sp>
            <p:nvSpPr>
              <p:cNvPr id="205" name="Rectangle 6"/>
              <p:cNvSpPr/>
              <p:nvPr/>
            </p:nvSpPr>
            <p:spPr>
              <a:xfrm>
                <a:off x="425520" y="8697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Rectangle 7"/>
              <p:cNvSpPr/>
              <p:nvPr/>
            </p:nvSpPr>
            <p:spPr>
              <a:xfrm>
                <a:off x="808560" y="8697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8"/>
            <p:cNvGrpSpPr/>
            <p:nvPr/>
          </p:nvGrpSpPr>
          <p:grpSpPr>
            <a:xfrm>
              <a:off x="549360" y="1292040"/>
              <a:ext cx="737640" cy="474480"/>
              <a:chOff x="549360" y="1292040"/>
              <a:chExt cx="737640" cy="474480"/>
            </a:xfrm>
          </p:grpSpPr>
          <p:sp>
            <p:nvSpPr>
              <p:cNvPr id="208" name="Rectangle 9"/>
              <p:cNvSpPr/>
              <p:nvPr/>
            </p:nvSpPr>
            <p:spPr>
              <a:xfrm>
                <a:off x="549360" y="12920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0"/>
              <p:cNvSpPr/>
              <p:nvPr/>
            </p:nvSpPr>
            <p:spPr>
              <a:xfrm>
                <a:off x="918000" y="12920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0" name="Rectangle 11"/>
            <p:cNvSpPr/>
            <p:nvPr/>
          </p:nvSpPr>
          <p:spPr>
            <a:xfrm>
              <a:off x="13500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Rectangle 12"/>
            <p:cNvSpPr/>
            <p:nvPr/>
          </p:nvSpPr>
          <p:spPr>
            <a:xfrm>
              <a:off x="770040" y="7621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Rectangle 13"/>
            <p:cNvSpPr/>
            <p:nvPr/>
          </p:nvSpPr>
          <p:spPr>
            <a:xfrm flipV="1">
              <a:off x="451080" y="15832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3" name="WordArt 22"/>
          <p:cNvSpPr txBox="1"/>
          <p:nvPr/>
        </p:nvSpPr>
        <p:spPr>
          <a:xfrm>
            <a:off x="1905120" y="685800"/>
            <a:ext cx="3352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华文行楷"/>
              </a:rPr>
              <a:t>发表你的见解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2231640" y="23860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如果你处在这样的情况下，你会怎样办哪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l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3T03:22:1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2:40Z</dcterms:modified>
  <cp:revision>37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