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655-9D3E-4D5C-9330-8A84752C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D3C-C3A0-40F8-AFEB-A5D3F109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504-04A6-42EF-B6D5-5FD6C316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708-3EA4-4C85-89A9-37D05E24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985C-ED9A-4171-BAED-B8BAC3C5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24B1-F06D-4B45-9852-7264FF9A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A385-AF64-4CB6-BE39-B9AFAF9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563A-35CD-408B-A54A-8F2D3140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DF6C-A285-42D2-9D8B-59E8DCE1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D175-2CC3-4EA3-8286-41421B9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65C3-6A13-43A3-8E0E-4343FEB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68F-0F7C-4382-9F79-E82E0B08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1EEF-8F85-4408-AD96-18A421BE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B6FA-2309-471F-822B-B56D2864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ADE6-A6D9-43CD-B0F6-FDB7440D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129-A2F4-49E0-8032-C79B8E19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CCDC-88F6-48E8-8B44-E0C95B72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1EAE-C012-47A6-9E0C-6A640F8C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AD1C-7919-4A40-B491-79C210D1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194F-C117-4258-8AE7-2C3B15BE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D8E9-FE46-4E67-8ECD-2818383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B652-8F56-4FC9-9D58-A54C8C6A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6D3-A432-49E0-AA76-F2A0156C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5A32-A151-4F73-AA91-739AA113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5FF4-8602-4C8C-A55C-B20D41A4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6FCC-BB2F-44C9-922C-8E6256F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B648-4364-41A4-8F8E-BED7361E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7CEE7-8B21-4D3D-987B-89273102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2A93-21BA-49C1-966E-A6916433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5F9F-3CFE-4667-84BE-A5538160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E6E-735C-477A-BF3E-225A3D09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A35-123F-4A53-BF0D-366FDF10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B8F-B02B-4392-A566-48D0CA13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849-FFE0-4098-8D1A-6C316E45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D22-A771-4026-A650-94B49BFA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66D-22AA-4FC6-AABF-CA9D5EFA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E396-2BB8-41BE-8E17-2E4019C79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19CA-C6BC-44D4-8FB9-57A506B611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C82E-7C29-45BB-A504-3B990F01A43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aike.baidu.com/view/4450.htm" TargetMode="External"/><Relationship Id="rId2" Type="http://schemas.openxmlformats.org/officeDocument/2006/relationships/hyperlink" Target="http://baike.baidu.com/view/1554.htm" TargetMode="External"/><Relationship Id="rId3" Type="http://schemas.openxmlformats.org/officeDocument/2006/relationships/hyperlink" Target="http://baike.baidu.com/view/99204.htm" TargetMode="External"/><Relationship Id="rId4" Type="http://schemas.openxmlformats.org/officeDocument/2006/relationships/hyperlink" Target="http://baike.baidu.com/view/673037.htm" TargetMode="External"/><Relationship Id="rId5" Type="http://schemas.openxmlformats.org/officeDocument/2006/relationships/hyperlink" Target="http://baike.baidu.com/view/673037.htm" TargetMode="External"/><Relationship Id="rId6" Type="http://schemas.openxmlformats.org/officeDocument/2006/relationships/hyperlink" Target="http://baike.baidu.com/view/477881.htm" TargetMode="External"/><Relationship Id="rId7" Type="http://schemas.openxmlformats.org/officeDocument/2006/relationships/hyperlink" Target="http://baike.baidu.com/view/477881.htm" TargetMode="External"/><Relationship Id="rId8" Type="http://schemas.openxmlformats.org/officeDocument/2006/relationships/hyperlink" Target="http://baike.baidu.com/view/477881.htm" TargetMode="External"/><Relationship Id="rId9" Type="http://schemas.openxmlformats.org/officeDocument/2006/relationships/hyperlink" Target="http://baike.baidu.com/view/477881.htm" TargetMode="External"/><Relationship Id="rId10" Type="http://schemas.openxmlformats.org/officeDocument/2006/relationships/hyperlink" Target="http://baike.baidu.com/view/522714.htm" TargetMode="External"/><Relationship Id="rId11" Type="http://schemas.openxmlformats.org/officeDocument/2006/relationships/hyperlink" Target="http://baike.baidu.com/view/47261.htm" TargetMode="External"/><Relationship Id="rId12" Type="http://schemas.openxmlformats.org/officeDocument/2006/relationships/hyperlink" Target="http://baike.baidu.com/view/6240408.htm" TargetMode="External"/><Relationship Id="rId13" Type="http://schemas.openxmlformats.org/officeDocument/2006/relationships/hyperlink" Target="http://baike.baidu.com/view/2587.htm" TargetMode="External"/><Relationship Id="rId14" Type="http://schemas.openxmlformats.org/officeDocument/2006/relationships/hyperlink" Target="http://baike.baidu.com/view/107486.htm" TargetMode="External"/><Relationship Id="rId15" Type="http://schemas.openxmlformats.org/officeDocument/2006/relationships/hyperlink" Target="http://baike.baidu.com/view/530290.htm" TargetMode="External"/><Relationship Id="rId16" Type="http://schemas.openxmlformats.org/officeDocument/2006/relationships/hyperlink" Target="http://baike.baidu.com/view/19214.htm" TargetMode="External"/><Relationship Id="rId17" Type="http://schemas.openxmlformats.org/officeDocument/2006/relationships/hyperlink" Target="http://baike.baidu.com/view/22116.htm" TargetMode="External"/><Relationship Id="rId18" Type="http://schemas.openxmlformats.org/officeDocument/2006/relationships/hyperlink" Target="http://baike.baidu.com/view/1158139.htm" TargetMode="External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ike.baidu.com/view/14953.htm" TargetMode="External"/><Relationship Id="rId2" Type="http://schemas.openxmlformats.org/officeDocument/2006/relationships/hyperlink" Target="http://baike.baidu.com/view/394823.htm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aike.baidu.com/view/26336.htm" TargetMode="External"/><Relationship Id="rId2" Type="http://schemas.openxmlformats.org/officeDocument/2006/relationships/hyperlink" Target="http://baike.baidu.com/view/58165.htm" TargetMode="External"/><Relationship Id="rId3" Type="http://schemas.openxmlformats.org/officeDocument/2006/relationships/hyperlink" Target="http://baike.baidu.com/view/5567.htm" TargetMode="External"/><Relationship Id="rId4" Type="http://schemas.openxmlformats.org/officeDocument/2006/relationships/hyperlink" Target="http://baike.baidu.com/view/2587.htm" TargetMode="External"/><Relationship Id="rId5" Type="http://schemas.openxmlformats.org/officeDocument/2006/relationships/hyperlink" Target="http://baike.baidu.com/view/5338.htm" TargetMode="External"/><Relationship Id="rId6" Type="http://schemas.openxmlformats.org/officeDocument/2006/relationships/hyperlink" Target="http://baike.baidu.com/view/869.htm" TargetMode="External"/><Relationship Id="rId7" Type="http://schemas.openxmlformats.org/officeDocument/2006/relationships/hyperlink" Target="http://baike.baidu.com/view/19168.ht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aike.baidu.com/view/4026.htm" TargetMode="External"/><Relationship Id="rId2" Type="http://schemas.openxmlformats.org/officeDocument/2006/relationships/hyperlink" Target="http://baike.baidu.com/view/155086.htm" TargetMode="External"/><Relationship Id="rId3" Type="http://schemas.openxmlformats.org/officeDocument/2006/relationships/hyperlink" Target="http://baike.baidu.com/view/5338.htm" TargetMode="External"/><Relationship Id="rId4" Type="http://schemas.openxmlformats.org/officeDocument/2006/relationships/hyperlink" Target="http://baike.baidu.com/view/61891.htm" TargetMode="External"/><Relationship Id="rId5" Type="http://schemas.openxmlformats.org/officeDocument/2006/relationships/hyperlink" Target="http://baike.baidu.com/view/206850.htm" TargetMode="External"/><Relationship Id="rId6" Type="http://schemas.openxmlformats.org/officeDocument/2006/relationships/hyperlink" Target="http://baike.baidu.com/view/512601.htm" TargetMode="External"/><Relationship Id="rId7" Type="http://schemas.openxmlformats.org/officeDocument/2006/relationships/hyperlink" Target="http://baike.baidu.com/view/1554.htm" TargetMode="Externa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baike.baidu.com/view/324810.htm" TargetMode="External"/><Relationship Id="rId3" Type="http://schemas.openxmlformats.org/officeDocument/2006/relationships/hyperlink" Target="http://baike.baidu.com/view/911896.htm" TargetMode="External"/><Relationship Id="rId4" Type="http://schemas.openxmlformats.org/officeDocument/2006/relationships/hyperlink" Target="http://baike.baidu.com/view/209660.htm" TargetMode="External"/><Relationship Id="rId5" Type="http://schemas.openxmlformats.org/officeDocument/2006/relationships/hyperlink" Target="http://baike.baidu.com/view/806265.htm" TargetMode="External"/><Relationship Id="rId6" Type="http://schemas.openxmlformats.org/officeDocument/2006/relationships/hyperlink" Target="http://baike.baidu.com/view/84215.htm" TargetMode="External"/><Relationship Id="rId7" Type="http://schemas.openxmlformats.org/officeDocument/2006/relationships/hyperlink" Target="http://baike.baidu.com/view/119157.htm" TargetMode="External"/><Relationship Id="rId8" Type="http://schemas.openxmlformats.org/officeDocument/2006/relationships/hyperlink" Target="http://baike.baidu.com/view/62143.htm" TargetMode="Externa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50091.htm" TargetMode="External"/><Relationship Id="rId2" Type="http://schemas.openxmlformats.org/officeDocument/2006/relationships/hyperlink" Target="http://baike.baidu.com/view/32218.htm" TargetMode="External"/><Relationship Id="rId3" Type="http://schemas.openxmlformats.org/officeDocument/2006/relationships/hyperlink" Target="http://baike.baidu.com/view/48254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ike.baidu.com/view/6771.htm" TargetMode="External"/><Relationship Id="rId2" Type="http://schemas.openxmlformats.org/officeDocument/2006/relationships/hyperlink" Target="http://baike.baidu.com/view/7614.htm" TargetMode="External"/><Relationship Id="rId3" Type="http://schemas.openxmlformats.org/officeDocument/2006/relationships/hyperlink" Target="http://baike.baidu.com/view/4813.htm" TargetMode="External"/><Relationship Id="rId4" Type="http://schemas.openxmlformats.org/officeDocument/2006/relationships/hyperlink" Target="http://baike.baidu.com/view/7446.htm" TargetMode="External"/><Relationship Id="rId5" Type="http://schemas.openxmlformats.org/officeDocument/2006/relationships/hyperlink" Target="http://baike.baidu.com/view/1735.htm" TargetMode="External"/><Relationship Id="rId6" Type="http://schemas.openxmlformats.org/officeDocument/2006/relationships/hyperlink" Target="http://baike.baidu.com/view/436181.htm" TargetMode="External"/><Relationship Id="rId7" Type="http://schemas.openxmlformats.org/officeDocument/2006/relationships/hyperlink" Target="http://baike.baidu.com/view/158990.htm" TargetMode="External"/><Relationship Id="rId8" Type="http://schemas.openxmlformats.org/officeDocument/2006/relationships/hyperlink" Target="http://baike.baidu.com/view/554566.htm" TargetMode="External"/><Relationship Id="rId9" Type="http://schemas.openxmlformats.org/officeDocument/2006/relationships/hyperlink" Target="http://baike.baidu.com/view/100556.htm" TargetMode="External"/><Relationship Id="rId10" Type="http://schemas.openxmlformats.org/officeDocument/2006/relationships/hyperlink" Target="http://baike.baidu.com/view/9902.htm" TargetMode="External"/><Relationship Id="rId11" Type="http://schemas.openxmlformats.org/officeDocument/2006/relationships/hyperlink" Target="http://baike.baidu.com/view/84071.htm" TargetMode="External"/><Relationship Id="rId12" Type="http://schemas.openxmlformats.org/officeDocument/2006/relationships/hyperlink" Target="http://baike.baidu.com/view/33469.htm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aike.baidu.com/view/43806.htm" TargetMode="External"/><Relationship Id="rId2" Type="http://schemas.openxmlformats.org/officeDocument/2006/relationships/hyperlink" Target="http://baike.baidu.com/view/29182.htm" TargetMode="External"/><Relationship Id="rId3" Type="http://schemas.openxmlformats.org/officeDocument/2006/relationships/hyperlink" Target="http://baike.baidu.com/view/4055.htm" TargetMode="External"/><Relationship Id="rId4" Type="http://schemas.openxmlformats.org/officeDocument/2006/relationships/hyperlink" Target="http://baike.baidu.com/view/2172.htm" TargetMode="External"/><Relationship Id="rId5" Type="http://schemas.openxmlformats.org/officeDocument/2006/relationships/hyperlink" Target="http://baike.baidu.com/view/67776.ht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1035000" y="2171880"/>
            <a:ext cx="7083360" cy="3887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宋体"/>
                <a:ea typeface="宋体"/>
              </a:rPr>
              <a:t>不能忘记的屈辱课件</a:t>
            </a:r>
            <a:r>
              <a:rPr b="1" lang="en-US" sz="4000" spc="-1" strike="noStrike">
                <a:solidFill>
                  <a:srgbClr val="99003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990033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080" y="49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被掠走的中国国宝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00000" y="1341360"/>
            <a:ext cx="6994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圆明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6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，侵略军（英法联军）对圆明园进行疯狂掠夺，抢走珍宝，并火烧圆明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Picture 8" descr="886356_075021003_2"/>
          <p:cNvPicPr/>
          <p:nvPr/>
        </p:nvPicPr>
        <p:blipFill>
          <a:blip r:embed="rId1"/>
          <a:stretch/>
        </p:blipFill>
        <p:spPr>
          <a:xfrm>
            <a:off x="3059280" y="2997360"/>
            <a:ext cx="2349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03904d3c-14a6-4952-a7f8-84c267d08e61"/>
          <p:cNvPicPr/>
          <p:nvPr/>
        </p:nvPicPr>
        <p:blipFill>
          <a:blip r:embed="rId1"/>
          <a:stretch/>
        </p:blipFill>
        <p:spPr>
          <a:xfrm>
            <a:off x="755640" y="404640"/>
            <a:ext cx="7920000" cy="59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57301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b8879031-d7cd-4673-acd2-3429965c42e5"/>
          <p:cNvPicPr/>
          <p:nvPr/>
        </p:nvPicPr>
        <p:blipFill>
          <a:blip r:embed="rId1"/>
          <a:stretch/>
        </p:blipFill>
        <p:spPr>
          <a:xfrm>
            <a:off x="395280" y="27000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userid288598time20110920005748"/>
          <p:cNvPicPr/>
          <p:nvPr/>
        </p:nvPicPr>
        <p:blipFill>
          <a:blip r:embed="rId1"/>
          <a:stretch/>
        </p:blipFill>
        <p:spPr>
          <a:xfrm>
            <a:off x="0" y="333360"/>
            <a:ext cx="896472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日本屠刀下的血泪史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九一八事变（又称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沈阳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事变；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日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称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满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事变，因中国东北被日本称作满洲）指</a:t>
            </a:r>
            <a:r>
              <a:rPr b="0" lang="en-US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1931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年</a:t>
            </a:r>
            <a:r>
              <a:rPr b="0" lang="en-US" sz="2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9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月</a:t>
            </a:r>
            <a:r>
              <a:rPr b="0" lang="en-US" sz="28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18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中国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东北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日本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关东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爆发的一次军事冲突和政治事件。此次事变后，日本与中国之间的矛盾进一步激化，而日本国内主战的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日本军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地位上升，导致日本走上全面侵华的道路，为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抗日战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全面爆发埋下了导火索。中国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东北三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全部被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日本关东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占领，并利用投靠日本的前清废帝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溥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东北建立了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满洲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傀儡政权，实行了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之久的殖民统治，使东北同胞饱受亡国奴的痛苦滋味，因此被中国民众视为国耻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在中国许多非正式场合都被称为“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中国国耻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”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板垣征四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石原莞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土肥原贤二，是“九一八”事变的直接策划者和实施者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Picture 4" descr="0e655ca720d013a7d0435833"/>
          <p:cNvPicPr/>
          <p:nvPr/>
        </p:nvPicPr>
        <p:blipFill>
          <a:blip r:embed="rId3"/>
          <a:stretch/>
        </p:blipFill>
        <p:spPr>
          <a:xfrm>
            <a:off x="3492360" y="3068640"/>
            <a:ext cx="2389320" cy="309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9dc3cf587563b7b3810a1834"/>
          <p:cNvPicPr/>
          <p:nvPr/>
        </p:nvPicPr>
        <p:blipFill>
          <a:blip r:embed="rId4"/>
          <a:stretch/>
        </p:blipFill>
        <p:spPr>
          <a:xfrm>
            <a:off x="755640" y="3068640"/>
            <a:ext cx="2422440" cy="3168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476217f7ddb34310730eec31"/>
          <p:cNvPicPr/>
          <p:nvPr/>
        </p:nvPicPr>
        <p:blipFill>
          <a:blip r:embed="rId5"/>
          <a:stretch/>
        </p:blipFill>
        <p:spPr>
          <a:xfrm>
            <a:off x="6313320" y="2997360"/>
            <a:ext cx="2394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8.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芥子中毒事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中国东北黑龙江省齐齐哈尔市的工人在一处工地施工时，挖出几个二战时期侵华日军遗留的化学 武器桶，桶内毒剂泄漏造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多人感染，其中一人致死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中国副外长王毅约见日本驻华大使阿南惟茂，就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黑龙江省齐齐哈尔市日本遗弃毒剂 伤人事件再次向日方提出严正交涉。同一天，日本正式向中国道歉，日本外务省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"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的调查结果证实，中毒事件是由当时的日军留下的化学武器引起的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据 中国有关方面调查，侵华日军在中国共遗弃了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枚化学炮弹。迄今为止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"8.4"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事件是战后众多日本遗弃化武泄毒事件中为害最深者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“8"/>
          <p:cNvPicPr/>
          <p:nvPr/>
        </p:nvPicPr>
        <p:blipFill>
          <a:blip r:embed="rId1"/>
          <a:stretch/>
        </p:blipFill>
        <p:spPr>
          <a:xfrm>
            <a:off x="179280" y="160200"/>
            <a:ext cx="4824360" cy="3700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“8"/>
          <p:cNvPicPr/>
          <p:nvPr/>
        </p:nvPicPr>
        <p:blipFill>
          <a:blip r:embed="rId2"/>
          <a:stretch/>
        </p:blipFill>
        <p:spPr>
          <a:xfrm>
            <a:off x="3348000" y="2924280"/>
            <a:ext cx="5599080" cy="37321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5292720" y="162828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8.4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芥子气中毒事件受害者伤势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042920" y="4005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毒气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731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部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7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部队是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二战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期间侵华日军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关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防疫给水部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7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部队罪证遗址位于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哈尔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市平房区。该单位在二战期间由日本侵略者石井四郎所领导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7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部队也是在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抗日战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7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4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）和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第二次世界大战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期间，日本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法西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于日本以外领土从事生物战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细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战研究和人体试验相关研究的秘密军事医疗部队的代称，也是日本法西斯侵略东北阴谋发动细菌战争期间（从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到第二次世界大战结束的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4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）屠杀中国人民的主要罪证之一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Organization Chart 7"/>
          <p:cNvGrpSpPr/>
          <p:nvPr/>
        </p:nvGrpSpPr>
        <p:grpSpPr>
          <a:xfrm>
            <a:off x="468360" y="1052640"/>
            <a:ext cx="8424360" cy="4580640"/>
            <a:chOff x="468360" y="1052640"/>
            <a:chExt cx="8424360" cy="4580640"/>
          </a:xfrm>
        </p:grpSpPr>
        <p:sp>
          <p:nvSpPr>
            <p:cNvPr id="127" name="AutoShape 6"/>
            <p:cNvSpPr/>
            <p:nvPr/>
          </p:nvSpPr>
          <p:spPr>
            <a:xfrm>
              <a:off x="468360" y="1052640"/>
              <a:ext cx="8424360" cy="45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H="1" flipV="1">
              <a:off x="6561720" y="3915000"/>
              <a:ext cx="1255320" cy="573120"/>
            </a:xfrm>
            <a:prstGeom prst="straightConnector1">
              <a:avLst/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flipV="1">
              <a:off x="5307840" y="3915000"/>
              <a:ext cx="1254960" cy="573120"/>
            </a:xfrm>
            <a:prstGeom prst="straightConnector1">
              <a:avLst/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133" name="_s1030"/>
            <p:cNvCxnSpPr>
              <a:stCxn id="130" idx="0"/>
              <a:endCxn id="134" idx="2"/>
            </p:cNvCxnSpPr>
            <p:nvPr/>
          </p:nvCxnSpPr>
          <p:spPr>
            <a:xfrm flipH="1" flipV="1">
              <a:off x="4052520" y="2197440"/>
              <a:ext cx="2509920" cy="573120"/>
            </a:xfrm>
            <a:prstGeom prst="straightConnector1">
              <a:avLst/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135" name="_s1031"/>
            <p:cNvCxnSpPr>
              <a:stCxn id="136" idx="0"/>
              <a:endCxn id="134" idx="2"/>
            </p:cNvCxnSpPr>
            <p:nvPr/>
          </p:nvCxnSpPr>
          <p:spPr>
            <a:xfrm flipV="1">
              <a:off x="4048560" y="2189160"/>
              <a:ext cx="2880" cy="573120"/>
            </a:xfrm>
            <a:prstGeom prst="straightConnector1">
              <a:avLst/>
            </a:prstGeom>
            <a:ln w="28440">
              <a:solidFill>
                <a:srgbClr val="007a77"/>
              </a:solidFill>
              <a:round/>
            </a:ln>
          </p:spPr>
        </p:cxnSp>
        <p:cxnSp>
          <p:nvCxnSpPr>
            <p:cNvPr id="137" name="_s1032"/>
            <p:cNvCxnSpPr>
              <a:stCxn id="138" idx="0"/>
              <a:endCxn id="134" idx="2"/>
            </p:cNvCxnSpPr>
            <p:nvPr/>
          </p:nvCxnSpPr>
          <p:spPr>
            <a:xfrm flipV="1">
              <a:off x="1543680" y="2197440"/>
              <a:ext cx="2509920" cy="573120"/>
            </a:xfrm>
            <a:prstGeom prst="straightConnector1">
              <a:avLst/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134" name="_s1033"/>
            <p:cNvSpPr/>
            <p:nvPr/>
          </p:nvSpPr>
          <p:spPr>
            <a:xfrm>
              <a:off x="2977560" y="1052640"/>
              <a:ext cx="2150640" cy="114516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33"/>
                  </a:solidFill>
                  <a:latin typeface="Arial"/>
                </a:rPr>
                <a:t>不能忘记的屈辱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_s1034"/>
            <p:cNvSpPr/>
            <p:nvPr/>
          </p:nvSpPr>
          <p:spPr>
            <a:xfrm>
              <a:off x="468360" y="2770200"/>
              <a:ext cx="2150640" cy="114516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7a77"/>
                  </a:solidFill>
                  <a:latin typeface="Arial"/>
                </a:rPr>
                <a:t>破碎的山河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_s1035"/>
            <p:cNvSpPr/>
            <p:nvPr/>
          </p:nvSpPr>
          <p:spPr>
            <a:xfrm>
              <a:off x="2977560" y="2770200"/>
              <a:ext cx="2150640" cy="114516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被掠走的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中国国宝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_s1036"/>
            <p:cNvSpPr/>
            <p:nvPr/>
          </p:nvSpPr>
          <p:spPr>
            <a:xfrm>
              <a:off x="5486760" y="2770200"/>
              <a:ext cx="2150640" cy="114516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7a77"/>
                  </a:solidFill>
                  <a:latin typeface="Arial"/>
                </a:rPr>
                <a:t>日本屠刀下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7a77"/>
                  </a:solidFill>
                  <a:latin typeface="Arial"/>
                </a:rPr>
                <a:t>的血泪史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_s1037"/>
            <p:cNvSpPr/>
            <p:nvPr/>
          </p:nvSpPr>
          <p:spPr>
            <a:xfrm>
              <a:off x="4232520" y="4488120"/>
              <a:ext cx="2150640" cy="114516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7a77"/>
                  </a:solidFill>
                  <a:latin typeface="Arial"/>
                </a:rPr>
                <a:t>被蹂躏的</a:t>
              </a:r>
              <a:endParaRPr b="0" lang="en-US" sz="33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7a77"/>
                  </a:solidFill>
                  <a:latin typeface="Arial"/>
                </a:rPr>
                <a:t>东北沃土</a:t>
              </a:r>
              <a:endParaRPr b="0" lang="en-US" sz="33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_s1038"/>
            <p:cNvSpPr/>
            <p:nvPr/>
          </p:nvSpPr>
          <p:spPr>
            <a:xfrm>
              <a:off x="6741720" y="4488120"/>
              <a:ext cx="2150640" cy="114516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7a77"/>
                  </a:solidFill>
                  <a:latin typeface="Arial"/>
                </a:rPr>
                <a:t>南京大屠杀</a:t>
              </a:r>
              <a:endParaRPr b="0" lang="en-US" sz="33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9304c888504cb1d1a4c2729d"/>
          <p:cNvPicPr/>
          <p:nvPr/>
        </p:nvPicPr>
        <p:blipFill>
          <a:blip r:embed="rId1"/>
          <a:stretch/>
        </p:blipFill>
        <p:spPr>
          <a:xfrm>
            <a:off x="0" y="1601640"/>
            <a:ext cx="3684600" cy="525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b3508d13c27515db6538dbcc"/>
          <p:cNvPicPr/>
          <p:nvPr/>
        </p:nvPicPr>
        <p:blipFill>
          <a:blip r:embed="rId2"/>
          <a:stretch/>
        </p:blipFill>
        <p:spPr>
          <a:xfrm>
            <a:off x="3780000" y="3573360"/>
            <a:ext cx="5148000" cy="308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f7426d8dddcb472ab21bba52"/>
          <p:cNvPicPr/>
          <p:nvPr/>
        </p:nvPicPr>
        <p:blipFill>
          <a:blip r:embed="rId3"/>
          <a:stretch/>
        </p:blipFill>
        <p:spPr>
          <a:xfrm>
            <a:off x="4500720" y="189000"/>
            <a:ext cx="4176720" cy="3141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250920" y="260280"/>
            <a:ext cx="33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73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部队的细菌炸弹（石井炸弹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1619280" y="1268280"/>
            <a:ext cx="576360" cy="648000"/>
          </a:xfrm>
          <a:prstGeom prst="downArrow">
            <a:avLst>
              <a:gd name="adj1" fmla="val 50000"/>
              <a:gd name="adj2" fmla="val 28097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731部队的活体解剖"/>
          <p:cNvPicPr/>
          <p:nvPr/>
        </p:nvPicPr>
        <p:blipFill>
          <a:blip r:embed="rId1"/>
          <a:stretch/>
        </p:blipFill>
        <p:spPr>
          <a:xfrm>
            <a:off x="468360" y="2852640"/>
            <a:ext cx="5905440" cy="3811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245e8bcaa04f94c3c8176869"/>
          <p:cNvPicPr/>
          <p:nvPr/>
        </p:nvPicPr>
        <p:blipFill>
          <a:blip r:embed="rId2"/>
          <a:stretch/>
        </p:blipFill>
        <p:spPr>
          <a:xfrm>
            <a:off x="5940360" y="189000"/>
            <a:ext cx="2854440" cy="381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42e89c26778d2d528a82a19c"/>
          <p:cNvPicPr/>
          <p:nvPr/>
        </p:nvPicPr>
        <p:blipFill>
          <a:blip r:embed="rId3"/>
          <a:stretch/>
        </p:blipFill>
        <p:spPr>
          <a:xfrm>
            <a:off x="2627280" y="216000"/>
            <a:ext cx="2859120" cy="3789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6516720" y="5300640"/>
            <a:ext cx="24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73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部队的活体解剖 受害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6012000" y="5445000"/>
            <a:ext cx="576000" cy="503280"/>
          </a:xfrm>
          <a:prstGeom prst="leftArrow">
            <a:avLst>
              <a:gd name="adj1" fmla="val 50000"/>
              <a:gd name="adj2" fmla="val 28602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震惊中外的南京大屠杀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南京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大屠杀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第二次世界大战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期间，侵华日军于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7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攻陷中国的南京之后，在南京城区及郊区对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中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平民和战俘进行的长达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个星期的大规模屠杀、抢掠、强奸等战争罪行。据第二次世界大战结束后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远东国际军事法庭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南京军事法庭的有关判决，在大屠杀中有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以上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以上中国平民和战俘被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日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杀害，南京城的三分之一被日军纵火烧毁。而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日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学者则众说纷纭，但有部分人却试图抹杀事实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日军羽田部队在黄浦江口残杀中国军俘虏"/>
          <p:cNvPicPr/>
          <p:nvPr/>
        </p:nvPicPr>
        <p:blipFill>
          <a:blip r:embed="rId1"/>
          <a:stretch/>
        </p:blipFill>
        <p:spPr>
          <a:xfrm>
            <a:off x="179280" y="260280"/>
            <a:ext cx="4967280" cy="326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324000" y="4365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军羽田部队在黄浦江口残杀中国军俘虏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340000" y="3571920"/>
            <a:ext cx="57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1" name="Picture 7" descr="日本侵略军侵占南京"/>
          <p:cNvPicPr/>
          <p:nvPr/>
        </p:nvPicPr>
        <p:blipFill>
          <a:blip r:embed="rId2"/>
          <a:stretch/>
        </p:blipFill>
        <p:spPr>
          <a:xfrm>
            <a:off x="4354560" y="3610080"/>
            <a:ext cx="4789440" cy="32479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946480" y="1772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本侵略军侵占南京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7093080" y="2781360"/>
            <a:ext cx="72072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d048addeff45fe15cdbf1a31"/>
          <p:cNvPicPr/>
          <p:nvPr/>
        </p:nvPicPr>
        <p:blipFill>
          <a:blip r:embed="rId1"/>
          <a:stretch/>
        </p:blipFill>
        <p:spPr>
          <a:xfrm>
            <a:off x="324000" y="549360"/>
            <a:ext cx="8532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南京大屠杀“百人斩”铁证"/>
          <p:cNvPicPr/>
          <p:nvPr/>
        </p:nvPicPr>
        <p:blipFill>
          <a:blip r:embed="rId1"/>
          <a:stretch/>
        </p:blipFill>
        <p:spPr>
          <a:xfrm>
            <a:off x="5292720" y="836640"/>
            <a:ext cx="3673440" cy="5165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250920" y="2206800"/>
            <a:ext cx="48258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937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日，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东京日日新闻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即现在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每日新闻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报道两名日本军官的“杀人竞赛”。日军第十六师团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中岛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部队两个少尉军官向井敏明和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野田毅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在其长官鼓励下，彼此相约“杀人竞赛”，商定在占领南京时，谁先杀满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人为胜者。他们从句容杀到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汤山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，向井敏明杀了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89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人，野田毅杀了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78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人，因皆未满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，“竞赛”继续进行。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日中午，两人在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紫金山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下相遇，彼此军刀已砍缺了口。野田谓杀了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05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人，向井谓杀了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06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人。又因确定不了是谁先达到杀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人之数，决定这次比赛不分胜负，重新比赛谁杀满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5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名中国人。这些暴行都一直在报纸上图文并茂连载，被称为“皇军的英雄”。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日本投降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后，这两个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战犯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终以在作战期间，共同连续屠杀俘虏及非战中人员“实为人类蟊贼，文明公敌”的罪名在南京执行枪决。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403280" y="189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杀人竞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967280" y="6092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南京大屠杀“百人斩”铁证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6877080" y="5661000"/>
            <a:ext cx="50328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紫金山脚下的一处日军屠杀场所"/>
          <p:cNvPicPr/>
          <p:nvPr/>
        </p:nvPicPr>
        <p:blipFill>
          <a:blip r:embed="rId1"/>
          <a:stretch/>
        </p:blipFill>
        <p:spPr>
          <a:xfrm>
            <a:off x="3635280" y="3189240"/>
            <a:ext cx="5435640" cy="3613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日军准备集中屠杀南京市民"/>
          <p:cNvPicPr/>
          <p:nvPr/>
        </p:nvPicPr>
        <p:blipFill>
          <a:blip r:embed="rId2"/>
          <a:stretch/>
        </p:blipFill>
        <p:spPr>
          <a:xfrm>
            <a:off x="179280" y="333360"/>
            <a:ext cx="5832720" cy="3230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6551640" y="11109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日军准备集中屠杀南京市民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39640" y="53809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紫金山脚下的一处日军屠杀场所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916360" y="62373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012000" y="1989000"/>
            <a:ext cx="431640" cy="432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2480" y="2532240"/>
            <a:ext cx="3662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画刊周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记载日军南京大屠杀暴行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7" name="Picture 4" descr="《画刊周报》记载日军南京大屠杀暴行"/>
          <p:cNvPicPr/>
          <p:nvPr/>
        </p:nvPicPr>
        <p:blipFill>
          <a:blip r:embed="rId1"/>
          <a:stretch/>
        </p:blipFill>
        <p:spPr>
          <a:xfrm>
            <a:off x="4284720" y="549360"/>
            <a:ext cx="42591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7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开车穿过城市的路上，我们才真正了解到破坏的程度。汽车每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~2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的距离，我们就会碰上好几具尸体。死亡的都是平民，我检查了尸体，发现背部有被子弹击中的痕迹。看来这些人是在逃跑的途中被人从后面击中而死的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本人每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~2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组成一个小分队，他们在城市中穿行，把商店洗劫一空。如果不是亲眼目睹，我是无法相信的。他们砸开店铺的门窗，想拿什么就拿什么，估计可能是因为他们缺乏食物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拉贝日记节选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拉贝日记节选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我们遇见了一队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中国工人，日本士兵将他们从难民区中挑选出来，捆绑着将他们赶走。我们的各种抗议都没有结果。我们安置了大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 0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中国士兵在司法部大楼里，约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~5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人被捆绑着从那里强行拖走。我们估计他们是被枪毙了，因为我们听见了各种不同的机关枪扫射声。我们 被这种做法惊呆了。我们安置伤兵的外交部已经不允许我们进去，中国医护人员也不许离开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黑体"/>
                <a:ea typeface="黑体"/>
              </a:rPr>
              <a:t>1.</a:t>
            </a:r>
            <a:r>
              <a:rPr b="1" lang="zh-CN" sz="6000" spc="-1" strike="noStrike">
                <a:solidFill>
                  <a:srgbClr val="003399"/>
                </a:solidFill>
                <a:latin typeface="黑体"/>
                <a:ea typeface="黑体"/>
              </a:rPr>
              <a:t>破碎的山河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Cooper Std Black"/>
              </a:rPr>
              <a:t>香港、澳门、台湾、威海卫、广州湾、九龙、旅顺、大连，</a:t>
            </a:r>
            <a:r>
              <a:rPr b="1" lang="zh-CN" sz="4400" spc="-1" strike="noStrike">
                <a:solidFill>
                  <a:srgbClr val="007a77"/>
                </a:solidFill>
                <a:latin typeface="Cooper Std Black"/>
              </a:rPr>
              <a:t>这些本属于中国的七个地方曾经被列强瓜分，离开了祖国母亲的怀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3964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据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94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中国南京军事法庭查证：日军集体大屠杀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案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人，零散屠杀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5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案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人。日军在南京进行了长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个星期的大屠杀，中国军民被枪杀和活埋者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多万人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Arial"/>
              </a:rPr>
              <a:t>东京审判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4" name="Picture 4" descr="7396f00fbd7f72f0ab6457bf"/>
          <p:cNvPicPr/>
          <p:nvPr/>
        </p:nvPicPr>
        <p:blipFill>
          <a:blip r:embed="rId1"/>
          <a:stretch/>
        </p:blipFill>
        <p:spPr>
          <a:xfrm>
            <a:off x="250920" y="2205000"/>
            <a:ext cx="87138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东京审判时中国法官的日记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节选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]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些元凶巨蠹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既在法律的掌握之中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们必定逃不出正义和公道的严厉制裁。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                                                                                                        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梅汝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远东国际军事法庭通过了对东条英机、土肥原贤二、松井石根等七名首恶处以绞刑的严正判决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记下历史事实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资料来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事实简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我的感想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037D-283A-4F71-A299-EBDD33DA4087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1680" y="1773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旧中国政府无能，使列强瓜分祖国山河，中华文化宝物落入他国之手，侵华日军屠杀人民，中国百姓身处水深火热之中，中国经历了这么多磨难，如今又重新振兴，我们要保持好这种强盛，并牢记历史，建设祖国，使祖国变得更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南京条约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南京条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又称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江宁条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是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中国近代史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与外国签订的第一个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不平等条约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道光二十二年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84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年），清朝在与英国的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第一次鸦片战争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战败。清政府代表在泊于南京下关江面的英军旗舰康华丽号上与英国签署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英南京条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南京条约复制本"/>
          <p:cNvPicPr/>
          <p:nvPr/>
        </p:nvPicPr>
        <p:blipFill>
          <a:blip r:embed="rId1"/>
          <a:stretch/>
        </p:blipFill>
        <p:spPr>
          <a:xfrm>
            <a:off x="755640" y="3860640"/>
            <a:ext cx="8137440" cy="292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南京条约签订现场"/>
          <p:cNvPicPr/>
          <p:nvPr/>
        </p:nvPicPr>
        <p:blipFill>
          <a:blip r:embed="rId2"/>
          <a:stretch/>
        </p:blipFill>
        <p:spPr>
          <a:xfrm>
            <a:off x="971640" y="189000"/>
            <a:ext cx="7380360" cy="3209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6530040" y="3357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南京条约签订现场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6"/>
          <p:cNvSpPr/>
          <p:nvPr/>
        </p:nvSpPr>
        <p:spPr>
          <a:xfrm>
            <a:off x="347652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7" name="Picture 4" descr="b7fd5266d0160924d848fc5fd40735fae6cd3400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6597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211640" y="622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南京条约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黑体"/>
              </a:rPr>
              <a:t>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部分内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清朝政府开放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广州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厦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福州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宁波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上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等五处为通商口岸（史称“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五口通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”），准许英国派驻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领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准许英商及其家属自由居住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赔款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清政府向英国赔款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1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银元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其中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银元赔偿被焚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鸦片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2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银元赔偿英国军费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银元偿还商人债务。其款分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交纳清楚，倘未能按期交足，则酌定每年百元应加利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银元。中国向英国共赔偿二千一百万西班牙银元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割地。割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香港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给英国英军撤出南京、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定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等处江面和岛屿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葡萄牙占领澳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第一次鸦片战争以后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84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日，葡萄牙女王玛丽亚二世宣布澳门为自由港；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887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年，葡萄牙政府和清政府先后签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葡会议草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葡和好通商条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规定“葡国永驻管理澳门以及属澳之地与葡区治理它处无异”。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90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，日本在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日俄战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获胜，通过日俄讲和条约，将中国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旅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大连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等地的租借权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长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－旅顺的铁路及附属设施的财产权利占为己有。此后，日本创立“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南满洲铁道株式会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”，并有关东军负责铁路沿线的警备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2:09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43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