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6.png" ContentType="image/png"/>
  <Override PartName="/ppt/media/image14.wmf" ContentType="image/x-wmf"/>
  <Override PartName="/ppt/media/image29.wmf" ContentType="image/x-wmf"/>
  <Override PartName="/ppt/media/image1.png" ContentType="image/png"/>
  <Override PartName="/ppt/media/image31.png" ContentType="image/png"/>
  <Override PartName="/ppt/media/image10.wmf" ContentType="image/x-wmf"/>
  <Override PartName="/ppt/media/image2.png" ContentType="image/png"/>
  <Override PartName="/ppt/media/image4.png" ContentType="image/png"/>
  <Override PartName="/ppt/media/image12.wmf" ContentType="image/x-wmf"/>
  <Override PartName="/ppt/media/image30.jpeg" ContentType="image/jpeg"/>
  <Override PartName="/ppt/media/image7.wmf" ContentType="image/x-wmf"/>
  <Override PartName="/ppt/media/image28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26.png" ContentType="image/png"/>
  <Override PartName="/ppt/media/image11.wmf" ContentType="image/x-wmf"/>
  <Override PartName="/ppt/media/image5.wmf" ContentType="image/x-wmf"/>
  <Override PartName="/ppt/media/image3.wmf" ContentType="image/x-wmf"/>
  <Override PartName="/ppt/media/image24.png" ContentType="image/png"/>
  <Override PartName="/ppt/media/image15.wmf" ContentType="image/x-wmf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jpeg" ContentType="image/jpeg"/>
  <Override PartName="/ppt/media/image22.png" ContentType="image/png"/>
  <Override PartName="/ppt/media/image23.wmf" ContentType="image/x-wmf"/>
  <Override PartName="/ppt/media/image25.wmf" ContentType="image/x-wmf"/>
  <Override PartName="/ppt/media/image2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14F1-F3F3-4FD8-ABE7-CC52939A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177-0D4E-4B67-ABEF-7680C553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DED-5A9D-45EC-9584-65C00708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32B3-8BE9-48BE-8150-523DA726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5891-F49D-4048-BD69-980C4025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F39E-7CC5-4E34-B99C-60611EE5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7675-F138-4FE2-95AF-ECBDD70B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1FAB-E492-4B97-8F18-9E65EA58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F367-6798-4380-94CA-B4F85FDB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2203-5B64-4429-AB12-4D86F350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85C1-80F8-4D15-A2B0-BE5DB11A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B0B-BB7B-4C80-8531-4C320393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16E1-6C01-4F68-ACA1-EADFB23D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E0DA-D2C0-4BC1-830D-49BB5986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C60B-3AAD-49F3-9E59-9819F889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8AA4-BA43-4CFE-8C55-FCD54CB1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59E0-9FC3-4E3F-A953-C1D55D88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9F9F4-EE75-4FDF-A17C-69E818AD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B6C14-82FB-452A-BF48-E152AEA0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D2BF-0933-4130-A207-C1EDED0C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EA591-6CEE-47BF-A0C8-F72243B5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DF24D-60CC-4477-A194-4A7C3037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E675-E08F-4F88-80D4-F1B7EA83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4B014-5993-4F27-89D0-7A4318C4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88B7F-843A-4B6A-AB2E-BDD3AEA8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1BF7-8807-475F-AA79-A409DC2A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6A91A-8919-4EA8-A8A0-3FFDFAC2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A98C-EF29-4B49-98BA-C30541F1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567F-68EF-419E-AF4E-A6966281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EE396-15C9-4ABC-AD4F-480BD43A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3C05-12A2-439C-AFF7-C5943B52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D46-2491-431C-A541-FF86FFAE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A1A-127F-4D46-91F6-DF483EE9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343-2BAC-4C02-8DEF-009FA828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760-B26E-40EC-9D46-6402A9F3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D18-08E0-4045-A366-58AF4D1A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D99D-7D21-4686-BEFB-FD2BA7F2141E}" type="slidenum">
              <a:rPr b="0" lang="zh-CN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0C30-9447-4730-8CE8-B7FE8269B5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4ED9-F287-40AB-9272-967C253C2245}" type="slidenum">
              <a:rPr b="0" lang="zh-CN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772400" cy="1469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j0292116[1]"/>
          <p:cNvPicPr/>
          <p:nvPr/>
        </p:nvPicPr>
        <p:blipFill>
          <a:blip r:embed="rId2"/>
          <a:stretch/>
        </p:blipFill>
        <p:spPr>
          <a:xfrm>
            <a:off x="6504120" y="4508640"/>
            <a:ext cx="2557440" cy="21841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6"/>
          <p:cNvSpPr txBox="1"/>
          <p:nvPr/>
        </p:nvSpPr>
        <p:spPr>
          <a:xfrm>
            <a:off x="2168640" y="846000"/>
            <a:ext cx="482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（教科版）三年级科学下册课件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323640" y="213336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体积</a:t>
            </a:r>
            <a:r>
              <a:rPr b="1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的大小會影响</a:t>
            </a:r>
            <a:r>
              <a:rPr b="1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冰</a:t>
            </a:r>
            <a:r>
              <a:rPr b="1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的融化，</a:t>
            </a:r>
            <a:r>
              <a:rPr b="1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体积</a:t>
            </a:r>
            <a:r>
              <a:rPr b="1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越小，融化快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浓度會影响水的融化，浓度越低，融化快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溶质</a:t>
            </a:r>
            <a:r>
              <a:rPr b="1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不同，</a:t>
            </a:r>
            <a:r>
              <a:rPr b="1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冰块的</a:t>
            </a:r>
            <a:r>
              <a:rPr b="1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融化速度也不同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冰块中</a:t>
            </a:r>
            <a:r>
              <a:rPr b="1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颗粒的大小</a:t>
            </a:r>
            <a:r>
              <a:rPr b="1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会</a:t>
            </a:r>
            <a:r>
              <a:rPr b="1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影响</a:t>
            </a:r>
            <a:r>
              <a:rPr b="1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它的</a:t>
            </a:r>
            <a:r>
              <a:rPr b="1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融化，放入颗粒越大</a:t>
            </a:r>
            <a:r>
              <a:rPr b="1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，</a:t>
            </a:r>
            <a:r>
              <a:rPr b="1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融化</a:t>
            </a:r>
            <a:r>
              <a:rPr b="1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越</a:t>
            </a:r>
            <a:r>
              <a:rPr b="1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慢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9" name="Picture 4" descr="j0342933[1]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533880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395280" y="23493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海面初期會</a:t>
            </a:r>
            <a:r>
              <a:rPr b="0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因为低温</a:t>
            </a:r>
            <a:r>
              <a:rPr b="0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而先結一成薄冰，</a:t>
            </a:r>
            <a:r>
              <a:rPr b="0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而后因为时间的延续</a:t>
            </a:r>
            <a:r>
              <a:rPr b="0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，</a:t>
            </a:r>
            <a:r>
              <a:rPr b="0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低温持续</a:t>
            </a:r>
            <a:r>
              <a:rPr b="0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，冰</a:t>
            </a:r>
            <a:r>
              <a:rPr b="0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层</a:t>
            </a:r>
            <a:r>
              <a:rPr b="0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慢慢的加厚，</a:t>
            </a:r>
            <a:r>
              <a:rPr b="0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因为冰层</a:t>
            </a:r>
            <a:r>
              <a:rPr b="0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越厚，海中盐分的浓度就越高，盐分越高就越不容易</a:t>
            </a:r>
            <a:r>
              <a:rPr b="0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结</a:t>
            </a:r>
            <a:r>
              <a:rPr b="0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冰。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2" name="Picture 5" descr="j0197465[1]"/>
          <p:cNvPicPr/>
          <p:nvPr/>
        </p:nvPicPr>
        <p:blipFill>
          <a:blip r:embed="rId2"/>
          <a:stretch/>
        </p:blipFill>
        <p:spPr>
          <a:xfrm>
            <a:off x="6659640" y="0"/>
            <a:ext cx="24843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DAE5-06FC-41FE-AB82-33CBA093B864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4"/>
          <p:cNvSpPr txBox="1"/>
          <p:nvPr/>
        </p:nvSpPr>
        <p:spPr>
          <a:xfrm>
            <a:off x="971640" y="1125360"/>
            <a:ext cx="2286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3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后作业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258920" y="2349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ahoma"/>
                <a:ea typeface="PMingLiU"/>
              </a:rPr>
              <a:t>在家完成各类冰块溶化现象的观察实验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5003640" y="4411800"/>
            <a:ext cx="3206880" cy="18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456000" cy="1481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79280" y="234936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冰</a:t>
            </a: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体积</a:t>
            </a: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对溶化的影响</a:t>
            </a: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冰的浓度，对其融化速度的影响</a:t>
            </a: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不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溶质的冰块</a:t>
            </a: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融化速度的特点</a:t>
            </a: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溶质颗粒</a:t>
            </a: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小，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对冰块融化</a:t>
            </a:r>
            <a:r>
              <a:rPr b="1" lang="zh-TW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影响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4" descr="j0280747[1]"/>
          <p:cNvPicPr/>
          <p:nvPr/>
        </p:nvPicPr>
        <p:blipFill>
          <a:blip r:embed="rId2"/>
          <a:stretch/>
        </p:blipFill>
        <p:spPr>
          <a:xfrm>
            <a:off x="6443640" y="0"/>
            <a:ext cx="2376360" cy="219708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684360" y="40464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听老师讲实验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186920" y="1773360"/>
            <a:ext cx="2675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410082"/>
                </a:solidFill>
                <a:latin typeface="Times New Roman"/>
                <a:ea typeface="標楷體"/>
              </a:rPr>
              <a:t>水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410082"/>
                </a:solidFill>
                <a:latin typeface="Times New Roman"/>
                <a:ea typeface="標楷體"/>
              </a:rPr>
              <a:t>量杯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10082"/>
                </a:solidFill>
                <a:latin typeface="Times New Roman"/>
                <a:ea typeface="標楷體"/>
              </a:rPr>
              <a:t>烧杯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410082"/>
                </a:solidFill>
                <a:latin typeface="Times New Roman"/>
                <a:ea typeface="標楷體"/>
              </a:rPr>
              <a:t>盐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30000"/>
              </a:lnSpc>
              <a:spcBef>
                <a:spcPts val="9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410082"/>
                </a:solidFill>
                <a:latin typeface="Times New Roman"/>
                <a:ea typeface="標楷體"/>
              </a:rPr>
              <a:t>糖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292720" y="1700280"/>
            <a:ext cx="230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10082"/>
                </a:solidFill>
                <a:latin typeface="Times New Roman"/>
                <a:ea typeface="標楷體"/>
              </a:rPr>
              <a:t>味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410082"/>
                </a:solidFill>
                <a:latin typeface="Times New Roman"/>
                <a:ea typeface="標楷體"/>
              </a:rPr>
              <a:t>胡椒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410082"/>
                </a:solidFill>
                <a:latin typeface="Times New Roman"/>
                <a:ea typeface="標楷體"/>
              </a:rPr>
              <a:t>地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10082"/>
                </a:solidFill>
                <a:latin typeface="Times New Roman"/>
                <a:ea typeface="標楷體"/>
              </a:rPr>
              <a:t>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14"/>
          <p:cNvGrpSpPr/>
          <p:nvPr/>
        </p:nvGrpSpPr>
        <p:grpSpPr>
          <a:xfrm>
            <a:off x="2627280" y="1700280"/>
            <a:ext cx="2467080" cy="4754520"/>
            <a:chOff x="2627280" y="1700280"/>
            <a:chExt cx="2467080" cy="4754520"/>
          </a:xfrm>
        </p:grpSpPr>
        <p:pic>
          <p:nvPicPr>
            <p:cNvPr id="135" name="Picture 5" descr="hh01599_[1]"/>
            <p:cNvPicPr/>
            <p:nvPr/>
          </p:nvPicPr>
          <p:blipFill>
            <a:blip r:embed="rId2"/>
            <a:stretch/>
          </p:blipFill>
          <p:spPr>
            <a:xfrm>
              <a:off x="2627280" y="1700280"/>
              <a:ext cx="1152720" cy="10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6" descr="j0340156[1]"/>
            <p:cNvPicPr/>
            <p:nvPr/>
          </p:nvPicPr>
          <p:blipFill>
            <a:blip r:embed="rId3"/>
            <a:stretch/>
          </p:blipFill>
          <p:spPr>
            <a:xfrm>
              <a:off x="4067280" y="2349360"/>
              <a:ext cx="1027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7" descr="in00463_[1]"/>
            <p:cNvPicPr/>
            <p:nvPr/>
          </p:nvPicPr>
          <p:blipFill>
            <a:blip r:embed="rId4"/>
            <a:stretch/>
          </p:blipFill>
          <p:spPr>
            <a:xfrm>
              <a:off x="2843280" y="3284640"/>
              <a:ext cx="1512720" cy="11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8" descr="j0389374[1]"/>
            <p:cNvPicPr/>
            <p:nvPr/>
          </p:nvPicPr>
          <p:blipFill>
            <a:blip r:embed="rId5"/>
            <a:stretch/>
          </p:blipFill>
          <p:spPr>
            <a:xfrm>
              <a:off x="4067280" y="4292640"/>
              <a:ext cx="865080" cy="9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9" descr="j0232295[1]"/>
            <p:cNvPicPr/>
            <p:nvPr/>
          </p:nvPicPr>
          <p:blipFill>
            <a:blip r:embed="rId6"/>
            <a:stretch/>
          </p:blipFill>
          <p:spPr>
            <a:xfrm>
              <a:off x="2843280" y="5157720"/>
              <a:ext cx="949320" cy="12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15"/>
          <p:cNvGrpSpPr/>
          <p:nvPr/>
        </p:nvGrpSpPr>
        <p:grpSpPr>
          <a:xfrm>
            <a:off x="6443640" y="1484280"/>
            <a:ext cx="2502000" cy="4919760"/>
            <a:chOff x="6443640" y="1484280"/>
            <a:chExt cx="2502000" cy="4919760"/>
          </a:xfrm>
        </p:grpSpPr>
        <p:pic>
          <p:nvPicPr>
            <p:cNvPr id="141" name="Picture 10" descr="j0352447[1]"/>
            <p:cNvPicPr/>
            <p:nvPr/>
          </p:nvPicPr>
          <p:blipFill>
            <a:blip r:embed="rId7"/>
            <a:stretch/>
          </p:blipFill>
          <p:spPr>
            <a:xfrm>
              <a:off x="7308720" y="1484280"/>
              <a:ext cx="8524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1" descr="j0349011[1]"/>
            <p:cNvPicPr/>
            <p:nvPr/>
          </p:nvPicPr>
          <p:blipFill>
            <a:blip r:embed="rId8"/>
            <a:stretch/>
          </p:blipFill>
          <p:spPr>
            <a:xfrm>
              <a:off x="7885080" y="2492280"/>
              <a:ext cx="106056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2" descr="j0331401[1]"/>
            <p:cNvPicPr/>
            <p:nvPr/>
          </p:nvPicPr>
          <p:blipFill>
            <a:blip r:embed="rId9"/>
            <a:stretch/>
          </p:blipFill>
          <p:spPr>
            <a:xfrm>
              <a:off x="6948360" y="3573360"/>
              <a:ext cx="1382760" cy="11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3" descr="j0296159[1]"/>
            <p:cNvPicPr/>
            <p:nvPr/>
          </p:nvPicPr>
          <p:blipFill>
            <a:blip r:embed="rId10"/>
            <a:stretch/>
          </p:blipFill>
          <p:spPr>
            <a:xfrm>
              <a:off x="6443640" y="4797360"/>
              <a:ext cx="1722600" cy="160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4835520" cy="925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539280" y="1557000"/>
            <a:ext cx="8425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取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10cc</a:t>
            </a:r>
            <a:r>
              <a:rPr b="0" lang="zh-TW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、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50cc</a:t>
            </a:r>
            <a:r>
              <a:rPr b="0" lang="zh-TW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、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100cc</a:t>
            </a:r>
            <a:r>
              <a:rPr b="0" lang="zh-TW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、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150 cc</a:t>
            </a:r>
            <a:r>
              <a:rPr b="0" lang="zh-TW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四</a:t>
            </a:r>
            <a:r>
              <a:rPr b="0" lang="zh-CN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种</a:t>
            </a:r>
            <a:r>
              <a:rPr b="0" lang="zh-TW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不同</a:t>
            </a:r>
            <a:r>
              <a:rPr b="0" lang="zh-CN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体积</a:t>
            </a:r>
            <a:r>
              <a:rPr b="0" lang="zh-TW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的水</a:t>
            </a:r>
            <a:r>
              <a:rPr b="0" lang="zh-CN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结成的冰，</a:t>
            </a:r>
            <a:r>
              <a:rPr b="0" lang="zh-TW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，放入</a:t>
            </a:r>
            <a:r>
              <a:rPr b="0" lang="zh-CN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烧</a:t>
            </a:r>
            <a:r>
              <a:rPr b="0" lang="zh-TW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杯，</a:t>
            </a:r>
            <a:r>
              <a:rPr b="0" lang="zh-CN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记录观察溶化的情形</a:t>
            </a:r>
            <a:r>
              <a:rPr b="0" lang="zh-TW" sz="2800" spc="-1" strike="noStrike">
                <a:solidFill>
                  <a:srgbClr val="990000"/>
                </a:solidFill>
                <a:latin typeface="Times New Roman"/>
                <a:ea typeface="標楷體"/>
              </a:rPr>
              <a:t>。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00000" y="3213000"/>
          <a:ext cx="7416720" cy="1382760"/>
        </p:xfrm>
        <a:graphic>
          <a:graphicData uri="http://schemas.openxmlformats.org/drawingml/2006/table">
            <a:tbl>
              <a:tblPr/>
              <a:tblGrid>
                <a:gridCol w="2303640"/>
                <a:gridCol w="1296720"/>
                <a:gridCol w="1195560"/>
                <a:gridCol w="1396800"/>
                <a:gridCol w="1224000"/>
              </a:tblGrid>
              <a:tr h="46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10 c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50 c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100 c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150 c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冰全部融化所需时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30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40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55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時</a:t>
                      </a: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冰融化的情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很快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快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很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</a:tr>
            </a:tbl>
          </a:graphicData>
        </a:graphic>
      </p:graphicFrame>
      <p:sp>
        <p:nvSpPr>
          <p:cNvPr id="148" name="Rectangle 603"/>
          <p:cNvSpPr/>
          <p:nvPr/>
        </p:nvSpPr>
        <p:spPr>
          <a:xfrm>
            <a:off x="1675800" y="5733000"/>
            <a:ext cx="5906160" cy="703800"/>
          </a:xfrm>
          <a:prstGeom prst="rect">
            <a:avLst/>
          </a:prstGeom>
          <a:solidFill>
            <a:srgbClr val="410082"/>
          </a:solidFill>
          <a:ln w="0">
            <a:noFill/>
          </a:ln>
          <a:effectLst>
            <a:outerShdw dist="71785" dir="2700000" blurRad="0" rotWithShape="0">
              <a:srgbClr val="00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結果：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0 cc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的水凝固最快，其次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50 cc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00 cc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50 cc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0 cc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的水融化最快，其次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50 cc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00 cc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50 cc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604"/>
          <p:cNvSpPr/>
          <p:nvPr/>
        </p:nvSpPr>
        <p:spPr>
          <a:xfrm>
            <a:off x="324000" y="5734080"/>
            <a:ext cx="718920" cy="6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410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05" descr="DSCF0011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66536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8199"/>
          <p:cNvSpPr/>
          <p:nvPr/>
        </p:nvSpPr>
        <p:spPr>
          <a:xfrm>
            <a:off x="825480" y="12002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10082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410082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dur="indefinite" nodeType="after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18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4835520" cy="925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68000" y="1628640"/>
            <a:ext cx="84963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取 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上一节课实验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5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克、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10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克、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20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克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盐为溶质成的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100cc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的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水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结成的冰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，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将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冰拿出放在室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温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下，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观察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冰融化的時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间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及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融化的情形。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4" name="Picture 19" descr="DSCF0011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6653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1"/>
          <p:cNvSpPr/>
          <p:nvPr/>
        </p:nvSpPr>
        <p:spPr>
          <a:xfrm>
            <a:off x="755640" y="5734080"/>
            <a:ext cx="8209080" cy="340560"/>
          </a:xfrm>
          <a:prstGeom prst="rect">
            <a:avLst/>
          </a:prstGeom>
          <a:solidFill>
            <a:srgbClr val="410082"/>
          </a:solidFill>
          <a:ln w="0">
            <a:noFill/>
          </a:ln>
          <a:effectLst>
            <a:outerShdw dist="71785" dir="2700000" blurRad="0" rotWithShape="0">
              <a:srgbClr val="00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結果：   加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5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克盐</a:t>
            </a: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的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冰</a:t>
            </a: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最快融化，其次是加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10</a:t>
            </a: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克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20</a:t>
            </a: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克的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冰块</a:t>
            </a: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03280" y="3213000"/>
          <a:ext cx="6408720" cy="1382760"/>
        </p:xfrm>
        <a:graphic>
          <a:graphicData uri="http://schemas.openxmlformats.org/drawingml/2006/table">
            <a:tbl>
              <a:tblPr/>
              <a:tblGrid>
                <a:gridCol w="2303640"/>
                <a:gridCol w="1152360"/>
                <a:gridCol w="1152360"/>
                <a:gridCol w="1800360"/>
              </a:tblGrid>
              <a:tr h="46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克</a:t>
                      </a:r>
                      <a:r>
                        <a:rPr b="0" lang="zh-CN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盐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克盐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20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克</a:t>
                      </a:r>
                      <a:r>
                        <a:rPr b="0" lang="zh-CN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盐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冰全部融化所需</a:t>
                      </a:r>
                      <a:r>
                        <a:rPr b="0" lang="zh-CN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13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16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40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冰融化的情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快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中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很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</a:tr>
            </a:tbl>
          </a:graphicData>
        </a:graphic>
      </p:graphicFrame>
      <p:sp>
        <p:nvSpPr>
          <p:cNvPr id="157" name="AutoShape 446"/>
          <p:cNvSpPr/>
          <p:nvPr/>
        </p:nvSpPr>
        <p:spPr>
          <a:xfrm>
            <a:off x="0" y="5805360"/>
            <a:ext cx="719280" cy="6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410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dur="indefinite" nodeType="after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4978440" cy="9255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68360" y="1773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取 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上节课中有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20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克的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盐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、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20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克的糖、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20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克的味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精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、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20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克的胡椒粉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结成的冰块，将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冰拿出放在室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温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下，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观察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冰融化的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时间</a:t>
            </a: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標楷體"/>
              </a:rPr>
              <a:t>及融化的情形。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0" name="Picture 5" descr="DSCF0011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16653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7"/>
          <p:cNvSpPr/>
          <p:nvPr/>
        </p:nvSpPr>
        <p:spPr>
          <a:xfrm>
            <a:off x="863640" y="6021360"/>
            <a:ext cx="8029440" cy="368280"/>
          </a:xfrm>
          <a:prstGeom prst="rect">
            <a:avLst/>
          </a:prstGeom>
          <a:solidFill>
            <a:srgbClr val="410082"/>
          </a:solidFill>
          <a:ln w="0">
            <a:noFill/>
          </a:ln>
          <a:effectLst>
            <a:outerShdw dist="53966" dir="2700000" blurRad="0" rotWithShape="0">
              <a:srgbClr val="00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結果：  加味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精</a:t>
            </a: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的的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冰</a:t>
            </a: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最快融化，其次是加胡椒粉、加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盐</a:t>
            </a: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加糖的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冰块</a:t>
            </a: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39640" y="3141720"/>
          <a:ext cx="8136000" cy="1562040"/>
        </p:xfrm>
        <a:graphic>
          <a:graphicData uri="http://schemas.openxmlformats.org/drawingml/2006/table">
            <a:tbl>
              <a:tblPr/>
              <a:tblGrid>
                <a:gridCol w="2303640"/>
                <a:gridCol w="1368360"/>
                <a:gridCol w="1296720"/>
                <a:gridCol w="1440000"/>
                <a:gridCol w="1727280"/>
              </a:tblGrid>
              <a:tr h="46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20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克</a:t>
                      </a:r>
                      <a:r>
                        <a:rPr b="0" lang="zh-CN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盐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20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克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20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公克味</a:t>
                      </a:r>
                      <a:r>
                        <a:rPr b="0" lang="zh-CN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20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克胡椒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冰全部融化所需</a:t>
                      </a:r>
                      <a:r>
                        <a:rPr b="0" lang="zh-CN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30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40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13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23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冰融化的情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碎冰完全不見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很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快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胡椒粉和水分</a:t>
                      </a:r>
                      <a:r>
                        <a:rPr b="0" lang="zh-CN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开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</a:tr>
            </a:tbl>
          </a:graphicData>
        </a:graphic>
      </p:graphicFrame>
      <p:sp>
        <p:nvSpPr>
          <p:cNvPr id="163" name="AutoShape 419"/>
          <p:cNvSpPr/>
          <p:nvPr/>
        </p:nvSpPr>
        <p:spPr>
          <a:xfrm>
            <a:off x="0" y="5950080"/>
            <a:ext cx="719280" cy="69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410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dur="indefinite" nodeType="after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5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4259160" cy="9255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468360" y="162864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取</a:t>
            </a:r>
            <a:r>
              <a:rPr b="0" lang="zh-CN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上节课中含有地瓜颗粒的冰块，</a:t>
            </a:r>
            <a:r>
              <a:rPr b="0" lang="zh-TW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分別放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入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100cc</a:t>
            </a:r>
            <a:r>
              <a:rPr b="0" lang="zh-TW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的</a:t>
            </a:r>
            <a:r>
              <a:rPr b="0" lang="zh-CN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烧</a:t>
            </a:r>
            <a:r>
              <a:rPr b="0" lang="zh-TW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杯中，</a:t>
            </a:r>
            <a:r>
              <a:rPr b="0" lang="zh-CN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将</a:t>
            </a:r>
            <a:r>
              <a:rPr b="0" lang="zh-TW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冰拿出放在室</a:t>
            </a:r>
            <a:r>
              <a:rPr b="0" lang="zh-CN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温</a:t>
            </a:r>
            <a:r>
              <a:rPr b="0" lang="zh-TW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下，</a:t>
            </a:r>
            <a:r>
              <a:rPr b="0" lang="zh-CN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观察</a:t>
            </a:r>
            <a:r>
              <a:rPr b="0" lang="zh-TW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不同</a:t>
            </a:r>
            <a:r>
              <a:rPr b="0" lang="zh-CN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颗粒</a:t>
            </a:r>
            <a:r>
              <a:rPr b="0" lang="zh-TW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大小冰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融化的</a:t>
            </a:r>
            <a:r>
              <a:rPr b="0" lang="zh-CN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时间</a:t>
            </a:r>
            <a:r>
              <a:rPr b="0" lang="zh-TW" sz="2000" spc="-1" strike="noStrike">
                <a:solidFill>
                  <a:srgbClr val="990000"/>
                </a:solidFill>
                <a:latin typeface="Times New Roman"/>
                <a:ea typeface="標楷體"/>
              </a:rPr>
              <a:t>及融化的情形。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6" name="Picture 4" descr="DSCF0010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6257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900000" y="5445000"/>
            <a:ext cx="7920000" cy="644400"/>
          </a:xfrm>
          <a:prstGeom prst="rect">
            <a:avLst/>
          </a:prstGeom>
          <a:solidFill>
            <a:srgbClr val="410082"/>
          </a:solidFill>
          <a:ln w="0">
            <a:noFill/>
          </a:ln>
          <a:effectLst>
            <a:outerShdw dist="71785" dir="2700000" blurRad="0" rotWithShape="0">
              <a:srgbClr val="00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結果：   加小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颗粒</a:t>
            </a: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地瓜的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冰</a:t>
            </a: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最快融化，其次是中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颗粒</a:t>
            </a: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地瓜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               </a:t>
            </a: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大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颗粒</a:t>
            </a: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地瓜的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冰</a:t>
            </a:r>
            <a:r>
              <a:rPr b="0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87280" y="2997360"/>
          <a:ext cx="7129440" cy="1382400"/>
        </p:xfrm>
        <a:graphic>
          <a:graphicData uri="http://schemas.openxmlformats.org/drawingml/2006/table">
            <a:tbl>
              <a:tblPr/>
              <a:tblGrid>
                <a:gridCol w="2376360"/>
                <a:gridCol w="1513080"/>
                <a:gridCol w="1655640"/>
                <a:gridCol w="1584360"/>
              </a:tblGrid>
              <a:tr h="46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小</a:t>
                      </a:r>
                      <a:r>
                        <a:rPr b="0" lang="zh-CN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颗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中</a:t>
                      </a:r>
                      <a:r>
                        <a:rPr b="0" lang="zh-CN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颗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大</a:t>
                      </a:r>
                      <a:r>
                        <a:rPr b="0" lang="zh-CN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颗粒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冰全部融化所需时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12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20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25</a:t>
                      </a: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46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冰融化的情形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地瓜</a:t>
                      </a:r>
                      <a:r>
                        <a:rPr b="0" lang="zh-CN" sz="16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线条变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地瓜</a:t>
                      </a:r>
                      <a:r>
                        <a:rPr b="0" lang="zh-CN" sz="16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颜色变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69676d"/>
                          </a:solidFill>
                          <a:latin typeface="Times New Roman"/>
                          <a:ea typeface="標楷體"/>
                        </a:rPr>
                        <a:t>中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ff0000"/>
                      </a:solidFill>
                    </a:lnL>
                    <a:lnR w="9360">
                      <a:solidFill>
                        <a:srgbClr val="ff0000"/>
                      </a:solidFill>
                    </a:lnR>
                    <a:lnT w="9360">
                      <a:solidFill>
                        <a:srgbClr val="ff0000"/>
                      </a:solidFill>
                    </a:lnT>
                    <a:lnB w="9360">
                      <a:solidFill>
                        <a:srgbClr val="ff0000"/>
                      </a:solidFill>
                    </a:lnB>
                    <a:solidFill>
                      <a:srgbClr val="ff7c80"/>
                    </a:solidFill>
                  </a:tcPr>
                </a:tc>
              </a:tr>
            </a:tbl>
          </a:graphicData>
        </a:graphic>
      </p:graphicFrame>
      <p:sp>
        <p:nvSpPr>
          <p:cNvPr id="169" name="AutoShape 357"/>
          <p:cNvSpPr/>
          <p:nvPr/>
        </p:nvSpPr>
        <p:spPr>
          <a:xfrm>
            <a:off x="0" y="5734080"/>
            <a:ext cx="719280" cy="6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410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dur="indefinite" nodeType="after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79280" y="1628640"/>
            <a:ext cx="8686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10082"/>
                </a:solidFill>
                <a:latin typeface="华文中宋"/>
                <a:ea typeface="华文中宋"/>
              </a:rPr>
              <a:t>将</a:t>
            </a:r>
            <a:r>
              <a:rPr b="1" lang="zh-TW" sz="2800" spc="-1" strike="noStrike">
                <a:solidFill>
                  <a:srgbClr val="410082"/>
                </a:solidFill>
                <a:latin typeface="华文中宋"/>
                <a:ea typeface="华文中宋"/>
              </a:rPr>
              <a:t>冰拿出冰箱，冰的</a:t>
            </a:r>
            <a:r>
              <a:rPr b="1" lang="zh-CN" sz="2800" spc="-1" strike="noStrike">
                <a:solidFill>
                  <a:srgbClr val="410082"/>
                </a:solidFill>
                <a:latin typeface="华文中宋"/>
                <a:ea typeface="华文中宋"/>
              </a:rPr>
              <a:t>体积</a:t>
            </a:r>
            <a:r>
              <a:rPr b="1" lang="zh-TW" sz="2800" spc="-1" strike="noStrike">
                <a:solidFill>
                  <a:srgbClr val="410082"/>
                </a:solidFill>
                <a:latin typeface="华文中宋"/>
                <a:ea typeface="华文中宋"/>
              </a:rPr>
              <a:t>越小，融化的速度越快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10082"/>
                </a:solidFill>
                <a:latin typeface="华文中宋"/>
                <a:ea typeface="华文中宋"/>
              </a:rPr>
              <a:t>将不同浓度的冰</a:t>
            </a:r>
            <a:r>
              <a:rPr b="1" lang="zh-CN" sz="2800" spc="-1" strike="noStrike">
                <a:solidFill>
                  <a:srgbClr val="410082"/>
                </a:solidFill>
                <a:latin typeface="华文中宋"/>
                <a:ea typeface="华文中宋"/>
              </a:rPr>
              <a:t>从</a:t>
            </a:r>
            <a:r>
              <a:rPr b="1" lang="zh-TW" sz="2800" spc="-1" strike="noStrike">
                <a:solidFill>
                  <a:srgbClr val="410082"/>
                </a:solidFill>
                <a:latin typeface="华文中宋"/>
                <a:ea typeface="华文中宋"/>
              </a:rPr>
              <a:t>冰箱中拿出來，浓度越低，冰融化的速度越快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10082"/>
                </a:solidFill>
                <a:latin typeface="华文中宋"/>
                <a:ea typeface="华文中宋"/>
              </a:rPr>
              <a:t>加了不同溶質的冰，融化的速度不同，加味</a:t>
            </a:r>
            <a:r>
              <a:rPr b="1" lang="zh-CN" sz="2800" spc="-1" strike="noStrike">
                <a:solidFill>
                  <a:srgbClr val="410082"/>
                </a:solidFill>
                <a:latin typeface="华文中宋"/>
                <a:ea typeface="华文中宋"/>
              </a:rPr>
              <a:t>精</a:t>
            </a:r>
            <a:r>
              <a:rPr b="1" lang="zh-TW" sz="2800" spc="-1" strike="noStrike">
                <a:solidFill>
                  <a:srgbClr val="410082"/>
                </a:solidFill>
                <a:latin typeface="华文中宋"/>
                <a:ea typeface="华文中宋"/>
              </a:rPr>
              <a:t>的冰，比加胡椒粉、盐、糖融化快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10082"/>
                </a:solidFill>
                <a:latin typeface="华文中宋"/>
                <a:ea typeface="华文中宋"/>
              </a:rPr>
              <a:t>将加了大小不同颗粒地瓜的冰拿出冰箱，颗粒越小，冰融化越快；颗粒越大，冰融化越慢。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2" name="Picture 4" descr="j0078736[1]"/>
          <p:cNvPicPr/>
          <p:nvPr/>
        </p:nvPicPr>
        <p:blipFill>
          <a:blip r:embed="rId2"/>
          <a:stretch/>
        </p:blipFill>
        <p:spPr>
          <a:xfrm>
            <a:off x="6767640" y="0"/>
            <a:ext cx="23763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-324000" y="333360"/>
            <a:ext cx="5832720" cy="1384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39528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加了味</a:t>
            </a:r>
            <a:r>
              <a:rPr b="1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精</a:t>
            </a:r>
            <a:r>
              <a:rPr b="1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的</a:t>
            </a:r>
            <a:r>
              <a:rPr b="1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冰块</a:t>
            </a:r>
            <a:r>
              <a:rPr b="1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，融化速度快，</a:t>
            </a:r>
            <a:r>
              <a:rPr b="1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但它的水溶液</a:t>
            </a:r>
            <a:r>
              <a:rPr b="1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凝固速度</a:t>
            </a:r>
            <a:r>
              <a:rPr b="1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却</a:t>
            </a:r>
            <a:r>
              <a:rPr b="1" lang="zh-TW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慢，</a:t>
            </a:r>
            <a:r>
              <a:rPr b="1" lang="zh-CN" sz="2800" spc="-1" strike="noStrike">
                <a:solidFill>
                  <a:srgbClr val="410082"/>
                </a:solidFill>
                <a:latin typeface="Times New Roman"/>
                <a:ea typeface="標楷體"/>
              </a:rPr>
              <a:t>什么原因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5" name="Picture 4" descr="j0297565[1]"/>
          <p:cNvPicPr/>
          <p:nvPr/>
        </p:nvPicPr>
        <p:blipFill>
          <a:blip r:embed="rId2"/>
          <a:stretch/>
        </p:blipFill>
        <p:spPr>
          <a:xfrm>
            <a:off x="6084720" y="0"/>
            <a:ext cx="2808360" cy="179856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10082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410082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3:17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54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