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AE4-6E8F-4A39-A1B2-60917A95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E6A-CF86-4A24-A72A-B144140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D82-34B6-4FB4-A90A-2AEF0ED4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7D2-1E3E-443D-A6A3-97FED3B7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E397-6D15-4044-B82F-CEB3920E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41C-ABBB-4CD1-95C8-A53C0B6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EF8-21E2-49E4-9404-2AD7FD47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D1D-E203-4170-9DF0-757BCBAB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302E-771A-4A52-A2AA-1911D55C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F73D-AA1E-46DC-993B-CFE3CECD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08B1-EB44-4D32-87F0-8A14E99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54D-B0F9-43A1-A6FB-D166B41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CC7-1E76-4911-92BF-63A2010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EAAE-3C0D-448E-A454-AA11522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91ED-1A84-4A1F-B8DE-BF0B2CE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A678-EFDB-4637-AD34-FD7B80FC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CE9C-32C3-42D3-925E-26E5C647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C20F-D69D-48FF-AA05-9D195C48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C937-3435-44B4-8D81-9386085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CD4D-A0AD-4311-90FF-863CB33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7982-64E3-453A-8729-7B42F22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A694-75F0-4C7E-B76A-696ECC3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F01-3D83-4478-A23D-0BF2E086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826A-1391-4876-8E86-9DC3C106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AD0D-5626-402F-A0E8-0103935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52A8-FCF6-4709-84D9-D1D67A4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61E6-421B-40A5-A48F-386823C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D4C9-0AAC-44A8-BD08-EB66D8B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DF64-699E-4C27-8242-A3025301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F7FC-F49A-41C6-B8D9-AEE5E26D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DED4-E211-4A99-B7F2-E87F802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1D12-6A75-497E-BC99-697CC8F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572F-0A26-4A74-B55B-3EDFAB89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C7B-71D8-4683-94A7-0765610C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104E-2B18-4CD8-B55B-44D6FE5E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0DEA-FBAB-484B-9689-1B1A9CA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BE1F-92B5-416C-87D4-32197724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E6667-3E77-46DF-BD77-EC34429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E4DE-1F4C-4DE0-9F27-AC5E882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1974-78C1-4EB4-9ECE-4C6CABE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0C80-FAB1-44D7-84FD-0CAAB16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C9D54-A87B-493A-AA4D-654B9474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AC09-ECE8-4EE3-89B7-DA710579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628E5-F41F-48C7-A8E3-72BA4E4E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44E-DC57-463D-ABE8-22AEDCA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EFAA-FF04-4105-AF4B-C6943CDD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7E69-0A1D-4200-A829-CA3DDBF0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5756A-7C58-4A04-9F5E-8931F94F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CED3-8C64-4FE7-AA0E-993E40C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FC98-6F3C-4EC5-B782-23AEC52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0D8D-ADF5-477B-B770-48EC865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1FAC-19C5-4D66-B9D4-A6D9EB2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4F9A-29E6-4510-B3E0-349D80B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B3EA-A114-4F90-A998-78A6F95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16335-F0F4-499D-91F5-F318779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A69-66A6-4072-9453-0DE2445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F46C6-F525-4BDD-9DD3-1A99CDDC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331B2-F1DC-4803-95B1-A465E15D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A6C2-308B-4FB6-A377-209656CE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BF46-92D3-49D1-A595-394A644E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D3EC-4DDA-4982-B8BF-0C1FE3C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DBF4-3ED5-4E6B-9A19-18017CA7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77BF-F72A-4CE6-8D80-A1074470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BF70-60AE-4246-886F-922112E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8493-477F-4161-B52D-BFC5B8D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7150D-CDE9-48EB-8C6D-BD59D690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415-3870-4DD0-BE69-2E9CD07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3ADA-5E0A-4E73-97C7-348E23C4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F056-7006-4E91-82F6-4EC76F02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A73B6-49CA-41A2-B1BD-380C9421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B23-2B60-446F-9AE7-8C0BC17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744-1E7B-439D-AC74-444EDA5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DBD6-114B-46C8-9D1F-B97D3645B45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2CAA-4A0B-46A8-B3D8-C5F963D347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699-CF0D-4580-992F-C0A4A11098D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BB6-0394-4CC6-9B06-62E55795874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26C-17C3-47F4-B6D3-B6E9DA9D9017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52D-E452-4BCD-90FB-DA8C7CE69A0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16000" y="62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042920" y="15415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不一样的电路连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6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112000" cy="32432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小组活动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用一节电池、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一个电池盒、</a:t>
            </a: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个小灯泡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几根导线连接起来，组成一个电路，使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个小灯泡都能亮，看看谁的方法多，将电路图画在记录单上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观察并思考不同的方法，效果有什么不同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34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434342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411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1402920" y="1341360"/>
            <a:ext cx="6338160" cy="3827880"/>
            <a:chOff x="1402920" y="1341360"/>
            <a:chExt cx="6338160" cy="3827880"/>
          </a:xfrm>
        </p:grpSpPr>
        <p:grpSp>
          <p:nvGrpSpPr>
            <p:cNvPr id="415" name="Group 8"/>
            <p:cNvGrpSpPr/>
            <p:nvPr/>
          </p:nvGrpSpPr>
          <p:grpSpPr>
            <a:xfrm>
              <a:off x="3367080" y="1341360"/>
              <a:ext cx="287640" cy="505080"/>
              <a:chOff x="3367080" y="1341360"/>
              <a:chExt cx="287640" cy="5050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367080" y="1341360"/>
                <a:ext cx="360" cy="505080"/>
                <a:chOff x="3367080" y="1341360"/>
                <a:chExt cx="360" cy="505080"/>
              </a:xfrm>
            </p:grpSpPr>
            <p:sp>
              <p:nvSpPr>
                <p:cNvPr id="417" name="Line 9"/>
                <p:cNvSpPr/>
                <p:nvPr/>
              </p:nvSpPr>
              <p:spPr>
                <a:xfrm>
                  <a:off x="3367080" y="134136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3367080" y="134136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654360" y="1341360"/>
                <a:ext cx="360" cy="505080"/>
                <a:chOff x="3654360" y="1341360"/>
                <a:chExt cx="360" cy="505080"/>
              </a:xfrm>
            </p:grpSpPr>
            <p:sp>
              <p:nvSpPr>
                <p:cNvPr id="420" name="Line 10"/>
                <p:cNvSpPr/>
                <p:nvPr/>
              </p:nvSpPr>
              <p:spPr>
                <a:xfrm>
                  <a:off x="3654360" y="134136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3654360" y="134136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367080" y="1341360"/>
                <a:ext cx="287280" cy="360"/>
                <a:chOff x="3367080" y="1341360"/>
                <a:chExt cx="287280" cy="360"/>
              </a:xfrm>
            </p:grpSpPr>
            <p:sp>
              <p:nvSpPr>
                <p:cNvPr id="423" name="Line 11"/>
                <p:cNvSpPr/>
                <p:nvPr/>
              </p:nvSpPr>
              <p:spPr>
                <a:xfrm>
                  <a:off x="3367080" y="1341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3367080" y="13413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2"/>
            <p:cNvGrpSpPr/>
            <p:nvPr/>
          </p:nvGrpSpPr>
          <p:grpSpPr>
            <a:xfrm>
              <a:off x="1402920" y="1855800"/>
              <a:ext cx="2161080" cy="3313440"/>
              <a:chOff x="1402920" y="1855800"/>
              <a:chExt cx="2161080" cy="3313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403280" y="5168880"/>
                <a:ext cx="2160720" cy="360"/>
                <a:chOff x="1403280" y="5168880"/>
                <a:chExt cx="2160720" cy="360"/>
              </a:xfrm>
            </p:grpSpPr>
            <p:sp>
              <p:nvSpPr>
                <p:cNvPr id="427" name="Line 13"/>
                <p:cNvSpPr/>
                <p:nvPr/>
              </p:nvSpPr>
              <p:spPr>
                <a:xfrm flipH="1">
                  <a:off x="1403280" y="5168880"/>
                  <a:ext cx="216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1403280" y="516888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402920" y="1855800"/>
                <a:ext cx="360" cy="3294000"/>
                <a:chOff x="1402920" y="1855800"/>
                <a:chExt cx="360" cy="3294000"/>
              </a:xfrm>
            </p:grpSpPr>
            <p:sp>
              <p:nvSpPr>
                <p:cNvPr id="430" name="Line 14"/>
                <p:cNvSpPr/>
                <p:nvPr/>
              </p:nvSpPr>
              <p:spPr>
                <a:xfrm flipV="1">
                  <a:off x="1403280" y="1855800"/>
                  <a:ext cx="0" cy="329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 rot="10800000">
                  <a:off x="1402920" y="1855800"/>
                  <a:ext cx="360" cy="32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Group 15"/>
            <p:cNvGrpSpPr/>
            <p:nvPr/>
          </p:nvGrpSpPr>
          <p:grpSpPr>
            <a:xfrm>
              <a:off x="5224320" y="1351080"/>
              <a:ext cx="287640" cy="504720"/>
              <a:chOff x="5224320" y="1351080"/>
              <a:chExt cx="287640" cy="504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224320" y="1351080"/>
                <a:ext cx="360" cy="504720"/>
                <a:chOff x="5224320" y="1351080"/>
                <a:chExt cx="360" cy="50472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224320" y="135108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>
                  <a:off x="5224320" y="135108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511600" y="1351080"/>
                <a:ext cx="360" cy="504720"/>
                <a:chOff x="5511600" y="1351080"/>
                <a:chExt cx="360" cy="504720"/>
              </a:xfrm>
            </p:grpSpPr>
            <p:sp>
              <p:nvSpPr>
                <p:cNvPr id="437" name="Line 17"/>
                <p:cNvSpPr/>
                <p:nvPr/>
              </p:nvSpPr>
              <p:spPr>
                <a:xfrm>
                  <a:off x="5511600" y="135108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5511600" y="135108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224320" y="1351080"/>
                <a:ext cx="287280" cy="360"/>
                <a:chOff x="5224320" y="1351080"/>
                <a:chExt cx="287280" cy="360"/>
              </a:xfrm>
            </p:grpSpPr>
            <p:sp>
              <p:nvSpPr>
                <p:cNvPr id="440" name="Line 18"/>
                <p:cNvSpPr/>
                <p:nvPr/>
              </p:nvSpPr>
              <p:spPr>
                <a:xfrm>
                  <a:off x="5224320" y="1351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 txBox="1"/>
                <p:nvPr/>
              </p:nvSpPr>
              <p:spPr>
                <a:xfrm>
                  <a:off x="5224320" y="135108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1403280" y="1855800"/>
              <a:ext cx="1944720" cy="360"/>
              <a:chOff x="1403280" y="1855800"/>
              <a:chExt cx="1944720" cy="360"/>
            </a:xfrm>
          </p:grpSpPr>
          <p:sp>
            <p:nvSpPr>
              <p:cNvPr id="443" name="Line 19"/>
              <p:cNvSpPr/>
              <p:nvPr/>
            </p:nvSpPr>
            <p:spPr>
              <a:xfrm>
                <a:off x="1403280" y="1855800"/>
                <a:ext cx="194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1403280" y="185580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635280" y="1855800"/>
              <a:ext cx="1584360" cy="360"/>
              <a:chOff x="3635280" y="1855800"/>
              <a:chExt cx="1584360" cy="360"/>
            </a:xfrm>
          </p:grpSpPr>
          <p:sp>
            <p:nvSpPr>
              <p:cNvPr id="446" name="Line 20"/>
              <p:cNvSpPr/>
              <p:nvPr/>
            </p:nvSpPr>
            <p:spPr>
              <a:xfrm>
                <a:off x="3635280" y="185580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635280" y="18558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508720" y="1855800"/>
              <a:ext cx="2232000" cy="360"/>
              <a:chOff x="5508720" y="1855800"/>
              <a:chExt cx="2232000" cy="360"/>
            </a:xfrm>
          </p:grpSpPr>
          <p:sp>
            <p:nvSpPr>
              <p:cNvPr id="449" name="Line 21"/>
              <p:cNvSpPr/>
              <p:nvPr/>
            </p:nvSpPr>
            <p:spPr>
              <a:xfrm>
                <a:off x="5508720" y="185580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5508720" y="1855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740720" y="1855800"/>
              <a:ext cx="360" cy="3313080"/>
              <a:chOff x="7740720" y="1855800"/>
              <a:chExt cx="360" cy="3313080"/>
            </a:xfrm>
          </p:grpSpPr>
          <p:sp>
            <p:nvSpPr>
              <p:cNvPr id="452" name="Line 22"/>
              <p:cNvSpPr/>
              <p:nvPr/>
            </p:nvSpPr>
            <p:spPr>
              <a:xfrm>
                <a:off x="7740720" y="185580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7740720" y="1855800"/>
                <a:ext cx="360" cy="33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364000" y="5168880"/>
              <a:ext cx="2376720" cy="360"/>
              <a:chOff x="5364000" y="5168880"/>
              <a:chExt cx="2376720" cy="360"/>
            </a:xfrm>
          </p:grpSpPr>
          <p:sp>
            <p:nvSpPr>
              <p:cNvPr id="455" name="Line 23"/>
              <p:cNvSpPr/>
              <p:nvPr/>
            </p:nvSpPr>
            <p:spPr>
              <a:xfrm>
                <a:off x="5364000" y="516888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5364000" y="5168880"/>
                <a:ext cx="23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7740720" y="1844640"/>
            <a:ext cx="360" cy="3313080"/>
            <a:chOff x="7740720" y="1844640"/>
            <a:chExt cx="360" cy="3313080"/>
          </a:xfrm>
        </p:grpSpPr>
        <p:sp>
          <p:nvSpPr>
            <p:cNvPr id="458" name="Line 24"/>
            <p:cNvSpPr/>
            <p:nvPr/>
          </p:nvSpPr>
          <p:spPr>
            <a:xfrm>
              <a:off x="7740720" y="1844640"/>
              <a:ext cx="0" cy="3313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7740720" y="184464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364000" y="5157720"/>
            <a:ext cx="2376720" cy="360"/>
            <a:chOff x="5364000" y="5157720"/>
            <a:chExt cx="2376720" cy="360"/>
          </a:xfrm>
        </p:grpSpPr>
        <p:sp>
          <p:nvSpPr>
            <p:cNvPr id="461" name="Line 25"/>
            <p:cNvSpPr/>
            <p:nvPr/>
          </p:nvSpPr>
          <p:spPr>
            <a:xfrm>
              <a:off x="5364000" y="5157720"/>
              <a:ext cx="237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5364000" y="515772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03280" y="5170320"/>
            <a:ext cx="2160720" cy="360"/>
            <a:chOff x="1403280" y="5170320"/>
            <a:chExt cx="2160720" cy="360"/>
          </a:xfrm>
        </p:grpSpPr>
        <p:sp>
          <p:nvSpPr>
            <p:cNvPr id="464" name="Line 26"/>
            <p:cNvSpPr/>
            <p:nvPr/>
          </p:nvSpPr>
          <p:spPr>
            <a:xfrm>
              <a:off x="1403280" y="5170320"/>
              <a:ext cx="2160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403280" y="517032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403280" y="1846440"/>
            <a:ext cx="360" cy="3350880"/>
            <a:chOff x="1403280" y="1846440"/>
            <a:chExt cx="360" cy="3350880"/>
          </a:xfrm>
        </p:grpSpPr>
        <p:sp>
          <p:nvSpPr>
            <p:cNvPr id="467" name="Line 27"/>
            <p:cNvSpPr/>
            <p:nvPr/>
          </p:nvSpPr>
          <p:spPr>
            <a:xfrm>
              <a:off x="1403280" y="1846440"/>
              <a:ext cx="0" cy="33508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403280" y="1846440"/>
              <a:ext cx="360" cy="33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grpSp>
          <p:nvGrpSpPr>
            <p:cNvPr id="470" name=""/>
            <p:cNvGrpSpPr/>
            <p:nvPr/>
          </p:nvGrpSpPr>
          <p:grpSpPr>
            <a:xfrm>
              <a:off x="1403280" y="1863720"/>
              <a:ext cx="1969920" cy="360"/>
              <a:chOff x="1403280" y="1863720"/>
              <a:chExt cx="1969920" cy="360"/>
            </a:xfrm>
          </p:grpSpPr>
          <p:sp>
            <p:nvSpPr>
              <p:cNvPr id="471" name="Line 29"/>
              <p:cNvSpPr/>
              <p:nvPr/>
            </p:nvSpPr>
            <p:spPr>
              <a:xfrm>
                <a:off x="1403280" y="1863720"/>
                <a:ext cx="19699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1403280" y="1863720"/>
                <a:ext cx="196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670200" y="1870200"/>
              <a:ext cx="1584360" cy="360"/>
              <a:chOff x="3670200" y="1870200"/>
              <a:chExt cx="1584360" cy="360"/>
            </a:xfrm>
          </p:grpSpPr>
          <p:sp>
            <p:nvSpPr>
              <p:cNvPr id="474" name="Line 30"/>
              <p:cNvSpPr/>
              <p:nvPr/>
            </p:nvSpPr>
            <p:spPr>
              <a:xfrm>
                <a:off x="3670200" y="1870200"/>
                <a:ext cx="1584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670200" y="18702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518080" y="1876320"/>
              <a:ext cx="2266920" cy="360"/>
              <a:chOff x="5518080" y="1876320"/>
              <a:chExt cx="2266920" cy="360"/>
            </a:xfrm>
          </p:grpSpPr>
          <p:sp>
            <p:nvSpPr>
              <p:cNvPr id="477" name="Line 31"/>
              <p:cNvSpPr/>
              <p:nvPr/>
            </p:nvSpPr>
            <p:spPr>
              <a:xfrm>
                <a:off x="5518080" y="1876320"/>
                <a:ext cx="22669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5518080" y="1876320"/>
                <a:ext cx="22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"/>
            <p:cNvGrpSpPr/>
            <p:nvPr/>
          </p:nvGrpSpPr>
          <p:grpSpPr>
            <a:xfrm>
              <a:off x="3373200" y="1341360"/>
              <a:ext cx="306720" cy="546120"/>
              <a:chOff x="3373200" y="1341360"/>
              <a:chExt cx="306720" cy="5461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679560" y="1341360"/>
                <a:ext cx="360" cy="540000"/>
                <a:chOff x="3679560" y="1341360"/>
                <a:chExt cx="360" cy="540000"/>
              </a:xfrm>
            </p:grpSpPr>
            <p:sp>
              <p:nvSpPr>
                <p:cNvPr id="481" name="Line 33"/>
                <p:cNvSpPr/>
                <p:nvPr/>
              </p:nvSpPr>
              <p:spPr>
                <a:xfrm>
                  <a:off x="3679560" y="1341360"/>
                  <a:ext cx="0" cy="540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3679560" y="1341360"/>
                  <a:ext cx="36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373200" y="1360440"/>
                <a:ext cx="287280" cy="360"/>
                <a:chOff x="3373200" y="1360440"/>
                <a:chExt cx="287280" cy="360"/>
              </a:xfrm>
            </p:grpSpPr>
            <p:sp>
              <p:nvSpPr>
                <p:cNvPr id="484" name="Line 34"/>
                <p:cNvSpPr/>
                <p:nvPr/>
              </p:nvSpPr>
              <p:spPr>
                <a:xfrm>
                  <a:off x="3373200" y="1360440"/>
                  <a:ext cx="28728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>
                  <a:off x="3373200" y="13604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385800" y="1347840"/>
                <a:ext cx="360" cy="539640"/>
                <a:chOff x="3385800" y="1347840"/>
                <a:chExt cx="360" cy="539640"/>
              </a:xfrm>
            </p:grpSpPr>
            <p:sp>
              <p:nvSpPr>
                <p:cNvPr id="487" name="Line 35"/>
                <p:cNvSpPr/>
                <p:nvPr/>
              </p:nvSpPr>
              <p:spPr>
                <a:xfrm>
                  <a:off x="3385800" y="1347840"/>
                  <a:ext cx="0" cy="539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3385800" y="13478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Group 36"/>
            <p:cNvGrpSpPr/>
            <p:nvPr/>
          </p:nvGrpSpPr>
          <p:grpSpPr>
            <a:xfrm>
              <a:off x="5232240" y="1347840"/>
              <a:ext cx="306720" cy="546120"/>
              <a:chOff x="5232240" y="1347840"/>
              <a:chExt cx="306720" cy="5461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538600" y="1347840"/>
                <a:ext cx="360" cy="540000"/>
                <a:chOff x="5538600" y="1347840"/>
                <a:chExt cx="360" cy="540000"/>
              </a:xfrm>
            </p:grpSpPr>
            <p:sp>
              <p:nvSpPr>
                <p:cNvPr id="491" name="Line 37"/>
                <p:cNvSpPr/>
                <p:nvPr/>
              </p:nvSpPr>
              <p:spPr>
                <a:xfrm>
                  <a:off x="5538600" y="1347840"/>
                  <a:ext cx="0" cy="540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 txBox="1"/>
                <p:nvPr/>
              </p:nvSpPr>
              <p:spPr>
                <a:xfrm>
                  <a:off x="5538600" y="1347840"/>
                  <a:ext cx="36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5232240" y="1366920"/>
                <a:ext cx="287280" cy="360"/>
                <a:chOff x="5232240" y="1366920"/>
                <a:chExt cx="287280" cy="360"/>
              </a:xfrm>
            </p:grpSpPr>
            <p:sp>
              <p:nvSpPr>
                <p:cNvPr id="494" name="Line 38"/>
                <p:cNvSpPr/>
                <p:nvPr/>
              </p:nvSpPr>
              <p:spPr>
                <a:xfrm>
                  <a:off x="5232240" y="1366920"/>
                  <a:ext cx="28728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 txBox="1"/>
                <p:nvPr/>
              </p:nvSpPr>
              <p:spPr>
                <a:xfrm>
                  <a:off x="5232240" y="13669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5244840" y="1354320"/>
                <a:ext cx="360" cy="539640"/>
                <a:chOff x="5244840" y="1354320"/>
                <a:chExt cx="360" cy="539640"/>
              </a:xfrm>
            </p:grpSpPr>
            <p:sp>
              <p:nvSpPr>
                <p:cNvPr id="497" name="Line 39"/>
                <p:cNvSpPr/>
                <p:nvPr/>
              </p:nvSpPr>
              <p:spPr>
                <a:xfrm>
                  <a:off x="5244840" y="1354320"/>
                  <a:ext cx="0" cy="539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 txBox="1"/>
                <p:nvPr/>
              </p:nvSpPr>
              <p:spPr>
                <a:xfrm>
                  <a:off x="5244840" y="135432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8199"/>
          <p:cNvSpPr/>
          <p:nvPr/>
        </p:nvSpPr>
        <p:spPr>
          <a:xfrm>
            <a:off x="2484360" y="233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501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618920" y="1198440"/>
            <a:ext cx="6338160" cy="3816720"/>
            <a:chOff x="1618920" y="1198440"/>
            <a:chExt cx="6338160" cy="3816720"/>
          </a:xfrm>
        </p:grpSpPr>
        <p:grpSp>
          <p:nvGrpSpPr>
            <p:cNvPr id="506" name="Group 3"/>
            <p:cNvGrpSpPr/>
            <p:nvPr/>
          </p:nvGrpSpPr>
          <p:grpSpPr>
            <a:xfrm>
              <a:off x="4427640" y="1198440"/>
              <a:ext cx="287640" cy="505080"/>
              <a:chOff x="4427640" y="1198440"/>
              <a:chExt cx="287640" cy="50508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4427640" y="1198440"/>
                <a:ext cx="360" cy="505080"/>
                <a:chOff x="4427640" y="1198440"/>
                <a:chExt cx="360" cy="505080"/>
              </a:xfrm>
            </p:grpSpPr>
            <p:sp>
              <p:nvSpPr>
                <p:cNvPr id="508" name="Line 4"/>
                <p:cNvSpPr/>
                <p:nvPr/>
              </p:nvSpPr>
              <p:spPr>
                <a:xfrm>
                  <a:off x="4427640" y="119844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>
                  <a:off x="4427640" y="119844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714920" y="1198440"/>
                <a:ext cx="360" cy="505080"/>
                <a:chOff x="4714920" y="1198440"/>
                <a:chExt cx="360" cy="505080"/>
              </a:xfrm>
            </p:grpSpPr>
            <p:sp>
              <p:nvSpPr>
                <p:cNvPr id="511" name="Line 5"/>
                <p:cNvSpPr/>
                <p:nvPr/>
              </p:nvSpPr>
              <p:spPr>
                <a:xfrm>
                  <a:off x="4714920" y="119844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>
                  <a:off x="4714920" y="119844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427640" y="1198440"/>
                <a:ext cx="287280" cy="360"/>
                <a:chOff x="4427640" y="1198440"/>
                <a:chExt cx="287280" cy="360"/>
              </a:xfrm>
            </p:grpSpPr>
            <p:sp>
              <p:nvSpPr>
                <p:cNvPr id="514" name="Line 6"/>
                <p:cNvSpPr/>
                <p:nvPr/>
              </p:nvSpPr>
              <p:spPr>
                <a:xfrm>
                  <a:off x="4427640" y="119844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>
                  <a:off x="4427640" y="11984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7"/>
            <p:cNvGrpSpPr/>
            <p:nvPr/>
          </p:nvGrpSpPr>
          <p:grpSpPr>
            <a:xfrm>
              <a:off x="1618920" y="1701720"/>
              <a:ext cx="2161080" cy="3313440"/>
              <a:chOff x="1618920" y="1701720"/>
              <a:chExt cx="2161080" cy="33134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1619280" y="5014800"/>
                <a:ext cx="2160720" cy="360"/>
                <a:chOff x="1619280" y="5014800"/>
                <a:chExt cx="2160720" cy="360"/>
              </a:xfrm>
            </p:grpSpPr>
            <p:sp>
              <p:nvSpPr>
                <p:cNvPr id="518" name="Line 8"/>
                <p:cNvSpPr/>
                <p:nvPr/>
              </p:nvSpPr>
              <p:spPr>
                <a:xfrm flipH="1">
                  <a:off x="1619280" y="5014800"/>
                  <a:ext cx="216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 txBox="1"/>
                <p:nvPr/>
              </p:nvSpPr>
              <p:spPr>
                <a:xfrm>
                  <a:off x="1619280" y="501480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1618920" y="1701720"/>
                <a:ext cx="360" cy="3294000"/>
                <a:chOff x="1618920" y="1701720"/>
                <a:chExt cx="360" cy="3294000"/>
              </a:xfrm>
            </p:grpSpPr>
            <p:sp>
              <p:nvSpPr>
                <p:cNvPr id="521" name="Line 9"/>
                <p:cNvSpPr/>
                <p:nvPr/>
              </p:nvSpPr>
              <p:spPr>
                <a:xfrm flipV="1">
                  <a:off x="1619280" y="1701720"/>
                  <a:ext cx="0" cy="329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 txBox="1"/>
                <p:nvPr/>
              </p:nvSpPr>
              <p:spPr>
                <a:xfrm rot="10800000">
                  <a:off x="1618920" y="1701720"/>
                  <a:ext cx="360" cy="32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10"/>
            <p:cNvGrpSpPr/>
            <p:nvPr/>
          </p:nvGrpSpPr>
          <p:grpSpPr>
            <a:xfrm>
              <a:off x="4427640" y="2998800"/>
              <a:ext cx="287640" cy="504720"/>
              <a:chOff x="4427640" y="2998800"/>
              <a:chExt cx="287640" cy="5047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427640" y="2998800"/>
                <a:ext cx="360" cy="504720"/>
                <a:chOff x="4427640" y="2998800"/>
                <a:chExt cx="360" cy="504720"/>
              </a:xfrm>
            </p:grpSpPr>
            <p:sp>
              <p:nvSpPr>
                <p:cNvPr id="525" name="Line 11"/>
                <p:cNvSpPr/>
                <p:nvPr/>
              </p:nvSpPr>
              <p:spPr>
                <a:xfrm>
                  <a:off x="4427640" y="299880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>
                  <a:off x="4427640" y="299880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714920" y="2998800"/>
                <a:ext cx="360" cy="504720"/>
                <a:chOff x="4714920" y="2998800"/>
                <a:chExt cx="360" cy="504720"/>
              </a:xfrm>
            </p:grpSpPr>
            <p:sp>
              <p:nvSpPr>
                <p:cNvPr id="528" name="Line 12"/>
                <p:cNvSpPr/>
                <p:nvPr/>
              </p:nvSpPr>
              <p:spPr>
                <a:xfrm>
                  <a:off x="4714920" y="299880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4714920" y="299880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427640" y="2998800"/>
                <a:ext cx="287280" cy="360"/>
                <a:chOff x="4427640" y="2998800"/>
                <a:chExt cx="287280" cy="360"/>
              </a:xfrm>
            </p:grpSpPr>
            <p:sp>
              <p:nvSpPr>
                <p:cNvPr id="531" name="Line 13"/>
                <p:cNvSpPr/>
                <p:nvPr/>
              </p:nvSpPr>
              <p:spPr>
                <a:xfrm>
                  <a:off x="4427640" y="299880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4427640" y="29988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Group 14"/>
            <p:cNvGrpSpPr/>
            <p:nvPr/>
          </p:nvGrpSpPr>
          <p:grpSpPr>
            <a:xfrm>
              <a:off x="1619280" y="1701720"/>
              <a:ext cx="6337800" cy="3313440"/>
              <a:chOff x="1619280" y="1701720"/>
              <a:chExt cx="6337800" cy="33134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619280" y="1701720"/>
                <a:ext cx="2808360" cy="360"/>
                <a:chOff x="1619280" y="1701720"/>
                <a:chExt cx="2808360" cy="360"/>
              </a:xfrm>
            </p:grpSpPr>
            <p:sp>
              <p:nvSpPr>
                <p:cNvPr id="535" name="Line 15"/>
                <p:cNvSpPr/>
                <p:nvPr/>
              </p:nvSpPr>
              <p:spPr>
                <a:xfrm>
                  <a:off x="1619280" y="1701720"/>
                  <a:ext cx="280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 txBox="1"/>
                <p:nvPr/>
              </p:nvSpPr>
              <p:spPr>
                <a:xfrm>
                  <a:off x="1619280" y="1701720"/>
                  <a:ext cx="2808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7956720" y="1701720"/>
                <a:ext cx="360" cy="3313080"/>
                <a:chOff x="7956720" y="1701720"/>
                <a:chExt cx="360" cy="3313080"/>
              </a:xfrm>
            </p:grpSpPr>
            <p:sp>
              <p:nvSpPr>
                <p:cNvPr id="538" name="Line 16"/>
                <p:cNvSpPr/>
                <p:nvPr/>
              </p:nvSpPr>
              <p:spPr>
                <a:xfrm>
                  <a:off x="7956720" y="1701720"/>
                  <a:ext cx="0" cy="331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>
                  <a:off x="7956720" y="1701720"/>
                  <a:ext cx="360" cy="33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580000" y="5014800"/>
                <a:ext cx="2376720" cy="360"/>
                <a:chOff x="5580000" y="5014800"/>
                <a:chExt cx="2376720" cy="360"/>
              </a:xfrm>
            </p:grpSpPr>
            <p:sp>
              <p:nvSpPr>
                <p:cNvPr id="541" name="Line 17"/>
                <p:cNvSpPr/>
                <p:nvPr/>
              </p:nvSpPr>
              <p:spPr>
                <a:xfrm>
                  <a:off x="5580000" y="5014800"/>
                  <a:ext cx="2376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>
                  <a:off x="5580000" y="5014800"/>
                  <a:ext cx="2376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1619280" y="3502080"/>
              <a:ext cx="2808360" cy="360"/>
              <a:chOff x="1619280" y="3502080"/>
              <a:chExt cx="2808360" cy="360"/>
            </a:xfrm>
          </p:grpSpPr>
          <p:sp>
            <p:nvSpPr>
              <p:cNvPr id="544" name="Line 18"/>
              <p:cNvSpPr/>
              <p:nvPr/>
            </p:nvSpPr>
            <p:spPr>
              <a:xfrm>
                <a:off x="1619280" y="350208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1619280" y="350208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716720" y="3502080"/>
              <a:ext cx="3240000" cy="360"/>
              <a:chOff x="4716720" y="3502080"/>
              <a:chExt cx="3240000" cy="360"/>
            </a:xfrm>
          </p:grpSpPr>
          <p:sp>
            <p:nvSpPr>
              <p:cNvPr id="547" name="Line 19"/>
              <p:cNvSpPr/>
              <p:nvPr/>
            </p:nvSpPr>
            <p:spPr>
              <a:xfrm>
                <a:off x="4716720" y="3502080"/>
                <a:ext cx="32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4716720" y="35020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551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716360" y="1701720"/>
            <a:ext cx="3240360" cy="360"/>
            <a:chOff x="4716360" y="1701720"/>
            <a:chExt cx="3240360" cy="360"/>
          </a:xfrm>
        </p:grpSpPr>
        <p:sp>
          <p:nvSpPr>
            <p:cNvPr id="555" name="Line 25"/>
            <p:cNvSpPr/>
            <p:nvPr/>
          </p:nvSpPr>
          <p:spPr>
            <a:xfrm>
              <a:off x="4716360" y="1701720"/>
              <a:ext cx="324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4716360" y="1701720"/>
              <a:ext cx="32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956720" y="3502080"/>
            <a:ext cx="360" cy="1512720"/>
            <a:chOff x="7956720" y="3502080"/>
            <a:chExt cx="360" cy="1512720"/>
          </a:xfrm>
        </p:grpSpPr>
        <p:sp>
          <p:nvSpPr>
            <p:cNvPr id="558" name="Line 26"/>
            <p:cNvSpPr/>
            <p:nvPr/>
          </p:nvSpPr>
          <p:spPr>
            <a:xfrm>
              <a:off x="7956720" y="3502080"/>
              <a:ext cx="0" cy="1512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7956720" y="3502080"/>
              <a:ext cx="36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580000" y="5014800"/>
            <a:ext cx="2376720" cy="360"/>
            <a:chOff x="5580000" y="5014800"/>
            <a:chExt cx="2376720" cy="360"/>
          </a:xfrm>
        </p:grpSpPr>
        <p:sp>
          <p:nvSpPr>
            <p:cNvPr id="561" name="Line 27"/>
            <p:cNvSpPr/>
            <p:nvPr/>
          </p:nvSpPr>
          <p:spPr>
            <a:xfrm>
              <a:off x="5580000" y="5014800"/>
              <a:ext cx="237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5580000" y="501480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8"/>
          <p:cNvGrpSpPr/>
          <p:nvPr/>
        </p:nvGrpSpPr>
        <p:grpSpPr>
          <a:xfrm>
            <a:off x="1619280" y="2998800"/>
            <a:ext cx="4537080" cy="503640"/>
            <a:chOff x="1619280" y="2998800"/>
            <a:chExt cx="4537080" cy="503640"/>
          </a:xfrm>
        </p:grpSpPr>
        <p:grpSp>
          <p:nvGrpSpPr>
            <p:cNvPr id="564" name=""/>
            <p:cNvGrpSpPr/>
            <p:nvPr/>
          </p:nvGrpSpPr>
          <p:grpSpPr>
            <a:xfrm>
              <a:off x="4716720" y="3502080"/>
              <a:ext cx="1439640" cy="360"/>
              <a:chOff x="4716720" y="3502080"/>
              <a:chExt cx="1439640" cy="360"/>
            </a:xfrm>
          </p:grpSpPr>
          <p:sp>
            <p:nvSpPr>
              <p:cNvPr id="565" name="Line 29"/>
              <p:cNvSpPr/>
              <p:nvPr/>
            </p:nvSpPr>
            <p:spPr>
              <a:xfrm>
                <a:off x="4716720" y="3502080"/>
                <a:ext cx="143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4716720" y="350208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427640" y="2998800"/>
              <a:ext cx="289080" cy="360"/>
              <a:chOff x="4427640" y="2998800"/>
              <a:chExt cx="289080" cy="360"/>
            </a:xfrm>
          </p:grpSpPr>
          <p:sp>
            <p:nvSpPr>
              <p:cNvPr id="568" name="Line 30"/>
              <p:cNvSpPr/>
              <p:nvPr/>
            </p:nvSpPr>
            <p:spPr>
              <a:xfrm>
                <a:off x="4427640" y="2998800"/>
                <a:ext cx="2890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4427640" y="299880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716720" y="2998800"/>
              <a:ext cx="360" cy="503280"/>
              <a:chOff x="4716720" y="2998800"/>
              <a:chExt cx="360" cy="503280"/>
            </a:xfrm>
          </p:grpSpPr>
          <p:sp>
            <p:nvSpPr>
              <p:cNvPr id="571" name="Line 31"/>
              <p:cNvSpPr/>
              <p:nvPr/>
            </p:nvSpPr>
            <p:spPr>
              <a:xfrm>
                <a:off x="4716720" y="299880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716720" y="299880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427640" y="2998800"/>
              <a:ext cx="360" cy="503280"/>
              <a:chOff x="4427640" y="2998800"/>
              <a:chExt cx="360" cy="503280"/>
            </a:xfrm>
          </p:grpSpPr>
          <p:sp>
            <p:nvSpPr>
              <p:cNvPr id="574" name="Line 32"/>
              <p:cNvSpPr/>
              <p:nvPr/>
            </p:nvSpPr>
            <p:spPr>
              <a:xfrm>
                <a:off x="4427640" y="299880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4427640" y="299880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1619280" y="3502080"/>
              <a:ext cx="2808360" cy="360"/>
              <a:chOff x="1619280" y="3502080"/>
              <a:chExt cx="2808360" cy="360"/>
            </a:xfrm>
          </p:grpSpPr>
          <p:sp>
            <p:nvSpPr>
              <p:cNvPr id="577" name="Line 33"/>
              <p:cNvSpPr/>
              <p:nvPr/>
            </p:nvSpPr>
            <p:spPr>
              <a:xfrm>
                <a:off x="1619280" y="3502080"/>
                <a:ext cx="2808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1619280" y="350208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7956720" y="1701720"/>
            <a:ext cx="360" cy="1801800"/>
            <a:chOff x="7956720" y="1701720"/>
            <a:chExt cx="360" cy="1801800"/>
          </a:xfrm>
        </p:grpSpPr>
        <p:sp>
          <p:nvSpPr>
            <p:cNvPr id="580" name="Line 34"/>
            <p:cNvSpPr/>
            <p:nvPr/>
          </p:nvSpPr>
          <p:spPr>
            <a:xfrm>
              <a:off x="795672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7956720" y="1701720"/>
              <a:ext cx="360" cy="18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grpSp>
          <p:nvGrpSpPr>
            <p:cNvPr id="583" name=""/>
            <p:cNvGrpSpPr/>
            <p:nvPr/>
          </p:nvGrpSpPr>
          <p:grpSpPr>
            <a:xfrm>
              <a:off x="4716720" y="1198440"/>
              <a:ext cx="360" cy="503280"/>
              <a:chOff x="4716720" y="1198440"/>
              <a:chExt cx="360" cy="503280"/>
            </a:xfrm>
          </p:grpSpPr>
          <p:sp>
            <p:nvSpPr>
              <p:cNvPr id="584" name="Line 36"/>
              <p:cNvSpPr/>
              <p:nvPr/>
            </p:nvSpPr>
            <p:spPr>
              <a:xfrm>
                <a:off x="4716720" y="119844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>
                <a:off x="4716720" y="119844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716720" y="1701720"/>
              <a:ext cx="3240000" cy="360"/>
              <a:chOff x="4716720" y="1701720"/>
              <a:chExt cx="3240000" cy="360"/>
            </a:xfrm>
          </p:grpSpPr>
          <p:sp>
            <p:nvSpPr>
              <p:cNvPr id="587" name="Line 37"/>
              <p:cNvSpPr/>
              <p:nvPr/>
            </p:nvSpPr>
            <p:spPr>
              <a:xfrm>
                <a:off x="4716720" y="1701720"/>
                <a:ext cx="32400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4716720" y="170172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427640" y="1198440"/>
              <a:ext cx="289080" cy="360"/>
              <a:chOff x="4427640" y="1198440"/>
              <a:chExt cx="289080" cy="360"/>
            </a:xfrm>
          </p:grpSpPr>
          <p:sp>
            <p:nvSpPr>
              <p:cNvPr id="590" name="Line 38"/>
              <p:cNvSpPr/>
              <p:nvPr/>
            </p:nvSpPr>
            <p:spPr>
              <a:xfrm>
                <a:off x="4427640" y="1198440"/>
                <a:ext cx="2890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427640" y="119844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427640" y="1198440"/>
              <a:ext cx="360" cy="503280"/>
              <a:chOff x="4427640" y="1198440"/>
              <a:chExt cx="360" cy="503280"/>
            </a:xfrm>
          </p:grpSpPr>
          <p:sp>
            <p:nvSpPr>
              <p:cNvPr id="593" name="Line 39"/>
              <p:cNvSpPr/>
              <p:nvPr/>
            </p:nvSpPr>
            <p:spPr>
              <a:xfrm>
                <a:off x="4427640" y="119844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427640" y="119844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619280" y="1701720"/>
              <a:ext cx="360" cy="1801800"/>
              <a:chOff x="1619280" y="1701720"/>
              <a:chExt cx="360" cy="1801800"/>
            </a:xfrm>
          </p:grpSpPr>
          <p:sp>
            <p:nvSpPr>
              <p:cNvPr id="596" name="Line 40"/>
              <p:cNvSpPr/>
              <p:nvPr/>
            </p:nvSpPr>
            <p:spPr>
              <a:xfrm>
                <a:off x="1619280" y="1701720"/>
                <a:ext cx="0" cy="180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1619280" y="1701720"/>
                <a:ext cx="360" cy="180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619280" y="1701720"/>
              <a:ext cx="2808360" cy="360"/>
              <a:chOff x="1619280" y="1701720"/>
              <a:chExt cx="2808360" cy="360"/>
            </a:xfrm>
          </p:grpSpPr>
          <p:sp>
            <p:nvSpPr>
              <p:cNvPr id="599" name="Line 41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619280" y="170172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6083280" y="3502080"/>
            <a:ext cx="1873440" cy="1440"/>
            <a:chOff x="6083280" y="3502080"/>
            <a:chExt cx="1873440" cy="1440"/>
          </a:xfrm>
        </p:grpSpPr>
        <p:sp>
          <p:nvSpPr>
            <p:cNvPr id="602" name="Line 42"/>
            <p:cNvSpPr/>
            <p:nvPr/>
          </p:nvSpPr>
          <p:spPr>
            <a:xfrm>
              <a:off x="6083280" y="3502080"/>
              <a:ext cx="1873440" cy="1440"/>
            </a:xfrm>
            <a:prstGeom prst="line">
              <a:avLst/>
            </a:prstGeom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6083280" y="3502080"/>
              <a:ext cx="1873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619280" y="3502080"/>
            <a:ext cx="360" cy="1512720"/>
            <a:chOff x="1619280" y="3502080"/>
            <a:chExt cx="360" cy="1512720"/>
          </a:xfrm>
        </p:grpSpPr>
        <p:sp>
          <p:nvSpPr>
            <p:cNvPr id="605" name="Line 43"/>
            <p:cNvSpPr/>
            <p:nvPr/>
          </p:nvSpPr>
          <p:spPr>
            <a:xfrm>
              <a:off x="1619280" y="3502080"/>
              <a:ext cx="0" cy="1512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1619280" y="3502080"/>
              <a:ext cx="36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619280" y="5014800"/>
            <a:ext cx="2160720" cy="360"/>
            <a:chOff x="1619280" y="5014800"/>
            <a:chExt cx="2160720" cy="360"/>
          </a:xfrm>
        </p:grpSpPr>
        <p:sp>
          <p:nvSpPr>
            <p:cNvPr id="608" name="Line 44"/>
            <p:cNvSpPr/>
            <p:nvPr/>
          </p:nvSpPr>
          <p:spPr>
            <a:xfrm>
              <a:off x="1619280" y="5014800"/>
              <a:ext cx="2160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619280" y="50148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34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434342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197F-E60A-4230-8F57-2A77DC205B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262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270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271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5f5f5f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4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5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279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f5f5f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3573360"/>
          <a:ext cx="8229600" cy="2016000"/>
        </p:xfrm>
        <a:graphic>
          <a:graphicData uri="http://schemas.openxmlformats.org/drawingml/2006/table">
            <a:tbl>
              <a:tblPr/>
              <a:tblGrid>
                <a:gridCol w="1090440"/>
                <a:gridCol w="122400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grpSp>
          <p:nvGrpSpPr>
            <p:cNvPr id="294" name=""/>
            <p:cNvGrpSpPr/>
            <p:nvPr/>
          </p:nvGrpSpPr>
          <p:grpSpPr>
            <a:xfrm>
              <a:off x="1906560" y="5230800"/>
              <a:ext cx="144360" cy="216000"/>
              <a:chOff x="1906560" y="5230800"/>
              <a:chExt cx="144360" cy="216000"/>
            </a:xfrm>
          </p:grpSpPr>
          <p:sp>
            <p:nvSpPr>
              <p:cNvPr id="295" name="Line 70"/>
              <p:cNvSpPr/>
              <p:nvPr/>
            </p:nvSpPr>
            <p:spPr>
              <a:xfrm>
                <a:off x="190656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90656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018880" y="5086440"/>
              <a:ext cx="484560" cy="349200"/>
              <a:chOff x="2018880" y="5086440"/>
              <a:chExt cx="484560" cy="349200"/>
            </a:xfrm>
          </p:grpSpPr>
          <p:sp>
            <p:nvSpPr>
              <p:cNvPr id="298" name="Line 71"/>
              <p:cNvSpPr/>
              <p:nvPr/>
            </p:nvSpPr>
            <p:spPr>
              <a:xfrm flipV="1">
                <a:off x="201924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201888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grpSp>
          <p:nvGrpSpPr>
            <p:cNvPr id="301" name=""/>
            <p:cNvGrpSpPr/>
            <p:nvPr/>
          </p:nvGrpSpPr>
          <p:grpSpPr>
            <a:xfrm>
              <a:off x="3130560" y="5230800"/>
              <a:ext cx="144360" cy="216000"/>
              <a:chOff x="3130560" y="5230800"/>
              <a:chExt cx="144360" cy="216000"/>
            </a:xfrm>
          </p:grpSpPr>
          <p:sp>
            <p:nvSpPr>
              <p:cNvPr id="302" name="Line 73"/>
              <p:cNvSpPr/>
              <p:nvPr/>
            </p:nvSpPr>
            <p:spPr>
              <a:xfrm>
                <a:off x="313056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313056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42880" y="5086440"/>
              <a:ext cx="484560" cy="349200"/>
              <a:chOff x="3242880" y="5086440"/>
              <a:chExt cx="484560" cy="349200"/>
            </a:xfrm>
          </p:grpSpPr>
          <p:sp>
            <p:nvSpPr>
              <p:cNvPr id="305" name="Line 74"/>
              <p:cNvSpPr/>
              <p:nvPr/>
            </p:nvSpPr>
            <p:spPr>
              <a:xfrm flipV="1">
                <a:off x="324324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10800000">
                <a:off x="324288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grpSp>
          <p:nvGrpSpPr>
            <p:cNvPr id="308" name=""/>
            <p:cNvGrpSpPr/>
            <p:nvPr/>
          </p:nvGrpSpPr>
          <p:grpSpPr>
            <a:xfrm>
              <a:off x="4282920" y="4581360"/>
              <a:ext cx="144360" cy="216000"/>
              <a:chOff x="4282920" y="4581360"/>
              <a:chExt cx="144360" cy="216000"/>
            </a:xfrm>
          </p:grpSpPr>
          <p:sp>
            <p:nvSpPr>
              <p:cNvPr id="309" name="Line 76"/>
              <p:cNvSpPr/>
              <p:nvPr/>
            </p:nvSpPr>
            <p:spPr>
              <a:xfrm>
                <a:off x="4282920" y="4581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4282920" y="4581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395240" y="4437000"/>
              <a:ext cx="484560" cy="349200"/>
              <a:chOff x="4395240" y="4437000"/>
              <a:chExt cx="484560" cy="349200"/>
            </a:xfrm>
          </p:grpSpPr>
          <p:sp>
            <p:nvSpPr>
              <p:cNvPr id="312" name="Line 77"/>
              <p:cNvSpPr/>
              <p:nvPr/>
            </p:nvSpPr>
            <p:spPr>
              <a:xfrm flipV="1">
                <a:off x="4395600" y="4437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 rot="10800000">
                <a:off x="4395240" y="4437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grpSp>
          <p:nvGrpSpPr>
            <p:cNvPr id="315" name=""/>
            <p:cNvGrpSpPr/>
            <p:nvPr/>
          </p:nvGrpSpPr>
          <p:grpSpPr>
            <a:xfrm>
              <a:off x="5506920" y="5230800"/>
              <a:ext cx="144360" cy="216000"/>
              <a:chOff x="5506920" y="5230800"/>
              <a:chExt cx="144360" cy="216000"/>
            </a:xfrm>
          </p:grpSpPr>
          <p:sp>
            <p:nvSpPr>
              <p:cNvPr id="316" name="Line 79"/>
              <p:cNvSpPr/>
              <p:nvPr/>
            </p:nvSpPr>
            <p:spPr>
              <a:xfrm>
                <a:off x="550692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550692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619240" y="5086440"/>
              <a:ext cx="484560" cy="349200"/>
              <a:chOff x="5619240" y="5086440"/>
              <a:chExt cx="484560" cy="349200"/>
            </a:xfrm>
          </p:grpSpPr>
          <p:sp>
            <p:nvSpPr>
              <p:cNvPr id="319" name="Line 80"/>
              <p:cNvSpPr/>
              <p:nvPr/>
            </p:nvSpPr>
            <p:spPr>
              <a:xfrm flipV="1">
                <a:off x="561960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 rot="10800000">
                <a:off x="561924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grpSp>
          <p:nvGrpSpPr>
            <p:cNvPr id="322" name=""/>
            <p:cNvGrpSpPr/>
            <p:nvPr/>
          </p:nvGrpSpPr>
          <p:grpSpPr>
            <a:xfrm>
              <a:off x="6659640" y="5230800"/>
              <a:ext cx="144360" cy="216000"/>
              <a:chOff x="6659640" y="5230800"/>
              <a:chExt cx="144360" cy="216000"/>
            </a:xfrm>
          </p:grpSpPr>
          <p:sp>
            <p:nvSpPr>
              <p:cNvPr id="323" name="Line 82"/>
              <p:cNvSpPr/>
              <p:nvPr/>
            </p:nvSpPr>
            <p:spPr>
              <a:xfrm>
                <a:off x="665964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65964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771960" y="5086440"/>
              <a:ext cx="484560" cy="349200"/>
              <a:chOff x="6771960" y="5086440"/>
              <a:chExt cx="484560" cy="349200"/>
            </a:xfrm>
          </p:grpSpPr>
          <p:sp>
            <p:nvSpPr>
              <p:cNvPr id="326" name="Line 83"/>
              <p:cNvSpPr/>
              <p:nvPr/>
            </p:nvSpPr>
            <p:spPr>
              <a:xfrm flipV="1">
                <a:off x="677232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 rot="10800000">
                <a:off x="677196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grpSp>
          <p:nvGrpSpPr>
            <p:cNvPr id="329" name=""/>
            <p:cNvGrpSpPr/>
            <p:nvPr/>
          </p:nvGrpSpPr>
          <p:grpSpPr>
            <a:xfrm>
              <a:off x="7883640" y="5230800"/>
              <a:ext cx="144360" cy="216000"/>
              <a:chOff x="7883640" y="5230800"/>
              <a:chExt cx="144360" cy="216000"/>
            </a:xfrm>
          </p:grpSpPr>
          <p:sp>
            <p:nvSpPr>
              <p:cNvPr id="330" name="Line 85"/>
              <p:cNvSpPr/>
              <p:nvPr/>
            </p:nvSpPr>
            <p:spPr>
              <a:xfrm>
                <a:off x="788364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>
                <a:off x="788364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995960" y="5086440"/>
              <a:ext cx="484560" cy="349200"/>
              <a:chOff x="7995960" y="5086440"/>
              <a:chExt cx="484560" cy="349200"/>
            </a:xfrm>
          </p:grpSpPr>
          <p:sp>
            <p:nvSpPr>
              <p:cNvPr id="333" name="Line 86"/>
              <p:cNvSpPr/>
              <p:nvPr/>
            </p:nvSpPr>
            <p:spPr>
              <a:xfrm flipV="1">
                <a:off x="799632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799596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11280" y="2708280"/>
            <a:ext cx="3889440" cy="3097080"/>
            <a:chOff x="2411280" y="2708280"/>
            <a:chExt cx="3889440" cy="3097080"/>
          </a:xfrm>
        </p:grpSpPr>
        <p:sp>
          <p:nvSpPr>
            <p:cNvPr id="338" name="Line 3"/>
            <p:cNvSpPr/>
            <p:nvPr/>
          </p:nvSpPr>
          <p:spPr>
            <a:xfrm>
              <a:off x="2411280" y="2708280"/>
              <a:ext cx="3889440" cy="30970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411280" y="2708280"/>
              <a:ext cx="3889440" cy="30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5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346" name="Picture 44" descr="连接盒答案"/>
            <p:cNvPicPr/>
            <p:nvPr/>
          </p:nvPicPr>
          <p:blipFill>
            <a:blip r:embed="rId2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5" descr="连接盒答案"/>
            <p:cNvPicPr/>
            <p:nvPr/>
          </p:nvPicPr>
          <p:blipFill>
            <a:blip r:embed="rId3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grpSp>
          <p:nvGrpSpPr>
            <p:cNvPr id="349" name=""/>
            <p:cNvGrpSpPr/>
            <p:nvPr/>
          </p:nvGrpSpPr>
          <p:grpSpPr>
            <a:xfrm>
              <a:off x="3203640" y="3573360"/>
              <a:ext cx="144360" cy="216000"/>
              <a:chOff x="3203640" y="3573360"/>
              <a:chExt cx="144360" cy="216000"/>
            </a:xfrm>
          </p:grpSpPr>
          <p:sp>
            <p:nvSpPr>
              <p:cNvPr id="350" name="Line 48"/>
              <p:cNvSpPr/>
              <p:nvPr/>
            </p:nvSpPr>
            <p:spPr>
              <a:xfrm>
                <a:off x="320364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320364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5960" y="3429000"/>
              <a:ext cx="484560" cy="349200"/>
              <a:chOff x="3315960" y="3429000"/>
              <a:chExt cx="484560" cy="349200"/>
            </a:xfrm>
          </p:grpSpPr>
          <p:sp>
            <p:nvSpPr>
              <p:cNvPr id="353" name="Line 49"/>
              <p:cNvSpPr/>
              <p:nvPr/>
            </p:nvSpPr>
            <p:spPr>
              <a:xfrm flipV="1">
                <a:off x="331632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 rot="10800000">
                <a:off x="331596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grpSp>
          <p:nvGrpSpPr>
            <p:cNvPr id="356" name=""/>
            <p:cNvGrpSpPr/>
            <p:nvPr/>
          </p:nvGrpSpPr>
          <p:grpSpPr>
            <a:xfrm>
              <a:off x="2050920" y="3573360"/>
              <a:ext cx="144360" cy="216000"/>
              <a:chOff x="2050920" y="3573360"/>
              <a:chExt cx="144360" cy="216000"/>
            </a:xfrm>
          </p:grpSpPr>
          <p:sp>
            <p:nvSpPr>
              <p:cNvPr id="357" name="Line 51"/>
              <p:cNvSpPr/>
              <p:nvPr/>
            </p:nvSpPr>
            <p:spPr>
              <a:xfrm>
                <a:off x="205092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205092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163240" y="3429000"/>
              <a:ext cx="484560" cy="349200"/>
              <a:chOff x="2163240" y="3429000"/>
              <a:chExt cx="484560" cy="349200"/>
            </a:xfrm>
          </p:grpSpPr>
          <p:sp>
            <p:nvSpPr>
              <p:cNvPr id="360" name="Line 52"/>
              <p:cNvSpPr/>
              <p:nvPr/>
            </p:nvSpPr>
            <p:spPr>
              <a:xfrm flipV="1">
                <a:off x="216360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 rot="10800000">
                <a:off x="216324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grpSp>
          <p:nvGrpSpPr>
            <p:cNvPr id="363" name=""/>
            <p:cNvGrpSpPr/>
            <p:nvPr/>
          </p:nvGrpSpPr>
          <p:grpSpPr>
            <a:xfrm>
              <a:off x="4427640" y="3573360"/>
              <a:ext cx="144360" cy="216000"/>
              <a:chOff x="4427640" y="3573360"/>
              <a:chExt cx="144360" cy="216000"/>
            </a:xfrm>
          </p:grpSpPr>
          <p:sp>
            <p:nvSpPr>
              <p:cNvPr id="364" name="Line 54"/>
              <p:cNvSpPr/>
              <p:nvPr/>
            </p:nvSpPr>
            <p:spPr>
              <a:xfrm>
                <a:off x="442764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442764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539960" y="3429000"/>
              <a:ext cx="484560" cy="349200"/>
              <a:chOff x="4539960" y="3429000"/>
              <a:chExt cx="484560" cy="349200"/>
            </a:xfrm>
          </p:grpSpPr>
          <p:sp>
            <p:nvSpPr>
              <p:cNvPr id="367" name="Line 55"/>
              <p:cNvSpPr/>
              <p:nvPr/>
            </p:nvSpPr>
            <p:spPr>
              <a:xfrm flipV="1">
                <a:off x="454032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 rot="10800000">
                <a:off x="453996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grpSp>
          <p:nvGrpSpPr>
            <p:cNvPr id="370" name=""/>
            <p:cNvGrpSpPr/>
            <p:nvPr/>
          </p:nvGrpSpPr>
          <p:grpSpPr>
            <a:xfrm>
              <a:off x="5508720" y="2997000"/>
              <a:ext cx="144360" cy="216000"/>
              <a:chOff x="5508720" y="2997000"/>
              <a:chExt cx="144360" cy="216000"/>
            </a:xfrm>
          </p:grpSpPr>
          <p:sp>
            <p:nvSpPr>
              <p:cNvPr id="371" name="Line 57"/>
              <p:cNvSpPr/>
              <p:nvPr/>
            </p:nvSpPr>
            <p:spPr>
              <a:xfrm>
                <a:off x="5508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508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621040" y="2852640"/>
              <a:ext cx="484560" cy="349200"/>
              <a:chOff x="5621040" y="2852640"/>
              <a:chExt cx="484560" cy="349200"/>
            </a:xfrm>
          </p:grpSpPr>
          <p:sp>
            <p:nvSpPr>
              <p:cNvPr id="374" name="Line 58"/>
              <p:cNvSpPr/>
              <p:nvPr/>
            </p:nvSpPr>
            <p:spPr>
              <a:xfrm flipV="1">
                <a:off x="5621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10800000">
                <a:off x="5621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grpSp>
          <p:nvGrpSpPr>
            <p:cNvPr id="377" name=""/>
            <p:cNvGrpSpPr/>
            <p:nvPr/>
          </p:nvGrpSpPr>
          <p:grpSpPr>
            <a:xfrm>
              <a:off x="6732720" y="2997000"/>
              <a:ext cx="144360" cy="216000"/>
              <a:chOff x="6732720" y="2997000"/>
              <a:chExt cx="144360" cy="216000"/>
            </a:xfrm>
          </p:grpSpPr>
          <p:sp>
            <p:nvSpPr>
              <p:cNvPr id="378" name="Line 60"/>
              <p:cNvSpPr/>
              <p:nvPr/>
            </p:nvSpPr>
            <p:spPr>
              <a:xfrm>
                <a:off x="6732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6732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845040" y="2852640"/>
              <a:ext cx="484560" cy="349200"/>
              <a:chOff x="6845040" y="2852640"/>
              <a:chExt cx="484560" cy="349200"/>
            </a:xfrm>
          </p:grpSpPr>
          <p:sp>
            <p:nvSpPr>
              <p:cNvPr id="381" name="Line 61"/>
              <p:cNvSpPr/>
              <p:nvPr/>
            </p:nvSpPr>
            <p:spPr>
              <a:xfrm flipV="1">
                <a:off x="6845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6845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grpSp>
          <p:nvGrpSpPr>
            <p:cNvPr id="384" name=""/>
            <p:cNvGrpSpPr/>
            <p:nvPr/>
          </p:nvGrpSpPr>
          <p:grpSpPr>
            <a:xfrm>
              <a:off x="7956720" y="2997000"/>
              <a:ext cx="144360" cy="216000"/>
              <a:chOff x="7956720" y="2997000"/>
              <a:chExt cx="144360" cy="216000"/>
            </a:xfrm>
          </p:grpSpPr>
          <p:sp>
            <p:nvSpPr>
              <p:cNvPr id="385" name="Line 63"/>
              <p:cNvSpPr/>
              <p:nvPr/>
            </p:nvSpPr>
            <p:spPr>
              <a:xfrm>
                <a:off x="7956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7956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069040" y="2852640"/>
              <a:ext cx="484560" cy="349200"/>
              <a:chOff x="8069040" y="2852640"/>
              <a:chExt cx="484560" cy="349200"/>
            </a:xfrm>
          </p:grpSpPr>
          <p:sp>
            <p:nvSpPr>
              <p:cNvPr id="388" name="Line 64"/>
              <p:cNvSpPr/>
              <p:nvPr/>
            </p:nvSpPr>
            <p:spPr>
              <a:xfrm flipV="1">
                <a:off x="8069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 rot="10800000">
                <a:off x="8069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8199"/>
          <p:cNvSpPr/>
          <p:nvPr/>
        </p:nvSpPr>
        <p:spPr>
          <a:xfrm>
            <a:off x="2971800" y="1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几根导线连接起来，组成一个电路，使小灯泡亮起来，看看谁的方法多。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观察并思考不同的方法，效果有什么不同。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342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36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