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0D0-585C-440D-9446-7128A839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C8C-7B8F-4ADB-96DE-CBE26FE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887-345C-4881-A5A6-4EA5BA17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C73-2A22-42B9-94D9-1D259884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ED62-178E-41BC-A4D1-33482A70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81A3-E33B-4EA4-9E30-173357B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4F1-8F17-416C-BEDA-AF59396B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8039-D9F0-4645-82A4-662E47EB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B499-26D9-49F3-802A-B5A3F32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E72-26DE-49DC-9CD9-E7B43C1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67B-44C9-4227-9969-E464749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410-1DD8-456E-9C80-5EDC143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F2D1-AF79-4FB9-990B-7651A19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FD0-8D85-4C0C-99CD-231F10B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312-F976-44D2-BECB-CDBB037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DE5-D73F-4FA5-99B9-69BCAF48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2095-48C9-4CE2-9A1B-B9DABD73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DBF-A389-4040-AF58-E723682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614-0E46-41AE-9D02-A38259C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0F3-C925-403C-AEA5-DAE6A15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147-974A-4F2D-97E3-7AD586E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E63-67CC-48F2-8512-20769C7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CA2-F886-4BCD-978C-A96EE16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A60-DD28-438E-BD8D-0496C29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0855-5225-4EC6-8356-88582E63C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24B-36B0-45D9-9249-0A7805B48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57120" y="333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教版品德与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95280" y="9129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年级   第二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79320" y="183348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不一样的你我他免费</a:t>
            </a:r>
            <a:r>
              <a:rPr b="1" i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矩形 9" descr=""/>
          <p:cNvPicPr/>
          <p:nvPr/>
        </p:nvPicPr>
        <p:blipFill>
          <a:blip r:embed="rId2"/>
          <a:stretch/>
        </p:blipFill>
        <p:spPr>
          <a:xfrm>
            <a:off x="2327400" y="6165720"/>
            <a:ext cx="4522680" cy="4064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抓小鸡"/>
          <p:cNvPicPr/>
          <p:nvPr/>
        </p:nvPicPr>
        <p:blipFill>
          <a:blip r:embed="rId1"/>
          <a:stretch/>
        </p:blipFill>
        <p:spPr>
          <a:xfrm>
            <a:off x="0" y="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5300640"/>
            <a:ext cx="8820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一样的爱好和想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一样的国家和文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51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在一片蓝天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我们手拉手，心连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吹泡泡"/>
          <p:cNvPicPr/>
          <p:nvPr/>
        </p:nvPicPr>
        <p:blipFill>
          <a:blip r:embed="rId1"/>
          <a:stretch/>
        </p:blipFill>
        <p:spPr>
          <a:xfrm>
            <a:off x="250920" y="47520"/>
            <a:ext cx="8569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455-4D05-4018-82F6-034B4A7D4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奔跑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4916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35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来理解我，我去尊重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样的你我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彩的生活美如画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D:\My Documents\My Pictures\洋洋集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3419640" y="2349360"/>
            <a:ext cx="2438280" cy="2438640"/>
          </a:xfrm>
          <a:prstGeom prst="flowChartConnector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画一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0" y="1676520"/>
            <a:ext cx="1828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981080" y="3733920"/>
            <a:ext cx="1828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410080" y="2362320"/>
            <a:ext cx="79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438280" y="1066680"/>
            <a:ext cx="79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57200" y="3886200"/>
            <a:ext cx="7333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038480" y="76212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7" descr="各种各样的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新疆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傣族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各种肤色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xingxing"/>
          <p:cNvPicPr/>
          <p:nvPr/>
        </p:nvPicPr>
        <p:blipFill>
          <a:blip r:embed="rId1"/>
          <a:stretch/>
        </p:blipFill>
        <p:spPr>
          <a:xfrm>
            <a:off x="-380880" y="-458640"/>
            <a:ext cx="9524880" cy="7775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7524720" y="189000"/>
            <a:ext cx="1371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80320" y="15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画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407600" y="843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舞蹈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971640" y="306864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书法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61720" y="544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助人为乐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071960" y="4587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劳动明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5700600" y="1773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体育之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04292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乐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076720" y="105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标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0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送你一首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不一样的你我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农村孩子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39640" y="5373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千世界，不一样的你我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样的眼睛和嘴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5:13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34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